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BDE4-BEC2-41E7-81D9-FE58C48B4B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371600" y="1143000"/>
            <a:ext cx="4114800" cy="3086280"/>
          </a:xfrm>
          <a:prstGeom prst="rect">
            <a:avLst/>
          </a:prstGeom>
          <a:ln w="0">
            <a:noFill/>
          </a:ln>
        </p:spPr>
      </p:sp>
      <p:sp>
        <p:nvSpPr>
          <p:cNvPr id="6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0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D97F-EDD7-4EA6-8365-4C9DE2ABB0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161C-54B4-44F7-AAC7-D6D58092C8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6FEE-70FD-44F7-8E58-9DF0BFDB1C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CCDD-3DC3-4EB2-902C-DACD9FA21A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0602-56F8-4EAD-8AB3-5CFEE9E8F5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D8C0-27F3-4022-96D5-4ED3A23640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2257-93DF-4AF2-8759-9EE161A5A7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6972-2131-452E-9D71-3C478AAD77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B8F7-50AA-4C9D-963A-9A09087D81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D915-9D02-40C5-8D7D-9AC0952E59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3443-AB17-431D-9F09-C2128DD9FA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3864-C075-4ADA-A784-E31466AF53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D449EE-D448-456B-AC6F-4EDF555584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81ECA4B-3EC5-4F9B-9347-AFD81A1892D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98BB7E-8F30-4954-8C5A-89A033C21A5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9CCA42-4601-49F8-8320-B34E879041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6CDA50-39C0-4C8B-B912-BBAAFCC096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1DF762-B381-4AAE-8B26-8DA674892E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D642DA-AC23-4F36-AF7D-DEEEA6F613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6FC6EC2-EFCD-4388-BF1F-E77487D15EE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9B02010-45D9-4AFB-9C01-06F8E3CBC7F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F27F08F-DB3F-4100-8F40-E5C2EDA33E8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A73822-82D3-4659-BD59-7EE5799E68D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B6D2DB-D089-49E5-8032-13B06AEC6BD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FE2450-4221-41F7-BA08-AC89D274C0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A34295-C739-456C-B8A0-BFBE97F8101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179BF4-B35E-4A49-A460-6B3B50953E9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8BFCE4-ABC5-4AC6-A5F9-4413F6BE14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446D6C6-10EA-4B6D-A1C4-CBC35155804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36E520-55DD-4257-99DB-84EF30385F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4EE7A47-E6A6-480B-96D8-EA1C28B8A3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A1D9D2A-A6EE-4BAC-8DE9-8943EE86D4B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6E20875-78B2-41AF-BE19-6CF92715C0D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C168A82-B05F-4F91-BBB7-CCE26180445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71B6F7-4A81-410E-822B-E3042DB6E0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EBA9EAE-75DA-4CB6-BE74-D972AF0542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47E0FD-ACFE-4A43-A1D2-743BFC77EEA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827070F-6DC4-4A58-814F-5771C67941B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E1E3B7D-511E-4B4D-88A1-14689B42FC6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9F3A05-590E-4166-97A9-588B81F50F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649D8D-E1D2-4392-8409-C2D2917C8E2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9C85FBF-7BF2-4219-9C75-6196C595C6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58FF63-5404-4FDD-8E8A-B5031F23D3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EF69E60-3E94-4426-B658-4CE222F04D2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39AAB7B-471D-4DE4-B5EA-00F8E070236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C07EEC5-6D2F-4C43-9586-1207A8A8AE2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8CE1D6-1FDC-45D5-A15D-66D75B3536F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C1327D9-C69B-4BBB-BA58-085894062F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3C9A89B-6D61-4E7D-A07B-869599E24E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B329E64-3E26-4196-A370-B1F6AB7BB86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E2FBB6D-AF3E-4CC5-B6A9-9835E281BAC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481A462-44F9-4718-A916-6C1A6BA961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D82DDD-EF6E-44F2-8139-CB4CE30E476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5A6E7D8-7B1C-44F0-BCCE-B6BB0D634E8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A09A942-9BD9-45F7-8060-131ADE2CF9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0E46638-155E-441A-8A1D-C66CBCB434B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DF4608B-A034-45EB-A23C-ED9B919C7A9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D00B4E-42BD-4437-B79B-42A76EE8B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417C3-1AC0-4691-8AE6-187184ABA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AFC30-5E72-4BC4-8E67-28EF4D65A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6B110-9FA5-4352-BB54-5997057DD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CC388-4EFB-4569-9802-9CA34E764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BAD17-45F1-4319-A253-B31D01415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EC1F4-C35D-4969-AE7C-A03CD5BD4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B48F7-3E15-4FCB-8BF0-B50D7ABEB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393E3-D598-4E51-B9E1-63A51C422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993607-9764-4885-9CCC-4FA3A2AA9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EC8DF4-720E-4A72-8C44-F823473847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B2FBD-EFB8-4109-B2B1-11F2F9CD0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C001C8-FC0F-486E-9256-921E3BA4B9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C44262-26DA-4246-B745-4F31356EBF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01A46F-D4AD-45AC-9D10-67EF0DBC7F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7EA26F-8DA1-46CF-99D7-1066653FF5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5BBE8D-3B30-4A11-97A1-579F6FCDCA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F9144C-8CF6-40EA-9ACE-566F987A60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8B09D2-92AC-4A38-9510-5D948E2353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C8EAEE-8CC6-4A15-A4F0-5D199E40E0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7FD4CE-F7B1-4713-B150-FC7821A073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D0E49C-B833-4BE3-9E07-858C619874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791B369-5FAB-4E05-A3D3-7BC0DE1591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EE10CA-FCA8-4C9B-A72E-E82F0F59B80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CA38D4-9E36-476C-B0F6-6542E55A36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04E142-F569-4DFE-9FFF-2063D38F5A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0BF773-0D16-4178-97E6-4087787F9F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EB96CA-1453-45CE-BF89-79F3F52DA0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78FF46-992F-4633-A06C-4954CD6CDD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B86452-F197-465A-AA27-B342B1CA5F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1D214A-F088-48EA-B27D-A964C3E5E3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C4B928-2BD5-41E8-9546-0E5B666047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831ADB-D960-4E80-BD4B-50826C89E6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878136-9506-4F01-B685-80248B20BA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BB243B5-E61E-4452-99B4-ADAB4090B6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BDD562-7C45-4857-8D8B-1519F86F84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F315A03-50EE-4679-BC6E-CE0FAB8278B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608409-6C65-4F88-BA4B-FAA65770B5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25C967-49B1-4CBB-A8C6-9A9062A96B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F666CF-8761-4F8E-AE1C-78C9360FBA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A49D5F-622D-4248-B0AD-53BA2703A87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1C7404-C3F9-49D2-B31D-7F3969835F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5C523C-E1D6-4E2C-8BD4-8AB1D8FFBE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42F8E4-D120-44CA-9B14-610295643B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386735-5F0B-4203-B6F1-C4E4F05649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DBC2B8E-ECBE-42DB-BF6C-666A0667C7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3FF32A4-080E-43A7-8675-4EBECD7D4A5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3BFB1A8-2AB1-49BA-9063-E3B696FC27F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E944D3A-6510-481A-8A0D-7D95123BCE0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55CE73-E5C8-4174-95C0-B53641574A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CB1A03F-AFCB-4FAD-83BC-0F2E522253E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03E628-2361-4553-94AF-2E1B659E67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3390403-E4B9-49D4-B5BF-D1A16077AD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6053D6-A8FD-4405-A56C-9CBD9E6BD98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14394C-C296-4CB5-80CC-52A3AA811C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6C488A-8F22-4961-8F67-4415F10F4EE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1BBAF7-6531-4A5C-B9C5-0879AD05BA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E22E99-1346-491C-90E2-1B79A9EE35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49EEDB-1A98-4FE7-8F25-B54A8CEEE5D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2E16A27-E187-4FE9-9448-09789D4F74C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0DA111E-042E-4CD3-9587-64184A82903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21B81E-9ECD-4106-AA56-66C40D10F69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6F892AF-96B9-4ACB-9514-A806C421C2E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6DB66D3-56D8-4AB8-BF96-00DB9B97F2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F93585-F118-4D8A-8A75-252ACD9806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B0A16D-AD9A-46A2-B6DD-960F52AED1C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54CB48-C7E2-4AD7-92C3-9EB14ED00E0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D801DA-BA90-412B-AF14-45D317007B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C8440F-6EE1-4B94-8849-F551A11F8D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C345797-752E-40F1-BB53-ABEA08D652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2789E6D-E0E1-4FDE-A304-8A8EBC3D3F5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654F0F3-B6C8-4287-9D10-7D485988088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C71C559-42CE-4C32-946F-2CCC707F30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3A4467-4232-4FC1-BF99-9DA59364197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843ED16-7FDC-4D10-B2A2-226174C98A4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B667-F09B-4BAA-AA29-7248BE0CF1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45B5-F044-4E27-BC3A-E11AC77145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512E-7B63-455D-966C-079C08C404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3707-662E-4782-B157-F31A02BB6C4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967B-BBF9-4D0E-95B1-CAB1A37762B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2916-72BB-4B98-92A0-001A73876C2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DF2E-5300-442B-85A7-FCF98AADA97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5C47-3643-433E-A41F-6BD0B164BDA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4601-C4CF-40B5-BF9A-4F910541E1C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0889-C97D-42E7-AF3C-4D65F6A162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300280"/>
            <a:ext cx="4173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 problem tecnici:</a:t>
            </a:r>
            <a:br>
              <a:rPr sz="2400"/>
            </a:br>
            <a:r>
              <a:rPr b="0" lang="it-IT" sz="2400" spc="-1" strike="noStrike">
                <a:solidFill>
                  <a:srgbClr val="000000"/>
                </a:solidFill>
                <a:latin typeface="Arial Rounded MT Bold"/>
              </a:rPr>
              <a:t>Identificare le cause e le risposte opportune </a:t>
            </a:r>
            <a:br>
              <a:rPr sz="2400"/>
            </a:br>
            <a:endParaRPr b="0" lang="en-US" sz="2400" spc="-1" strike="noStrike">
              <a:solidFill>
                <a:srgbClr val="000000"/>
              </a:solidFill>
              <a:latin typeface="Arial"/>
            </a:endParaRPr>
          </a:p>
        </p:txBody>
      </p:sp>
      <p:sp>
        <p:nvSpPr>
          <p:cNvPr id="544" name="Rectángulo 1"/>
          <p:cNvSpPr/>
          <p:nvPr/>
        </p:nvSpPr>
        <p:spPr>
          <a:xfrm>
            <a:off x="1208520" y="3357720"/>
            <a:ext cx="708588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rouble Shooting &amp; Problem solv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56000" y="198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67" name=""/>
          <p:cNvSpPr txBox="1"/>
          <p:nvPr/>
        </p:nvSpPr>
        <p:spPr>
          <a:xfrm>
            <a:off x="40464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Schermo:</a:t>
            </a:r>
            <a:endParaRPr b="0" lang="en-US" sz="2000" spc="-1" strike="noStrike">
              <a:solidFill>
                <a:srgbClr val="000000"/>
              </a:solidFill>
              <a:latin typeface="Arial"/>
            </a:endParaRPr>
          </a:p>
        </p:txBody>
      </p:sp>
      <p:graphicFrame>
        <p:nvGraphicFramePr>
          <p:cNvPr id="568" name=""/>
          <p:cNvGraphicFramePr/>
          <p:nvPr/>
        </p:nvGraphicFramePr>
        <p:xfrm>
          <a:off x="515880" y="2344680"/>
          <a:ext cx="7440840" cy="359424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chermo ner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tutte le prese siano collegat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iavvia manualmente lo schermo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ogni cavo sia connesso al posto giusto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91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roporzione e la nitidezza delle immagini è spagliata</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zione le impostazioni di risoluzione: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ziona con il tasto destro ‘Display settings’</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ipristina le impostazioni consigliate</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83000" y="250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eriferiche:</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1925640"/>
        </p:xfrm>
        <a:graphic>
          <a:graphicData uri="http://schemas.openxmlformats.org/drawingml/2006/table">
            <a:tbl>
              <a:tblPr/>
              <a:tblGrid>
                <a:gridCol w="2135160"/>
                <a:gridCol w="65991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55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ouse, tastiera o ogni altro sistema periferico non rispondon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ogni cavo sia connesso al posto giusto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sono wireless, assicurati che le batterie siano carich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siano compatibili al pc</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iavvi il computer e sconnetti-riconnetti le periferich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non sia una incompatibilità di aggiornamento/version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626920" y="110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73" name=""/>
          <p:cNvSpPr txBox="1"/>
          <p:nvPr/>
        </p:nvSpPr>
        <p:spPr>
          <a:xfrm>
            <a:off x="324000" y="127944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omputer:</a:t>
            </a:r>
            <a:endParaRPr b="0" lang="en-US" sz="2000" spc="-1" strike="noStrike">
              <a:solidFill>
                <a:srgbClr val="000000"/>
              </a:solidFill>
              <a:latin typeface="Arial"/>
            </a:endParaRPr>
          </a:p>
        </p:txBody>
      </p:sp>
      <p:graphicFrame>
        <p:nvGraphicFramePr>
          <p:cNvPr id="574" name=""/>
          <p:cNvGraphicFramePr/>
          <p:nvPr/>
        </p:nvGraphicFramePr>
        <p:xfrm>
          <a:off x="179280" y="2349360"/>
          <a:ext cx="8964720" cy="3632400"/>
        </p:xfrm>
        <a:graphic>
          <a:graphicData uri="http://schemas.openxmlformats.org/drawingml/2006/table">
            <a:tbl>
              <a:tblPr/>
              <a:tblGrid>
                <a:gridCol w="1728720"/>
                <a:gridCol w="723600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2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l computer non si accende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l’alimentazione della corrente funzioni propriament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il tasto switch nella parte posterior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il problema persiste dovresti riuscire a sentire alcuni sengali acustic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inuo  </a:t>
                      </a:r>
                      <a:r>
                        <a:rPr b="0" lang="es-ES" sz="1600" spc="-1" strike="noStrike">
                          <a:solidFill>
                            <a:srgbClr val="ffffff"/>
                          </a:solidFill>
                          <a:latin typeface="Arial"/>
                        </a:rPr>
                        <a:t>	</a:t>
                      </a:r>
                      <a:r>
                        <a:rPr b="0" lang="es-ES" sz="1600" spc="-1" strike="noStrike">
                          <a:solidFill>
                            <a:srgbClr val="ffffff"/>
                          </a:solidFill>
                          <a:latin typeface="Arial"/>
                        </a:rPr>
                        <a:t>   Problema di alimentazion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rmit. ma cost. </a:t>
                      </a:r>
                      <a:r>
                        <a:rPr b="0" lang="es-ES" sz="1600" spc="-1" strike="noStrike">
                          <a:solidFill>
                            <a:srgbClr val="ffffff"/>
                          </a:solidFill>
                          <a:latin typeface="Arial"/>
                        </a:rPr>
                        <a:t>	</a:t>
                      </a:r>
                      <a:r>
                        <a:rPr b="0" lang="es-ES" sz="1600" spc="-1" strike="noStrike">
                          <a:solidFill>
                            <a:srgbClr val="ffffff"/>
                          </a:solidFill>
                          <a:latin typeface="Arial"/>
                        </a:rPr>
                        <a:t>   La scheda madre è danneggiat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molto lungo</a:t>
                      </a:r>
                      <a:r>
                        <a:rPr b="0" lang="es-ES" sz="1600" spc="-1" strike="noStrike">
                          <a:solidFill>
                            <a:srgbClr val="ffffff"/>
                          </a:solidFill>
                          <a:latin typeface="Arial"/>
                        </a:rPr>
                        <a:t>	</a:t>
                      </a:r>
                      <a:r>
                        <a:rPr b="0" lang="es-ES" sz="1600" spc="-1" strike="noStrike">
                          <a:solidFill>
                            <a:srgbClr val="ffffff"/>
                          </a:solidFill>
                          <a:latin typeface="Arial"/>
                        </a:rPr>
                        <a:t>   Errore di RA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ungo e 1 breve </a:t>
                      </a:r>
                      <a:r>
                        <a:rPr b="0" lang="es-ES" sz="1600" spc="-1" strike="noStrike">
                          <a:solidFill>
                            <a:srgbClr val="ffffff"/>
                          </a:solidFill>
                          <a:latin typeface="Arial"/>
                        </a:rPr>
                        <a:t>	</a:t>
                      </a:r>
                      <a:r>
                        <a:rPr b="0" lang="es-ES" sz="1600" spc="-1" strike="noStrike">
                          <a:solidFill>
                            <a:srgbClr val="ffffff"/>
                          </a:solidFill>
                          <a:latin typeface="Arial"/>
                        </a:rPr>
                        <a:t>   Errore delle scheda mad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ungo e 2 brevi         Errore della scheda vide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iascuno di questi errori segnala la necessità di sostituire il pezzo coinvolt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7183440" y="403380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ella scheda bibliografica, troverai ulteriori esempi di errori comuni e generalmente relativi al sistema Windows 10 OS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onsultala per espandere ulteriormente le tue conoscenz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700360" y="124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ggiorna periodicamente il tuo sistema operative (SO)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il tuo PC ‘gira’ su un sistema operativo Windows ti basterà ricercare la versione più recente di Windows Update</a:t>
            </a:r>
            <a:endParaRPr b="0" lang="en-US" sz="2000" spc="-1" strike="noStrike">
              <a:solidFill>
                <a:srgbClr val="000000"/>
              </a:solidFill>
              <a:latin typeface="Arial"/>
            </a:endParaRPr>
          </a:p>
        </p:txBody>
      </p:sp>
      <p:pic>
        <p:nvPicPr>
          <p:cNvPr id="580" name="Imagen 1" descr=""/>
          <p:cNvPicPr/>
          <p:nvPr/>
        </p:nvPicPr>
        <p:blipFill>
          <a:blip r:embed="rId1"/>
          <a:stretch/>
        </p:blipFill>
        <p:spPr>
          <a:xfrm>
            <a:off x="2590920" y="3549600"/>
            <a:ext cx="3962160" cy="23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L’aggiornamento delle app</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eriodicamente, le</a:t>
            </a:r>
            <a:r>
              <a:rPr b="0" lang="it-IT" sz="2000" spc="-1" strike="noStrike">
                <a:solidFill>
                  <a:srgbClr val="000000"/>
                </a:solidFill>
                <a:latin typeface="Arial Rounded MT Bold"/>
              </a:rPr>
              <a:t> applicazioni che hai installate sul tuo smartphone/computer hanno bisogno di essere aggiornate rispetto la nuova versione resa disponibile dal provider</a:t>
            </a:r>
            <a:endParaRPr b="0" lang="en-US" sz="20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isistallare un’app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l crescere del numero di applicazioni, diminuisce la velocità l’efficienza del dispositivo. Ogni cadenza periodale, assicurati di non avere del «peso» superfluo installato nel backgr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L’avvio automatico del sistema</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Molte applicazioni sono programmate per avviarsi automaticamente all’avvio del SO che le ospita – il che rallenta tutto il processo di accension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ovviare a questa spiacevole evenienza è opportuno definire le applicazioni che vogliamo si avviino insieme al dispositivo stesso:</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ulla barra delle applicazioni premi il tasto destro e seleziona l’opzione ‘Gestione Attività’</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a volta dentro selezioniamo ‘Start’ e ‘disabilita’ rispetto l’applicazione che non vogliamo si avvii all’avvio del P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67984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90" name=""/>
          <p:cNvSpPr txBox="1"/>
          <p:nvPr/>
        </p:nvSpPr>
        <p:spPr>
          <a:xfrm>
            <a:off x="395280" y="1297080"/>
            <a:ext cx="4330800" cy="4525920"/>
          </a:xfrm>
          <a:prstGeom prst="rect">
            <a:avLst/>
          </a:prstGeom>
          <a:noFill/>
          <a:ln w="0">
            <a:noFill/>
          </a:ln>
        </p:spPr>
        <p:txBody>
          <a:bodyPr anchor="t">
            <a:normAutofit fontScale="98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ivirus</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È fondamentale che </a:t>
            </a:r>
            <a:r>
              <a:rPr b="0" lang="it-IT" sz="2200" spc="-1" strike="noStrike">
                <a:solidFill>
                  <a:srgbClr val="000000"/>
                </a:solidFill>
                <a:latin typeface="Arial Rounded MT Bold"/>
              </a:rPr>
              <a:t>tu disponga di un sistema efficace ed aggiornato di protezione contro qualunque ‘infezione’ digital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Windows 10 dispone da sé di un sistema di difesa molto robusto: si chiama Windows security ed è costituito da una rete di programmi molto più completa di un semplice antivirus</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705200" y="1717560"/>
            <a:ext cx="4330800" cy="41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iviru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n è mai consigliabile </a:t>
            </a:r>
            <a:r>
              <a:rPr b="0" lang="it-IT" sz="2400" spc="-1" strike="noStrike">
                <a:solidFill>
                  <a:srgbClr val="000000"/>
                </a:solidFill>
                <a:latin typeface="Arial Rounded MT Bold"/>
              </a:rPr>
              <a:t>disabilitare la scansione automatica del sistema – il cui scopo è proprio quello di registrare eventuali anomali di sistem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4" name="Imagen 2" descr=""/>
          <p:cNvPicPr/>
          <p:nvPr/>
        </p:nvPicPr>
        <p:blipFill>
          <a:blip r:embed="rId1"/>
          <a:stretch/>
        </p:blipFill>
        <p:spPr>
          <a:xfrm>
            <a:off x="5051520" y="1459080"/>
            <a:ext cx="365580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sa apprenderai?</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 segnali di errore dall’hardware o dal software</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iccoli trucchi sull’efficienza del tuo computer</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626920" y="1569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96" name=""/>
          <p:cNvSpPr txBox="1"/>
          <p:nvPr/>
        </p:nvSpPr>
        <p:spPr>
          <a:xfrm>
            <a:off x="456840" y="1413000"/>
            <a:ext cx="49784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ttimizzazione unità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n’applicazione di Windows che </a:t>
            </a:r>
            <a:r>
              <a:rPr b="0" lang="it-IT" sz="2200" spc="-1" strike="noStrike">
                <a:solidFill>
                  <a:srgbClr val="000000"/>
                </a:solidFill>
                <a:latin typeface="Arial Rounded MT Bold"/>
              </a:rPr>
              <a:t>‘deframmenta’ l’hard drive così da consentire un accesso più veloce ed immediato ai file</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Dalla barra di ricerca digita ‘deframmenta e ottimizza unità’, seleziona l’hardrive e clicca su ‘ottimizz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97" name="Imagen 1" descr=""/>
          <p:cNvPicPr/>
          <p:nvPr/>
        </p:nvPicPr>
        <p:blipFill>
          <a:blip r:embed="rId1"/>
          <a:stretch/>
        </p:blipFill>
        <p:spPr>
          <a:xfrm>
            <a:off x="5651640" y="1773360"/>
            <a:ext cx="2827080" cy="1143000"/>
          </a:xfrm>
          <a:prstGeom prst="rect">
            <a:avLst/>
          </a:prstGeom>
          <a:ln w="0">
            <a:noFill/>
          </a:ln>
        </p:spPr>
      </p:pic>
      <p:pic>
        <p:nvPicPr>
          <p:cNvPr id="598" name="Imagen 3" descr=""/>
          <p:cNvPicPr/>
          <p:nvPr/>
        </p:nvPicPr>
        <p:blipFill>
          <a:blip r:embed="rId2"/>
          <a:stretch/>
        </p:blipFill>
        <p:spPr>
          <a:xfrm>
            <a:off x="5651640" y="3141720"/>
            <a:ext cx="3241440" cy="233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ulire il Softwar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Rounded MT Bold"/>
              </a:rPr>
              <a:t>Nel tempo, il tuo dispositivo colleziona e raccoglie dei file temporanei da differenti applicazioni che andranno ad occupare spazio e risorse del tuo SO</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Rounded MT Bold"/>
              </a:rPr>
              <a:t>Uno dei programmi più diffusi dediti a questa ‘pulizia’ è </a:t>
            </a:r>
            <a:r>
              <a:rPr b="1" lang="it-IT" sz="2100" spc="-1" strike="noStrike">
                <a:solidFill>
                  <a:srgbClr val="000000"/>
                </a:solidFill>
                <a:latin typeface="Arial Rounded MT Bold"/>
              </a:rPr>
              <a:t>CCleaner</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01" name="Imagen 4" descr=""/>
          <p:cNvPicPr/>
          <p:nvPr/>
        </p:nvPicPr>
        <p:blipFill>
          <a:blip r:embed="rId1"/>
          <a:stretch/>
        </p:blipFill>
        <p:spPr>
          <a:xfrm>
            <a:off x="2987640" y="4173480"/>
            <a:ext cx="381960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603" name=""/>
          <p:cNvSpPr txBox="1"/>
          <p:nvPr/>
        </p:nvSpPr>
        <p:spPr>
          <a:xfrm>
            <a:off x="456840" y="1413000"/>
            <a:ext cx="793116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ulire l’Hardwar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pulizia dell’hardware ha un impatto molto forte sulla performace del dispositivo. Ad esempio, è consigliato pulire la tua attrezzatura almeno una volta al mes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caso di </a:t>
            </a:r>
            <a:r>
              <a:rPr b="0" lang="it-IT" sz="2000" spc="-1" strike="noStrike">
                <a:solidFill>
                  <a:srgbClr val="000000"/>
                </a:solidFill>
                <a:latin typeface="Arial Rounded MT Bold"/>
              </a:rPr>
              <a:t>computer fisso, puoi utilizzare un piccolo aspirapolvere che sia trattiene tutta la sporcizia e sia non danneggia le componen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hai un portatile invece, essendo necessario smontarlo per intero, è meglio che ti rivolga ad un centro specializz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605" name=""/>
          <p:cNvSpPr txBox="1"/>
          <p:nvPr/>
        </p:nvSpPr>
        <p:spPr>
          <a:xfrm>
            <a:off x="457200" y="1413000"/>
            <a:ext cx="7283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istallazione</a:t>
            </a:r>
            <a:r>
              <a:rPr b="0" lang="it-IT" sz="3200" spc="-1" strike="noStrike">
                <a:solidFill>
                  <a:srgbClr val="000000"/>
                </a:solidFill>
                <a:latin typeface="Arial Rounded MT Bold"/>
              </a:rPr>
              <a:t>	</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iù di rado è consigliabile reinstallare l’intero sistema ‘dal principio’.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ome già detto, il SO raccoglie – file dopo file – una mole di dati che pur non essendo più utilizzati appesantiscono il dispositivo e rallentano le sue funzionalità</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a volta all’anno è meglio che tu formatti e reinstalli l’interno sistema. Essendo una operazione molto delicata ti conviene lasciarla in mano a dei professionisti</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Problematiche tecniche relative all’hardware</a:t>
            </a:r>
            <a:endParaRPr b="0" lang="en-US" sz="30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La sorgente del problem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a:t>
            </a:r>
            <a:r>
              <a:rPr b="0" lang="it-IT" sz="2000" spc="-1" strike="noStrike">
                <a:solidFill>
                  <a:srgbClr val="000000"/>
                </a:solidFill>
                <a:latin typeface="Arial Rounded MT Bold"/>
              </a:rPr>
              <a:t>risoluzione di qualunque problema – dai semplici problemi di audio all’avviamento vero e proprio del dispositivo –  passa prima di tutto dall’identificazione della causa</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riuscire in ciò, è opportuno osservare i segnali che lo stesso compure manda all’este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È </a:t>
            </a:r>
            <a:r>
              <a:rPr b="0" lang="it-IT" sz="2000" spc="-1" strike="noStrike">
                <a:solidFill>
                  <a:srgbClr val="000000"/>
                </a:solidFill>
                <a:latin typeface="Arial Rounded MT Bold"/>
              </a:rPr>
              <a:t>una questione di hardware o software? Per capirlo si inizia dall’avvio del sistema di ‘Safe Mod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on questa impostazione il computer opera solo attraverso le parti indispensabili della sua rete e lasciando dormiente tutto ciò che non è strettamente necessario per il suo funzionamento elementar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 come si attiva la modalità Sa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vvia lo spegnimento del dispositivo e, mentre tieni premuto il tasto ‘Shift’, clicca contemporaneamente su ‘Restart’. Il menù che avrai di fronte è come quello in figur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a qui seleziona: </a:t>
            </a:r>
            <a:r>
              <a:rPr b="0" lang="en-GB" sz="2000" spc="-1" strike="noStrike">
                <a:solidFill>
                  <a:srgbClr val="92d050"/>
                </a:solidFill>
                <a:latin typeface="Arial Rounded MT Bold"/>
              </a:rPr>
              <a:t>‘Troubleshoot’ -&gt; Advanced options -&gt; ‘Startup configur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806560" y="3284640"/>
            <a:ext cx="3530880" cy="23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871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5" name=""/>
          <p:cNvSpPr txBox="1"/>
          <p:nvPr/>
        </p:nvSpPr>
        <p:spPr>
          <a:xfrm>
            <a:off x="457200" y="1773360"/>
            <a:ext cx="8229600" cy="4525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In safe mode si tenterà di riprodurre l’errore «artificialmente»; all’esito positivo della simulazione vuol dire che persiste una problematica di hardware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el caso contrario, ti trovi davanti una problematica di softwa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6920" y="178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errore è sempre anticipato o posticipato da un messaggio di avviso che automaticamente reindirizza ad una probabile alternativa di risol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È fondamentale saper interpretare il presente avviso e risalire al codice identificativo dell’erro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seconda delle specifiche circostanze, l’avviso più risaltare anche prima del completo riavvio del dispositiv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 tal caso si procede col copiare il codice identificativo e ricercare un’alternativa risolutiva nella re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40000" y="283356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Errori comuni </a:t>
            </a:r>
            <a:endParaRPr b="0" lang="en-US" sz="3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Delle volte è possibile che non compaia alcun codice. Tale evenienza è generalmente collegata alle seguenti ca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860640"/>
          <a:ext cx="8362800" cy="2163960"/>
        </p:xfrm>
        <a:graphic>
          <a:graphicData uri="http://schemas.openxmlformats.org/drawingml/2006/table">
            <a:tbl>
              <a:tblPr/>
              <a:tblGrid>
                <a:gridCol w="1913040"/>
                <a:gridCol w="644976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udio non funziona</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l’audio non sia in mut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gli speakers siano on</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hai connesse delle cuffie, prova a disconnetterl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iavvia l’audi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start il comput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non siano gli speakers a dare problemi (ad esempio prova a connetterli ad un altro dispositiv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6T14:00:12Z</dcterms:modified>
  <cp:revision>539</cp:revision>
  <dc:subject/>
  <dc:title>Title</dc:title>
</cp:coreProperties>
</file>