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9474-AA5F-45F6-B28F-77E30BC17FE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371600" y="1143000"/>
            <a:ext cx="4114800" cy="3086280"/>
          </a:xfrm>
          <a:prstGeom prst="rect">
            <a:avLst/>
          </a:prstGeom>
          <a:ln w="0">
            <a:noFill/>
          </a:ln>
        </p:spPr>
      </p:sp>
      <p:sp>
        <p:nvSpPr>
          <p:cNvPr id="6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0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0019-615C-4F37-A2B6-26010EC6343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1D0F-E8B5-4AE8-8098-C694C0DC30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38D47-29F5-4B34-8482-3ED69C49DE1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8609-5E6E-4D1D-933E-F3B1A2F2B14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84F0D-7D74-4362-A18C-4F0D541385A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F929D-79FE-4C48-8065-B00F68E8C7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BE75-3D4B-4B3B-91E9-8D0B17D6E8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A66B-7260-478E-83C2-A59140B3EA6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1208C-9FA1-4619-8538-6C4A5F2EC9B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2F2A-82C8-4C24-A5C6-CE910BE64E7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6B5B-72BF-4807-94D2-3B2BE1D0577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E931-817B-419E-99EC-9B4DF4D86D5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3AF8FF-E557-41E4-8657-1C9AF04655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3632A0B-CB4A-43FD-B93F-447294B8512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13652E2-D5F7-4887-9E66-24D314DC296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22EC8F6-00C2-4278-8181-2A30D1EE15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FF5D11-FF5B-4DC3-B653-09B10F2B3D8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A038E7-9783-4936-AF63-2AE243C0F9E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1300A8E-79A4-4065-85D8-4239A71EB27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990BB2C-5803-47CC-B9FD-E2113A3DCBB1}"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F21C5721-C215-4E5A-8CD8-DF4668A052B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28EDD7F-45EA-4CB1-A1E8-0042EB13014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00E05B-21F7-4EA9-ABB6-C2F7458DC5A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D2E0D80-D00C-4669-921B-5EF6814DDE1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89D1F88-B3A3-4D61-8094-00E30E30506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B711EA5-26C4-4B00-8257-EE782C71A36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A1C72AA-33C5-4878-8848-F14C379C66E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18FF7F8-6943-4794-8DD9-8C76CD986BF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EA053B-5558-4F79-89BC-EB0879A94E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456069-665D-4981-9FED-B69F722A0F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26640A7-2567-405C-98E2-56E33551C6C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CEFD058-B5E5-472B-88FD-44628158FDB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687B0868-34D6-4665-9A3D-285764880E6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4304F4F-779C-4257-BE9D-A029D26061A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D57DE3E-E92D-473C-9F20-3358B1468C6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42BAF5A-0C19-4697-BE0F-0ED70FFBA54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D01E52B-8A4E-4AEA-993E-00584B67FD5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09B1BE-FAD9-4E24-83C9-66F778BED4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63D5060-BFDD-4AF3-8096-C242C64C88A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C87D413-4A00-4F17-BC28-A96B62A400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0D2964B-4B15-42EB-96D9-8481929767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3A95121-904B-4D6B-9F44-AF2E997E12E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11E31A-D3EC-48B9-B4FA-C867FC29C04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D78D6AD-4270-4201-BE9E-5B2D1DCB728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A7E7013-6230-49B7-9612-C75C54563BF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B15CAA0-2C52-4885-9216-2C59B930CC6A}"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71D8CDD-C3FF-45EF-AF6B-A32D4DB7BC2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18CC77-24D7-49F2-9CA5-5DF440ABD61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117DCDB-AF6E-419D-9B27-7CCB4E328F1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30E1470-8FF5-4752-BB1B-B7E5B92504D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1A1486-96A4-4558-A1E0-C8DCAA73A0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BC09C6-82BE-40DF-B2D2-9E1457294E4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0FA9F3-B23D-45C9-B1F9-AF329F0B11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15B6D5C-BD0F-412F-A75A-CFE47E556C6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51CB06F-8DF4-4490-9198-FE3F7CF4CFB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B5D0E1D-FFA5-483E-92D7-ACE15214E0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32A43F7-6F0B-42F6-BB35-E69730C3470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241D5C-DAC8-462C-9EF4-F3EAF535C0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BEFDCA-41F5-477C-9B7C-7EB7A8A2E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BCE7CA-FDC2-4737-ABCF-1EC448D1DB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5873B1-668D-4888-AA6A-BEAD64342F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ACAC5C-5629-4EA1-AFF4-E285B0259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C97030-68D8-434E-8429-BA4BF746B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0F90A-5282-4E4E-B314-804C61325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F15046-AE0B-4F8E-A4A6-6C8E334A24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2F0F9-A64E-4343-A9DE-AF5F55805E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B0CEFA-AE5E-424C-94E5-3D8295213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895716-080F-4218-A38A-E35E4A85836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8CB958-3BDB-4457-8A80-3CCC098E75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6F5624D-13DD-459C-8217-54DA27E075F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614942E-DA30-46ED-925A-1A210A6C0EB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F941B0-A607-413E-8902-BA9610406F6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E9C379E-ABF8-43C6-BB79-9BC0E15856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1D38D8-0208-467B-9DD3-580E4017A8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778347C-9152-4F26-B553-C7A6B441509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D006589-7B77-482E-888B-B8A5E8F2DF0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3C8ABC1-0FF8-44FD-BDD2-A68159FA89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406D45-4F8A-4813-8247-F99B3A428CB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E8C86A-99D1-4FD1-B42F-CF301EF9862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C7F076B-FF6B-4758-97DF-396168524C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BC5B881-6315-49AD-A6D1-340CFF41B27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0ED2A11-A116-4829-AC8A-04602FBC0F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4E7F9A8-1AEE-4D0E-990C-E20FBF6B7B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E73440-439E-4CE6-91B0-98EFBCF870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01260AD-70B2-41A7-92C0-14E2AFC074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018353A-A639-474F-8EB7-4D344094ADE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20683C-F9D6-43C2-B80A-D08B1FE321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A08982-03B0-4551-87F7-E6BEB5876B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6D313B-004D-4232-B5D7-BAFC7EC16B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0A1953-1950-456D-9AAC-BE4C004BE7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8F63C5-319C-4F08-8E73-0C869E3EB6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CD7C10-52D4-4B67-A619-0C5A6171C3A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36D78CC-271B-4052-B1DE-33E7E119106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77824CB-5761-42B7-8FB0-EF9580C8C79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3BE327-749C-4C74-AB97-FDAEC4B50E5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7301652-29AA-4E8E-BB16-8A30F4FBA0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EFB998-71AB-4915-97E9-B506785FEB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74A09E4-DDA6-475A-B894-0EA69E2D5D2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26D0E95-5427-422E-B0CB-C6D630031B8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C43796-BE3F-478F-9A6C-82B6E25E3B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A8E9246-3148-4173-AEB0-FAA3FE0F6A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1B0223-8452-4C0B-B233-7E887186C2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99010F8-2D4D-41D7-9BA5-29659AA352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27DDB5F-C0D6-46D4-B9DB-0F39ABD2317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837D753-E6CC-453B-9BD9-16593C16417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0D7B063-4723-43C4-A8A9-82199865D8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0F7FC8-C6B5-41FC-BF97-51B19CF5AD5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DA31214-6D89-4704-9375-47DF5ADAA44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1980931-6F91-431E-B23E-06B8E0F0DE6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0A3C6E0-05D8-492B-8A58-B92C2BB960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2F43ED7-3FB7-4CF7-976D-934A7A9BC05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CF43C7B-44D8-49A8-8019-96383B6BE80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1D0640-9E84-4216-A788-EE54EEA9D9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972C74-F624-4FB4-846C-9017BFA925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DDFB94-7398-448E-8570-FEC33307CDF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12C05E9-0D4A-4DCD-A67F-7ED44B0C776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B537D75-B06B-406B-88C4-A9C5B734355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57B1E82-23C4-40C7-8B71-D7E73942FF5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B81C66D-AC8C-4A74-B1BF-0EBCEB8BBFB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914EFF0-2502-4B04-950F-268C98CB52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EDCEEF6-7CD0-4A01-BA1F-B7A4A27A1E8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177683D-902E-4EEE-9322-470169F84B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9704344-B8FD-4B53-9BCF-DF4CE35AD3B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FBA8D6-895F-4FE0-91A1-EC78A2F6663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B3FF0A-8CE7-455D-B941-4FF76303A68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F5721B8-2C1A-4422-8C80-1E4266786C3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B35B3F1-72A2-4B6A-BBA6-70245531B24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3B9BBB83-882E-4A73-96C1-DA3365ABA63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F717208-5BC4-41A3-BD10-8316187B0F7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C659242-9DBB-4435-8DC6-E920EB15694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E8270B4-6CC7-40A3-81C3-853657E7ABC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B4B93B-CF45-4225-87EA-B6BBE104538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E680-253E-427E-857A-C974F6C80C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F934-ED4F-450A-A725-006D85512E7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C306C-F17C-46A2-AC1F-6FFBA6001B3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2346-76EC-499A-B34E-366ECC04581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FE88-5A01-4072-922C-07FDEF399A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40287-5C5A-4E80-86CF-5294C30389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337C-9DCC-4B8C-B447-20A3347F738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55C-9B1D-4817-86DB-E7D15188F5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5DFA-EA05-421A-8735-E48F332C002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29C3-8115-45F8-8601-03D63FC87AD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300280"/>
            <a:ext cx="4173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problem tecnici:</a:t>
            </a:r>
            <a:br>
              <a:rPr sz="2400"/>
            </a:br>
            <a:r>
              <a:rPr b="0" lang="it-IT" sz="2400" spc="-1" strike="noStrike">
                <a:solidFill>
                  <a:srgbClr val="000000"/>
                </a:solidFill>
                <a:latin typeface="Arial Rounded MT Bold"/>
              </a:rPr>
              <a:t>Identificare le cause e le risposte opportune </a:t>
            </a:r>
            <a:br>
              <a:rPr sz="2400"/>
            </a:br>
            <a:endParaRPr b="0" lang="en-US" sz="2400" spc="-1" strike="noStrike">
              <a:solidFill>
                <a:srgbClr val="000000"/>
              </a:solidFill>
              <a:latin typeface="Arial"/>
            </a:endParaRPr>
          </a:p>
        </p:txBody>
      </p:sp>
      <p:sp>
        <p:nvSpPr>
          <p:cNvPr id="544" name="Rectángulo 1"/>
          <p:cNvSpPr/>
          <p:nvPr/>
        </p:nvSpPr>
        <p:spPr>
          <a:xfrm>
            <a:off x="1208520" y="3357720"/>
            <a:ext cx="708588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rouble Shooting &amp; Problem solving</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56000" y="198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7" name=""/>
          <p:cNvSpPr txBox="1"/>
          <p:nvPr/>
        </p:nvSpPr>
        <p:spPr>
          <a:xfrm>
            <a:off x="40464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Schermo:</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chermo ner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tutte le prese siano collega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a manualmente lo scherm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ogni cavo sia connesso al posto giusto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roporzione e la nitidezza delle immagini è spagliata</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zione le impostazioni di risoluzione: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ziona con il tasto destro ‘Display settings’</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ipristina le impostazioni consigliate</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583000" y="250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feriche:</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192564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554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ouse, tastiera o ogni altro sistema periferico non rispondon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ogni cavo sia connesso al posto giusto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sono wireless, assicurati che le batterie siano carich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siano compatibili al pc</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 il computer e sconnetti-riconnetti le periferich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non sia una incompatibilità di aggiornamento/version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626920" y="110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3" name=""/>
          <p:cNvSpPr txBox="1"/>
          <p:nvPr/>
        </p:nvSpPr>
        <p:spPr>
          <a:xfrm>
            <a:off x="324000" y="127944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632400"/>
        </p:xfrm>
        <a:graphic>
          <a:graphicData uri="http://schemas.openxmlformats.org/drawingml/2006/table">
            <a:tbl>
              <a:tblPr/>
              <a:tblGrid>
                <a:gridCol w="1728720"/>
                <a:gridCol w="723600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2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l computer non si accend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l’alimentazione della corrente funzioni propriamen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il tasto switch nella parte posterior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il problema persiste dovresti riuscire a sentire alcuni sengali acustici:</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  </a:t>
                      </a:r>
                      <a:r>
                        <a:rPr b="0" lang="es-ES" sz="1600" spc="-1" strike="noStrike">
                          <a:solidFill>
                            <a:srgbClr val="ffffff"/>
                          </a:solidFill>
                          <a:latin typeface="Arial"/>
                        </a:rPr>
                        <a:t>	</a:t>
                      </a:r>
                      <a:r>
                        <a:rPr b="0" lang="es-ES" sz="1600" spc="-1" strike="noStrike">
                          <a:solidFill>
                            <a:srgbClr val="ffffff"/>
                          </a:solidFill>
                          <a:latin typeface="Arial"/>
                        </a:rPr>
                        <a:t>   Problema di alimentazion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rmit. ma cost. </a:t>
                      </a:r>
                      <a:r>
                        <a:rPr b="0" lang="es-ES" sz="1600" spc="-1" strike="noStrike">
                          <a:solidFill>
                            <a:srgbClr val="ffffff"/>
                          </a:solidFill>
                          <a:latin typeface="Arial"/>
                        </a:rPr>
                        <a:t>	</a:t>
                      </a:r>
                      <a:r>
                        <a:rPr b="0" lang="es-ES" sz="1600" spc="-1" strike="noStrike">
                          <a:solidFill>
                            <a:srgbClr val="ffffff"/>
                          </a:solidFill>
                          <a:latin typeface="Arial"/>
                        </a:rPr>
                        <a:t>   La scheda madre è danneggiat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molto lungo</a:t>
                      </a:r>
                      <a:r>
                        <a:rPr b="0" lang="es-ES" sz="1600" spc="-1" strike="noStrike">
                          <a:solidFill>
                            <a:srgbClr val="ffffff"/>
                          </a:solidFill>
                          <a:latin typeface="Arial"/>
                        </a:rPr>
                        <a:t>	</a:t>
                      </a:r>
                      <a:r>
                        <a:rPr b="0" lang="es-ES" sz="1600" spc="-1" strike="noStrike">
                          <a:solidFill>
                            <a:srgbClr val="ffffff"/>
                          </a:solidFill>
                          <a:latin typeface="Arial"/>
                        </a:rPr>
                        <a:t>   Errore di RA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ungo e 1 breve </a:t>
                      </a:r>
                      <a:r>
                        <a:rPr b="0" lang="es-ES" sz="1600" spc="-1" strike="noStrike">
                          <a:solidFill>
                            <a:srgbClr val="ffffff"/>
                          </a:solidFill>
                          <a:latin typeface="Arial"/>
                        </a:rPr>
                        <a:t>	</a:t>
                      </a:r>
                      <a:r>
                        <a:rPr b="0" lang="es-ES" sz="1600" spc="-1" strike="noStrike">
                          <a:solidFill>
                            <a:srgbClr val="ffffff"/>
                          </a:solidFill>
                          <a:latin typeface="Arial"/>
                        </a:rPr>
                        <a:t>   Errore delle scheda mad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ungo e 2 brevi         Errore della scheda vi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iascuno di questi errori segnala la necessità di sostituire il pezzo coinvolt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7183440" y="403380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la scheda bibliografica, troverai ulteriori esempi di errori comuni e generalmente relativi al sistema Windows 10 OS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Consultala per espandere ulteriormente le tue conoscenz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700360" y="124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ggiorna periodicamente il tuo sistema operative (SO)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il tuo PC ‘gira’ su un sistema operativo Windows ti basterà ricercare la versione più recente di Windows Update</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2590920" y="3549600"/>
            <a:ext cx="3962160" cy="2389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aggiornamento delle app</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iodicamente, le</a:t>
            </a:r>
            <a:r>
              <a:rPr b="0" lang="it-IT" sz="2000" spc="-1" strike="noStrike">
                <a:solidFill>
                  <a:srgbClr val="000000"/>
                </a:solidFill>
                <a:latin typeface="Arial Rounded MT Bold"/>
              </a:rPr>
              <a:t> applicazioni che hai installate sul tuo smartphone/computer hanno bisogno di essere aggiornate rispetto la nuova versione resa disponibile dal provider</a:t>
            </a:r>
            <a:endParaRPr b="0" lang="en-US" sz="20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isistallare un’app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l crescere del numero di applicazioni, diminuisce la velocità l’efficienza del dispositivo. Ogni cadenza periodale, assicurati di non avere del «peso» superfluo installato nel backg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Rounded MT Bold"/>
              </a:rPr>
              <a:t>L’avvio automatico del sistema</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Molte applicazioni sono programmate per avviarsi automaticamente all’avvio del SO che le ospita – il che rallenta tutto il processo di accension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ovviare a questa spiacevole evenienza è opportuno definire le applicazioni che vogliamo si avviino insieme al dispositivo stesso:</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ulla barra delle applicazioni premi il tasto destro e seleziona l’opzione ‘Gestione Attività’</a:t>
            </a:r>
            <a:endParaRPr b="0" lang="en-US" sz="2000" spc="-1" strike="noStrike">
              <a:solidFill>
                <a:srgbClr val="000000"/>
              </a:solidFill>
              <a:latin typeface="Arial"/>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dentro selezioniamo ‘Start’ e ‘disabilita’ rispetto l’applicazione che non vogliamo si avvii all’avvio del P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67984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0" name=""/>
          <p:cNvSpPr txBox="1"/>
          <p:nvPr/>
        </p:nvSpPr>
        <p:spPr>
          <a:xfrm>
            <a:off x="395280" y="1297080"/>
            <a:ext cx="4330800" cy="4525920"/>
          </a:xfrm>
          <a:prstGeom prst="rect">
            <a:avLst/>
          </a:prstGeom>
          <a:noFill/>
          <a:ln w="0">
            <a:noFill/>
          </a:ln>
        </p:spPr>
        <p:txBody>
          <a:bodyPr anchor="t">
            <a:normAutofit fontScale="98000"/>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irus</a:t>
            </a:r>
            <a:endParaRPr b="0" lang="en-US" sz="3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È fondamentale che </a:t>
            </a:r>
            <a:r>
              <a:rPr b="0" lang="it-IT" sz="2200" spc="-1" strike="noStrike">
                <a:solidFill>
                  <a:srgbClr val="000000"/>
                </a:solidFill>
                <a:latin typeface="Arial Rounded MT Bold"/>
              </a:rPr>
              <a:t>tu disponga di un sistema efficace ed aggiornato di protezione contro qualunque ‘infezione’ digital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Windows 10 dispone da sé di un sistema di difesa molto robusto: si chiama Windows security ed è costituito da una rete di programmi molto più completa di un semplice antivirus</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705200" y="1717560"/>
            <a:ext cx="4330800" cy="41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ntivirus</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n è mai consigliabile </a:t>
            </a:r>
            <a:r>
              <a:rPr b="0" lang="it-IT" sz="2400" spc="-1" strike="noStrike">
                <a:solidFill>
                  <a:srgbClr val="000000"/>
                </a:solidFill>
                <a:latin typeface="Arial Rounded MT Bold"/>
              </a:rPr>
              <a:t>disabilitare la scansione automatica del sistema – il cui scopo è proprio quello di registrare eventuali anomali di sistema</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4" name="Imagen 2" descr=""/>
          <p:cNvPicPr/>
          <p:nvPr/>
        </p:nvPicPr>
        <p:blipFill>
          <a:blip r:embed="rId1"/>
          <a:stretch/>
        </p:blipFill>
        <p:spPr>
          <a:xfrm>
            <a:off x="5051520" y="1459080"/>
            <a:ext cx="3655800" cy="4324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Rounded MT Bold"/>
              </a:rPr>
              <a:t>Obiettivi</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sa apprenderai?</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I segnali di errore dall’hardware o dal software</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iccoli trucchi sull’efficienza del tuo computer</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626920" y="1569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596" name=""/>
          <p:cNvSpPr txBox="1"/>
          <p:nvPr/>
        </p:nvSpPr>
        <p:spPr>
          <a:xfrm>
            <a:off x="456840" y="1413000"/>
            <a:ext cx="497844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ttimizzazione unità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applicazione di Windows che </a:t>
            </a:r>
            <a:r>
              <a:rPr b="0" lang="it-IT" sz="2200" spc="-1" strike="noStrike">
                <a:solidFill>
                  <a:srgbClr val="000000"/>
                </a:solidFill>
                <a:latin typeface="Arial Rounded MT Bold"/>
              </a:rPr>
              <a:t>‘deframmenta’ l’hard drive così da consentire un accesso più veloce ed immediato ai file</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Dalla barra di ricerca digita ‘deframmenta e ottimizza unità’, seleziona l’hardrive e clicca su ‘ottimizz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97" name="Imagen 1" descr=""/>
          <p:cNvPicPr/>
          <p:nvPr/>
        </p:nvPicPr>
        <p:blipFill>
          <a:blip r:embed="rId1"/>
          <a:stretch/>
        </p:blipFill>
        <p:spPr>
          <a:xfrm>
            <a:off x="5651640" y="1773360"/>
            <a:ext cx="2827080" cy="1143000"/>
          </a:xfrm>
          <a:prstGeom prst="rect">
            <a:avLst/>
          </a:prstGeom>
          <a:ln w="0">
            <a:noFill/>
          </a:ln>
        </p:spPr>
      </p:pic>
      <p:pic>
        <p:nvPicPr>
          <p:cNvPr id="598" name="Imagen 3" descr=""/>
          <p:cNvPicPr/>
          <p:nvPr/>
        </p:nvPicPr>
        <p:blipFill>
          <a:blip r:embed="rId2"/>
          <a:stretch/>
        </p:blipFill>
        <p:spPr>
          <a:xfrm>
            <a:off x="5651640" y="3141720"/>
            <a:ext cx="3241440" cy="2335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ulire il Softwar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Rounded MT Bold"/>
              </a:rPr>
              <a:t>Nel tempo, il tuo dispositivo colleziona e raccoglie dei file temporanei da differenti applicazioni che andranno ad occupare spazio e risorse del tuo SO</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Rounded MT Bold"/>
              </a:rPr>
              <a:t>Uno dei programmi più diffusi dediti a questa ‘pulizia’ è </a:t>
            </a:r>
            <a:r>
              <a:rPr b="1" lang="it-IT" sz="2100" spc="-1" strike="noStrike">
                <a:solidFill>
                  <a:srgbClr val="000000"/>
                </a:solidFill>
                <a:latin typeface="Arial Rounded MT Bold"/>
              </a:rPr>
              <a:t>CCleaner</a:t>
            </a:r>
            <a:endParaRPr b="0" lang="en-US" sz="2100" spc="-1" strike="noStrike">
              <a:solidFill>
                <a:srgbClr val="000000"/>
              </a:solidFill>
              <a:latin typeface="Arial"/>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601" name="Imagen 4" descr=""/>
          <p:cNvPicPr/>
          <p:nvPr/>
        </p:nvPicPr>
        <p:blipFill>
          <a:blip r:embed="rId1"/>
          <a:stretch/>
        </p:blipFill>
        <p:spPr>
          <a:xfrm>
            <a:off x="2987640" y="417348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3" name=""/>
          <p:cNvSpPr txBox="1"/>
          <p:nvPr/>
        </p:nvSpPr>
        <p:spPr>
          <a:xfrm>
            <a:off x="456840" y="1413000"/>
            <a:ext cx="793116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ulire l’Hardware</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pulizia dell’hardware ha un impatto molto forte sulla performace del dispositivo. Ad esempio, è consigliato pulire la tua attrezzatura almeno una volta al mes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caso di </a:t>
            </a:r>
            <a:r>
              <a:rPr b="0" lang="it-IT" sz="2000" spc="-1" strike="noStrike">
                <a:solidFill>
                  <a:srgbClr val="000000"/>
                </a:solidFill>
                <a:latin typeface="Arial Rounded MT Bold"/>
              </a:rPr>
              <a:t>computer fisso, puoi utilizzare un piccolo aspirapolvere che sia trattiene tutta la sporcizia e sia non danneggia le componen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 hai un portatile invece, essendo necessario smontarlo per intero, è meglio che ti rivolga ad un centro specializza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Semplici trucchi per la gestione del tuo sistema</a:t>
            </a:r>
            <a:endParaRPr b="0" lang="en-US" sz="3200" spc="-1" strike="noStrike">
              <a:solidFill>
                <a:srgbClr val="000000"/>
              </a:solidFill>
              <a:latin typeface="Arial"/>
            </a:endParaRPr>
          </a:p>
        </p:txBody>
      </p:sp>
      <p:sp>
        <p:nvSpPr>
          <p:cNvPr id="605" name=""/>
          <p:cNvSpPr txBox="1"/>
          <p:nvPr/>
        </p:nvSpPr>
        <p:spPr>
          <a:xfrm>
            <a:off x="457200" y="1413000"/>
            <a:ext cx="728352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L’istallazione</a:t>
            </a:r>
            <a:r>
              <a:rPr b="0" lang="it-IT" sz="3200" spc="-1" strike="noStrike">
                <a:solidFill>
                  <a:srgbClr val="000000"/>
                </a:solidFill>
                <a:latin typeface="Arial Rounded MT Bold"/>
              </a:rPr>
              <a:t>	</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iù di rado è consigliabile reinstallare l’intero sistema ‘dal principio’. </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me già detto, il SO raccoglie – file dopo file – una mole di dati che pur non essendo più utilizzati appesantiscono il dispositivo e rallentano le sue funzionalità</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a volta all’anno è meglio che tu formatti e reinstalli l’interno sistema. Essendo una operazione molto delicata ti conviene lasciarla in mano a dei professionisti</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Problematiche tecniche relative all’hardware</a:t>
            </a:r>
            <a:endParaRPr b="0" lang="en-US" sz="30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a sorgente del problema</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a:t>
            </a:r>
            <a:r>
              <a:rPr b="0" lang="it-IT" sz="2000" spc="-1" strike="noStrike">
                <a:solidFill>
                  <a:srgbClr val="000000"/>
                </a:solidFill>
                <a:latin typeface="Arial Rounded MT Bold"/>
              </a:rPr>
              <a:t>risoluzione di qualunque problema – dai semplici problemi di audio all’avviamento vero e proprio del dispositivo –  passa prima di tutto dall’identificazione della causa</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riuscire in ciò, è opportuno osservare i segnali che lo stesso compure manda all’ester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È </a:t>
            </a:r>
            <a:r>
              <a:rPr b="0" lang="it-IT" sz="2000" spc="-1" strike="noStrike">
                <a:solidFill>
                  <a:srgbClr val="000000"/>
                </a:solidFill>
                <a:latin typeface="Arial Rounded MT Bold"/>
              </a:rPr>
              <a:t>una questione di hardware o software? Per capirlo si inizia dall’avvio del sistema di ‘Safe Mod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Con questa impostazione il computer opera solo attraverso le parti indispensabili della sua rete e lasciando dormiente tutto ciò che non è strettamente necessario per il suo funzionamento elementare</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 come si attiva la modalità Saf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vvia lo spegnimento del dispositivo e, mentre tieni premuto il tasto ‘Shift’, clicca contemporaneamente su ‘Restart’. Il menù che avrai di fronte è come quello in figura.</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a qui seleziona: </a:t>
            </a:r>
            <a:r>
              <a:rPr b="0" lang="en-GB" sz="2000" spc="-1" strike="noStrike">
                <a:solidFill>
                  <a:srgbClr val="92d050"/>
                </a:solidFill>
                <a:latin typeface="Arial Rounded MT Bold"/>
              </a:rPr>
              <a:t>‘Troubleshoot’ -&gt; Advanced options -&gt; ‘Startup configur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28464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787120" y="1886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5" name=""/>
          <p:cNvSpPr txBox="1"/>
          <p:nvPr/>
        </p:nvSpPr>
        <p:spPr>
          <a:xfrm>
            <a:off x="457200" y="1773360"/>
            <a:ext cx="8229600" cy="452592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n safe mode si tenterà di riprodurre l’errore «artificialmente»; all’esito positivo della simulazione vuol dire che persiste una problematica di hardware </a:t>
            </a: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 caso contrario, ti trovi davanti una problematica di softwa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6920" y="1789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errore è sempre anticipato o posticipato da un messaggio di avviso che automaticamente reindirizza ad una probabile alternativa di risoluzion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fondamentale saper interpretare il presente avviso e risalire al codice identificativo dell’error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700360" y="115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 seconda delle specifiche circostanze, l’avviso più risaltare anche prima del completo riavvio del dispositiv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 tal caso si procede col copiare il codice identificativo e ricercare un’alternativa risolutiva nella ret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40000" y="283356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626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Come gestire gli inconvenienti legati all’hardware </a:t>
            </a:r>
            <a:endParaRPr b="0" lang="en-US" sz="30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Errori comuni </a:t>
            </a:r>
            <a:endParaRPr b="0" lang="en-US" sz="3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Delle volte è possibile che non compaia alcun codice. Tale evenienza è generalmente collegata alle seguenti caus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860640"/>
          <a:ext cx="8362800" cy="2163960"/>
        </p:xfrm>
        <a:graphic>
          <a:graphicData uri="http://schemas.openxmlformats.org/drawingml/2006/table">
            <a:tbl>
              <a:tblPr/>
              <a:tblGrid>
                <a:gridCol w="1913040"/>
                <a:gridCol w="644976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oblematic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ili soluzioni</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audio non funziona</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l’audio non sia in mut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rolla che gli speakers siano o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 hai connesse delle cuffie, prova a disconnetterl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iavvia l’audi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start il comput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ssicurati che non siano gli speakers a dare problemi (ad esempio prova a connetterli ad un altro dispositiv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riccardo di marco</cp:lastModifiedBy>
  <dcterms:modified xsi:type="dcterms:W3CDTF">2020-01-16T14:00:12Z</dcterms:modified>
  <cp:revision>539</cp:revision>
  <dc:subject/>
  <dc:title>Title</dc:title>
</cp:coreProperties>
</file>