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BF29FD3-FAFB-4305-82F8-8EAED2EBD5A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F10CA42-D959-42AA-B3F6-28ACB27F047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9417BC9-7067-4FBA-855E-CA816411906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3FD0C0E-E217-4EF6-9AFC-F3FD1889971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E104793-0759-4347-9AE2-575F9B58CF9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1CEAC21-A924-44E5-A764-236C4742C1E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FAF0CAE-E25C-448B-A9BD-428331A159C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311B07C-F50A-48BA-A10D-226CEF14B49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03DF9A0-6F04-4827-B149-A91C0F426C4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8C70B9D-3236-49A6-B4F7-4FD4EFB1B44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27A71CD-96DB-4F88-A5FC-771C29EA50A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D4BDB00-CD34-487E-9448-EAF94994D3A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F74F360-4EB1-4EB5-A87C-BF79DACFEA1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DC9EB2F-45F8-4860-8021-D96E9B5034D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8EF277B-A2E7-4F06-86FC-B1297CB311A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C2D5350-F73E-4E04-89AF-BFBE787590B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36154CF-B3CE-43D8-8B8C-D9159AA0968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60569E7-46A5-43E1-A339-A63C4EE7C61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5456FD5-3453-4C5A-8BC8-81C30130BEC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3131A9F-6DBA-49E4-B841-35E1739B0E2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685096A-163E-496E-8978-89F7A22356D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D2AE23E-4965-40CF-B6CF-9A4C3F5B630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BFAADAC-9F72-432A-A31B-9172BED018F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4FC1371-378F-4223-A951-BA555C756A0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1F72EBB-C7E5-4D99-9E50-4C87E85EA6C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DFB2741-153A-49F8-945B-41532DEE90B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B3D6989-BB54-4544-B701-DADB10ACAA1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2FF4A18-E9FE-4B5C-A3ED-02E878E05DE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EB95AE7-F33E-4321-A347-0693BF30371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6F7AEB4-D329-4EDD-AD65-10334EF5AD4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9E837FB-8C04-4821-A23A-7D8B5CC4F27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31F2B6F-9CBA-48AD-8432-5B3E35351CB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99C4398-6E53-41A0-B9B1-E0B2658BC4A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056BFDD-99E2-4F64-9108-9AC7C69442D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AAE37D2-8F23-43EC-84F5-EC81C448959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5E90E59-550F-4B5B-8911-C57EC29AE22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B847A5B-94F1-43D2-AFDA-3C76A864FD7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6AEB567-5CE6-45D0-BCF5-BA417D6A0DB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A86B79A-E42D-4603-906D-8984DDB8E6C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4088494-7FF1-46E7-812E-ECC9BB9F9AC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0CB6B61-F0FA-4EE2-A7B3-D2409F45E8B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D9A990D-0F04-408E-8542-6DC8708B99F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5D6353B-B8E2-4DC3-8069-B1627C37252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3F2BA97-88F6-4128-9F4F-FCC1BA95BB3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D6A37F8-9411-479D-8925-9C9A4BBA6C1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BD22E2-EBDA-49ED-82E7-57B208004F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6E7AA5-CEBF-4772-B22D-E6D3846A7E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6E8A2E-ECFC-41E0-A0E3-C6818E1FBF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3D2F3A-FFBE-4E02-AD9B-0DFFE6A0B4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602289-AD13-4756-8D7F-F2CE7B8105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C7DA73-6EE6-4D48-997A-0B6DC3854B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728D23-306E-4E32-8183-D3483A0580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1E3625-1F1A-4E9D-A222-F315759429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B9F07B-0C6E-4A57-8874-331023F75E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F10356-B404-4B95-B9E7-DB0910B4EC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7D85D7-9792-40BF-AA66-79CC4895DE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1076B1-7E8B-46A9-BBAE-0015666924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C1A6E8C-F3F1-4A57-8438-184DA032270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491930A-CDD4-4611-9EC4-F9AECC67A83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199FF01-98F1-43E0-A290-D66BB4A6ADA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94F55F3-F78E-4CE2-A4B5-E41B66F1FA6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0D26B32-C4BA-45F7-AFCC-6C89EDC09BE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039416E-F117-4557-AE5E-422977392A4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F9572A0-697F-4D41-8035-D1B5DA5888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0087137-7D82-47D6-A6D0-331DC716E23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08B6972-0ADD-47C9-A98C-562F7A8421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95AA39-2E09-4E07-9C00-D2163234679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8F6EA70-EE7D-455B-BB5A-C75FB1E0DF1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11F7467-EA96-4C7E-B9E2-675941F2C71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97E8C07-6BB0-49CC-8F0D-FD9A73F0F00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36CB577-1D9D-438B-85EE-C9B2861E70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A05998C-64FF-4DA4-8E24-7E0F883E96A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D34FF2-C0C8-4980-86DE-82A9C72608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5BD9258-4304-467E-8BC5-E2FACC607B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D31CBC7-9B31-4500-9E61-3950E82D6F1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96DDBFB-847E-4C79-9E2F-47C22842C19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20309E8-B2C2-45CE-A905-4B7D0E60C5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BCAA50-4889-4943-B28D-068608ED43A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61F8B98-7B5A-4284-8FF6-118F2EC87A1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49DB58C-6A5D-4B56-8011-5620D1370AC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7CE1BB3-BB16-4B2B-A5F3-70B518D886E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72871C2-DDE9-4632-A562-F34EC706FC7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14B2944-86CA-45F3-87B6-BEA7BAF894B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2177CDC-A906-475A-AA21-A40377003B9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03AC584-8F23-4F0E-9ECB-40286832BF4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1FC3492-405F-4572-8E16-0C5BB7442AF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72A1F68-27C1-4C79-8E81-CE5A20CCE63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93C79A1-D67E-4538-88DD-A7B116002A2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6F407FC-4061-42D7-94C2-F842F2BC79B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68CFF4-D7C4-40D8-928D-B9C332D3E52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CB4647C-3D87-4EDA-9752-3ED757B6D81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A200EE9-C1EF-4F9B-B9F3-1548C4B142C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BE317E0-B3A6-42B3-AEF4-5838DA238D4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434797F-E2F1-4B3E-841B-B01BCD12AFA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492A548-FEFD-4006-BEB5-81B37594F31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E9B9918-648E-4F33-BB78-0FF305920A6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576EB5D-966A-4D53-944E-81EE3C3FC94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3D5900B-32ED-46BF-880B-3934E69D7F9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DE9EA7E-4F60-4AD0-B02F-1ED246ABAF0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F5647A9-DEC6-48CB-AD1F-CCC1E28701A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260D5DD-CBEA-46F6-BE16-1E7F93CAE07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7D9F99D-6A57-4B36-A146-12584DB2B15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64FD2C2-6713-4705-9DBB-02887C52E15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BBACA68-35C6-4147-9D73-1F734E66FF5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513F6B2-4807-4ECE-8C77-C4BBC356581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0CB51AD-0DDB-4626-AD5E-3BD4FB08D12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B12B8FA-B031-4D70-9E07-8F3663C8F7B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BB36A98-325C-4EC2-9FD2-6438D021846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CC65E57-511F-42A8-B352-449B18D5FB2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A768D57-64C9-4741-8738-192DD27BEE8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F382858-4ABB-4840-8488-FFB104B4320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A02256E-7D82-4444-ADAE-8636EF30977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679D22C-52EF-4DE0-BDF9-B863CE2C25B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5380F22-A9F1-4CA9-9FDD-73E6D91EC74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A967B39-B32D-4632-8958-C26AE8AA9BC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6775D58-1252-400A-965D-96D07F70F9F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03C9612-49EB-4B3E-B0EE-BD926358722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F10AC89-A786-4BF2-A857-0681F36A750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EBD3BE7-0CC8-423E-A930-27CD7517A3B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7845CB8-ED13-48EE-902F-6E1128D0812B}"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F7DB-332F-4C46-BF15-307CEC8ED36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ACB3-8FBB-47D2-9562-5ED9BA914C3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6DC2-ECB1-4B01-A346-1F3ABEE94EE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54E4-694E-4E49-8D71-2571113DBE5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9D71-0F2A-4D83-9203-CD3FF6BADC7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AA8B2-E80D-4E74-9BE1-0C37C6AFFF1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45511-0177-4D7C-BDA5-7E9AC600DAA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0C2E-AA4B-471B-A8F0-DC8879767FB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1FCD-812E-4BD3-813A-68BB098A3F0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BE9EC-F83B-4E85-826C-A6EDDF42FCB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HH0xdWpckZY" TargetMode="External"/><Relationship Id="rId2" Type="http://schemas.openxmlformats.org/officeDocument/2006/relationships/hyperlink" Target="https://www.youtube.com/watch?v=HH0xdWpckZY" TargetMode="External"/><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a-b9eM7Rhfo"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PHb5R5-fE7E" TargetMode="External"/><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Sicurezza </a:t>
            </a:r>
            <a:endParaRPr b="0" lang="en-US" sz="3200" spc="-1" strike="noStrike">
              <a:solidFill>
                <a:srgbClr val="000000"/>
              </a:solidFill>
              <a:latin typeface="Arial"/>
            </a:endParaRPr>
          </a:p>
        </p:txBody>
      </p:sp>
      <p:sp>
        <p:nvSpPr>
          <p:cNvPr id="537" name="Rectángulo 1"/>
          <p:cNvSpPr/>
          <p:nvPr/>
        </p:nvSpPr>
        <p:spPr>
          <a:xfrm>
            <a:off x="375480" y="2924280"/>
            <a:ext cx="7459560" cy="1343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Rounded MT Bold"/>
              </a:rPr>
              <a:t>La protezione dei tuoi dispositivi mobil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	</a:t>
            </a:r>
            <a:r>
              <a:rPr b="1" lang="it-IT" sz="1800" spc="-1" strike="noStrike">
                <a:solidFill>
                  <a:srgbClr val="000000"/>
                </a:solidFill>
                <a:latin typeface="Arial Rounded MT Bold"/>
              </a:rPr>
              <a:t>Unità 1:</a:t>
            </a:r>
            <a:r>
              <a:rPr b="0" lang="it-IT" sz="1800" spc="-1" strike="noStrike">
                <a:solidFill>
                  <a:srgbClr val="000000"/>
                </a:solidFill>
                <a:latin typeface="Arial Rounded MT Bold"/>
              </a:rPr>
              <a:t> brevi accorgimenti per proteggere il tuo compu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	</a:t>
            </a:r>
            <a:r>
              <a:rPr b="1" lang="it-IT" sz="1800" spc="-1" strike="noStrike">
                <a:solidFill>
                  <a:srgbClr val="000000"/>
                </a:solidFill>
                <a:latin typeface="Arial Rounded MT Bold"/>
              </a:rPr>
              <a:t>Unità 2: </a:t>
            </a:r>
            <a:r>
              <a:rPr b="0" lang="it-IT" sz="1800" spc="-1" strike="noStrike">
                <a:solidFill>
                  <a:srgbClr val="000000"/>
                </a:solidFill>
                <a:latin typeface="Arial Rounded MT Bold"/>
              </a:rPr>
              <a:t>la protezione dei dispositive mobi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brevi accorgimenti</a:t>
            </a:r>
            <a:endParaRPr b="0" lang="en-US" sz="2800" spc="-1" strike="noStrike">
              <a:solidFill>
                <a:srgbClr val="000000"/>
              </a:solidFill>
              <a:latin typeface="Arial"/>
            </a:endParaRPr>
          </a:p>
        </p:txBody>
      </p:sp>
      <p:sp>
        <p:nvSpPr>
          <p:cNvPr id="557" name=""/>
          <p:cNvSpPr txBox="1"/>
          <p:nvPr/>
        </p:nvSpPr>
        <p:spPr>
          <a:xfrm>
            <a:off x="457200" y="1413000"/>
            <a:ext cx="4835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indows Antivirus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Le impostazioni più semplici comportano ad es. la selezione degli spazi temporali di scannerizzazione o l’attivazione, in tempo reale, del sistema di sicurezz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 scan concluso, il programma restituisce anche un report finale di valutazion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8" name="Imagen 2" descr=""/>
          <p:cNvPicPr/>
          <p:nvPr/>
        </p:nvPicPr>
        <p:blipFill>
          <a:blip r:embed="rId1"/>
          <a:stretch/>
        </p:blipFill>
        <p:spPr>
          <a:xfrm>
            <a:off x="5770440" y="1405080"/>
            <a:ext cx="2944800" cy="2735280"/>
          </a:xfrm>
          <a:prstGeom prst="rect">
            <a:avLst/>
          </a:prstGeom>
          <a:ln w="0">
            <a:noFill/>
          </a:ln>
        </p:spPr>
      </p:pic>
      <p:pic>
        <p:nvPicPr>
          <p:cNvPr id="559" name="Imagen 4" descr=""/>
          <p:cNvPicPr/>
          <p:nvPr/>
        </p:nvPicPr>
        <p:blipFill>
          <a:blip r:embed="rId2"/>
          <a:stretch/>
        </p:blipFill>
        <p:spPr>
          <a:xfrm>
            <a:off x="5867280" y="4352760"/>
            <a:ext cx="2559240" cy="11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brevi accorgimenti</a:t>
            </a:r>
            <a:endParaRPr b="0" lang="en-US" sz="2800" spc="-1" strike="noStrike">
              <a:solidFill>
                <a:srgbClr val="000000"/>
              </a:solidFill>
              <a:latin typeface="Arial"/>
            </a:endParaRPr>
          </a:p>
        </p:txBody>
      </p:sp>
      <p:sp>
        <p:nvSpPr>
          <p:cNvPr id="561" name=""/>
          <p:cNvSpPr txBox="1"/>
          <p:nvPr/>
        </p:nvSpPr>
        <p:spPr>
          <a:xfrm>
            <a:off x="457200" y="1413000"/>
            <a:ext cx="2890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indows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Un breve tutorial di configurazion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a:t>
            </a:r>
            <a:r>
              <a:rPr b="0" lang="en-GB" sz="2000" spc="-1" strike="noStrike" u="sng">
                <a:solidFill>
                  <a:srgbClr val="009999"/>
                </a:solidFill>
                <a:uFillTx/>
                <a:latin typeface="Arial Rounded MT Bold"/>
                <a:hlinkClick r:id="rId2"/>
              </a:rPr>
              <a:t>://www.youtube.com/watch?v=HH0xdWpckZ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2" name="Imagen 3" descr=""/>
          <p:cNvPicPr/>
          <p:nvPr/>
        </p:nvPicPr>
        <p:blipFill>
          <a:blip r:embed="rId3"/>
          <a:stretch/>
        </p:blipFill>
        <p:spPr>
          <a:xfrm>
            <a:off x="3746520" y="1916280"/>
            <a:ext cx="4940280" cy="282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brevi accorgimenti</a:t>
            </a:r>
            <a:endParaRPr b="0" lang="en-US" sz="2800" spc="-1" strike="noStrike">
              <a:solidFill>
                <a:srgbClr val="000000"/>
              </a:solidFill>
              <a:latin typeface="Arial"/>
            </a:endParaRPr>
          </a:p>
        </p:txBody>
      </p:sp>
      <p:sp>
        <p:nvSpPr>
          <p:cNvPr id="56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cOS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Un breve tutorial di configurazione per </a:t>
            </a:r>
            <a:r>
              <a:rPr b="0" lang="en-GB" sz="2000" spc="-1" strike="noStrike">
                <a:solidFill>
                  <a:srgbClr val="92d050"/>
                </a:solidFill>
                <a:latin typeface="Arial Rounded MT Bold"/>
              </a:rPr>
              <a:t>Avira Free </a:t>
            </a:r>
            <a:r>
              <a:rPr b="0" lang="en-GB" sz="2000" spc="-1" strike="noStrike">
                <a:solidFill>
                  <a:srgbClr val="000000"/>
                </a:solidFill>
                <a:latin typeface="Arial Rounded MT Bold"/>
              </a:rPr>
              <a:t>in MacO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a-b9eM7Rhf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5" name="Imagen 1" descr=""/>
          <p:cNvPicPr/>
          <p:nvPr/>
        </p:nvPicPr>
        <p:blipFill>
          <a:blip r:embed="rId2"/>
          <a:stretch/>
        </p:blipFill>
        <p:spPr>
          <a:xfrm>
            <a:off x="2070000" y="3114720"/>
            <a:ext cx="5004000" cy="282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brevi accorgimenti</a:t>
            </a:r>
            <a:endParaRPr b="0" lang="en-US" sz="2800" spc="-1" strike="noStrike">
              <a:solidFill>
                <a:srgbClr val="000000"/>
              </a:solidFill>
              <a:latin typeface="Arial"/>
            </a:endParaRPr>
          </a:p>
        </p:txBody>
      </p:sp>
      <p:sp>
        <p:nvSpPr>
          <p:cNvPr id="56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inux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Un breve tutorial di configurazione per </a:t>
            </a:r>
            <a:r>
              <a:rPr b="0" lang="en-GB" sz="2000" spc="-1" strike="noStrike">
                <a:solidFill>
                  <a:srgbClr val="92d050"/>
                </a:solidFill>
                <a:latin typeface="Arial Rounded MT Bold"/>
              </a:rPr>
              <a:t>ClamAV</a:t>
            </a:r>
            <a:r>
              <a:rPr b="0" lang="en-GB" sz="2000" spc="-1" strike="noStrike">
                <a:solidFill>
                  <a:srgbClr val="000000"/>
                </a:solidFill>
                <a:latin typeface="Arial Rounded MT Bold"/>
              </a:rPr>
              <a:t> (Ubuntu/linux):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PHb5R5-fE7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8" name="Imagen 2" descr=""/>
          <p:cNvPicPr/>
          <p:nvPr/>
        </p:nvPicPr>
        <p:blipFill>
          <a:blip r:embed="rId2"/>
          <a:stretch/>
        </p:blipFill>
        <p:spPr>
          <a:xfrm>
            <a:off x="2286000" y="3308400"/>
            <a:ext cx="4572000" cy="263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Unit 2: la protezione </a:t>
            </a:r>
            <a:br>
              <a:rPr sz="2800"/>
            </a:br>
            <a:r>
              <a:rPr b="0" lang="it-IT" sz="2800" spc="-1" strike="noStrike">
                <a:solidFill>
                  <a:srgbClr val="000000"/>
                </a:solidFill>
                <a:latin typeface="Arial Rounded MT Bold"/>
              </a:rPr>
              <a:t>dei dispositivi mobili</a:t>
            </a:r>
            <a:endParaRPr b="0" lang="en-US" sz="28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obile phone security</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on </a:t>
            </a:r>
            <a:r>
              <a:rPr b="0" lang="it-IT" sz="2000" spc="-1" strike="noStrike">
                <a:solidFill>
                  <a:srgbClr val="000000"/>
                </a:solidFill>
                <a:latin typeface="Arial Rounded MT Bold"/>
              </a:rPr>
              <a:t>i dispositivi mobili il ruolo del ‘Buon Senso’ assume prestigio ancora maggiore considerando che: gli attuali programmi difensivi non sono ancora pienamente efficaci, consumano molte risorse e non si rivelano comunque essere la soluzione più sicur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ur non disponendo di una vera e propria funzione di allerta, questi programmi continuano comunque nel background a succhiare risorse abbassando conseguentemente l’efficacia e l’efficienza del devic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a:t>
            </a:r>
            <a:r>
              <a:rPr b="0" lang="it-IT" sz="2800" spc="-1" strike="noStrike">
                <a:solidFill>
                  <a:srgbClr val="000000"/>
                </a:solidFill>
                <a:latin typeface="Arial Rounded MT Bold"/>
              </a:rPr>
              <a:t> la protezione </a:t>
            </a:r>
            <a:br>
              <a:rPr sz="2800"/>
            </a:br>
            <a:r>
              <a:rPr b="0" lang="it-IT" sz="2800" spc="-1" strike="noStrike">
                <a:solidFill>
                  <a:srgbClr val="000000"/>
                </a:solidFill>
                <a:latin typeface="Arial Rounded MT Bold"/>
              </a:rPr>
              <a:t>dei dispositivi mobili</a:t>
            </a:r>
            <a:endParaRPr b="0" lang="en-US" sz="2800" spc="-1" strike="noStrike">
              <a:solidFill>
                <a:srgbClr val="000000"/>
              </a:solidFill>
              <a:latin typeface="Arial"/>
            </a:endParaRPr>
          </a:p>
        </p:txBody>
      </p:sp>
      <p:sp>
        <p:nvSpPr>
          <p:cNvPr id="5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me bloccare l’accesso allo schermo</a:t>
            </a:r>
            <a:endParaRPr b="0" lang="en-US" sz="3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A seconda del dispositivo puoi impostare diversi meccanismi conservativi. Ad ogni modo, indipendentemente dal device:</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Vai su impostazioni</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Cerca e accedi alla sezione sicurezza</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All’interno, ricerca la funzione blocca schermo</a:t>
            </a:r>
            <a:endParaRPr b="0" lang="en-US" sz="1800" spc="-1" strike="noStrike">
              <a:solidFill>
                <a:srgbClr val="000000"/>
              </a:solidFill>
              <a:latin typeface="Arial"/>
            </a:endParaRPr>
          </a:p>
          <a:p>
            <a:pPr marL="343080" indent="-34308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Da qui, scegli il tipo di accesso che vuoi sett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a:t>
            </a:r>
            <a:r>
              <a:rPr b="0" lang="it-IT" sz="2800" spc="-1" strike="noStrike">
                <a:solidFill>
                  <a:srgbClr val="000000"/>
                </a:solidFill>
                <a:latin typeface="Arial Rounded MT Bold"/>
              </a:rPr>
              <a:t> la protezione </a:t>
            </a:r>
            <a:br>
              <a:rPr sz="2800"/>
            </a:br>
            <a:r>
              <a:rPr b="0" lang="it-IT" sz="2800" spc="-1" strike="noStrike">
                <a:solidFill>
                  <a:srgbClr val="000000"/>
                </a:solidFill>
                <a:latin typeface="Arial Rounded MT Bold"/>
              </a:rPr>
              <a:t>dei dispositivi mobili</a:t>
            </a:r>
            <a:endParaRPr b="0" lang="en-US" sz="2800" spc="-1" strike="noStrike">
              <a:solidFill>
                <a:srgbClr val="000000"/>
              </a:solidFill>
              <a:latin typeface="Arial"/>
            </a:endParaRPr>
          </a:p>
        </p:txBody>
      </p:sp>
      <p:sp>
        <p:nvSpPr>
          <p:cNvPr id="574" name=""/>
          <p:cNvSpPr txBox="1"/>
          <p:nvPr/>
        </p:nvSpPr>
        <p:spPr>
          <a:xfrm>
            <a:off x="457200" y="14130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Quello che devi evitare quando installi un antivirus:</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rima di acquistare/scaricare il tuo nuovo antivirus dai uno sguardo alle recensioni degli altri utenti</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e apri una app per la prima volta, abilita le funzionalità sono strettamente necessarie…concediti il tempo di esplorarla </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Inserisci i tuoi dati personali sono all’interno di form certific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a:t>
            </a:r>
            <a:r>
              <a:rPr b="0" lang="it-IT" sz="2800" spc="-1" strike="noStrike">
                <a:solidFill>
                  <a:srgbClr val="000000"/>
                </a:solidFill>
                <a:latin typeface="Arial Rounded MT Bold"/>
              </a:rPr>
              <a:t> la protezione </a:t>
            </a:r>
            <a:br>
              <a:rPr sz="2800"/>
            </a:br>
            <a:r>
              <a:rPr b="0" lang="it-IT" sz="2800" spc="-1" strike="noStrike">
                <a:solidFill>
                  <a:srgbClr val="000000"/>
                </a:solidFill>
                <a:latin typeface="Arial Rounded MT Bold"/>
              </a:rPr>
              <a:t>dei dispositivi mobili</a:t>
            </a:r>
            <a:endParaRPr b="0" lang="en-US" sz="2800" spc="-1" strike="noStrike">
              <a:solidFill>
                <a:srgbClr val="000000"/>
              </a:solidFill>
              <a:latin typeface="Arial"/>
            </a:endParaRPr>
          </a:p>
        </p:txBody>
      </p:sp>
      <p:sp>
        <p:nvSpPr>
          <p:cNvPr id="576" name=""/>
          <p:cNvSpPr txBox="1"/>
          <p:nvPr/>
        </p:nvSpPr>
        <p:spPr>
          <a:xfrm>
            <a:off x="457200" y="14130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e ciò non dovesse esser bastato, ossia se comunque dovessi fare esperienza di qualche inconveniente: </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Cancella l’app – inclusa ogni traccia residuale della sua esistenza (ad esempio singoli file e cartelle). Probabile che il malware si nasconda all’interno di una di queste periferie</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Qualora il problema persiste, prima di contattare uno specialista, riporta il tuo telefono alle impostazioni di default. Crea una copia di backup di tutto ciò che non vuoi perdere e procedi al rese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a:t>
            </a:r>
            <a:r>
              <a:rPr b="0" lang="it-IT" sz="2800" spc="-1" strike="noStrike">
                <a:solidFill>
                  <a:srgbClr val="000000"/>
                </a:solidFill>
                <a:latin typeface="Arial Rounded MT Bold"/>
              </a:rPr>
              <a:t> la protezione </a:t>
            </a:r>
            <a:br>
              <a:rPr sz="2800"/>
            </a:br>
            <a:r>
              <a:rPr b="0" lang="it-IT" sz="2800" spc="-1" strike="noStrike">
                <a:solidFill>
                  <a:srgbClr val="000000"/>
                </a:solidFill>
                <a:latin typeface="Arial Rounded MT Bold"/>
              </a:rPr>
              <a:t>dei dispositivi mobili</a:t>
            </a:r>
            <a:endParaRPr b="0" lang="en-US" sz="2800" spc="-1" strike="noStrike">
              <a:solidFill>
                <a:srgbClr val="000000"/>
              </a:solidFill>
              <a:latin typeface="Arial"/>
            </a:endParaRPr>
          </a:p>
        </p:txBody>
      </p:sp>
      <p:sp>
        <p:nvSpPr>
          <p:cNvPr id="578"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Esistono degli antivirus che si comportano allo stesso modo in cui farebbe un utente real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Ti avvisa di ogni tentativo di accesso sospetto</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Ti avvisa quando un’ applicazione avvia una funzione che consuma risors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Riconosce applicazioni non sicure – ad es. app che potrebbero prendere le tue informazioni senza consens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a:t>
            </a:r>
            <a:r>
              <a:rPr b="0" lang="it-IT" sz="2800" spc="-1" strike="noStrike">
                <a:solidFill>
                  <a:srgbClr val="000000"/>
                </a:solidFill>
                <a:latin typeface="Arial Rounded MT Bold"/>
              </a:rPr>
              <a:t> la protezione </a:t>
            </a:r>
            <a:br>
              <a:rPr sz="2800"/>
            </a:br>
            <a:r>
              <a:rPr b="0" lang="it-IT" sz="2800" spc="-1" strike="noStrike">
                <a:solidFill>
                  <a:srgbClr val="000000"/>
                </a:solidFill>
                <a:latin typeface="Arial Rounded MT Bold"/>
              </a:rPr>
              <a:t>dei dispositivi mobili</a:t>
            </a:r>
            <a:endParaRPr b="0" lang="en-US" sz="2800" spc="-1" strike="noStrike">
              <a:solidFill>
                <a:srgbClr val="000000"/>
              </a:solidFill>
              <a:latin typeface="Arial"/>
            </a:endParaRPr>
          </a:p>
        </p:txBody>
      </p:sp>
      <p:sp>
        <p:nvSpPr>
          <p:cNvPr id="580" name=""/>
          <p:cNvSpPr txBox="1"/>
          <p:nvPr/>
        </p:nvSpPr>
        <p:spPr>
          <a:xfrm>
            <a:off x="457200" y="14130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Di seguito, una brevissima rassegna degli antivirus per mobile più affidabili:</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droid: </a:t>
            </a:r>
            <a:r>
              <a:rPr b="0" lang="en-GB" sz="2000" spc="-1" strike="noStrike">
                <a:solidFill>
                  <a:srgbClr val="92d050"/>
                </a:solidFill>
                <a:latin typeface="Arial Rounded MT Bold"/>
              </a:rPr>
              <a:t>Avast Mobile Security</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droid: </a:t>
            </a:r>
            <a:r>
              <a:rPr b="0" lang="en-GB" sz="2000" spc="-1" strike="noStrike">
                <a:solidFill>
                  <a:srgbClr val="92d050"/>
                </a:solidFill>
                <a:latin typeface="Arial Rounded MT Bold"/>
              </a:rPr>
              <a:t>AhnLab V3 Mobile Security</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OS: </a:t>
            </a:r>
            <a:r>
              <a:rPr b="0" lang="en-GB" sz="2000" spc="-1" strike="noStrike">
                <a:solidFill>
                  <a:srgbClr val="92d050"/>
                </a:solidFill>
                <a:latin typeface="Arial Rounded MT Bold"/>
              </a:rPr>
              <a:t>Avira Mobile Security</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OS: </a:t>
            </a:r>
            <a:r>
              <a:rPr b="0" lang="en-GB" sz="2000" spc="-1" strike="noStrike">
                <a:solidFill>
                  <a:srgbClr val="92d050"/>
                </a:solidFill>
                <a:latin typeface="Arial Rounded MT Bold"/>
              </a:rPr>
              <a:t>Trend Micro Mobile 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Rounded MT Bold"/>
              </a:rPr>
              <a:t>Obiettivi</a:t>
            </a:r>
            <a:endParaRPr b="0" lang="en-US" sz="4400" spc="-1" strike="noStrike">
              <a:solidFill>
                <a:srgbClr val="000000"/>
              </a:solidFill>
              <a:latin typeface="Arial"/>
            </a:endParaRPr>
          </a:p>
        </p:txBody>
      </p:sp>
      <p:sp>
        <p:nvSpPr>
          <p:cNvPr id="539" name="PlaceHolder 2"/>
          <p:cNvSpPr>
            <a:spLocks noGrp="1"/>
          </p:cNvSpPr>
          <p:nvPr>
            <p:ph/>
          </p:nvPr>
        </p:nvSpPr>
        <p:spPr>
          <a:xfrm>
            <a:off x="457200" y="148428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 concetti che analizzeremo: </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roteggere i dei dati personali dagli attacchi esterni</a:t>
            </a:r>
            <a:endParaRPr b="0" lang="en-US" sz="24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roteggere i dispositivi mobili dai malware</a:t>
            </a: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a:t>
            </a:r>
            <a:r>
              <a:rPr b="0" lang="it-IT" sz="2800" spc="-1" strike="noStrike">
                <a:solidFill>
                  <a:srgbClr val="000000"/>
                </a:solidFill>
                <a:latin typeface="Arial Rounded MT Bold"/>
              </a:rPr>
              <a:t> la protezione </a:t>
            </a:r>
            <a:br>
              <a:rPr sz="2800"/>
            </a:br>
            <a:r>
              <a:rPr b="0" lang="it-IT" sz="2800" spc="-1" strike="noStrike">
                <a:solidFill>
                  <a:srgbClr val="000000"/>
                </a:solidFill>
                <a:latin typeface="Arial Rounded MT Bold"/>
              </a:rPr>
              <a:t>dei dispositivi mobili</a:t>
            </a:r>
            <a:endParaRPr b="0" lang="en-US" sz="2800" spc="-1" strike="noStrike">
              <a:solidFill>
                <a:srgbClr val="000000"/>
              </a:solidFill>
              <a:latin typeface="Arial"/>
            </a:endParaRPr>
          </a:p>
        </p:txBody>
      </p:sp>
      <p:sp>
        <p:nvSpPr>
          <p:cNvPr id="58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droid Antivirus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AhnLab V3 Mobile Security in Android</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ttps://www.youtube.com/watch?v=tDyxXtAft-M</a:t>
            </a:r>
            <a:endParaRPr b="0" lang="en-US" sz="2000" spc="-1" strike="noStrike">
              <a:solidFill>
                <a:srgbClr val="000000"/>
              </a:solidFill>
              <a:latin typeface="Arial"/>
            </a:endParaRPr>
          </a:p>
        </p:txBody>
      </p:sp>
      <p:pic>
        <p:nvPicPr>
          <p:cNvPr id="583" name="Imagen 3" descr=""/>
          <p:cNvPicPr/>
          <p:nvPr/>
        </p:nvPicPr>
        <p:blipFill>
          <a:blip r:embed="rId1"/>
          <a:stretch/>
        </p:blipFill>
        <p:spPr>
          <a:xfrm>
            <a:off x="2573280" y="3500280"/>
            <a:ext cx="399744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a:t>
            </a:r>
            <a:r>
              <a:rPr b="0" lang="it-IT" sz="2800" spc="-1" strike="noStrike">
                <a:solidFill>
                  <a:srgbClr val="000000"/>
                </a:solidFill>
                <a:latin typeface="Arial Rounded MT Bold"/>
              </a:rPr>
              <a:t> la protezione </a:t>
            </a:r>
            <a:br>
              <a:rPr sz="2800"/>
            </a:br>
            <a:r>
              <a:rPr b="0" lang="it-IT" sz="2800" spc="-1" strike="noStrike">
                <a:solidFill>
                  <a:srgbClr val="000000"/>
                </a:solidFill>
                <a:latin typeface="Arial Rounded MT Bold"/>
              </a:rPr>
              <a:t>dei dispositivi mobili</a:t>
            </a:r>
            <a:endParaRPr b="0" lang="en-US" sz="2800" spc="-1" strike="noStrike">
              <a:solidFill>
                <a:srgbClr val="000000"/>
              </a:solidFill>
              <a:latin typeface="Arial"/>
            </a:endParaRPr>
          </a:p>
        </p:txBody>
      </p:sp>
      <p:sp>
        <p:nvSpPr>
          <p:cNvPr id="585"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OS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GB" sz="2000" spc="-1" strike="noStrike">
                <a:solidFill>
                  <a:srgbClr val="92d050"/>
                </a:solidFill>
                <a:latin typeface="Arial Rounded MT Bold"/>
              </a:rPr>
              <a:t>Trend micro mobile security in iOS</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ttps://www.youtube.com/watch?v=7LhpG3NL7hM</a:t>
            </a:r>
            <a:endParaRPr b="0" lang="en-US" sz="2000" spc="-1" strike="noStrike">
              <a:solidFill>
                <a:srgbClr val="000000"/>
              </a:solidFill>
              <a:latin typeface="Arial"/>
            </a:endParaRPr>
          </a:p>
        </p:txBody>
      </p:sp>
      <p:pic>
        <p:nvPicPr>
          <p:cNvPr id="586" name="Imagen 1" descr=""/>
          <p:cNvPicPr/>
          <p:nvPr/>
        </p:nvPicPr>
        <p:blipFill>
          <a:blip r:embed="rId1"/>
          <a:stretch/>
        </p:blipFill>
        <p:spPr>
          <a:xfrm>
            <a:off x="2316240" y="3213000"/>
            <a:ext cx="4500360" cy="253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à 1: brevi accorgimenti </a:t>
            </a:r>
            <a:endParaRPr b="0" lang="en-US" sz="2800" spc="-1" strike="noStrike">
              <a:solidFill>
                <a:srgbClr val="000000"/>
              </a:solidFill>
              <a:latin typeface="Arial"/>
            </a:endParaRPr>
          </a:p>
        </p:txBody>
      </p:sp>
      <p:sp>
        <p:nvSpPr>
          <p:cNvPr id="54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Buon senso</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Ricorda che la rete è un posto ricco di insidie. I virus costituiscono il male più noto ma non sono meno pericoloso dei ‘malware’ nascosti nelle pagine web o in programmi di cui non dubiteresti ma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à 1: brevi accorgimenti </a:t>
            </a:r>
            <a:endParaRPr b="0" lang="en-US" sz="2800" spc="-1" strike="noStrike">
              <a:solidFill>
                <a:srgbClr val="000000"/>
              </a:solidFill>
              <a:latin typeface="Arial"/>
            </a:endParaRPr>
          </a:p>
        </p:txBody>
      </p:sp>
      <p:sp>
        <p:nvSpPr>
          <p:cNvPr id="543"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Buon senso</a:t>
            </a:r>
            <a:endParaRPr b="0" lang="en-US" sz="32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on installare nulla di cui non conosci l’origin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Mentre installi un programma, evita di abilitare qualunque estensione indesiderata dello stess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on utilizzare chiavette USB senza sapere quale è stato il loro precedente utilizzo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Evita di navigare pagine web che non presentino un certificato di sicurezza</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on fidarti di nessuna mail che chieda dati strettamente personali (ad es. carta di credit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ggiorna periodicamente i tuoi sistemi di difes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à 1: brevi accorgimenti  </a:t>
            </a:r>
            <a:endParaRPr b="0" lang="en-US" sz="2800" spc="-1" strike="noStrike">
              <a:solidFill>
                <a:srgbClr val="000000"/>
              </a:solidFill>
              <a:latin typeface="Arial"/>
            </a:endParaRPr>
          </a:p>
        </p:txBody>
      </p:sp>
      <p:sp>
        <p:nvSpPr>
          <p:cNvPr id="54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na password sicura</a:t>
            </a:r>
            <a:endParaRPr b="0" lang="en-US" sz="32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Rounded MT Bold"/>
              </a:rPr>
              <a:t>Per impostare una password sul tuo pc devi seguire questi semplici steps:</a:t>
            </a:r>
            <a:endParaRPr b="0" lang="en-US" sz="16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emi Start in basso a sinistra </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Vai su impostazioni</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eleziona Account (o Profilo) </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Seleziona Impostazioni di accesso</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Clicca Aggiungi una Password</a:t>
            </a:r>
            <a:endParaRPr b="0" lang="en-US" sz="1200" spc="-1" strike="noStrike">
              <a:solidFill>
                <a:srgbClr val="000000"/>
              </a:solidFill>
              <a:latin typeface="Arial"/>
            </a:endParaRPr>
          </a:p>
          <a:p>
            <a:pPr lvl="1" marL="743040" indent="-28584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Digita la Password che vuoi aggiungere </a:t>
            </a:r>
            <a:endParaRPr b="0" lang="en-US" sz="12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NB: </a:t>
            </a:r>
            <a:r>
              <a:rPr b="0" lang="en-GB" sz="1400" spc="-1" strike="noStrike">
                <a:solidFill>
                  <a:srgbClr val="92d050"/>
                </a:solidFill>
                <a:latin typeface="Arial Rounded MT Bold"/>
              </a:rPr>
              <a:t> </a:t>
            </a:r>
            <a:endParaRPr b="0" lang="en-US" sz="1400" spc="-1" strike="noStrike">
              <a:solidFill>
                <a:srgbClr val="000000"/>
              </a:solidFill>
              <a:latin typeface="Arial"/>
            </a:endParaRPr>
          </a:p>
          <a:p>
            <a:pPr marL="343080" indent="-34308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Rounded MT Bold"/>
              </a:rPr>
              <a:t>Una password robusta dovrebbe alternare con frequenza lettere minuscole e maiuscole, simboli e numeri</a:t>
            </a:r>
            <a:endParaRPr b="0" lang="en-US" sz="1400" spc="-1" strike="noStrike">
              <a:solidFill>
                <a:srgbClr val="000000"/>
              </a:solidFill>
              <a:latin typeface="Arial"/>
            </a:endParaRPr>
          </a:p>
          <a:p>
            <a:pPr marL="343080" indent="-34308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Rounded MT Bold"/>
              </a:rPr>
              <a:t>Evita soluzioni del tipo ‘111111’, ‘123456’, ‘password’, etc.</a:t>
            </a:r>
            <a:endParaRPr b="0" lang="en-US" sz="1400" spc="-1" strike="noStrike">
              <a:solidFill>
                <a:srgbClr val="000000"/>
              </a:solidFill>
              <a:latin typeface="Arial"/>
            </a:endParaRPr>
          </a:p>
          <a:p>
            <a:pPr marL="343080" indent="-34308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Rounded MT Bold"/>
              </a:rPr>
              <a:t>Fa che sia di almeno 8 caratter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brevi accorgimenti </a:t>
            </a:r>
            <a:endParaRPr b="0" lang="en-US" sz="2800" spc="-1" strike="noStrike">
              <a:solidFill>
                <a:srgbClr val="000000"/>
              </a:solidFill>
              <a:latin typeface="Arial"/>
            </a:endParaRPr>
          </a:p>
        </p:txBody>
      </p:sp>
      <p:sp>
        <p:nvSpPr>
          <p:cNvPr id="547" name=""/>
          <p:cNvSpPr txBox="1"/>
          <p:nvPr/>
        </p:nvSpPr>
        <p:spPr>
          <a:xfrm>
            <a:off x="455760" y="12682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artendo dal presupposto che nessun antivirus sarà mai troppo impenetrabile, il supporto di questi programmi è di imprescindibile necessità sotto ogni punto di vist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La scelta di un antivirus comporta prima di tutto la verifica della compatibilità con il tuo dispositivo e i vari servizi accessori offert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brevi accorgimenti </a:t>
            </a:r>
            <a:endParaRPr b="0" lang="en-US" sz="2800" spc="-1" strike="noStrike">
              <a:solidFill>
                <a:srgbClr val="000000"/>
              </a:solidFill>
              <a:latin typeface="Arial"/>
            </a:endParaRPr>
          </a:p>
        </p:txBody>
      </p:sp>
      <p:sp>
        <p:nvSpPr>
          <p:cNvPr id="549"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Raccomandazion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7 e SO precedenti: </a:t>
            </a:r>
            <a:r>
              <a:rPr b="0" lang="en-GB" sz="2000" spc="-1" strike="noStrike">
                <a:solidFill>
                  <a:srgbClr val="92d050"/>
                </a:solidFill>
                <a:latin typeface="Arial Rounded MT Bold"/>
              </a:rPr>
              <a:t>Microsoft Security Essenti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8 e </a:t>
            </a:r>
            <a:r>
              <a:rPr b="0" lang="it-IT" sz="2000" spc="-1" strike="noStrike">
                <a:solidFill>
                  <a:srgbClr val="000000"/>
                </a:solidFill>
                <a:latin typeface="Arial Rounded MT Bold"/>
              </a:rPr>
              <a:t>versioni più recenti</a:t>
            </a:r>
            <a:r>
              <a:rPr b="0" lang="en-GB" sz="2000" spc="-1" strike="noStrike">
                <a:solidFill>
                  <a:srgbClr val="000000"/>
                </a:solidFill>
                <a:latin typeface="Arial Rounded MT Bold"/>
              </a:rPr>
              <a:t> : </a:t>
            </a:r>
            <a:r>
              <a:rPr b="0" lang="en-GB" sz="2000" spc="-1" strike="noStrike">
                <a:solidFill>
                  <a:srgbClr val="92d050"/>
                </a:solidFill>
                <a:latin typeface="Arial Rounded MT Bold"/>
              </a:rPr>
              <a:t>Windows defender (già incluso nel sistem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MacOS: </a:t>
            </a:r>
            <a:r>
              <a:rPr b="0" lang="en-GB" sz="2000" spc="-1" strike="noStrike">
                <a:solidFill>
                  <a:srgbClr val="92d050"/>
                </a:solidFill>
                <a:latin typeface="Arial Rounded MT Bold"/>
              </a:rPr>
              <a:t>Avira Fre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inux distributions: </a:t>
            </a:r>
            <a:r>
              <a:rPr b="0" lang="en-GB" sz="2000" spc="-1" strike="noStrike">
                <a:solidFill>
                  <a:srgbClr val="92d050"/>
                </a:solidFill>
                <a:latin typeface="Arial Rounded MT Bold"/>
              </a:rPr>
              <a:t>ClamAV</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utti questi servizi sono sia gratuiti e sia altamente affidabil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brevi accorgimenti </a:t>
            </a:r>
            <a:endParaRPr b="0" lang="en-US" sz="2800" spc="-1" strike="noStrike">
              <a:solidFill>
                <a:srgbClr val="000000"/>
              </a:solidFill>
              <a:latin typeface="Arial"/>
            </a:endParaRPr>
          </a:p>
        </p:txBody>
      </p:sp>
      <p:sp>
        <p:nvSpPr>
          <p:cNvPr id="55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indows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Quando si istalla un antivirus è sempre meglio verificare se i features offerti rispondo a quelli richiest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el qui presente esempio prendiamo come riferimento Windows Defender nella sua ultima versione per Windows 10 (già preinstallato nel sistem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brevi accorgimenti</a:t>
            </a:r>
            <a:endParaRPr b="0" lang="en-US" sz="2800" spc="-1" strike="noStrike">
              <a:solidFill>
                <a:srgbClr val="000000"/>
              </a:solidFill>
              <a:latin typeface="Arial"/>
            </a:endParaRPr>
          </a:p>
        </p:txBody>
      </p:sp>
      <p:sp>
        <p:nvSpPr>
          <p:cNvPr id="553" name=""/>
          <p:cNvSpPr txBox="1"/>
          <p:nvPr/>
        </p:nvSpPr>
        <p:spPr>
          <a:xfrm>
            <a:off x="457200" y="1413000"/>
            <a:ext cx="4835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indows Antivirus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Una volta selezionato il programma, sulla sinistra compaiono tutte le singole component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È consigliabile tuttavia non modificare nessuna delle impostazioni predefinit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4" name="Imagen 1" descr=""/>
          <p:cNvPicPr/>
          <p:nvPr/>
        </p:nvPicPr>
        <p:blipFill>
          <a:blip r:embed="rId1"/>
          <a:stretch/>
        </p:blipFill>
        <p:spPr>
          <a:xfrm>
            <a:off x="6039000" y="1293840"/>
            <a:ext cx="2709720" cy="2206440"/>
          </a:xfrm>
          <a:prstGeom prst="rect">
            <a:avLst/>
          </a:prstGeom>
          <a:ln w="0">
            <a:noFill/>
          </a:ln>
        </p:spPr>
      </p:pic>
      <p:pic>
        <p:nvPicPr>
          <p:cNvPr id="555" name="Imagen 3" descr=""/>
          <p:cNvPicPr/>
          <p:nvPr/>
        </p:nvPicPr>
        <p:blipFill>
          <a:blip r:embed="rId2"/>
          <a:stretch/>
        </p:blipFill>
        <p:spPr>
          <a:xfrm>
            <a:off x="5234040" y="3573360"/>
            <a:ext cx="37256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riccardo di marco</cp:lastModifiedBy>
  <dcterms:modified xsi:type="dcterms:W3CDTF">2020-01-16T17:24:14Z</dcterms:modified>
  <cp:revision>552</cp:revision>
  <dc:subject/>
  <dc:title>Title</dc:title>
</cp:coreProperties>
</file>