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3EE473-D73B-4312-88E0-4EE455BE65E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16F93C-B36A-43B4-ACE1-53B595D0D6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21890E4-9146-4035-B3D6-0D2EF27CBF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A1C5E3-F545-48E1-921C-A4FCE2E66F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CECFA7-A1CF-406E-817D-87CF9991A8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DB24AE-9B0D-4F97-99A0-E9293E37D0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E20E0F-FAF7-42CF-AA48-1C3F2BEDE5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E4068E7-9833-41BF-AA54-D5E0DFCB2C7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C3107CA-8843-4310-BEC7-E142AC674D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F3B5DC4-B95A-4394-A0B8-CB0C9C2AFB2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B68E977-D69F-4E7F-908C-E4A3D0A4E7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3F19D24-E628-4D3B-86D2-FA7770A839E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A0DD48-62C2-491D-AEA1-79DFF7CCAB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021FFC3-D890-402C-BAF9-771785F514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E1C0DE-E560-4760-9AC4-E6D7DFE238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D37D5F-A64B-497D-AC4A-8257FAA263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E52039-045A-4E26-AA6A-38A6C263CF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FB8F3E-C132-4535-AFE8-D2D6E41549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FA04D0C-589A-4CCD-806B-26BCE3A45B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1FF6943-3679-4F14-BD1A-D097B8D7A8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C9C775F-24AB-4BE4-879E-A03D74578BE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6C2D659-4F62-457B-BDD1-E1BC4BA4045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D9EC60C-C3DD-4192-B620-A20B1B0BDB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C3D7666-7940-40C1-A5C2-20715B3274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AC6003B-0C29-4E8E-B44C-6153C85224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1A6042B-9068-4A3B-BB8D-17994268EC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4DECAF6-813C-49D1-A4A6-6260D3B6FB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FA1C32-9578-48DA-B1E9-A2579B4479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B4ABFD-5EA3-4887-8660-D65F22CFEC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06A2173-46B7-45A1-B6AC-FBBEC7223A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38F4FA-0580-4F1F-96C2-B24CC5ED70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818D4ED-5452-4250-A1C6-537AE5294B8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8474DD0-C933-4C42-9B7B-E69CF0353E7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75BC943-A5A8-4203-8972-27E19275573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C36D800-D646-4A9E-B375-5EF5882BDEA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EA8C79-0EAE-4AD2-B549-1DE92BFBB7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C291662-A96B-42A1-B25B-E8C8B41B97F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2D4259-8076-49E0-8F66-077B7CC7A75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D2EC1F3-17AE-49A0-BF28-F8EE1B42FA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1A66B2-7D33-4070-9B2E-160BD98A61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173EE9-9898-4E0A-A7DA-77D6645853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0D7727-B537-4178-A987-0A0B033A3D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E90D70-7C24-4914-9E03-13FA0A4B78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07F12C6-A2FC-47FF-A904-BBD50547782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933EB0F-5DE3-4B94-9F3E-EEF94BB6EB0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E5C268-4C77-4378-B640-77C141650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68378-C89B-4394-915A-1160A613C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2106B-98FD-4946-83ED-5D3B3C179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D9CA59-88E4-4291-BB11-9E7651F03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CD8BA-A863-4839-927E-7B4F18C24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EA818-2616-43F7-AD81-ABD37DE9F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96EA3-0757-4CFE-8238-1DE132236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E9EA7-B3EC-4338-8BA2-B2055690B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52C4E-1DF4-4BBE-A162-62B0C895E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9F603-FA72-4FC7-8791-F7A34713A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25173-A537-4AC6-86D8-6160249C5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307009-92CF-4EF3-AC31-F30C455A2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1770058-6696-4848-845C-2A4C72D794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AC6A8D-D408-4A25-B9A8-C740B371E7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02FFC7-3521-48A5-AB1F-DA8A9B37BA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A0B899-4A36-4646-8D13-DAE20EEE29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419C57-ED22-4E11-8CBA-BB2BE6D6CE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51C6F8-4D3D-4A92-8D37-AA0731F333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86D5B0-88B3-48DE-A474-5CD4D29631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F0C6B0-905D-46E1-AD02-D5941ADA56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7E460B-C3A5-4028-9698-43DA6DCD16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284F62-05F9-4A09-AA1B-96A18FF8B1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6632B6-D602-47C4-8E54-EC9FC0DAC3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895858-C186-4ABB-9305-90FA80A236E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88E585-4BCA-4D20-B0A3-B153D00FDC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03CDD1-D952-44D1-9FE1-8FA8EAE3ED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BA8B33-7D3F-494D-9823-42CB06D5D1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853840-A06A-4589-A80C-67C016613F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633D9D-294A-407F-9956-65FCE853FC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93AB1F-CA5A-423D-A32D-20717F534A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029083-1D22-4120-B236-1B97E105AB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C2377B-DFC1-437E-9B43-F472F47651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B9647-BDEF-4FB9-89DD-EE419BF73F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DFED68-B0EE-4635-B8DF-E7B9FA4670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E92945-5CBB-4A3D-BC47-4CC7777A9D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A0D0FB-F946-4CF1-AA70-C0DDA83F71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EE147F-F530-4596-868A-39DDD4E2A04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59A557-7B9A-4B20-BE6C-1639088284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88CBFD-D39F-439C-AB09-88E607A408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C1D2C7-7F9E-43EA-AF27-1D4615BD29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7CF695-85F4-44D2-8762-4EB17EAE70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3BB975-6A8C-4ECD-B430-FF1E2D11CB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936F3D-3F27-4138-9957-033CD2862B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8755FC-F954-4374-85BF-C5A39093B3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B7EF19-F035-409D-8014-8F9C091F31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E452C3-581F-434D-AEB2-2BFE5201427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16ED9E-87A5-4EDF-B789-80A0A21286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36C6DC-11E6-4347-BE21-1A4D7D4C0E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08D9B8-6AE9-4913-B396-998FDFC770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6E3FAD-3AF5-44B8-8609-9D5EF32499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CC5CE3-7D47-4AA2-9D2C-14787EB856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398494-C538-4BCF-91BA-ABE4A8BED4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906401-DF82-4A31-8F2D-C24D310AB2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870C57-96BB-4BD2-8D7B-A1E7DFB49C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7F0340-54C3-48EA-A3B8-276F9F9B84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5BF197-73A4-4629-B716-4C9269B040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4230F8-1DBA-47F8-BC71-8969BEC530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46B5EE4-0DB0-4E11-98A2-D08802A1FC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31E3B9F-9A60-411E-851D-97E447A62AA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C8612F9-5754-4471-AF3B-3B1E26C3C04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52CBAFB-7DB3-4601-B71B-848BA36BB41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4A9A956-9B2B-4E68-B467-27EA194C82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CE89E5B-768F-4F35-9BED-FFDA4C899CA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8A47FB-4EC1-4EA1-A4C8-A21E6E212D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74A5DE0-C87C-4391-954F-00D94922D2B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A2BA70-83E4-43C4-B33D-A6DB87C36D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F219EC-3715-4E56-99C6-B96442B212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7BB7D4-63E6-4B40-A3EA-F9581E8D1A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A60B99-6A50-46ED-88B7-9E8E176629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D853C6-4F2F-4F74-A9DC-D353CC9A0F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99B6900-0290-44BD-B503-5502D727E8B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964A3E5-C684-423F-B002-6FCD6749110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6FBD9F-C3A0-42C5-8C8F-249235BE4B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E8D92B-D85A-4268-8477-38208F0908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87766C-6742-4C59-A5DD-4F051B322A3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A950-1027-4111-8229-FE3F31A6C38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516B-3121-42C8-A91A-BF6BD8E3426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3086-9CBC-456C-B3BE-3EE71FD84F1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D707-5437-49D1-8F4A-0D1F3E9088A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6780-AF23-4BD7-BC0B-73947363B7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F795-D117-4466-A775-E46588B5C8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5AFD-9A9D-475C-B014-F67D65AC48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06EB-1F55-44A4-A974-A782BF67CF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A60E-4E92-4E8E-9720-0171E2042C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1CF1-1C32-42C8-AE10-72E8960CED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hyperlink" Target="https://www.youtube.com/watch?v=HH0xdWpckZY" TargetMode="External"/><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icurezza </a:t>
            </a:r>
            <a:endParaRPr b="0" lang="en-US" sz="3200" spc="-1" strike="noStrike">
              <a:solidFill>
                <a:srgbClr val="000000"/>
              </a:solidFill>
              <a:latin typeface="Arial"/>
            </a:endParaRPr>
          </a:p>
        </p:txBody>
      </p:sp>
      <p:sp>
        <p:nvSpPr>
          <p:cNvPr id="537" name="Rectángulo 1"/>
          <p:cNvSpPr/>
          <p:nvPr/>
        </p:nvSpPr>
        <p:spPr>
          <a:xfrm>
            <a:off x="375480" y="2924280"/>
            <a:ext cx="745956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La protezione dei tuoi dispositivi mobi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r>
              <a:rPr b="1" lang="it-IT" sz="1800" spc="-1" strike="noStrike">
                <a:solidFill>
                  <a:srgbClr val="000000"/>
                </a:solidFill>
                <a:latin typeface="Arial Rounded MT Bold"/>
              </a:rPr>
              <a:t>Unità 1:</a:t>
            </a:r>
            <a:r>
              <a:rPr b="0" lang="it-IT" sz="1800" spc="-1" strike="noStrike">
                <a:solidFill>
                  <a:srgbClr val="000000"/>
                </a:solidFill>
                <a:latin typeface="Arial Rounded MT Bold"/>
              </a:rPr>
              <a:t> brevi accorgimenti per proteggere il tuo compu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	</a:t>
            </a:r>
            <a:r>
              <a:rPr b="1" lang="it-IT" sz="1800" spc="-1" strike="noStrike">
                <a:solidFill>
                  <a:srgbClr val="000000"/>
                </a:solidFill>
                <a:latin typeface="Arial Rounded MT Bold"/>
              </a:rPr>
              <a:t>Unità 2: </a:t>
            </a:r>
            <a:r>
              <a:rPr b="0" lang="it-IT" sz="1800" spc="-1" strike="noStrike">
                <a:solidFill>
                  <a:srgbClr val="000000"/>
                </a:solidFill>
                <a:latin typeface="Arial Rounded MT Bold"/>
              </a:rPr>
              <a:t>la protezione dei dispositive mo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e impostazioni più semplici comportano ad es. la selezione degli spazi temporali di scannerizzazione o l’attivazione, in tempo reale, del sistema di sicurezz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scan concluso, il programma restituisce anche un report finale di valutazi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40508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brevi accorgimenti</a:t>
            </a:r>
            <a:endParaRPr b="0" lang="en-US" sz="2800" spc="-1" strike="noStrike">
              <a:solidFill>
                <a:srgbClr val="000000"/>
              </a:solidFill>
              <a:latin typeface="Arial"/>
            </a:endParaRPr>
          </a:p>
        </p:txBody>
      </p:sp>
      <p:sp>
        <p:nvSpPr>
          <p:cNvPr id="561"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 breve tutorial di configurazi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a:t>
            </a:r>
            <a:r>
              <a:rPr b="0" lang="en-GB" sz="2000" spc="-1" strike="noStrike" u="sng">
                <a:solidFill>
                  <a:srgbClr val="009999"/>
                </a:solidFill>
                <a:uFillTx/>
                <a:latin typeface="Arial Rounded MT Bold"/>
                <a:hlinkClick r:id="rId2"/>
              </a:rPr>
              <a:t>://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3"/>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 breve tutorial di configurazione per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i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brevi accorgimenti</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 breve tutorial di configurazione per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it 2: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bile phone securit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a:t>
            </a:r>
            <a:r>
              <a:rPr b="0" lang="it-IT" sz="2000" spc="-1" strike="noStrike">
                <a:solidFill>
                  <a:srgbClr val="000000"/>
                </a:solidFill>
                <a:latin typeface="Arial Rounded MT Bold"/>
              </a:rPr>
              <a:t>i dispositivi mobili il ruolo del ‘Buon Senso’ assume prestigio ancora maggiore considerando che: gli attuali programmi difensivi non sono ancora pienamente efficaci, consumano molte risorse e non si rivelano comunque essere la soluzione più sicur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ur non disponendo di una vera e propria funzione di allerta, questi programmi continuano comunque nel background a succhiare risorse abbassando conseguentemente l’efficacia e l’efficienza del devi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e bloccare l’accesso allo schermo</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A seconda del dispositivo puoi impostare diversi meccanismi conservativi. Ad ogni modo, indipendentemente dal devi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Vai su impostazioni</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Cerca e accedi alla sezione sicurezza</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All’interno, ricerca la funzione blocca schermo</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a qui, scegli il tipo di accesso che vuoi sett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llo che devi evitare quando installi un antiviru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rima di acquistare/scaricare il tuo nuovo antivirus dai uno sguardo alle recensioni degli altri utenti</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apri una app per la prima volta, abilita le funzionalità sono strettamente necessarie…concediti il tempo di esplorarla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serisci i tuoi dati personali sono all’interno di form certific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ciò non dovesse esser bastato, ossia se comunque dovessi fare esperienza di qualche inconveniente: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ancella l’app – inclusa ogni traccia residuale della sua esistenza (ad esempio singoli file e cartelle). Probabile che il malware si nasconda all’interno di una di queste periferi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alora il problema persiste, prima di contattare uno specialista, riporta il tuo telefono alle impostazioni di default. Crea una copia di backup di tutto ciò che non vuoi perdere e procedi al rese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sistono degli antivirus che si comportano allo stesso modo in cui farebbe un utente rea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 avvisa di ogni tentativo di accesso sospett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 avvisa quando un’ applicazione avvia una funzione che consuma risor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conosce applicazioni non sicure – ad es. app che potrebbero prendere le tue informazioni senza consens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Di seguito, una brevissima rassegna degli antivirus per mobile più affidabili:</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457200" y="148428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concetti che analizzeremo: </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dei dati personali dagli attacchi esterni</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dispositivi mobili dai malware</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droid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3"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92d05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6"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uon sens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corda che la rete è un posto ricco di insidie. I virus costituiscono il male più noto ma non sono meno pericoloso dei ‘malware’ nascosti nelle pagine web o in programmi di cui non dubiteresti ma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uon senso</a:t>
            </a:r>
            <a:endParaRPr b="0" lang="en-US" sz="32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installare nulla di cui non conosci l’origin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entre installi un programma, evita di abilitare qualunque estensione indesiderata dello stess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utilizzare chiavette USB senza sapere quale è stato il loro precedente utilizzo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vita di navigare pagine web che non presentino un certificato di sicurezz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fidarti di nessuna mail che chieda dati strettamente personali (ad es. carta di credit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ggiorna periodicamente i tuoi sistemi di difes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a password sicura</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Rounded MT Bold"/>
              </a:rPr>
              <a:t>Per impostare una password sul tuo pc devi seguire questi semplici steps:</a:t>
            </a:r>
            <a:endParaRPr b="0" lang="en-US" sz="16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mi Start in basso a sinistra </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i su impostazioni</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eleziona Account (o Profilo) </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eleziona Impostazioni di accesso</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licca Aggiungi una Password</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gita la Password che vuoi aggiungere </a:t>
            </a:r>
            <a:endParaRPr b="0" lang="en-US" sz="12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NB: </a:t>
            </a:r>
            <a:r>
              <a:rPr b="0" lang="en-GB" sz="1400" spc="-1" strike="noStrike">
                <a:solidFill>
                  <a:srgbClr val="92d050"/>
                </a:solidFill>
                <a:latin typeface="Arial Rounded MT Bold"/>
              </a:rPr>
              <a: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Una password robusta dovrebbe alternare con frequenza lettere minuscole e maiuscole, simboli e numeri</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Evita soluzioni del tipo ‘111111’, ‘123456’, ‘password’, etc.</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Fa che sia di almeno 8 caratte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47" name=""/>
          <p:cNvSpPr txBox="1"/>
          <p:nvPr/>
        </p:nvSpPr>
        <p:spPr>
          <a:xfrm>
            <a:off x="45576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rtendo dal presupposto che nessun antivirus sarà mai troppo impenetrabile, il supporto di questi programmi è di imprescindibile necessità sotto ogni punto di vist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scelta di un antivirus comporta prima di tutto la verifica della compatibilità con il tuo dispositivo e i vari servizi accessori offer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accomandazion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e SO precedenti: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e </a:t>
            </a:r>
            <a:r>
              <a:rPr b="0" lang="it-IT" sz="2000" spc="-1" strike="noStrike">
                <a:solidFill>
                  <a:srgbClr val="000000"/>
                </a:solidFill>
                <a:latin typeface="Arial Rounded MT Bold"/>
              </a:rPr>
              <a:t>versioni più recenti</a:t>
            </a:r>
            <a:r>
              <a:rPr b="0" lang="en-GB" sz="2000" spc="-1" strike="noStrike">
                <a:solidFill>
                  <a:srgbClr val="000000"/>
                </a:solidFill>
                <a:latin typeface="Arial Rounded MT Bold"/>
              </a:rPr>
              <a:t> : </a:t>
            </a:r>
            <a:r>
              <a:rPr b="0" lang="en-GB" sz="2000" spc="-1" strike="noStrike">
                <a:solidFill>
                  <a:srgbClr val="92d050"/>
                </a:solidFill>
                <a:latin typeface="Arial Rounded MT Bold"/>
              </a:rPr>
              <a:t>Windows defender (già incluso n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utti questi servizi sono sia gratuiti e sia altamente affidabil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ando si istalla un antivirus è sempre meglio verificare se i features offerti rispondo a quelli richies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qui presente esempio prendiamo come riferimento Windows Defender nella sua ultima versione per Windows 10 (già preinstallato nel siste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selezionato il programma, sulla sinistra compaiono tutte le singole componen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consigliabile tuttavia non modificare nessuna delle impostazioni predefinit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7:24:14Z</dcterms:modified>
  <cp:revision>552</cp:revision>
  <dc:subject/>
  <dc:title>Title</dc:title>
</cp:coreProperties>
</file>