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5.jpeg" ContentType="image/jpeg"/>
  <Override PartName="/ppt/media/image14.png" ContentType="image/png"/>
  <Override PartName="/ppt/media/image2.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6835-84AB-4F03-988D-29FB82DAC3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utor may need to send an email with an attachment to each participant as an example</a:t>
            </a: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1340-5B22-4D74-A196-278E1DA3A6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2FF6-DE10-4AB9-AF13-C6D2A89BD3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27CB02C-1451-451F-B6B1-11707ADBD81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74CF7C7-E373-4B67-ACA1-45600F886FC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89BB9C5-DD3B-49A7-B1C3-4826C230A62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F2832F2-7E05-4F0F-9DA3-66091830171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BEB0CEC-357E-4126-A676-FA177026804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80C323B-D6A4-4DDA-8AA4-A5949418144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B305888-3EF2-429A-8566-5DD52B22543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4BDA372-3DD6-43C5-A8EE-AF6CA75B89B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18B193B-098F-4F66-9236-57C1B4854BB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3BC1514-DAB8-4B09-B31E-A78471008C2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FC0465E-9723-4208-8199-951EAD94BE5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DDA4D9E-E54A-4779-8492-FCA1154828B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8939D0E-5297-4EDF-8FBC-3CC4B1647C2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B106FD3-2D30-4074-8428-BC27F82F483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86A15B1-8A34-4B69-B5C8-719BFF04C87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C1FC2B1-53E8-415C-BFBE-2C386524D16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F4161E1-063D-4D17-9660-E34F3439D51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4BF1CB8-BF11-4BBE-98F5-437474EEE9E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5A17BAD-4615-4C90-B485-EFDF2655944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B65D8F2-F0F8-472C-A160-21B21C6F8B9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E33A263-AA76-40BA-B85B-58A84F526AD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2685277-8D34-42F5-A859-6AC7E1DC117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A333015-B39C-4F66-8B68-B2078A88C1F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DA705D9-2BEC-4350-9565-006FF5541BE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5457086-8B18-439D-96D9-12947409E41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1D32C49-2168-48C6-9222-1133C9F978E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CF0DE1E-74BD-4CFD-8EDC-C3ABFF509C0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7FD638E-D6CF-4B47-8A41-CFCC4490EB9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0922C9D-6B8D-44C8-924B-057221EB8FC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6F95CA1-12EF-4294-A822-E5565FE3798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E467E99-F460-410A-BF85-B2DF71BBA1B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28839DD-682D-456A-9999-5503EA4B2D4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5A426CD-CDF3-4BB8-850A-1DF14C24668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FE311FB-2B0B-42A9-A0D9-069BDBA1F1F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A5D81FB-A009-4395-8746-B083B665BA1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DB5DA16-DBB6-4C84-9753-B607AE0E3E0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35CECAB-FB5F-4884-99A4-58094D6C0DD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FCA847A-8F09-40D9-91E3-ACEBD8CC424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198CF21-A4E8-4BC1-8872-795CEA233CE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12B3E8C-12CD-40FF-9ADC-64A2A1844BF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D6AB917-F8DB-4D36-BEBF-D10B72B2734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9EA5CF8-D8B8-4EA3-B105-2A46F7869D2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FF1A3BD-89B8-4113-8966-2CB8CAA014B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D6EF672-9777-46A5-A75D-21A1EE43B42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BDD1049-809E-4A74-942E-F9C586AE04C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F18369-8080-499C-8D25-25F2C6E937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46C11A-3911-48BD-AC4D-68401859E0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AFD5CD-BDCE-43BC-88F3-BFF4FFE4CF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F47951-E958-4FE0-8EE5-0B140465B7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B38668-EEE5-4C42-BB8A-8BC6FAA37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79F560-DD49-4361-81B9-7C79DF2C8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9D55E-FDD3-42C6-B16B-07A7098454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FD00F4-983E-44F2-8B01-6EF346B4D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3F5254-4155-4B8D-9E42-F3F1823740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5B1973-EFD8-4052-A6F8-BEEDB2308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42F7AE-35C4-4E7C-BD12-AC5F27E25F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F166E2-4759-4829-9098-FFDDF6775B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8D49645-4EEE-48B2-BE98-C0B870A34FE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DEAFEAB-D7D5-446E-8DED-19864328CC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726559D-56C1-4399-BC06-1E0087C9C6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AD4E8B-BD39-4C23-84BC-8E5D7F628E5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20D05CD-4EA8-4490-BAA3-55EE94F2F4A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20C7E96-3B57-466E-BE50-9C8DB69791F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A50A70-E2F0-4E02-94FE-FD71855604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3A3921E-9A02-4A5C-B99C-2A13B41945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130382-0AC6-430F-A6A9-001DB1D91C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4E077DA-F265-4BA3-9393-96B2B74B39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B7A2F57-0024-4418-818D-90B3EB3D804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16DA6E1-507C-4A1A-9E23-9751D2B696B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13E6A17-22C7-42E0-A180-9215194E3A0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BFD0B79-7659-411E-A598-AE017C18AB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FF840AF-2FA3-4C3C-BA3D-ED387DFB3C3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16C7F11-8008-41CC-86C1-0C9E39D553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36A322-AC67-406C-9FF8-4FDB27E1AB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C08A47-D5B3-428A-B74C-B103356F92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7B29DE-DF03-41A1-8A7D-4F24AC6DAD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AAB5C9-80EF-4D06-849C-5818C16E0B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39DCA1-176A-495C-8A6A-DEDE8822DB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F29467-AC42-4847-9744-FE8F6DBDB6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1C1BC3F-7CE7-411C-B849-B5266D14670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A1E3C3F-2AFA-4C45-8CC7-28D099C262C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4FC6F93-D8E4-4BAD-AF4F-0D943F91DB7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7FDB58C-0A2B-4A4E-942A-08E967CF7CE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CE3A67C-F0E7-4275-B2B8-8992E97FA32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1448A63-89D1-4744-B348-655FCC1F9E9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D2CC908-6C8F-43DE-85F1-A1522B46CFC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57AD66B-13D1-4BB6-B51A-3E079445A7D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38EB2E6-40E3-4775-A490-4B9C61C06BD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4201C0B-4765-4E17-BDDE-EE66DD2AA6A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63EAF31-554E-4087-91F1-2B1C9D6F979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5097E12-C81E-479F-B411-E51D8D3C89F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9C8E643-1FA7-43EC-ABFE-25E79BD3E56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4A81C42-B3C0-424A-A1D3-FED18B370A6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DED3F0B-A8E8-49A5-A61E-5322996A930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FA097B7-7114-4682-B01F-ADAFA7C1405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B72A2E0-7CC0-4CCC-A275-FA5A5DACB8E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AB8F99B-481C-474B-874F-8E24F9E81E7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486E682-0A97-47FE-A0C0-B29F9F5EB7A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EE47328-61BF-4C88-88D5-DAD86425D09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C396BDA-1B7E-457D-AC96-63E598F5946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2ED673F-FBB8-4BC3-A2F1-685F846650B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9739E03-1E9E-452C-8AF7-860F9C41BBD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B752A7A-FFB4-4100-82C8-1C4D4868ED2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F2989AE-3E5A-4B3C-973A-A206C52D673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62C91CA-8A28-40CA-8667-17F3F75A311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CDCBE71-612A-4B37-AB37-8DA1C6B076C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B1C6D78-3F54-4B7B-90C9-A838A9ADD2B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3084BA5-C1BE-4781-B9D6-D50A3F932A0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5DF7277-21F6-4E4E-8061-6CC35E2CF56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BFEF02E-D7F9-4FA4-9C5A-E39D4FAC50A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CC70EDB-8C9E-46DC-A2B3-2AD9059489F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E51104D-1091-4853-9F1B-DC62BDD1D03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D714880-9762-446A-BC93-E491D7E5D07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693BFEF-824A-4B02-9DA1-A510881C695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B2FA8EE-5174-47B4-89EF-1F7736CE25E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045AD34-9107-438E-B7F8-4D5E5C75424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C193E71-F578-4E38-BE90-1625295018A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5ECBF22-01E3-45DA-A737-7DFF5B496BA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4C4145A-3D27-40F0-BA11-353E40052E0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054057F-4959-447D-9A15-27926C0AF29C}"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BAA4-BE3C-4241-8624-FDCA510159F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4B42A-6FCE-40B9-97DF-84D7CD22DB4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46CE-399C-4CDF-AFE8-1C6E400BC8C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CD27-5B42-45DB-BD73-36BFAE147A7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D6E5-D98D-4EAD-A73E-388F88FF5B7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D606-5E72-443A-88C0-6B3D3174F2B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1A1E-D15B-48A2-9963-2848438EE4A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8846-BA97-43B1-AA19-847D1B9A28F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832E-F01F-4BA9-B1BA-1785B7F96B0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81E4-7F86-4567-B693-CF2132F15BA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851280" y="5084640"/>
            <a:ext cx="511344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Gestire la  </a:t>
            </a:r>
            <a:br>
              <a:rPr sz="3600"/>
            </a:br>
            <a:r>
              <a:rPr b="0" lang="it-IT" sz="3600" spc="-1" strike="noStrike">
                <a:solidFill>
                  <a:srgbClr val="000000"/>
                </a:solidFill>
                <a:latin typeface="Arial Rounded MT Bold"/>
              </a:rPr>
              <a:t>Digital Information</a:t>
            </a:r>
            <a:endParaRPr b="0" lang="en-US" sz="3600" spc="-1" strike="noStrike">
              <a:solidFill>
                <a:srgbClr val="000000"/>
              </a:solidFill>
              <a:latin typeface="Arial"/>
            </a:endParaRPr>
          </a:p>
        </p:txBody>
      </p:sp>
      <p:sp>
        <p:nvSpPr>
          <p:cNvPr id="544" name="Rectangle 1"/>
          <p:cNvSpPr/>
          <p:nvPr/>
        </p:nvSpPr>
        <p:spPr>
          <a:xfrm>
            <a:off x="539640" y="3244680"/>
            <a:ext cx="8064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Rounded MT Bold"/>
              </a:rPr>
              <a:t>Alfabetizzazione Informatica e Digita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mpio 2</a:t>
            </a:r>
            <a:endParaRPr b="0" lang="en-US" sz="4000" spc="-1" strike="noStrike">
              <a:solidFill>
                <a:srgbClr val="000000"/>
              </a:solidFill>
              <a:latin typeface="Arial"/>
            </a:endParaRPr>
          </a:p>
        </p:txBody>
      </p:sp>
      <p:sp>
        <p:nvSpPr>
          <p:cNvPr id="572" name=""/>
          <p:cNvSpPr txBox="1"/>
          <p:nvPr/>
        </p:nvSpPr>
        <p:spPr>
          <a:xfrm>
            <a:off x="347760" y="1584360"/>
            <a:ext cx="8448480" cy="4067280"/>
          </a:xfrm>
          <a:prstGeom prst="rect">
            <a:avLst/>
          </a:prstGeom>
          <a:noFill/>
          <a:ln w="0">
            <a:noFill/>
          </a:ln>
        </p:spPr>
        <p:txBody>
          <a:bodyPr anchor="t">
            <a:normAutofit fontScale="92000"/>
          </a:bodyPr>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pri questo </a:t>
            </a:r>
            <a:r>
              <a:rPr b="0" lang="hu-HU" sz="2400" spc="-1" strike="noStrike">
                <a:solidFill>
                  <a:srgbClr val="000000"/>
                </a:solidFill>
                <a:latin typeface="Arial Rounded MT Bold"/>
              </a:rPr>
              <a:t>PDF:</a:t>
            </a:r>
            <a:endParaRPr b="0" lang="en-US" sz="2400" spc="-1" strike="noStrike">
              <a:solidFill>
                <a:srgbClr val="000000"/>
              </a:solidFill>
              <a:latin typeface="Arial"/>
            </a:endParaRPr>
          </a:p>
          <a:p>
            <a:pPr marL="315360" indent="-315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a:t>
            </a:r>
            <a:endParaRPr b="0" lang="en-US" sz="2400" spc="-1" strike="noStrike">
              <a:solidFill>
                <a:srgbClr val="000000"/>
              </a:solidFill>
              <a:latin typeface="Arial"/>
            </a:endParaRPr>
          </a:p>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Sposta il cursore nella parte superiore della pagina fino a quando non vedi queste icone</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cca sulla freccia</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alva il documento sul tuo desktop</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73" name="Picture 4" descr=""/>
          <p:cNvPicPr/>
          <p:nvPr/>
        </p:nvPicPr>
        <p:blipFill>
          <a:blip r:embed="rId1"/>
          <a:stretch/>
        </p:blipFill>
        <p:spPr>
          <a:xfrm>
            <a:off x="6362640" y="3828960"/>
            <a:ext cx="2289240" cy="727200"/>
          </a:xfrm>
          <a:prstGeom prst="rect">
            <a:avLst/>
          </a:prstGeom>
          <a:ln w="0">
            <a:noFill/>
          </a:ln>
        </p:spPr>
      </p:pic>
      <p:pic>
        <p:nvPicPr>
          <p:cNvPr id="574" name="Picture 1" descr=""/>
          <p:cNvPicPr/>
          <p:nvPr/>
        </p:nvPicPr>
        <p:blipFill>
          <a:blip r:embed="rId2"/>
          <a:stretch/>
        </p:blipFill>
        <p:spPr>
          <a:xfrm>
            <a:off x="6384960" y="5043600"/>
            <a:ext cx="2319480" cy="60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sempio 2 (Pt.2)</a:t>
            </a:r>
            <a:endParaRPr b="0" lang="en-US" sz="4400" spc="-1" strike="noStrike">
              <a:solidFill>
                <a:srgbClr val="000000"/>
              </a:solidFill>
              <a:latin typeface="Arial"/>
            </a:endParaRPr>
          </a:p>
        </p:txBody>
      </p:sp>
      <p:sp>
        <p:nvSpPr>
          <p:cNvPr id="5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Vedi apparire queste piccole icone</a:t>
            </a:r>
            <a:r>
              <a:rPr b="0" lang="en-IE"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Se sì, clicca </a:t>
            </a:r>
            <a:r>
              <a:rPr b="0" lang="it-IT" sz="2800" spc="-1" strike="noStrike">
                <a:solidFill>
                  <a:srgbClr val="000000"/>
                </a:solidFill>
                <a:latin typeface="Arial Rounded MT Bold"/>
              </a:rPr>
              <a:t>dove leggi </a:t>
            </a:r>
            <a:br>
              <a:rPr sz="2800"/>
            </a:br>
            <a:r>
              <a:rPr b="0" lang="it-IT" sz="2800" spc="-1" strike="noStrike">
                <a:solidFill>
                  <a:srgbClr val="000000"/>
                </a:solidFill>
                <a:latin typeface="Arial Rounded MT Bold"/>
              </a:rPr>
              <a:t>«Salva con nome» e </a:t>
            </a:r>
            <a:br>
              <a:rPr sz="2800"/>
            </a:br>
            <a:r>
              <a:rPr b="0" lang="it-IT" sz="2800" spc="-1" strike="noStrike">
                <a:solidFill>
                  <a:srgbClr val="000000"/>
                </a:solidFill>
                <a:latin typeface="Arial Rounded MT Bold"/>
              </a:rPr>
              <a:t>aspetta per la finestra</a:t>
            </a:r>
            <a:br>
              <a:rPr sz="2800"/>
            </a:br>
            <a:r>
              <a:rPr b="0" lang="it-IT" sz="2800" spc="-1" strike="noStrike">
                <a:solidFill>
                  <a:srgbClr val="000000"/>
                </a:solidFill>
                <a:latin typeface="Arial Rounded MT Bold"/>
              </a:rPr>
              <a:t>come qui a destra</a:t>
            </a:r>
            <a:endParaRPr b="0" lang="en-US" sz="2800" spc="-1" strike="noStrike">
              <a:solidFill>
                <a:srgbClr val="000000"/>
              </a:solidFill>
              <a:latin typeface="Arial"/>
            </a:endParaRPr>
          </a:p>
        </p:txBody>
      </p:sp>
      <p:pic>
        <p:nvPicPr>
          <p:cNvPr id="577" name="Picture 4" descr=""/>
          <p:cNvPicPr/>
          <p:nvPr/>
        </p:nvPicPr>
        <p:blipFill>
          <a:blip r:embed="rId1"/>
          <a:stretch/>
        </p:blipFill>
        <p:spPr>
          <a:xfrm>
            <a:off x="2627280" y="2620800"/>
            <a:ext cx="2621160" cy="1089360"/>
          </a:xfrm>
          <a:prstGeom prst="rect">
            <a:avLst/>
          </a:prstGeom>
          <a:ln w="0">
            <a:noFill/>
          </a:ln>
        </p:spPr>
      </p:pic>
      <p:pic>
        <p:nvPicPr>
          <p:cNvPr id="578" name="Picture 3" descr=""/>
          <p:cNvPicPr/>
          <p:nvPr/>
        </p:nvPicPr>
        <p:blipFill>
          <a:blip r:embed="rId2"/>
          <a:stretch/>
        </p:blipFill>
        <p:spPr>
          <a:xfrm>
            <a:off x="5316480" y="3429000"/>
            <a:ext cx="3143160" cy="2376360"/>
          </a:xfrm>
          <a:prstGeom prst="rect">
            <a:avLst/>
          </a:prstGeom>
          <a:ln w="0">
            <a:noFill/>
          </a:ln>
        </p:spPr>
      </p:pic>
      <p:sp>
        <p:nvSpPr>
          <p:cNvPr id="579" name="Flowchart: Connector 5"/>
          <p:cNvSpPr/>
          <p:nvPr/>
        </p:nvSpPr>
        <p:spPr>
          <a:xfrm>
            <a:off x="4356000" y="2763720"/>
            <a:ext cx="360360" cy="37800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Straight Connector 7"/>
          <p:cNvSpPr/>
          <p:nvPr/>
        </p:nvSpPr>
        <p:spPr>
          <a:xfrm>
            <a:off x="4716360" y="2924280"/>
            <a:ext cx="1440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TextBox 8"/>
          <p:cNvSpPr/>
          <p:nvPr/>
        </p:nvSpPr>
        <p:spPr>
          <a:xfrm>
            <a:off x="5791320" y="2620800"/>
            <a:ext cx="1511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Rounded MT Bold"/>
              </a:rPr>
              <a:t>“</a:t>
            </a:r>
            <a:r>
              <a:rPr b="0" lang="en-IE" sz="1800" spc="-1" strike="noStrike">
                <a:solidFill>
                  <a:srgbClr val="ff0000"/>
                </a:solidFill>
                <a:latin typeface="Arial Rounded MT Bold"/>
              </a:rPr>
              <a:t>Sal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L’allegato di una mail </a:t>
            </a:r>
            <a:endParaRPr b="0" lang="en-US" sz="4400" spc="-1" strike="noStrike">
              <a:solidFill>
                <a:srgbClr val="000000"/>
              </a:solidFill>
              <a:latin typeface="Arial"/>
            </a:endParaRPr>
          </a:p>
        </p:txBody>
      </p:sp>
      <p:sp>
        <p:nvSpPr>
          <p:cNvPr id="583" name=""/>
          <p:cNvSpPr txBox="1"/>
          <p:nvPr/>
        </p:nvSpPr>
        <p:spPr>
          <a:xfrm>
            <a:off x="457200" y="1600200"/>
            <a:ext cx="8362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Ti capiterà di dovere spedire per mail un documento in allegato al messaggio stesso</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Sulla barra proprio sopra al corpo del testo vedrai una piccola icona a forma di graffett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liccaci sopra e aspetta la finestra di dialogo</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ome fai a sapere se una mail che ti è stata mandata contiene o meno un allegato?</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L’allegato di una mail</a:t>
            </a:r>
            <a:endParaRPr b="0" lang="en-US" sz="4400" spc="-1" strike="noStrike">
              <a:solidFill>
                <a:srgbClr val="000000"/>
              </a:solidFill>
              <a:latin typeface="Arial"/>
            </a:endParaRPr>
          </a:p>
        </p:txBody>
      </p:sp>
      <p:sp>
        <p:nvSpPr>
          <p:cNvPr id="5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Mail con allegato</a:t>
            </a:r>
            <a:r>
              <a:rPr b="0" lang="hu-HU" sz="3200" spc="-1" strike="noStrike">
                <a:solidFill>
                  <a:srgbClr val="000000"/>
                </a:solidFill>
                <a:latin typeface="Arial Rounded MT Bold"/>
              </a:rPr>
              <a:t>:</a:t>
            </a:r>
            <a:r>
              <a:rPr b="0" lang="en-IE" sz="3200" spc="-1" strike="noStrike">
                <a:solidFill>
                  <a:srgbClr val="000000"/>
                </a:solidFill>
                <a:latin typeface="Arial Rounded MT Bold"/>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Mail senza allegato</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6" name="Picture 4" descr=""/>
          <p:cNvPicPr/>
          <p:nvPr/>
        </p:nvPicPr>
        <p:blipFill>
          <a:blip r:embed="rId1"/>
          <a:stretch/>
        </p:blipFill>
        <p:spPr>
          <a:xfrm>
            <a:off x="1187280" y="2421000"/>
            <a:ext cx="4889520" cy="1008000"/>
          </a:xfrm>
          <a:prstGeom prst="rect">
            <a:avLst/>
          </a:prstGeom>
          <a:ln w="0">
            <a:noFill/>
          </a:ln>
        </p:spPr>
      </p:pic>
      <p:sp>
        <p:nvSpPr>
          <p:cNvPr id="587" name="Straight Connector 6"/>
          <p:cNvSpPr/>
          <p:nvPr/>
        </p:nvSpPr>
        <p:spPr>
          <a:xfrm>
            <a:off x="5867280" y="2708280"/>
            <a:ext cx="51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TextBox 7"/>
          <p:cNvSpPr/>
          <p:nvPr/>
        </p:nvSpPr>
        <p:spPr>
          <a:xfrm>
            <a:off x="6386400" y="2455920"/>
            <a:ext cx="1425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Aicona di allegato</a:t>
            </a:r>
            <a:endParaRPr b="0" lang="en-US" sz="1800" spc="-1" strike="noStrike">
              <a:solidFill>
                <a:srgbClr val="000000"/>
              </a:solidFill>
              <a:latin typeface="Arial"/>
            </a:endParaRPr>
          </a:p>
        </p:txBody>
      </p:sp>
      <p:pic>
        <p:nvPicPr>
          <p:cNvPr id="589" name="Picture 8" descr=""/>
          <p:cNvPicPr/>
          <p:nvPr/>
        </p:nvPicPr>
        <p:blipFill>
          <a:blip r:embed="rId2"/>
          <a:stretch/>
        </p:blipFill>
        <p:spPr>
          <a:xfrm>
            <a:off x="1692360" y="4797360"/>
            <a:ext cx="4535280" cy="89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sempio 3 </a:t>
            </a:r>
            <a:endParaRPr b="0" lang="en-US" sz="4400" spc="-1" strike="noStrike">
              <a:solidFill>
                <a:srgbClr val="000000"/>
              </a:solidFill>
              <a:latin typeface="Arial"/>
            </a:endParaRPr>
          </a:p>
        </p:txBody>
      </p:sp>
      <p:sp>
        <p:nvSpPr>
          <p:cNvPr id="5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Prova a cercare tra le mail ricevute una che contenga un file allegato</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Apri la mail e salva il file su desktop</a:t>
            </a:r>
            <a:endParaRPr b="0" lang="en-US" sz="3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2" name="Picture 3" descr=""/>
          <p:cNvPicPr/>
          <p:nvPr/>
        </p:nvPicPr>
        <p:blipFill>
          <a:blip r:embed="rId1"/>
          <a:stretch/>
        </p:blipFill>
        <p:spPr>
          <a:xfrm>
            <a:off x="2771640" y="3716280"/>
            <a:ext cx="3230640" cy="808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artelle e file</a:t>
            </a:r>
            <a:endParaRPr b="0" lang="en-US" sz="4400" spc="-1" strike="noStrike">
              <a:solidFill>
                <a:srgbClr val="000000"/>
              </a:solidFill>
              <a:latin typeface="Arial"/>
            </a:endParaRPr>
          </a:p>
        </p:txBody>
      </p:sp>
      <p:sp>
        <p:nvSpPr>
          <p:cNvPr id="59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n base al loro contenuto, conviene organizzare i propri file per cartell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Premi il tasto destro del mouse, seleziona ‘nuovo’ e poi ‘cartella’, nominala e salva i file al suo interno</a:t>
            </a:r>
            <a:endParaRPr b="0" lang="en-US" sz="3200" spc="-1" strike="noStrike">
              <a:solidFill>
                <a:srgbClr val="000000"/>
              </a:solidFill>
              <a:latin typeface="Arial"/>
            </a:endParaRPr>
          </a:p>
        </p:txBody>
      </p:sp>
      <p:pic>
        <p:nvPicPr>
          <p:cNvPr id="595" name="Picture 3" descr=""/>
          <p:cNvPicPr/>
          <p:nvPr/>
        </p:nvPicPr>
        <p:blipFill>
          <a:blip r:embed="rId1"/>
          <a:stretch/>
        </p:blipFill>
        <p:spPr>
          <a:xfrm>
            <a:off x="3944880" y="4508640"/>
            <a:ext cx="1254240" cy="110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Gestire file e cartelle</a:t>
            </a:r>
            <a:endParaRPr b="0" lang="en-US" sz="4400" spc="-1" strike="noStrike">
              <a:solidFill>
                <a:srgbClr val="000000"/>
              </a:solidFill>
              <a:latin typeface="Arial"/>
            </a:endParaRPr>
          </a:p>
        </p:txBody>
      </p:sp>
      <p:sp>
        <p:nvSpPr>
          <p:cNvPr id="59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Attraverso una cartella puoi creare uno spazio di archiviazione specifico per determinati contenuti, ad es.: bollette, fatture, etc.</a:t>
            </a:r>
            <a:endParaRPr b="0" lang="en-US" sz="3200" spc="-1" strike="noStrike">
              <a:solidFill>
                <a:srgbClr val="000000"/>
              </a:solidFill>
              <a:latin typeface="Arial"/>
            </a:endParaRPr>
          </a:p>
          <a:p>
            <a:pPr marL="339480" indent="-3394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Per inserire un file all’interno di una cartella puoi semplicemente trascinarlo al suo interno o salvandolo selezionando il percorso di quella cartel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Cartelle su cartelle…</a:t>
            </a:r>
            <a:endParaRPr b="0" lang="en-US" sz="4400" spc="-1" strike="noStrike">
              <a:solidFill>
                <a:srgbClr val="000000"/>
              </a:solidFill>
              <a:latin typeface="Arial"/>
            </a:endParaRPr>
          </a:p>
        </p:txBody>
      </p:sp>
      <p:sp>
        <p:nvSpPr>
          <p:cNvPr id="599" name=""/>
          <p:cNvSpPr txBox="1"/>
          <p:nvPr/>
        </p:nvSpPr>
        <p:spPr>
          <a:xfrm>
            <a:off x="457200" y="1417320"/>
            <a:ext cx="8229600" cy="470844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Puoi creare una cartella anche «dentro» file già esistenti nel PC. In tal caso non sarà più visibile sul desktop ma nel percorso di archiviazione cha hai dato alla tua nuova cartell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Ecco un video che ti spiega come:</a:t>
            </a:r>
            <a:endParaRPr b="0" lang="en-US" sz="32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https://www.youtube.com/watch?v=kjKWX5ANFc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In conclusione </a:t>
            </a:r>
            <a:endParaRPr b="0" lang="en-US" sz="4400" spc="-1" strike="noStrike">
              <a:solidFill>
                <a:srgbClr val="000000"/>
              </a:solidFill>
              <a:latin typeface="Arial"/>
            </a:endParaRPr>
          </a:p>
        </p:txBody>
      </p:sp>
      <p:sp>
        <p:nvSpPr>
          <p:cNvPr id="601" name=""/>
          <p:cNvSpPr txBox="1"/>
          <p:nvPr/>
        </p:nvSpPr>
        <p:spPr>
          <a:xfrm>
            <a:off x="457200" y="170028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bbiamo brevemente esplorato</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osa sia l’informazione digitale</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ome gestire l’informazione digitale</a:t>
            </a:r>
            <a:br>
              <a:rPr sz="2800"/>
            </a:br>
            <a:r>
              <a:rPr b="0" lang="it-IT" sz="2800" spc="-1" strike="noStrike">
                <a:solidFill>
                  <a:srgbClr val="000000"/>
                </a:solidFill>
                <a:latin typeface="Arial Rounded MT Bold"/>
              </a:rPr>
              <a:t>- ‘segnalibro’ e favoriti</a:t>
            </a:r>
            <a:br>
              <a:rPr sz="2800"/>
            </a:br>
            <a:r>
              <a:rPr b="0" lang="it-IT" sz="2800" spc="-1" strike="noStrike">
                <a:solidFill>
                  <a:srgbClr val="000000"/>
                </a:solidFill>
                <a:latin typeface="Arial Rounded MT Bold"/>
              </a:rPr>
              <a:t>- salvare e scaricare documenti</a:t>
            </a:r>
            <a:br>
              <a:rPr sz="2800"/>
            </a:br>
            <a:r>
              <a:rPr b="0" lang="it-IT" sz="2800" spc="-1" strike="noStrike">
                <a:solidFill>
                  <a:srgbClr val="000000"/>
                </a:solidFill>
                <a:latin typeface="Arial Rounded MT Bold"/>
              </a:rPr>
              <a:t>- file e cartelle</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iettivi</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coprirai:  </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he cos’è la digital information</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Come la si gestisc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L’utilizzo dei ‘segna libro’ (bookmarks) e dei preferiti</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organizzazione dei tuoi file in archive e cart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Digital Information</a:t>
            </a:r>
            <a:endParaRPr b="0" lang="en-US" sz="4400" spc="-1" strike="noStrike">
              <a:solidFill>
                <a:srgbClr val="000000"/>
              </a:solidFill>
              <a:latin typeface="Arial"/>
            </a:endParaRPr>
          </a:p>
        </p:txBody>
      </p:sp>
      <p:sp>
        <p:nvSpPr>
          <p:cNvPr id="54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Si chiama Digital Information tutta quell’informazione che passa attraverso e viene processata nella realtà digital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Ad essa, più che Informazione, ci si riferisce come ‘Dati’</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È Digital Information un sito, una pagina web, un’immagine, un video – tutto ciò che ha motivo di esistere on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Rounded MT Bold"/>
              </a:rPr>
              <a:t>Gestire la Digital Information</a:t>
            </a:r>
            <a:endParaRPr b="0" lang="en-US" sz="4400" spc="-1" strike="noStrike">
              <a:solidFill>
                <a:srgbClr val="000000"/>
              </a:solidFill>
              <a:latin typeface="Arial"/>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Non tutti </a:t>
            </a:r>
            <a:r>
              <a:rPr b="0" lang="it-IT" sz="3200" spc="-1" strike="noStrike">
                <a:solidFill>
                  <a:srgbClr val="000000"/>
                </a:solidFill>
                <a:latin typeface="Arial Rounded MT Bold"/>
              </a:rPr>
              <a:t>i Dati di cui sarai destinatario sono effettivamente rilevanti per t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l processo di scrematura è strettamente soggettivo. Sarai tu a decidere di cosa hai bisogno e di cosa no</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Gestire la Digital Information</a:t>
            </a:r>
            <a:endParaRPr b="0" lang="en-US" sz="4400" spc="-1" strike="noStrike">
              <a:solidFill>
                <a:srgbClr val="000000"/>
              </a:solidFill>
              <a:latin typeface="Arial"/>
            </a:endParaRPr>
          </a:p>
        </p:txBody>
      </p:sp>
      <p:sp>
        <p:nvSpPr>
          <p:cNvPr id="5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Ricordi ad esempio di questo grafico?</a:t>
            </a:r>
            <a:endParaRPr b="0" lang="en-US" sz="3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Rounded MT Bold"/>
              </a:rPr>
              <a:t>Source: visualcapitalist.com</a:t>
            </a:r>
            <a:endParaRPr b="0" lang="en-US" sz="1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3" name="Picture 4" descr=""/>
          <p:cNvPicPr/>
          <p:nvPr/>
        </p:nvPicPr>
        <p:blipFill>
          <a:blip r:embed="rId1"/>
          <a:stretch/>
        </p:blipFill>
        <p:spPr>
          <a:xfrm>
            <a:off x="1835280" y="2421000"/>
            <a:ext cx="4770360" cy="360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Gestire la Digital Information</a:t>
            </a:r>
            <a:endParaRPr b="0" lang="en-US" sz="3600" spc="-1" strike="noStrike">
              <a:solidFill>
                <a:srgbClr val="000000"/>
              </a:solidFill>
              <a:latin typeface="Arial"/>
            </a:endParaRPr>
          </a:p>
        </p:txBody>
      </p:sp>
      <p:sp>
        <p:nvSpPr>
          <p:cNvPr id="555" name=""/>
          <p:cNvSpPr txBox="1"/>
          <p:nvPr/>
        </p:nvSpPr>
        <p:spPr>
          <a:xfrm>
            <a:off x="457200" y="1700280"/>
            <a:ext cx="8229600" cy="44258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Come collegarti velocemente ad una pagina web che frequenti assiduamente?</a:t>
            </a:r>
            <a:endParaRPr b="0" lang="en-US" sz="32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i vengono in soccorso </a:t>
            </a:r>
            <a:r>
              <a:rPr b="1" lang="it-IT" sz="2400" spc="-1" strike="noStrike">
                <a:solidFill>
                  <a:srgbClr val="000000"/>
                </a:solidFill>
                <a:latin typeface="Arial Rounded MT Bold"/>
              </a:rPr>
              <a:t>Bookmarks</a:t>
            </a:r>
            <a:r>
              <a:rPr b="0" lang="it-IT" sz="2400" spc="-1" strike="noStrike">
                <a:solidFill>
                  <a:srgbClr val="000000"/>
                </a:solidFill>
                <a:latin typeface="Arial Rounded MT Bold"/>
              </a:rPr>
              <a:t> e l’opzione </a:t>
            </a:r>
            <a:r>
              <a:rPr b="1" lang="it-IT" sz="2400" spc="-1" strike="noStrike">
                <a:solidFill>
                  <a:srgbClr val="000000"/>
                </a:solidFill>
                <a:latin typeface="Arial Rounded MT Bold"/>
              </a:rPr>
              <a:t>favoriti </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Navigando dal tuo browser ti accorgerai di una piccola stella vicino la barra dell’URL</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liccando sulla stella ricorderai al tuo sistema di navigazione di salvarti quell’esatta pagina tra i tuoi preferit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mpio 1</a:t>
            </a:r>
            <a:endParaRPr b="0" lang="en-US" sz="4000" spc="-1" strike="noStrike">
              <a:solidFill>
                <a:srgbClr val="000000"/>
              </a:solidFill>
              <a:latin typeface="Arial"/>
            </a:endParaRPr>
          </a:p>
        </p:txBody>
      </p:sp>
      <p:sp>
        <p:nvSpPr>
          <p:cNvPr id="557" name=""/>
          <p:cNvSpPr txBox="1"/>
          <p:nvPr/>
        </p:nvSpPr>
        <p:spPr>
          <a:xfrm>
            <a:off x="457200" y="1268280"/>
            <a:ext cx="8229600" cy="4525920"/>
          </a:xfrm>
          <a:prstGeom prst="rect">
            <a:avLst/>
          </a:prstGeom>
          <a:noFill/>
          <a:ln w="0">
            <a:noFill/>
          </a:ln>
        </p:spPr>
        <p:txBody>
          <a:bodyPr anchor="t">
            <a:normAutofit fontScale="95000"/>
          </a:bodyPr>
          <a:p>
            <a:pPr marL="325800" indent="-3258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pri Google:</a:t>
            </a:r>
            <a:endParaRPr b="0" lang="en-US" sz="2800" spc="-1" strike="noStrike">
              <a:solidFill>
                <a:srgbClr val="000000"/>
              </a:solidFill>
              <a:latin typeface="Arial"/>
            </a:endParaRPr>
          </a:p>
          <a:p>
            <a:pPr marL="325800" indent="-3258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Accedi a qualunque pagina di tuo interesse e punta con il cursore alla stella dei favoriti</a:t>
            </a:r>
            <a:endParaRPr b="0" lang="en-US" sz="2800" spc="-1" strike="noStrike">
              <a:solidFill>
                <a:srgbClr val="000000"/>
              </a:solidFill>
              <a:latin typeface="Arial"/>
            </a:endParaRPr>
          </a:p>
          <a:p>
            <a:pPr marL="325800" indent="-3258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hiudi il browser e riaprilo di nuovo</a:t>
            </a:r>
            <a:endParaRPr b="0" lang="en-US" sz="2800" spc="-1" strike="noStrike">
              <a:solidFill>
                <a:srgbClr val="000000"/>
              </a:solidFill>
              <a:latin typeface="Arial"/>
            </a:endParaRPr>
          </a:p>
          <a:p>
            <a:pPr marL="325800" indent="-3258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Se vicino la barra dell’URL vedi una piccola icona che ti rimanda al sito o alla pagina appena ‘favorita’ hai concluso con successo l’operazione</a:t>
            </a:r>
            <a:endParaRPr b="0" lang="en-US" sz="2800" spc="-1" strike="noStrike">
              <a:solidFill>
                <a:srgbClr val="000000"/>
              </a:solidFill>
              <a:latin typeface="Arial"/>
            </a:endParaRPr>
          </a:p>
        </p:txBody>
      </p:sp>
      <p:pic>
        <p:nvPicPr>
          <p:cNvPr id="558" name="Picture 2" descr=""/>
          <p:cNvPicPr/>
          <p:nvPr/>
        </p:nvPicPr>
        <p:blipFill>
          <a:blip r:embed="rId1"/>
          <a:stretch/>
        </p:blipFill>
        <p:spPr>
          <a:xfrm>
            <a:off x="2771640" y="1773360"/>
            <a:ext cx="3319560" cy="105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Documenti e Internet</a:t>
            </a:r>
            <a:endParaRPr b="0" lang="en-US" sz="4400" spc="-1" strike="noStrike">
              <a:solidFill>
                <a:srgbClr val="000000"/>
              </a:solidFill>
              <a:latin typeface="Arial"/>
            </a:endParaRPr>
          </a:p>
        </p:txBody>
      </p:sp>
      <p:sp>
        <p:nvSpPr>
          <p:cNvPr id="560" name=""/>
          <p:cNvSpPr txBox="1"/>
          <p:nvPr/>
        </p:nvSpPr>
        <p:spPr>
          <a:xfrm>
            <a:off x="457200" y="1700280"/>
            <a:ext cx="8229600" cy="417672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La maggior parte dei documenti che trovi in rete sono in formato PDF. Qui di seguito un esempio:</a:t>
            </a:r>
            <a:endParaRPr b="0" lang="en-US" sz="2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 </a:t>
            </a:r>
            <a:endParaRPr b="0" lang="en-US" sz="24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Normalmente non è sempre possibile convertire il formato di un file PDF – soprattutto senza perdere la formattazione original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Molto più facile invece è salvarlo e/o stamparlo</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Salvare un document da Internet</a:t>
            </a:r>
            <a:endParaRPr b="0" lang="en-US" sz="4000" spc="-1" strike="noStrike">
              <a:solidFill>
                <a:srgbClr val="000000"/>
              </a:solidFill>
              <a:latin typeface="Arial"/>
            </a:endParaRPr>
          </a:p>
        </p:txBody>
      </p:sp>
      <p:sp>
        <p:nvSpPr>
          <p:cNvPr id="562" name=""/>
          <p:cNvSpPr txBox="1"/>
          <p:nvPr/>
        </p:nvSpPr>
        <p:spPr>
          <a:xfrm>
            <a:off x="457200" y="1600200"/>
            <a:ext cx="8229600" cy="465624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Prima di tutto assicurati che la tua stampante funzioni e che sia collegata al PC</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Quando apri un file PDF, in altro a destra trovi rispettivamente l’icona di salvataggio e quella di stampa come indicate in figur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3" name="Picture 3" descr=""/>
          <p:cNvPicPr/>
          <p:nvPr/>
        </p:nvPicPr>
        <p:blipFill>
          <a:blip r:embed="rId1"/>
          <a:stretch/>
        </p:blipFill>
        <p:spPr>
          <a:xfrm>
            <a:off x="1608120" y="4272120"/>
            <a:ext cx="3311640" cy="969840"/>
          </a:xfrm>
          <a:prstGeom prst="rect">
            <a:avLst/>
          </a:prstGeom>
          <a:ln w="0">
            <a:noFill/>
          </a:ln>
        </p:spPr>
      </p:pic>
      <p:sp>
        <p:nvSpPr>
          <p:cNvPr id="564" name="TextBox 4"/>
          <p:cNvSpPr/>
          <p:nvPr/>
        </p:nvSpPr>
        <p:spPr>
          <a:xfrm>
            <a:off x="5873760" y="4116240"/>
            <a:ext cx="23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Rounded MT Bold"/>
              </a:rPr>
              <a:t>Stampa</a:t>
            </a:r>
            <a:endParaRPr b="0" lang="en-US" sz="2400" spc="-1" strike="noStrike">
              <a:solidFill>
                <a:srgbClr val="000000"/>
              </a:solidFill>
              <a:latin typeface="Arial"/>
            </a:endParaRPr>
          </a:p>
        </p:txBody>
      </p:sp>
      <p:sp>
        <p:nvSpPr>
          <p:cNvPr id="565" name="TextBox 5"/>
          <p:cNvSpPr/>
          <p:nvPr/>
        </p:nvSpPr>
        <p:spPr>
          <a:xfrm>
            <a:off x="5880240" y="489096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Rounded MT Bold"/>
              </a:rPr>
              <a:t>Download</a:t>
            </a:r>
            <a:endParaRPr b="0" lang="en-US" sz="2400" spc="-1" strike="noStrike">
              <a:solidFill>
                <a:srgbClr val="000000"/>
              </a:solidFill>
              <a:latin typeface="Arial"/>
            </a:endParaRPr>
          </a:p>
        </p:txBody>
      </p:sp>
      <p:sp>
        <p:nvSpPr>
          <p:cNvPr id="566" name="Straight Connector 7"/>
          <p:cNvSpPr/>
          <p:nvPr/>
        </p:nvSpPr>
        <p:spPr>
          <a:xfrm>
            <a:off x="4067280" y="4581360"/>
            <a:ext cx="1944720" cy="493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Straight Connector 9"/>
          <p:cNvSpPr/>
          <p:nvPr/>
        </p:nvSpPr>
        <p:spPr>
          <a:xfrm flipV="1">
            <a:off x="4716360" y="4346640"/>
            <a:ext cx="1157400" cy="139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8" name="Picture 1" descr=""/>
          <p:cNvPicPr/>
          <p:nvPr/>
        </p:nvPicPr>
        <p:blipFill>
          <a:blip r:embed="rId2"/>
          <a:stretch/>
        </p:blipFill>
        <p:spPr>
          <a:xfrm>
            <a:off x="958680" y="5307120"/>
            <a:ext cx="649440" cy="780840"/>
          </a:xfrm>
          <a:prstGeom prst="rect">
            <a:avLst/>
          </a:prstGeom>
          <a:ln w="0">
            <a:noFill/>
          </a:ln>
        </p:spPr>
      </p:pic>
      <p:sp>
        <p:nvSpPr>
          <p:cNvPr id="569" name="TextBox 3"/>
          <p:cNvSpPr/>
          <p:nvPr/>
        </p:nvSpPr>
        <p:spPr>
          <a:xfrm>
            <a:off x="2109960" y="533232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Rounded MT Bold"/>
              </a:rPr>
              <a:t>“</a:t>
            </a:r>
            <a:r>
              <a:rPr b="0" lang="en-IE" sz="1800" spc="-1" strike="noStrike">
                <a:solidFill>
                  <a:srgbClr val="ff0000"/>
                </a:solidFill>
                <a:latin typeface="Arial Rounded MT Bold"/>
              </a:rPr>
              <a:t>Salva”</a:t>
            </a:r>
            <a:endParaRPr b="0" lang="en-US" sz="1800" spc="-1" strike="noStrike">
              <a:solidFill>
                <a:srgbClr val="000000"/>
              </a:solidFill>
              <a:latin typeface="Arial"/>
            </a:endParaRPr>
          </a:p>
        </p:txBody>
      </p:sp>
      <p:sp>
        <p:nvSpPr>
          <p:cNvPr id="570" name="Straight Connector 5"/>
          <p:cNvSpPr/>
          <p:nvPr/>
        </p:nvSpPr>
        <p:spPr>
          <a:xfrm flipV="1">
            <a:off x="1608120" y="5516640"/>
            <a:ext cx="501840" cy="180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riccardo di marco</cp:lastModifiedBy>
  <dcterms:modified xsi:type="dcterms:W3CDTF">2020-01-15T19:41:45Z</dcterms:modified>
  <cp:revision>508</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7654CDF59AFAF489E182EF087477ECD</vt:lpwstr>
  </property>
  <property fmtid="{D5CDD505-2E9C-101B-9397-08002B2CF9AE}" pid="3" name="SharedWithUsers">
    <vt:lpwstr>6;#Michael Kenny;#12;#Sinead Hyland;#15;#T Farrell</vt:lpwstr>
  </property>
  <property fmtid="{D5CDD505-2E9C-101B-9397-08002B2CF9AE}" pid="4" name="display_urn:schemas-microsoft-com:office:office#SharedWithUsers">
    <vt:lpwstr>Michael Kenny;Sinead Hyland;T Farrell</vt:lpwstr>
  </property>
</Properties>
</file>