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10.jpeg" ContentType="image/jpeg"/>
  <Override PartName="/ppt/media/image6.png" ContentType="image/png"/>
  <Override PartName="/ppt/media/image7.png" ContentType="image/png"/>
  <Override PartName="/ppt/media/image8.png" ContentType="image/png"/>
  <Override PartName="/ppt/media/image11.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2EE3B92-DB23-47D3-92ED-12BCB9044B8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B3445DC-9295-41C8-960C-E5981101B27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635D615-C5CB-4A5F-B510-EC059A88BB1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4DCFD43-A543-4DFC-8198-3AA1244043A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BF844C7-49B1-40D7-9528-EDEA3249C74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A4F56F1-1F75-45D8-9E34-81285FDF32C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551F83B-3B23-4FB6-8F4B-666F856AE87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0C004EE-D81F-4366-937D-C6E4CE883EE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15D04E0-D9D8-4B7F-A8B3-2CC5663DD6B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4FAF6A7-9ADD-45E7-B4B9-392FDDBF4BE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D4EE070-0C3F-4C6F-867F-B6FC998B1F2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41C10FF-0BDA-414D-84F2-25B9A272754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E04FEFE-A1C1-4BD2-AF32-F7F42CE7A5C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2BF7AF7-06D8-4C35-ACF4-13E8E72652A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F55D945-0995-427D-A80C-F918D5A3BD5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26FDEFE-CE97-4479-BA59-FDD4E88AC19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58EBD1E-FE88-4256-9C46-0FD838D97D1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98592C5-35B6-4C64-A6F4-ED0A3AB1984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FDBD0D1-DB66-4FE1-9434-53CB5D50757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67C8D59-0C9C-4511-9A1B-AF4011E475D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C37363A-CA59-4AC9-9F2C-8E29FFFE774B}"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1C7FBC4-176A-4D48-9C2D-1D6CC772DD6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6981647-756F-4A1E-91FB-35631797816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EDAB627-4A58-460D-8DA1-959DE09C815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709B6D9-BF13-49AF-82F9-A19BC82B4C9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5A8FB0E-A000-4E89-9390-58F236B7AF3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DFE10F2-E458-4392-8DDF-8BC4AA96C8A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97899EF-90C9-4E38-8AB6-7AF4D5A5F09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E09FB9A-4D2B-44B1-83BF-6FBC56BB2D3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F7C86EB-4741-40D6-A629-1F1C26CB245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C3BAA75-A33C-4AD5-8707-0D8B6684A1C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29B383F-DC7D-4523-B919-F100264F2EC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E485039-2448-4F53-A770-8F32CB0F9A0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EED3B20-4E4F-4664-A746-DACB888A3BB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B6EA3DC-7171-499D-A6E8-89A2EECA656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26AA6ED-7309-4918-BB54-D0F1AC5A962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E432D6A-A1D7-4B0A-AA63-B4FFEDE3FFD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9C9EE90-4B30-48DE-89BB-8D38E2364B6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FB4913B-36B2-40A4-96BC-B3B00184038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7948856-5B3F-46D7-B0F0-67F5C5315CE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3B7FB14-6A02-484A-B86C-CCAD6C7429F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95B609F-8B79-4BE6-A385-2B2D4B26EAD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15D96BB-FAF4-4C1E-83ED-8829F66DFEB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1333EDFA-1D1F-47A8-A842-00B0FBAC586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9A2279C-1019-4705-9491-9C5443E6540F}"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947A7B-2829-4D33-8E6E-4014076780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FDDD6E-97E6-4A72-84EB-58A518A89A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0E1831-F15E-40A1-824C-7487F12D32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64F887-B9EE-49EB-BC2B-B19D4AB9F3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B64760-B207-4606-BB55-F37417218E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112863-B37E-4F9D-9A82-88DCF2412C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ACC1EE-0696-4B1D-BB0A-F84EB829BC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4BFC9E-1271-4995-87CD-F1D3EF94AE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C61F3C-42D7-4A39-9829-FA1CA187D6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4F3355-0D6F-43E5-B7A1-D79292EE80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30F48B-7B88-42B2-B86E-9A903B472B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4C8CFF-9FD5-450B-81EA-2E4CF7F5EF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A33A44C-F817-478C-AE73-14B745F0836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ACE8933-A401-4B17-85FB-3852449569C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E312D30-AE2F-49CB-A5CC-2C49BFA0CE9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36E94E7-0BE8-40F9-9436-4363DFB6213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C410BFF-A1E5-4012-BD6A-E1EEA78D4CE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A8444C0-4395-42F0-936A-CC280DD3F2E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2535B14-E263-45D5-A526-36DA6797F3E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963D830-216D-4346-AFEA-B546D814ACB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0D6D06A-761C-438E-9B05-BDD383F5AE5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733EDBB-F920-4471-BB9A-61F7E418C6D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D6BD95A-B1B5-4ECF-B5E9-356343E223B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42B17F5-0F3E-4F57-B196-84DE499493C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4CA70D9-6596-4F10-978F-249207DC034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7C1F144-057B-44CB-B1D0-F8CDD59D2EF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7DFDEF1-6960-4795-8403-6D9036E60AE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B36ABB4-40E7-46D7-894E-BC2E9B4600B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BEDC492-A1A4-4535-BC5F-319333B9C00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F473741-CFF7-47EE-96A0-AA2A6BA445B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71509A0-084A-4BF6-8F84-EE78024A5C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0E7F5CD-3BAC-4E93-BD49-6D701A59F77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BE1FF42-E44F-4295-AB35-1755A8807A0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B56D775-0902-4C55-B0EC-9C75693E221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2515E81-B4E7-49CA-87C6-BEA33B3CD28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1596093-3A94-44F3-A81E-8393E0E8076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863C848-6A60-442C-A001-9D0CBAEBB97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17546DF-82F4-4FE1-8723-C6C9BC8B82A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B342DE5-944C-48F9-8B9F-9F5880F2F93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A411BF8-C804-4041-B5A5-658A5422EEE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3CABCBD-E00B-45BF-A255-98989481F0F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2546A41-37C7-4A75-92AA-778958E0E2E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0F64D91-C48E-4FC7-AEFD-93BAC0AF977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5467A01-2337-49BF-A65B-545D9B2574B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B52F02F-BB9D-4AF7-AF74-1B2AB151C41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8212889-5CB1-4492-837E-9A3CA56A5DE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A075605-5D96-496A-9342-44A83DE6896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E2EB821-DF11-43D1-9972-04D9778CC2D1}"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4B51961-F2AF-48C9-BC8B-C58AA2920DC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5FE1D6A-011A-434F-969A-2A0DB88DBCD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4C6B8FC-A00F-4DE6-BE47-3C7C80B2DC4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4BC0249-3627-4EAB-8746-FF2703D1355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FD3CB92-DB9A-4298-9BEA-95D9E069B5C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00C9876-211E-4427-8968-3228F373244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CACEBA8-312B-4FC0-960C-524A0A040C3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E5C2AF5-91BA-4970-86D0-BF98751D0CC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604E746-B8A1-4A2A-999D-E2EEAC7DE32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89362E6-0298-452C-9DB9-E2D6C8064A7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98E9324-F0A5-49D3-9BAE-96625217BB57}"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8F52059-D6C0-4009-BFB9-A33223BA2D7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9DAF454-79C2-465C-9B1A-650362E94E5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D1008C8-2B48-42E0-91B6-C33456984DE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F204C7B-E9B0-4394-91FB-E4B300E71C2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1C16461-E61D-4661-B740-F3453C69EFA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1D33A04-A471-45B0-B3DF-2CDF73385D4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787255C-F02D-4664-A440-772160F4F15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82DC25A-2D41-400B-9CFA-FEBF3DADA00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561A914-11C3-45D7-9331-81825C5A42E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228C4D7-F3FD-4083-8CB3-B24C580E8FD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40BFCB9-563E-4F6C-B987-F709BFE8B1F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A38B470-D34A-491E-9E52-5CF1DD909EE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E73931A-51AD-4AA3-B5A0-8399EA11443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C7091D7-22A1-4687-BEB7-0D543E4255C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1F62A88-A59B-498A-B030-B7E3CBDE1BF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248496E-A357-412E-B387-A2DD7FDA5FD5}"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9FBD-35C9-4834-BC7F-61210C8DA10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7E78A-5F68-4DD1-B6AB-129C62107BD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1945B-C436-4276-98DD-D2EFCF59971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CBE2C-C0CB-4C08-9974-D886809967C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AF51D-E6EE-4E03-86AB-6242D87092E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D978-F24B-4C59-86EA-4CA7722D76C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92806-8538-4793-8F94-9AAE140DC4F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D7B16-F7C3-4744-9814-0284FD188BA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8E5F1-B124-4374-BCD3-A9FE34443FC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12354-2271-4251-9E9A-8B4A21277CF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s://www.youtube.com/watch?v=WYhsuupYBZw25" TargetMode="Externa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Le basi del computer</a:t>
            </a:r>
            <a:endParaRPr b="0" lang="en-US" sz="3600" spc="-1" strike="noStrike">
              <a:solidFill>
                <a:srgbClr val="000000"/>
              </a:solidFill>
              <a:latin typeface="Arial"/>
            </a:endParaRPr>
          </a:p>
        </p:txBody>
      </p:sp>
      <p:sp>
        <p:nvSpPr>
          <p:cNvPr id="537" name="Rectángulo 1"/>
          <p:cNvSpPr/>
          <p:nvPr/>
        </p:nvSpPr>
        <p:spPr>
          <a:xfrm>
            <a:off x="324000" y="3244680"/>
            <a:ext cx="8645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Alfabetizzazione Informatica e Digita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410920" y="3330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Che cos’è il Software? </a:t>
            </a:r>
            <a:endParaRPr b="0" lang="en-US" sz="4400" spc="-1" strike="noStrike">
              <a:solidFill>
                <a:srgbClr val="000000"/>
              </a:solidFill>
              <a:latin typeface="Arial"/>
            </a:endParaRPr>
          </a:p>
        </p:txBody>
      </p:sp>
      <p:sp>
        <p:nvSpPr>
          <p:cNvPr id="564" name=""/>
          <p:cNvSpPr txBox="1"/>
          <p:nvPr/>
        </p:nvSpPr>
        <p:spPr>
          <a:xfrm>
            <a:off x="457200" y="1492200"/>
            <a:ext cx="8229600" cy="45259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Software è il termine che si da alla rete di programmi installati su un computer</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Un computer privo di alcun software non è altro che al massimo un fermaporta. L’utilità del tuo pc aumenta al crescere del numero dei programmi installati al suo interno</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ubTitle"/>
          </p:nvPr>
        </p:nvSpPr>
        <p:spPr>
          <a:xfrm>
            <a:off x="314280" y="1268280"/>
            <a:ext cx="8515440" cy="4897440"/>
          </a:xfrm>
          <a:prstGeom prst="rect">
            <a:avLst/>
          </a:prstGeom>
          <a:noFill/>
          <a:ln w="0">
            <a:noFill/>
          </a:ln>
        </p:spPr>
        <p:txBody>
          <a:bodyPr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Per questioni di semplicità, conviene per ora considerarne solo due: </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Arial Rounded MT Bold"/>
              </a:rPr>
              <a:t>Application Software</a:t>
            </a:r>
            <a:r>
              <a:rPr b="0" lang="it-IT" sz="2400" spc="-1" strike="noStrike">
                <a:solidFill>
                  <a:srgbClr val="000000"/>
                </a:solidFill>
                <a:latin typeface="Arial Rounded MT Bold"/>
              </a:rPr>
              <a:t> – Un software che consente all’utilizzatore il compimento di un’attività specifica (ad esempio tutto il pacchetto Microsoft)</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u="sng">
                <a:solidFill>
                  <a:srgbClr val="000000"/>
                </a:solidFill>
                <a:uFillTx/>
                <a:latin typeface="Arial Rounded MT Bold"/>
              </a:rPr>
              <a:t>Operating System</a:t>
            </a:r>
            <a:r>
              <a:rPr b="0" lang="en-IE" sz="2400" spc="-1" strike="noStrike">
                <a:solidFill>
                  <a:srgbClr val="000000"/>
                </a:solidFill>
                <a:latin typeface="Arial Rounded MT Bold"/>
              </a:rPr>
              <a:t> – </a:t>
            </a:r>
            <a:r>
              <a:rPr b="0" lang="it-IT" sz="2400" spc="-1" strike="noStrike">
                <a:solidFill>
                  <a:srgbClr val="000000"/>
                </a:solidFill>
                <a:latin typeface="Arial Rounded MT Bold"/>
              </a:rPr>
              <a:t>Un operating system è una fonte di intermediazione tra un application software e l’hardware facilitando la comunicazione tra i due canali</a:t>
            </a:r>
            <a:endParaRPr b="0" lang="en-US" sz="2400" spc="-1" strike="noStrike">
              <a:solidFill>
                <a:srgbClr val="000000"/>
              </a:solidFill>
              <a:latin typeface="Arial"/>
            </a:endParaRPr>
          </a:p>
        </p:txBody>
      </p:sp>
      <p:sp>
        <p:nvSpPr>
          <p:cNvPr id="566" name="Szövegdoboz 1"/>
          <p:cNvSpPr/>
          <p:nvPr/>
        </p:nvSpPr>
        <p:spPr>
          <a:xfrm>
            <a:off x="2627280" y="368280"/>
            <a:ext cx="61912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T</a:t>
            </a:r>
            <a:r>
              <a:rPr b="0" lang="it-IT" sz="3800" spc="-1" strike="noStrike">
                <a:solidFill>
                  <a:srgbClr val="000000"/>
                </a:solidFill>
                <a:latin typeface="Arial Rounded MT Bold"/>
              </a:rPr>
              <a:t>ipi di</a:t>
            </a:r>
            <a:r>
              <a:rPr b="0" lang="hu-HU" sz="3800" spc="-1" strike="noStrike">
                <a:solidFill>
                  <a:srgbClr val="000000"/>
                </a:solidFill>
                <a:latin typeface="Arial Rounded MT Bold"/>
              </a:rPr>
              <a:t> Software</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19"/>
          <p:cNvSpPr/>
          <p:nvPr/>
        </p:nvSpPr>
        <p:spPr>
          <a:xfrm>
            <a:off x="2181240" y="4119480"/>
            <a:ext cx="44575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Times New Roman"/>
              </a:rPr>
              <a:t>Hardware (Computer) </a:t>
            </a:r>
            <a:endParaRPr b="0" lang="en-US" sz="1600" spc="-1" strike="noStrike">
              <a:solidFill>
                <a:srgbClr val="000000"/>
              </a:solidFill>
              <a:latin typeface="Arial"/>
            </a:endParaRPr>
          </a:p>
        </p:txBody>
      </p:sp>
      <p:sp>
        <p:nvSpPr>
          <p:cNvPr id="568" name="Text Box 18"/>
          <p:cNvSpPr/>
          <p:nvPr/>
        </p:nvSpPr>
        <p:spPr>
          <a:xfrm>
            <a:off x="2181240" y="3052800"/>
            <a:ext cx="44575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Times New Roman"/>
              </a:rPr>
              <a:t>Operating System (Windows)</a:t>
            </a:r>
            <a:endParaRPr b="0" lang="en-US" sz="1600" spc="-1" strike="noStrike">
              <a:solidFill>
                <a:srgbClr val="000000"/>
              </a:solidFill>
              <a:latin typeface="Arial"/>
            </a:endParaRPr>
          </a:p>
        </p:txBody>
      </p:sp>
      <p:sp>
        <p:nvSpPr>
          <p:cNvPr id="569" name="Text Box 17"/>
          <p:cNvSpPr/>
          <p:nvPr/>
        </p:nvSpPr>
        <p:spPr>
          <a:xfrm>
            <a:off x="2181240" y="1916280"/>
            <a:ext cx="44575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Times New Roman"/>
              </a:rPr>
              <a:t>Application Software (Word, Excel etc)</a:t>
            </a:r>
            <a:endParaRPr b="0" lang="en-US" sz="1600" spc="-1" strike="noStrike">
              <a:solidFill>
                <a:srgbClr val="000000"/>
              </a:solidFill>
              <a:latin typeface="Arial"/>
            </a:endParaRPr>
          </a:p>
        </p:txBody>
      </p:sp>
      <p:sp>
        <p:nvSpPr>
          <p:cNvPr id="570" name="Line 16"/>
          <p:cNvSpPr/>
          <p:nvPr/>
        </p:nvSpPr>
        <p:spPr>
          <a:xfrm>
            <a:off x="3979800" y="3529080"/>
            <a:ext cx="0" cy="571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Line 15"/>
          <p:cNvSpPr/>
          <p:nvPr/>
        </p:nvSpPr>
        <p:spPr>
          <a:xfrm>
            <a:off x="3979800" y="2427120"/>
            <a:ext cx="0" cy="57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14"/>
          <p:cNvSpPr/>
          <p:nvPr/>
        </p:nvSpPr>
        <p:spPr>
          <a:xfrm flipV="1">
            <a:off x="4748040" y="3528720"/>
            <a:ext cx="0" cy="571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13"/>
          <p:cNvSpPr/>
          <p:nvPr/>
        </p:nvSpPr>
        <p:spPr>
          <a:xfrm flipV="1">
            <a:off x="4748040" y="2427120"/>
            <a:ext cx="0" cy="57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Rectangle 24"/>
          <p:cNvSpPr/>
          <p:nvPr/>
        </p:nvSpPr>
        <p:spPr>
          <a:xfrm>
            <a:off x="1852560" y="2525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Szövegdoboz 1"/>
          <p:cNvSpPr/>
          <p:nvPr/>
        </p:nvSpPr>
        <p:spPr>
          <a:xfrm>
            <a:off x="2627280" y="485640"/>
            <a:ext cx="604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Operating Syst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Arial Rounded MT Bold"/>
              </a:rPr>
              <a:t>Conclusione</a:t>
            </a:r>
            <a:endParaRPr b="0" lang="en-US" sz="4400" spc="-1" strike="noStrike">
              <a:solidFill>
                <a:srgbClr val="000000"/>
              </a:solidFill>
              <a:latin typeface="Arial"/>
            </a:endParaRPr>
          </a:p>
        </p:txBody>
      </p:sp>
      <p:sp>
        <p:nvSpPr>
          <p:cNvPr id="577" name=""/>
          <p:cNvSpPr txBox="1"/>
          <p:nvPr/>
        </p:nvSpPr>
        <p:spPr>
          <a:xfrm>
            <a:off x="457200" y="1600200"/>
            <a:ext cx="8229600" cy="4525920"/>
          </a:xfrm>
          <a:prstGeom prst="rect">
            <a:avLst/>
          </a:prstGeom>
          <a:noFill/>
          <a:ln w="0">
            <a:noFill/>
          </a:ln>
        </p:spPr>
        <p:txBody>
          <a:bodyPr anchor="t">
            <a:normAutofit/>
          </a:bodyPr>
          <a:p>
            <a:pPr algn="ct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Rounded MT Bold"/>
              </a:rPr>
              <a:t>Contenuti</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Come si avvia un dispositivo digitale</a:t>
            </a:r>
            <a:endParaRPr b="0" lang="en-US" sz="3000" spc="-1" strike="noStrike">
              <a:solidFill>
                <a:srgbClr val="000000"/>
              </a:solidFill>
              <a:latin typeface="Arial"/>
            </a:endParaRPr>
          </a:p>
          <a:p>
            <a:pPr>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La differenza tra hardware e software</a:t>
            </a:r>
            <a:endParaRPr b="0" lang="en-US" sz="3000" spc="-1" strike="noStrike">
              <a:solidFill>
                <a:srgbClr val="000000"/>
              </a:solidFill>
              <a:latin typeface="Arial"/>
            </a:endParaRPr>
          </a:p>
          <a:p>
            <a:pPr>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Prendere confidenza con il mouse</a:t>
            </a:r>
            <a:endParaRPr b="0" lang="en-US" sz="3000" spc="-1" strike="noStrike">
              <a:solidFill>
                <a:srgbClr val="000000"/>
              </a:solidFill>
              <a:latin typeface="Arial"/>
            </a:endParaRPr>
          </a:p>
          <a:p>
            <a:pPr>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Prendere confidenza con la tastiera </a:t>
            </a:r>
            <a:endParaRPr b="0" lang="en-US" sz="3000" spc="-1" strike="noStrike">
              <a:solidFill>
                <a:srgbClr val="000000"/>
              </a:solidFill>
              <a:latin typeface="Arial"/>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Rounded MT Bold"/>
              </a:rPr>
              <a:t>Obiettivi</a:t>
            </a:r>
            <a:endParaRPr b="0" lang="en-US" sz="4400" spc="-1" strike="noStrike">
              <a:solidFill>
                <a:srgbClr val="000000"/>
              </a:solidFill>
              <a:latin typeface="Arial"/>
            </a:endParaRPr>
          </a:p>
        </p:txBody>
      </p:sp>
      <p:sp>
        <p:nvSpPr>
          <p:cNvPr id="539" name="PlaceHolder 2"/>
          <p:cNvSpPr>
            <a:spLocks noGrp="1"/>
          </p:cNvSpPr>
          <p:nvPr>
            <p:ph/>
          </p:nvPr>
        </p:nvSpPr>
        <p:spPr>
          <a:xfrm>
            <a:off x="250560" y="1268280"/>
            <a:ext cx="8569080" cy="4857840"/>
          </a:xfrm>
          <a:prstGeom prst="rect">
            <a:avLst/>
          </a:prstGeom>
          <a:noFill/>
          <a:ln w="0">
            <a:noFill/>
          </a:ln>
        </p:spPr>
        <p:txBody>
          <a:bodyPr anchor="t">
            <a:normAutofit/>
          </a:bodyPr>
          <a:p>
            <a:pPr marL="81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Nella presente unità i partecipanti saranno introdotti ai concetti più basilari dell’informatica:</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Come si avvia un dispositivo digitale?</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La differenza tra hardware e software</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Le funzionalità del mouse</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Le funzionalità della tastiera</a:t>
            </a: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411280" y="333000"/>
            <a:ext cx="640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Il Desktop</a:t>
            </a:r>
            <a:endParaRPr b="0" lang="en-US" sz="3200" spc="-1" strike="noStrike">
              <a:solidFill>
                <a:srgbClr val="000000"/>
              </a:solidFill>
              <a:latin typeface="Arial"/>
            </a:endParaRPr>
          </a:p>
        </p:txBody>
      </p:sp>
      <p:sp>
        <p:nvSpPr>
          <p:cNvPr id="541" name=""/>
          <p:cNvSpPr txBox="1"/>
          <p:nvPr/>
        </p:nvSpPr>
        <p:spPr>
          <a:xfrm>
            <a:off x="324000" y="1413000"/>
            <a:ext cx="8496000" cy="49687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Il Desktop è la prima cosa con cui ti interfacci all’accensione del computer</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Il tasto Start, collocato nell’angolo in basso a sinistra nella cd. Taskbar, costituisce il portale di accesso a tutte le maggiori funzionalità del tuo pc</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Quelle piccole figure che appaiono sul tuo Desktop sono chiamate Icone e costituiscono una via di accesso ai relativi programmi e funzioni cui fanno riferimento. Per aprire un’icona fai semplicemente doppio click sopra la stessa</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050920" y="549000"/>
            <a:ext cx="6858000" cy="1011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Come si avvia </a:t>
            </a:r>
            <a:br>
              <a:rPr sz="3600"/>
            </a:br>
            <a:r>
              <a:rPr b="0" lang="en-IE" sz="3600" spc="-1" strike="noStrike">
                <a:solidFill>
                  <a:srgbClr val="000000"/>
                </a:solidFill>
                <a:latin typeface="Arial Rounded MT Bold"/>
              </a:rPr>
              <a:t>un dispositivo digitale? </a:t>
            </a:r>
            <a:endParaRPr b="0" lang="en-US" sz="3600" spc="-1" strike="noStrike">
              <a:solidFill>
                <a:srgbClr val="000000"/>
              </a:solidFill>
              <a:latin typeface="Arial"/>
            </a:endParaRPr>
          </a:p>
        </p:txBody>
      </p:sp>
      <p:sp>
        <p:nvSpPr>
          <p:cNvPr id="543" name="PlaceHolder 2"/>
          <p:cNvSpPr>
            <a:spLocks noGrp="1"/>
          </p:cNvSpPr>
          <p:nvPr>
            <p:ph type="subTitle"/>
          </p:nvPr>
        </p:nvSpPr>
        <p:spPr>
          <a:xfrm>
            <a:off x="755640" y="1919160"/>
            <a:ext cx="7632720" cy="3525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Rounded MT Bold"/>
              </a:rPr>
              <a:t>Per te un breve e </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Rounded MT Bold"/>
              </a:rPr>
              <a:t>semplice tutorial online</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b050"/>
                </a:solidFill>
                <a:latin typeface="Arial"/>
              </a:rPr>
              <a:t>https://www.youtube.com/watch?v=gMwQ3-WEl6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195640" y="196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Rounded MT Bold"/>
              </a:rPr>
              <a:t>ICONE</a:t>
            </a:r>
            <a:endParaRPr b="0" lang="en-US" sz="4000" spc="-1" strike="noStrike">
              <a:solidFill>
                <a:srgbClr val="000000"/>
              </a:solidFill>
              <a:latin typeface="Arial"/>
            </a:endParaRPr>
          </a:p>
        </p:txBody>
      </p:sp>
      <p:sp>
        <p:nvSpPr>
          <p:cNvPr id="545" name=""/>
          <p:cNvSpPr txBox="1"/>
          <p:nvPr/>
        </p:nvSpPr>
        <p:spPr>
          <a:xfrm>
            <a:off x="457200" y="2014200"/>
            <a:ext cx="8229600" cy="455940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Microsoft Word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Email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Internet                                       </a:t>
            </a:r>
            <a:endParaRPr b="0" lang="en-US" sz="3200" spc="-1" strike="noStrike">
              <a:solidFill>
                <a:srgbClr val="000000"/>
              </a:solidFill>
              <a:latin typeface="Arial"/>
            </a:endParaRPr>
          </a:p>
        </p:txBody>
      </p:sp>
      <p:pic>
        <p:nvPicPr>
          <p:cNvPr id="546" name="Picture 4" descr=""/>
          <p:cNvPicPr/>
          <p:nvPr/>
        </p:nvPicPr>
        <p:blipFill>
          <a:blip r:embed="rId1"/>
          <a:stretch/>
        </p:blipFill>
        <p:spPr>
          <a:xfrm>
            <a:off x="5784840" y="1876320"/>
            <a:ext cx="1260360" cy="924120"/>
          </a:xfrm>
          <a:prstGeom prst="rect">
            <a:avLst/>
          </a:prstGeom>
          <a:ln w="0">
            <a:noFill/>
          </a:ln>
        </p:spPr>
      </p:pic>
      <p:pic>
        <p:nvPicPr>
          <p:cNvPr id="547" name="Picture 5" descr=""/>
          <p:cNvPicPr/>
          <p:nvPr/>
        </p:nvPicPr>
        <p:blipFill>
          <a:blip r:embed="rId2"/>
          <a:stretch/>
        </p:blipFill>
        <p:spPr>
          <a:xfrm>
            <a:off x="5797440" y="3027240"/>
            <a:ext cx="1441440" cy="1095480"/>
          </a:xfrm>
          <a:prstGeom prst="rect">
            <a:avLst/>
          </a:prstGeom>
          <a:ln w="0">
            <a:noFill/>
          </a:ln>
        </p:spPr>
      </p:pic>
      <p:pic>
        <p:nvPicPr>
          <p:cNvPr id="548" name="Picture 6" descr=""/>
          <p:cNvPicPr/>
          <p:nvPr/>
        </p:nvPicPr>
        <p:blipFill>
          <a:blip r:embed="rId3"/>
          <a:srcRect l="12638" t="24864" r="12307" b="0"/>
          <a:stretch/>
        </p:blipFill>
        <p:spPr>
          <a:xfrm>
            <a:off x="5784840" y="4325760"/>
            <a:ext cx="1425600" cy="121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329920" y="274320"/>
            <a:ext cx="6356520" cy="84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Tastiera</a:t>
            </a:r>
            <a:endParaRPr b="0" lang="en-US" sz="3800" spc="-1" strike="noStrike">
              <a:solidFill>
                <a:srgbClr val="000000"/>
              </a:solidFill>
              <a:latin typeface="Arial"/>
            </a:endParaRPr>
          </a:p>
        </p:txBody>
      </p:sp>
      <p:sp>
        <p:nvSpPr>
          <p:cNvPr id="550" name=""/>
          <p:cNvSpPr txBox="1"/>
          <p:nvPr/>
        </p:nvSpPr>
        <p:spPr>
          <a:xfrm>
            <a:off x="457200" y="1117080"/>
            <a:ext cx="8229600" cy="5008680"/>
          </a:xfrm>
          <a:prstGeom prst="rect">
            <a:avLst/>
          </a:prstGeom>
          <a:noFill/>
          <a:ln w="0">
            <a:noFill/>
          </a:ln>
        </p:spPr>
        <p:txBody>
          <a:bodyPr anchor="t">
            <a:normAutofit fontScale="97000"/>
          </a:bodyPr>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Rounded MT Bold"/>
              </a:rPr>
              <a:t>Spacebar – </a:t>
            </a:r>
            <a:r>
              <a:rPr b="0" lang="it-IT" sz="1600" spc="-1" strike="noStrike">
                <a:solidFill>
                  <a:srgbClr val="000000"/>
                </a:solidFill>
                <a:latin typeface="Arial Rounded MT Bold"/>
              </a:rPr>
              <a:t>serve ad aggiungere uno spazio tra una parola e l’altra. Ad ogni click corrisponde un singolo spazio.</a:t>
            </a:r>
            <a:endParaRPr b="0" lang="en-US" sz="1600" spc="-1" strike="noStrike">
              <a:solidFill>
                <a:srgbClr val="000000"/>
              </a:solidFill>
              <a:latin typeface="Arial"/>
            </a:endParaRPr>
          </a:p>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Rounded MT Bold"/>
              </a:rPr>
              <a:t>Invio</a:t>
            </a:r>
            <a:r>
              <a:rPr b="0" lang="it-IT" sz="1600" spc="-1" strike="noStrike">
                <a:solidFill>
                  <a:srgbClr val="000000"/>
                </a:solidFill>
                <a:latin typeface="Arial Rounded MT Bold"/>
              </a:rPr>
              <a:t> – serve ad andare a capo tra una riga e l’altra</a:t>
            </a:r>
            <a:endParaRPr b="0" lang="en-US" sz="1600" spc="-1" strike="noStrike">
              <a:solidFill>
                <a:srgbClr val="000000"/>
              </a:solidFill>
              <a:latin typeface="Arial"/>
            </a:endParaRPr>
          </a:p>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Rounded MT Bold"/>
              </a:rPr>
              <a:t>Backspace – qualora tu avessi commesso un errore di battitura puoi correggere premendo il tasto indicatoti in figura</a:t>
            </a:r>
            <a:endParaRPr b="0" lang="en-US" sz="1600" spc="-1" strike="noStrike">
              <a:solidFill>
                <a:srgbClr val="000000"/>
              </a:solidFill>
              <a:latin typeface="Arial"/>
            </a:endParaRPr>
          </a:p>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Rounded MT Bold"/>
              </a:rPr>
              <a:t>                                      </a:t>
            </a:r>
            <a:endParaRPr b="0" lang="en-US" sz="1600" spc="-1" strike="noStrike">
              <a:solidFill>
                <a:srgbClr val="000000"/>
              </a:solidFill>
              <a:latin typeface="Arial"/>
            </a:endParaRPr>
          </a:p>
          <a:p>
            <a:pPr marL="332640" indent="-3326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Rounded MT Bold"/>
              </a:rPr>
              <a:t>                                        </a:t>
            </a:r>
            <a:endParaRPr b="0" lang="en-US" sz="1600" spc="-1" strike="noStrike">
              <a:solidFill>
                <a:srgbClr val="000000"/>
              </a:solidFill>
              <a:latin typeface="Arial"/>
            </a:endParaRPr>
          </a:p>
          <a:p>
            <a:pPr marL="332640" indent="-3326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	</a:t>
            </a:r>
            <a:r>
              <a:rPr b="0" lang="hu-HU" sz="1600" spc="-1" strike="noStrike">
                <a:solidFill>
                  <a:srgbClr val="000000"/>
                </a:solidFill>
                <a:latin typeface="Arial Rounded MT Bold"/>
              </a:rPr>
              <a:t>	</a:t>
            </a:r>
            <a:r>
              <a:rPr b="0" lang="en-IE" sz="1600" spc="-1" strike="noStrike">
                <a:solidFill>
                  <a:srgbClr val="000000"/>
                </a:solidFill>
                <a:latin typeface="Arial Rounded MT Bold"/>
              </a:rPr>
              <a:t>  </a:t>
            </a:r>
            <a:endParaRPr b="0" lang="en-US" sz="1600" spc="-1" strike="noStrike">
              <a:solidFill>
                <a:srgbClr val="000000"/>
              </a:solidFill>
              <a:latin typeface="Arial"/>
            </a:endParaRPr>
          </a:p>
          <a:p>
            <a:pPr marL="332640" indent="-33264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Rounded MT Bold"/>
              </a:rPr>
              <a:t>Space Bar        Enter Key        Back space Key</a:t>
            </a:r>
            <a:endParaRPr b="0" lang="en-US" sz="1600" spc="-1" strike="noStrike">
              <a:solidFill>
                <a:srgbClr val="000000"/>
              </a:solidFill>
              <a:latin typeface="Arial"/>
            </a:endParaRPr>
          </a:p>
        </p:txBody>
      </p:sp>
      <p:pic>
        <p:nvPicPr>
          <p:cNvPr id="551" name="Picture 2" descr="keyboard"/>
          <p:cNvPicPr/>
          <p:nvPr/>
        </p:nvPicPr>
        <p:blipFill>
          <a:blip r:embed="rId1"/>
          <a:stretch/>
        </p:blipFill>
        <p:spPr>
          <a:xfrm>
            <a:off x="1366920" y="3387600"/>
            <a:ext cx="6410160" cy="1609920"/>
          </a:xfrm>
          <a:prstGeom prst="rect">
            <a:avLst/>
          </a:prstGeom>
          <a:ln w="0">
            <a:noFill/>
          </a:ln>
        </p:spPr>
      </p:pic>
      <p:sp>
        <p:nvSpPr>
          <p:cNvPr id="552" name="Line 3"/>
          <p:cNvSpPr/>
          <p:nvPr/>
        </p:nvSpPr>
        <p:spPr>
          <a:xfrm flipH="1" flipV="1">
            <a:off x="5198760" y="4220640"/>
            <a:ext cx="1028520" cy="172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Line 4"/>
          <p:cNvSpPr/>
          <p:nvPr/>
        </p:nvSpPr>
        <p:spPr>
          <a:xfrm flipV="1">
            <a:off x="4370400" y="4549320"/>
            <a:ext cx="776160" cy="122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Line 5"/>
          <p:cNvSpPr/>
          <p:nvPr/>
        </p:nvSpPr>
        <p:spPr>
          <a:xfrm flipV="1">
            <a:off x="2933640" y="4785840"/>
            <a:ext cx="595440" cy="752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2329920" y="144360"/>
            <a:ext cx="635652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 </a:t>
            </a:r>
            <a:r>
              <a:rPr b="0" lang="en-IE" sz="4000" spc="-1" strike="noStrike">
                <a:solidFill>
                  <a:srgbClr val="000000"/>
                </a:solidFill>
                <a:latin typeface="Arial Rounded MT Bold"/>
              </a:rPr>
              <a:t>Mouse</a:t>
            </a:r>
            <a:endParaRPr b="0" lang="en-US" sz="4000" spc="-1" strike="noStrike">
              <a:solidFill>
                <a:srgbClr val="000000"/>
              </a:solidFill>
              <a:latin typeface="Arial"/>
            </a:endParaRPr>
          </a:p>
        </p:txBody>
      </p:sp>
      <p:sp>
        <p:nvSpPr>
          <p:cNvPr id="556" name=""/>
          <p:cNvSpPr txBox="1"/>
          <p:nvPr/>
        </p:nvSpPr>
        <p:spPr>
          <a:xfrm>
            <a:off x="457200" y="1341000"/>
            <a:ext cx="8229600" cy="4751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Il mouse è lo strumento che utilizzi per «muoverti» tra le varie sezioni del desktop</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Per utilizzare il mouse c’è bisogno di pochissima pratica</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Puoi prendere confidenza iniziando a muoverlo gentilmente e dolcemente «a cerchio»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Al movimento del tuo polso risponde il cursore, la freccia che vedi muoversi sul desktop</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Rounded MT Bold"/>
              </a:rPr>
              <a:t> </a:t>
            </a:r>
            <a:r>
              <a:rPr b="0" lang="en-US" sz="3400" spc="-1" strike="noStrike">
                <a:solidFill>
                  <a:srgbClr val="000000"/>
                </a:solidFill>
                <a:latin typeface="Arial Rounded MT Bold"/>
              </a:rPr>
              <a:t>MOUSE</a:t>
            </a:r>
            <a:endParaRPr b="0" lang="en-US" sz="3400" spc="-1" strike="noStrike">
              <a:solidFill>
                <a:srgbClr val="000000"/>
              </a:solidFill>
              <a:latin typeface="Arial"/>
            </a:endParaRPr>
          </a:p>
        </p:txBody>
      </p:sp>
      <p:sp>
        <p:nvSpPr>
          <p:cNvPr id="558" name=""/>
          <p:cNvSpPr txBox="1"/>
          <p:nvPr/>
        </p:nvSpPr>
        <p:spPr>
          <a:xfrm>
            <a:off x="457200" y="1600200"/>
            <a:ext cx="836280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Rounded MT Bold"/>
              </a:rPr>
              <a:t>THE MOUSE Techniques - Basic Personal Computer Tutorial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u="sng">
                <a:solidFill>
                  <a:srgbClr val="009999"/>
                </a:solidFill>
                <a:uFillTx/>
                <a:latin typeface="Arial Rounded MT Bold"/>
                <a:hlinkClick r:id="rId1"/>
              </a:rPr>
              <a:t>https://www.youtube.com/watch?v=WYhsuupYBZ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Che cos’è l’Hardware?</a:t>
            </a:r>
            <a:endParaRPr b="0" lang="en-US" sz="4400" spc="-1" strike="noStrike">
              <a:solidFill>
                <a:srgbClr val="000000"/>
              </a:solidFill>
              <a:latin typeface="Arial"/>
            </a:endParaRPr>
          </a:p>
        </p:txBody>
      </p:sp>
      <p:sp>
        <p:nvSpPr>
          <p:cNvPr id="560" name=""/>
          <p:cNvSpPr txBox="1"/>
          <p:nvPr/>
        </p:nvSpPr>
        <p:spPr>
          <a:xfrm>
            <a:off x="485280" y="1628640"/>
            <a:ext cx="8202600" cy="48420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Si definisce hardware ogni parte fisica del computer, vale a dire: </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	</a:t>
            </a:r>
            <a:r>
              <a:rPr b="0" lang="en-IE" sz="2400" spc="-1" strike="noStrike">
                <a:solidFill>
                  <a:srgbClr val="000000"/>
                </a:solidFill>
                <a:latin typeface="Arial Rounded MT Bold"/>
              </a:rPr>
              <a:t> </a:t>
            </a:r>
            <a:r>
              <a:rPr b="0" lang="en-IE" sz="2400" spc="-1" strike="noStrike">
                <a:solidFill>
                  <a:srgbClr val="000000"/>
                </a:solidFill>
                <a:latin typeface="Arial Rounded MT Bold"/>
              </a:rPr>
              <a:t>Monitor                                  Keyboard &amp; Mouse</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1" name="Picture 2" descr="computer hp"/>
          <p:cNvPicPr/>
          <p:nvPr/>
        </p:nvPicPr>
        <p:blipFill>
          <a:blip r:embed="rId1"/>
          <a:srcRect l="30432" t="0" r="13590" b="20464"/>
          <a:stretch/>
        </p:blipFill>
        <p:spPr>
          <a:xfrm>
            <a:off x="1001880" y="3419640"/>
            <a:ext cx="2057400" cy="2117520"/>
          </a:xfrm>
          <a:prstGeom prst="rect">
            <a:avLst/>
          </a:prstGeom>
          <a:ln w="0">
            <a:noFill/>
          </a:ln>
        </p:spPr>
      </p:pic>
      <p:pic>
        <p:nvPicPr>
          <p:cNvPr id="562" name="Picture 3" descr="keyboard and mouse"/>
          <p:cNvPicPr/>
          <p:nvPr/>
        </p:nvPicPr>
        <p:blipFill>
          <a:blip r:embed="rId2"/>
          <a:srcRect l="0" t="0" r="0" b="3604"/>
          <a:stretch/>
        </p:blipFill>
        <p:spPr>
          <a:xfrm>
            <a:off x="4643280" y="3573360"/>
            <a:ext cx="3910320" cy="1963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riccardo di marco</cp:lastModifiedBy>
  <dcterms:modified xsi:type="dcterms:W3CDTF">2020-01-14T15:43:46Z</dcterms:modified>
  <cp:revision>487</cp:revision>
  <dc:subject/>
  <dc:title>Title</dc:title>
</cp:coreProperties>
</file>