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6FE084D-72A8-47CF-94CE-2E88C1DF65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B5CFBD-80DB-4FC9-8CFD-1D9055DE8F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62C374-B45B-4745-ACBC-081866BD3F7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BB092E-917D-4E1F-A890-46B181708C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48E3A0-3B84-4EFC-8D6B-525D046243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FCC9A8-7D01-4CA5-876A-4A609A73A8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825AAE5-7351-4851-B287-485D1429DB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E15829A-8F01-4413-9D69-7AA81774A2B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77762A-0C87-4271-8A85-7C6B456655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CA2551-B44A-47EB-9A2C-10B6626D59C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A66DC3-CFF5-41F4-8B4D-4C4F508E63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C02D56-ADBC-4F8E-BBD6-C8C3B1B0B28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7566E0-7C84-403E-A083-8CC0BDC77D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3B28E4-5567-456D-BC4A-1B6B5945EBA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E6EF8E4-C25A-4BED-8372-7B391D519A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AE5043-B52E-4528-87A8-99A9D53FD1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EF0BC6-1E43-4AE0-8FB6-6BFED5CC91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7B06DE-3A17-478A-B4A7-421DEF8B52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3844FE7-BD19-41CD-9107-66E73F902EC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BDA82B1-995C-4250-B3BD-30F0EE6309E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9D2424-7FC0-48BB-BA26-7A7C6922BD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93CC7B4-89FE-4F02-847D-2E04F0A975B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1E3AB0F-378C-45F0-B833-29A8BDF3071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3C5EAB-0283-4EA1-A64F-BA8736FB2E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B69EE13-68D5-4138-9592-D1992A751E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0F52DC-E7AC-45D7-AD03-BC1E76A6A39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7AC1FC2-1CC4-4CBA-B0FE-571A07C4A7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B1FF59-2681-4AC1-9E06-3251E5D4B8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3A352D-7294-4ED5-80D4-E19D3AE00F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76A4E8-776E-4F32-A058-61EFB277EB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D7A5FB8-1FB7-4A8C-B8B4-A414AC144AC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CD1FA8F-CFFA-4C46-AEBD-E789F9F7317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B52B3C-7491-4648-9512-BCF0AE10F78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4909A84-53A2-463B-A078-41ACABAEDA1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0B49CA1-251B-41C0-BB8B-57E2C2493D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B6C860-3DC3-4287-9BCE-DF5D0D9289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61FEE6-6D83-49D0-A0DC-10CE2E53D6B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2E57CE-7B5E-4FF8-8260-E22A49A709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EF2AE7C-851E-4DB6-A2B6-01500818EC5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61F11C-DBD0-4B4E-B978-0BCAD66A4B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75D2AB-D2AB-4836-82DB-0F440C9F71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5743DA-DBB0-4676-85EA-05E2BE953E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FB67931-2709-4DBA-BF6F-A3BF64C09DF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5C2E0E3-D7C0-4528-ABF4-B13CE53D38E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9A8C95B-4AAD-4D03-BE97-756ACC0EA7F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3AC974-71CB-4276-AD23-E7282D4FA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EDB27-FEFC-4CC8-94C0-537916D11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C8C3A-8CFA-4A62-BDA3-971E383EA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4E23D-765B-41E1-9E15-CFDD464F26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6CCAB-52F7-4E1D-BDC7-6F72F8140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8D9CE5-0543-43F3-8744-28BB3DD6B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092A5-BAD4-4B1E-B300-3519BB054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E6813-39C1-413F-B41A-03CC15AFB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1B72B-878B-4D74-A20A-280007448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62180-76C2-4856-82FA-FD635AF34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636A03-7ECD-4692-B0AA-E0BB9CFB03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7BF53-4FF9-48FE-A71D-BA95E207C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368979-5537-4470-9AA3-649C7B987C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C96847-DE6A-423C-AE82-EB50DA35CB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5FE86D-67B9-4277-8F0F-0E0D821A3A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C2DB42-B030-47BA-84F3-0D73403C82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0389C8-8477-46EC-9AE7-411D6387EA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C94F18-37B4-4F49-A754-1B0CFA4D7E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81D519-C08F-4D24-8168-5620A8ECC4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7C1155-8218-402E-8261-A12DE9E48B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905359-2138-452A-A0D0-B4C6A866F4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1451E5-25AB-4B71-8B0F-AD19A9822B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1A59BB-63CE-4BB6-A3F9-3A70F8DC8B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A307FE-2B72-42CC-9D09-85A9331F02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DE7A93-C72D-4248-802C-96EC2C70C5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6AD06A-FE67-4A09-8930-FE0CD4EF9B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E8D74F-4446-4B49-8B60-2BCC54C8FD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15BB6C-3894-48CC-8838-93FB9008E1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9FB19A-7DC7-4228-A749-BF14451C02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4A0703-93C1-452E-8A05-5C26339A30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6176D1-EF8E-4674-AD7D-145F16B22E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147056-CDCA-4B0E-A1E9-81AAB0B0F6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CCCC19-FD9A-4E89-A0B8-DB47D408A2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E2736A-BB9F-40E1-977C-3629A88C85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FAE4A0-9ADB-451F-9629-44634CC88E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43F490-C8AB-466C-82E9-72BAC82B87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7A4B431-060B-4FA7-93F9-D231791CB9E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22882F-8AE0-4543-ADD7-D17E2A3E9F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9249E9-A9D9-4E02-A36D-FB2B5B52F3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747E6C-4876-49C9-AEF2-FB672567EF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5270EC-3B90-44BD-9B87-99749C09EC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CB4A74-180D-4801-997C-5274792076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22C682-C36C-4B67-8F26-D7B4892FE9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BF09D0-FD3D-415D-9D47-2151CC7197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59A987-4DBC-44A6-B097-8F7D6D7E8A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0DBC3A0-B327-4B3B-A345-346D75E180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F4A34AD-14AC-43FA-A06E-09185147807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F7F1BEF-7604-450F-AF3E-1C3C70A5C84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A3A66AC-3B69-46CD-9F0E-AAC3C210861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FF90C0-3696-4658-9B1E-075EAAC520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405DF6-8A5F-44FA-95D4-25A8C122BE1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FBB680-DAB9-46BF-9707-D4ED77C0AD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E46BA7-85ED-4D9B-B03A-86951A0A453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E7C939-774D-4A5B-9920-9EACE5E23E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C3867B-68DD-4541-BB97-F86D9C25CA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AFDE00-5B36-499C-990B-315899D286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D9A8CB-D4EE-4B8D-8C66-71A11128846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A451FA-87C0-44F0-A603-545FCE5D7A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278C38-14BB-499B-BFB5-C247EBF6D99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B377224-CB06-41CE-A136-A504D9A2BE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D77A7C1-D692-4667-A517-62A6168BDB9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93277E-C4A3-4B05-B6F5-67BE856EF9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7C1AC4-E576-453B-823C-E44929F899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32DF2F-5FA2-4240-AA03-5A795B0FE6F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4904EFF-3711-49A0-83E1-B64660EF3D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DBD877-0098-4572-B8D3-3938471BC1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1001CA-AE4D-4297-8497-D6ABC0814A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EEDB02-7823-487D-9F8D-8C5E60869C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E6058B0-3351-47A6-8393-B01B69DB3D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3303A9-294A-48C5-B5B2-89ACF4EAA8D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F8789A1-64BE-4BDC-AA1F-29966F04FF4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130B232-D728-4432-B538-093F604B8CF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907B45E-B158-4F12-962C-A74278F5E8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D422E1-B90E-495F-A7CD-0DBF887AF6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1F401C-AF4F-455B-80EB-30B13F722C8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6BC0-94A9-4F28-9C9D-DB94EBBE86E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A2A8-D2C0-42FD-AA90-B9A7E0915E9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4392-2B32-4E2D-ADB8-57198971E8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98EF-65C9-44F1-83A1-5063A627A0B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2EE8-150C-401A-8F4A-9A3ADF775B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CA83-D9C2-44A6-BC97-1FE6F4079BE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563F-B4C5-4B51-B229-83163629C06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B296-902B-494E-8F29-47EFEDCE199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CB4D-896D-41C0-A20A-2E46BBAA6C2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B6D7-4062-4F2C-8896-DA9E186CDCF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Le basi del computer</a:t>
            </a:r>
            <a:endParaRPr b="0" lang="en-US" sz="3600" spc="-1" strike="noStrike">
              <a:solidFill>
                <a:srgbClr val="000000"/>
              </a:solidFill>
              <a:latin typeface="Arial"/>
            </a:endParaRPr>
          </a:p>
        </p:txBody>
      </p:sp>
      <p:sp>
        <p:nvSpPr>
          <p:cNvPr id="537" name="Rectángulo 1"/>
          <p:cNvSpPr/>
          <p:nvPr/>
        </p:nvSpPr>
        <p:spPr>
          <a:xfrm>
            <a:off x="324000" y="3244680"/>
            <a:ext cx="864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lfabetizzazione Informatica e Digit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he cos’è il Software? </a:t>
            </a:r>
            <a:endParaRPr b="0" lang="en-US" sz="4400" spc="-1" strike="noStrike">
              <a:solidFill>
                <a:srgbClr val="000000"/>
              </a:solidFill>
              <a:latin typeface="Arial"/>
            </a:endParaRPr>
          </a:p>
        </p:txBody>
      </p:sp>
      <p:sp>
        <p:nvSpPr>
          <p:cNvPr id="564" name=""/>
          <p:cNvSpPr txBox="1"/>
          <p:nvPr/>
        </p:nvSpPr>
        <p:spPr>
          <a:xfrm>
            <a:off x="457200" y="1492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oftware è il termine che si da alla rete di programmi installati su un comput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 computer privo di alcun software non è altro che al massimo un fermaporta. L’utilità del tuo pc aumenta al crescere del numero dei programmi installati al suo interno</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er questioni di semplicità, conviene per ora considerarne solo du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Rounded MT Bold"/>
              </a:rPr>
              <a:t>Application Software</a:t>
            </a:r>
            <a:r>
              <a:rPr b="0" lang="it-IT" sz="2400" spc="-1" strike="noStrike">
                <a:solidFill>
                  <a:srgbClr val="000000"/>
                </a:solidFill>
                <a:latin typeface="Arial Rounded MT Bold"/>
              </a:rPr>
              <a:t> – Un software che consente all’utilizzatore il compimento di un’attività specifica (ad esempio tutto il pacchetto Microsof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Arial Rounded MT Bold"/>
              </a:rPr>
              <a:t>Operating System</a:t>
            </a:r>
            <a:r>
              <a:rPr b="0" lang="en-IE" sz="2400" spc="-1" strike="noStrike">
                <a:solidFill>
                  <a:srgbClr val="000000"/>
                </a:solidFill>
                <a:latin typeface="Arial Rounded MT Bold"/>
              </a:rPr>
              <a:t> – </a:t>
            </a:r>
            <a:r>
              <a:rPr b="0" lang="it-IT" sz="2400" spc="-1" strike="noStrike">
                <a:solidFill>
                  <a:srgbClr val="000000"/>
                </a:solidFill>
                <a:latin typeface="Arial Rounded MT Bold"/>
              </a:rPr>
              <a:t>Un operating system è una fonte di intermediazione tra un application software e l’hardware facilitando la comunicazione tra i due canali</a:t>
            </a:r>
            <a:endParaRPr b="0" lang="en-US" sz="2400" spc="-1" strike="noStrike">
              <a:solidFill>
                <a:srgbClr val="000000"/>
              </a:solidFill>
              <a:latin typeface="Arial"/>
            </a:endParaRPr>
          </a:p>
        </p:txBody>
      </p:sp>
      <p:sp>
        <p:nvSpPr>
          <p:cNvPr id="566"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a:t>
            </a:r>
            <a:r>
              <a:rPr b="0" lang="it-IT" sz="3800" spc="-1" strike="noStrike">
                <a:solidFill>
                  <a:srgbClr val="000000"/>
                </a:solidFill>
                <a:latin typeface="Arial Rounded MT Bold"/>
              </a:rPr>
              <a:t>ipi di</a:t>
            </a:r>
            <a:r>
              <a:rPr b="0" lang="hu-HU" sz="3800" spc="-1" strike="noStrike">
                <a:solidFill>
                  <a:srgbClr val="000000"/>
                </a:solidFill>
                <a:latin typeface="Arial Rounded MT Bold"/>
              </a:rPr>
              <a:t>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9"/>
          <p:cNvSpPr/>
          <p:nvPr/>
        </p:nvSpPr>
        <p:spPr>
          <a:xfrm>
            <a:off x="2181240" y="411948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Computer) </a:t>
            </a:r>
            <a:endParaRPr b="0" lang="en-US" sz="1600" spc="-1" strike="noStrike">
              <a:solidFill>
                <a:srgbClr val="000000"/>
              </a:solidFill>
              <a:latin typeface="Arial"/>
            </a:endParaRPr>
          </a:p>
        </p:txBody>
      </p:sp>
      <p:sp>
        <p:nvSpPr>
          <p:cNvPr id="568" name="Text Box 18"/>
          <p:cNvSpPr/>
          <p:nvPr/>
        </p:nvSpPr>
        <p:spPr>
          <a:xfrm>
            <a:off x="2181240" y="30528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erating System (Windows)</a:t>
            </a:r>
            <a:endParaRPr b="0" lang="en-US" sz="1600" spc="-1" strike="noStrike">
              <a:solidFill>
                <a:srgbClr val="000000"/>
              </a:solidFill>
              <a:latin typeface="Arial"/>
            </a:endParaRPr>
          </a:p>
        </p:txBody>
      </p:sp>
      <p:sp>
        <p:nvSpPr>
          <p:cNvPr id="569" name="Text Box 17"/>
          <p:cNvSpPr/>
          <p:nvPr/>
        </p:nvSpPr>
        <p:spPr>
          <a:xfrm>
            <a:off x="2181240" y="191628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Application Software (Word, Excel etc)</a:t>
            </a:r>
            <a:endParaRPr b="0" lang="en-US" sz="1600" spc="-1" strike="noStrike">
              <a:solidFill>
                <a:srgbClr val="000000"/>
              </a:solidFill>
              <a:latin typeface="Arial"/>
            </a:endParaRPr>
          </a:p>
        </p:txBody>
      </p:sp>
      <p:sp>
        <p:nvSpPr>
          <p:cNvPr id="570" name="Line 16"/>
          <p:cNvSpPr/>
          <p:nvPr/>
        </p:nvSpPr>
        <p:spPr>
          <a:xfrm>
            <a:off x="3979800" y="35290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5"/>
          <p:cNvSpPr/>
          <p:nvPr/>
        </p:nvSpPr>
        <p:spPr>
          <a:xfrm>
            <a:off x="3979800" y="242712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4"/>
          <p:cNvSpPr/>
          <p:nvPr/>
        </p:nvSpPr>
        <p:spPr>
          <a:xfrm flipV="1">
            <a:off x="4748040" y="35287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3"/>
          <p:cNvSpPr/>
          <p:nvPr/>
        </p:nvSpPr>
        <p:spPr>
          <a:xfrm flipV="1">
            <a:off x="4748040" y="242712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ating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Conclusione</a:t>
            </a:r>
            <a:endParaRPr b="0" lang="en-US" sz="4400" spc="-1" strike="noStrike">
              <a:solidFill>
                <a:srgbClr val="000000"/>
              </a:solidFill>
              <a:latin typeface="Arial"/>
            </a:endParaRPr>
          </a:p>
        </p:txBody>
      </p:sp>
      <p:sp>
        <p:nvSpPr>
          <p:cNvPr id="577"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ontenuti</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Come si avvia un dispositivo digital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La differenza tra hardware e softwar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endere confidenza con il mous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endere confidenza con la tastiera </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ella presente unità i partecipanti saranno introdotti ai concetti più basilari dell’informatica:</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si avvia un dispositivo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differenza tra hardware e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e funzionalità del mous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e funzionalità della tastiera</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l Desktop</a:t>
            </a:r>
            <a:endParaRPr b="0" lang="en-US" sz="3200" spc="-1" strike="noStrike">
              <a:solidFill>
                <a:srgbClr val="000000"/>
              </a:solidFill>
              <a:latin typeface="Arial"/>
            </a:endParaRPr>
          </a:p>
        </p:txBody>
      </p:sp>
      <p:sp>
        <p:nvSpPr>
          <p:cNvPr id="541" name=""/>
          <p:cNvSpPr txBox="1"/>
          <p:nvPr/>
        </p:nvSpPr>
        <p:spPr>
          <a:xfrm>
            <a:off x="324000" y="1413000"/>
            <a:ext cx="8496000" cy="4968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Desktop è la prima cosa con cui ti interfacci all’accensione del comput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tasto Start, collocato nell’angolo in basso a sinistra nella cd. Taskbar, costituisce il portale di accesso a tutte le maggiori funzionalità del tuo pc</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Quelle piccole figure che appaiono sul tuo Desktop sono chiamate Icone e costituiscono una via di accesso ai relativi programmi e funzioni cui fanno riferimento. Per aprire un’icona fai semplicemente doppio click sopra la stess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me si avvia </a:t>
            </a:r>
            <a:br>
              <a:rPr sz="3600"/>
            </a:br>
            <a:r>
              <a:rPr b="0" lang="en-IE" sz="3600" spc="-1" strike="noStrike">
                <a:solidFill>
                  <a:srgbClr val="000000"/>
                </a:solidFill>
                <a:latin typeface="Arial Rounded MT Bold"/>
              </a:rPr>
              <a:t>un dispositivo digitale? </a:t>
            </a:r>
            <a:endParaRPr b="0" lang="en-US" sz="3600" spc="-1" strike="noStrike">
              <a:solidFill>
                <a:srgbClr val="000000"/>
              </a:solidFill>
              <a:latin typeface="Arial"/>
            </a:endParaRPr>
          </a:p>
        </p:txBody>
      </p:sp>
      <p:sp>
        <p:nvSpPr>
          <p:cNvPr id="543"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Rounded MT Bold"/>
              </a:rPr>
              <a:t>Per te un breve e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Rounded MT Bold"/>
              </a:rPr>
              <a:t>semplice tutorial onlin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CONE</a:t>
            </a:r>
            <a:endParaRPr b="0" lang="en-US" sz="4000" spc="-1" strike="noStrike">
              <a:solidFill>
                <a:srgbClr val="000000"/>
              </a:solidFill>
              <a:latin typeface="Arial"/>
            </a:endParaRPr>
          </a:p>
        </p:txBody>
      </p:sp>
      <p:sp>
        <p:nvSpPr>
          <p:cNvPr id="545" name=""/>
          <p:cNvSpPr txBox="1"/>
          <p:nvPr/>
        </p:nvSpPr>
        <p:spPr>
          <a:xfrm>
            <a:off x="457200" y="2014200"/>
            <a:ext cx="8229600" cy="455940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icrosoft Word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m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nternet                                       </a:t>
            </a:r>
            <a:endParaRPr b="0" lang="en-US" sz="3200" spc="-1" strike="noStrike">
              <a:solidFill>
                <a:srgbClr val="000000"/>
              </a:solidFill>
              <a:latin typeface="Arial"/>
            </a:endParaRPr>
          </a:p>
        </p:txBody>
      </p:sp>
      <p:pic>
        <p:nvPicPr>
          <p:cNvPr id="546" name="Picture 4" descr=""/>
          <p:cNvPicPr/>
          <p:nvPr/>
        </p:nvPicPr>
        <p:blipFill>
          <a:blip r:embed="rId1"/>
          <a:stretch/>
        </p:blipFill>
        <p:spPr>
          <a:xfrm>
            <a:off x="5784840" y="1876320"/>
            <a:ext cx="1260360" cy="924120"/>
          </a:xfrm>
          <a:prstGeom prst="rect">
            <a:avLst/>
          </a:prstGeom>
          <a:ln w="0">
            <a:noFill/>
          </a:ln>
        </p:spPr>
      </p:pic>
      <p:pic>
        <p:nvPicPr>
          <p:cNvPr id="547" name="Picture 5" descr=""/>
          <p:cNvPicPr/>
          <p:nvPr/>
        </p:nvPicPr>
        <p:blipFill>
          <a:blip r:embed="rId2"/>
          <a:stretch/>
        </p:blipFill>
        <p:spPr>
          <a:xfrm>
            <a:off x="5797440" y="3027240"/>
            <a:ext cx="1441440" cy="1095480"/>
          </a:xfrm>
          <a:prstGeom prst="rect">
            <a:avLst/>
          </a:prstGeom>
          <a:ln w="0">
            <a:noFill/>
          </a:ln>
        </p:spPr>
      </p:pic>
      <p:pic>
        <p:nvPicPr>
          <p:cNvPr id="548"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astiera</a:t>
            </a:r>
            <a:endParaRPr b="0" lang="en-US" sz="3800" spc="-1" strike="noStrike">
              <a:solidFill>
                <a:srgbClr val="000000"/>
              </a:solidFill>
              <a:latin typeface="Arial"/>
            </a:endParaRPr>
          </a:p>
        </p:txBody>
      </p:sp>
      <p:sp>
        <p:nvSpPr>
          <p:cNvPr id="550" name=""/>
          <p:cNvSpPr txBox="1"/>
          <p:nvPr/>
        </p:nvSpPr>
        <p:spPr>
          <a:xfrm>
            <a:off x="457200" y="1117080"/>
            <a:ext cx="8229600" cy="5008680"/>
          </a:xfrm>
          <a:prstGeom prst="rect">
            <a:avLst/>
          </a:prstGeom>
          <a:noFill/>
          <a:ln w="0">
            <a:noFill/>
          </a:ln>
        </p:spPr>
        <p:txBody>
          <a:bodyPr anchor="t">
            <a:normAutofit fontScale="97000"/>
          </a:bodyPr>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Rounded MT Bold"/>
              </a:rPr>
              <a:t>Spacebar – </a:t>
            </a:r>
            <a:r>
              <a:rPr b="0" lang="it-IT" sz="1600" spc="-1" strike="noStrike">
                <a:solidFill>
                  <a:srgbClr val="000000"/>
                </a:solidFill>
                <a:latin typeface="Arial Rounded MT Bold"/>
              </a:rPr>
              <a:t>serve ad aggiungere uno spazio tra una parola e l’altra. Ad ogni click corrisponde un singolo spazio.</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Rounded MT Bold"/>
              </a:rPr>
              <a:t>Invio</a:t>
            </a:r>
            <a:r>
              <a:rPr b="0" lang="it-IT" sz="1600" spc="-1" strike="noStrike">
                <a:solidFill>
                  <a:srgbClr val="000000"/>
                </a:solidFill>
                <a:latin typeface="Arial Rounded MT Bold"/>
              </a:rPr>
              <a:t> – serve ad andare a capo tra una riga e l’altra</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Rounded MT Bold"/>
              </a:rPr>
              <a:t>Backspace – qualora tu avessi commesso un errore di battitura puoi correggere premendo il tasto indicatoti in figura</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Space Bar        Enter Key        Back space Key</a:t>
            </a:r>
            <a:endParaRPr b="0" lang="en-US" sz="1600" spc="-1" strike="noStrike">
              <a:solidFill>
                <a:srgbClr val="000000"/>
              </a:solidFill>
              <a:latin typeface="Arial"/>
            </a:endParaRPr>
          </a:p>
        </p:txBody>
      </p:sp>
      <p:pic>
        <p:nvPicPr>
          <p:cNvPr id="551" name="Picture 2" descr="keyboard"/>
          <p:cNvPicPr/>
          <p:nvPr/>
        </p:nvPicPr>
        <p:blipFill>
          <a:blip r:embed="rId1"/>
          <a:stretch/>
        </p:blipFill>
        <p:spPr>
          <a:xfrm>
            <a:off x="1366920" y="3387600"/>
            <a:ext cx="6410160" cy="1609920"/>
          </a:xfrm>
          <a:prstGeom prst="rect">
            <a:avLst/>
          </a:prstGeom>
          <a:ln w="0">
            <a:noFill/>
          </a:ln>
        </p:spPr>
      </p:pic>
      <p:sp>
        <p:nvSpPr>
          <p:cNvPr id="552"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4"/>
          <p:cNvSpPr/>
          <p:nvPr/>
        </p:nvSpPr>
        <p:spPr>
          <a:xfrm flipV="1">
            <a:off x="4370400" y="4549320"/>
            <a:ext cx="77616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
          <p:cNvSpPr/>
          <p:nvPr/>
        </p:nvSpPr>
        <p:spPr>
          <a:xfrm flipV="1">
            <a:off x="2933640" y="4785840"/>
            <a:ext cx="59544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 </a:t>
            </a:r>
            <a:r>
              <a:rPr b="0" lang="en-IE" sz="4000" spc="-1" strike="noStrike">
                <a:solidFill>
                  <a:srgbClr val="000000"/>
                </a:solidFill>
                <a:latin typeface="Arial Rounded MT Bold"/>
              </a:rPr>
              <a:t>Mouse</a:t>
            </a:r>
            <a:endParaRPr b="0" lang="en-US" sz="4000" spc="-1" strike="noStrike">
              <a:solidFill>
                <a:srgbClr val="000000"/>
              </a:solidFill>
              <a:latin typeface="Arial"/>
            </a:endParaRPr>
          </a:p>
        </p:txBody>
      </p:sp>
      <p:sp>
        <p:nvSpPr>
          <p:cNvPr id="556"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mouse è lo strumento che utilizzi per «muoverti» tra le varie sezioni del desktop</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er utilizzare il mouse c’è bisogno di pochissima pratic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uoi prendere confidenza iniziando a muoverlo gentilmente e dolcemente «a cerchio»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l movimento del tuo polso risponde il cursore, la freccia che vedi muoversi sul deskto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 </a:t>
            </a:r>
            <a:r>
              <a:rPr b="0" lang="en-US" sz="3400" spc="-1" strike="noStrike">
                <a:solidFill>
                  <a:srgbClr val="000000"/>
                </a:solidFill>
                <a:latin typeface="Arial Rounded MT Bold"/>
              </a:rPr>
              <a:t>MOUSE</a:t>
            </a:r>
            <a:endParaRPr b="0" lang="en-US" sz="3400" spc="-1" strike="noStrike">
              <a:solidFill>
                <a:srgbClr val="000000"/>
              </a:solidFill>
              <a:latin typeface="Arial"/>
            </a:endParaRPr>
          </a:p>
        </p:txBody>
      </p:sp>
      <p:sp>
        <p:nvSpPr>
          <p:cNvPr id="558"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THE MOUSE Techniques - Basic Personal Computer Tutorial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he cos’è l’Hardware?</a:t>
            </a:r>
            <a:endParaRPr b="0" lang="en-US" sz="4400" spc="-1" strike="noStrike">
              <a:solidFill>
                <a:srgbClr val="000000"/>
              </a:solidFill>
              <a:latin typeface="Arial"/>
            </a:endParaRPr>
          </a:p>
        </p:txBody>
      </p:sp>
      <p:sp>
        <p:nvSpPr>
          <p:cNvPr id="560"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i definisce hardware ogni parte fisica del computer, vale a dir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eyboard &amp; Mous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1"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62"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4T15:43:46Z</dcterms:modified>
  <cp:revision>487</cp:revision>
  <dc:subject/>
  <dc:title>Title</dc:title>
</cp:coreProperties>
</file>