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75A7-4176-424B-AC7E-E13D8792F19B}"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371600" y="1143000"/>
            <a:ext cx="4114800" cy="3086280"/>
          </a:xfrm>
          <a:prstGeom prst="rect">
            <a:avLst/>
          </a:prstGeom>
          <a:ln w="0">
            <a:noFill/>
          </a:ln>
        </p:spPr>
      </p:sp>
      <p:sp>
        <p:nvSpPr>
          <p:cNvPr id="5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D519-7410-42E1-AE87-946CC0C5B957}"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BBFD555-37DC-4D33-B727-80B3E9BF859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AC45606-2F04-4FA7-A370-3597E170AFB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D109BD1-F2C0-4973-964F-58D90A9EB9A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24107B7-8939-4674-BC1F-3AA405F58BD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FE6C15-1EA3-45CF-A1F5-C7DA034273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185A03-7245-440A-BCB8-A6F3CBD485F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C8278C7-AFDE-498C-B417-A60352522E9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1AE008A-8029-4E71-A059-AF06F7C39BD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752E1D9-C589-483E-884B-9AE21AF435E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3F7FC9B-D437-45B9-851C-83D11908278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8403EA7-42FB-421E-91F7-1A73D1F2CD2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1EC50E1-6495-47CD-8D31-426FFBA2571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111DE33-F4F0-4D62-A2BF-7F697529327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1FD23D6-D8E0-44CF-873D-8D70A0AB0D5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EEE3C55-B3E2-4D7B-88D8-44B6B715438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D3BE3E5-451A-455A-867E-0BADAFF98C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852D1BD-9E03-4F37-BA49-B1117262949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0E5D74-C21A-44C9-A70F-AA58063394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2C7E521-4B91-4A7F-A1A8-860ECE02FF9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1320BB9-67DE-4A99-8382-8B39160ABE5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C4345AF-5C24-4D40-83BE-532A94CB22D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2ADA025-9C43-446A-A611-7D14AC2EA98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39CE833-B473-42B4-8038-C840C322DB6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DE3214C-3533-4B5B-908E-607AD4AAADD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585F7C0-DABD-459A-8269-59B2BBC1B22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7949FDF-809F-47CC-8D53-7C3DD389BAF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9DA6107-9912-44D8-B209-A124DA29E8D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732F56-9D3F-4726-8947-B0CFE3BFD5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DE85515-2526-4C96-8456-79C9BD08485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1EC9BFD-D555-4600-8188-B8E6064B7A5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D2E9D31-B078-4475-81C9-3DA3AC6FD70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9B450D3-4225-49F1-BFF2-A851F1F5A0E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B0101E7-E07C-458E-8906-C3BC0B1F079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3D96234-858E-476F-8965-598625D738D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55A7C9A-B9FA-40B8-B2C9-8CFCFDC961B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FBDD65B-C4AE-4ABA-B4A0-9A122B0E4C3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6861372-5D06-4F71-B858-BCC01305628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0656517-E427-453B-BC42-C098DFADA11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E01F895-54FC-4209-907B-CC0B0B4A61E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00CAE0A-04DD-4A8B-951E-B63CDF77387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FB85D97-C868-4895-909A-ED354921845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24DCE99-3A71-49B5-8E9B-B2B52EED063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CF8518A-CEE7-473B-8CD2-F9DDEE477CF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BEFA769-B7D5-407F-836A-41D9574B498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5362B51-D893-4BF0-8829-8163E6BB317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EF6CDC-D4D9-4E95-95A2-70DA67AAF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383193-3B21-4229-8520-3C15172C6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1EE46F-961E-4328-99F6-60EF655D1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D33C20-9D7F-41CB-894F-1AA0821F9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9C4422-71B5-4A7B-A406-BBDEBB4A4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E71571-D637-4773-8EE9-A7545D34E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534C0-EAC2-4E59-B15D-4A15773107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A171D-5426-49FA-B297-AFE45FCB4D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CDE821-D4F9-4E8F-9F95-F88AC3689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9B878C-C0C0-48CC-84A2-FEA510E6D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B01FC8-F488-462B-B711-15C69E2FAD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D01813-03A1-4317-A6AA-6707DA6340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9C13D5A-192B-4559-821D-9FF646B9F2A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F9FC82-E0A0-4D94-898D-33A3B34AAB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A8CCD3-3B40-4B8F-872A-D417E90E54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3B2FD2-5FF8-43C3-92E0-F47625EAA6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B3FA7C-C7AB-4C02-A671-6916D06C89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2FAF04-B732-4675-8DBA-1151BB0953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528909-1CBB-4AE8-B18A-7338771EE6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1B60BC-E686-4657-9737-DE10DC697C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16B9FD-72BB-4D1B-B488-65DBB558D3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2E13B1-19EB-4A64-8CF2-4178A8B1C0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8624F0-06E8-40A9-9742-F7604E7A453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349A000-2D1C-4637-AF1F-BC45043B49C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7B9A204-D33C-4EDD-BC98-E626E7EAE99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50FB3D-8F16-4A73-95B6-9D7F7C302B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6BC1C44-E200-4E97-8974-DA50AD4AE5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0C7A03-6306-4695-A4BD-6745ECBFF8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DF9D7E-C931-4952-813B-8C55E450EC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A40564-0575-41F6-BA5B-B263678A32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7128DA-3926-4554-B70A-711B43AC55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09D58D-3AA4-4A6B-B648-838FC176B3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3C5D82-38DD-4032-9100-701FEF95CD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583107-E84C-421A-93F2-D7419289DE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1E5E05F-8107-4A37-82A2-CF1913F6AA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B4DB5A-A933-4B1B-A2BA-D021BAE9E65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DB03E88-6CC8-4D51-97D7-0F2FADDCDE4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E619C3-C6D9-4BCF-A026-DE3ABC37EEE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1202F4-5B1D-4A0C-8204-91188E5E88A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8757DC9-B8FC-430E-9F9D-DAB516E8F08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08BE12-48AC-4688-9338-8EBB0245B6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EEB369C-C886-43F9-981B-C701458CD96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51754E-B108-4A66-AF6F-AD1ABBA9BE6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9AAAC7-C44E-4BB5-B266-1170CC6279E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D1F35E-0842-456A-925C-A28D0DF6DC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5ED72A3-245C-40B2-9148-5B5587F8732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1C11DE8-57CF-45C3-87B8-9C22B8B66A3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5DB039C-7644-425A-80CF-BDD82EE8B7F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B835A67-0DBD-4587-B3DE-086F08804E5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A66F7B0-AEF2-467E-BEA5-82EA002EB53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E837875-FC27-404F-8A4D-CDF75391CBF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65AF0EC-71FD-41A6-BE98-E3020329814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628AAFC-E661-4F4C-8831-61B8B343BF9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5384EC2-4980-4615-8D24-47204FCBE7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9DF331-1AFA-40A7-B0C9-36A73F9B383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7C635A-E170-47F3-961E-EA648DC50F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462A700-EE0B-4C70-93B0-944A06C3D57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A93307F-5BFD-4FC1-9C11-425ED8C119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FDC66C5-7C6F-4DF9-A108-21E9EB598E1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79CE24D-6CCB-4C90-9437-B2B619B7A1B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E334F35-670B-4E12-92FA-C1E835314D4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C22720A-7A21-467A-BE7C-6D39DDA25FB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FC62766-463E-41BD-B7A5-9895D0011A1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495A20C-132F-4388-9671-A9C574BAECA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46AC272-4688-4516-AF79-3A4A8672F8D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0655DD0-5E38-434A-BBA7-3C7CB8771B8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FF1F1A4-A1B8-4BD2-99F8-02964EEA393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F4A5802-B792-4059-A6A7-9F04D01A417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D7DEB5-6D02-4CA5-AC59-BAB58EEFB1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A68F012-4296-44E4-A54C-766F1AEC9B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4FA6D87-3DC3-4F44-8C99-F1D0E06EB1A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D1678A8-B74E-4E32-AF31-E278005B001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74999D6-5E75-46B0-B28E-0FDF043808D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C1436D6-AB93-4AD1-B0DD-BDF74982E34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7F65D2-E49F-4B29-AA40-F6AFC133FF1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32DA-C7EF-43F8-82CE-536FA0BAF2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E70F-DFCE-4C75-9825-B545FDF4463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E60A-CC4B-4741-B14A-79E1CFC728B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B0CD-4802-4446-B082-AF1AFB94B62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5172-D983-4695-9CDB-E1D64319826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0C98-4A69-4493-AF5A-34141BBF9B0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3653-31C1-4CBB-864E-4C7F1772A3B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8350-1BFE-4C68-9D09-BDCB2962CCF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D509-FE27-4FB8-85C0-03E9244D821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6205-44CB-4602-8D65-ACFBCA15C5A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ittadinanza Digitale</a:t>
            </a:r>
            <a:endParaRPr b="0" lang="en-US" sz="3600" spc="-1" strike="noStrike">
              <a:solidFill>
                <a:srgbClr val="000000"/>
              </a:solidFill>
              <a:latin typeface="Arial"/>
            </a:endParaRPr>
          </a:p>
        </p:txBody>
      </p:sp>
      <p:sp>
        <p:nvSpPr>
          <p:cNvPr id="544" name="Rectángulo 1"/>
          <p:cNvSpPr/>
          <p:nvPr/>
        </p:nvSpPr>
        <p:spPr>
          <a:xfrm>
            <a:off x="3332160" y="3244680"/>
            <a:ext cx="534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Comunicazione &amp; Collaborazion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x. 1 </a:t>
            </a:r>
            <a:endParaRPr b="0" lang="en-US" sz="3600" spc="-1" strike="noStrike">
              <a:solidFill>
                <a:srgbClr val="000000"/>
              </a:solidFill>
              <a:latin typeface="Arial"/>
            </a:endParaRPr>
          </a:p>
        </p:txBody>
      </p:sp>
      <p:sp>
        <p:nvSpPr>
          <p:cNvPr id="564" name=""/>
          <p:cNvSpPr txBox="1"/>
          <p:nvPr/>
        </p:nvSpPr>
        <p:spPr>
          <a:xfrm>
            <a:off x="457200" y="2133720"/>
            <a:ext cx="8229600" cy="3992400"/>
          </a:xfrm>
          <a:prstGeom prst="rect">
            <a:avLst/>
          </a:prstGeom>
          <a:noFill/>
          <a:ln w="0">
            <a:noFill/>
          </a:ln>
        </p:spPr>
        <p:txBody>
          <a:bodyPr anchor="t">
            <a:normAutofit/>
          </a:bodyPr>
          <a:p>
            <a:pPr marL="514440" indent="-514440">
              <a:lnSpc>
                <a:spcPct val="10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mplete your digital leadership checklist.</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GB" sz="2800" spc="-1" strike="noStrike">
                <a:solidFill>
                  <a:srgbClr val="000000"/>
                </a:solidFill>
                <a:latin typeface="Arial Rounded MT Bold"/>
              </a:rPr>
              <a:t>To complete this optional 3 minute DELSA project exercise go to </a:t>
            </a:r>
            <a:endParaRPr b="0" lang="en-US" sz="28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http://www.digitaldelsa.eu/unit1-Excercise</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CSS - Complete, Screengrab and Submit</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I contenuti in breve</a:t>
            </a:r>
            <a:endParaRPr b="0" lang="en-US" sz="3600" spc="-1" strike="noStrike">
              <a:solidFill>
                <a:srgbClr val="000000"/>
              </a:solidFill>
              <a:latin typeface="Arial"/>
            </a:endParaRPr>
          </a:p>
        </p:txBody>
      </p:sp>
      <p:sp>
        <p:nvSpPr>
          <p:cNvPr id="566" name=""/>
          <p:cNvSpPr txBox="1"/>
          <p:nvPr/>
        </p:nvSpPr>
        <p:spPr>
          <a:xfrm>
            <a:off x="457200" y="1417680"/>
            <a:ext cx="8229600" cy="42069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Digital Skills – livello di alfabetizzazione digita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Un processo-a-due-vie – interpretare e argomentare</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Il divario digitali – fattori e cause</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Gli standards di alfabetizzazione</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Cyber-bully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484000" y="88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La “e-attitudine”</a:t>
            </a:r>
            <a:endParaRPr b="0" lang="en-US" sz="3600" spc="-1" strike="noStrike">
              <a:solidFill>
                <a:srgbClr val="000000"/>
              </a:solidFill>
              <a:latin typeface="Arial"/>
            </a:endParaRPr>
          </a:p>
        </p:txBody>
      </p:sp>
      <p:sp>
        <p:nvSpPr>
          <p:cNvPr id="568" name=""/>
          <p:cNvSpPr txBox="1"/>
          <p:nvPr/>
        </p:nvSpPr>
        <p:spPr>
          <a:xfrm>
            <a:off x="755640" y="1125000"/>
            <a:ext cx="7848720" cy="4751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Perché nel mondo digitale è così facile scontrarsi verbalmente con il prossim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Interviene in maniera dominante quello che alcuni hanno definito un principio di «deresponsabilizzazione» da ciò che viene detto/espresso come se, ciò che avviene nella rete, non ci riguardasse di persona nel mondo real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84000" y="260280"/>
            <a:ext cx="626436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Rounded MT Bold"/>
              </a:rPr>
              <a:t>Ho raggiunto i miei risultati di apprendimento?</a:t>
            </a:r>
            <a:endParaRPr b="0" lang="en-US" sz="2800" spc="-1" strike="noStrike">
              <a:solidFill>
                <a:srgbClr val="000000"/>
              </a:solidFill>
              <a:latin typeface="Arial"/>
            </a:endParaRPr>
          </a:p>
        </p:txBody>
      </p:sp>
      <p:sp>
        <p:nvSpPr>
          <p:cNvPr id="570" name="PlaceHolder 2"/>
          <p:cNvSpPr>
            <a:spLocks noGrp="1"/>
          </p:cNvSpPr>
          <p:nvPr>
            <p:ph type="subTitle"/>
          </p:nvPr>
        </p:nvSpPr>
        <p:spPr>
          <a:xfrm>
            <a:off x="216000" y="1699920"/>
            <a:ext cx="8712000" cy="4321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Sono un cittadino «digitalmente» responsabile</a:t>
            </a:r>
            <a:r>
              <a:rPr b="1" lang="en-IE" sz="2000" spc="-1" strike="noStrike">
                <a:solidFill>
                  <a:srgbClr val="000000"/>
                </a:solidFill>
                <a:latin typeface="Arial Rounded MT Bold"/>
              </a:rPr>
              <a:t>?         Si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Ho capito che cos’è l’alfabetizzazione digitale             </a:t>
            </a:r>
            <a:r>
              <a:rPr b="1" lang="en-IE" sz="2000" spc="-1" strike="noStrike">
                <a:solidFill>
                  <a:srgbClr val="000000"/>
                </a:solidFill>
                <a:latin typeface="Arial Rounded MT Bold"/>
              </a:rPr>
              <a:t>Si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Sono in grado di elelencare i modi in cui l’alfabetizzazione digitale aumenta lo standard di vita nel quotidiano                    </a:t>
            </a:r>
            <a:r>
              <a:rPr b="1" lang="en-IE" sz="2000" spc="-1" strike="noStrike">
                <a:solidFill>
                  <a:srgbClr val="000000"/>
                </a:solidFill>
                <a:latin typeface="Arial Rounded MT Bold"/>
              </a:rPr>
              <a:t>Si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Commenti personali</a:t>
            </a:r>
            <a:r>
              <a:rPr b="1" lang="en-IE"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Obiettivi</a:t>
            </a:r>
            <a:endParaRPr b="0" lang="en-US" sz="3600" spc="-1" strike="noStrike">
              <a:solidFill>
                <a:srgbClr val="000000"/>
              </a:solidFill>
              <a:latin typeface="Arial"/>
            </a:endParaRPr>
          </a:p>
        </p:txBody>
      </p:sp>
      <p:sp>
        <p:nvSpPr>
          <p:cNvPr id="546"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Nozioni e concetti esplorati nel modulo</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a cittadinanza digital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alfabetizzazione digital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4 modi in cui l’alfabetizzazione digitale migliora la tua vita quotidiana</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19528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ittadinanza digitale o semplicemente cittadinanza</a:t>
            </a:r>
            <a:endParaRPr b="0" lang="en-US" sz="3600" spc="-1" strike="noStrike">
              <a:solidFill>
                <a:srgbClr val="000000"/>
              </a:solidFill>
              <a:latin typeface="Arial"/>
            </a:endParaRPr>
          </a:p>
        </p:txBody>
      </p:sp>
      <p:sp>
        <p:nvSpPr>
          <p:cNvPr id="548" name=""/>
          <p:cNvSpPr txBox="1"/>
          <p:nvPr/>
        </p:nvSpPr>
        <p:spPr>
          <a:xfrm>
            <a:off x="457200" y="2133720"/>
            <a:ext cx="8229600" cy="39924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Il concetto di Cittadinanza indica comunemente il vincolo di appartenenza ad uno Stato con relativi obblighi e diritti</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La «Cittadinanza Digitale» è un semplice estensione della precedente che prende forma nella realtà dei dati e della ret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850840" y="620640"/>
            <a:ext cx="561636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Alfabetizzazione Digitale</a:t>
            </a:r>
            <a:endParaRPr b="0" lang="en-US" sz="3600" spc="-1" strike="noStrike">
              <a:solidFill>
                <a:srgbClr val="000000"/>
              </a:solidFill>
              <a:latin typeface="Arial"/>
            </a:endParaRPr>
          </a:p>
        </p:txBody>
      </p:sp>
      <p:sp>
        <p:nvSpPr>
          <p:cNvPr id="550" name="PlaceHolder 2"/>
          <p:cNvSpPr>
            <a:spLocks noGrp="1"/>
          </p:cNvSpPr>
          <p:nvPr>
            <p:ph type="subTitle"/>
          </p:nvPr>
        </p:nvSpPr>
        <p:spPr>
          <a:xfrm>
            <a:off x="826920" y="1557360"/>
            <a:ext cx="7632720" cy="417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Rounded MT Bold"/>
              </a:rPr>
              <a:t>Alfabetizzazione</a:t>
            </a:r>
            <a:r>
              <a:rPr b="0" lang="en-IE" sz="2400" spc="-1" strike="noStrike">
                <a:solidFill>
                  <a:srgbClr val="000000"/>
                </a:solidFill>
                <a:latin typeface="Arial Rounded MT Bold"/>
              </a:rPr>
              <a:t> – </a:t>
            </a:r>
            <a:r>
              <a:rPr b="0" lang="it-IT" sz="2400" spc="-1" strike="noStrike">
                <a:solidFill>
                  <a:srgbClr val="000000"/>
                </a:solidFill>
                <a:latin typeface="Arial Rounded MT Bold"/>
              </a:rPr>
              <a:t>la capacità di sapere leggere e scrive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Rounded MT Bold"/>
              </a:rPr>
              <a:t>Alfabetizzazione Critica </a:t>
            </a:r>
            <a:r>
              <a:rPr b="0" lang="it-IT" sz="2400" spc="-1" strike="noStrike">
                <a:solidFill>
                  <a:srgbClr val="000000"/>
                </a:solidFill>
                <a:latin typeface="Arial Rounded MT Bold"/>
              </a:rPr>
              <a:t>– quello che riesci a capire di ciò che leggi e scrivi</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Rounded MT Bold"/>
              </a:rPr>
              <a:t>Alfabetizzazione Digitale </a:t>
            </a:r>
            <a:r>
              <a:rPr b="0" lang="it-IT" sz="2400" spc="-1" strike="noStrike">
                <a:solidFill>
                  <a:srgbClr val="000000"/>
                </a:solidFill>
                <a:latin typeface="Arial Rounded MT Bold"/>
              </a:rPr>
              <a:t>– la capacità di utilizzare la tecnologia e gli strumenti informatici a proprio vantaggio e beneficio nonché una fondamentale comprensione delle implicazioni etiche e legali attorno la materi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484000" y="274320"/>
            <a:ext cx="6202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Alfabetizzazione digitale</a:t>
            </a:r>
            <a:endParaRPr b="0" lang="en-US" sz="3600" spc="-1" strike="noStrike">
              <a:solidFill>
                <a:srgbClr val="000000"/>
              </a:solidFill>
              <a:latin typeface="Arial"/>
            </a:endParaRPr>
          </a:p>
        </p:txBody>
      </p:sp>
      <p:sp>
        <p:nvSpPr>
          <p:cNvPr id="552" name=""/>
          <p:cNvSpPr txBox="1"/>
          <p:nvPr/>
        </p:nvSpPr>
        <p:spPr>
          <a:xfrm>
            <a:off x="240840" y="1993680"/>
            <a:ext cx="3467160" cy="3949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a:t>
            </a:r>
            <a:r>
              <a:rPr b="1" i="1" lang="it-IT" sz="2800" spc="-1" strike="noStrike">
                <a:solidFill>
                  <a:srgbClr val="000000"/>
                </a:solidFill>
                <a:latin typeface="Arial"/>
              </a:rPr>
              <a:t>Quella capacità che permette a ciascuno di inserirsi nelle società digitali contemporane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Rounded MT Bold"/>
              </a:rPr>
              <a:t>(Jisc, 2014)</a:t>
            </a:r>
            <a:endParaRPr b="0" lang="en-US" sz="2800" spc="-1" strike="noStrike">
              <a:solidFill>
                <a:srgbClr val="000000"/>
              </a:solidFill>
              <a:latin typeface="Arial"/>
            </a:endParaRPr>
          </a:p>
        </p:txBody>
      </p:sp>
      <p:pic>
        <p:nvPicPr>
          <p:cNvPr id="553" name="Picture 5" descr=""/>
          <p:cNvPicPr/>
          <p:nvPr/>
        </p:nvPicPr>
        <p:blipFill>
          <a:blip r:embed="rId1"/>
          <a:stretch/>
        </p:blipFill>
        <p:spPr>
          <a:xfrm>
            <a:off x="3595680" y="1557360"/>
            <a:ext cx="5297400" cy="36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Alfabetizzazione Digitale</a:t>
            </a:r>
            <a:endParaRPr b="0" lang="en-US" sz="3600" spc="-1" strike="noStrike">
              <a:solidFill>
                <a:srgbClr val="000000"/>
              </a:solidFill>
              <a:latin typeface="Arial"/>
            </a:endParaRPr>
          </a:p>
        </p:txBody>
      </p:sp>
      <p:sp>
        <p:nvSpPr>
          <p:cNvPr id="555" name=""/>
          <p:cNvSpPr txBox="1"/>
          <p:nvPr/>
        </p:nvSpPr>
        <p:spPr>
          <a:xfrm>
            <a:off x="457200" y="2060280"/>
            <a:ext cx="8229600" cy="30034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econdo alcuni studi </a:t>
            </a:r>
            <a:r>
              <a:rPr b="0" lang="en-IE" sz="2800" spc="-1" strike="noStrike">
                <a:solidFill>
                  <a:srgbClr val="000000"/>
                </a:solidFill>
                <a:latin typeface="Arial Rounded MT Bold"/>
              </a:rPr>
              <a:t>(Jones and Czerniewicz, 2010) </a:t>
            </a:r>
            <a:r>
              <a:rPr b="0" lang="it-IT" sz="2800" spc="-1" strike="noStrike">
                <a:solidFill>
                  <a:srgbClr val="000000"/>
                </a:solidFill>
                <a:latin typeface="Arial Rounded MT Bold"/>
              </a:rPr>
              <a:t>le generazioni più giovani – comunemente percepite come «native digitali» – seppur siano molto più a loro agio e confidenti con l’innovazione tecnologica, non è detto vantino livelli altrettanto elevati di digital skills e alfabetizzazione informat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115920"/>
            <a:ext cx="635652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Rounded MT Bold"/>
              </a:rPr>
              <a:t>9 Elementi</a:t>
            </a:r>
            <a:endParaRPr b="0" lang="en-US" sz="3600" spc="-1" strike="noStrike">
              <a:solidFill>
                <a:srgbClr val="000000"/>
              </a:solidFill>
              <a:latin typeface="Arial"/>
            </a:endParaRPr>
          </a:p>
        </p:txBody>
      </p:sp>
      <p:pic>
        <p:nvPicPr>
          <p:cNvPr id="557" name="Picture 5" descr=""/>
          <p:cNvPicPr/>
          <p:nvPr/>
        </p:nvPicPr>
        <p:blipFill>
          <a:blip r:embed="rId1"/>
          <a:stretch/>
        </p:blipFill>
        <p:spPr>
          <a:xfrm>
            <a:off x="399960" y="1268280"/>
            <a:ext cx="8425080" cy="4535640"/>
          </a:xfrm>
          <a:prstGeom prst="rect">
            <a:avLst/>
          </a:prstGeom>
          <a:ln w="0">
            <a:noFill/>
          </a:ln>
        </p:spPr>
      </p:pic>
      <p:sp>
        <p:nvSpPr>
          <p:cNvPr id="558" name="TextBox 3"/>
          <p:cNvSpPr/>
          <p:nvPr/>
        </p:nvSpPr>
        <p:spPr>
          <a:xfrm>
            <a:off x="399960" y="5803920"/>
            <a:ext cx="853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Rounded MT Bold"/>
              </a:rPr>
              <a:t>Adapted from Brownell /Ribble and Bailey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Image result for digital divide what are the factors"/>
          <p:cNvPicPr/>
          <p:nvPr/>
        </p:nvPicPr>
        <p:blipFill>
          <a:blip r:embed="rId1"/>
          <a:stretch/>
        </p:blipFill>
        <p:spPr>
          <a:xfrm>
            <a:off x="1116000" y="1052640"/>
            <a:ext cx="7201080" cy="4525920"/>
          </a:xfrm>
          <a:prstGeom prst="rect">
            <a:avLst/>
          </a:prstGeom>
          <a:ln w="0">
            <a:noFill/>
          </a:ln>
        </p:spPr>
      </p:pic>
      <p:sp>
        <p:nvSpPr>
          <p:cNvPr id="560" name="Téglalap 1"/>
          <p:cNvSpPr/>
          <p:nvPr/>
        </p:nvSpPr>
        <p:spPr>
          <a:xfrm>
            <a:off x="2340000" y="333360"/>
            <a:ext cx="669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Rounded MT Bold"/>
              </a:rPr>
              <a:t>Cittadinanza e divario digita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826560" y="2276280"/>
            <a:ext cx="8099640" cy="28033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Rounded MT Bold"/>
              </a:rPr>
              <a:t>Cittadinanza digitale: </a:t>
            </a:r>
            <a:r>
              <a:rPr b="0" lang="it-IT" sz="2800" spc="-1" strike="noStrike">
                <a:solidFill>
                  <a:srgbClr val="000000"/>
                </a:solidFill>
                <a:latin typeface="Arial Rounded MT Bold"/>
              </a:rPr>
              <a:t>Utilizzare Internet e i Social Media in maniera etica e responsabi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Digital Leadership: </a:t>
            </a:r>
            <a:r>
              <a:rPr b="0" lang="it-IT" sz="2800" spc="-1" strike="noStrike">
                <a:solidFill>
                  <a:srgbClr val="000000"/>
                </a:solidFill>
                <a:latin typeface="Arial Rounded MT Bold"/>
              </a:rPr>
              <a:t>Utilizzare Internet e i Social Media per migliorare il benessere degli altri</a:t>
            </a:r>
            <a:endParaRPr b="0" lang="en-US" sz="2800" spc="-1" strike="noStrike">
              <a:solidFill>
                <a:srgbClr val="000000"/>
              </a:solidFill>
              <a:latin typeface="Arial"/>
            </a:endParaRPr>
          </a:p>
        </p:txBody>
      </p:sp>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La digital leadersh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4T16:46:15Z</dcterms:modified>
  <cp:revision>480</cp:revision>
  <dc:subject/>
  <dc:title>Title</dc:title>
</cp:coreProperties>
</file>