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17E6-9127-42D6-A326-91B9C9D75D0A}"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371600" y="1143000"/>
            <a:ext cx="4114800" cy="3086280"/>
          </a:xfrm>
          <a:prstGeom prst="rect">
            <a:avLst/>
          </a:prstGeom>
          <a:ln w="0">
            <a:noFill/>
          </a:ln>
        </p:spPr>
      </p:sp>
      <p:sp>
        <p:nvSpPr>
          <p:cNvPr id="5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23D81-2273-4073-B1CD-CF950A7E9637}"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C93F46-137D-4952-A5F8-F331FDBCF97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C6C1DD8-A6D5-47B3-8EBB-7F21DBD9D6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444E28B-B2A7-42C7-AC8A-CB8161D822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F235C2-36B1-46F5-BA43-CBA30018492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B95B0A-BA85-4A25-9E57-AD14F195B8E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6C221DB-7C03-4599-A507-F19FD80E69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9940512-6DAC-435C-8360-CAEE8A64BD6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1FD93CC-0F83-40B3-BF40-710D0093221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56BC059-666D-4F7E-A1E6-81915EC5EE5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6AA1739-63FC-480E-857B-CD7F478524D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D52F2BD-5A81-4B9D-AAE1-2B0742AD0EB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FAAD28-8D58-4EE0-8438-674B2B6219A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A2F0E0A-8F88-4C99-9B32-C56A4A63BEA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10C66CE-7FC5-468C-9C3C-3447FFEFF9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EF2C6A-2F8A-4905-97F9-624CF5DCD46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9FE775-30A4-4EA8-92C1-A8021DF9EB2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A5AC094-CEFB-493A-AED6-9E7F9E950F9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967D65-9340-4FF6-863A-99A648F0EB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0F47CF7-270A-4EE0-BB04-42B4BF93321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B74BD99-D780-4EC2-883F-E2B7C1EEF6C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958A391-BC43-4349-B48A-7B1F21E8D88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88FA4BB-5409-4BF8-8E44-670B2310B0B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E28AB10-CC7A-47BE-9E1B-A585D1F75CF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3FCBFD2-42AB-4F45-8FC0-58A7E2FAEF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244C913-F508-4B3B-8600-0096041E23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9D224A-90CC-4A59-A9C9-4708218AE4E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B3C1B02-290B-4930-B97C-912DDE1277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6FE48C5-BEDD-4D9A-8DA2-D485F91B28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BEA141-A3D7-41C9-9640-78F054AC7FF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C0826F0-B303-46D6-A38D-43249568D28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B253AF5-E3C7-4376-BA1B-9772038E396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7D1FA4D-555D-4F6B-801A-AA37B0FFE74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53D8E89-B4D1-4672-897D-8B557834C64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D9D3106-32CA-4A48-B9FE-B5D85CFE197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102134-5707-472D-90C7-E7DFA0BC4C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870166-B5FE-42A1-818F-D4AC157634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2F3956-7A99-46F2-89B3-654F9E1C42A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619CB6E-7DB1-4BC7-A5FD-2AF6E8624CE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B346E4A-8E48-45DD-B2CF-1C052E80A0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092362F-F28D-44F9-A21F-B67E523409E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A48FCC-7581-4BD8-A78A-E3F537FAD36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AA0DC10-BBA7-4CA4-A8E3-0A97D260131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A915C2A-0BA1-4682-8D17-0941990AB71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E748DC7-CF91-430A-973A-95888519661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2FB2FDD-29C1-4929-98D9-D5D4C91B38B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0CC21E-77BE-455B-8153-4ED5DEE657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1ACD7-E98B-43B5-9A2C-009465C17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2EDAD1-D632-4D1C-A1E4-91355AAC7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FB915D-B9EF-4C6F-8E0D-F8CA6B9C62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B98A4-DB4B-478C-BCE0-9B17683145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E1F440-12C7-4792-B3E9-2C8A32C9E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DB612-B86E-4586-894C-9CF5F45F6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0BE31D-C90E-4B96-9053-4A82F476FC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E42D66-EC32-4478-B30E-FB0E110CD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5C8D3-1BDF-4FAF-A80C-365257DD36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633B12-3769-43E2-AB6F-F74DC773E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6920C4-8CFC-4C3C-93ED-1BE7ACBCF5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3339C2-6A81-4485-BF88-F8805377AC4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8FE57E-48CE-482E-99DB-0244F675534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A88BAF1-EA92-42EC-A311-837318FA60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A179FE-2450-46EB-B9C5-70C93FE068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032091D-3E38-4A40-BC03-BFA0B3E5DB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AB75883-1F44-4E84-9FCF-2CA21761CE1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5B0A45-377D-44C2-B8AE-8B5C31353C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CE6148D-D002-4FFB-AB8F-164C958FC49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F075227-9065-4AD5-A932-CEEBB4F62E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CF9CA8C-8481-45A9-8420-F39F17B6179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BA6F32-DE6A-434B-9707-0D020B7D4E5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B40FE70-CA1A-4690-8350-DD3543044B7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CC2E9E0-218E-4C84-8695-BF21C219635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FE46545-DF94-488F-95F0-B41231A959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885FB1-5459-487E-8BDF-DEF0278DE9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181BEA-6683-4C4B-B00C-5E1BFE2A21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77F166-0DCD-40F3-8A9B-4DF2555807D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E825F5-B07F-4914-A0B0-8B86C30FD2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214BC41-8C37-4268-A9B3-F5B69A4DBC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B764E0-8F64-4E80-9CA6-5EC5D36FCC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A8A8CA-325B-425F-B24F-A9635B756F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5D453F7-62B5-4C4B-8176-05F2999C25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629A9FF-B11B-4487-B97E-4230FECB877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2FA04E-21EA-44F0-B7D7-0EDED3796D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5C3941B-F091-4334-9724-74073AE4D9C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8AE1016-C3CA-4698-B57B-0E19AE47108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CF36C4C-5F52-4D64-BD45-74A14C9080D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A5A247C-AFA7-4C6D-8D36-EEDFF2DE69A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332CC1F-52DA-4104-96F9-8E016EF328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41CE51-8769-4849-BD63-6160403A5E9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C006C8F-F1EC-4A4A-B1B3-09129FB69F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1DB2A76-8C91-4024-91E3-FAABA9689CA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8F60C2-129B-4ED5-A205-7114399B37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71A8BD2-A2AB-4892-AC0A-906944A09AE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9A79810-2763-4B73-A83D-997E9420AE5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8F9D47-A6D5-4C1B-9F03-0866F6EFBA7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36E845F-5AD3-473A-9DA0-2F5B3382339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3CE357-9913-459C-9A2C-C68213CF887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55E04B5-6CAD-4098-B9CD-F4126546A2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8F4EC3C-1DDE-4CE0-A3D9-E0263F5D0F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AC8FD2-4C83-4D47-B82F-8D9EF52E46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133646B-A5E0-4878-9910-0A59641BBC8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A1AF76C-CFEB-4EA7-9707-3D1999E2E0A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950FB8-8E43-489E-B9F1-93D8BDB6E9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8B9535C-A340-4508-96F0-1F7C0AB8CA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3358100-678E-4195-98D2-78C847C9C76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47C641F-50DE-4D6A-BC0D-E47902A829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C5F4035-AFD1-4A2E-BA1D-F904DD61209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7C4103F-57AF-43CF-9B21-85A026F4C51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ADFB8F-4909-432B-8BB8-11E9312B78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DFADFB-A137-4EF6-8E1C-65621DA59B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0ECA5CB-C522-4C80-8299-AC99D2BCB9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2EC682B-6C4C-49D2-AC5B-1B38B600C60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D352E30-9F52-49F4-8770-2B418504C06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A8A4DFB-CB90-4DFD-94AF-910F38D0F09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788D8E-0988-4B3D-86EA-009DC1BE9B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00D7C6-A39F-4F1E-8243-AF35EE12D61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C7A6A6D-29E1-4DF1-A96C-0A58AEC5546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3141683-628B-40B3-A555-03524ABD2466}"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3D567A7-16EA-4A24-9DDF-08B11F67383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0978F00-AA6C-41F6-B7B4-1757C6A3ADB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58DF10-1324-4758-80E1-10C7DAFF51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3C3C133-A942-44B2-9239-C43662F3E05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B796-D04B-4187-99D3-B4DB1A14093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74A0-1CF8-494D-8DC8-894903BEF0C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45C6E-8A64-4105-8383-9B27AFE72E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C16D-125C-4682-AE87-C4D94846C4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B02C-5258-4323-9A9D-795F0CD19F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57A37-220E-4560-A6DC-A91524AE95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B26A-1C40-44BB-ABDC-2F0EECFDDE3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BE4E5-0AD9-4C5B-88E3-845E4AC1907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31B6-6299-4A0E-8825-3268062DF1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C7A8F-0803-4A71-911F-79198A9543B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ttadinanza Digitale</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unicazione &amp; Collaborazion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 1 </a:t>
            </a:r>
            <a:endParaRPr b="0" lang="en-US" sz="3600" spc="-1" strike="noStrike">
              <a:solidFill>
                <a:srgbClr val="000000"/>
              </a:solidFill>
              <a:latin typeface="Arial"/>
            </a:endParaRPr>
          </a:p>
        </p:txBody>
      </p:sp>
      <p:sp>
        <p:nvSpPr>
          <p:cNvPr id="564"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plete your digital leadership checklis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To complete this optional 3 minute DELSA project exercise go to </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Complete, Screengrab and Subm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I contenuti in breve</a:t>
            </a:r>
            <a:endParaRPr b="0" lang="en-US" sz="3600" spc="-1" strike="noStrike">
              <a:solidFill>
                <a:srgbClr val="000000"/>
              </a:solidFill>
              <a:latin typeface="Arial"/>
            </a:endParaRPr>
          </a:p>
        </p:txBody>
      </p:sp>
      <p:sp>
        <p:nvSpPr>
          <p:cNvPr id="566" name=""/>
          <p:cNvSpPr txBox="1"/>
          <p:nvPr/>
        </p:nvSpPr>
        <p:spPr>
          <a:xfrm>
            <a:off x="457200" y="1417680"/>
            <a:ext cx="8229600" cy="42069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Digital Skills – livello di alfabetizzazione digita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 processo-a-due-vie – interpretare e argomentar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l divario digitali – fattori e caus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Gli standards di alfabetizzazion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bull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La “e-attitudine”</a:t>
            </a:r>
            <a:endParaRPr b="0" lang="en-US" sz="3600" spc="-1" strike="noStrike">
              <a:solidFill>
                <a:srgbClr val="000000"/>
              </a:solidFill>
              <a:latin typeface="Arial"/>
            </a:endParaRPr>
          </a:p>
        </p:txBody>
      </p:sp>
      <p:sp>
        <p:nvSpPr>
          <p:cNvPr id="568" name=""/>
          <p:cNvSpPr txBox="1"/>
          <p:nvPr/>
        </p:nvSpPr>
        <p:spPr>
          <a:xfrm>
            <a:off x="755640" y="1125000"/>
            <a:ext cx="7848720" cy="475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Perché nel mondo digitale è così facile scontrarsi verbalmente con il prossim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nterviene in maniera dominante quello che alcuni hanno definito un principio di «deresponsabilizzazione» da ciò che viene detto/espresso come se, ciò che avviene nella rete, non ci riguardasse di persona nel mondo real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Ho raggiunto i miei risultati di apprendimento?</a:t>
            </a:r>
            <a:endParaRPr b="0" lang="en-US" sz="2800" spc="-1" strike="noStrike">
              <a:solidFill>
                <a:srgbClr val="000000"/>
              </a:solidFill>
              <a:latin typeface="Arial"/>
            </a:endParaRPr>
          </a:p>
        </p:txBody>
      </p:sp>
      <p:sp>
        <p:nvSpPr>
          <p:cNvPr id="570"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Sono un cittadino «digitalmente» responsabile</a:t>
            </a:r>
            <a:r>
              <a:rPr b="1" lang="en-IE" sz="2000" spc="-1" strike="noStrike">
                <a:solidFill>
                  <a:srgbClr val="000000"/>
                </a:solidFill>
                <a:latin typeface="Arial Rounded MT Bold"/>
              </a:rPr>
              <a:t>?         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Ho capito che cos’è l’alfabetizzazione digitale             </a:t>
            </a:r>
            <a:r>
              <a:rPr b="1" lang="en-IE" sz="2000" spc="-1" strike="noStrike">
                <a:solidFill>
                  <a:srgbClr val="000000"/>
                </a:solidFill>
                <a:latin typeface="Arial Rounded MT Bold"/>
              </a:rPr>
              <a:t>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Sono in grado di elelencare i modi in cui l’alfabetizzazione digitale aumenta lo standard di vita nel quotidiano                    </a:t>
            </a:r>
            <a:r>
              <a:rPr b="1" lang="en-IE" sz="2000" spc="-1" strike="noStrike">
                <a:solidFill>
                  <a:srgbClr val="000000"/>
                </a:solidFill>
                <a:latin typeface="Arial Rounded MT Bold"/>
              </a:rPr>
              <a:t>Si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Rounded MT Bold"/>
              </a:rPr>
              <a:t>Commenti personali</a:t>
            </a:r>
            <a:r>
              <a:rPr b="1" lang="en-IE"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Obiettivi</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ozioni e concetti esplorati nel modulo</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cittadinanza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lfabetizzazione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4 modi in cui l’alfabetizzazione digitale migliora la tua vita quotidian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ttadinanza digitale o semplicemente cittadinanza</a:t>
            </a:r>
            <a:endParaRPr b="0" lang="en-US" sz="3600" spc="-1" strike="noStrike">
              <a:solidFill>
                <a:srgbClr val="000000"/>
              </a:solidFill>
              <a:latin typeface="Arial"/>
            </a:endParaRPr>
          </a:p>
        </p:txBody>
      </p:sp>
      <p:sp>
        <p:nvSpPr>
          <p:cNvPr id="548"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l concetto di Cittadinanza indica comunemente il vincolo di appartenenza ad uno Stato con relativi obblighi e diritt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La «Cittadinanza Digitale» è un semplice estensione della precedente che prende forma nella realtà dei dati e della ret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850840" y="62064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0"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a:t>
            </a:r>
            <a:r>
              <a:rPr b="0" lang="en-IE" sz="2400" spc="-1" strike="noStrike">
                <a:solidFill>
                  <a:srgbClr val="000000"/>
                </a:solidFill>
                <a:latin typeface="Arial Rounded MT Bold"/>
              </a:rPr>
              <a:t> – </a:t>
            </a:r>
            <a:r>
              <a:rPr b="0" lang="it-IT" sz="2400" spc="-1" strike="noStrike">
                <a:solidFill>
                  <a:srgbClr val="000000"/>
                </a:solidFill>
                <a:latin typeface="Arial Rounded MT Bold"/>
              </a:rPr>
              <a:t>la capacità di sapere leggere e scrive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 Critica </a:t>
            </a:r>
            <a:r>
              <a:rPr b="0" lang="it-IT" sz="2400" spc="-1" strike="noStrike">
                <a:solidFill>
                  <a:srgbClr val="000000"/>
                </a:solidFill>
                <a:latin typeface="Arial Rounded MT Bold"/>
              </a:rPr>
              <a:t>– quello che riesci a capire di ciò che leggi e scrivi</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Rounded MT Bold"/>
              </a:rPr>
              <a:t>Alfabetizzazione Digitale </a:t>
            </a:r>
            <a:r>
              <a:rPr b="0" lang="it-IT" sz="2400" spc="-1" strike="noStrike">
                <a:solidFill>
                  <a:srgbClr val="000000"/>
                </a:solidFill>
                <a:latin typeface="Arial Rounded MT Bold"/>
              </a:rPr>
              <a:t>– la capacità di utilizzare la tecnologia e gli strumenti informatici a proprio vantaggio e beneficio nonché una fondamentale comprensione delle implicazioni etiche e legali attorno la materi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2"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a:t>
            </a:r>
            <a:r>
              <a:rPr b="1" i="1" lang="it-IT" sz="2800" spc="-1" strike="noStrike">
                <a:solidFill>
                  <a:srgbClr val="000000"/>
                </a:solidFill>
                <a:latin typeface="Arial"/>
              </a:rPr>
              <a:t>Quella capacità che permette a ciascuno di inserirsi nelle società digitali contemporane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Rounded MT Bold"/>
              </a:rPr>
              <a:t>(Jisc, 2014)</a:t>
            </a:r>
            <a:endParaRPr b="0" lang="en-US" sz="2800" spc="-1" strike="noStrike">
              <a:solidFill>
                <a:srgbClr val="000000"/>
              </a:solidFill>
              <a:latin typeface="Arial"/>
            </a:endParaRPr>
          </a:p>
        </p:txBody>
      </p:sp>
      <p:pic>
        <p:nvPicPr>
          <p:cNvPr id="553"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lfabetizzazione Digitale</a:t>
            </a:r>
            <a:endParaRPr b="0" lang="en-US" sz="3600" spc="-1" strike="noStrike">
              <a:solidFill>
                <a:srgbClr val="000000"/>
              </a:solidFill>
              <a:latin typeface="Arial"/>
            </a:endParaRPr>
          </a:p>
        </p:txBody>
      </p:sp>
      <p:sp>
        <p:nvSpPr>
          <p:cNvPr id="555" name=""/>
          <p:cNvSpPr txBox="1"/>
          <p:nvPr/>
        </p:nvSpPr>
        <p:spPr>
          <a:xfrm>
            <a:off x="457200" y="2060280"/>
            <a:ext cx="8229600" cy="30034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condo alcuni studi </a:t>
            </a:r>
            <a:r>
              <a:rPr b="0" lang="en-IE" sz="2800" spc="-1" strike="noStrike">
                <a:solidFill>
                  <a:srgbClr val="000000"/>
                </a:solidFill>
                <a:latin typeface="Arial Rounded MT Bold"/>
              </a:rPr>
              <a:t>(Jones and Czerniewicz, 2010) </a:t>
            </a:r>
            <a:r>
              <a:rPr b="0" lang="it-IT" sz="2800" spc="-1" strike="noStrike">
                <a:solidFill>
                  <a:srgbClr val="000000"/>
                </a:solidFill>
                <a:latin typeface="Arial Rounded MT Bold"/>
              </a:rPr>
              <a:t>le generazioni più giovani – comunemente percepite come «native digitali» – seppur siano molto più a loro agio e confidenti con l’innovazione tecnologica, non è detto vantino livelli altrettanto elevati di digital skills e alfabetizzazione informat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9 Elementi</a:t>
            </a:r>
            <a:endParaRPr b="0" lang="en-US" sz="3600" spc="-1" strike="noStrike">
              <a:solidFill>
                <a:srgbClr val="000000"/>
              </a:solidFill>
              <a:latin typeface="Arial"/>
            </a:endParaRPr>
          </a:p>
        </p:txBody>
      </p:sp>
      <p:pic>
        <p:nvPicPr>
          <p:cNvPr id="557" name="Picture 5" descr=""/>
          <p:cNvPicPr/>
          <p:nvPr/>
        </p:nvPicPr>
        <p:blipFill>
          <a:blip r:embed="rId1"/>
          <a:stretch/>
        </p:blipFill>
        <p:spPr>
          <a:xfrm>
            <a:off x="399960" y="1268280"/>
            <a:ext cx="8425080" cy="4535640"/>
          </a:xfrm>
          <a:prstGeom prst="rect">
            <a:avLst/>
          </a:prstGeom>
          <a:ln w="0">
            <a:noFill/>
          </a:ln>
        </p:spPr>
      </p:pic>
      <p:sp>
        <p:nvSpPr>
          <p:cNvPr id="558"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0"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Rounded MT Bold"/>
              </a:rPr>
              <a:t>Cittadinanza e divario digita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826560" y="2276280"/>
            <a:ext cx="8099640" cy="28033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Rounded MT Bold"/>
              </a:rPr>
              <a:t>Cittadinanza digitale: </a:t>
            </a:r>
            <a:r>
              <a:rPr b="0" lang="it-IT" sz="2800" spc="-1" strike="noStrike">
                <a:solidFill>
                  <a:srgbClr val="000000"/>
                </a:solidFill>
                <a:latin typeface="Arial Rounded MT Bold"/>
              </a:rPr>
              <a:t>Utilizzare Internet e i Social Media in maniera etica e responsabil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Leadership: </a:t>
            </a:r>
            <a:r>
              <a:rPr b="0" lang="it-IT" sz="2800" spc="-1" strike="noStrike">
                <a:solidFill>
                  <a:srgbClr val="000000"/>
                </a:solidFill>
                <a:latin typeface="Arial Rounded MT Bold"/>
              </a:rPr>
              <a:t>Utilizzare Internet e i Social Media per migliorare il benessere degli altri</a:t>
            </a:r>
            <a:endParaRPr b="0" lang="en-US" sz="28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La digital leadershi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4T16:46:15Z</dcterms:modified>
  <cp:revision>480</cp:revision>
  <dc:subject/>
  <dc:title>Title</dc:title>
</cp:coreProperties>
</file>