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15A9EF2-2F81-4B33-8ECE-5A482FCB991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DA00EDA-7C9C-4257-8A5C-A0034B3B13F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4A7BEDA-7C99-405E-B880-C855BE6A33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E7F759-E5FA-4E2D-8E55-C28EC1ED94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45139D-EA64-4CEB-9C12-9E242862ED2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258701-5BB6-479D-8800-8C4190276B4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C9B71BA-3421-461A-B41A-BE223000245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8D41D2D-222B-4A2F-99D5-2816CEE6ABD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D850550-865F-4600-8526-4193BEA51EB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BEDA908-0842-4004-9FB6-E372593F08E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C80292B-C7FC-4835-9FF2-1AB3AB0CE2B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524CB94-00B9-48DD-8018-48C4E42758F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4414FD6-82CA-409A-AD01-05056FDD0FE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C9F187E-90D2-4124-A856-DB84E63E36F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C7A0D45-3E76-4F19-8984-36A13ED4F87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DE1DC19-6A64-4FDD-A21C-5271CD44D0C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8467369-A40B-40FE-8807-407201E84A9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C452DF0-525D-4A38-8888-6568819D259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D74AA9B-6FF5-45BF-B76B-96A91963BFC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D70C0F5-76B4-4BD6-BF44-63EEF2D48EA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997E946-D033-4997-A37F-42130C06A6F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D1AC7D1-F721-467E-9BF3-47DC8B838A3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9711B1C-891A-44F7-B766-588F59A81D4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C35A744-4696-4E57-BC43-C9C2E09184D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DB0F7C7-30BE-4A8F-82E8-FAB68CC3358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0C71695-0097-443D-B59B-38FEAB92E0A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3A1E5A1-9514-42A9-98B6-A6A088F0ABB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679F8AA-BE43-487A-9C8F-F78E5C46E2D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1EBF9D2-3320-4EEB-ADEC-CD7D939826F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E44668D-502E-4CA9-8131-DA287B564CE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1C97714-AE04-485F-B6B9-DDE180997F1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F50CD75-9A56-448F-BBC2-9B4FCB78028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9413743-0F6A-488A-806F-CF41551DD5A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202A4A4-24EC-4430-8B46-EBA418F98EC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8EB12A0-B7DE-4D50-BE1C-DE6342AE94C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26379F8-FF0B-45CC-AF13-5A6EED8DDD5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EC5F6F3-A4AA-44DF-8019-A871C96FE75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3F6B4D9-9748-4B5F-BF51-87970DEA2D5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5566A6D-D5F1-4225-9C34-3D135043CB7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02BD39A-777B-4DFC-BC13-99DE3ED40FF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41BEC7E-87F7-43D9-B3F2-5F88867069F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722DD8C-DF54-431A-83EB-865932D84D0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799721C-AE29-4788-8D9E-E73F69D9B59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D6F9436-F07F-4B1C-ADA6-C301FE69234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0B7690E-08FD-4766-8B87-3ED7FC4AF14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990D80-0DB0-4D3D-9559-DE5CC4E3B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826F94-CC85-4112-BC5B-3B7AC1EEA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D9988-28BF-4700-98DD-B7F12F1688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A6026-2828-40A8-BE24-08EDE11AC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403FCB-E2CD-4CE1-BBE6-8DB6D8A72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4D6E74-2DBE-4C5E-A02A-DDA0BE948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CAAA4-49FB-41A5-8520-961537926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E7565-A3F8-4A58-87CA-52A79DAE98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EA7AC9-F97A-45CF-A1AB-E438D1E12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DEDECE-DB8F-42FB-9C38-C193BB8D4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8EAB64-B5B2-4F40-8AC8-00A81079EC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6990D1-AA23-48D3-93AF-AA2B415909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93E256C-533C-477B-A747-8CDC303114F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D55BC1-7983-4586-9052-D0262FB4AF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1027F1-E1D6-4CE6-A975-A130DAF08FE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D7A981-CBD2-48DD-91D9-59FC73E65A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23E51B-CD0C-4E3C-A50F-2D986B0A32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A628E0-D51E-4E4A-AC5F-E75790ABB3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47C3B0-8D54-4EF7-AA59-2C3B9F784D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06B028-0269-43CD-9BBC-CC3AFDA2FF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1A68E0-87B1-41E9-902C-A22A1F777D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28C9D6-6465-457E-8AD5-2BBBEB8058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E4E234B-1FD8-43D7-8068-EDA468BD7A9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2C2C625-38E7-4050-A6DC-AAA9341D80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61E8FD8-1775-4D6C-9866-D507E227D8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F7A569-C956-4447-9D9F-82D9FAB85B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2833E1-0331-4A54-82DF-81330FEFE1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F09763-A32B-4C6B-937F-75EDB7105E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7DF72F-98F6-45DD-9245-174FF6F7FC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84C718A-CCCF-4210-AF92-4B5350EEF7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570657-F0F7-4F78-B81A-B6EB7D34E6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F3D5BE-31A0-42EF-8211-7F7064F70C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3AFC22-1275-4D29-B648-2607367226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F103472-79F2-432B-94B1-B8DA96377D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9DD466C-1F20-42F2-A4E8-E211D93809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D35771-D8A5-4964-A11E-AC9E1ACB13D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BC65B43-47D5-498D-B8BD-9742DC60D2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DA1D74A-FB2D-4415-90F2-28CC03CC582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4939C44-4C21-4C68-8BE2-0BABBE9564F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A8C1AA0-7597-445E-AC0A-650AB7FE17E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B12CD23-4B73-4D55-910F-44CFCC335EE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A7A261-BC49-4B2E-B7AF-E4576CF012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043A77-9775-43FB-9571-6308A604C5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01378E-6877-4E39-B209-F4035D6A1FE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EA9837-B81E-4EC9-B0F7-52FC4232046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1C7E704-B061-4CED-92A8-2B63BDDD427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01D9F95-32B0-4C8F-A2ED-D1249D53A0D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B2DEADB-12DF-4712-87C3-4AF041FFF4E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9C3D619-9A80-4F61-A806-7A9AA5D2E5D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7C1A798-F6E4-4CC8-98FC-6D976C127F7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F3EE4E7-D3F6-4734-A9F7-A4DF1965332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4DE48D8-FCE5-4702-94F7-34E35A859C1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228474D-E535-48A9-9B4B-D480C3056BC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B05A169-CDF4-4077-B6FC-55C2BCDBCAC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DE9E31-BC39-499C-AC68-BB1A1B9B5C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4078FD0-D8B5-4FD6-B325-E7AD871A74C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8A8A44-EA73-4014-8377-91C63C73168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A64E1F-B10E-4E6D-84DD-35E9FD7A966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1ACF9DA-1A28-4E38-8F18-7F261AB3FCC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612743A-23B4-48E4-9CB8-C254D9805E2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0E6A6F5-5C11-45AB-A338-7A97CF14E05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D2FECE7-8158-4397-9911-FEA3E9402A8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44636DF-3D0E-4163-A7AD-C5790ED0E7D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09296D-6158-4615-A9CD-D2264BAA352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92E3BC-5205-4626-B7CF-ABBD3E5CCA3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C37F28E-2D75-4BED-A466-99906205ADB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D36DB4-0675-49A7-BD8F-FADE9C0D6A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17597BA-890D-40CF-8D2A-6DDDF4B6BC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C8DE5E-44F4-42CA-B201-DD2B1975720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30144AC-3DF3-41E8-8AF6-483C0C6366E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B0119DB-9B3E-43F1-9359-5E54B032FF4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2C6F648-7C70-417F-8A8E-56434EB9955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48332B2-FE66-4CB2-838A-D15B5FF8B7A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5BCC2AF-91F6-41AE-867B-2603546425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E91F82E-743F-4D16-BA7F-6BA2F2122DE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ECEE-9A3C-4A2B-AD55-A6EC68EB672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026E-4EE1-45CF-89C4-8EA1EEEE942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1BFB-0823-4576-8B93-3DA4E84074F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81D1-86DF-4FB1-B722-34D1EB4A95B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A72A-A08E-48A7-805D-11DAC8BDB55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E862-170C-4569-9155-5C23FC80DD6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43CC-E1CC-485D-BDDE-72FDB69FBE4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C7F0-C013-4844-B3FA-29E4E89E152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DE7E-8628-4643-A331-AE195115CEF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6378-8922-4DFA-8909-4A8EF7FFF8A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JIo-V0beaBw"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Sicurezza</a:t>
            </a:r>
            <a:endParaRPr b="0" lang="en-US" sz="3600" spc="-1" strike="noStrike">
              <a:solidFill>
                <a:srgbClr val="000000"/>
              </a:solidFill>
              <a:latin typeface="Arial"/>
            </a:endParaRPr>
          </a:p>
        </p:txBody>
      </p:sp>
      <p:sp>
        <p:nvSpPr>
          <p:cNvPr id="537" name="Rectángulo 1"/>
          <p:cNvSpPr/>
          <p:nvPr/>
        </p:nvSpPr>
        <p:spPr>
          <a:xfrm>
            <a:off x="34920" y="3141720"/>
            <a:ext cx="8872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Proteggere la Privacy e i Dati Personal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Gestire la reputazione e l’identità digitale</a:t>
            </a:r>
            <a:endParaRPr b="0" lang="en-US" sz="3600" spc="-1" strike="noStrike">
              <a:solidFill>
                <a:srgbClr val="000000"/>
              </a:solidFill>
              <a:latin typeface="Arial"/>
            </a:endParaRPr>
          </a:p>
        </p:txBody>
      </p:sp>
      <p:sp>
        <p:nvSpPr>
          <p:cNvPr id="560" name=""/>
          <p:cNvSpPr txBox="1"/>
          <p:nvPr/>
        </p:nvSpPr>
        <p:spPr>
          <a:xfrm>
            <a:off x="-181080" y="1424160"/>
            <a:ext cx="5329440" cy="374400"/>
          </a:xfrm>
          <a:prstGeom prst="rect">
            <a:avLst/>
          </a:prstGeom>
          <a:noFill/>
          <a:ln w="0">
            <a:noFill/>
          </a:ln>
        </p:spPr>
        <p:txBody>
          <a:bodyPr anchor="t">
            <a:normAutofit fontScale="77000"/>
          </a:bodyPr>
          <a:p>
            <a:pPr lvl="1" marL="572040" indent="-21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he cos’è l’identità digitale?</a:t>
            </a:r>
            <a:endParaRPr b="0" lang="en-US" sz="2400" spc="-1" strike="noStrike">
              <a:solidFill>
                <a:srgbClr val="000000"/>
              </a:solidFill>
              <a:latin typeface="Arial"/>
            </a:endParaRPr>
          </a:p>
        </p:txBody>
      </p:sp>
      <p:sp>
        <p:nvSpPr>
          <p:cNvPr id="561" name="CasellaDiTesto 1"/>
          <p:cNvSpPr/>
          <p:nvPr/>
        </p:nvSpPr>
        <p:spPr>
          <a:xfrm>
            <a:off x="108000" y="1989000"/>
            <a:ext cx="8712000" cy="2562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Quello che raccontiamo di noi online, come, dove e perché è riflesso di un nostro sistema interno di valori </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L’identità digitale non è altro che un’estensione delle nostra identità nel mondo reale</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Parlare di identità digitale vuol dire provare a ragionare su una serie di domande che circondano la nostra persona e governano il nostro ag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536920" y="109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Gestire la reputazione e l’identità digitale</a:t>
            </a:r>
            <a:endParaRPr b="0" lang="en-US" sz="3200" spc="-1" strike="noStrike">
              <a:solidFill>
                <a:srgbClr val="000000"/>
              </a:solidFill>
              <a:latin typeface="Arial"/>
            </a:endParaRPr>
          </a:p>
        </p:txBody>
      </p:sp>
      <p:sp>
        <p:nvSpPr>
          <p:cNvPr id="563" name=""/>
          <p:cNvSpPr txBox="1"/>
          <p:nvPr/>
        </p:nvSpPr>
        <p:spPr>
          <a:xfrm>
            <a:off x="-252720" y="1568160"/>
            <a:ext cx="5761080" cy="4921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e cos’è la reputazione digital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CasellaDiTesto 6"/>
          <p:cNvSpPr/>
          <p:nvPr/>
        </p:nvSpPr>
        <p:spPr>
          <a:xfrm>
            <a:off x="108000" y="2479680"/>
            <a:ext cx="8785080" cy="2765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me la reputazione di ciascuno di noi</a:t>
            </a:r>
            <a:r>
              <a:rPr b="0" lang="it-IT" sz="2000" spc="-1" strike="noStrike">
                <a:solidFill>
                  <a:srgbClr val="000000"/>
                </a:solidFill>
                <a:latin typeface="Arial Rounded MT Bold"/>
              </a:rPr>
              <a:t> è indicatore delle percezione che gli </a:t>
            </a:r>
            <a:r>
              <a:rPr b="0" i="1" lang="it-IT" sz="2000" spc="-1" strike="noStrike">
                <a:solidFill>
                  <a:srgbClr val="000000"/>
                </a:solidFill>
                <a:latin typeface="Arial Rounded MT Bold"/>
              </a:rPr>
              <a:t>altri  </a:t>
            </a:r>
            <a:r>
              <a:rPr b="0" lang="it-IT" sz="2000" spc="-1" strike="noStrike">
                <a:solidFill>
                  <a:srgbClr val="000000"/>
                </a:solidFill>
                <a:latin typeface="Arial Rounded MT Bold"/>
              </a:rPr>
              <a:t>hanno della nostra persona…</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it-IT" sz="2000" spc="-1" strike="noStrike">
                <a:solidFill>
                  <a:srgbClr val="000000"/>
                </a:solidFill>
                <a:latin typeface="Arial Rounded MT Bold"/>
              </a:rPr>
              <a:t>la reputazione digitale è indicatore delle percezioni che gli </a:t>
            </a:r>
            <a:r>
              <a:rPr b="0" i="1" lang="it-IT" sz="2000" spc="-1" strike="noStrike">
                <a:solidFill>
                  <a:srgbClr val="000000"/>
                </a:solidFill>
                <a:latin typeface="Arial Rounded MT Bold"/>
              </a:rPr>
              <a:t>altri </a:t>
            </a:r>
            <a:r>
              <a:rPr b="0" lang="it-IT" sz="2000" spc="-1" strike="noStrike">
                <a:solidFill>
                  <a:srgbClr val="000000"/>
                </a:solidFill>
                <a:latin typeface="Arial Rounded MT Bold"/>
              </a:rPr>
              <a:t>hanno della nostra persona in base all’immagine soggettiva che curiamo onlin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B: Chi è all’esterno non è detto che colga perfettamente i valori che stiamo cercando di comunicar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Gestire la reputazione e l’identità digitale</a:t>
            </a:r>
            <a:endParaRPr b="0" lang="en-US" sz="3200" spc="-1" strike="noStrike">
              <a:solidFill>
                <a:srgbClr val="000000"/>
              </a:solidFill>
              <a:latin typeface="Arial"/>
            </a:endParaRPr>
          </a:p>
        </p:txBody>
      </p:sp>
      <p:sp>
        <p:nvSpPr>
          <p:cNvPr id="566" name=""/>
          <p:cNvSpPr txBox="1"/>
          <p:nvPr/>
        </p:nvSpPr>
        <p:spPr>
          <a:xfrm>
            <a:off x="-360" y="1341000"/>
            <a:ext cx="7931160" cy="574920"/>
          </a:xfrm>
          <a:prstGeom prst="rect">
            <a:avLst/>
          </a:prstGeom>
          <a:noFill/>
          <a:ln w="0">
            <a:noFill/>
          </a:ln>
        </p:spPr>
        <p:txBody>
          <a:bodyPr anchor="t">
            <a:normAutofit fontScale="59000"/>
          </a:bodyPr>
          <a:p>
            <a:pPr lvl="1" marL="438120" indent="-168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38120" indent="-168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tà e reputazione digitale </a:t>
            </a:r>
            <a:endParaRPr b="0" lang="en-US" sz="2400" spc="-1" strike="noStrike">
              <a:solidFill>
                <a:srgbClr val="000000"/>
              </a:solidFill>
              <a:latin typeface="Arial"/>
            </a:endParaRPr>
          </a:p>
          <a:p>
            <a:pPr lvl="1" marL="438120" indent="-168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CasellaDiTesto 6"/>
          <p:cNvSpPr/>
          <p:nvPr/>
        </p:nvSpPr>
        <p:spPr>
          <a:xfrm>
            <a:off x="179280" y="2503440"/>
            <a:ext cx="8785440" cy="2092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Un’immagine digitale affidabile di noi stessi ha ripercussioni positive sulla vita «reale» di tutti i giorni</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È cruciale riuscire ad allineare le due dimensioni rispetto a quei valori e quei credi desiderabili e comunemente condivisi dal buon senso collet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Gestire la reputazione e l’identità digitale</a:t>
            </a:r>
            <a:endParaRPr b="0" lang="en-US" sz="3200" spc="-1" strike="noStrike">
              <a:solidFill>
                <a:srgbClr val="000000"/>
              </a:solidFill>
              <a:latin typeface="Arial"/>
            </a:endParaRPr>
          </a:p>
        </p:txBody>
      </p:sp>
      <p:sp>
        <p:nvSpPr>
          <p:cNvPr id="569" name=""/>
          <p:cNvSpPr txBox="1"/>
          <p:nvPr/>
        </p:nvSpPr>
        <p:spPr>
          <a:xfrm>
            <a:off x="-3600" y="1484280"/>
            <a:ext cx="7931160" cy="6890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tà e reputazione digitale</a:t>
            </a:r>
            <a:endParaRPr b="0" lang="en-US" sz="2400" spc="-1" strike="noStrike">
              <a:solidFill>
                <a:srgbClr val="000000"/>
              </a:solidFill>
              <a:latin typeface="Arial"/>
            </a:endParaRPr>
          </a:p>
        </p:txBody>
      </p:sp>
      <p:sp>
        <p:nvSpPr>
          <p:cNvPr id="570" name="CasellaDiTesto 1"/>
          <p:cNvSpPr/>
          <p:nvPr/>
        </p:nvSpPr>
        <p:spPr>
          <a:xfrm>
            <a:off x="250920" y="1989000"/>
            <a:ext cx="8642160" cy="23799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er anni gli esperti di comunicazione </a:t>
            </a:r>
            <a:r>
              <a:rPr b="0" lang="it-IT" sz="2000" spc="-1" strike="noStrike">
                <a:solidFill>
                  <a:srgbClr val="000000"/>
                </a:solidFill>
                <a:latin typeface="Arial Rounded MT Bold"/>
              </a:rPr>
              <a:t>hanno prodotto lunghe liste di best practices applicabili al concetto di reputation e – a questo punto – digital reputation</a:t>
            </a: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Quello che è derivato da questi lunghi studi può essere riassunto banalmente in pochi semplicissimi punti (seg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Gestire la reputazione e l’identità digitale</a:t>
            </a:r>
            <a:endParaRPr b="0" lang="en-US" sz="3200" spc="-1" strike="noStrike">
              <a:solidFill>
                <a:srgbClr val="000000"/>
              </a:solidFill>
              <a:latin typeface="Arial"/>
            </a:endParaRPr>
          </a:p>
        </p:txBody>
      </p:sp>
      <p:sp>
        <p:nvSpPr>
          <p:cNvPr id="572"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tà e reputazione digitale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CasellaDiTesto 6"/>
          <p:cNvSpPr/>
          <p:nvPr/>
        </p:nvSpPr>
        <p:spPr>
          <a:xfrm>
            <a:off x="179280" y="2133720"/>
            <a:ext cx="9144000" cy="367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ii credibile e affidabile</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Ingaggia un dialogo costruttivo</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ccetta i feedback negativi con atteggiamento maturo</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t>
            </a:r>
            <a:r>
              <a:rPr b="0" lang="it-IT" sz="2000" spc="-1" strike="noStrike">
                <a:solidFill>
                  <a:srgbClr val="000000"/>
                </a:solidFill>
                <a:latin typeface="Arial Rounded MT Bold"/>
              </a:rPr>
              <a:t>Abbraccia’ il rischio di essere smentito/frainteso</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arla con sincerità ma rispetto</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scolta e accogli il diverso</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53840" y="252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GDPR – Regolamento UE sulla protezione dei dati</a:t>
            </a:r>
            <a:endParaRPr b="0" lang="en-US" sz="3600" spc="-1" strike="noStrike">
              <a:solidFill>
                <a:srgbClr val="000000"/>
              </a:solidFill>
              <a:latin typeface="Arial"/>
            </a:endParaRPr>
          </a:p>
        </p:txBody>
      </p:sp>
      <p:sp>
        <p:nvSpPr>
          <p:cNvPr id="575"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he cos’è il</a:t>
            </a:r>
            <a:r>
              <a:rPr b="0" lang="hu-HU" sz="2400" spc="-1" strike="noStrike">
                <a:solidFill>
                  <a:srgbClr val="000000"/>
                </a:solidFill>
                <a:latin typeface="Arial Rounded MT Bold"/>
              </a:rPr>
              <a:t> </a:t>
            </a:r>
            <a:r>
              <a:rPr b="0" lang="en-US" sz="2400" spc="-1" strike="noStrike">
                <a:solidFill>
                  <a:srgbClr val="000000"/>
                </a:solidFill>
                <a:latin typeface="Arial Rounded MT Bold"/>
              </a:rPr>
              <a:t>GDPR?</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CasellaDiTesto 1"/>
          <p:cNvSpPr/>
          <p:nvPr/>
        </p:nvSpPr>
        <p:spPr>
          <a:xfrm>
            <a:off x="233280" y="1916280"/>
            <a:ext cx="867744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DPR (</a:t>
            </a:r>
            <a:r>
              <a:rPr b="1" i="1" lang="en-GB" sz="1800" spc="-1" strike="noStrike">
                <a:solidFill>
                  <a:srgbClr val="000000"/>
                </a:solidFill>
                <a:latin typeface="Arial Rounded MT Bold"/>
              </a:rPr>
              <a:t>General Data Protection Regulation</a:t>
            </a:r>
            <a:r>
              <a:rPr b="0" lang="en-GB" sz="1800" spc="-1" strike="noStrike">
                <a:solidFill>
                  <a:srgbClr val="000000"/>
                </a:solidFill>
                <a:latin typeface="Arial Rounded MT Bold"/>
              </a:rPr>
              <a:t>) </a:t>
            </a:r>
            <a:r>
              <a:rPr b="0" lang="it-IT" sz="1800" spc="-1" strike="noStrike">
                <a:solidFill>
                  <a:srgbClr val="000000"/>
                </a:solidFill>
                <a:latin typeface="Arial Rounded MT Bold"/>
              </a:rPr>
              <a:t>è un  recentissimo regolamento UE – in vigore da Maggio 2018 – che disciplina in maniera molto severa </a:t>
            </a:r>
            <a:r>
              <a:rPr b="0" i="1" lang="en-GB" sz="1800" spc="-1" strike="noStrike">
                <a:solidFill>
                  <a:srgbClr val="000000"/>
                </a:solidFill>
                <a:latin typeface="Arial Rounded MT Bold"/>
              </a:rPr>
              <a:t>“the processing by an </a:t>
            </a:r>
            <a:r>
              <a:rPr b="1" i="1" lang="en-GB" sz="1800" spc="-1" strike="noStrike">
                <a:solidFill>
                  <a:srgbClr val="000000"/>
                </a:solidFill>
                <a:latin typeface="Arial Rounded MT Bold"/>
              </a:rPr>
              <a:t>individual, a company or an organisation</a:t>
            </a:r>
            <a:r>
              <a:rPr b="0" i="1" lang="en-GB" sz="1800" spc="-1" strike="noStrike">
                <a:solidFill>
                  <a:srgbClr val="000000"/>
                </a:solidFill>
                <a:latin typeface="Arial Rounded MT Bold"/>
              </a:rPr>
              <a:t> of </a:t>
            </a:r>
            <a:r>
              <a:rPr b="1" i="1" lang="en-GB" sz="1800" spc="-1" strike="noStrike">
                <a:solidFill>
                  <a:srgbClr val="000000"/>
                </a:solidFill>
                <a:latin typeface="Arial Rounded MT Bold"/>
              </a:rPr>
              <a:t>personal data</a:t>
            </a:r>
            <a:r>
              <a:rPr b="0" i="1" lang="en-GB" sz="1800" spc="-1" strike="noStrike">
                <a:solidFill>
                  <a:srgbClr val="000000"/>
                </a:solidFill>
                <a:latin typeface="Arial Rounded MT Bold"/>
              </a:rPr>
              <a:t> relating to </a:t>
            </a:r>
            <a:r>
              <a:rPr b="1" i="1" lang="en-GB" sz="1800" spc="-1" strike="noStrike">
                <a:solidFill>
                  <a:srgbClr val="000000"/>
                </a:solidFill>
                <a:latin typeface="Arial Rounded MT Bold"/>
              </a:rPr>
              <a:t>individuals</a:t>
            </a:r>
            <a:r>
              <a:rPr b="0" i="1" lang="en-GB" sz="1800" spc="-1" strike="noStrike">
                <a:solidFill>
                  <a:srgbClr val="000000"/>
                </a:solidFill>
                <a:latin typeface="Arial Rounded MT Bold"/>
              </a:rPr>
              <a:t> in the EU”.</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Con il verbo «processare» si intende in maniera inequivocabile: la registrazione, la raccolta, l’archivio, l’alterazione, la consultazione, l’utilizzo, la diffusione, la disseminazione, la trasmissione, la combinazione e la sintesi, la distruzione e la cancellazione dei Personal Data </a:t>
            </a:r>
            <a:r>
              <a:rPr b="0" lang="en-GB" sz="1800" spc="-1" strike="noStrike">
                <a:solidFill>
                  <a:srgbClr val="000000"/>
                </a:solidFill>
                <a:latin typeface="Arial Rounded MT Bold"/>
              </a:rPr>
              <a:t>(https://ec.europa.eu/info/what-constitutes-data-processing_en)</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70036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Regolamento UE sulla protezione dei dati</a:t>
            </a:r>
            <a:endParaRPr b="0" lang="en-US" sz="3200" spc="-1" strike="noStrike">
              <a:solidFill>
                <a:srgbClr val="000000"/>
              </a:solidFill>
              <a:latin typeface="Arial"/>
            </a:endParaRPr>
          </a:p>
        </p:txBody>
      </p:sp>
      <p:sp>
        <p:nvSpPr>
          <p:cNvPr id="578" name="CasellaDiTesto 1"/>
          <p:cNvSpPr/>
          <p:nvPr/>
        </p:nvSpPr>
        <p:spPr>
          <a:xfrm>
            <a:off x="179280" y="2781360"/>
            <a:ext cx="8569440" cy="2654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l GDPR pone le sue basi da due principi fondamentali:</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roteggere i comuni cittadini dall’ «abuso» dei dati</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Facilitare per i business un mercato competitivo ‘ad armi p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626920" y="1998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Regolamento UE sulla protezione dei dati</a:t>
            </a:r>
            <a:endParaRPr b="0" lang="en-US" sz="3200" spc="-1" strike="noStrike">
              <a:solidFill>
                <a:srgbClr val="000000"/>
              </a:solidFill>
              <a:latin typeface="Arial"/>
            </a:endParaRPr>
          </a:p>
        </p:txBody>
      </p:sp>
      <p:sp>
        <p:nvSpPr>
          <p:cNvPr id="580" name=""/>
          <p:cNvSpPr txBox="1"/>
          <p:nvPr/>
        </p:nvSpPr>
        <p:spPr>
          <a:xfrm>
            <a:off x="-181440" y="1625400"/>
            <a:ext cx="7931160" cy="564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lla prospettiva delle organizzazioni</a:t>
            </a:r>
            <a:endParaRPr b="0" lang="en-US" sz="2400" spc="-1" strike="noStrike">
              <a:solidFill>
                <a:srgbClr val="000000"/>
              </a:solidFill>
              <a:latin typeface="Arial"/>
            </a:endParaRPr>
          </a:p>
        </p:txBody>
      </p:sp>
      <p:sp>
        <p:nvSpPr>
          <p:cNvPr id="581" name="CasellaDiTesto 1"/>
          <p:cNvSpPr/>
          <p:nvPr/>
        </p:nvSpPr>
        <p:spPr>
          <a:xfrm>
            <a:off x="324000" y="2190600"/>
            <a:ext cx="8362800" cy="3705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Il GDPR rappresenta un sistema molto rigido di ‘Fare’ in merito</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ea typeface="Arial"/>
              </a:rPr>
              <a:t>Il tipo di dato processabile</a:t>
            </a:r>
            <a:endParaRPr b="0" lang="en-US" sz="20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ea typeface="Arial"/>
              </a:rPr>
              <a:t>Lo scopo della «lavorazione» del dato</a:t>
            </a:r>
            <a:endParaRPr b="0" lang="en-US" sz="20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ea typeface="Arial"/>
              </a:rPr>
              <a:t>La quantità di dati elaborabili e la longevità della loro conservazione</a:t>
            </a:r>
            <a:endParaRPr b="0" lang="en-US" sz="20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ea typeface="Arial"/>
              </a:rPr>
              <a:t>Obblighi informativi circa il processo stesso di raccolta, lavorazione, etc. dei dati</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Per caprine meglio: </a:t>
            </a:r>
            <a:r>
              <a:rPr b="1" lang="en-GB" sz="1800" spc="-1" strike="noStrike">
                <a:solidFill>
                  <a:srgbClr val="000000"/>
                </a:solidFill>
                <a:latin typeface="Arial Rounded MT Bold"/>
              </a:rPr>
              <a:t>Rules for Business and Organizations</a:t>
            </a:r>
            <a:r>
              <a:rPr b="0"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70036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Regolamento UE sulla protezione dei dati</a:t>
            </a:r>
            <a:endParaRPr b="0" lang="en-US" sz="3200" spc="-1" strike="noStrike">
              <a:solidFill>
                <a:srgbClr val="000000"/>
              </a:solidFill>
              <a:latin typeface="Arial"/>
            </a:endParaRPr>
          </a:p>
        </p:txBody>
      </p:sp>
      <p:sp>
        <p:nvSpPr>
          <p:cNvPr id="583" name=""/>
          <p:cNvSpPr txBox="1"/>
          <p:nvPr/>
        </p:nvSpPr>
        <p:spPr>
          <a:xfrm>
            <a:off x="-108360" y="1415880"/>
            <a:ext cx="7931160" cy="493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lla prospettiva dei cittadini</a:t>
            </a:r>
            <a:endParaRPr b="0" lang="en-US" sz="2400" spc="-1" strike="noStrike">
              <a:solidFill>
                <a:srgbClr val="000000"/>
              </a:solidFill>
              <a:latin typeface="Arial"/>
            </a:endParaRPr>
          </a:p>
        </p:txBody>
      </p:sp>
      <p:sp>
        <p:nvSpPr>
          <p:cNvPr id="584" name="CasellaDiTesto 1"/>
          <p:cNvSpPr/>
          <p:nvPr/>
        </p:nvSpPr>
        <p:spPr>
          <a:xfrm>
            <a:off x="179280" y="1909800"/>
            <a:ext cx="8569440" cy="3797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Munisce i comuni utenti della rete di una serie molto significativa di risposte alle domande:</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Esattamente, cosa</a:t>
            </a:r>
            <a:r>
              <a:rPr b="0" i="1" lang="it-IT" sz="1800" spc="-1" strike="noStrike">
                <a:solidFill>
                  <a:srgbClr val="000000"/>
                </a:solidFill>
                <a:latin typeface="Arial Rounded MT Bold"/>
              </a:rPr>
              <a:t> e come viene protetto?</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Rounded MT Bold"/>
              </a:rPr>
              <a:t>Quali sono i miei diritti?</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Rounded MT Bold"/>
              </a:rPr>
              <a:t>Come faccio a sapere se un mio diritto è stato violato?</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Rounded MT Bold"/>
              </a:rPr>
              <a:t>Come rientro in possesso dei miei dati in caso di abuso?</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Rounded MT Bold"/>
              </a:rPr>
              <a:t>Quando e come dovrei esercitare i miei diritti?</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Per caprine meglio: </a:t>
            </a:r>
            <a:r>
              <a:rPr b="1" lang="en-GB" sz="1800" spc="-1" strike="noStrike">
                <a:solidFill>
                  <a:srgbClr val="000000"/>
                </a:solidFill>
                <a:latin typeface="Arial Rounded MT Bold"/>
              </a:rPr>
              <a:t>Rights for Citizens</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544840" y="188640"/>
            <a:ext cx="65721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PR (Intellectual Property Rights) &amp; Copyright</a:t>
            </a:r>
            <a:endParaRPr b="0" lang="en-US" sz="4000" spc="-1" strike="noStrike">
              <a:solidFill>
                <a:srgbClr val="000000"/>
              </a:solidFill>
              <a:latin typeface="Arial"/>
            </a:endParaRPr>
          </a:p>
        </p:txBody>
      </p:sp>
      <p:sp>
        <p:nvSpPr>
          <p:cNvPr id="586"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lla ricerca di una definizione: </a:t>
            </a:r>
            <a:endParaRPr b="0" lang="en-US" sz="2400" spc="-1" strike="noStrike">
              <a:solidFill>
                <a:srgbClr val="000000"/>
              </a:solidFill>
              <a:latin typeface="Arial"/>
            </a:endParaRPr>
          </a:p>
        </p:txBody>
      </p:sp>
      <p:sp>
        <p:nvSpPr>
          <p:cNvPr id="587" name="CasellaDiTesto 2"/>
          <p:cNvSpPr/>
          <p:nvPr/>
        </p:nvSpPr>
        <p:spPr>
          <a:xfrm>
            <a:off x="179280" y="1989000"/>
            <a:ext cx="8785440" cy="25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econdo la WIPO (World intellectual Property Organization), per proprietà intellettuale ci si riferisce: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Rounded MT Bold"/>
              </a:rPr>
              <a:t> </a:t>
            </a:r>
            <a:r>
              <a:rPr b="0" i="1" lang="en-GB" sz="2000" spc="-1" strike="noStrike">
                <a:solidFill>
                  <a:srgbClr val="000000"/>
                </a:solidFill>
                <a:latin typeface="Arial Rounded MT Bold"/>
              </a:rPr>
              <a:t>“…</a:t>
            </a:r>
            <a:r>
              <a:rPr b="0" i="1" lang="en-GB" sz="2000" spc="-1" strike="noStrike">
                <a:solidFill>
                  <a:srgbClr val="000000"/>
                </a:solidFill>
                <a:latin typeface="Arial Rounded MT Bold"/>
              </a:rPr>
              <a:t>to creations of the mind, such as inventions; literary and </a:t>
            </a:r>
            <a:r>
              <a:rPr b="0" i="1" lang="hu-HU" sz="2000" spc="-1" strike="noStrike">
                <a:solidFill>
                  <a:srgbClr val="000000"/>
                </a:solidFill>
                <a:latin typeface="Arial Rounded MT Bold"/>
              </a:rPr>
              <a:t> </a:t>
            </a:r>
            <a:r>
              <a:rPr b="0" i="1" lang="en-GB" sz="2000" spc="-1" strike="noStrike">
                <a:solidFill>
                  <a:srgbClr val="000000"/>
                </a:solidFill>
                <a:latin typeface="Arial Rounded MT Bold"/>
              </a:rPr>
              <a:t>artistic works; designs; and symbols, names, and images used in commerce”.</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Questa definizione – intenzionalmente vaga e generica – include tutti i possibili prodotti della creatività e dell’intelletto del genere uma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189000"/>
            <a:ext cx="6356520" cy="874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Rounded MT Bold"/>
              </a:rPr>
              <a:t>Obiettivi</a:t>
            </a:r>
            <a:endParaRPr b="0" lang="en-US" sz="3800" spc="-1" strike="noStrike">
              <a:solidFill>
                <a:srgbClr val="000000"/>
              </a:solidFill>
              <a:latin typeface="Arial"/>
            </a:endParaRPr>
          </a:p>
        </p:txBody>
      </p:sp>
      <p:sp>
        <p:nvSpPr>
          <p:cNvPr id="539" name="PlaceHolder 2"/>
          <p:cNvSpPr>
            <a:spLocks noGrp="1"/>
          </p:cNvSpPr>
          <p:nvPr>
            <p:ph/>
          </p:nvPr>
        </p:nvSpPr>
        <p:spPr>
          <a:xfrm>
            <a:off x="457200" y="1268280"/>
            <a:ext cx="8229600" cy="4525920"/>
          </a:xfrm>
          <a:prstGeom prst="rect">
            <a:avLst/>
          </a:prstGeom>
          <a:noFill/>
          <a:ln w="0">
            <a:noFill/>
          </a:ln>
        </p:spPr>
        <p:txBody>
          <a:bodyPr anchor="t">
            <a:normAutofit/>
          </a:bodyPr>
          <a:p>
            <a:pPr marL="8100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A lettura conclusa sarai capace di</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8100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Distinguere Dati Personali e Dati Sensibili</a:t>
            </a:r>
            <a:endParaRPr b="0" lang="en-US" sz="2600" spc="-1" strike="noStrike">
              <a:solidFill>
                <a:srgbClr val="000000"/>
              </a:solidFill>
              <a:latin typeface="Arial"/>
            </a:endParaRPr>
          </a:p>
          <a:p>
            <a:pPr marL="8100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Leggere il nuovo regolamento europeo sulla privacy e il trattamento dei dati personali</a:t>
            </a:r>
            <a:endParaRPr b="0" lang="en-US" sz="2600" spc="-1" strike="noStrike">
              <a:solidFill>
                <a:srgbClr val="000000"/>
              </a:solidFill>
              <a:latin typeface="Arial"/>
            </a:endParaRPr>
          </a:p>
          <a:p>
            <a:pPr marL="8100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Distinguere le differenti tipologie di Proprietà Intellettuali e le protezioni giuridiche garantite </a:t>
            </a:r>
            <a:endParaRPr b="0" lang="en-US" sz="2600" spc="-1" strike="noStrike">
              <a:solidFill>
                <a:srgbClr val="000000"/>
              </a:solidFill>
              <a:latin typeface="Arial"/>
            </a:endParaRPr>
          </a:p>
          <a:p>
            <a:pPr marL="810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590920" y="19836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89"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i di proprietà intellettuali: </a:t>
            </a:r>
            <a:endParaRPr b="0" lang="en-US" sz="2400" spc="-1" strike="noStrike">
              <a:solidFill>
                <a:srgbClr val="000000"/>
              </a:solidFill>
              <a:latin typeface="Arial"/>
            </a:endParaRPr>
          </a:p>
        </p:txBody>
      </p:sp>
      <p:sp>
        <p:nvSpPr>
          <p:cNvPr id="590" name="CasellaDiTesto 2"/>
          <p:cNvSpPr/>
          <p:nvPr/>
        </p:nvSpPr>
        <p:spPr>
          <a:xfrm>
            <a:off x="179280" y="2173320"/>
            <a:ext cx="8785440" cy="283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er il citato motivo ogni «prodotto dell’intelletto» è destinato a specifico sistema di tutela: </a:t>
            </a: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MARCHI</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A trademark is a sign capable of distinguishing the goods or services of one enterprise from those of other enterprises”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1" name="Picture 2" descr="https://upload.wikimedia.org/wikipedia/commons/thumb/2/2b/RegisteredTM.svg/800px-RegisteredTM.svg.png"/>
          <p:cNvPicPr/>
          <p:nvPr/>
        </p:nvPicPr>
        <p:blipFill>
          <a:blip r:embed="rId1"/>
          <a:stretch/>
        </p:blipFill>
        <p:spPr>
          <a:xfrm>
            <a:off x="1763640" y="3716280"/>
            <a:ext cx="355680" cy="33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58408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93" name=""/>
          <p:cNvSpPr txBox="1"/>
          <p:nvPr/>
        </p:nvSpPr>
        <p:spPr>
          <a:xfrm>
            <a:off x="-181440" y="1773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i di proprietà intellettuali : </a:t>
            </a:r>
            <a:endParaRPr b="0" lang="en-US" sz="2400" spc="-1" strike="noStrike">
              <a:solidFill>
                <a:srgbClr val="000000"/>
              </a:solidFill>
              <a:latin typeface="Arial"/>
            </a:endParaRPr>
          </a:p>
        </p:txBody>
      </p:sp>
      <p:sp>
        <p:nvSpPr>
          <p:cNvPr id="594" name="CasellaDiTesto 1"/>
          <p:cNvSpPr/>
          <p:nvPr/>
        </p:nvSpPr>
        <p:spPr>
          <a:xfrm>
            <a:off x="216000" y="2647800"/>
            <a:ext cx="8712000" cy="3507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PATENTI</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A patent is an exclusive right granted for an invention, which is a product or a process that provides, in general, a new way of doing something, or offers a new technical solution to a problem. To get a patent, technical information about the invention must be disclosed to the public in a patent application”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700360" y="35712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96" name=""/>
          <p:cNvSpPr txBox="1"/>
          <p:nvPr/>
        </p:nvSpPr>
        <p:spPr>
          <a:xfrm>
            <a:off x="-324360" y="168084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i di proprietà intellettuali: </a:t>
            </a:r>
            <a:endParaRPr b="0" lang="en-US" sz="2400" spc="-1" strike="noStrike">
              <a:solidFill>
                <a:srgbClr val="000000"/>
              </a:solidFill>
              <a:latin typeface="Arial"/>
            </a:endParaRPr>
          </a:p>
        </p:txBody>
      </p:sp>
      <p:sp>
        <p:nvSpPr>
          <p:cNvPr id="597" name="CasellaDiTesto 1"/>
          <p:cNvSpPr/>
          <p:nvPr/>
        </p:nvSpPr>
        <p:spPr>
          <a:xfrm>
            <a:off x="216000" y="2647800"/>
            <a:ext cx="871200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INDUSTRIAL DESIGN</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Industrial designs are compositions of lines or colors or any three-dimensional forms which give a special appearance to a product or handicraft. They protect the ornamental or aesthetic aspect of a useful article, which usually appeals to the sense of sight or touch and can be reproduced in significant quantities”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763360" y="260280"/>
            <a:ext cx="6356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99"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i di proprietà intellettuali: </a:t>
            </a:r>
            <a:endParaRPr b="0" lang="en-US" sz="2400" spc="-1" strike="noStrike">
              <a:solidFill>
                <a:srgbClr val="000000"/>
              </a:solidFill>
              <a:latin typeface="Arial"/>
            </a:endParaRPr>
          </a:p>
        </p:txBody>
      </p:sp>
      <p:sp>
        <p:nvSpPr>
          <p:cNvPr id="600" name="CasellaDiTesto 1"/>
          <p:cNvSpPr/>
          <p:nvPr/>
        </p:nvSpPr>
        <p:spPr>
          <a:xfrm>
            <a:off x="216000" y="1954080"/>
            <a:ext cx="871200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COPYRIGHT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a:t>
            </a:r>
            <a:r>
              <a:rPr b="0" i="1" lang="en-GB" sz="1800" spc="-1" strike="noStrike">
                <a:solidFill>
                  <a:srgbClr val="000000"/>
                </a:solidFill>
                <a:latin typeface="Arial Rounded MT Bold"/>
              </a:rPr>
              <a:t>Copyright (or author’s right) is a legal term used to describe the rights that creators have over their literary and artistic works. Works covered by copyright range from books, music, paintings, sculpture, and films, to computer programs, databases, advertisements, maps, and technical drawings” </a:t>
            </a:r>
            <a:r>
              <a:rPr b="0" lang="en-GB" sz="1800" spc="-1" strike="noStrike">
                <a:solidFill>
                  <a:srgbClr val="000000"/>
                </a:solidFill>
                <a:latin typeface="Arial Rounded MT Bold"/>
              </a:rPr>
              <a:t>(WIPO)</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Il Copyright copra una sorta di ‘territorio di nessuno’, vale a dire proprietà intellettuali che non trovano tutela in nessun altro dominio</a:t>
            </a:r>
            <a:endParaRPr b="0" lang="en-US" sz="1800" spc="-1" strike="noStrike">
              <a:solidFill>
                <a:srgbClr val="000000"/>
              </a:solidFill>
              <a:latin typeface="Arial"/>
            </a:endParaRPr>
          </a:p>
        </p:txBody>
      </p:sp>
      <p:pic>
        <p:nvPicPr>
          <p:cNvPr id="601" name="Picture 4" descr="Risultati immagini per COPYRIGHT"/>
          <p:cNvPicPr/>
          <p:nvPr/>
        </p:nvPicPr>
        <p:blipFill>
          <a:blip r:embed="rId1"/>
          <a:stretch/>
        </p:blipFill>
        <p:spPr>
          <a:xfrm>
            <a:off x="2093760" y="1928880"/>
            <a:ext cx="490680" cy="48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62692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603" name=""/>
          <p:cNvSpPr txBox="1"/>
          <p:nvPr/>
        </p:nvSpPr>
        <p:spPr>
          <a:xfrm>
            <a:off x="-324360" y="1557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604" name="CasellaDiTesto 1"/>
          <p:cNvSpPr/>
          <p:nvPr/>
        </p:nvSpPr>
        <p:spPr>
          <a:xfrm>
            <a:off x="216000" y="2136600"/>
            <a:ext cx="8712000" cy="5123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fatti, </a:t>
            </a:r>
            <a:r>
              <a:rPr b="0" lang="it-IT" sz="2000" spc="-1" strike="noStrike">
                <a:solidFill>
                  <a:srgbClr val="000000"/>
                </a:solidFill>
                <a:latin typeface="Arial Rounded MT Bold"/>
              </a:rPr>
              <a:t>le leggi sul Copyright si applicano specificatamente alla realtà delle produzioni audio e video: </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a letteratura</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lgoritmi informatici e software</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Film, produzioni musicali e coreografie</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Dipinti e fotografie</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culture e architetture</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ubblicità, mappe e disegni tecnici</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195640" y="260280"/>
            <a:ext cx="6851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a:t>
            </a:r>
            <a:endParaRPr b="0" lang="en-US" sz="3800" spc="-1" strike="noStrike">
              <a:solidFill>
                <a:srgbClr val="000000"/>
              </a:solidFill>
              <a:latin typeface="Arial"/>
            </a:endParaRPr>
          </a:p>
        </p:txBody>
      </p:sp>
      <p:sp>
        <p:nvSpPr>
          <p:cNvPr id="541" name="CasellaDiTesto 6"/>
          <p:cNvSpPr/>
          <p:nvPr/>
        </p:nvSpPr>
        <p:spPr>
          <a:xfrm>
            <a:off x="179280" y="1413000"/>
            <a:ext cx="8507520" cy="411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Un </a:t>
            </a:r>
            <a:r>
              <a:rPr b="0" i="1" lang="en-GB" sz="2200" spc="-1" strike="noStrike">
                <a:solidFill>
                  <a:srgbClr val="000000"/>
                </a:solidFill>
                <a:latin typeface="Arial Rounded MT Bold"/>
              </a:rPr>
              <a:t>Dato Personale </a:t>
            </a:r>
            <a:r>
              <a:rPr b="0" lang="it-IT" sz="2200" spc="-1" strike="noStrike">
                <a:solidFill>
                  <a:srgbClr val="000000"/>
                </a:solidFill>
                <a:latin typeface="Arial Rounded MT Bold"/>
              </a:rPr>
              <a:t>è un’informazione che distingue inequivocabilmente una persona – anche indirettamente. Ne sono esempi: </a:t>
            </a:r>
            <a:endParaRPr b="0" lang="en-US" sz="22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Nome di battesimo</a:t>
            </a:r>
            <a:endParaRPr b="0" lang="en-US" sz="22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Residenza </a:t>
            </a:r>
            <a:endParaRPr b="0" lang="en-US" sz="22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Identificatori digitali (localizzazione GPS, indirizzo IP, etc.)</a:t>
            </a:r>
            <a:endParaRPr b="0" lang="en-US" sz="22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Etc.</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38200" y="256680"/>
            <a:ext cx="677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a:t>
            </a:r>
            <a:endParaRPr b="0" lang="en-US" sz="3800" spc="-1" strike="noStrike">
              <a:solidFill>
                <a:srgbClr val="000000"/>
              </a:solidFill>
              <a:latin typeface="Arial"/>
            </a:endParaRPr>
          </a:p>
        </p:txBody>
      </p:sp>
      <p:sp>
        <p:nvSpPr>
          <p:cNvPr id="543" name="CasellaDiTesto 6"/>
          <p:cNvSpPr/>
          <p:nvPr/>
        </p:nvSpPr>
        <p:spPr>
          <a:xfrm>
            <a:off x="179280" y="2220840"/>
            <a:ext cx="8507520" cy="228852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i può intendere anche come identificatore di un tratto che invade la sfera intima e privata di una persona, ad es.: lo status economico e sociale, il sesso, etc.</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4" name="Picture 1" descr=""/>
          <p:cNvPicPr/>
          <p:nvPr/>
        </p:nvPicPr>
        <p:blipFill>
          <a:blip r:embed="rId1"/>
          <a:stretch/>
        </p:blipFill>
        <p:spPr>
          <a:xfrm>
            <a:off x="2319480" y="4437000"/>
            <a:ext cx="4225680" cy="172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236680" y="26460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a:t>
            </a:r>
            <a:endParaRPr b="0" lang="en-US" sz="3800" spc="-1" strike="noStrike">
              <a:solidFill>
                <a:srgbClr val="000000"/>
              </a:solidFill>
              <a:latin typeface="Arial"/>
            </a:endParaRPr>
          </a:p>
        </p:txBody>
      </p:sp>
      <p:sp>
        <p:nvSpPr>
          <p:cNvPr id="546" name="CasellaDiTesto 6"/>
          <p:cNvSpPr/>
          <p:nvPr/>
        </p:nvSpPr>
        <p:spPr>
          <a:xfrm>
            <a:off x="144360" y="1755720"/>
            <a:ext cx="885528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n </a:t>
            </a:r>
            <a:r>
              <a:rPr b="0" i="1" lang="en-GB" sz="2400" spc="-1" strike="noStrike">
                <a:solidFill>
                  <a:srgbClr val="000000"/>
                </a:solidFill>
                <a:latin typeface="Arial Rounded MT Bold"/>
              </a:rPr>
              <a:t>Dato Sensibile </a:t>
            </a:r>
            <a:r>
              <a:rPr b="0" lang="it-IT" sz="2400" spc="-1" strike="noStrike">
                <a:solidFill>
                  <a:srgbClr val="000000"/>
                </a:solidFill>
                <a:latin typeface="Arial Rounded MT Bold"/>
              </a:rPr>
              <a:t>invece è un Dato Personale che gode di un’alta protezione legale e giuridica tale da essere processato con estrema cautela e riservatezza – e solo dopo specifica approvazione del soggetto cui fa riferimento </a:t>
            </a:r>
            <a:endParaRPr b="0" lang="en-US" sz="24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l venir meno di questo consenso, il dato non può essere lavorato</a:t>
            </a:r>
            <a:endParaRPr b="0" lang="en-US" sz="2400" spc="-1" strike="noStrike">
              <a:solidFill>
                <a:srgbClr val="000000"/>
              </a:solidFill>
              <a:latin typeface="Arial"/>
            </a:endParaRPr>
          </a:p>
        </p:txBody>
      </p:sp>
      <p:pic>
        <p:nvPicPr>
          <p:cNvPr id="547" name="Picture 1" descr=""/>
          <p:cNvPicPr/>
          <p:nvPr/>
        </p:nvPicPr>
        <p:blipFill>
          <a:blip r:embed="rId1"/>
          <a:stretch/>
        </p:blipFill>
        <p:spPr>
          <a:xfrm>
            <a:off x="4788000" y="5102280"/>
            <a:ext cx="3122640" cy="11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050920" y="96480"/>
            <a:ext cx="721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a:t>
            </a:r>
            <a:endParaRPr b="0" lang="en-US" sz="3800" spc="-1" strike="noStrike">
              <a:solidFill>
                <a:srgbClr val="000000"/>
              </a:solidFill>
              <a:latin typeface="Arial"/>
            </a:endParaRPr>
          </a:p>
        </p:txBody>
      </p:sp>
      <p:sp>
        <p:nvSpPr>
          <p:cNvPr id="549" name="CasellaDiTesto 6"/>
          <p:cNvSpPr/>
          <p:nvPr/>
        </p:nvSpPr>
        <p:spPr>
          <a:xfrm>
            <a:off x="179280" y="1951200"/>
            <a:ext cx="8507520" cy="160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Sono da reputarsi ‘sensibili’ tutte quelle informazioni collegate allo stato di salute di una persona, ai suoi credi politici e sociali, all’orientamento sessuale, etc. </a:t>
            </a:r>
            <a:endParaRPr b="0" lang="en-US" sz="2200" spc="-1" strike="noStrike">
              <a:solidFill>
                <a:srgbClr val="000000"/>
              </a:solidFill>
              <a:latin typeface="Arial"/>
            </a:endParaRPr>
          </a:p>
        </p:txBody>
      </p:sp>
      <p:sp>
        <p:nvSpPr>
          <p:cNvPr id="550" name="CasellaDiTesto 1"/>
          <p:cNvSpPr/>
          <p:nvPr/>
        </p:nvSpPr>
        <p:spPr>
          <a:xfrm>
            <a:off x="826920" y="4005360"/>
            <a:ext cx="72104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er </a:t>
            </a:r>
            <a:r>
              <a:rPr b="0" lang="it-IT" sz="2000" spc="-1" strike="noStrike">
                <a:solidFill>
                  <a:srgbClr val="000000"/>
                </a:solidFill>
                <a:latin typeface="Arial Rounded MT Bold"/>
              </a:rPr>
              <a:t>capire qualcosa di più sul valore dei nostri dati in ottica di business per le aziende ecco un breve video illustrativ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GB" sz="1800" spc="-1" strike="noStrike" u="sng">
                <a:solidFill>
                  <a:srgbClr val="009999"/>
                </a:solidFill>
                <a:uFillTx/>
                <a:latin typeface="Arial"/>
                <a:hlinkClick r:id="rId1"/>
              </a:rPr>
              <a:t>https://www.youtube.com/watch?v=JIo-V0beaB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a:t>
            </a:r>
            <a:endParaRPr b="0" lang="en-US" sz="3200" spc="-1" strike="noStrike">
              <a:solidFill>
                <a:srgbClr val="000000"/>
              </a:solidFill>
              <a:latin typeface="Arial"/>
            </a:endParaRPr>
          </a:p>
        </p:txBody>
      </p:sp>
      <p:sp>
        <p:nvSpPr>
          <p:cNvPr id="552" name=""/>
          <p:cNvSpPr txBox="1"/>
          <p:nvPr/>
        </p:nvSpPr>
        <p:spPr>
          <a:xfrm>
            <a:off x="-360" y="1430280"/>
            <a:ext cx="7931160" cy="6177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ome proteggere i tuoi dat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CasellaDiTesto 6"/>
          <p:cNvSpPr/>
          <p:nvPr/>
        </p:nvSpPr>
        <p:spPr>
          <a:xfrm>
            <a:off x="179280" y="2060640"/>
            <a:ext cx="8785440" cy="3294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Innanzitutto, è tuo onere essere riservato nell’immagine che dai di  te nella rete</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Devi essere consapevole sul </a:t>
            </a:r>
            <a:r>
              <a:rPr b="0" i="1" lang="it-IT" sz="2000" spc="-1" strike="noStrike">
                <a:solidFill>
                  <a:srgbClr val="000000"/>
                </a:solidFill>
                <a:latin typeface="Arial Rounded MT Bold"/>
              </a:rPr>
              <a:t>chi </a:t>
            </a:r>
            <a:r>
              <a:rPr b="0" lang="it-IT" sz="2000" spc="-1" strike="noStrike">
                <a:solidFill>
                  <a:srgbClr val="000000"/>
                </a:solidFill>
                <a:latin typeface="Arial Rounded MT Bold"/>
              </a:rPr>
              <a:t>ti stia osservando, </a:t>
            </a:r>
            <a:r>
              <a:rPr b="0" i="1" lang="it-IT" sz="2000" spc="-1" strike="noStrike">
                <a:solidFill>
                  <a:srgbClr val="000000"/>
                </a:solidFill>
                <a:latin typeface="Arial Rounded MT Bold"/>
              </a:rPr>
              <a:t>cosa </a:t>
            </a:r>
            <a:r>
              <a:rPr b="0" lang="it-IT" sz="2000" spc="-1" strike="noStrike">
                <a:solidFill>
                  <a:srgbClr val="000000"/>
                </a:solidFill>
                <a:latin typeface="Arial Rounded MT Bold"/>
              </a:rPr>
              <a:t>stai comunicando e del </a:t>
            </a:r>
            <a:r>
              <a:rPr b="0" i="1" lang="it-IT" sz="2000" spc="-1" strike="noStrike">
                <a:solidFill>
                  <a:srgbClr val="000000"/>
                </a:solidFill>
                <a:latin typeface="Arial Rounded MT Bold"/>
              </a:rPr>
              <a:t>perché </a:t>
            </a:r>
            <a:r>
              <a:rPr b="0" lang="it-IT" sz="2000" spc="-1" strike="noStrike">
                <a:solidFill>
                  <a:srgbClr val="000000"/>
                </a:solidFill>
                <a:latin typeface="Arial Rounded MT Bold"/>
              </a:rPr>
              <a:t>qualcuno ne sia interessato</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uttavia, avere piena consapevolezza di ciò è particolarmente complesso al giorno d’oggi…</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a:t>
            </a:r>
            <a:endParaRPr b="0" lang="en-US" sz="3200" spc="-1" strike="noStrike">
              <a:solidFill>
                <a:srgbClr val="000000"/>
              </a:solidFill>
              <a:latin typeface="Arial"/>
            </a:endParaRPr>
          </a:p>
        </p:txBody>
      </p:sp>
      <p:sp>
        <p:nvSpPr>
          <p:cNvPr id="555" name=""/>
          <p:cNvSpPr txBox="1"/>
          <p:nvPr/>
        </p:nvSpPr>
        <p:spPr>
          <a:xfrm>
            <a:off x="-108360" y="1643040"/>
            <a:ext cx="7931160" cy="5126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ome proteggere i tuoi dat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CasellaDiTesto 1"/>
          <p:cNvSpPr/>
          <p:nvPr/>
        </p:nvSpPr>
        <p:spPr>
          <a:xfrm>
            <a:off x="0" y="2155680"/>
            <a:ext cx="8964720" cy="4724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Per minimizzare la probabilità di inconveniente, ti è consigliato di prendere queste semplice precauzioni:</a:t>
            </a:r>
            <a:endParaRPr b="0" lang="en-US" sz="22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Nelle impostazioni dei Social Media, opta sempre per il maggior grado di Privacy desiderabile</a:t>
            </a:r>
            <a:endParaRPr b="0" lang="en-US" sz="22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Proteggi tutti i tuoi account con delle password elaborate e complesse</a:t>
            </a:r>
            <a:endParaRPr b="0" lang="en-US" sz="22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Se utilizzi uno smartphone, blocca tutti gli accessi alle app e alle funzionalità essenziali del telefono</a:t>
            </a:r>
            <a:endParaRPr b="0" lang="en-US" sz="2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592000" y="218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a:t>
            </a:r>
            <a:endParaRPr b="0" lang="en-US" sz="3200" spc="-1" strike="noStrike">
              <a:solidFill>
                <a:srgbClr val="000000"/>
              </a:solidFill>
              <a:latin typeface="Arial"/>
            </a:endParaRPr>
          </a:p>
        </p:txBody>
      </p:sp>
      <p:sp>
        <p:nvSpPr>
          <p:cNvPr id="558" name="CasellaDiTesto 6"/>
          <p:cNvSpPr/>
          <p:nvPr/>
        </p:nvSpPr>
        <p:spPr>
          <a:xfrm>
            <a:off x="-684360" y="1989000"/>
            <a:ext cx="8785440" cy="3146040"/>
          </a:xfrm>
          <a:prstGeom prst="rect">
            <a:avLst/>
          </a:prstGeom>
          <a:noFill/>
          <a:ln w="0">
            <a:noFill/>
          </a:ln>
        </p:spPr>
        <p:style>
          <a:lnRef idx="0"/>
          <a:fillRef idx="0"/>
          <a:effectRef idx="0"/>
          <a:fontRef idx="minor"/>
        </p:style>
        <p:txBody>
          <a:bodyPr lIns="90000" rIns="90000" tIns="46800" bIns="46800" anchor="t">
            <a:spAutoFit/>
          </a:bodyPr>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Valuta le offerte di un operatore VPN (virtual private network) </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Limita al Massimo il tuo accesso a reti di Wi-Fi pubbliche (parchi, centri commerciali, etc.)</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Scegli con molto cautela quali documenti stai destinanti a fonti di memoria esterna (cloud, dropbox, etc.)</a:t>
            </a:r>
            <a:endParaRPr b="0" lang="en-US" sz="1800" spc="-1" strike="noStrike">
              <a:solidFill>
                <a:srgbClr val="000000"/>
              </a:solidFill>
              <a:latin typeface="Arial"/>
            </a:endParaRPr>
          </a:p>
          <a:p>
            <a:pPr lvl="1" marL="1085760" indent="-342720" algn="just">
              <a:lnSpc>
                <a:spcPct val="15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e ne vuoi sapere di più: click here</a:t>
            </a:r>
            <a:endParaRPr b="0" lang="en-US" sz="18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Simone Capozucco</cp:lastModifiedBy>
  <dcterms:modified xsi:type="dcterms:W3CDTF">2020-05-02T21:25:35Z</dcterms:modified>
  <cp:revision>555</cp:revision>
  <dc:subject/>
  <dc:title>Title</dc:title>
</cp:coreProperties>
</file>