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788E77-B8AB-4734-8437-C25742C229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C573F11-5D88-4675-83CE-2F91597D7AD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9488B0-4AC6-43D0-AA90-1AE12F4E2B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AA689E0-0F7C-49F6-BC20-0B8A9DF9AC4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9BD8AA-AC0F-41AB-894D-85469FBDCE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DC42F6-E856-43C3-B68A-14C7875F0E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F47896-F198-45DF-B4BB-A3A7C00C1B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837F37-C64C-40C3-9AF7-61B5B7BF5F7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D866F6-C741-4714-B2BF-A9AF9FFA801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017DEEA-7BD0-40BA-BF44-0B7E4323DE8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E2160C6-BC1E-437A-A6D4-DF68411F55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CB1C9C-E57E-4747-BD9B-E3DE41C4571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059BD81-155D-4943-AF43-7395069DA65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0B367A2-618E-4F6B-865A-7C645B4DF9E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5F8B1C-C8F1-459A-B414-0C505F033CA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6F7A1B-BCF6-4BD2-B5E2-9625A54769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74CE83-5FA2-4127-8BEF-0A2CD377DA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8A073D-20C3-4E64-9171-567F008EF7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1F326F-1B48-4F65-B734-9882783D042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E7038F7-AC95-48A6-9E20-AE0969B083A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4E3002C-DE16-493A-A8E5-60D1DBB2B04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13B827A-00E9-4B75-9A26-B45A0EF4AE3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10A5717-8AE4-4219-9E3C-0ABD28EA598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1E3C984-677D-4F8E-A3E6-AF18858C6F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1291715-0573-47EB-BEF4-379F156C65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27D982-A2A6-4D56-9F38-69C87A8472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9FD8E8-5E52-41FF-BABF-0F81B3F36B7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5E480A-CD31-41AF-A5D6-0379CB0A45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8FC518B-B11F-42A8-9B56-E9A99FA360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FFB579F-E0FA-4BC3-880B-24413A7BB5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F89BB5-F329-41E5-A93F-A50E9B1C7EC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B7F73E2-2F0D-49B0-ABFC-DFFAC104AE2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1E2C2C-D1ED-4ABD-AF97-2BD96B4D73A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5D49FDA-D515-4976-9BBD-5EA69923C9C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D3BF278-CA85-4B3E-8F95-634B0A8C2A3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7159439-9314-47D3-BA37-3A2223E9FE9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C3E85C4-4662-45C3-8B3A-F50F58A1F2C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D060EE7-F830-4E7A-B3B8-6150FAC52CD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2135145-C95C-4431-8594-D794C90795F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E7DCA9A-6557-43F2-A298-A9B7144B82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FE5B2B9-3604-438B-8EC0-0261C1395A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F9EF57-7046-4958-BFCD-0958BAEFB2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9FEC9BE-FC93-4793-9BCA-830ED26491E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934220A-9DAB-4B82-93DB-BCCFEE08F1D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92CBDF2-6128-4081-965F-4559A39A4F7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C0AFB-7030-412E-AA81-8ABA657D6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CAA68-3119-4F45-877C-1A5BFAFD1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156E1-6393-415F-8853-A5C60C17D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8A350-5319-4A0C-87AD-839536CE4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87ECE-B8A6-428F-9FFF-46441D264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06B54-882F-45CF-9FF5-A31D47A56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A1207-4A07-4BC9-97EF-C1CE0BC9D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6F9C0-A569-43E6-9EFF-00A704C27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8CF50-015D-4FE2-B0F3-61E86C7B3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B1521-2740-4CA8-8323-5BCF1F918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63EB31-4FE1-4621-B588-DA27B254C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C16ABA-4E90-42DB-BB6D-B909E8E02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1F1F49-E9B8-434B-9FC0-D3ABC49242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00EBB4-B3E4-4420-B36F-15EFAC8695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113038-32C1-4422-B37D-E26433A639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19117E-3353-42D5-86BF-9D5C83CA60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AD00C6-98DA-4D3F-849C-88759D6F79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7CF7F5-B503-4C68-963F-EBF4CD04E9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CC2749-10DA-4201-BB77-727EFBD6C2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D0878A-C671-47CD-937A-BAFAAC6EF1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C20F25-D31F-4375-ABE6-0BA8B2CCAD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D519FF-87CF-4FC4-8A88-9E431C754F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04A4E2-8A5F-4DEB-9FC0-DF02BC0783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3BAB81A-F4DA-42A3-A910-1D6570C48E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DE614D-40CB-4AAC-A138-A243374FFE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9C4A91-662E-4573-911D-24D462656E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7F61EE-3100-4937-8641-B7F48C4439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FD996E-11A2-4B54-BB5A-33C60631B3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F996A2-DE2F-4A6A-B947-58059BF9D2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A124F0-083C-4468-9D97-FC7338A3B8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14778E-33B4-400F-848D-5A726788F7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AD7850-1879-48DE-978E-CF2888FCCE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1F1290-0CF5-4FFB-A7FB-0D9BCC03CA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EE7283-68ED-4F42-B875-C4601A00CF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6BF4F0-7689-40CA-BEC3-68C73CD4EBE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40BDD2A-054A-4118-81BC-CB256E390A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2CCDCCE-B090-459D-9358-2804B0029F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97F0CB-C196-4BEF-A2D1-4AD7EE20B43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81E855-6278-43C8-A02B-28D6FC2AE3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2F1F7C-C08B-46CD-B5DE-60525811B2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5F81CF-8D6E-434E-AA9A-0E06DD0F9C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25E35D-FD69-40FB-AF1B-CE2B180BD6C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40EDBD-E7AF-4789-8DFD-9038860D3C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EB606B-975A-4810-AB02-360B86F4E1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1A4307-6FB4-4DE8-A357-38EE9882F7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AB35FA-5B34-46B9-A975-70823DF9FB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7F6D047-734A-4455-A83E-6549E6ACC6A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05DCAFC-E302-4971-ADB0-13110C41130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E4A78F7-F8B5-4028-A0E7-01A6AA36784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0E428CB-2517-454C-8415-F3C3AEE30F3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9EA3086-FA15-43C2-87B8-CFF08BDA520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ADA6E8-B7F1-474C-8F7A-A812A5A0D8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B1C234-12B6-45D0-A491-223711BB75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9CC617-9A7D-4B92-B60E-988ACD4364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1F1302-264B-41ED-89ED-5AE5D418FD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94CBB2-AAED-4D19-B5F8-61ECBB5347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05653B-900B-483E-B064-409FF654AA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EFBACA-2D59-4938-8E1A-FBFDE50239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E1A502C-8A24-4620-AF5E-5F2BA4BE6F9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E6D6008-B897-4338-B96C-47968DF3DB2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D5184B4-81D5-4FEB-8FCB-C80268C6EDD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130CD2-7FCB-4008-B3BC-9D2A59D96B8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B7ADFC-381C-44AD-A826-4BB9B73A3B7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466DBF-C438-4914-9E91-1B3A7F0848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4DEFB9-54EA-4CBB-BA02-C01FD08B436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29C304-17E2-4411-9F64-9E5264E7A5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B02F03-F1CC-40AE-8FF9-723555595D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15B07A-537D-40D6-B09A-9173ECC101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1069B5-1A63-4C1D-8522-4ECA98EAB2E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1AA502-7D05-4929-A987-36AC7144934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545E90F-B22D-4B28-B3E7-9055DF987DA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60834AB-39ED-4CEF-AEA8-BF4BF79ED9A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4DE8ED7-F2B0-4D0A-9D35-E6B981CBC1F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99A014-144A-4E69-9DC5-C8B63406D68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4DAA501-AFAD-438A-97CC-2AD11627E36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A47D-3884-45C1-A820-D971A83FA43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0036-FF69-4095-B7F2-803161596A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ACFF-69E5-4ADC-A9BC-02D15653309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BD06-0036-401D-8A8B-B25DA6DF9C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F320-B1EF-4202-9C8B-E92D06907C6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9705-576C-44CC-AEC5-6C143FA96E5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2A5E-FBDD-4FB6-9C02-130FC25A80C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0DFD-B5F2-4949-BBA0-A1E0FF4C23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255B-B79D-478E-AAB3-463D463113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531B-E55C-4E07-8A28-69B24429F98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reazioni di Contenuti Digitali</a:t>
            </a:r>
            <a:endParaRPr b="0" lang="en-US" sz="3600" spc="-1" strike="noStrike">
              <a:solidFill>
                <a:srgbClr val="000000"/>
              </a:solidFill>
              <a:latin typeface="Arial"/>
            </a:endParaRPr>
          </a:p>
        </p:txBody>
      </p:sp>
      <p:sp>
        <p:nvSpPr>
          <p:cNvPr id="537" name="Rectángulo 1"/>
          <p:cNvSpPr/>
          <p:nvPr/>
        </p:nvSpPr>
        <p:spPr>
          <a:xfrm>
            <a:off x="1619280" y="3244680"/>
            <a:ext cx="6900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App utili per t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Viaggi e ling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re iTranslate</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i appariranno due opzioni sullo scherm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licca su una bandiera e seleziona due lingu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licca sull’altra bandiera e seleziona la lingua che vuoi tradurre, per es. se vuoi tradurre dall’ungherese all’irlandese, prima clicchi su           poi su</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3851280" y="4313160"/>
            <a:ext cx="824040" cy="503280"/>
          </a:xfrm>
          <a:prstGeom prst="rect">
            <a:avLst/>
          </a:prstGeom>
          <a:ln w="0">
            <a:noFill/>
          </a:ln>
        </p:spPr>
      </p:pic>
      <p:pic>
        <p:nvPicPr>
          <p:cNvPr id="567" name="Picture 4" descr=""/>
          <p:cNvPicPr/>
          <p:nvPr/>
        </p:nvPicPr>
        <p:blipFill>
          <a:blip r:embed="rId2"/>
          <a:stretch/>
        </p:blipFill>
        <p:spPr>
          <a:xfrm>
            <a:off x="6012000" y="4346640"/>
            <a:ext cx="792000" cy="43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69"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i in vacanza in Spagn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a tua lingua madre è l’ingles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a iTranslate per tradurre dall’inglese allo spagnol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uggerimento: puoi anche cliccare sul microfono per tradurre quello che stai dicendo</a:t>
            </a:r>
            <a:r>
              <a:rPr b="0" lang="hu-HU" sz="2800" spc="-1" strike="noStrike">
                <a:solidFill>
                  <a:srgbClr val="000000"/>
                </a:solidFill>
                <a:latin typeface="Arial Rounded MT Bold"/>
              </a:rPr>
              <a:t>.</a:t>
            </a:r>
            <a:r>
              <a:rPr b="0" lang="en-GB"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5940360" y="486576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33440" y="1403280"/>
            <a:ext cx="8229600" cy="4238640"/>
          </a:xfrm>
          <a:prstGeom prst="rect">
            <a:avLst/>
          </a:prstGeom>
          <a:noFill/>
          <a:ln w="0">
            <a:noFill/>
          </a:ln>
        </p:spPr>
        <p:txBody>
          <a:bodyPr anchor="t">
            <a:normAutofit fontScale="98000"/>
          </a:bodyPr>
          <a:p>
            <a:pPr marL="335880" indent="-3358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è un sito in cui si condividono video.</a:t>
            </a:r>
            <a:endParaRPr b="0" lang="en-US" sz="3000" spc="-1" strike="noStrike">
              <a:solidFill>
                <a:srgbClr val="000000"/>
              </a:solidFill>
              <a:latin typeface="Arial"/>
            </a:endParaRPr>
          </a:p>
          <a:p>
            <a:pPr marL="335880" indent="-3358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lmeno dei video di un’ora sono caricati su YouTube ogni secondo!</a:t>
            </a:r>
            <a:endParaRPr b="0" lang="en-US" sz="3000" spc="-1" strike="noStrike">
              <a:solidFill>
                <a:srgbClr val="000000"/>
              </a:solidFill>
              <a:latin typeface="Arial"/>
            </a:endParaRPr>
          </a:p>
          <a:p>
            <a:pPr marL="335880" indent="-3358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carica la app di YouTube dal tuo app store</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 è utile?</a:t>
            </a:r>
            <a:endParaRPr b="0" lang="en-US" sz="4000" spc="-1" strike="noStrike">
              <a:solidFill>
                <a:srgbClr val="000000"/>
              </a:solidFill>
              <a:latin typeface="Arial"/>
            </a:endParaRPr>
          </a:p>
        </p:txBody>
      </p:sp>
      <p:sp>
        <p:nvSpPr>
          <p:cNvPr id="574" name=""/>
          <p:cNvSpPr txBox="1"/>
          <p:nvPr/>
        </p:nvSpPr>
        <p:spPr>
          <a:xfrm>
            <a:off x="404640" y="1196640"/>
            <a:ext cx="8291520" cy="472284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on è necessario caricare video per usare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può essere utile per trovare dei video tutorial con guide con approccio ‘passo dopo pass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er es.: Fai da te, ricette di cucina e musica</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76" name=""/>
          <p:cNvSpPr txBox="1"/>
          <p:nvPr/>
        </p:nvSpPr>
        <p:spPr>
          <a:xfrm>
            <a:off x="250920" y="1125000"/>
            <a:ext cx="8686800" cy="452628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tai cercando di riparare un rubinetto che perde a casa tu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ri la app di YouTub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erca il simbolo         che indica ‘ricerca’ in alt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igita ‘come riparare un rubinetto che perde’ e trova il video più adatto per risolvere la tua situazi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7" name="Picture 2" descr=""/>
          <p:cNvPicPr/>
          <p:nvPr/>
        </p:nvPicPr>
        <p:blipFill>
          <a:blip r:embed="rId1"/>
          <a:stretch/>
        </p:blipFill>
        <p:spPr>
          <a:xfrm>
            <a:off x="3635280" y="3357720"/>
            <a:ext cx="547920" cy="5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79"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Ricevi un pianoforte per il tuo compleanno.</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pri la app di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erca il simbolo di ricerca in alt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igita ‘piano per principianti’</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80" name="Picture 2" descr=""/>
          <p:cNvPicPr/>
          <p:nvPr/>
        </p:nvPicPr>
        <p:blipFill>
          <a:blip r:embed="rId1"/>
          <a:stretch/>
        </p:blipFill>
        <p:spPr>
          <a:xfrm>
            <a:off x="7956720" y="3259080"/>
            <a:ext cx="690480" cy="6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Ricerche su YouTube</a:t>
            </a:r>
            <a:endParaRPr b="0" lang="en-US" sz="4000" spc="-1" strike="noStrike">
              <a:solidFill>
                <a:srgbClr val="000000"/>
              </a:solidFill>
              <a:latin typeface="Arial"/>
            </a:endParaRPr>
          </a:p>
        </p:txBody>
      </p:sp>
      <p:sp>
        <p:nvSpPr>
          <p:cNvPr id="582"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Suggerimento: puoi visualizzare molti video da YouTube. Un modo utile per filtrare i risultati è di guardare il numero di visualizzazioni.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Se ci sono migliaia/milioni di visualizzazioni allora vuol dire che gli utenti hanno trovato il video util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Visualizzazioni</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83" name="Picture 2" descr=""/>
          <p:cNvPicPr/>
          <p:nvPr/>
        </p:nvPicPr>
        <p:blipFill>
          <a:blip r:embed="rId1"/>
          <a:stretch/>
        </p:blipFill>
        <p:spPr>
          <a:xfrm>
            <a:off x="3419640" y="3789360"/>
            <a:ext cx="5545080" cy="1913040"/>
          </a:xfrm>
          <a:prstGeom prst="rect">
            <a:avLst/>
          </a:prstGeom>
          <a:ln w="0">
            <a:noFill/>
          </a:ln>
        </p:spPr>
      </p:pic>
      <p:cxnSp>
        <p:nvCxnSpPr>
          <p:cNvPr id="584" name="Straight Arrow Connector 4"/>
          <p:cNvCxnSpPr/>
          <p:nvPr/>
        </p:nvCxnSpPr>
        <p:spPr>
          <a:xfrm flipV="1">
            <a:off x="3276720" y="4220640"/>
            <a:ext cx="2591280" cy="7214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ali sono i tuoi interessi?</a:t>
            </a:r>
            <a:endParaRPr b="0" lang="en-US" sz="4000" spc="-1" strike="noStrike">
              <a:solidFill>
                <a:srgbClr val="000000"/>
              </a:solidFill>
              <a:latin typeface="Arial"/>
            </a:endParaRPr>
          </a:p>
        </p:txBody>
      </p:sp>
      <p:sp>
        <p:nvSpPr>
          <p:cNvPr id="586" name=""/>
          <p:cNvSpPr txBox="1"/>
          <p:nvPr/>
        </p:nvSpPr>
        <p:spPr>
          <a:xfrm>
            <a:off x="108000" y="1484280"/>
            <a:ext cx="9036000" cy="4309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ensa a qualcosa che ti interessa fare tipo yoga, cucinare, giochi onlin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erca nel tuo app store le app più adatte</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ai un’occhiata alle recensioni sulla app per vedere cosa ne pensano le person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ontrolla che la app sia gratis prima di scaricarla! Alcune hanno un prezzo che puoi pagare se pensi che ne valga la pen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biettivi</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termine di questa unità, potrai:</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are app specifiche utili nella tua vita quotidian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Di cosa ho bisogno per questa unità?</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 tablet o uno smartphone con connessione ad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45"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i imparato a scaricare una app nell’unità precedente.</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ai nell’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ova ‘Google Maps’ e scarical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ova ‘iTranslate’ e scaricalo</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47"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 sulla app di Google Maps per aprirl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ova un posto nel tuo Paese d’origin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corri sulla parte bassa dello schermo per ottenere informazion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 su ‘Direzioni’ e poi scegli un punto di partenza (che può essere casa tua). Un consiglio: se la tua posizione compare sul tuo dispositivo, puoi già scegliere dove andare da qualsiasi posto tu possa trovarti.</a:t>
            </a:r>
            <a:endParaRPr b="0" lang="en-US" sz="2800" spc="-1" strike="noStrike">
              <a:solidFill>
                <a:srgbClr val="000000"/>
              </a:solidFill>
              <a:latin typeface="Arial"/>
            </a:endParaRPr>
          </a:p>
        </p:txBody>
      </p:sp>
      <p:pic>
        <p:nvPicPr>
          <p:cNvPr id="548" name="Picture 4" descr=""/>
          <p:cNvPicPr/>
          <p:nvPr/>
        </p:nvPicPr>
        <p:blipFill>
          <a:blip r:embed="rId1"/>
          <a:stretch/>
        </p:blipFill>
        <p:spPr>
          <a:xfrm>
            <a:off x="8055000" y="1693800"/>
            <a:ext cx="93348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0"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Vedrai un numero di opzioni quali guida, trasporti pubblici, percorso a piedi, taxi e via biciclet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licca sul simbolo indicato per sapere quanto ti occorre per giungere a destinazione a piedi o in macchin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1" name="Picture 3" descr=""/>
          <p:cNvPicPr/>
          <p:nvPr/>
        </p:nvPicPr>
        <p:blipFill>
          <a:blip r:embed="rId1"/>
          <a:stretch/>
        </p:blipFill>
        <p:spPr>
          <a:xfrm>
            <a:off x="7020000" y="4005360"/>
            <a:ext cx="1082520" cy="1562040"/>
          </a:xfrm>
          <a:prstGeom prst="rect">
            <a:avLst/>
          </a:prstGeom>
          <a:ln w="0">
            <a:noFill/>
          </a:ln>
        </p:spPr>
      </p:pic>
      <p:cxnSp>
        <p:nvCxnSpPr>
          <p:cNvPr id="552" name="Straight Arrow Connector 2"/>
          <p:cNvCxnSpPr/>
          <p:nvPr/>
        </p:nvCxnSpPr>
        <p:spPr>
          <a:xfrm>
            <a:off x="3419640" y="4438440"/>
            <a:ext cx="3157920" cy="10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 su Google Maps</a:t>
            </a:r>
            <a:endParaRPr b="0" lang="en-US" sz="4000" spc="-1" strike="noStrike">
              <a:solidFill>
                <a:srgbClr val="000000"/>
              </a:solidFill>
              <a:latin typeface="Arial"/>
            </a:endParaRPr>
          </a:p>
        </p:txBody>
      </p:sp>
      <p:sp>
        <p:nvSpPr>
          <p:cNvPr id="554" name=""/>
          <p:cNvSpPr txBox="1"/>
          <p:nvPr/>
        </p:nvSpPr>
        <p:spPr>
          <a:xfrm>
            <a:off x="2880" y="1125000"/>
            <a:ext cx="9007560" cy="452628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i a Parigi, Francia in vacanz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uoi andare a Calais, sempre in Franci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a Google Maps per trovare le varie opzioni di percorso.</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arriverebbe prima guidando o via trasporti pubblici?</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Quali sono i mezzi di trasporto pubblici?</a:t>
            </a:r>
            <a:endParaRPr b="0" lang="en-US" sz="2800" spc="-1" strike="noStrike">
              <a:solidFill>
                <a:srgbClr val="000000"/>
              </a:solidFill>
              <a:latin typeface="Arial"/>
            </a:endParaRPr>
          </a:p>
        </p:txBody>
      </p:sp>
      <p:pic>
        <p:nvPicPr>
          <p:cNvPr id="555" name="Picture 4" descr=""/>
          <p:cNvPicPr/>
          <p:nvPr/>
        </p:nvPicPr>
        <p:blipFill>
          <a:blip r:embed="rId1"/>
          <a:stretch/>
        </p:blipFill>
        <p:spPr>
          <a:xfrm>
            <a:off x="6875640" y="1052640"/>
            <a:ext cx="933120" cy="961920"/>
          </a:xfrm>
          <a:prstGeom prst="rect">
            <a:avLst/>
          </a:prstGeom>
          <a:ln w="0">
            <a:noFill/>
          </a:ln>
        </p:spPr>
      </p:pic>
      <p:pic>
        <p:nvPicPr>
          <p:cNvPr id="556" name="Picture 2" descr=""/>
          <p:cNvPicPr/>
          <p:nvPr/>
        </p:nvPicPr>
        <p:blipFill>
          <a:blip r:embed="rId2"/>
          <a:stretch/>
        </p:blipFill>
        <p:spPr>
          <a:xfrm>
            <a:off x="2700360" y="4653000"/>
            <a:ext cx="1238400" cy="750960"/>
          </a:xfrm>
          <a:prstGeom prst="rect">
            <a:avLst/>
          </a:prstGeom>
          <a:ln w="0">
            <a:noFill/>
          </a:ln>
        </p:spPr>
      </p:pic>
      <p:pic>
        <p:nvPicPr>
          <p:cNvPr id="557" name="Picture 3" descr=""/>
          <p:cNvPicPr/>
          <p:nvPr/>
        </p:nvPicPr>
        <p:blipFill>
          <a:blip r:embed="rId3"/>
          <a:stretch/>
        </p:blipFill>
        <p:spPr>
          <a:xfrm>
            <a:off x="4859280" y="4662360"/>
            <a:ext cx="1090800" cy="6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ndicazione riguardo Google Maps</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può scaricare una direzione anche offline in modo da poterla usare anche se non si è connessi ad Internet: ciò risulta essere molto utile quando si è in viaggio in assenza di wi-fi!</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Viaggiare all’Estero</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i scaricato iTranslate sul tuo disposi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 sulla app per aprirl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desso puoi usare il tuo telefono o tablet per tradurre altre lingu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Simone Capozucco</cp:lastModifiedBy>
  <dcterms:modified xsi:type="dcterms:W3CDTF">2020-05-02T21:15:44Z</dcterms:modified>
  <cp:revision>476</cp:revision>
  <dc:subject/>
  <dc:title>Title</dc:title>
</cp:coreProperties>
</file>