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954828A-E207-4601-9650-C6743E1AA91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FFBCC70-9403-4BA1-B1A1-CA059CC569C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32CA78A-6A46-486B-A976-838EEC13CC4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9F4AECC-8F07-4696-AE6A-28EF8ADBD2F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C70F986-7002-41FE-A288-F8B4EAA487E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2381193-ED17-4E68-BDE6-E53AAAF6F52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9A82F8C-67A6-4A7A-9E89-2E0ED5AE26E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2F3D864-7CDD-48A1-BE42-9726AAE9F77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7FFC618-4CFA-42E7-AD44-5C5DB8D5020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671D1F5-77C2-4D7B-9B45-1A40122B438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0A23C77-1872-4F06-9A45-85FF5C0D515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0491731-EE3F-4A42-A986-4CA6BCFD7C0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558EACC-668B-49B7-893D-D9B2F278A1D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439A170-0B6F-4A29-AD64-6B49E67D03C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6DE7CEA-1971-4EFE-A17C-523A7E06A6F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02131E4-2832-466D-9DE2-F97739D163E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3302DDE-C2C9-4CEC-B0DC-574A931BD7C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EC74369-0873-4627-9387-01EC47B0473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0CB80D5-825B-4000-B6CD-82FAB552A90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C0134B7-5C63-4A0A-8EFC-D69B77559E9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1005761-94A5-4F8C-875C-44528508B5A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A9EAE08-6B48-4839-B2CC-393DDDC078E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EE919C5-D332-4152-AEF9-0207E2173FB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C86C4E6-CB7E-4537-AA92-BC67858E3F4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AE1919B-E312-4DB7-859D-6CEB98836E7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4368713-0D27-498F-B1C0-29B540C61D2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01CF3DC-2E8D-48DC-AE6F-DAE27AE5CF3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B8A9B22-98A7-47DB-94BF-36861D6EB31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EB945E7-645B-43B2-9F5A-826B2C32A16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DC1562F-37B5-4081-949B-C5F7FBE3F1A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8468458-1281-4EE3-A89C-4D1BFE56B02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5200039-3583-4645-9CCE-417772FD7B8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FD011BE-89CF-470B-9F23-7680E7AC06A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7721513-2B07-44FD-B9DE-3E7C48FBC505}"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B531B4F-6333-4898-A75C-2AE9AB83317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8F3DE8E-1731-4F8F-89D9-A91F8BFDB37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FAE9F14-F05E-4D40-80CD-ED199551A42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5B1C9E9-F727-44D9-8243-8F6986637EE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3832901-0495-4C75-8A3C-07B6C20A50A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81B0C1D-B5C8-4A7F-AD23-47EE9811544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3EC4497-E839-433F-80E4-2F60B2F9821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F486F83-C719-427C-9CCB-C4FE3F580F8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712563D-95FB-4170-B092-187EF24BAED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E6FECC44-C9FD-402E-8365-BBED67004FE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FD354A3-6F45-4284-A44A-C2638807137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DB9982-F227-465C-B3F3-BF39E4FADA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2705BD-1DD2-422A-9827-3F64DA7B14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7838D1-AE0C-44A1-8AA3-EC2315AEAF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B43FAF-5F71-4C5B-91B5-A176FED89C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FE0A95-B68E-40C4-9382-DAE0B68ADF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6D1016-4494-4D3E-8194-518A8C73F6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C832F5-8470-4918-BEA7-E58832E291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B42256-EBEB-4320-9266-1D3CEAFDD0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7107B1-3C84-45D3-99D0-DA43D91825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4E6B4B-D0D8-4F98-8BA4-6E4BCB08D8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B7B24F3-525B-434B-8069-D4C8C13950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E06213-5873-4B86-9E20-B80527C1CA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CA6DED6-A9D1-46D9-BCDF-135FA6B1437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8B03D81-D180-4C13-A87D-BB2BBECA752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57DFE52-CD1D-4417-8F78-7C54EBB7539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8C42C3C-282A-4FAA-B0E6-F7DF88F64B9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0FEC03C-7154-4E96-B4F2-14F7C4E9DE8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712CE59-DBAC-444E-9EB1-ABD375CA7FE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8EE547-432B-4DEA-B879-76E68AE151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3E654D1-3ECD-457B-AB37-93CBDD4FE54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4DB7145-5B0A-4D92-AFDE-A63BBFD127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DB8125C-0B03-40FE-A6CB-F2B1A7551A9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1B6BB97-7693-42C9-9048-7427CEB81A9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5D6896B-1DDC-4264-B4A3-CF8754E4C69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5D21230-6BD3-47D1-B0AB-3AFA43EC5B6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E85536E-7901-4DAA-A54D-889EA94739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FD140BE-C52A-49D9-91A9-CD38713B1E2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72CC4C8-12F6-4E10-9516-792F71E47DF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1A8FE46-F736-44F2-8B75-48D78C63599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597EBF4-7038-43E3-9DA7-BAA51518D28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4792FD7-01C7-4320-A983-08B2418DEE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C3AFC7D-6171-4EBE-92B1-7FFCDA54B8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9E17DB5-C0E0-461D-BC6B-E80B59F963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C357787-7D3A-4928-8AB0-4A7E859714B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1CDE16D-ECA3-4991-B885-183B64A9FD7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32E8907-1483-4689-8822-022C512A9AA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2A9315A-F65B-4A17-A952-9B6926FE0C8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6B753C3-7841-4F0F-AB2E-156650FF0C9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2C69401-3A6F-47BA-B75C-7F55532CFC4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9645BFD-8F83-4D9D-AD11-E9EA8BBAE3A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F7172BC-0C3E-451F-8964-F0C386A1655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973BDB2-C0B0-4E2A-904B-7159DA8F8D7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C0E19B0-EC65-46BA-B54A-B60D818E247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F0566BC-4CEE-4442-855A-4ED3310D451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C549212-CCF8-4EFE-9409-43537D69C41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6B96981-4EC5-4CC2-9CD6-A59EFF4B41D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CF0FAA5-C5B4-4ED5-A6ED-25F5DB0D4FB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10A9D17-8E47-46C9-B1C6-CA0242A41D0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B072F9A-74F1-44E4-9DCA-73DF7184E22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D25FDBD-B075-43F9-B2D2-7313A4A3D03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75BEF33-8759-49F9-B8CA-9952C25A9B3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EA35A48-3E9D-4ECA-9B0E-9FB0D65CE22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5F82EE8-F0DE-4D19-ABA7-C3181FEDCAB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6B66F3D-79C1-4DE2-9862-A27EB776132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9E7E62A-F49D-4CCE-A852-C7EC8DEF589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28DD212-84AC-4717-B593-A73ABC2DBC8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4D750EC-9309-43EE-9083-937B39C5018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DC51032-96B2-4A92-B834-ED0A8D29987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6D65D19-98FB-409D-A96E-37E7AA534EE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47F01CA-9D9E-486E-BA8D-DDF222D5067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03916A2-9E26-4620-988B-AE99B50419D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007E0C7-329F-4F6D-9636-676303DE312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F7F2FEA-EB8B-4FF2-805F-AA874F94579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CF14EED-2C1C-4DA2-AF7E-3DF88424403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22BE642-6962-4115-98D2-F3E984CF3D5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D8AAE1A-B690-49F5-8BCF-91BD960428E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042FD69-4390-4868-904F-73CA0B21BB9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0060C8C-DAC3-4BA4-A4E7-3CE152B276B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E2CC2D2-97F8-4819-A99E-B560F133BEC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6AC368B-5E3A-4B29-8651-3CBD8367378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4C31F84-346C-479E-A422-3A687AFB469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3565E2A-FE75-4860-A21C-DF544C04EE1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1D9055D-45BD-4E95-A85A-F9CC277484D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67F5371-E27D-4AAF-9A77-62EB05A7623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2352233-D1F9-497D-823F-4C7F600E6139}"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A2F9-6B52-4D94-A8F6-E9856BF0EC4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5AFCB-B6EB-43F6-9019-D1B723316A7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66DB3-6C53-4F3B-9904-BA6843BF50E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968E-E1B0-4F3A-B435-9A21B3ABC7D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2397-E33A-461B-96D3-17575F21A2A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E8D47-CE32-4896-9E23-9ACE9A68AD7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133E-40BE-4280-8F91-09EF8BF6CEB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E0D1-57DA-46AA-8C9D-9B9BB09487D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1B0D-33AF-4BE5-85E7-3960B5EAFFC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8272F-BC39-445C-A794-501ED7ECF7F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Creazioni di Contenuti Digitali</a:t>
            </a:r>
            <a:endParaRPr b="0" lang="en-US" sz="3600" spc="-1" strike="noStrike">
              <a:solidFill>
                <a:srgbClr val="000000"/>
              </a:solidFill>
              <a:latin typeface="Arial"/>
            </a:endParaRPr>
          </a:p>
        </p:txBody>
      </p:sp>
      <p:sp>
        <p:nvSpPr>
          <p:cNvPr id="537" name="Rectángulo 1"/>
          <p:cNvSpPr/>
          <p:nvPr/>
        </p:nvSpPr>
        <p:spPr>
          <a:xfrm>
            <a:off x="1619280" y="3244680"/>
            <a:ext cx="6900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App utili per t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Viaggi e lingu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282400" y="392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Usare iTranslate</a:t>
            </a:r>
            <a:endParaRPr b="0" lang="en-US" sz="4000" spc="-1" strike="noStrike">
              <a:solidFill>
                <a:srgbClr val="000000"/>
              </a:solidFill>
              <a:latin typeface="Arial"/>
            </a:endParaRPr>
          </a:p>
        </p:txBody>
      </p:sp>
      <p:sp>
        <p:nvSpPr>
          <p:cNvPr id="565" name=""/>
          <p:cNvSpPr txBox="1"/>
          <p:nvPr/>
        </p:nvSpPr>
        <p:spPr>
          <a:xfrm>
            <a:off x="395280" y="134136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Ti appariranno due opzioni sullo schermo</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licca su una bandiera e seleziona due lingu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licca sull’altra bandiera e seleziona la lingua che vuoi tradurre, per es. se vuoi tradurre dall’ungherese all’irlandese, prima clicchi su           poi su</a:t>
            </a:r>
            <a:endParaRPr b="0" lang="en-US" sz="3000" spc="-1" strike="noStrike">
              <a:solidFill>
                <a:srgbClr val="000000"/>
              </a:solidFill>
              <a:latin typeface="Arial"/>
            </a:endParaRPr>
          </a:p>
        </p:txBody>
      </p:sp>
      <p:pic>
        <p:nvPicPr>
          <p:cNvPr id="566" name="Picture 2" descr=""/>
          <p:cNvPicPr/>
          <p:nvPr/>
        </p:nvPicPr>
        <p:blipFill>
          <a:blip r:embed="rId1"/>
          <a:stretch/>
        </p:blipFill>
        <p:spPr>
          <a:xfrm>
            <a:off x="3851280" y="4313160"/>
            <a:ext cx="824040" cy="503280"/>
          </a:xfrm>
          <a:prstGeom prst="rect">
            <a:avLst/>
          </a:prstGeom>
          <a:ln w="0">
            <a:noFill/>
          </a:ln>
        </p:spPr>
      </p:pic>
      <p:pic>
        <p:nvPicPr>
          <p:cNvPr id="567" name="Picture 4" descr=""/>
          <p:cNvPicPr/>
          <p:nvPr/>
        </p:nvPicPr>
        <p:blipFill>
          <a:blip r:embed="rId2"/>
          <a:stretch/>
        </p:blipFill>
        <p:spPr>
          <a:xfrm>
            <a:off x="6012000" y="4346640"/>
            <a:ext cx="792000" cy="436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410920" y="61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sercizio</a:t>
            </a:r>
            <a:endParaRPr b="0" lang="en-US" sz="4000" spc="-1" strike="noStrike">
              <a:solidFill>
                <a:srgbClr val="000000"/>
              </a:solidFill>
              <a:latin typeface="Arial"/>
            </a:endParaRPr>
          </a:p>
        </p:txBody>
      </p:sp>
      <p:sp>
        <p:nvSpPr>
          <p:cNvPr id="569" name=""/>
          <p:cNvSpPr txBox="1"/>
          <p:nvPr/>
        </p:nvSpPr>
        <p:spPr>
          <a:xfrm>
            <a:off x="0" y="1412640"/>
            <a:ext cx="9144000" cy="41655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ei in vacanza in Spagna</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La tua lingua madre è l’ingles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sa iTranslate per tradurre dall’inglese allo spagnolo:</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Good morning</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here is the bus st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uggerimento: puoi anche cliccare sul microfono per tradurre quello che stai dicendo</a:t>
            </a:r>
            <a:r>
              <a:rPr b="0" lang="hu-HU" sz="2800" spc="-1" strike="noStrike">
                <a:solidFill>
                  <a:srgbClr val="000000"/>
                </a:solidFill>
                <a:latin typeface="Arial Rounded MT Bold"/>
              </a:rPr>
              <a:t>.</a:t>
            </a:r>
            <a:r>
              <a:rPr b="0" lang="en-GB" sz="2800" spc="-1" strike="noStrike">
                <a:solidFill>
                  <a:srgbClr val="000000"/>
                </a:solidFill>
                <a:latin typeface="Arial Rounded MT Bold"/>
              </a:rPr>
              <a:t> </a:t>
            </a:r>
            <a:endParaRPr b="0" lang="en-US" sz="2800" spc="-1" strike="noStrike">
              <a:solidFill>
                <a:srgbClr val="000000"/>
              </a:solidFill>
              <a:latin typeface="Arial"/>
            </a:endParaRPr>
          </a:p>
        </p:txBody>
      </p:sp>
      <p:pic>
        <p:nvPicPr>
          <p:cNvPr id="570" name="Picture 2" descr=""/>
          <p:cNvPicPr/>
          <p:nvPr/>
        </p:nvPicPr>
        <p:blipFill>
          <a:blip r:embed="rId1"/>
          <a:stretch/>
        </p:blipFill>
        <p:spPr>
          <a:xfrm>
            <a:off x="5940360" y="4865760"/>
            <a:ext cx="720720" cy="71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YouTube</a:t>
            </a:r>
            <a:endParaRPr b="0" lang="en-US" sz="4000" spc="-1" strike="noStrike">
              <a:solidFill>
                <a:srgbClr val="000000"/>
              </a:solidFill>
              <a:latin typeface="Arial"/>
            </a:endParaRPr>
          </a:p>
        </p:txBody>
      </p:sp>
      <p:sp>
        <p:nvSpPr>
          <p:cNvPr id="572" name=""/>
          <p:cNvSpPr txBox="1"/>
          <p:nvPr/>
        </p:nvSpPr>
        <p:spPr>
          <a:xfrm>
            <a:off x="433440" y="1403280"/>
            <a:ext cx="8229600" cy="4238640"/>
          </a:xfrm>
          <a:prstGeom prst="rect">
            <a:avLst/>
          </a:prstGeom>
          <a:noFill/>
          <a:ln w="0">
            <a:noFill/>
          </a:ln>
        </p:spPr>
        <p:txBody>
          <a:bodyPr anchor="t">
            <a:normAutofit fontScale="98000"/>
          </a:bodyPr>
          <a:p>
            <a:pPr marL="335880" indent="-3358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YouTube è un sito in cui si condividono video.</a:t>
            </a:r>
            <a:endParaRPr b="0" lang="en-US" sz="3000" spc="-1" strike="noStrike">
              <a:solidFill>
                <a:srgbClr val="000000"/>
              </a:solidFill>
              <a:latin typeface="Arial"/>
            </a:endParaRPr>
          </a:p>
          <a:p>
            <a:pPr marL="335880" indent="-3358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Almeno dei video di un’ora sono caricati su YouTube ogni secondo!</a:t>
            </a:r>
            <a:endParaRPr b="0" lang="en-US" sz="3000" spc="-1" strike="noStrike">
              <a:solidFill>
                <a:srgbClr val="000000"/>
              </a:solidFill>
              <a:latin typeface="Arial"/>
            </a:endParaRPr>
          </a:p>
          <a:p>
            <a:pPr marL="335880" indent="-3358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Scarica la app di YouTube dal tuo app store</a:t>
            </a:r>
            <a:r>
              <a:rPr b="0" lang="hu-HU" sz="3000" spc="-1" strike="noStrike">
                <a:solidFill>
                  <a:srgbClr val="000000"/>
                </a:solidFill>
                <a:latin typeface="Arial Rounded MT Bold"/>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YouTube è utile?</a:t>
            </a:r>
            <a:endParaRPr b="0" lang="en-US" sz="4000" spc="-1" strike="noStrike">
              <a:solidFill>
                <a:srgbClr val="000000"/>
              </a:solidFill>
              <a:latin typeface="Arial"/>
            </a:endParaRPr>
          </a:p>
        </p:txBody>
      </p:sp>
      <p:sp>
        <p:nvSpPr>
          <p:cNvPr id="574" name=""/>
          <p:cNvSpPr txBox="1"/>
          <p:nvPr/>
        </p:nvSpPr>
        <p:spPr>
          <a:xfrm>
            <a:off x="404640" y="1196640"/>
            <a:ext cx="8291520" cy="4722840"/>
          </a:xfrm>
          <a:prstGeom prst="rect">
            <a:avLst/>
          </a:prstGeom>
          <a:noFill/>
          <a:ln w="0">
            <a:noFill/>
          </a:ln>
        </p:spPr>
        <p:txBody>
          <a:bodyPr anchor="t">
            <a:normAutofit/>
          </a:bodyPr>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Non è necessario caricare video per usare YouTub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YouTube può essere utile per trovare dei video tutorial con guide con approccio ‘passo dopo passo’</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Per es.: Fai da te, ricette di cucina e musica</a:t>
            </a:r>
            <a:r>
              <a:rPr b="0" lang="hu-HU" sz="3000" spc="-1" strike="noStrike">
                <a:solidFill>
                  <a:srgbClr val="000000"/>
                </a:solidFill>
                <a:latin typeface="Arial Rounded MT Bold"/>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sercizio</a:t>
            </a:r>
            <a:endParaRPr b="0" lang="en-US" sz="4000" spc="-1" strike="noStrike">
              <a:solidFill>
                <a:srgbClr val="000000"/>
              </a:solidFill>
              <a:latin typeface="Arial"/>
            </a:endParaRPr>
          </a:p>
        </p:txBody>
      </p:sp>
      <p:sp>
        <p:nvSpPr>
          <p:cNvPr id="576" name=""/>
          <p:cNvSpPr txBox="1"/>
          <p:nvPr/>
        </p:nvSpPr>
        <p:spPr>
          <a:xfrm>
            <a:off x="250920" y="1125000"/>
            <a:ext cx="8686800" cy="4526280"/>
          </a:xfrm>
          <a:prstGeom prst="rect">
            <a:avLst/>
          </a:prstGeom>
          <a:noFill/>
          <a:ln w="0">
            <a:noFill/>
          </a:ln>
        </p:spPr>
        <p:txBody>
          <a:bodyPr anchor="t">
            <a:normAutofit fontScale="93000"/>
          </a:bodyPr>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tai cercando di riparare un rubinetto che perde a casa tua</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pri la app di YouTub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erca il simbolo         che indica ‘ricerca’ in alto</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Digita ‘come riparare un rubinetto che perde’ e trova il video più adatto per risolvere la tua situazion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77" name="Picture 2" descr=""/>
          <p:cNvPicPr/>
          <p:nvPr/>
        </p:nvPicPr>
        <p:blipFill>
          <a:blip r:embed="rId1"/>
          <a:stretch/>
        </p:blipFill>
        <p:spPr>
          <a:xfrm>
            <a:off x="3635280" y="3357720"/>
            <a:ext cx="547920" cy="500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484000" y="1854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sercizio</a:t>
            </a:r>
            <a:endParaRPr b="0" lang="en-US" sz="4000" spc="-1" strike="noStrike">
              <a:solidFill>
                <a:srgbClr val="000000"/>
              </a:solidFill>
              <a:latin typeface="Arial"/>
            </a:endParaRPr>
          </a:p>
        </p:txBody>
      </p:sp>
      <p:sp>
        <p:nvSpPr>
          <p:cNvPr id="579" name=""/>
          <p:cNvSpPr txBox="1"/>
          <p:nvPr/>
        </p:nvSpPr>
        <p:spPr>
          <a:xfrm>
            <a:off x="457200" y="1600200"/>
            <a:ext cx="8686800" cy="4525920"/>
          </a:xfrm>
          <a:prstGeom prst="rect">
            <a:avLst/>
          </a:prstGeom>
          <a:noFill/>
          <a:ln w="0">
            <a:noFill/>
          </a:ln>
        </p:spPr>
        <p:txBody>
          <a:bodyPr anchor="t">
            <a:normAutofit/>
          </a:bodyPr>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Ricevi un pianoforte per il tuo compleanno.</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Apri la app di YouTub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erca il simbolo di ricerca in alto</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Digita ‘piano per principianti’</a:t>
            </a:r>
            <a:r>
              <a:rPr b="0" lang="hu-HU" sz="3000" spc="-1" strike="noStrike">
                <a:solidFill>
                  <a:srgbClr val="000000"/>
                </a:solidFill>
                <a:latin typeface="Arial Rounded MT Bold"/>
              </a:rPr>
              <a:t>.</a:t>
            </a:r>
            <a:endParaRPr b="0" lang="en-US" sz="3000" spc="-1" strike="noStrike">
              <a:solidFill>
                <a:srgbClr val="000000"/>
              </a:solidFill>
              <a:latin typeface="Arial"/>
            </a:endParaRPr>
          </a:p>
        </p:txBody>
      </p:sp>
      <p:pic>
        <p:nvPicPr>
          <p:cNvPr id="580" name="Picture 2" descr=""/>
          <p:cNvPicPr/>
          <p:nvPr/>
        </p:nvPicPr>
        <p:blipFill>
          <a:blip r:embed="rId1"/>
          <a:stretch/>
        </p:blipFill>
        <p:spPr>
          <a:xfrm>
            <a:off x="7956720" y="3259080"/>
            <a:ext cx="690480" cy="63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340000" y="-3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Ricerche su YouTube</a:t>
            </a:r>
            <a:endParaRPr b="0" lang="en-US" sz="4000" spc="-1" strike="noStrike">
              <a:solidFill>
                <a:srgbClr val="000000"/>
              </a:solidFill>
              <a:latin typeface="Arial"/>
            </a:endParaRPr>
          </a:p>
        </p:txBody>
      </p:sp>
      <p:sp>
        <p:nvSpPr>
          <p:cNvPr id="582" name=""/>
          <p:cNvSpPr txBox="1"/>
          <p:nvPr/>
        </p:nvSpPr>
        <p:spPr>
          <a:xfrm>
            <a:off x="0" y="1196640"/>
            <a:ext cx="9144000" cy="482436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Suggerimento: puoi visualizzare molti video da YouTube. Un modo utile per filtrare i risultati è di guardare il numero di visualizzazioni. </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Se ci sono migliaia/milioni di visualizzazioni allora vuol dire che gli utenti hanno trovato il video util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Visualizzazioni</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583" name="Picture 2" descr=""/>
          <p:cNvPicPr/>
          <p:nvPr/>
        </p:nvPicPr>
        <p:blipFill>
          <a:blip r:embed="rId1"/>
          <a:stretch/>
        </p:blipFill>
        <p:spPr>
          <a:xfrm>
            <a:off x="3419640" y="3789360"/>
            <a:ext cx="5545080" cy="1913040"/>
          </a:xfrm>
          <a:prstGeom prst="rect">
            <a:avLst/>
          </a:prstGeom>
          <a:ln w="0">
            <a:noFill/>
          </a:ln>
        </p:spPr>
      </p:pic>
      <p:cxnSp>
        <p:nvCxnSpPr>
          <p:cNvPr id="584" name="Straight Arrow Connector 4"/>
          <p:cNvCxnSpPr/>
          <p:nvPr/>
        </p:nvCxnSpPr>
        <p:spPr>
          <a:xfrm flipV="1">
            <a:off x="3276720" y="4220640"/>
            <a:ext cx="2591280" cy="72144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329920" y="-360"/>
            <a:ext cx="6813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Quali sono i tuoi interessi?</a:t>
            </a:r>
            <a:endParaRPr b="0" lang="en-US" sz="4000" spc="-1" strike="noStrike">
              <a:solidFill>
                <a:srgbClr val="000000"/>
              </a:solidFill>
              <a:latin typeface="Arial"/>
            </a:endParaRPr>
          </a:p>
        </p:txBody>
      </p:sp>
      <p:sp>
        <p:nvSpPr>
          <p:cNvPr id="586" name=""/>
          <p:cNvSpPr txBox="1"/>
          <p:nvPr/>
        </p:nvSpPr>
        <p:spPr>
          <a:xfrm>
            <a:off x="108000" y="1484280"/>
            <a:ext cx="9036000" cy="4309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Pensa a qualcosa che ti interessa fare tipo yoga, cucinare, giochi onlin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erca nel tuo app store le app più adatte</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Dai un’occhiata alle recensioni sulla app per vedere cosa ne pensano le person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ontrolla che la app sia gratis prima di scaricarla! Alcune hanno un prezzo che puoi pagare se pensi che ne valga la pen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Obbiettivi</a:t>
            </a:r>
            <a:endParaRPr b="0" lang="en-US" sz="4000" spc="-1" strike="noStrike">
              <a:solidFill>
                <a:srgbClr val="000000"/>
              </a:solidFill>
              <a:latin typeface="Arial"/>
            </a:endParaRPr>
          </a:p>
        </p:txBody>
      </p:sp>
      <p:sp>
        <p:nvSpPr>
          <p:cNvPr id="539" name="PlaceHolder 2"/>
          <p:cNvSpPr>
            <a:spLocks noGrp="1"/>
          </p:cNvSpPr>
          <p:nvPr>
            <p:ph/>
          </p:nvPr>
        </p:nvSpPr>
        <p:spPr>
          <a:xfrm>
            <a:off x="457200" y="1989000"/>
            <a:ext cx="8229600" cy="41371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l termine di questa unità, potrai:</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sare app specifiche utili nella tua vita quotidiana</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050560" y="311040"/>
            <a:ext cx="7093080" cy="81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Di cosa ho bisogno per questa unità?</a:t>
            </a:r>
            <a:endParaRPr b="0" lang="en-US" sz="3600" spc="-1" strike="noStrike">
              <a:solidFill>
                <a:srgbClr val="000000"/>
              </a:solidFill>
              <a:latin typeface="Arial"/>
            </a:endParaRPr>
          </a:p>
        </p:txBody>
      </p:sp>
      <p:sp>
        <p:nvSpPr>
          <p:cNvPr id="541" name=""/>
          <p:cNvSpPr txBox="1"/>
          <p:nvPr/>
        </p:nvSpPr>
        <p:spPr>
          <a:xfrm>
            <a:off x="539640" y="15573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n tablet o uno smartphone con connessione ad internet</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2" name="Picture 4" descr=""/>
          <p:cNvPicPr/>
          <p:nvPr/>
        </p:nvPicPr>
        <p:blipFill>
          <a:blip r:embed="rId1"/>
          <a:stretch/>
        </p:blipFill>
        <p:spPr>
          <a:xfrm>
            <a:off x="1273320" y="3141720"/>
            <a:ext cx="2904840" cy="1695240"/>
          </a:xfrm>
          <a:prstGeom prst="rect">
            <a:avLst/>
          </a:prstGeom>
          <a:ln w="0">
            <a:noFill/>
          </a:ln>
        </p:spPr>
      </p:pic>
      <p:pic>
        <p:nvPicPr>
          <p:cNvPr id="543" name="Picture 5" descr=""/>
          <p:cNvPicPr/>
          <p:nvPr/>
        </p:nvPicPr>
        <p:blipFill>
          <a:blip r:embed="rId2"/>
          <a:stretch/>
        </p:blipFill>
        <p:spPr>
          <a:xfrm>
            <a:off x="4979880" y="2681280"/>
            <a:ext cx="2905200" cy="229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40000" y="274320"/>
            <a:ext cx="68040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sercizio</a:t>
            </a:r>
            <a:endParaRPr b="0" lang="en-US" sz="4000" spc="-1" strike="noStrike">
              <a:solidFill>
                <a:srgbClr val="000000"/>
              </a:solidFill>
              <a:latin typeface="Arial"/>
            </a:endParaRPr>
          </a:p>
        </p:txBody>
      </p:sp>
      <p:sp>
        <p:nvSpPr>
          <p:cNvPr id="545" name=""/>
          <p:cNvSpPr txBox="1"/>
          <p:nvPr/>
        </p:nvSpPr>
        <p:spPr>
          <a:xfrm>
            <a:off x="456840" y="1600200"/>
            <a:ext cx="843588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Hai imparato a scaricare una app nell’unità precedente.</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Vai nell’app stor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rova ‘Google Maps’ e scaricalo</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rova ‘iTranslate’ e scaricalo</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410920" y="189000"/>
            <a:ext cx="635652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Google Maps</a:t>
            </a:r>
            <a:endParaRPr b="0" lang="en-US" sz="4000" spc="-1" strike="noStrike">
              <a:solidFill>
                <a:srgbClr val="000000"/>
              </a:solidFill>
              <a:latin typeface="Arial"/>
            </a:endParaRPr>
          </a:p>
        </p:txBody>
      </p:sp>
      <p:sp>
        <p:nvSpPr>
          <p:cNvPr id="547" name=""/>
          <p:cNvSpPr txBox="1"/>
          <p:nvPr/>
        </p:nvSpPr>
        <p:spPr>
          <a:xfrm>
            <a:off x="-360" y="1699920"/>
            <a:ext cx="9007560" cy="43830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licca sulla app di Google Maps per aprirla</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rova un posto nel tuo Paese d’origin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corri sulla parte bassa dello schermo per ottenere informazioni</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licca su ‘Direzioni’ e poi scegli un punto di partenza (che può essere casa tua). Un consiglio: se la tua posizione compare sul tuo dispositivo, puoi già scegliere dove andare da qualsiasi posto tu possa trovarti.</a:t>
            </a:r>
            <a:endParaRPr b="0" lang="en-US" sz="2800" spc="-1" strike="noStrike">
              <a:solidFill>
                <a:srgbClr val="000000"/>
              </a:solidFill>
              <a:latin typeface="Arial"/>
            </a:endParaRPr>
          </a:p>
        </p:txBody>
      </p:sp>
      <p:pic>
        <p:nvPicPr>
          <p:cNvPr id="548" name="Picture 4" descr=""/>
          <p:cNvPicPr/>
          <p:nvPr/>
        </p:nvPicPr>
        <p:blipFill>
          <a:blip r:embed="rId1"/>
          <a:stretch/>
        </p:blipFill>
        <p:spPr>
          <a:xfrm>
            <a:off x="8055000" y="1693800"/>
            <a:ext cx="933480" cy="94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340000" y="-360"/>
            <a:ext cx="635616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Google Maps</a:t>
            </a:r>
            <a:endParaRPr b="0" lang="en-US" sz="4000" spc="-1" strike="noStrike">
              <a:solidFill>
                <a:srgbClr val="000000"/>
              </a:solidFill>
              <a:latin typeface="Arial"/>
            </a:endParaRPr>
          </a:p>
        </p:txBody>
      </p:sp>
      <p:sp>
        <p:nvSpPr>
          <p:cNvPr id="550" name=""/>
          <p:cNvSpPr txBox="1"/>
          <p:nvPr/>
        </p:nvSpPr>
        <p:spPr>
          <a:xfrm>
            <a:off x="-360" y="1263600"/>
            <a:ext cx="900756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Vedrai un numero di opzioni quali guida, trasporti pubblici, percorso a piedi, taxi e via bicicletta:</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Clicca sul simbolo indicato per sapere quanto ti occorre per giungere a destinazione a piedi o in macchin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1" name="Picture 3" descr=""/>
          <p:cNvPicPr/>
          <p:nvPr/>
        </p:nvPicPr>
        <p:blipFill>
          <a:blip r:embed="rId1"/>
          <a:stretch/>
        </p:blipFill>
        <p:spPr>
          <a:xfrm>
            <a:off x="7020000" y="4005360"/>
            <a:ext cx="1082520" cy="1562040"/>
          </a:xfrm>
          <a:prstGeom prst="rect">
            <a:avLst/>
          </a:prstGeom>
          <a:ln w="0">
            <a:noFill/>
          </a:ln>
        </p:spPr>
      </p:pic>
      <p:cxnSp>
        <p:nvCxnSpPr>
          <p:cNvPr id="552" name="Straight Arrow Connector 2"/>
          <p:cNvCxnSpPr/>
          <p:nvPr/>
        </p:nvCxnSpPr>
        <p:spPr>
          <a:xfrm>
            <a:off x="3419640" y="4438440"/>
            <a:ext cx="3157920" cy="108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340000" y="0"/>
            <a:ext cx="6356160" cy="105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sercizi su Google Maps</a:t>
            </a:r>
            <a:endParaRPr b="0" lang="en-US" sz="4000" spc="-1" strike="noStrike">
              <a:solidFill>
                <a:srgbClr val="000000"/>
              </a:solidFill>
              <a:latin typeface="Arial"/>
            </a:endParaRPr>
          </a:p>
        </p:txBody>
      </p:sp>
      <p:sp>
        <p:nvSpPr>
          <p:cNvPr id="554" name=""/>
          <p:cNvSpPr txBox="1"/>
          <p:nvPr/>
        </p:nvSpPr>
        <p:spPr>
          <a:xfrm>
            <a:off x="2880" y="1125000"/>
            <a:ext cx="9007560" cy="4526280"/>
          </a:xfrm>
          <a:prstGeom prst="rect">
            <a:avLst/>
          </a:prstGeom>
          <a:noFill/>
          <a:ln w="0">
            <a:noFill/>
          </a:ln>
        </p:spPr>
        <p:txBody>
          <a:bodyPr anchor="t">
            <a:normAutofit fontScale="93000"/>
          </a:bodyPr>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ei a Parigi, Francia in vacanza</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Vuoi andare a Calais, sempre in Francia</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sa Google Maps per trovare le varie opzioni di percorso.</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i arriverebbe prima guidando o via trasporti pubblici?</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Quali sono i mezzi di trasporto pubblici?</a:t>
            </a:r>
            <a:endParaRPr b="0" lang="en-US" sz="2800" spc="-1" strike="noStrike">
              <a:solidFill>
                <a:srgbClr val="000000"/>
              </a:solidFill>
              <a:latin typeface="Arial"/>
            </a:endParaRPr>
          </a:p>
        </p:txBody>
      </p:sp>
      <p:pic>
        <p:nvPicPr>
          <p:cNvPr id="555" name="Picture 4" descr=""/>
          <p:cNvPicPr/>
          <p:nvPr/>
        </p:nvPicPr>
        <p:blipFill>
          <a:blip r:embed="rId1"/>
          <a:stretch/>
        </p:blipFill>
        <p:spPr>
          <a:xfrm>
            <a:off x="6875640" y="1052640"/>
            <a:ext cx="933120" cy="961920"/>
          </a:xfrm>
          <a:prstGeom prst="rect">
            <a:avLst/>
          </a:prstGeom>
          <a:ln w="0">
            <a:noFill/>
          </a:ln>
        </p:spPr>
      </p:pic>
      <p:pic>
        <p:nvPicPr>
          <p:cNvPr id="556" name="Picture 2" descr=""/>
          <p:cNvPicPr/>
          <p:nvPr/>
        </p:nvPicPr>
        <p:blipFill>
          <a:blip r:embed="rId2"/>
          <a:stretch/>
        </p:blipFill>
        <p:spPr>
          <a:xfrm>
            <a:off x="2700360" y="4653000"/>
            <a:ext cx="1238400" cy="750960"/>
          </a:xfrm>
          <a:prstGeom prst="rect">
            <a:avLst/>
          </a:prstGeom>
          <a:ln w="0">
            <a:noFill/>
          </a:ln>
        </p:spPr>
      </p:pic>
      <p:pic>
        <p:nvPicPr>
          <p:cNvPr id="557" name="Picture 3" descr=""/>
          <p:cNvPicPr/>
          <p:nvPr/>
        </p:nvPicPr>
        <p:blipFill>
          <a:blip r:embed="rId3"/>
          <a:stretch/>
        </p:blipFill>
        <p:spPr>
          <a:xfrm>
            <a:off x="4859280" y="4662360"/>
            <a:ext cx="1090800" cy="68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Indicazione riguardo Google Maps</a:t>
            </a:r>
            <a:endParaRPr b="0" lang="en-US" sz="4000" spc="-1" strike="noStrike">
              <a:solidFill>
                <a:srgbClr val="000000"/>
              </a:solidFill>
              <a:latin typeface="Arial"/>
            </a:endParaRPr>
          </a:p>
        </p:txBody>
      </p:sp>
      <p:sp>
        <p:nvSpPr>
          <p:cNvPr id="559" name=""/>
          <p:cNvSpPr txBox="1"/>
          <p:nvPr/>
        </p:nvSpPr>
        <p:spPr>
          <a:xfrm>
            <a:off x="457200" y="1600200"/>
            <a:ext cx="85788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i può scaricare una direzione anche offline in modo da poterla usare anche se non si è connessi ad Internet: ciò risulta essere molto utile quando si è in viaggio in assenza di wi-fi!</a:t>
            </a:r>
            <a:endParaRPr b="0" lang="en-US" sz="2800" spc="-1" strike="noStrike">
              <a:solidFill>
                <a:srgbClr val="000000"/>
              </a:solidFill>
              <a:latin typeface="Arial"/>
            </a:endParaRPr>
          </a:p>
        </p:txBody>
      </p:sp>
      <p:pic>
        <p:nvPicPr>
          <p:cNvPr id="560" name="Picture 4" descr=""/>
          <p:cNvPicPr/>
          <p:nvPr/>
        </p:nvPicPr>
        <p:blipFill>
          <a:blip r:embed="rId1"/>
          <a:stretch/>
        </p:blipFill>
        <p:spPr>
          <a:xfrm>
            <a:off x="3564000" y="3573360"/>
            <a:ext cx="2151000" cy="219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Viaggiare all’Estero</a:t>
            </a:r>
            <a:endParaRPr b="0" lang="en-US" sz="4000" spc="-1" strike="noStrike">
              <a:solidFill>
                <a:srgbClr val="000000"/>
              </a:solidFill>
              <a:latin typeface="Arial"/>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Hai scaricato iTranslate sul tuo dispositivo.</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licca sulla app per aprirla</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desso puoi usare il tuo telefono o tablet per tradurre altre lingu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63" name="Picture 2" descr=""/>
          <p:cNvPicPr/>
          <p:nvPr/>
        </p:nvPicPr>
        <p:blipFill>
          <a:blip r:embed="rId1"/>
          <a:stretch/>
        </p:blipFill>
        <p:spPr>
          <a:xfrm>
            <a:off x="2627280" y="4005360"/>
            <a:ext cx="3745080" cy="212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Simone Capozucco</cp:lastModifiedBy>
  <dcterms:modified xsi:type="dcterms:W3CDTF">2020-05-02T21:15:44Z</dcterms:modified>
  <cp:revision>476</cp:revision>
  <dc:subject/>
  <dc:title>Title</dc:title>
</cp:coreProperties>
</file>