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69CE-3049-4C9E-91EF-C6F30DF80B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7F4B-3859-4321-BC6D-C6600C5F1EF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01015A-676B-4DAD-B31F-05045681E1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6B081A-31AB-4D3F-9567-0805DAA9C1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E7E9D3-B0AD-407A-B50C-39FDE589424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FB902F-A086-4FE3-8A28-C793F87C84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74CA96-3024-4563-ADAF-5F744FE04E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8B8C23-CE7B-44D5-B9AE-B059A9058F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1200F2-5952-40B7-B3F3-F2617A142A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8A612DF-17D5-4F8D-BCF0-DF210DDD99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49CCA94-AE60-454D-ABF1-DDD18636E2E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9302B87-9063-4ED6-8C56-0007D7BD8A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E4309DD-0DA0-4D6F-ACCA-888E660FD4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329CCC4-9DB9-42AD-991F-79801AE7A57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E87098-5CDD-41B6-AE77-0DA1E634B5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DDEC359-E411-4CF2-946F-48884DEB246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C0F100-4429-4CD2-A75B-6A546906E9B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107389-0C9B-4678-B99B-6275A535DA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2693ED-C9F6-4D87-9D04-7E3B679A135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8A959F-C56B-4F71-B2C0-97EB831239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67094C-AB97-42AE-B45F-B86F44A2755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EEE4BC0-874A-44F9-87E3-CFDC0A9B0EC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3534F2-4EF8-4FD3-B353-0E8BCD183AB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2675019-8E3E-4D78-908D-3C29227CB89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716269-F050-48E4-B6C4-39C62FCFE92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9E5903-2867-4BD9-B373-856BDEB8C25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13C0E1B-29FB-431E-AC06-51DE52A7293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E352DA4-A87A-4DED-BFDF-D5A3D4D392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D1F2C72-01E3-45CE-A1FE-F473D2D47C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A805D6-EEC1-4142-8F6D-4ABFBCA47E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6E64304-662B-4A02-B18E-F4294DD682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12148D-39D8-4335-84A4-6EA78FD689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D739597-570E-4112-BAF6-C35A8ED4BA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F14096A-F88B-4DE3-9F39-3C5A1FEC65B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9F004F7-BE43-4EB0-8076-90CDF342587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FB452F5-3B48-4E1D-834B-EF29500A74E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1B7AA1-F1F5-4B7F-9FFE-0D23517947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9B99760-E140-45B2-9624-A1650E3F63C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30A6473-0E59-43C4-A715-627B7E6875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E57ECD-8B0E-44C3-B3B0-75CBE464644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E383230-0D7D-4AEC-8F0B-C64C4EA9C7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D53533-E663-4477-A59B-A004C5784A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6023D5-9A67-429F-AC76-78C32395AB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C759ED-3DBA-45F5-B76D-764A77DBF4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A093F9-DE8F-42D3-A4F3-760C61C149D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4A24377-5A20-4C71-BE60-56237BD65E3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4C52548-1E3F-4319-AEC9-47A9DD37ABD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6DE98-C03B-4EB4-9E97-752FFE21B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A888B-D5F4-4CEA-A3CC-84483AE9D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0ADA0-5384-46DC-96FA-ED1868E3E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51FB4D-E539-41FA-ABC2-9747A9399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4715C-60AB-45BF-9B60-5097FCCA0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79F6C2-10AD-4C1B-BC37-87611D32F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04B11-A33E-4185-AB07-DF3EAB8F6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EF17B-3FCE-4BB1-816D-3A53353F7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0EDD2-80B4-4291-BED6-5335E143F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3D2D9-DF1D-4EBF-B5ED-16379E529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4B33D2-8FB2-469F-8684-5379FE2FC5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A76A0A-8D74-4DA2-B6EB-F459C4A9A3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2A1D683-2A96-4A1A-80B8-E00605FAE0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4BBA65-2536-4C52-8E1D-91186F6D8C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DAD6CE-8B2C-4464-8593-4EC5B96AF4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FC6EF6-E1AB-4D1D-9944-A39B6AB015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9E5FE6-6161-4A49-873C-A487374A6A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EEC713-BE18-45C9-9FB6-ECE88EEA56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7A981E-A154-476A-8524-78497705C0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7BABEE-DF29-4C72-8CAB-D17F040BA2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E75D27-62F3-4754-8412-1F5FB7C8FE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805F97-8040-44A9-9C84-286AEC7339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8C1607-5308-44A3-9E7C-FEA81FBCC3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FB08A8-1416-41F5-9F10-F585055605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331F1E-077B-439B-AEA3-747C5B23DE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D382CC-D19E-4D4E-97E0-CBFA646DD8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47F3B2-76E4-413D-B94D-544EAECE23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E8A843-5665-4735-A327-0858A2F328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840006-61FB-4304-A7B8-0AB6FF79BF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AFFA3D-CEB0-4C0E-86BE-02031B0497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52EFD1-5935-41CB-8672-11D5076B23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B5182C-318E-44D1-9449-511D0754E1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0953DC-E6C1-485C-BB67-0677B7AEAA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F2DA2C-9897-4B24-BDB8-CB8F2EA89B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65B46E-880B-43D5-AE75-CDC24EDC9E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EB478D-D7DD-4880-B088-A0AB560141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241461-00A5-4693-9C07-2F4C972E52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0ED4F0D-5BD9-4549-9BC8-A1B369EE8F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81F65E-6F34-40FE-B748-E91FFEE79F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DB4B77-13B2-4E42-A8BB-4A95D2F615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EB8A031-D6F3-43CF-A540-313C4C922D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40AEB5-8245-4F31-921F-B009EFA708F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C80CC7-D496-4E03-8971-75FB2C3677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BEC031-BE21-4275-BC1C-900D3B67D1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FDD342-BF25-4636-8717-4EEE5B18CB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EC970B-47BD-43C8-A531-7CC5F8443E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B165635-E87F-40CD-B430-2D811033800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870E79-6971-43A9-884A-0D0DDE6C147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4A3B16D-6D20-4872-9371-9353E1281A7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DC51B1-131E-43A0-B924-A2B386FE0D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54615E-9466-484A-A384-230CFE21507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2A070B-5758-41EB-B463-75A75972B5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726DAE-8FE1-47F8-90E9-FF352F7CBC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DBF7A1-5FA5-4494-8CB4-8BF7593B79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9BD515-6E2B-4C18-A9E8-6D807DD67D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CD19B7-E4CA-4146-9BE9-14507373B1E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5F1766-77E7-4FE3-8C94-444D5F16C4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4F97524-0BB0-4205-A958-3C4DDA5D3C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6C06CA-03AE-46A0-9F05-159E3AEBD3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36FD76-75B9-4B16-B200-F6D2BB66CEA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EBBB3C8-9E95-4126-8C9E-44EA275E3D3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14CB61-5EFE-4250-A93F-3654E4AE6C1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3A18A9-90B6-4D25-B78F-DC5C7A5BB3F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E92729-AED0-4F8E-9700-280F975F73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A8D4B2-5F27-4E40-BA48-2A0FB57A7D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AC132A8-3395-4CE7-8D64-D8D4ED56C4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73E4B7-3F54-45C0-8721-9F16601072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ED8332-2A8E-44F2-AEED-78CD6A51B0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A9AB7D-965F-4EED-A3C6-58F8646FEB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ABCE99E-4371-43AC-83CE-92DE6661B7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D8A2E9E-ADD0-4293-9AE8-04AFCCE6DA6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45A67A-87B5-4AD2-92D7-43D39008995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D4475D-E255-4580-99A1-570B6128079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CF616F-E635-4A5C-9D39-706357E8440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AE1E45D-A27A-40A3-8C4D-746935A8737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5027-3F4B-4734-973B-F3CE0E42572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7E25-455B-4BA1-8D3D-4DB83C891C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BD51-D574-43AE-A18A-1A8538E8852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D9B5-353D-4584-869C-880AC34611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3BEF-D5DA-4918-A911-06688CC1A5D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7AC2-F287-4306-9B8E-182585E17A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858E-AE11-4F99-AE0A-D1CFEDF247F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B859-554E-4D21-B8F8-AFE7112E551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DE2A-6968-411C-9341-7D6427C345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BD4A-221B-4394-8A8F-2D6F5E7AB7D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zione di</a:t>
            </a:r>
            <a:r>
              <a:rPr b="0" lang="hu-HU" sz="3600" spc="-1" strike="noStrike">
                <a:solidFill>
                  <a:srgbClr val="000000"/>
                </a:solidFill>
                <a:latin typeface="Arial Rounded MT Bold"/>
              </a:rPr>
              <a:t> con</a:t>
            </a:r>
            <a:r>
              <a:rPr b="0" lang="it-IT" sz="3600" spc="-1" strike="noStrike">
                <a:solidFill>
                  <a:srgbClr val="000000"/>
                </a:solidFill>
                <a:latin typeface="Arial Rounded MT Bold"/>
              </a:rPr>
              <a:t>tenuti digitali</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pp per connettersi con le person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Using Skype, Twitter and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 il tuo account Twitter (Desktop)</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Quando si crea il proprio account è possibile cambiare il proprio nome e cognome, anche se è possibile cambiarlo in ogni momento e dunque rimanere anonimi se lo si deside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una password sicu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cosa ti interessa – in seguito Twitter ti suggerirà le persone da seguir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un’immagin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rivi la tua bio: ciò permetterà alle persone di saperne di più su di 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e creare il tuo account Twitter (Mobile)</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serisci il tuo vero nome, numero di telefono e indirizzo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serisci il numero di verifica che hai ricevuto. Scegli una password sicura.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cegli se vuoi sincronizzare i tuoi contatti – ciò ti aiuta a trovare follower ma se non vuoi, clicca su “non adesso”</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erca cosa ti interessa, per es.: lo sport. Ciò aiuterà Twitter a suggerirti profili che rientrano in quell’area di interes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creare un account Twitter (Mobile)</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Basandosi sui tuoi interessi, Twitter ti suggerirà degli account da segui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Sei pronto ad usare Twitter! </a:t>
            </a:r>
            <a:r>
              <a:rPr b="0" lang="en-GB" sz="2600" spc="-1" strike="noStrike">
                <a:solidFill>
                  <a:srgbClr val="000000"/>
                </a:solidFill>
                <a:latin typeface="Arial Rounded MT Bold"/>
              </a:rPr>
              <a:t>Clicca sul bottone blu in alto a destra, sulla figura grigia in alto a sinistra per cambiare la foto del profilo e le impostazioni e iniziare a ‘twittare’!</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usare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è ottimo per le notizie più recenti  – quelle importanti appaiono proprio su questa piattaforma.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erve per </a:t>
            </a:r>
            <a:r>
              <a:rPr b="0" i="1" lang="en-GB" sz="2600" spc="-1" strike="noStrike">
                <a:solidFill>
                  <a:srgbClr val="000000"/>
                </a:solidFill>
                <a:latin typeface="Arial Rounded MT Bold"/>
              </a:rPr>
              <a:t>chattare</a:t>
            </a:r>
            <a:r>
              <a:rPr b="0" lang="en-GB" sz="2600" spc="-1" strike="noStrike">
                <a:solidFill>
                  <a:srgbClr val="000000"/>
                </a:solidFill>
                <a:latin typeface="Arial Rounded MT Bold"/>
              </a:rPr>
              <a:t> con amici e interagire con le persone che segui, per es.:   giornalisti, musicisti, sportivi,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icorda che è una piattaforma pubblica!</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 tuoi tweet possono sia avere foto che link e testi.</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5508720" y="5084640"/>
            <a:ext cx="2374920" cy="114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l Linguaggio di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sare @ quando si inserisce il @twittername di qualcuno nel tweet. La persona riceverà poi la notifica della sua menzione da parte tua.</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significa ‘retweet’. Puoi RT sia ripostando il tweet o con un commen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significa Messaggio Diretto. Ti permette di chattare in privato con un contatto. </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Una parola o una frase preceduti dal simbolo # che indica una parola chiave che ti permette di saperne di più su un dato argome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weet famosi</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Breaking New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211640" y="2997360"/>
            <a:ext cx="3774960" cy="3004920"/>
          </a:xfrm>
          <a:prstGeom prst="rect">
            <a:avLst/>
          </a:prstGeom>
          <a:ln w="0">
            <a:noFill/>
          </a:ln>
        </p:spPr>
      </p:pic>
      <p:sp>
        <p:nvSpPr>
          <p:cNvPr id="590" name="Rectangle 1"/>
          <p:cNvSpPr/>
          <p:nvPr/>
        </p:nvSpPr>
        <p:spPr>
          <a:xfrm>
            <a:off x="611280" y="3569040"/>
            <a:ext cx="3774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a notizia di questo incidente è apparsa su Twitter 15 minuti prima che i media principali ne venissero a conoscenz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Si può usare Twitter </a:t>
            </a:r>
            <a:r>
              <a:rPr b="0" lang="it-IT" sz="2000" spc="-1" strike="noStrike">
                <a:solidFill>
                  <a:srgbClr val="000000"/>
                </a:solidFill>
                <a:latin typeface="Arial Rounded MT Bold"/>
              </a:rPr>
              <a:t>per mettere su una comunità </a:t>
            </a:r>
            <a:r>
              <a:rPr b="0" lang="en-IE" sz="2000" spc="-1" strike="noStrike">
                <a:solidFill>
                  <a:srgbClr val="000000"/>
                </a:solidFill>
                <a:latin typeface="Arial Rounded MT Bold"/>
              </a:rPr>
              <a:t>online o </a:t>
            </a:r>
            <a:r>
              <a:rPr b="0" lang="it-IT" sz="2000" spc="-1" strike="noStrike">
                <a:solidFill>
                  <a:srgbClr val="000000"/>
                </a:solidFill>
                <a:latin typeface="Arial Rounded MT Bold"/>
              </a:rPr>
              <a:t>aumentare la consapevolezza su una causa a cui sei interessat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a:t>
            </a:r>
            <a:r>
              <a:rPr b="0" lang="it-IT" sz="2000" spc="-1" strike="noStrike">
                <a:solidFill>
                  <a:srgbClr val="000000"/>
                </a:solidFill>
                <a:latin typeface="Arial Rounded MT Bold"/>
              </a:rPr>
              <a:t>può supportare l’impegno dei cittadini a tale caus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a:t>
            </a:r>
            <a:r>
              <a:rPr b="0" lang="it-IT" sz="2000" spc="-1" strike="noStrike">
                <a:solidFill>
                  <a:srgbClr val="000000"/>
                </a:solidFill>
                <a:latin typeface="Arial Rounded MT Bold"/>
              </a:rPr>
              <a:t>può ottenere una certa attenzione su determinati argomenti – ricordi l’Ice Bucket Challenge’? </a:t>
            </a:r>
            <a:r>
              <a:rPr b="0" i="1" lang="it-IT" sz="2000" spc="-1" strike="noStrike">
                <a:solidFill>
                  <a:srgbClr val="000000"/>
                </a:solidFill>
                <a:latin typeface="Arial Rounded MT Bold"/>
              </a:rPr>
              <a:t>(le donazioni per la SLA hanno raccolto 15.6m di dollari, partendo da 1.8m nello stesso periodo dell’anno precedent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ziative:</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witter durante gli attacchi terroristici</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Parigi.</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Altri vantaggi…</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6356520" y="3645000"/>
            <a:ext cx="2152440" cy="207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tasi con Twitter</a:t>
            </a:r>
            <a:endParaRPr b="0" lang="en-US" sz="4000" spc="-1" strike="noStrike">
              <a:solidFill>
                <a:srgbClr val="000000"/>
              </a:solidFill>
              <a:latin typeface="Arial"/>
            </a:endParaRPr>
          </a:p>
        </p:txBody>
      </p:sp>
      <p:sp>
        <p:nvSpPr>
          <p:cNvPr id="595" name=""/>
          <p:cNvSpPr txBox="1"/>
          <p:nvPr/>
        </p:nvSpPr>
        <p:spPr>
          <a:xfrm>
            <a:off x="539280" y="1700280"/>
            <a:ext cx="80758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cegli 2 argomenti o aree a cui sei interessa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rova persone conosciute in quest’area che sono su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egui i loro account e sviluppa una lista di contatti.</a:t>
            </a:r>
            <a:endParaRPr b="0" lang="en-US" sz="3200" spc="-1" strike="noStrike">
              <a:solidFill>
                <a:srgbClr val="000000"/>
              </a:solidFill>
              <a:latin typeface="Arial"/>
            </a:endParaRPr>
          </a:p>
        </p:txBody>
      </p:sp>
      <p:pic>
        <p:nvPicPr>
          <p:cNvPr id="596" name="Picture 2" descr=""/>
          <p:cNvPicPr/>
          <p:nvPr/>
        </p:nvPicPr>
        <p:blipFill>
          <a:blip r:embed="rId1"/>
          <a:stretch/>
        </p:blipFill>
        <p:spPr>
          <a:xfrm>
            <a:off x="4859280" y="443700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he cos’è Facebook?</a:t>
            </a:r>
            <a:endParaRPr b="0" lang="en-US" sz="4000" spc="-1" strike="noStrike">
              <a:solidFill>
                <a:srgbClr val="000000"/>
              </a:solidFill>
              <a:latin typeface="Arial"/>
            </a:endParaRPr>
          </a:p>
        </p:txBody>
      </p:sp>
      <p:sp>
        <p:nvSpPr>
          <p:cNvPr id="598"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una piattaforma soci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uò essere usata su computer o laptop e può essere scaricata dal tuo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usato per connettersi con amici o colleghi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i permette di condividere musica, immagini o semplicemente i tuoi pensieri!</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il social più grande del mondo che vanta più di due miliardi di utenti al mes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9" name="Picture 2" descr=""/>
          <p:cNvPicPr/>
          <p:nvPr/>
        </p:nvPicPr>
        <p:blipFill>
          <a:blip r:embed="rId1"/>
          <a:stretch/>
        </p:blipFill>
        <p:spPr>
          <a:xfrm>
            <a:off x="3492360" y="5373720"/>
            <a:ext cx="2248200" cy="689040"/>
          </a:xfrm>
          <a:prstGeom prst="rect">
            <a:avLst/>
          </a:prstGeom>
          <a:ln w="0">
            <a:noFill/>
          </a:ln>
        </p:spPr>
      </p:pic>
      <p:pic>
        <p:nvPicPr>
          <p:cNvPr id="600"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biettivi</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termine di questa unità potra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rire un account su Skype, Twitter e Facebook</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are i tuoi account nella vita di tutti i giorn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ome accedo a Facebook?</a:t>
            </a:r>
            <a:endParaRPr b="0" lang="en-US" sz="3600" spc="-1" strike="noStrike">
              <a:solidFill>
                <a:srgbClr val="000000"/>
              </a:solidFill>
              <a:latin typeface="Arial"/>
            </a:endParaRPr>
          </a:p>
        </p:txBody>
      </p:sp>
      <p:sp>
        <p:nvSpPr>
          <p:cNvPr id="602"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ai su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gui le istruzioni p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scrivert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hai un tablet </a:t>
            </a:r>
            <a:r>
              <a:rPr b="0" lang="it-IT" sz="2800" spc="-1" strike="noStrike">
                <a:solidFill>
                  <a:srgbClr val="000000"/>
                </a:solidFill>
                <a:latin typeface="Arial Rounded MT Bold"/>
              </a:rPr>
              <a:t>o</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o smartphone, scar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dal tuo ap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3"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4"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me impostare il tuo account Facebook</a:t>
            </a:r>
            <a:endParaRPr b="0" lang="en-US" sz="3000" spc="-1" strike="noStrike">
              <a:solidFill>
                <a:srgbClr val="000000"/>
              </a:solidFill>
              <a:latin typeface="Arial"/>
            </a:endParaRPr>
          </a:p>
        </p:txBody>
      </p:sp>
      <p:sp>
        <p:nvSpPr>
          <p:cNvPr id="606"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a il tuo profilo Facebook prima che tu ti connetta con amic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area profilo è chiamata ‘Timeline’ poiché mostra la linea temporale delle tue attività</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i possono caricare 2 foto: una, che è un banner, nella parte alta del profilo e una più piccola e quadrata come foto del profil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ella timeline, si possono includere informazioni su se stessi riguardo la propria istruzione, lavoro, hobby,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Facebook</a:t>
            </a:r>
            <a:endParaRPr b="0" lang="en-US" sz="4000" spc="-1" strike="noStrike">
              <a:solidFill>
                <a:srgbClr val="000000"/>
              </a:solidFill>
              <a:latin typeface="Arial"/>
            </a:endParaRPr>
          </a:p>
        </p:txBody>
      </p:sp>
      <p:sp>
        <p:nvSpPr>
          <p:cNvPr id="608" name=""/>
          <p:cNvSpPr txBox="1"/>
          <p:nvPr/>
        </p:nvSpPr>
        <p:spPr>
          <a:xfrm>
            <a:off x="684000" y="1628640"/>
            <a:ext cx="7559640" cy="3949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a volta completato il profilo, puoi iniziare ad aggiungere amici inviando richieste di amicizia. </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oi trovare amici cercandoli nella piattaforma – Facebook può usare i tuoi contatti ema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oi anche cercare pagine e mettere ‘mi piace’, ad es.: giornali o squadre di calcio.</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Quando usi Facebook, ti troverari davanti la homepage (o ‘News Feed’) ovvero una serie di post dei tuoi amici o delle pagine che segui tramite il ‘mi piace’ che hai m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are Facebook</a:t>
            </a:r>
            <a:endParaRPr b="0" lang="en-US" sz="4400" spc="-1" strike="noStrike">
              <a:solidFill>
                <a:srgbClr val="000000"/>
              </a:solidFill>
              <a:latin typeface="Arial"/>
            </a:endParaRPr>
          </a:p>
        </p:txBody>
      </p:sp>
      <p:sp>
        <p:nvSpPr>
          <p:cNvPr id="610"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Se vuoi postare un testo, vai nello spazio che dice ‘a cosa pensi?’</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Puoi parlare delle tue attività, caricare una foto o un video: ciò si chiama ‘aggiornamento di stato’</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1" name="Picture 2" descr=""/>
          <p:cNvPicPr/>
          <p:nvPr/>
        </p:nvPicPr>
        <p:blipFill>
          <a:blip r:embed="rId1"/>
          <a:stretch/>
        </p:blipFill>
        <p:spPr>
          <a:xfrm>
            <a:off x="1547640" y="2133720"/>
            <a:ext cx="4800600" cy="1552320"/>
          </a:xfrm>
          <a:prstGeom prst="rect">
            <a:avLst/>
          </a:prstGeom>
          <a:ln w="0">
            <a:noFill/>
          </a:ln>
        </p:spPr>
      </p:pic>
      <p:cxnSp>
        <p:nvCxnSpPr>
          <p:cNvPr id="612"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are Facebook Messenger</a:t>
            </a:r>
            <a:endParaRPr b="0" lang="en-US" sz="3600" spc="-1" strike="noStrike">
              <a:solidFill>
                <a:srgbClr val="000000"/>
              </a:solidFill>
              <a:latin typeface="Arial"/>
            </a:endParaRPr>
          </a:p>
        </p:txBody>
      </p:sp>
      <p:sp>
        <p:nvSpPr>
          <p:cNvPr id="614"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ha una chat privata chiamata Facebook Chat o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iò permette di chattare in tempo reale con qualsiasi amico online (si vedrà un punto verde accanto al nome se sono onlin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ccorrerà installare la app di Messenger sul tuo dispositivo mobile</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5" name="Picture 2" descr=""/>
          <p:cNvPicPr/>
          <p:nvPr/>
        </p:nvPicPr>
        <p:blipFill>
          <a:blip r:embed="rId1"/>
          <a:stretch/>
        </p:blipFill>
        <p:spPr>
          <a:xfrm>
            <a:off x="5940360" y="4508640"/>
            <a:ext cx="1957320" cy="134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acebook Privacy</a:t>
            </a:r>
            <a:endParaRPr b="0" lang="en-US" sz="4000" spc="-1" strike="noStrike">
              <a:solidFill>
                <a:srgbClr val="000000"/>
              </a:solidFill>
              <a:latin typeface="Arial"/>
            </a:endParaRPr>
          </a:p>
        </p:txBody>
      </p:sp>
      <p:sp>
        <p:nvSpPr>
          <p:cNvPr id="617"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a:t>
            </a:r>
            <a:r>
              <a:rPr b="0" lang="it-IT" sz="2600" spc="-1" strike="noStrike">
                <a:solidFill>
                  <a:srgbClr val="000000"/>
                </a:solidFill>
                <a:latin typeface="Arial Rounded MT Bold"/>
              </a:rPr>
              <a:t>ti permette di controllare chi vede i tuoi dati personali e cosa posti</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I tuoi controlli di privacy si trovano nell’opzione ‘settings</a:t>
            </a:r>
            <a:r>
              <a:rPr b="0" lang="en-GB" sz="2600" spc="-1" strike="noStrike">
                <a:solidFill>
                  <a:srgbClr val="000000"/>
                </a:solidFill>
                <a:latin typeface="Arial Rounded MT Bold"/>
              </a:rPr>
              <a: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uoi scegliere di tenere private le tue informazio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eggi il seguente articolo per avere più informazioni:</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8" name="Picture 2" descr=""/>
          <p:cNvPicPr/>
          <p:nvPr/>
        </p:nvPicPr>
        <p:blipFill>
          <a:blip r:embed="rId2"/>
          <a:stretch/>
        </p:blipFill>
        <p:spPr>
          <a:xfrm>
            <a:off x="6912000" y="1916280"/>
            <a:ext cx="2232000" cy="12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Di cosa ho bisogno per questa unità?</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i un computer, un portatile, tablet o smartphone con connessione ad Interne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er le videochiamate </a:t>
            </a:r>
            <a:r>
              <a:rPr b="0" lang="en-GB" sz="2600" spc="-1" strike="noStrike">
                <a:solidFill>
                  <a:srgbClr val="000000"/>
                </a:solidFill>
                <a:latin typeface="Arial Rounded MT Bold"/>
              </a:rPr>
              <a:t>su Skype </a:t>
            </a:r>
            <a:r>
              <a:rPr b="0" lang="it-IT" sz="2600" spc="-1" strike="noStrike">
                <a:solidFill>
                  <a:srgbClr val="000000"/>
                </a:solidFill>
                <a:latin typeface="Arial Rounded MT Bold"/>
              </a:rPr>
              <a:t>avrai bisogno di una telecamera e microfono da installare sul tuo computer o sul portatil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72400" y="2276640"/>
            <a:ext cx="146664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he cos’è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è un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che funziona con Interne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ermette di effettuare video chiamate usando smartphones, </a:t>
            </a:r>
            <a:r>
              <a:rPr b="0" lang="it-IT" sz="2800" spc="-1" strike="noStrike">
                <a:solidFill>
                  <a:srgbClr val="000000"/>
                </a:solidFill>
                <a:latin typeface="Arial Rounded MT Bold"/>
              </a:rPr>
              <a:t>tablet</a:t>
            </a:r>
            <a:r>
              <a:rPr b="0" lang="en-GB" sz="2800" spc="-1" strike="noStrike">
                <a:solidFill>
                  <a:srgbClr val="000000"/>
                </a:solidFill>
                <a:latin typeface="Arial Rounded MT Bold"/>
              </a:rPr>
              <a:t> e computer e mandare messagg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e chiamate da Skype a Skype sono gratis ovunque: per questo sono molto utili per mantenersi in contatto con amici e famiglia.</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accedo a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i può installare Skype nel proprio computer o portatile andando su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re sul bottone </a:t>
            </a:r>
            <a:r>
              <a:rPr b="1" lang="en-GB" sz="2800" spc="-1" strike="noStrike">
                <a:solidFill>
                  <a:srgbClr val="000000"/>
                </a:solidFill>
                <a:latin typeface="Arial Rounded MT Bold"/>
              </a:rPr>
              <a:t>‘Get Skyp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guire le istruzion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si ha un tablet o uno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si può scaricar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dal proprio </a:t>
            </a:r>
            <a:r>
              <a:rPr b="0" i="1" lang="en-GB" sz="2800" spc="-1" strike="noStrike">
                <a:solidFill>
                  <a:srgbClr val="000000"/>
                </a:solidFill>
                <a:latin typeface="Arial Rounded MT Bold"/>
              </a:rPr>
              <a:t>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licca 2 volte sulla app di Skyp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Vedrai queste opzioni:</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licca su ‘sign up’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guire i passi necessari che ti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metteranno di aprire l’accoun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A</a:t>
            </a:r>
            <a:r>
              <a:rPr b="0" lang="en-GB" sz="2200" spc="-1" strike="noStrike">
                <a:solidFill>
                  <a:srgbClr val="000000"/>
                </a:solidFill>
                <a:latin typeface="Arial Rounded MT Bold"/>
              </a:rPr>
              <a:t>: </a:t>
            </a:r>
            <a:r>
              <a:rPr b="0" lang="it-IT" sz="2200" spc="-1" strike="noStrike">
                <a:solidFill>
                  <a:srgbClr val="000000"/>
                </a:solidFill>
                <a:latin typeface="Arial Rounded MT Bold"/>
              </a:rPr>
              <a:t>Se hai già un indirizzo email su Hotmail o Outlook puoi già usarlo in questo account. Si può anche usare un numero di telefono.</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e hai già la app di Skype già scaricata sul tuo telefono o tablet, clicca per aprirl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6516720" y="1989000"/>
            <a:ext cx="2270160" cy="1774800"/>
          </a:xfrm>
          <a:prstGeom prst="rect">
            <a:avLst/>
          </a:prstGeom>
          <a:ln w="0">
            <a:noFill/>
          </a:ln>
        </p:spPr>
      </p:pic>
      <p:cxnSp>
        <p:nvCxnSpPr>
          <p:cNvPr id="563" name="Straight Arrow Connector 2"/>
          <p:cNvCxnSpPr/>
          <p:nvPr/>
        </p:nvCxnSpPr>
        <p:spPr>
          <a:xfrm>
            <a:off x="4114440" y="2636640"/>
            <a:ext cx="2258280" cy="10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 Skype in azione</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ia e incolla il link sottostante nella finestra del   browse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he cos’è Twitter?</a:t>
            </a:r>
            <a:br>
              <a:rPr sz="4000"/>
            </a:br>
            <a:endParaRPr b="0" lang="en-US" sz="4000" spc="-1" strike="noStrike">
              <a:solidFill>
                <a:srgbClr val="000000"/>
              </a:solidFill>
              <a:latin typeface="Arial"/>
            </a:endParaRPr>
          </a:p>
        </p:txBody>
      </p:sp>
      <p:sp>
        <p:nvSpPr>
          <p:cNvPr id="568" name=""/>
          <p:cNvSpPr txBox="1"/>
          <p:nvPr/>
        </p:nvSpPr>
        <p:spPr>
          <a:xfrm>
            <a:off x="611280" y="1458720"/>
            <a:ext cx="8532720" cy="4679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è una piattaforma social.</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i può usare sia su computer che sul portatile o si può scaricare la app di Twitter </a:t>
            </a:r>
            <a:r>
              <a:rPr b="1" lang="it-IT" sz="2600" spc="-1" strike="noStrike">
                <a:solidFill>
                  <a:srgbClr val="000000"/>
                </a:solidFill>
                <a:latin typeface="Arial Rounded MT Bold"/>
              </a:rPr>
              <a:t>app</a:t>
            </a:r>
            <a:r>
              <a:rPr b="0" lang="it-IT" sz="2600" spc="-1" strike="noStrike">
                <a:solidFill>
                  <a:srgbClr val="000000"/>
                </a:solidFill>
                <a:latin typeface="Arial Rounded MT Bold"/>
              </a:rPr>
              <a:t> nel tuo sto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è usato per seguire le notizie più recenti, per seguire persone famose o semplicemente stare in contatto.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ermette alle persone di creare messaggi corti (280 caratteri) o ‘Tweets’ che sono visibili agli altri utent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ha 100 milioni di utenti – ogni giorno si mandano ben 500 milioni di twee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accedo a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ai su </a:t>
            </a:r>
            <a:r>
              <a:rPr b="0" lang="it-IT" sz="2800" spc="-1" strike="noStrike" u="sng">
                <a:solidFill>
                  <a:srgbClr val="009999"/>
                </a:solidFill>
                <a:uFillTx/>
                <a:latin typeface="Arial Rounded MT Bold"/>
                <a:hlinkClick r:id="rId1"/>
              </a:rPr>
              <a:t>www.twitter.com</a:t>
            </a:r>
            <a:r>
              <a:rPr b="0" lang="it-IT"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gui le istruzioni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da ‘Sign Up’ per accedervi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hai un tablet o uno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scar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dal tuo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3203280" y="3141720"/>
            <a:ext cx="2161080" cy="7516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08:30Z</dcterms:modified>
  <cp:revision>518</cp:revision>
  <dc:subject/>
  <dc:title>Title</dc:title>
</cp:coreProperties>
</file>