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7FD24-ED97-4DD2-A0F8-9CC58852D7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ABB21-F2B6-4108-B665-A045A6DAAC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50B90-DCAA-46E7-9436-B4EFB0A999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D721-C5FA-4D0B-909C-C3AB6FC9947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C5C2C-0DFD-474A-94A8-6715414CD04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1223-4BFF-4500-AD9A-066919EED04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A484C-2C82-4AED-A6E4-D126052D21D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B5F3-33F8-49A6-907D-3377DCD325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EF0D-293D-4B07-A46A-22B1C839B9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A4DD1-FCBA-4FEC-8CFD-70F2547E6E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EEFC-8056-46D0-9977-E56FFF8A3612}"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27C42-CD11-44BB-AD85-931F2AE072A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371600" y="1143000"/>
            <a:ext cx="4114800" cy="3086280"/>
          </a:xfrm>
          <a:prstGeom prst="rect">
            <a:avLst/>
          </a:prstGeom>
          <a:ln w="0">
            <a:noFill/>
          </a:ln>
        </p:spPr>
      </p:sp>
      <p:sp>
        <p:nvSpPr>
          <p:cNvPr id="6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D71B4-1C5E-4DAB-9C36-451E160D264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71600" y="1143000"/>
            <a:ext cx="4114800" cy="3086280"/>
          </a:xfrm>
          <a:prstGeom prst="rect">
            <a:avLst/>
          </a:prstGeom>
          <a:ln w="0">
            <a:noFill/>
          </a:ln>
        </p:spPr>
      </p:sp>
      <p:sp>
        <p:nvSpPr>
          <p:cNvPr id="6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0AD1B-C236-42F0-B42A-5750787D27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3B83C5C-9A3E-4640-9266-006C1B9BBEF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AB65AA-A0D2-4DE0-8BCA-942850F6068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2C09B51-01A7-493E-B434-47E1DE142E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835B101-241B-4E4E-B7D4-45C3A244357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1325415-2DF1-4464-935A-4C154BBC7B5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A7BA8A2-9D21-4575-A3A6-AE59ABF7913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DE69FF7-1AC4-42B2-B303-6C3453DE1EC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5C4007C-AC39-4810-956D-3DF542430E78}"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3D9969-8842-4F3E-9574-8490239E5A8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A1AF142-2403-4461-A7AB-9C54E1D6B0E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FC3B637-C1F8-4F8A-BDE8-20B6EF8161F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B76E0AE-51FA-49F9-88C6-143101556A4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B0EDB3-8E25-43C6-B0C6-AF879597B94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604C627-8D5F-447E-B019-8D01DEC4DD8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36C53D6-941F-4903-AC24-7DA67F5F091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5AF5354-3662-499D-BCE1-F84E0D2FFEC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83EF53B-0D27-4E5A-9C0D-8C0031426E2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A8A5D57-06E7-462C-9C8C-C7695146014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BC7C5BF-E10A-47C8-8F65-A77B1CBED67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E801CDF-2808-49B1-8988-D87FE83366E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9EFBD24-7600-4C28-B4FA-C40CFE02F21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BEE26CC-BBB8-4C64-A428-14375F5807D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BF4E225-5450-4845-BB4C-E5409D46FE4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AC0763C-1A2B-4471-9EB4-24C486D294A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6FEFDEF-23B9-4F20-AB4B-F98DAF064B7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77D727A-5DAA-4D71-97E3-4BD7E7EEE60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EB230D1-A360-4E57-B53E-3F6B0CAF501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1B45B43-8751-43CF-A240-104B3064BA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AFFF6BC-5C7B-4180-B85F-1E094172D0C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C9B439C-8D21-40C4-92E5-CF0FDFFEB1D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3BA4999-130B-4A17-A39D-5F795345594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2A4CA36-A1C6-41E6-80EB-DBDD1389C873}"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954B980-0409-4066-8DE7-4D0F0EBB560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3AA6E24-1999-4FCA-9185-DCE44E334A1D}"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ACC8436-070E-4985-BAB8-F2584B38DAD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A34E11-BCFA-4CF8-BF70-EE5D71FC43A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61BE048-1A79-4B7A-B1A7-8A606C5A110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3A5BC42-C076-4A2D-AA68-EBFAC271632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EB8B10A-C34F-4E53-A224-3556BE5D37F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2057680-F132-425F-B3DF-610D3CC42C4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3A3A204-2251-44EE-8BD5-6F7230D1F51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8A0EC5C-534C-479B-A0C9-B9F824449A2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2045F07-6740-41CF-935A-8EF928EDB9D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9D79BD3-C1AC-4EA0-9C0C-45207CB678D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D345604-C736-4ED6-B2E1-BD2ECA46DB0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C2B24A-9E91-4256-910E-EC323290AC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8E0C30-55FF-44A6-A5A5-E96123F66C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B1A64F-4371-4A19-A0F7-BB0A5F2F50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FD1E7E-AE15-400E-B8FB-8CCFD5FBBD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FBF3F2-C1FF-4572-BF17-15C5D5AFD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27A77D-CCCB-4FA5-A833-42B259658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7FBD44-9EE5-4C59-8EDD-09ACC9256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885FF8-2483-4902-B0A7-2655066D9A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A58AD-EE54-4213-8692-A39048834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7BFA9E-491E-413A-B224-FB7F4A41B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61B9F-B63F-427B-B483-6431771D92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E21810-8FD6-45AE-AEE8-BED3E7D440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BEDAADD3-F0BC-40F3-B88F-58582F9C3B64}"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BC54AD-59D3-4EA6-B3A7-3685608948A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8759636-89BD-49F2-BBB8-6A005024149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2798F9-B939-4D49-B21C-40719C36BEC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0ACF70-16FB-4BFE-8BB9-4D93C7E0BAA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74D0176-919B-470C-9F0B-786135DFE4A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30C3A58-17FA-49E7-8764-748C6640EF9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4B4D60-7255-43EF-BD56-52C6B04E37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CD2357F-6884-4413-8A39-C58689A2351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5E9070-65F8-4A6B-8130-F9511D2EC4D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FFC2EA9-DDA6-49EA-8775-020BA29F3E6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1C9EFCD-0C3D-40A8-81E9-82158409DF8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5317299-962B-4FFD-A16D-DA662425D72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2E4F025-D56D-4659-9776-76998BBEE5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690F71-4A2D-4148-8D01-12A4160276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0F43AB9-A34D-4FAE-B058-EFCBF8CAB0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F2FF834-76E9-47F7-BCE9-50BF05825A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2FC793-D626-4F03-BCD1-B1790B2FAD4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DDA300D-9A95-47DA-A5E7-6942607C323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EBB70D-2575-4AEB-865D-906EEC5123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C09E8C-3CA2-4A29-B2A8-611D0D5BFA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3C5EF43-5915-43BF-94DE-047CF0C5C8D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359AD3-DE0D-4D00-8CCA-46D702EBD5C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C4FC4ACA-311F-460F-8AD8-AB154B475CC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29640B8-8BFE-4662-86B7-C32FAE7DA15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F5E012D-73F9-4130-A8DE-4335B0ABBB22}"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3D6DC62-3B2C-4642-B02C-01F3E8E82F5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D27F0A-CE21-4797-85E4-B6E6844243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50AC03F-AD8F-4B9C-883E-9E82BEC54BE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C92EAC1-49F7-4F51-B5D2-2A0B47650D5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3D1722-2293-4810-8644-81BBA22E44D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7DE2A6-5B67-48FA-BF4C-F8AAE8422BF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D61CD95-194E-423D-AB88-184FE72E78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6B52571-CF88-46E0-A0E1-D66323909B5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A1A1E81-E082-4754-8718-15232CE59FD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FCAB81F-1D41-48C5-B59E-B016C65598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20A852A-A662-41A7-99CF-F046A253575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3B86515-CF7E-4FAA-B56B-9C08B67DA9C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9631678-2AE5-43FA-A3B7-3960F46EA1D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188B0D6-C1BA-426D-B59C-B1DA1AA617E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3AA1FD-77FC-4F6A-BC3D-36B4D82AD64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94659AB-E429-46F8-B05D-F7E664A276F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F9C03A7-A571-481E-A189-FE2DE1F968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82711FB-CBB9-4178-89EE-07BA96FA5B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9925D40-5791-44C8-AC08-07AECA045F6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40BE2B4-FAE2-4A0B-BA6F-035AEC15373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21D6156-95D7-43BB-A883-FCCBBA68B7CD}"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E9F4413-2F5B-4752-8352-C26756D0E8C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5F3ED4C-4E14-416E-BAD7-DBA4BFA933B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3C2C68B-CCDE-4965-8064-27D844F6A1C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9B905E8-5834-4787-BB46-52482D1A013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3D6E3D2-4651-47F6-99C6-712E47D6F62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314317F-6F3B-42BC-9597-4A188A5F4E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0C64FDD-11FE-4F42-837D-D93B86F1B6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0A8973-0EA7-43F5-8B77-0ABB0F7B129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ACE5686-9820-42EA-8355-8714C945F02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1A67B0-29C5-4F3A-9C53-74E13651439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79B79A1-AAAB-41C4-B0DC-2CB8DAB2DE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703E3DF-14DE-4D18-9530-69567A5202E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173C458-7155-4FF1-9B65-DF689A63EC1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398E5C47-55C4-4563-974B-3678D9B34CF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C1AF782-0090-4397-87C2-5A624B76585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70FFEE7-8CF3-47E6-8BA4-B42C34CE983B}"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251D8-70D1-4AA4-A438-F15C435AA8D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E6E3-E7FF-4AC2-8A2A-33C383AD942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6759-7900-47AA-9591-905CAC80BAB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F284F-3048-4202-9967-6F5F3670526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B5496-7EAC-48A1-B16B-A61B989EED4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881B-C7DA-4F7B-8D30-F04CF9FF22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2749-0B20-4502-848B-129C29EC8E7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7A88-62A2-4B7B-8DFD-082117BC823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D6FA-EED8-4C57-B31A-9C1A11836CE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60CC0-9478-4766-B39A-C91D1D58ADE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Resolución de problemas</a:t>
            </a:r>
            <a:endParaRPr b="0" lang="en-US" sz="3200" spc="-1" strike="noStrike">
              <a:solidFill>
                <a:srgbClr val="000000"/>
              </a:solidFill>
              <a:latin typeface="Arial"/>
            </a:endParaRPr>
          </a:p>
        </p:txBody>
      </p:sp>
      <p:sp>
        <p:nvSpPr>
          <p:cNvPr id="544" name="Rectángulo 1"/>
          <p:cNvSpPr/>
          <p:nvPr/>
        </p:nvSpPr>
        <p:spPr>
          <a:xfrm>
            <a:off x="226800" y="2924280"/>
            <a:ext cx="9038160" cy="1557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Resolver problemas técnic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dentificar las necesidades y las respuestas tecnológic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Cómo lidiar con los problemas técnicos derivados del hardw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Consejos y trucos para un manejo sencillo del softw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12364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ntalla:</a:t>
            </a:r>
            <a:endParaRPr b="0" lang="en-US" sz="2000" spc="-1" strike="noStrike">
              <a:solidFill>
                <a:srgbClr val="000000"/>
              </a:solidFill>
              <a:latin typeface="Arial"/>
            </a:endParaRPr>
          </a:p>
        </p:txBody>
      </p:sp>
      <p:graphicFrame>
        <p:nvGraphicFramePr>
          <p:cNvPr id="568" name=""/>
          <p:cNvGraphicFramePr/>
          <p:nvPr/>
        </p:nvGraphicFramePr>
        <p:xfrm>
          <a:off x="204840" y="2535120"/>
          <a:ext cx="8734320" cy="3144960"/>
        </p:xfrm>
        <a:graphic>
          <a:graphicData uri="http://schemas.openxmlformats.org/drawingml/2006/table">
            <a:tbl>
              <a:tblPr/>
              <a:tblGrid>
                <a:gridCol w="2135160"/>
                <a:gridCol w="65991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antalla en negr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monitor está conectado a la red, al ordenador y está encendid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esione el botón de encendido o de suspensión.</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cable de conexión del monitor con el ordenador no tiene ningún desperfecto.</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463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as imágenes son muy grandes, muy pequeñas o borrosas.</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cccione la resolución en Window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Haga clic con el botón derecho en el escritorio, seleccione Configuración de pantalla.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pliegue las opciones de resolución de pantalla y elija la opción recomendada.</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12364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eriféricos:</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2413080"/>
        </p:xfrm>
        <a:graphic>
          <a:graphicData uri="http://schemas.openxmlformats.org/drawingml/2006/table">
            <a:tbl>
              <a:tblPr/>
              <a:tblGrid>
                <a:gridCol w="2135160"/>
                <a:gridCol w="6599160"/>
              </a:tblGrid>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0415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atón, teclado o cualquier otro periférico no respond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tIns="46800" bIns="46800"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a que están conectados a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n caso de ser inalámbricos comprueba que están encendidos y con batería.</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a con la información del fabricante si son compatibles con tu ordenador y sistema operativ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pague el ordenador, conecte y desconecte el periférico y vuelva a encend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usque actualizaciones posibles mediante Windows updat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268000" y="274320"/>
            <a:ext cx="6696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7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Ordenador:</a:t>
            </a:r>
            <a:endParaRPr b="0" lang="en-US" sz="2000" spc="-1" strike="noStrike">
              <a:solidFill>
                <a:srgbClr val="000000"/>
              </a:solidFill>
              <a:latin typeface="Arial"/>
            </a:endParaRPr>
          </a:p>
        </p:txBody>
      </p:sp>
      <p:graphicFrame>
        <p:nvGraphicFramePr>
          <p:cNvPr id="574" name=""/>
          <p:cNvGraphicFramePr/>
          <p:nvPr/>
        </p:nvGraphicFramePr>
        <p:xfrm>
          <a:off x="179280" y="2349360"/>
          <a:ext cx="8785440" cy="3387960"/>
        </p:xfrm>
        <a:graphic>
          <a:graphicData uri="http://schemas.openxmlformats.org/drawingml/2006/table">
            <a:tbl>
              <a:tblPr/>
              <a:tblGrid>
                <a:gridCol w="1584360"/>
                <a:gridCol w="720108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017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El ordenador no enciend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ordenador está conectado a la corriente.</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el interruptor trasero de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el ordenador no arranca, puede avisar del error mediante una serie de pitidos, estos son los más comune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inuos </a:t>
                      </a:r>
                      <a:r>
                        <a:rPr b="0" lang="es-ES" sz="1600" spc="-1" strike="noStrike">
                          <a:solidFill>
                            <a:srgbClr val="ffffff"/>
                          </a:solidFill>
                          <a:latin typeface="Arial"/>
                        </a:rPr>
                        <a:t>	</a:t>
                      </a:r>
                      <a:r>
                        <a:rPr b="0" lang="es-ES" sz="1600" spc="-1" strike="noStrike">
                          <a:solidFill>
                            <a:srgbClr val="ffffff"/>
                          </a:solidFill>
                          <a:latin typeface="Arial"/>
                        </a:rPr>
                        <a:t>Fallo eléctric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rtos constantes </a:t>
                      </a:r>
                      <a:r>
                        <a:rPr b="0" lang="es-ES" sz="1600" spc="-1" strike="noStrike">
                          <a:solidFill>
                            <a:srgbClr val="ffffff"/>
                          </a:solidFill>
                          <a:latin typeface="Arial"/>
                        </a:rPr>
                        <a:t>	</a:t>
                      </a:r>
                      <a:r>
                        <a:rPr b="0" lang="es-ES" sz="1600" spc="-1" strike="noStrike">
                          <a:solidFill>
                            <a:srgbClr val="ffffff"/>
                          </a:solidFill>
                          <a:latin typeface="Arial"/>
                        </a:rPr>
                        <a:t>La placa base está dañada</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a:t>
                      </a:r>
                      <a:r>
                        <a:rPr b="0" lang="es-ES" sz="1600" spc="-1" strike="noStrike">
                          <a:solidFill>
                            <a:srgbClr val="ffffff"/>
                          </a:solidFill>
                          <a:latin typeface="Arial"/>
                        </a:rPr>
                        <a:t>	</a:t>
                      </a:r>
                      <a:r>
                        <a:rPr b="0" lang="es-ES" sz="1600" spc="-1" strike="noStrike">
                          <a:solidFill>
                            <a:srgbClr val="ffffff"/>
                          </a:solidFill>
                          <a:latin typeface="Arial"/>
                        </a:rPr>
                        <a:t>                Error de la RAM</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y 1 corto </a:t>
                      </a:r>
                      <a:r>
                        <a:rPr b="0" lang="es-ES" sz="1600" spc="-1" strike="noStrike">
                          <a:solidFill>
                            <a:srgbClr val="ffffff"/>
                          </a:solidFill>
                          <a:latin typeface="Arial"/>
                        </a:rPr>
                        <a:t>	</a:t>
                      </a:r>
                      <a:r>
                        <a:rPr b="0" lang="es-ES" sz="1600" spc="-1" strike="noStrike">
                          <a:solidFill>
                            <a:srgbClr val="ffffff"/>
                          </a:solidFill>
                          <a:latin typeface="Arial"/>
                        </a:rPr>
                        <a:t>Error en la placa bas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y 2 cortos </a:t>
                      </a:r>
                      <a:r>
                        <a:rPr b="0" lang="es-ES" sz="1600" spc="-1" strike="noStrike">
                          <a:solidFill>
                            <a:srgbClr val="ffffff"/>
                          </a:solidFill>
                          <a:latin typeface="Arial"/>
                        </a:rPr>
                        <a:t>	</a:t>
                      </a:r>
                      <a:r>
                        <a:rPr b="0" lang="es-ES" sz="1600" spc="-1" strike="noStrike">
                          <a:solidFill>
                            <a:srgbClr val="ffffff"/>
                          </a:solidFill>
                          <a:latin typeface="Arial"/>
                        </a:rPr>
                        <a:t>Fallo de tarjeta de vídeo</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argo </a:t>
                      </a:r>
                      <a:r>
                        <a:rPr b="0" lang="es-ES" sz="1600" spc="-1" strike="noStrike">
                          <a:solidFill>
                            <a:srgbClr val="ffffff"/>
                          </a:solidFill>
                          <a:latin typeface="Arial"/>
                        </a:rPr>
                        <a:t>	</a:t>
                      </a:r>
                      <a:r>
                        <a:rPr b="0" lang="es-ES" sz="1600" spc="-1" strike="noStrike">
                          <a:solidFill>
                            <a:srgbClr val="ffffff"/>
                          </a:solidFill>
                          <a:latin typeface="Arial"/>
                        </a:rPr>
                        <a:t>                Funciona correctament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ualquiera de los fallos anteriores conllevaría el cambio de la pieza dañada</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6948360" y="124776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77" name=""/>
          <p:cNvSpPr txBox="1"/>
          <p:nvPr/>
        </p:nvSpPr>
        <p:spPr>
          <a:xfrm>
            <a:off x="468360" y="2295000"/>
            <a:ext cx="8229600" cy="452628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errores y soluciones que hemos comentado en las anteriores diapositivas son los más comunes, y esas son </a:t>
            </a:r>
            <a:r>
              <a:rPr b="0" lang="es-ES" sz="2000" spc="-1" strike="noStrike">
                <a:solidFill>
                  <a:srgbClr val="92d050"/>
                </a:solidFill>
                <a:latin typeface="Arial Rounded MT Bold"/>
              </a:rPr>
              <a:t>las soluciones más accesibles y frecuent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uedes ampliar esta información desde los enlaces de la bibliografí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ejemplos han sido realizados basándose en Windows 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tener el sistema operativo actualizad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punto clave de tu ordenador es el sistema operativo y para que desempeñe un correcto funcionamiento es recomendable </a:t>
            </a:r>
            <a:r>
              <a:rPr b="0" lang="es-ES" sz="2000" spc="-1" strike="noStrike">
                <a:solidFill>
                  <a:srgbClr val="92d050"/>
                </a:solidFill>
                <a:latin typeface="Arial Rounded MT Bold"/>
              </a:rPr>
              <a:t>mantenerlo siempre actualizado</a:t>
            </a:r>
            <a:r>
              <a:rPr b="0" lang="es-ES" sz="2000" spc="-1" strike="noStrike">
                <a:solidFill>
                  <a:srgbClr val="000000"/>
                </a:solidFill>
                <a:latin typeface="Arial Rounded MT Bold"/>
              </a:rPr>
              <a:t>, en el caso de Windows mediante Windows updat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sí tendremos actualizad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os controladores de lo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eriféricos que tengamo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nstalados en la máquina.</a:t>
            </a:r>
            <a:endParaRPr b="0" lang="en-US" sz="2000" spc="-1" strike="noStrike">
              <a:solidFill>
                <a:srgbClr val="000000"/>
              </a:solidFill>
              <a:latin typeface="Arial"/>
            </a:endParaRPr>
          </a:p>
        </p:txBody>
      </p:sp>
      <p:pic>
        <p:nvPicPr>
          <p:cNvPr id="580" name="Imagen 1" descr=""/>
          <p:cNvPicPr/>
          <p:nvPr/>
        </p:nvPicPr>
        <p:blipFill>
          <a:blip r:embed="rId1"/>
          <a:stretch/>
        </p:blipFill>
        <p:spPr>
          <a:xfrm>
            <a:off x="4067280" y="3703680"/>
            <a:ext cx="3727440" cy="224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ctualizar las aplicacio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l igual que el sistema operativo, </a:t>
            </a:r>
            <a:r>
              <a:rPr b="0" lang="es-ES" sz="2000" spc="-1" strike="noStrike">
                <a:solidFill>
                  <a:srgbClr val="92d050"/>
                </a:solidFill>
                <a:latin typeface="Arial Rounded MT Bold"/>
              </a:rPr>
              <a:t>las aplicaciones que tenemos instaladas</a:t>
            </a:r>
            <a:r>
              <a:rPr b="0" lang="es-ES" sz="2000" spc="-1" strike="noStrike">
                <a:solidFill>
                  <a:srgbClr val="000000"/>
                </a:solidFill>
                <a:latin typeface="Arial Rounded MT Bold"/>
              </a:rPr>
              <a:t> funcionan mejor y son más seguras si las mantenemos </a:t>
            </a:r>
            <a:r>
              <a:rPr b="0" lang="es-ES" sz="2000" spc="-1" strike="noStrike">
                <a:solidFill>
                  <a:srgbClr val="92d050"/>
                </a:solidFill>
                <a:latin typeface="Arial Rounded MT Bold"/>
              </a:rPr>
              <a:t>actualizada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esinstalar aplicacione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uantas más aplicaciones tengamos instaladas, más lento se volverá el equipo, debido al exceso de tareas en segundo plano y archivos en el equipo, así que una buena tarea de mantenimiento sería </a:t>
            </a:r>
            <a:r>
              <a:rPr b="0" lang="es-ES" sz="2000" spc="-1" strike="noStrike">
                <a:solidFill>
                  <a:srgbClr val="92d050"/>
                </a:solidFill>
                <a:latin typeface="Arial Rounded MT Bold"/>
              </a:rPr>
              <a:t>eliminar las aplicaciones que no usem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489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icio del sist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defecto muchas aplicaciones se inician cuando arrancamos el sistema operativo ralentizándolo y haciendo que el proceso de encendido dure más de lo desea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evitar que esto ocurra podemos </a:t>
            </a:r>
            <a:r>
              <a:rPr b="0" lang="es-ES" sz="2000" spc="-1" strike="noStrike">
                <a:solidFill>
                  <a:srgbClr val="92d050"/>
                </a:solidFill>
                <a:latin typeface="Arial Rounded MT Bold"/>
              </a:rPr>
              <a:t>gestionar qué aplicaciones queremos que se inicien con el equipo.</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cemos clic con el botón derecho en la barra de tareas y elegimos la opción “administrador de tarea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Una vez dentro, vamos a la pestaña “inicio”, seleccionamos la aplicación y clicamos en “deshabilit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icio del sistema</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90"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aspecto más importante de un </a:t>
            </a:r>
            <a:r>
              <a:rPr b="0" lang="en-GB" sz="2000" spc="-1" strike="noStrike">
                <a:solidFill>
                  <a:srgbClr val="92d050"/>
                </a:solidFill>
                <a:latin typeface="Arial Rounded MT Bold"/>
              </a:rPr>
              <a:t>antivirus</a:t>
            </a:r>
            <a:r>
              <a:rPr b="0" lang="en-GB" sz="2000" spc="-1" strike="noStrike">
                <a:solidFill>
                  <a:srgbClr val="000000"/>
                </a:solidFill>
                <a:latin typeface="Arial Rounded MT Bold"/>
              </a:rPr>
              <a:t> es tenerlo </a:t>
            </a:r>
            <a:r>
              <a:rPr b="0" lang="en-GB" sz="2000" spc="-1" strike="noStrike">
                <a:solidFill>
                  <a:srgbClr val="92d050"/>
                </a:solidFill>
                <a:latin typeface="Arial Rounded MT Bold"/>
              </a:rPr>
              <a:t>activo y actualizad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el caso de windows 10 no es necesario la instalación de ningún software de antivirus adicional, ya que trae un buen sistema de seri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windows se llama “</a:t>
            </a:r>
            <a:r>
              <a:rPr b="0" lang="en-GB" sz="2000" spc="-1" strike="noStrike">
                <a:solidFill>
                  <a:srgbClr val="92d050"/>
                </a:solidFill>
                <a:latin typeface="Arial Rounded MT Bold"/>
              </a:rPr>
              <a:t>seguridad de windows</a:t>
            </a:r>
            <a:r>
              <a:rPr b="0" lang="en-GB" sz="2000" spc="-1" strike="noStrike">
                <a:solidFill>
                  <a:srgbClr val="000000"/>
                </a:solidFill>
                <a:latin typeface="Arial Rounded MT Bold"/>
              </a:rPr>
              <a:t>” e incluye diversos sistemas de seguridad además del antivirus estánda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932360" y="1717560"/>
            <a:ext cx="4103640" cy="39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41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 conveniente no desactivar el </a:t>
            </a:r>
            <a:r>
              <a:rPr b="0" lang="en-GB" sz="2000" spc="-1" strike="noStrike">
                <a:solidFill>
                  <a:srgbClr val="92d050"/>
                </a:solidFill>
                <a:latin typeface="Arial Rounded MT Bold"/>
              </a:rPr>
              <a:t>control automático </a:t>
            </a:r>
            <a:r>
              <a:rPr b="0" lang="en-GB" sz="2000" spc="-1" strike="noStrike">
                <a:solidFill>
                  <a:srgbClr val="000000"/>
                </a:solidFill>
                <a:latin typeface="Arial Rounded MT Bold"/>
              </a:rPr>
              <a:t>del sistema, que se encargará de realizar exámenes periódicos en busca de 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queremos realizar un examen extra, puedes hacerlo desde el botón “</a:t>
            </a:r>
            <a:r>
              <a:rPr b="0" lang="en-GB" sz="2000" spc="-1" strike="noStrike">
                <a:solidFill>
                  <a:srgbClr val="92d050"/>
                </a:solidFill>
                <a:latin typeface="Arial Rounded MT Bold"/>
              </a:rPr>
              <a:t>Examen rápido</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4" name="Imagen 2" descr=""/>
          <p:cNvPicPr/>
          <p:nvPr/>
        </p:nvPicPr>
        <p:blipFill>
          <a:blip r:embed="rId1"/>
          <a:stretch/>
        </p:blipFill>
        <p:spPr>
          <a:xfrm>
            <a:off x="5261040" y="1409760"/>
            <a:ext cx="3654360" cy="43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tivos y meta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l final de este módulo serás capaz d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fallos de hardware o softwar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ejorar el rendimiento de los ordenadores</a:t>
            </a:r>
            <a:endParaRPr b="0" lang="en-US" sz="3200" spc="-1" strike="noStrike">
              <a:solidFill>
                <a:srgbClr val="000000"/>
              </a:solidFill>
              <a:latin typeface="Arial"/>
            </a:endParaRPr>
          </a:p>
          <a:p>
            <a:pPr marL="810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Si estás conectado a Internet y hay palabras en </a:t>
            </a:r>
            <a:r>
              <a:rPr b="0" lang="en-US" sz="2800" spc="-1" strike="noStrike">
                <a:solidFill>
                  <a:srgbClr val="00b0f0"/>
                </a:solidFill>
                <a:latin typeface="Arial Rounded MT Bold"/>
              </a:rPr>
              <a:t>azul</a:t>
            </a:r>
            <a:r>
              <a:rPr b="0" lang="en-US" sz="2800" spc="-1" strike="noStrike">
                <a:solidFill>
                  <a:srgbClr val="000000"/>
                </a:solidFill>
                <a:latin typeface="Arial Rounded MT Bold"/>
              </a:rPr>
              <a:t>, puedes hacer clic para acceder a información 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596" name=""/>
          <p:cNvSpPr txBox="1"/>
          <p:nvPr/>
        </p:nvSpPr>
        <p:spPr>
          <a:xfrm>
            <a:off x="457200" y="1413000"/>
            <a:ext cx="6059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esfragmentación del disco</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ntro de Windows existe una aplicació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que nos sirve para desfragmentar el disc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uro, con ello conseguimos que el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rdenador acceda a los archivos de una manera más rápida y eficaz.</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Busca el </a:t>
            </a:r>
            <a:r>
              <a:rPr b="0" lang="en-GB" sz="2000" spc="-1" strike="noStrike">
                <a:solidFill>
                  <a:srgbClr val="92d050"/>
                </a:solidFill>
                <a:latin typeface="Arial Rounded MT Bold"/>
              </a:rPr>
              <a:t>desfragmentador de disc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sde el buscador de Windows, elige el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isco duro y haz clic en “</a:t>
            </a:r>
            <a:r>
              <a:rPr b="0" lang="en-GB" sz="2000" spc="-1" strike="noStrike">
                <a:solidFill>
                  <a:srgbClr val="92d050"/>
                </a:solidFill>
                <a:latin typeface="Arial Rounded MT Bold"/>
              </a:rPr>
              <a:t>optimizar</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7" name="Imagen 1" descr=""/>
          <p:cNvPicPr/>
          <p:nvPr/>
        </p:nvPicPr>
        <p:blipFill>
          <a:blip r:embed="rId1"/>
          <a:stretch/>
        </p:blipFill>
        <p:spPr>
          <a:xfrm>
            <a:off x="6095880" y="2214720"/>
            <a:ext cx="2590920" cy="1047600"/>
          </a:xfrm>
          <a:prstGeom prst="rect">
            <a:avLst/>
          </a:prstGeom>
          <a:ln w="0">
            <a:noFill/>
          </a:ln>
        </p:spPr>
      </p:pic>
      <p:pic>
        <p:nvPicPr>
          <p:cNvPr id="598" name="Imagen 3" descr=""/>
          <p:cNvPicPr/>
          <p:nvPr/>
        </p:nvPicPr>
        <p:blipFill>
          <a:blip r:embed="rId2"/>
          <a:stretch/>
        </p:blipFill>
        <p:spPr>
          <a:xfrm>
            <a:off x="5867280" y="3430440"/>
            <a:ext cx="3248280" cy="23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mpieza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 el paso del tiempo el PC acumula archivos temporales de distintas aplicaciones, esto ocupa espacio y consume recursos de tu sistema operativ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xisten algunos programas que te ayudan en la tarea, como por ejemplo </a:t>
            </a:r>
            <a:r>
              <a:rPr b="0" lang="en-GB" sz="2000" spc="-1" strike="noStrike">
                <a:solidFill>
                  <a:srgbClr val="92d050"/>
                </a:solidFill>
                <a:latin typeface="Arial Rounded MT Bold"/>
              </a:rPr>
              <a:t>Ccleaner.</a:t>
            </a:r>
            <a:endParaRPr b="0" lang="en-US" sz="2000" spc="-1" strike="noStrike">
              <a:solidFill>
                <a:srgbClr val="000000"/>
              </a:solidFill>
              <a:latin typeface="Arial"/>
            </a:endParaRPr>
          </a:p>
        </p:txBody>
      </p:sp>
      <p:pic>
        <p:nvPicPr>
          <p:cNvPr id="601" name="Imagen 4" descr=""/>
          <p:cNvPicPr/>
          <p:nvPr/>
        </p:nvPicPr>
        <p:blipFill>
          <a:blip r:embed="rId1"/>
          <a:stretch/>
        </p:blipFill>
        <p:spPr>
          <a:xfrm>
            <a:off x="3348000" y="4019400"/>
            <a:ext cx="381960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3" name=""/>
          <p:cNvSpPr txBox="1"/>
          <p:nvPr/>
        </p:nvSpPr>
        <p:spPr>
          <a:xfrm>
            <a:off x="439560" y="141768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mpieza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n este programa podemos </a:t>
            </a:r>
            <a:r>
              <a:rPr b="0" lang="en-GB" sz="2000" spc="-1" strike="noStrike">
                <a:solidFill>
                  <a:srgbClr val="92d050"/>
                </a:solidFill>
                <a:latin typeface="Arial Rounded MT Bold"/>
              </a:rPr>
              <a:t>limpiar archivos temporales </a:t>
            </a:r>
            <a:r>
              <a:rPr b="0" lang="en-GB" sz="2000" spc="-1" strike="noStrike">
                <a:solidFill>
                  <a:srgbClr val="000000"/>
                </a:solidFill>
                <a:latin typeface="Arial Rounded MT Bold"/>
              </a:rPr>
              <a:t>de internet, además de registros que no se utiliz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sde esta pantalla marcamos todas las opciones de los navegadores y ejecutamos.</a:t>
            </a:r>
            <a:endParaRPr b="0" lang="en-US" sz="2000" spc="-1" strike="noStrike">
              <a:solidFill>
                <a:srgbClr val="000000"/>
              </a:solidFill>
              <a:latin typeface="Arial"/>
            </a:endParaRPr>
          </a:p>
        </p:txBody>
      </p:sp>
      <p:pic>
        <p:nvPicPr>
          <p:cNvPr id="604" name="Imagen 3" descr=""/>
          <p:cNvPicPr/>
          <p:nvPr/>
        </p:nvPicPr>
        <p:blipFill>
          <a:blip r:embed="rId1"/>
          <a:stretch/>
        </p:blipFill>
        <p:spPr>
          <a:xfrm>
            <a:off x="1979640" y="3402000"/>
            <a:ext cx="4968720" cy="2612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6" name=""/>
          <p:cNvSpPr txBox="1"/>
          <p:nvPr/>
        </p:nvSpPr>
        <p:spPr>
          <a:xfrm>
            <a:off x="456840" y="1413000"/>
            <a:ext cx="7931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mpieza de hardwar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parte de la limpieza del software, </a:t>
            </a:r>
            <a:r>
              <a:rPr b="0" lang="en-GB" sz="2000" spc="-1" strike="noStrike">
                <a:solidFill>
                  <a:srgbClr val="92d050"/>
                </a:solidFill>
                <a:latin typeface="Arial Rounded MT Bold"/>
              </a:rPr>
              <a:t>la limpieza del hardware también repercute en el funcionamiento óptimo del ordenado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i disponemos de una </a:t>
            </a:r>
            <a:r>
              <a:rPr b="0" lang="en-GB" sz="2000" spc="-1" strike="noStrike">
                <a:solidFill>
                  <a:srgbClr val="92d050"/>
                </a:solidFill>
                <a:latin typeface="Arial Rounded MT Bold"/>
              </a:rPr>
              <a:t>torre,</a:t>
            </a:r>
            <a:r>
              <a:rPr b="0" lang="en-GB" sz="2000" spc="-1" strike="noStrike">
                <a:solidFill>
                  <a:srgbClr val="000000"/>
                </a:solidFill>
                <a:latin typeface="Arial Rounded MT Bold"/>
              </a:rPr>
              <a:t> sería conveniente limpiarla por dentro una vez cada mes o dos mes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a mejor manera de limpiarla seria mediante un </a:t>
            </a:r>
            <a:r>
              <a:rPr b="0" lang="en-GB" sz="2000" spc="-1" strike="noStrike">
                <a:solidFill>
                  <a:srgbClr val="92d050"/>
                </a:solidFill>
                <a:latin typeface="Arial Rounded MT Bold"/>
              </a:rPr>
              <a:t>aspirador</a:t>
            </a:r>
            <a:r>
              <a:rPr b="0" lang="en-GB" sz="2000" spc="-1" strike="noStrike">
                <a:solidFill>
                  <a:srgbClr val="000000"/>
                </a:solidFill>
                <a:latin typeface="Arial Rounded MT Bold"/>
              </a:rPr>
              <a:t> que limpie sin dañar los componentes del ordenado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En el caso de los portátiles, se deben abrir para limpiarlo</a:t>
            </a:r>
            <a:r>
              <a:rPr b="0" lang="en-GB" sz="2000" spc="-1" strike="noStrike">
                <a:solidFill>
                  <a:srgbClr val="000000"/>
                </a:solidFill>
                <a:latin typeface="Arial Rounded MT Bold"/>
              </a:rPr>
              <a:t>, por lo que es mejor llevarlos a un </a:t>
            </a:r>
            <a:r>
              <a:rPr b="0" lang="en-GB" sz="2000" spc="-1" strike="noStrike">
                <a:solidFill>
                  <a:srgbClr val="92d050"/>
                </a:solidFill>
                <a:latin typeface="Arial Rounded MT Bold"/>
              </a:rPr>
              <a:t>centro especializado</a:t>
            </a:r>
            <a:r>
              <a:rPr b="0" lang="en-GB"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330280" y="274320"/>
            <a:ext cx="6562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2: </a:t>
            </a:r>
            <a:r>
              <a:rPr b="0" lang="en-US" sz="2800" spc="-1" strike="noStrike">
                <a:solidFill>
                  <a:srgbClr val="000000"/>
                </a:solidFill>
                <a:latin typeface="Arial Rounded MT Bold"/>
              </a:rPr>
              <a:t>Consejos y trucos para un manejo sencillo del software</a:t>
            </a:r>
            <a:endParaRPr b="0" lang="en-US" sz="2800" spc="-1" strike="noStrike">
              <a:solidFill>
                <a:srgbClr val="000000"/>
              </a:solidFill>
              <a:latin typeface="Arial"/>
            </a:endParaRPr>
          </a:p>
        </p:txBody>
      </p:sp>
      <p:sp>
        <p:nvSpPr>
          <p:cNvPr id="608" name=""/>
          <p:cNvSpPr txBox="1"/>
          <p:nvPr/>
        </p:nvSpPr>
        <p:spPr>
          <a:xfrm>
            <a:off x="457200" y="1413000"/>
            <a:ext cx="7283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stalación</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r último, cada cierto tiempo se recomienda </a:t>
            </a:r>
            <a:r>
              <a:rPr b="0" lang="en-GB" sz="2000" spc="-1" strike="noStrike">
                <a:solidFill>
                  <a:srgbClr val="92d050"/>
                </a:solidFill>
                <a:latin typeface="Arial Rounded MT Bold"/>
              </a:rPr>
              <a:t>reinstalar</a:t>
            </a:r>
            <a:r>
              <a:rPr b="0" lang="en-GB" sz="2000" spc="-1" strike="noStrike">
                <a:solidFill>
                  <a:srgbClr val="000000"/>
                </a:solidFill>
                <a:latin typeface="Arial Rounded MT Bold"/>
              </a:rPr>
              <a:t> todo el sistema desde cer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uando se usa durante un tiempo, el sistema operativo va acumulando archivos temporales, de actualizaciones y controladores, que están obsoletos, o no los necesitamos ya.</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r eso una vez al año o cada dos años es conveniente </a:t>
            </a:r>
            <a:r>
              <a:rPr b="0" lang="en-GB" sz="2000" spc="-1" strike="noStrike">
                <a:solidFill>
                  <a:srgbClr val="92d050"/>
                </a:solidFill>
                <a:latin typeface="Arial Rounded MT Bold"/>
              </a:rPr>
              <a:t>formatear y reinstalar </a:t>
            </a:r>
            <a:r>
              <a:rPr b="0" lang="en-GB" sz="2000" spc="-1" strike="noStrike">
                <a:solidFill>
                  <a:srgbClr val="000000"/>
                </a:solidFill>
                <a:latin typeface="Arial Rounded MT Bold"/>
              </a:rPr>
              <a:t>todo el sistema. Pero mejor podríamos llevarlo a un </a:t>
            </a:r>
            <a:r>
              <a:rPr b="0" lang="en-GB" sz="2000" spc="-1" strike="noStrike">
                <a:solidFill>
                  <a:srgbClr val="92d050"/>
                </a:solidFill>
                <a:latin typeface="Arial Rounded MT Bold"/>
              </a:rPr>
              <a:t>centro especializ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primer paso a la hora de solucionar cualquier problema con el ordenador </a:t>
            </a:r>
            <a:r>
              <a:rPr b="0" lang="en-GB" sz="2000" spc="-1" strike="noStrike">
                <a:solidFill>
                  <a:srgbClr val="92d050"/>
                </a:solidFill>
                <a:latin typeface="Arial Rounded MT Bold"/>
              </a:rPr>
              <a:t>es averiguar qué componente </a:t>
            </a:r>
            <a:r>
              <a:rPr b="0" lang="en-GB" sz="2000" spc="-1" strike="noStrike">
                <a:solidFill>
                  <a:srgbClr val="000000"/>
                </a:solidFill>
                <a:latin typeface="Arial Rounded MT Bold"/>
              </a:rPr>
              <a:t>no está funcionando correctament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veces es sencillo, pues el audio no funciona, la pantalla se ve mal o el teclado o el </a:t>
            </a:r>
            <a:r>
              <a:rPr b="0" lang="es-ES" sz="2000" spc="-1" strike="noStrike">
                <a:solidFill>
                  <a:srgbClr val="000000"/>
                </a:solidFill>
                <a:latin typeface="Arial Rounded MT Bold"/>
              </a:rPr>
              <a:t>ratón</a:t>
            </a:r>
            <a:r>
              <a:rPr b="0" lang="en-GB" sz="2000" spc="-1" strike="noStrike">
                <a:solidFill>
                  <a:srgbClr val="000000"/>
                </a:solidFill>
                <a:latin typeface="Arial Rounded MT Bold"/>
              </a:rPr>
              <a:t> han dejado de responde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otras ocasiones, el ordenador directamente no enciende, se reinicia o apaga de repente y no sabemos qué está pasando.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ara </a:t>
            </a:r>
            <a:r>
              <a:rPr b="0" lang="en-GB" sz="2000" spc="-1" strike="noStrike">
                <a:solidFill>
                  <a:srgbClr val="92d050"/>
                </a:solidFill>
                <a:latin typeface="Arial Rounded MT Bold"/>
              </a:rPr>
              <a:t>identificar el problema </a:t>
            </a:r>
            <a:r>
              <a:rPr b="0" lang="en-GB" sz="2000" spc="-1" strike="noStrike">
                <a:solidFill>
                  <a:srgbClr val="000000"/>
                </a:solidFill>
                <a:latin typeface="Arial Rounded MT Bold"/>
              </a:rPr>
              <a:t>debemos estar atentos a las pistas que nos da el ordenad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12364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primer paso que debemos realizar es comprobar si el fallo es de software o hardware, el método más sencillo es entrar en “</a:t>
            </a:r>
            <a:r>
              <a:rPr b="0" lang="en-GB" sz="2000" spc="-1" strike="noStrike">
                <a:solidFill>
                  <a:srgbClr val="92d050"/>
                </a:solidFill>
                <a:latin typeface="Arial Rounded MT Bold"/>
              </a:rPr>
              <a:t>modo Seguro</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modo Seguro es un modo de arranque del equipo en el cual el Sistema solo arranca con las aplicaciones y controladores necesarios para que funcione el ordenador, dejando desactivado todo aquello que no sea necesar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continuación veremos cómo entrar en el modo a prueba de fa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acemos clic en apagar, y ,mientras pulsamos la tecla “shift”, hacemos clic en “reiniciar”.</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hora se reiniciará y mostrará un menú, en el cual seleccionaremos </a:t>
            </a:r>
            <a:r>
              <a:rPr b="0" lang="en-GB" sz="2000" spc="-1" strike="noStrike">
                <a:solidFill>
                  <a:srgbClr val="92d050"/>
                </a:solidFill>
                <a:latin typeface="Arial Rounded MT Bold"/>
              </a:rPr>
              <a:t>“Resolución de problemas-&gt;Opciones avanzadas-&gt;Configuración de inic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771640" y="3740040"/>
            <a:ext cx="3530880" cy="2352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39640" y="274320"/>
            <a:ext cx="655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endParaRPr b="0" lang="en-US" sz="2800" spc="-1" strike="noStrike">
              <a:solidFill>
                <a:srgbClr val="000000"/>
              </a:solidFill>
              <a:latin typeface="Arial"/>
            </a:endParaRPr>
          </a:p>
        </p:txBody>
      </p:sp>
      <p:sp>
        <p:nvSpPr>
          <p:cNvPr id="55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Dentro del modo seguro, intentaremos reproducir el fall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caso de que consigamos reproducirlo, se deberá a un error provocado por el </a:t>
            </a:r>
            <a:r>
              <a:rPr b="0" lang="en-GB" sz="2000" spc="-1" strike="noStrike">
                <a:solidFill>
                  <a:srgbClr val="92d050"/>
                </a:solidFill>
                <a:latin typeface="Arial Rounded MT Bold"/>
              </a:rPr>
              <a:t>hardwa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or contra, si el error no vuelve a aparecer, será porque es un fallo de </a:t>
            </a:r>
            <a:r>
              <a:rPr b="0" lang="en-GB" sz="2000" spc="-1" strike="noStrike">
                <a:solidFill>
                  <a:srgbClr val="92d050"/>
                </a:solidFill>
                <a:latin typeface="Arial Rounded MT Bold"/>
              </a:rPr>
              <a:t>softwa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error ocurre antes o después de un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2d050"/>
                </a:solidFill>
                <a:latin typeface="Arial Rounded MT Bold"/>
              </a:rPr>
              <a:t>mensaje de error</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te es uno de los casos más sencillos de identificar y corregir, pues se nos muestra una información esencial a la hora de reparar el ordenador.</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uede ser una ventana de error o un error a pantalla completa, en ambos casos debemos </a:t>
            </a:r>
            <a:r>
              <a:rPr b="0" lang="en-GB" sz="2000" spc="-1" strike="noStrike">
                <a:solidFill>
                  <a:srgbClr val="92d050"/>
                </a:solidFill>
                <a:latin typeface="Arial Rounded MT Bold"/>
              </a:rPr>
              <a:t>fijarnos en el código de error y en el propio mensaje que nos ofrece.</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050920" y="274320"/>
            <a:ext cx="684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icar el problema</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l mensaje de error también puede aparecer antes de que el ordenador arranque por complet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 cualquiera de los casos citados debemos </a:t>
            </a:r>
            <a:r>
              <a:rPr b="0" lang="en-GB" sz="2000" spc="-1" strike="noStrike">
                <a:solidFill>
                  <a:srgbClr val="92d050"/>
                </a:solidFill>
                <a:latin typeface="Arial Rounded MT Bold"/>
              </a:rPr>
              <a:t>copiar el código o mensaje de error y buscarlo en internet</a:t>
            </a:r>
            <a:r>
              <a:rPr b="0" lang="en-GB" sz="2000" spc="-1" strike="noStrike">
                <a:solidFill>
                  <a:srgbClr val="000000"/>
                </a:solidFill>
                <a:latin typeface="Arial Rounded MT Bold"/>
              </a:rPr>
              <a:t>, así encontraremos una forma de solucionar el problema.</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30280" y="314172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050920" y="274320"/>
            <a:ext cx="6842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dad 1: </a:t>
            </a:r>
            <a:r>
              <a:rPr b="0" lang="en-US" sz="2800" spc="-1" strike="noStrike">
                <a:solidFill>
                  <a:srgbClr val="000000"/>
                </a:solidFill>
                <a:latin typeface="Arial Rounded MT Bold"/>
              </a:rPr>
              <a:t>Cómo lidiar con los problemas técnicos derivados del hardware</a:t>
            </a:r>
            <a:br>
              <a:rPr sz="2800"/>
            </a:b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rrores más comunes</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 veces no disponemos de un mensaje de error que nos dé una pista de cuál es el fallo exacto.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or eso ahora veremos un pequeño listado de los </a:t>
            </a:r>
            <a:r>
              <a:rPr b="1" lang="en-GB" sz="1800" spc="-1" strike="noStrike">
                <a:solidFill>
                  <a:srgbClr val="00b0f0"/>
                </a:solidFill>
                <a:latin typeface="Arial Rounded MT Bold"/>
              </a:rPr>
              <a:t>errores más comunes </a:t>
            </a:r>
            <a:r>
              <a:rPr b="0" lang="en-GB" sz="1800" spc="-1" strike="noStrike">
                <a:solidFill>
                  <a:srgbClr val="000000"/>
                </a:solidFill>
                <a:latin typeface="Arial Rounded MT Bold"/>
              </a:rPr>
              <a:t>y sus posibles </a:t>
            </a:r>
            <a:r>
              <a:rPr b="0" lang="es-ES" sz="1800" spc="-1" strike="noStrike">
                <a:solidFill>
                  <a:srgbClr val="000000"/>
                </a:solidFill>
                <a:latin typeface="Arial Rounded MT Bold"/>
              </a:rPr>
              <a:t>soluciones.</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573360"/>
          <a:ext cx="8362800" cy="2163960"/>
        </p:xfrm>
        <a:graphic>
          <a:graphicData uri="http://schemas.openxmlformats.org/drawingml/2006/table">
            <a:tbl>
              <a:tblPr/>
              <a:tblGrid>
                <a:gridCol w="1913040"/>
                <a:gridCol w="644976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íntoma</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ible solució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No se oye nada</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el volumen de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ruebe que el altavoz esté encendido y conectado.</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i tiene auriculares conectados, desconéctelo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esconecte y conecte los altavoce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einicie el ordenado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nte conectar los altavoces en otro equipo (móvil, pc, etc.) para descartar que el fallo sea el altavoz.</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4T09:43:21Z</dcterms:modified>
  <cp:revision>472</cp:revision>
  <dc:subject/>
  <dc:title>Title</dc:title>
</cp:coreProperties>
</file>