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07B8-E41C-4949-8ACF-E2D7A44369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7154-FC16-4CB7-859E-FCB7DEB610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0AC2-E090-4115-9F0B-B3A731688D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5338-E7B4-410D-BFFC-CF4B79D319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6B88-3CBD-41B7-B8D3-0CBD9FD790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9D1D-0745-45B4-9D7B-CD92FAE467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CE2F-E66F-480D-A246-B42DD0CE52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AAB4-EFD3-418B-A89F-903585DA50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9B86-A4DB-4FEF-875E-3288591304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612B-C437-431E-A619-ED0542622F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BB7A-6E11-4EB1-9D4D-FA4258D476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E5F0-8127-4AE8-A6B4-7929B531B5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A992-809E-447F-AAB8-86978C3B3D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5819-A043-40C5-8147-D3A5C0B741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6D599BF-C9ED-41F3-A9B4-2CFB15175F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30DA56-61F8-4E7F-B937-93A6505900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05CA03B-14E1-4674-9AC3-1540AF0A3D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D3389D-BE9E-4013-A10D-13A72FAB6E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FB51A9-4921-4A66-A12A-304EB62F19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02105B-04A2-46E3-BF08-4E810C5E3C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718B67-9523-4253-8CAF-CE5B9E2D60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A5B7CD3-2235-4417-9992-79C2F8287CE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AB3EA7C-7322-40F8-B716-7AFA7215D1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13B707F-0C86-45F3-BE7A-4292EA6B58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4E70EC-446B-45DB-BDB0-F6E1F22B78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B9AF5D-26A1-4FEC-BC40-72E8431682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23D0F6E-6678-4B0E-99BF-7DBF7F4105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3858589-BE82-4A74-B898-BE1ACC58812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31BF2E-BC5C-4B7F-9424-A6A3A9558C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D8C5F9-CC6F-4EBF-B918-B477431D217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E2F385-B1A7-4B24-83C5-CF9C0F0043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7D0D11-2CE9-47E7-888A-20F7F50A2D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5C4F0E-FD16-48E6-9A61-DE938183C17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C1D0D03-C247-4F2E-A5F6-B034A17DE4B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F57131-EFE1-4063-BABB-7ADB3D379A4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1F44391-F0C0-4EF0-947D-3EE4A154059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975EB2B-EB28-4AE2-86E1-02AB1706C0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776A25-A083-4A0F-B72A-160ED38F7B3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8629109-E8B7-4A06-B287-9586BD604F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41A2A0E-7AF4-4B27-B9EC-8E253D274F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8039536-18E6-4EB2-8CDB-C8DFF85AE0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8710701-92E4-4BF8-918D-E93A381554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602B65-9BDC-42E4-A27D-C26CEADC59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318E1E-0815-4742-B1B3-60481EAE5E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E13AB6B-4BDB-4C31-B0B8-9A00093D8F3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E69D1AD-C5BF-46DF-A0DE-7C2CFE4837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A7E8ECA-D1C4-4F4F-82C1-C9684962E73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0E4B3FE-57B2-41C6-B3B8-C0EBE6C77CB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ECDF06-E7E8-4D45-9A25-E66042F0959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0D3A4C-2DBE-4A30-807C-DA782DEC5C9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E5D0EA9-844E-4A6C-89B4-6D6A242F94A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671DBFF-95DC-4BC9-BA88-B18F132BE3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FC8A02F-975E-4F99-B375-6657D218866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B3D4152-E871-49F5-B6F6-0CD7DE9576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D7204E-D0A9-46EF-A628-961F295D050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A30616-FA21-4B68-ABAD-BCC1EF76AD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51E8759-6A4B-434B-BF6C-EBABC28E9A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587D701-E796-4EF8-899C-F4611E76D53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DF93662-73F2-49C2-BD1F-6EBF39C4E05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D28CE-FC39-40CB-BBAA-2A5A9D0EB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5F527-1FB9-4D58-9A9C-D7CC9EE8C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E0AFA-2DB7-40E2-A1C3-53D7EDC97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16F19-3782-417D-939A-798F3E675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D85D9-C684-4BD2-8100-55B551E4F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3FDA8-14DF-4D32-BFD4-7C2666436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A31BB-3F54-4BAD-B0EE-AB8714F01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5F5AB-33B6-4F3F-868E-46A93DF77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7FFB3-8AB2-4910-AC38-8706098DD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390FB-B955-4309-82E5-F3BBBE078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B7E2B5-595E-4503-88F9-8C4B279344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BFF400-6DAF-4585-9150-BE48CE7B79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3ABC07-D295-4202-B159-B6D414ABD8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88FF52-7189-4800-9CF3-70B63469B7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54B867-7709-4A9D-8FB1-6F536A1A3C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5D2FEB-00B2-4C36-B9EC-374E9BBF6E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158050-47DC-46DF-9D99-6D7E46A6F9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27B01D-6268-4EC2-A408-2E1035FE57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A6610E-BF35-422D-8111-82C6CFDA9C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3CD64C-1618-4E6C-B2AB-5127BFA8DA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7CFB3A-6784-4419-9D35-BBC20DB23C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86E07F7-E90B-481A-83CD-808AB53042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7F46B1-C749-4235-9DAB-1846CD9BB7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216921-4521-470E-9A61-196A7C0F60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F13C31-5019-4594-8426-F9458B8160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E2CDBA-63E1-4ABE-A666-0AA8339B13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3E3BEE-DB4D-4696-9E98-7396F4BEA6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AE746F-6DF2-4BDE-82E7-8A6FA0B7F5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26D519-E86D-4970-AE56-7242644B5F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C4447E-6CE1-4415-9546-6781644434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AA7749-9B7A-40BC-88E4-F31FFB059C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2C4984-E3F8-40BB-B664-EBA7ADA654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B977A7-3662-4DAC-B0AC-0F7D77FE6F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75CD59-E61E-4821-AED9-38AD54B4A7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74865C-4D10-4DF0-A8EE-455BD7CED3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97A603-B499-451A-9AF4-DAFAB8E83D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3BE79AA-2EA1-4562-BB10-DFA1E33B42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120132-2D91-4630-9618-112DB0726C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9A7EAB-7C7A-4F52-96AC-9E15954F09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8AEB1D-87BB-454F-BC89-93A59AFA0D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5D9963-F0AE-4498-A496-2F0C698746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31B6F6-743C-42FC-B0E9-0C83AB7A6D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8D6393-1117-48A4-9EEC-E561C7C381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5A31B7-0497-4180-8557-1F7422AF4C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0B3E63-75F6-4BC4-8245-FA6C840741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04C438-A9D5-4ECB-9598-498D165A7D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93B273-6D9B-4F7D-81A2-489BC3D255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0FCF67E-B953-4E7F-A611-ED57D93AE1C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D4F8584-5168-4368-9967-E87D4231128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DB5391-C7B1-458A-B4DB-744D0FBDC8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17B574-6D55-4C4D-BE87-229E32D854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D87DA0-54FF-4927-B6AE-7D94AA5CAA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37D3A2-BCA7-4B03-A87E-C526CC6794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21A5F5-A70A-4924-8A57-AD56829639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AC8575-0AF2-407A-9A7F-073CEE283A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45F09F-D45D-40B0-976F-325478FB66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5808A6-7B80-4647-AE81-A834761A06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A7B708-9404-4319-8CBA-79743CE9DC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0BFE0FF-682E-4468-8428-C31C9EB4F67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6310D2A-2835-4A1B-AA12-00CF0BF7FF1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581281C-25E4-48E0-9C1F-D8496D3B4FB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FC72BC-F5B8-4B64-951C-14A00F1361A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219840-388B-423C-AC10-AB742D1D00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BCA2BC8-69FD-44A9-AF63-D7005ABFB5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9BFF87B-3846-4DE7-8321-34913A8D5CC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7516CF-7691-491F-BF1D-94E919229A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67AE89-27DA-40FD-85EF-EE33916722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B41967-6353-4A84-A16D-5B1FEA0C2F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97ECA3-2ED6-489C-B3EA-EDD7DF41A7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9C18958-5ADC-4BE4-9B60-4DA3B32588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59E33F-274E-4C57-A7F1-682862BCB9B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50878D-2591-407B-B528-337042AE1EB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609D52F-324B-4223-B010-E4E25D5793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053B1F4-FA86-43CC-9B0F-E0EDFF3865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556E8C-4983-46B1-8078-3675F65A1EE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9E4F-0D74-4C9F-80B4-FF4ADD32C6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20AE-23F2-4A4F-8E6E-380F840154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7351-CF9A-46AC-970A-2C4EA71BED2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A8BD-4F14-40BF-B043-A215FCEC40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AD7D-9E2B-4E7C-8DB8-41FF38AEAEE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C7BB-3A12-4985-9E29-71A35EEE6A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552E-5846-46D2-98A3-BF1E10BB02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AC52-6971-441E-A5E2-1454086A00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8E7C-EE8A-4BB3-B8FE-EBAF2526648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0389-537A-4B87-8CEA-EFFDC758376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esolución de problemas</a:t>
            </a:r>
            <a:endParaRPr b="0" lang="en-US" sz="3200" spc="-1" strike="noStrike">
              <a:solidFill>
                <a:srgbClr val="000000"/>
              </a:solidFill>
              <a:latin typeface="Arial"/>
            </a:endParaRPr>
          </a:p>
        </p:txBody>
      </p:sp>
      <p:sp>
        <p:nvSpPr>
          <p:cNvPr id="544" name="Rectángulo 1"/>
          <p:cNvSpPr/>
          <p:nvPr/>
        </p:nvSpPr>
        <p:spPr>
          <a:xfrm>
            <a:off x="226800" y="2924280"/>
            <a:ext cx="9038160" cy="155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olver problemas técnic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dentificar las necesidades y las respuestas tecnológic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Cómo lidiar con los problemas técnicos derivados del hardw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Consejos y trucos para un manejo sencillo del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ntalla:</a:t>
            </a:r>
            <a:endParaRPr b="0" lang="en-US" sz="2000" spc="-1" strike="noStrike">
              <a:solidFill>
                <a:srgbClr val="000000"/>
              </a:solidFill>
              <a:latin typeface="Arial"/>
            </a:endParaRPr>
          </a:p>
        </p:txBody>
      </p:sp>
      <p:graphicFrame>
        <p:nvGraphicFramePr>
          <p:cNvPr id="568" name=""/>
          <p:cNvGraphicFramePr/>
          <p:nvPr/>
        </p:nvGraphicFramePr>
        <p:xfrm>
          <a:off x="204840" y="2535120"/>
          <a:ext cx="8734320" cy="314496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ntalla en negr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monitor está conectado a la red, al ordenador y está encendid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sione el botón de encendido o de suspensió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cable de conexión del monitor con el ordenador no tiene ningún desperfect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imágenes son muy grandes, muy pequeñas o borrosas.</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cccione la resolución en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ga clic con el botón derecho en el escritorio, seleccione Configuración de pantalla.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pliegue las opciones de resolución de pantalla y elija la opción recomendada.</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féricos:</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413080"/>
        </p:xfrm>
        <a:graphic>
          <a:graphicData uri="http://schemas.openxmlformats.org/drawingml/2006/table">
            <a:tbl>
              <a:tblPr/>
              <a:tblGrid>
                <a:gridCol w="2135160"/>
                <a:gridCol w="659916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5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atón, teclado o cualquier otro periférico no respond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tIns="46800" bIns="468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a que están conectados a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caso de ser inalámbricos comprueba que están encendidos y con baterí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a con la información del fabricante si son compatibles con tu ordenador y sistema operativ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ague el ordenador, conecte y desconecte el periférico y vuelva a encend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usque actualizaciones posibles mediante Windows updat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268000" y="274320"/>
            <a:ext cx="669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Ordenador:</a:t>
            </a:r>
            <a:endParaRPr b="0" lang="en-US" sz="2000" spc="-1" strike="noStrike">
              <a:solidFill>
                <a:srgbClr val="000000"/>
              </a:solidFill>
              <a:latin typeface="Arial"/>
            </a:endParaRPr>
          </a:p>
        </p:txBody>
      </p:sp>
      <p:graphicFrame>
        <p:nvGraphicFramePr>
          <p:cNvPr id="574" name=""/>
          <p:cNvGraphicFramePr/>
          <p:nvPr/>
        </p:nvGraphicFramePr>
        <p:xfrm>
          <a:off x="179280" y="2349360"/>
          <a:ext cx="8785440" cy="3387960"/>
        </p:xfrm>
        <a:graphic>
          <a:graphicData uri="http://schemas.openxmlformats.org/drawingml/2006/table">
            <a:tbl>
              <a:tblPr/>
              <a:tblGrid>
                <a:gridCol w="1584360"/>
                <a:gridCol w="72010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017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ordenador no enciend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ordenador está conectado a la corrien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el interruptor trasero d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el ordenador no arranca, puede avisar del error mediante una serie de pitidos, estos son los más comun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s </a:t>
                      </a:r>
                      <a:r>
                        <a:rPr b="0" lang="es-ES" sz="1600" spc="-1" strike="noStrike">
                          <a:solidFill>
                            <a:srgbClr val="ffffff"/>
                          </a:solidFill>
                          <a:latin typeface="Arial"/>
                        </a:rPr>
                        <a:t>	</a:t>
                      </a:r>
                      <a:r>
                        <a:rPr b="0" lang="es-ES" sz="1600" spc="-1" strike="noStrike">
                          <a:solidFill>
                            <a:srgbClr val="ffffff"/>
                          </a:solidFill>
                          <a:latin typeface="Arial"/>
                        </a:rPr>
                        <a:t>Fallo eléctr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rtos constantes </a:t>
                      </a:r>
                      <a:r>
                        <a:rPr b="0" lang="es-ES" sz="1600" spc="-1" strike="noStrike">
                          <a:solidFill>
                            <a:srgbClr val="ffffff"/>
                          </a:solidFill>
                          <a:latin typeface="Arial"/>
                        </a:rPr>
                        <a:t>	</a:t>
                      </a:r>
                      <a:r>
                        <a:rPr b="0" lang="es-ES" sz="1600" spc="-1" strike="noStrike">
                          <a:solidFill>
                            <a:srgbClr val="ffffff"/>
                          </a:solidFill>
                          <a:latin typeface="Arial"/>
                        </a:rPr>
                        <a:t>La placa base está dañad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a:t>
                      </a:r>
                      <a:r>
                        <a:rPr b="0" lang="es-ES" sz="1600" spc="-1" strike="noStrike">
                          <a:solidFill>
                            <a:srgbClr val="ffffff"/>
                          </a:solidFill>
                          <a:latin typeface="Arial"/>
                        </a:rPr>
                        <a:t>	</a:t>
                      </a:r>
                      <a:r>
                        <a:rPr b="0" lang="es-ES" sz="1600" spc="-1" strike="noStrike">
                          <a:solidFill>
                            <a:srgbClr val="ffffff"/>
                          </a:solidFill>
                          <a:latin typeface="Arial"/>
                        </a:rPr>
                        <a:t>                Error de la RA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y 1 corto </a:t>
                      </a:r>
                      <a:r>
                        <a:rPr b="0" lang="es-ES" sz="1600" spc="-1" strike="noStrike">
                          <a:solidFill>
                            <a:srgbClr val="ffffff"/>
                          </a:solidFill>
                          <a:latin typeface="Arial"/>
                        </a:rPr>
                        <a:t>	</a:t>
                      </a:r>
                      <a:r>
                        <a:rPr b="0" lang="es-ES" sz="1600" spc="-1" strike="noStrike">
                          <a:solidFill>
                            <a:srgbClr val="ffffff"/>
                          </a:solidFill>
                          <a:latin typeface="Arial"/>
                        </a:rPr>
                        <a:t>Error en la placa bas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y 2 cortos </a:t>
                      </a:r>
                      <a:r>
                        <a:rPr b="0" lang="es-ES" sz="1600" spc="-1" strike="noStrike">
                          <a:solidFill>
                            <a:srgbClr val="ffffff"/>
                          </a:solidFill>
                          <a:latin typeface="Arial"/>
                        </a:rPr>
                        <a:t>	</a:t>
                      </a:r>
                      <a:r>
                        <a:rPr b="0" lang="es-ES" sz="1600" spc="-1" strike="noStrike">
                          <a:solidFill>
                            <a:srgbClr val="ffffff"/>
                          </a:solidFill>
                          <a:latin typeface="Arial"/>
                        </a:rPr>
                        <a:t>Fallo de tarjeta de ví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a:t>
                      </a:r>
                      <a:r>
                        <a:rPr b="0" lang="es-ES" sz="1600" spc="-1" strike="noStrike">
                          <a:solidFill>
                            <a:srgbClr val="ffffff"/>
                          </a:solidFill>
                          <a:latin typeface="Arial"/>
                        </a:rPr>
                        <a:t>	</a:t>
                      </a:r>
                      <a:r>
                        <a:rPr b="0" lang="es-ES" sz="1600" spc="-1" strike="noStrike">
                          <a:solidFill>
                            <a:srgbClr val="ffffff"/>
                          </a:solidFill>
                          <a:latin typeface="Arial"/>
                        </a:rPr>
                        <a:t>                Funciona correctament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ualquiera de los fallos anteriores conllevaría el cambio de la pieza dañada</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948360" y="12477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7" name=""/>
          <p:cNvSpPr txBox="1"/>
          <p:nvPr/>
        </p:nvSpPr>
        <p:spPr>
          <a:xfrm>
            <a:off x="468360" y="2295000"/>
            <a:ext cx="8229600" cy="452628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errores y soluciones que hemos comentado en las anteriores diapositivas son los más comunes, y esas son </a:t>
            </a:r>
            <a:r>
              <a:rPr b="0" lang="es-ES" sz="2000" spc="-1" strike="noStrike">
                <a:solidFill>
                  <a:srgbClr val="92d050"/>
                </a:solidFill>
                <a:latin typeface="Arial Rounded MT Bold"/>
              </a:rPr>
              <a:t>las soluciones más accesibles y frecuent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uedes ampliar esta información desde los enlaces de la bibliografí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ejemplos han sido realizados basándose en Windows 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tener el sistema operativo actualizad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punto clave de tu ordenador es el sistema operativo y para que desempeñe un correcto funcionamiento es recomendable </a:t>
            </a:r>
            <a:r>
              <a:rPr b="0" lang="es-ES" sz="2000" spc="-1" strike="noStrike">
                <a:solidFill>
                  <a:srgbClr val="92d050"/>
                </a:solidFill>
                <a:latin typeface="Arial Rounded MT Bold"/>
              </a:rPr>
              <a:t>mantenerlo siempre actualizado</a:t>
            </a:r>
            <a:r>
              <a:rPr b="0" lang="es-ES" sz="2000" spc="-1" strike="noStrike">
                <a:solidFill>
                  <a:srgbClr val="000000"/>
                </a:solidFill>
                <a:latin typeface="Arial Rounded MT Bold"/>
              </a:rPr>
              <a:t>, en el caso de Windows mediante Windows upda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sí tendremos actualizad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controladores de l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eriféricos que tengam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stalados en la máquina.</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4067280" y="3703680"/>
            <a:ext cx="3727440" cy="224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ctualizar las aplicacio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l igual que el sistema operativo, </a:t>
            </a:r>
            <a:r>
              <a:rPr b="0" lang="es-ES" sz="2000" spc="-1" strike="noStrike">
                <a:solidFill>
                  <a:srgbClr val="92d050"/>
                </a:solidFill>
                <a:latin typeface="Arial Rounded MT Bold"/>
              </a:rPr>
              <a:t>las aplicaciones que tenemos instaladas</a:t>
            </a:r>
            <a:r>
              <a:rPr b="0" lang="es-ES" sz="2000" spc="-1" strike="noStrike">
                <a:solidFill>
                  <a:srgbClr val="000000"/>
                </a:solidFill>
                <a:latin typeface="Arial Rounded MT Bold"/>
              </a:rPr>
              <a:t> funcionan mejor y son más seguras si las mantenemos </a:t>
            </a:r>
            <a:r>
              <a:rPr b="0" lang="es-ES" sz="2000" spc="-1" strike="noStrike">
                <a:solidFill>
                  <a:srgbClr val="92d050"/>
                </a:solidFill>
                <a:latin typeface="Arial Rounded MT Bold"/>
              </a:rPr>
              <a:t>actualizada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esinstalar aplicacio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tas más aplicaciones tengamos instaladas, más lento se volverá el equipo, debido al exceso de tareas en segundo plano y archivos en el equipo, así que una buena tarea de mantenimiento sería </a:t>
            </a:r>
            <a:r>
              <a:rPr b="0" lang="es-ES" sz="2000" spc="-1" strike="noStrike">
                <a:solidFill>
                  <a:srgbClr val="92d050"/>
                </a:solidFill>
                <a:latin typeface="Arial Rounded MT Bold"/>
              </a:rPr>
              <a:t>eliminar las aplicaciones que no use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489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icio del sist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defecto muchas aplicaciones se inician cuando arrancamos el sistema operativo ralentizándolo y haciendo que el proceso de encendido dure más de lo desea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evitar que esto ocurra podemos </a:t>
            </a:r>
            <a:r>
              <a:rPr b="0" lang="es-ES" sz="2000" spc="-1" strike="noStrike">
                <a:solidFill>
                  <a:srgbClr val="92d050"/>
                </a:solidFill>
                <a:latin typeface="Arial Rounded MT Bold"/>
              </a:rPr>
              <a:t>gestionar qué aplicaciones queremos que se inicien con el equip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cemos clic con el botón derecho en la barra de tareas y elegimos la opción “administrador de tare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vez dentro, vamos a la pestaña “inicio”, seleccionamos la aplicación y clicamos en “deshabilit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icio del sistem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0"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aspecto más importante de un </a:t>
            </a:r>
            <a:r>
              <a:rPr b="0" lang="en-GB" sz="2000" spc="-1" strike="noStrike">
                <a:solidFill>
                  <a:srgbClr val="92d050"/>
                </a:solidFill>
                <a:latin typeface="Arial Rounded MT Bold"/>
              </a:rPr>
              <a:t>antivirus</a:t>
            </a:r>
            <a:r>
              <a:rPr b="0" lang="en-GB" sz="2000" spc="-1" strike="noStrike">
                <a:solidFill>
                  <a:srgbClr val="000000"/>
                </a:solidFill>
                <a:latin typeface="Arial Rounded MT Bold"/>
              </a:rPr>
              <a:t> es tenerlo </a:t>
            </a:r>
            <a:r>
              <a:rPr b="0" lang="en-GB" sz="2000" spc="-1" strike="noStrike">
                <a:solidFill>
                  <a:srgbClr val="92d050"/>
                </a:solidFill>
                <a:latin typeface="Arial Rounded MT Bold"/>
              </a:rPr>
              <a:t>activo y actualiza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el caso de windows 10 no es necesario la instalación de ningún software de antivirus adicional, ya que trae un buen sistema de ser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windows se llama “</a:t>
            </a:r>
            <a:r>
              <a:rPr b="0" lang="en-GB" sz="2000" spc="-1" strike="noStrike">
                <a:solidFill>
                  <a:srgbClr val="92d050"/>
                </a:solidFill>
                <a:latin typeface="Arial Rounded MT Bold"/>
              </a:rPr>
              <a:t>seguridad de windows</a:t>
            </a:r>
            <a:r>
              <a:rPr b="0" lang="en-GB" sz="2000" spc="-1" strike="noStrike">
                <a:solidFill>
                  <a:srgbClr val="000000"/>
                </a:solidFill>
                <a:latin typeface="Arial Rounded MT Bold"/>
              </a:rPr>
              <a:t>” e incluye diversos sistemas de seguridad además del antivirus estánda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932360" y="1717560"/>
            <a:ext cx="4103640" cy="39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4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 conveniente no desactivar el </a:t>
            </a:r>
            <a:r>
              <a:rPr b="0" lang="en-GB" sz="2000" spc="-1" strike="noStrike">
                <a:solidFill>
                  <a:srgbClr val="92d050"/>
                </a:solidFill>
                <a:latin typeface="Arial Rounded MT Bold"/>
              </a:rPr>
              <a:t>control automático </a:t>
            </a:r>
            <a:r>
              <a:rPr b="0" lang="en-GB" sz="2000" spc="-1" strike="noStrike">
                <a:solidFill>
                  <a:srgbClr val="000000"/>
                </a:solidFill>
                <a:latin typeface="Arial Rounded MT Bold"/>
              </a:rPr>
              <a:t>del sistema, que se encargará de realizar exámenes periódicos en busca de 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queremos realizar un examen extra, puedes hacerlo desde el botón “</a:t>
            </a:r>
            <a:r>
              <a:rPr b="0" lang="en-GB" sz="2000" spc="-1" strike="noStrike">
                <a:solidFill>
                  <a:srgbClr val="92d050"/>
                </a:solidFill>
                <a:latin typeface="Arial Rounded MT Bold"/>
              </a:rPr>
              <a:t>Examen rápid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4" name="Imagen 2" descr=""/>
          <p:cNvPicPr/>
          <p:nvPr/>
        </p:nvPicPr>
        <p:blipFill>
          <a:blip r:embed="rId1"/>
          <a:stretch/>
        </p:blipFill>
        <p:spPr>
          <a:xfrm>
            <a:off x="5261040" y="1409760"/>
            <a:ext cx="3654360" cy="43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e módulo serás capaz d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fallos de hardware o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ejorar el rendimiento de los ordenadores</a:t>
            </a:r>
            <a:endParaRPr b="0" lang="en-US" sz="32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 estás conectado a Internet y hay palabras en </a:t>
            </a:r>
            <a:r>
              <a:rPr b="0" lang="en-US" sz="2800" spc="-1" strike="noStrike">
                <a:solidFill>
                  <a:srgbClr val="00b0f0"/>
                </a:solidFill>
                <a:latin typeface="Arial Rounded MT Bold"/>
              </a:rPr>
              <a:t>azul</a:t>
            </a:r>
            <a:r>
              <a:rPr b="0" lang="en-US" sz="2800" spc="-1" strike="noStrike">
                <a:solidFill>
                  <a:srgbClr val="000000"/>
                </a:solidFill>
                <a:latin typeface="Arial Rounded MT Bold"/>
              </a:rPr>
              <a:t>, puedes hacer clic para acceder a información 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6" name=""/>
          <p:cNvSpPr txBox="1"/>
          <p:nvPr/>
        </p:nvSpPr>
        <p:spPr>
          <a:xfrm>
            <a:off x="457200" y="1413000"/>
            <a:ext cx="6059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esfragmentación del disc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 Windows existe una aplicació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que nos sirve para desfragmentar el dis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uro, con ello conseguimos que el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rdenador acceda a los archivos de una manera más rápida y eficaz.</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usca el </a:t>
            </a:r>
            <a:r>
              <a:rPr b="0" lang="en-GB" sz="2000" spc="-1" strike="noStrike">
                <a:solidFill>
                  <a:srgbClr val="92d050"/>
                </a:solidFill>
                <a:latin typeface="Arial Rounded MT Bold"/>
              </a:rPr>
              <a:t>desfragmentador de dis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sde el buscador de Windows, elige el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isco duro y haz clic en “</a:t>
            </a:r>
            <a:r>
              <a:rPr b="0" lang="en-GB" sz="2000" spc="-1" strike="noStrike">
                <a:solidFill>
                  <a:srgbClr val="92d050"/>
                </a:solidFill>
                <a:latin typeface="Arial Rounded MT Bold"/>
              </a:rPr>
              <a:t>optimizar</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7" name="Imagen 1" descr=""/>
          <p:cNvPicPr/>
          <p:nvPr/>
        </p:nvPicPr>
        <p:blipFill>
          <a:blip r:embed="rId1"/>
          <a:stretch/>
        </p:blipFill>
        <p:spPr>
          <a:xfrm>
            <a:off x="6095880" y="2214720"/>
            <a:ext cx="2590920" cy="1047600"/>
          </a:xfrm>
          <a:prstGeom prst="rect">
            <a:avLst/>
          </a:prstGeom>
          <a:ln w="0">
            <a:noFill/>
          </a:ln>
        </p:spPr>
      </p:pic>
      <p:pic>
        <p:nvPicPr>
          <p:cNvPr id="598" name="Imagen 3" descr=""/>
          <p:cNvPicPr/>
          <p:nvPr/>
        </p:nvPicPr>
        <p:blipFill>
          <a:blip r:embed="rId2"/>
          <a:stretch/>
        </p:blipFill>
        <p:spPr>
          <a:xfrm>
            <a:off x="5867280" y="3430440"/>
            <a:ext cx="3248280" cy="23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el paso del tiempo el PC acumula archivos temporales de distintas aplicaciones, esto ocupa espacio y consume recursos de tu sistema operativ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xisten algunos programas que te ayudan en la tarea, como por ejemplo </a:t>
            </a:r>
            <a:r>
              <a:rPr b="0" lang="en-GB" sz="2000" spc="-1" strike="noStrike">
                <a:solidFill>
                  <a:srgbClr val="92d050"/>
                </a:solidFill>
                <a:latin typeface="Arial Rounded MT Bold"/>
              </a:rPr>
              <a:t>Ccleaner.</a:t>
            </a:r>
            <a:endParaRPr b="0" lang="en-US" sz="2000" spc="-1" strike="noStrike">
              <a:solidFill>
                <a:srgbClr val="000000"/>
              </a:solidFill>
              <a:latin typeface="Arial"/>
            </a:endParaRPr>
          </a:p>
        </p:txBody>
      </p:sp>
      <p:pic>
        <p:nvPicPr>
          <p:cNvPr id="601" name="Imagen 4" descr=""/>
          <p:cNvPicPr/>
          <p:nvPr/>
        </p:nvPicPr>
        <p:blipFill>
          <a:blip r:embed="rId1"/>
          <a:stretch/>
        </p:blipFill>
        <p:spPr>
          <a:xfrm>
            <a:off x="3348000" y="401940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3" name=""/>
          <p:cNvSpPr txBox="1"/>
          <p:nvPr/>
        </p:nvSpPr>
        <p:spPr>
          <a:xfrm>
            <a:off x="439560" y="141768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este programa podemos </a:t>
            </a:r>
            <a:r>
              <a:rPr b="0" lang="en-GB" sz="2000" spc="-1" strike="noStrike">
                <a:solidFill>
                  <a:srgbClr val="92d050"/>
                </a:solidFill>
                <a:latin typeface="Arial Rounded MT Bold"/>
              </a:rPr>
              <a:t>limpiar archivos temporales </a:t>
            </a:r>
            <a:r>
              <a:rPr b="0" lang="en-GB" sz="2000" spc="-1" strike="noStrike">
                <a:solidFill>
                  <a:srgbClr val="000000"/>
                </a:solidFill>
                <a:latin typeface="Arial Rounded MT Bold"/>
              </a:rPr>
              <a:t>de internet, además de registros que no se utiliz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sde esta pantalla marcamos todas las opciones de los navegadores y ejecutamos.</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1979640" y="3402000"/>
            <a:ext cx="4968720" cy="261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de hard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e de la limpieza del software, </a:t>
            </a:r>
            <a:r>
              <a:rPr b="0" lang="en-GB" sz="2000" spc="-1" strike="noStrike">
                <a:solidFill>
                  <a:srgbClr val="92d050"/>
                </a:solidFill>
                <a:latin typeface="Arial Rounded MT Bold"/>
              </a:rPr>
              <a:t>la limpieza del hardware también repercute en el funcionamiento óptimo del ordenado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disponemos de una </a:t>
            </a:r>
            <a:r>
              <a:rPr b="0" lang="en-GB" sz="2000" spc="-1" strike="noStrike">
                <a:solidFill>
                  <a:srgbClr val="92d050"/>
                </a:solidFill>
                <a:latin typeface="Arial Rounded MT Bold"/>
              </a:rPr>
              <a:t>torre,</a:t>
            </a:r>
            <a:r>
              <a:rPr b="0" lang="en-GB" sz="2000" spc="-1" strike="noStrike">
                <a:solidFill>
                  <a:srgbClr val="000000"/>
                </a:solidFill>
                <a:latin typeface="Arial Rounded MT Bold"/>
              </a:rPr>
              <a:t> sería conveniente limpiarla por dentro una vez cada mes o dos mes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mejor manera de limpiarla seria mediante un </a:t>
            </a:r>
            <a:r>
              <a:rPr b="0" lang="en-GB" sz="2000" spc="-1" strike="noStrike">
                <a:solidFill>
                  <a:srgbClr val="92d050"/>
                </a:solidFill>
                <a:latin typeface="Arial Rounded MT Bold"/>
              </a:rPr>
              <a:t>aspirador</a:t>
            </a:r>
            <a:r>
              <a:rPr b="0" lang="en-GB" sz="2000" spc="-1" strike="noStrike">
                <a:solidFill>
                  <a:srgbClr val="000000"/>
                </a:solidFill>
                <a:latin typeface="Arial Rounded MT Bold"/>
              </a:rPr>
              <a:t> que limpie sin dañar los componentes del ordenado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En el caso de los portátiles, se deben abrir para limpiarlo</a:t>
            </a:r>
            <a:r>
              <a:rPr b="0" lang="en-GB" sz="2000" spc="-1" strike="noStrike">
                <a:solidFill>
                  <a:srgbClr val="000000"/>
                </a:solidFill>
                <a:latin typeface="Arial Rounded MT Bold"/>
              </a:rPr>
              <a:t>, por lo que es mejor llevarlos a un </a:t>
            </a:r>
            <a:r>
              <a:rPr b="0" lang="en-GB" sz="2000" spc="-1" strike="noStrike">
                <a:solidFill>
                  <a:srgbClr val="92d050"/>
                </a:solidFill>
                <a:latin typeface="Arial Rounded MT Bold"/>
              </a:rPr>
              <a:t>centro especializad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stalación</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último, cada cierto tiempo se recomienda </a:t>
            </a:r>
            <a:r>
              <a:rPr b="0" lang="en-GB" sz="2000" spc="-1" strike="noStrike">
                <a:solidFill>
                  <a:srgbClr val="92d050"/>
                </a:solidFill>
                <a:latin typeface="Arial Rounded MT Bold"/>
              </a:rPr>
              <a:t>reinstalar</a:t>
            </a:r>
            <a:r>
              <a:rPr b="0" lang="en-GB" sz="2000" spc="-1" strike="noStrike">
                <a:solidFill>
                  <a:srgbClr val="000000"/>
                </a:solidFill>
                <a:latin typeface="Arial Rounded MT Bold"/>
              </a:rPr>
              <a:t> todo el sistema desde cer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uando se usa durante un tiempo, el sistema operativo va acumulando archivos temporales, de actualizaciones y controladores, que están obsoletos, o no los necesitamos y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eso una vez al año o cada dos años es conveniente </a:t>
            </a:r>
            <a:r>
              <a:rPr b="0" lang="en-GB" sz="2000" spc="-1" strike="noStrike">
                <a:solidFill>
                  <a:srgbClr val="92d050"/>
                </a:solidFill>
                <a:latin typeface="Arial Rounded MT Bold"/>
              </a:rPr>
              <a:t>formatear y reinstalar </a:t>
            </a:r>
            <a:r>
              <a:rPr b="0" lang="en-GB" sz="2000" spc="-1" strike="noStrike">
                <a:solidFill>
                  <a:srgbClr val="000000"/>
                </a:solidFill>
                <a:latin typeface="Arial Rounded MT Bold"/>
              </a:rPr>
              <a:t>todo el sistema. Pero mejor podríamos llevarlo a un </a:t>
            </a:r>
            <a:r>
              <a:rPr b="0" lang="en-GB" sz="2000" spc="-1" strike="noStrike">
                <a:solidFill>
                  <a:srgbClr val="92d050"/>
                </a:solidFill>
                <a:latin typeface="Arial Rounded MT Bold"/>
              </a:rPr>
              <a:t>centro especializ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primer paso a la hora de solucionar cualquier problema con el ordenador </a:t>
            </a:r>
            <a:r>
              <a:rPr b="0" lang="en-GB" sz="2000" spc="-1" strike="noStrike">
                <a:solidFill>
                  <a:srgbClr val="92d050"/>
                </a:solidFill>
                <a:latin typeface="Arial Rounded MT Bold"/>
              </a:rPr>
              <a:t>es averiguar qué componente </a:t>
            </a:r>
            <a:r>
              <a:rPr b="0" lang="en-GB" sz="2000" spc="-1" strike="noStrike">
                <a:solidFill>
                  <a:srgbClr val="000000"/>
                </a:solidFill>
                <a:latin typeface="Arial Rounded MT Bold"/>
              </a:rPr>
              <a:t>no está funcionando correctamen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veces es sencillo, pues el audio no funciona, la pantalla se ve mal o el teclado o el </a:t>
            </a:r>
            <a:r>
              <a:rPr b="0" lang="es-ES" sz="2000" spc="-1" strike="noStrike">
                <a:solidFill>
                  <a:srgbClr val="000000"/>
                </a:solidFill>
                <a:latin typeface="Arial Rounded MT Bold"/>
              </a:rPr>
              <a:t>ratón</a:t>
            </a:r>
            <a:r>
              <a:rPr b="0" lang="en-GB" sz="2000" spc="-1" strike="noStrike">
                <a:solidFill>
                  <a:srgbClr val="000000"/>
                </a:solidFill>
                <a:latin typeface="Arial Rounded MT Bold"/>
              </a:rPr>
              <a:t> han dejado de respond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otras ocasiones, el ordenador directamente no enciende, se reinicia o apaga de repente y no sabemos qué está pasand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ara </a:t>
            </a:r>
            <a:r>
              <a:rPr b="0" lang="en-GB" sz="2000" spc="-1" strike="noStrike">
                <a:solidFill>
                  <a:srgbClr val="92d050"/>
                </a:solidFill>
                <a:latin typeface="Arial Rounded MT Bold"/>
              </a:rPr>
              <a:t>identificar el problema </a:t>
            </a:r>
            <a:r>
              <a:rPr b="0" lang="en-GB" sz="2000" spc="-1" strike="noStrike">
                <a:solidFill>
                  <a:srgbClr val="000000"/>
                </a:solidFill>
                <a:latin typeface="Arial Rounded MT Bold"/>
              </a:rPr>
              <a:t>debemos estar atentos a las pistas que nos da el orden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primer paso que debemos realizar es comprobar si el fallo es de software o hardware, el método más sencillo es entrar en “</a:t>
            </a:r>
            <a:r>
              <a:rPr b="0" lang="en-GB" sz="2000" spc="-1" strike="noStrike">
                <a:solidFill>
                  <a:srgbClr val="92d050"/>
                </a:solidFill>
                <a:latin typeface="Arial Rounded MT Bold"/>
              </a:rPr>
              <a:t>modo Seguro</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modo Seguro es un modo de arranque del equipo en el cual el Sistema solo arranca con las aplicaciones y controladores necesarios para que funcione el ordenador, dejando desactivado todo aquello que no sea necesar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veremos cómo entrar en el modo a prueba de fa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acemos clic en apagar, y ,mientras pulsamos la tecla “shift”, hacemos clic en “reinicia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hora se reiniciará y mostrará un menú, en el cual seleccionaremos </a:t>
            </a:r>
            <a:r>
              <a:rPr b="0" lang="en-GB" sz="2000" spc="-1" strike="noStrike">
                <a:solidFill>
                  <a:srgbClr val="92d050"/>
                </a:solidFill>
                <a:latin typeface="Arial Rounded MT Bold"/>
              </a:rPr>
              <a:t>“Resolución de problemas-&gt;Opciones avanzadas-&gt;Configuración de inic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771640" y="3740040"/>
            <a:ext cx="3530880" cy="235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39640" y="27432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l modo seguro, intentaremos reproducir el fall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caso de que consigamos reproducirlo, se deberá a un error provocado por el </a:t>
            </a:r>
            <a:r>
              <a:rPr b="0" lang="en-GB" sz="2000" spc="-1" strike="noStrike">
                <a:solidFill>
                  <a:srgbClr val="92d050"/>
                </a:solidFill>
                <a:latin typeface="Arial Rounded MT Bold"/>
              </a:rPr>
              <a:t>hard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contra, si el error no vuelve a aparecer, será porque es un fallo de </a:t>
            </a:r>
            <a:r>
              <a:rPr b="0" lang="en-GB" sz="2000" spc="-1" strike="noStrike">
                <a:solidFill>
                  <a:srgbClr val="92d050"/>
                </a:solidFill>
                <a:latin typeface="Arial Rounded MT Bold"/>
              </a:rPr>
              <a:t>soft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error ocurre antes o después de un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mensaje de error</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te es uno de los casos más sencillos de identificar y corregir, pues se nos muestra una información esencial a la hora de reparar el ordenador.</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uede ser una ventana de error o un error a pantalla completa, en ambos casos debemos </a:t>
            </a:r>
            <a:r>
              <a:rPr b="0" lang="en-GB" sz="2000" spc="-1" strike="noStrike">
                <a:solidFill>
                  <a:srgbClr val="92d050"/>
                </a:solidFill>
                <a:latin typeface="Arial Rounded MT Bold"/>
              </a:rPr>
              <a:t>fijarnos en el código de error y en el propio mensaje que nos ofrece.</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050920" y="274320"/>
            <a:ext cx="684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mensaje de error también puede aparecer antes de que el ordenador arranque por complet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cualquiera de los casos citados debemos </a:t>
            </a:r>
            <a:r>
              <a:rPr b="0" lang="en-GB" sz="2000" spc="-1" strike="noStrike">
                <a:solidFill>
                  <a:srgbClr val="92d050"/>
                </a:solidFill>
                <a:latin typeface="Arial Rounded MT Bold"/>
              </a:rPr>
              <a:t>copiar el código o mensaje de error y buscarlo en internet</a:t>
            </a:r>
            <a:r>
              <a:rPr b="0" lang="en-GB" sz="2000" spc="-1" strike="noStrike">
                <a:solidFill>
                  <a:srgbClr val="000000"/>
                </a:solidFill>
                <a:latin typeface="Arial Rounded MT Bold"/>
              </a:rPr>
              <a:t>, así encontraremos una forma de solucionar el problema.</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14172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050920" y="274320"/>
            <a:ext cx="684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 veces no disponemos de un mensaje de error que nos dé una pista de cuál es el fallo exacto.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or eso ahora veremos un pequeño listado de los </a:t>
            </a:r>
            <a:r>
              <a:rPr b="1" lang="en-GB" sz="1800" spc="-1" strike="noStrike">
                <a:solidFill>
                  <a:srgbClr val="00b0f0"/>
                </a:solidFill>
                <a:latin typeface="Arial Rounded MT Bold"/>
              </a:rPr>
              <a:t>errores más comunes </a:t>
            </a:r>
            <a:r>
              <a:rPr b="0" lang="en-GB" sz="1800" spc="-1" strike="noStrike">
                <a:solidFill>
                  <a:srgbClr val="000000"/>
                </a:solidFill>
                <a:latin typeface="Arial Rounded MT Bold"/>
              </a:rPr>
              <a:t>y sus posibles </a:t>
            </a:r>
            <a:r>
              <a:rPr b="0" lang="es-ES" sz="1800" spc="-1" strike="noStrike">
                <a:solidFill>
                  <a:srgbClr val="000000"/>
                </a:solidFill>
                <a:latin typeface="Arial Rounded MT Bold"/>
              </a:rPr>
              <a:t>soluciones.</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573360"/>
          <a:ext cx="8362800" cy="2163960"/>
        </p:xfrm>
        <a:graphic>
          <a:graphicData uri="http://schemas.openxmlformats.org/drawingml/2006/table">
            <a:tbl>
              <a:tblPr/>
              <a:tblGrid>
                <a:gridCol w="1913040"/>
                <a:gridCol w="644976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se oye nada</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el volumen d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altavoz esté encendido y conectad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tiene auriculares conectados, desconéctelo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conecte y conecte los altavoce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inicie 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nte conectar los altavoces en otro equipo (móvil, pc, etc.) para descartar que el fallo sea el altavoz.</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09:43:21Z</dcterms:modified>
  <cp:revision>472</cp:revision>
  <dc:subject/>
  <dc:title>Title</dc:title>
</cp:coreProperties>
</file>