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1642B-8F08-4317-8D02-C8FB02824D2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371600" y="1143000"/>
            <a:ext cx="4114800" cy="3086280"/>
          </a:xfrm>
          <a:prstGeom prst="rect">
            <a:avLst/>
          </a:prstGeom>
          <a:ln w="0">
            <a:noFill/>
          </a:ln>
        </p:spPr>
      </p:sp>
      <p:sp>
        <p:nvSpPr>
          <p:cNvPr id="5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9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12C1-4BF9-44DE-883F-77177D32D0B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04F6835-1B73-4079-8FEA-73BDFF78E02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06AA84F-3447-49FD-8EB1-637B847DDCF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3DA1F03-924E-41A3-87D2-D3A7C09113C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997830B-5079-43E1-87E2-4C15C5527BD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B44889-B4A0-41EE-B22F-C58506EB9F5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F487CED-11FC-4035-85E8-2A584BADCC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7E5A096-CEB6-488E-8AAC-3F14B6FE820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6E4A349-7EE6-4B78-8DCD-78C9B97127F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D824DE7-57D9-4531-AD4B-D73A6DCCCA1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5BF44C9-BEEB-4834-8493-3E63C46C7E6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1411F8E-A083-45A9-99ED-B9953EA04A8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F4C0C21-F2AF-42D2-9EB4-1372F8935EC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AB7E2B4-5C3F-49A1-97AD-A307B984949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0F93253-9983-4B2B-9FD8-8987E79D053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0FB51FF-1C87-4830-92B7-E5A08D34CA7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BF02463-B31E-46CA-B1E7-61F0DCC2478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65364DE-38DB-4692-9F47-7AD85F54891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DAD22A9-199E-4B72-9339-40820A4B823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B9EEB75-FB63-4C64-8C95-AC59622A74D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8B4FF71-C5A8-46AA-9339-A25960DC09C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75AF1BC-25AE-45C9-9177-426C7AB78858}"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A340787-2214-4684-A4D7-B71A4110CC8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B2F9F1E-C2D5-45F1-8654-F67CB28F635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501D736-27FF-4AE0-91BA-021CEDEC23D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58F9BA4-B229-449E-AB30-FE0A2F6DF42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6903372-A51D-4884-B506-85F7350800C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0389BDD-7085-46FF-BF02-E27790A2BBF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E71DBD0-E138-4C52-A087-D66CE023A82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0E9D000-F8D2-40BA-84DF-1A6C9A3D6A4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CDE86FC-1B90-4988-9DF0-48AF0FCEBA7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0807841-13D9-4178-A6F0-930311A0906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5DE64C9-B989-4460-B6DE-89825BD75D5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38A98AC-525F-4C98-902B-1513CB5FA5D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7BD7BC9-CC16-474D-B3A5-A1D97342F0F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B9DEB33-1567-438F-9A59-B02651E5B58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2D4FF3A-CFD5-42B3-A31A-DB945751AEC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94517D8-589A-4D8B-AB04-13BCDBA0B87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A8B0FEE-E9EE-4F35-B181-E4C9E9D72FF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F05B038-CD10-4738-BB31-967A3706B97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D86FD3C-64DD-40EB-B52A-05687ABC75C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027DC32-9FAC-42C4-9BCB-4321EDB96BF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B0458A0-8A68-4CCF-B3FC-13C939E00BD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0F3D144-29C7-427D-8B2A-6058185528B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EDA576A-0EC9-4524-A1D2-B646E82A2166}"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3435642-E15B-4DFA-96C2-AFE80EBDEE95}"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9C4930-2A48-4567-9001-7A6D215427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FE8AF5-B60D-434A-B863-065059797E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54C28C-1F6F-4A30-8A6E-0CB7AB72B1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9DAC69-0B5E-47DB-AF42-1790B3476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DE0D2B-E4CA-4541-8558-72B6ED4BB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4429DA-7D19-458E-A21F-F9ED8AE0F1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EE050F-4706-41E2-8946-888C36E37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99CAF3-0873-4E87-A151-3B3EEAEE7C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2AC2CC-1690-41A4-8315-82E58E63A0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6DBEBB-0055-480D-B645-06068A511F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33DB23-5A5B-4EA4-AE74-C70E0C8A80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58E8EB-7381-479F-AFBC-CCB10515E8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F349ACA-CB29-4F7E-BCB9-046C76CD1B3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9A433A-E3FB-4F76-9015-C58E5182DF8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D3CF7E3-1103-46EB-B4D3-E8B1465AB65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3F5C823-AAA1-4526-92F6-B68BE6B61DB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742134-A020-4081-8018-D30DB99E4AF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82CEFE8-1F79-427B-9F59-226813F6A9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4181323-C8B3-4A9E-B844-CBFC8E3FC0B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10B1FC1-E944-4AA5-BE08-25743C5C4B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6357FF-A4F3-4788-978C-059F605CE1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43C07EC-8E48-47AF-B51D-CBB6B2598BA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51694B0-4D6E-4998-B27A-F8680EE6E1C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057657-E6EF-46B3-B2DB-366CA2295CA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02EB5E5-B621-4A44-AC87-5288A1120B6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4A9C356-DF1D-4339-8387-11DD607DDB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B19FE4-5F45-4DA0-A5C2-F26F0FC7FA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559CD8A-AD23-4B44-8B35-DEB51EA444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F1F530-B355-40E2-B00F-25C3B197A6B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C6676A-D7F6-4D14-88FA-07EF041725B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1F0D47-F534-45CB-A90E-B6CFC8847D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1D2C8C7-6C8F-4BCC-B83E-10DA6491281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D697DA-8411-4451-8DD6-36F00BEAAD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2AD4736-7C1A-4575-AF91-F46BAD15CF4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41A35A1-E094-4046-BFA2-2B1478AC4D8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F7E4E48-91AC-4415-84A8-E28719D9BD8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8A15963-509A-4919-B9B1-C3F46846DAB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00CD1A4-F133-478D-93D2-7541DAF2591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49384D7-B47E-4207-BBD4-C62A49D089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26486AD-9980-4482-B6E0-36CD9C28991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8559A7-49AD-45D8-A33E-4EA67D223D9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F8BC5A1-C9AA-4AC6-880E-7A0A55C4E7F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3E41E62-0F20-4BC1-9F98-1D9A63D6CD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E26083-F3A0-44C0-966D-2CF523FE73F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1A57795-0154-4B83-9011-16D06DFDE5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189E53D-C525-43C5-AC60-994D30A960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6EFDF9A-5CFF-46B1-B63E-7473E715B76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2354C63-0E72-4B74-B71A-89583E34C69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E0CD50E-7DA0-430C-8C83-BF8A301DB7CA}"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E438634-BFD7-4790-9809-EFD9DB249C9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DBC1DE7-3956-4EBC-A815-1FAFC04902D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BD43BC9-C4A1-41EC-9458-09540C5E816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E092146-BD47-4773-A564-BC5B0148B56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D415377-A071-44E3-A197-AAD4D851915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7BC29D2-3683-48A7-AF62-38D699A096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ED11E20-A831-415E-978E-61C88755E3D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CE17AE6-33D3-466A-A74D-4C84D281D02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FC47798-C62D-49AF-B4B2-987168D706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C4545475-7FB6-457B-BF82-A487E1D591D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82DA412-CCD7-46A3-BBB9-C46765041B8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7FED204-00E1-4630-8E84-161816729FB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E9AA11F-D601-4633-8969-F65C62710B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B7C2D73-1D13-49D7-B3E1-0CD6796C39A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58E6F75-0316-42ED-8589-FF16DB1A5CF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522BAAD-0212-414A-B246-BDE3EA271EA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017E02D-88AE-4EF2-AC2D-6DC024172AA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F247686-709F-45BB-8C26-E29F1CD47DA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4970918-D5D9-4AEF-9B97-1398D27C095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F81151-0EA5-488D-A79C-7C499091012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4107F1B-8820-41C9-AC9F-1A86CCD10E4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5435586-2700-4D81-B6CD-EE5FB6E7B15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CA2B283-97D3-40D6-BEA0-3A362D3589C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A5F6F5E-CC7D-45D5-A0C0-BD9E030E986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8B29721-C78E-49D7-B824-47567924D0B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683ECED-CCE2-4B9A-9F00-E7CF59EABE2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E748-268D-48DB-BF07-5005965F04D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B6FEB-4891-4AA1-AD99-E14FF220E5C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8138-26FA-4B28-A113-A03BCF5386E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1A134-FBAF-4DCA-9271-A8D1E1D10EA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0B62-4AA3-4F8F-84A4-5162042322C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665FC-63C8-4077-9470-2B6464BB0B8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CD38-4979-40DE-8A3C-70D8498844E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9764-356A-49F4-91AF-90A3EF80B24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C866D-8631-4ED9-81BD-BC86A06F11A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E9E6-1B7A-4E1A-8465-7D42D020B3F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youtube.com/watch?v=WYhsuupYBZw25"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Conocimientos básicos de informática</a:t>
            </a:r>
            <a:endParaRPr b="0" lang="en-US" sz="3600" spc="-1" strike="noStrike">
              <a:solidFill>
                <a:srgbClr val="000000"/>
              </a:solidFill>
              <a:latin typeface="Arial"/>
            </a:endParaRPr>
          </a:p>
        </p:txBody>
      </p:sp>
      <p:sp>
        <p:nvSpPr>
          <p:cNvPr id="544" name="Rectángulo 1"/>
          <p:cNvSpPr/>
          <p:nvPr/>
        </p:nvSpPr>
        <p:spPr>
          <a:xfrm>
            <a:off x="324000" y="3244680"/>
            <a:ext cx="8645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Alfabetización de la información y los dat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Arial Rounded MT Bold"/>
              </a:rPr>
              <a:t>EL RATÓN</a:t>
            </a:r>
            <a:endParaRPr b="0" lang="en-US" sz="3400" spc="-1" strike="noStrike">
              <a:solidFill>
                <a:srgbClr val="000000"/>
              </a:solidFill>
              <a:latin typeface="Arial"/>
            </a:endParaRPr>
          </a:p>
        </p:txBody>
      </p:sp>
      <p:sp>
        <p:nvSpPr>
          <p:cNvPr id="574" name=""/>
          <p:cNvSpPr txBox="1"/>
          <p:nvPr/>
        </p:nvSpPr>
        <p:spPr>
          <a:xfrm>
            <a:off x="457200" y="1600200"/>
            <a:ext cx="83628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            </a:t>
            </a:r>
            <a:r>
              <a:rPr b="0" lang="es-ES" sz="3200" spc="-1" strike="noStrike">
                <a:solidFill>
                  <a:srgbClr val="000000"/>
                </a:solidFill>
                <a:latin typeface="Arial Rounded MT Bold"/>
              </a:rPr>
              <a:t>Ahora mira el video de 25 minutos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Técnicas del Ratón -  Tutoriales Básicos de informática personal</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9999"/>
                </a:solidFill>
                <a:uFillTx/>
                <a:latin typeface="Arial Rounded MT Bold"/>
                <a:hlinkClick r:id="rId1"/>
              </a:rPr>
              <a:t>https://www.youtube.com/watch?v=WYhsuupYBZ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Qué es el Hardware</a:t>
            </a:r>
            <a:endParaRPr b="0" lang="en-US" sz="4400" spc="-1" strike="noStrike">
              <a:solidFill>
                <a:srgbClr val="000000"/>
              </a:solidFill>
              <a:latin typeface="Arial"/>
            </a:endParaRPr>
          </a:p>
        </p:txBody>
      </p:sp>
      <p:sp>
        <p:nvSpPr>
          <p:cNvPr id="576" name=""/>
          <p:cNvSpPr txBox="1"/>
          <p:nvPr/>
        </p:nvSpPr>
        <p:spPr>
          <a:xfrm>
            <a:off x="485280" y="1628640"/>
            <a:ext cx="8202600" cy="4842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s partes físicas de un ordenador se conocen comúnmente como hardware.  Los siguientes son conocidos como hardwar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     </a:t>
            </a:r>
            <a:r>
              <a:rPr b="0" lang="es-ES" sz="2400" spc="-1" strike="noStrike">
                <a:solidFill>
                  <a:srgbClr val="000000"/>
                </a:solidFill>
                <a:latin typeface="Arial Rounded MT Bold"/>
              </a:rPr>
              <a:t>	</a:t>
            </a:r>
            <a:r>
              <a:rPr b="0" lang="es-ES" sz="2400" spc="-1" strike="noStrike">
                <a:solidFill>
                  <a:srgbClr val="000000"/>
                </a:solidFill>
                <a:latin typeface="Arial Rounded MT Bold"/>
              </a:rPr>
              <a:t> </a:t>
            </a:r>
            <a:r>
              <a:rPr b="0" lang="es-ES" sz="2400" spc="-1" strike="noStrike">
                <a:solidFill>
                  <a:srgbClr val="000000"/>
                </a:solidFill>
                <a:latin typeface="Arial Rounded MT Bold"/>
              </a:rPr>
              <a:t>Monitor                                  Teclado y Ratón</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7" name="Picture 2" descr="computer hp"/>
          <p:cNvPicPr/>
          <p:nvPr/>
        </p:nvPicPr>
        <p:blipFill>
          <a:blip r:embed="rId1"/>
          <a:srcRect l="30432" t="0" r="13590" b="20464"/>
          <a:stretch/>
        </p:blipFill>
        <p:spPr>
          <a:xfrm>
            <a:off x="1001880" y="3419640"/>
            <a:ext cx="2057400" cy="2117520"/>
          </a:xfrm>
          <a:prstGeom prst="rect">
            <a:avLst/>
          </a:prstGeom>
          <a:ln w="0">
            <a:noFill/>
          </a:ln>
        </p:spPr>
      </p:pic>
      <p:pic>
        <p:nvPicPr>
          <p:cNvPr id="578" name="Picture 3" descr="keyboard and mouse"/>
          <p:cNvPicPr/>
          <p:nvPr/>
        </p:nvPicPr>
        <p:blipFill>
          <a:blip r:embed="rId2"/>
          <a:srcRect l="0" t="0" r="0" b="3604"/>
          <a:stretch/>
        </p:blipFill>
        <p:spPr>
          <a:xfrm>
            <a:off x="4643280" y="3573360"/>
            <a:ext cx="3910320" cy="196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410920" y="333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Qué es el Software </a:t>
            </a:r>
            <a:endParaRPr b="0" lang="en-US" sz="4400" spc="-1" strike="noStrike">
              <a:solidFill>
                <a:srgbClr val="000000"/>
              </a:solidFill>
              <a:latin typeface="Arial"/>
            </a:endParaRPr>
          </a:p>
        </p:txBody>
      </p:sp>
      <p:sp>
        <p:nvSpPr>
          <p:cNvPr id="580" name=""/>
          <p:cNvSpPr txBox="1"/>
          <p:nvPr/>
        </p:nvSpPr>
        <p:spPr>
          <a:xfrm>
            <a:off x="457200" y="1492200"/>
            <a:ext cx="8229600" cy="4525920"/>
          </a:xfrm>
          <a:prstGeom prst="rect">
            <a:avLst/>
          </a:prstGeom>
          <a:noFill/>
          <a:ln w="0">
            <a:noFill/>
          </a:ln>
        </p:spPr>
        <p:txBody>
          <a:bodyPr anchor="t">
            <a:normAutofit fontScale="99000"/>
          </a:bodyPr>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Software es el nombre que se da a los programas utilizados por un ordenador, por ejemplo, si pones un juego en tu ordenador, el juego se considera software.</a:t>
            </a:r>
            <a:endParaRPr b="0" lang="en-US" sz="2800" spc="-1" strike="noStrike">
              <a:solidFill>
                <a:srgbClr val="000000"/>
              </a:solidFill>
              <a:latin typeface="Arial"/>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Si compraras un ordenador sin ningún software cargado, no podrías usarlo para muchos más que como un tope para una puerta. La utilidad de tu ordenador aumenta a medida que le añades más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ubTitle"/>
          </p:nvPr>
        </p:nvSpPr>
        <p:spPr>
          <a:xfrm>
            <a:off x="314280" y="1268280"/>
            <a:ext cx="8515440" cy="489744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e momento consideraremos 2 tipos de software, software de aplicación y sistema operativo:</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0000"/>
                </a:solidFill>
                <a:uFillTx/>
                <a:latin typeface="Arial Rounded MT Bold"/>
              </a:rPr>
              <a:t>Software de aplicación</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oftware de aplicación es el software que permite al usuario realizar un trabajo real específico como escribir cartas, crear hojas de cálculo, bases de datos etc.</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jemplos de software de aplicación son Microsoft Word (utilizado para escribir cartas), Microsoft Excel (utilizado para crear hojas de cálculo) e Internet Explorer (utilizado para navegar por la red).</a:t>
            </a:r>
            <a:endParaRPr b="0" lang="en-US" sz="2400" spc="-1" strike="noStrike">
              <a:solidFill>
                <a:srgbClr val="000000"/>
              </a:solidFill>
              <a:latin typeface="Arial"/>
            </a:endParaRPr>
          </a:p>
        </p:txBody>
      </p:sp>
      <p:sp>
        <p:nvSpPr>
          <p:cNvPr id="582" name="Szövegdoboz 1"/>
          <p:cNvSpPr/>
          <p:nvPr/>
        </p:nvSpPr>
        <p:spPr>
          <a:xfrm>
            <a:off x="2627280" y="368280"/>
            <a:ext cx="61912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Tipos de Software</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ubTitle"/>
          </p:nvPr>
        </p:nvSpPr>
        <p:spPr>
          <a:xfrm>
            <a:off x="395280" y="1773000"/>
            <a:ext cx="8353440" cy="53290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Arial Rounded MT Bold"/>
              </a:rPr>
              <a:t>Sistema operativo</a:t>
            </a:r>
            <a:r>
              <a:rPr b="0" lang="es-ES" sz="2800" spc="-1" strike="noStrike">
                <a:solidFill>
                  <a:srgbClr val="000000"/>
                </a:solidFill>
                <a:latin typeface="Arial Rounded MT Bol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La mayoría del software de aplicación no puede comunicarse directamente con el hardware, necesita un intermediario para traducir y comunicar entre los dos elementos.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te intermediario es conocido como el sistema operativo, se coloca por encima del hardware y facilita la comunicación con el software de aplicaciones.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Szövegdoboz 1"/>
          <p:cNvSpPr/>
          <p:nvPr/>
        </p:nvSpPr>
        <p:spPr>
          <a:xfrm>
            <a:off x="2700360" y="333360"/>
            <a:ext cx="58323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T</a:t>
            </a:r>
            <a:r>
              <a:rPr b="0" lang="es-ES" sz="3800" spc="-1" strike="noStrike">
                <a:solidFill>
                  <a:srgbClr val="000000"/>
                </a:solidFill>
                <a:latin typeface="Arial Rounded MT Bold"/>
              </a:rPr>
              <a:t>ipos de software</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19"/>
          <p:cNvSpPr/>
          <p:nvPr/>
        </p:nvSpPr>
        <p:spPr>
          <a:xfrm>
            <a:off x="2195640" y="545004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Hardware (El Ordenador) </a:t>
            </a:r>
            <a:endParaRPr b="0" lang="en-US" sz="1600" spc="-1" strike="noStrike">
              <a:solidFill>
                <a:srgbClr val="000000"/>
              </a:solidFill>
              <a:latin typeface="Arial"/>
            </a:endParaRPr>
          </a:p>
        </p:txBody>
      </p:sp>
      <p:sp>
        <p:nvSpPr>
          <p:cNvPr id="586" name="Text Box 18"/>
          <p:cNvSpPr/>
          <p:nvPr/>
        </p:nvSpPr>
        <p:spPr>
          <a:xfrm>
            <a:off x="2195640" y="438300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Sistema Operativo (Windows)</a:t>
            </a:r>
            <a:endParaRPr b="0" lang="en-US" sz="1600" spc="-1" strike="noStrike">
              <a:solidFill>
                <a:srgbClr val="000000"/>
              </a:solidFill>
              <a:latin typeface="Arial"/>
            </a:endParaRPr>
          </a:p>
        </p:txBody>
      </p:sp>
      <p:sp>
        <p:nvSpPr>
          <p:cNvPr id="587" name="Text Box 17"/>
          <p:cNvSpPr/>
          <p:nvPr/>
        </p:nvSpPr>
        <p:spPr>
          <a:xfrm>
            <a:off x="2195640" y="333072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Softare de Aplicación (Word, Excel etc)</a:t>
            </a:r>
            <a:endParaRPr b="0" lang="en-US" sz="1600" spc="-1" strike="noStrike">
              <a:solidFill>
                <a:srgbClr val="000000"/>
              </a:solidFill>
              <a:latin typeface="Arial"/>
            </a:endParaRPr>
          </a:p>
        </p:txBody>
      </p:sp>
      <p:sp>
        <p:nvSpPr>
          <p:cNvPr id="588" name="Line 16"/>
          <p:cNvSpPr/>
          <p:nvPr/>
        </p:nvSpPr>
        <p:spPr>
          <a:xfrm>
            <a:off x="399420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Line 15"/>
          <p:cNvSpPr/>
          <p:nvPr/>
        </p:nvSpPr>
        <p:spPr>
          <a:xfrm>
            <a:off x="3994200" y="381168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Line 14"/>
          <p:cNvSpPr/>
          <p:nvPr/>
        </p:nvSpPr>
        <p:spPr>
          <a:xfrm flipV="1">
            <a:off x="476244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Line 13"/>
          <p:cNvSpPr/>
          <p:nvPr/>
        </p:nvSpPr>
        <p:spPr>
          <a:xfrm flipV="1">
            <a:off x="4762440" y="381132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Rectangle 20"/>
          <p:cNvSpPr/>
          <p:nvPr/>
        </p:nvSpPr>
        <p:spPr>
          <a:xfrm>
            <a:off x="900000" y="425880"/>
            <a:ext cx="6840720" cy="4604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Este intermediario es conocido como el sistema operativo, se coloca por encima del hardware y facilita la comunicación con el software de aplicaciones.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4"/>
          <p:cNvSpPr/>
          <p:nvPr/>
        </p:nvSpPr>
        <p:spPr>
          <a:xfrm>
            <a:off x="1852560" y="25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Szövegdoboz 1"/>
          <p:cNvSpPr/>
          <p:nvPr/>
        </p:nvSpPr>
        <p:spPr>
          <a:xfrm>
            <a:off x="2627280" y="4856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Sistema Operativ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Rounded MT Bold"/>
              </a:rPr>
              <a:t>Conclusiones</a:t>
            </a:r>
            <a:endParaRPr b="0" lang="en-US" sz="4400" spc="-1" strike="noStrike">
              <a:solidFill>
                <a:srgbClr val="000000"/>
              </a:solidFill>
              <a:latin typeface="Arial"/>
            </a:endParaRPr>
          </a:p>
        </p:txBody>
      </p:sp>
      <p:sp>
        <p:nvSpPr>
          <p:cNvPr id="596" name=""/>
          <p:cNvSpPr txBox="1"/>
          <p:nvPr/>
        </p:nvSpPr>
        <p:spPr>
          <a:xfrm>
            <a:off x="457200" y="1600200"/>
            <a:ext cx="8229600" cy="4525920"/>
          </a:xfrm>
          <a:prstGeom prst="rect">
            <a:avLst/>
          </a:prstGeom>
          <a:noFill/>
          <a:ln w="0">
            <a:noFill/>
          </a:ln>
        </p:spPr>
        <p:txBody>
          <a:bodyPr anchor="t">
            <a:normAutofit/>
          </a:bodyPr>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En esta unidad hemos aprendido:</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Cómo encender y apagar tu ordenador</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Qué significa hardware y softwar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Cómo usar el ratón con confianza</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Cómo usar el teclado con confianza</a:t>
            </a:r>
            <a:endParaRPr b="0" lang="en-US" sz="3000" spc="-1" strike="noStrike">
              <a:solidFill>
                <a:srgbClr val="000000"/>
              </a:solidFill>
              <a:latin typeface="Arial"/>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46"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En esta unidad, los participantes podrán:</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prender cómo encender y apagar tu ordenador</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prender el significado de hardware y softwar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sar un ratón confianza</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  </a:t>
            </a:r>
            <a:r>
              <a:rPr b="0" lang="es-ES" sz="3200" spc="-1" strike="noStrike">
                <a:solidFill>
                  <a:srgbClr val="000000"/>
                </a:solidFill>
                <a:latin typeface="Arial Rounded MT Bold"/>
              </a:rPr>
              <a:t>Usar un teclado con confianza</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Qué necesito para esta unidad?</a:t>
            </a:r>
            <a:endParaRPr b="0" lang="en-US" sz="3600" spc="-1" strike="noStrike">
              <a:solidFill>
                <a:srgbClr val="000000"/>
              </a:solidFill>
              <a:latin typeface="Arial"/>
            </a:endParaRPr>
          </a:p>
        </p:txBody>
      </p:sp>
      <p:sp>
        <p:nvSpPr>
          <p:cNvPr id="548" name=""/>
          <p:cNvSpPr txBox="1"/>
          <p:nvPr/>
        </p:nvSpPr>
        <p:spPr>
          <a:xfrm>
            <a:off x="250920" y="1423800"/>
            <a:ext cx="8277120" cy="45860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Un ordenador, un portátil, una tablet o un smartphone</a:t>
            </a:r>
            <a:endParaRPr b="0" lang="en-US" sz="2800" spc="-1" strike="noStrike">
              <a:solidFill>
                <a:srgbClr val="000000"/>
              </a:solidFill>
              <a:latin typeface="Arial"/>
            </a:endParaRPr>
          </a:p>
        </p:txBody>
      </p:sp>
      <p:pic>
        <p:nvPicPr>
          <p:cNvPr id="549" name="Picture 5" descr="laptop"/>
          <p:cNvPicPr/>
          <p:nvPr/>
        </p:nvPicPr>
        <p:blipFill>
          <a:blip r:embed="rId1"/>
          <a:srcRect l="27127" t="0" r="20797" b="0"/>
          <a:stretch/>
        </p:blipFill>
        <p:spPr>
          <a:xfrm>
            <a:off x="826920" y="4216320"/>
            <a:ext cx="3127680" cy="1689120"/>
          </a:xfrm>
          <a:prstGeom prst="rect">
            <a:avLst/>
          </a:prstGeom>
          <a:ln w="0">
            <a:noFill/>
          </a:ln>
        </p:spPr>
      </p:pic>
      <p:pic>
        <p:nvPicPr>
          <p:cNvPr id="550" name="Picture 6" descr="computer"/>
          <p:cNvPicPr/>
          <p:nvPr/>
        </p:nvPicPr>
        <p:blipFill>
          <a:blip r:embed="rId2"/>
          <a:stretch/>
        </p:blipFill>
        <p:spPr>
          <a:xfrm>
            <a:off x="988920" y="2133720"/>
            <a:ext cx="3137040" cy="1976400"/>
          </a:xfrm>
          <a:prstGeom prst="rect">
            <a:avLst/>
          </a:prstGeom>
          <a:ln w="0">
            <a:noFill/>
          </a:ln>
        </p:spPr>
      </p:pic>
      <p:pic>
        <p:nvPicPr>
          <p:cNvPr id="551" name="Picture 7" descr="ipad"/>
          <p:cNvPicPr/>
          <p:nvPr/>
        </p:nvPicPr>
        <p:blipFill>
          <a:blip r:embed="rId3"/>
          <a:stretch/>
        </p:blipFill>
        <p:spPr>
          <a:xfrm>
            <a:off x="5018040" y="2136600"/>
            <a:ext cx="2013120" cy="2306880"/>
          </a:xfrm>
          <a:prstGeom prst="rect">
            <a:avLst/>
          </a:prstGeom>
          <a:ln w="0">
            <a:noFill/>
          </a:ln>
        </p:spPr>
      </p:pic>
      <p:pic>
        <p:nvPicPr>
          <p:cNvPr id="552" name="Picture 8" descr="smartphone"/>
          <p:cNvPicPr/>
          <p:nvPr/>
        </p:nvPicPr>
        <p:blipFill>
          <a:blip r:embed="rId4"/>
          <a:stretch/>
        </p:blipFill>
        <p:spPr>
          <a:xfrm>
            <a:off x="7008840" y="3495600"/>
            <a:ext cx="1814400" cy="209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411280" y="11556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Introducción al escritorio</a:t>
            </a:r>
            <a:endParaRPr b="0" lang="en-US" sz="3200" spc="-1" strike="noStrike">
              <a:solidFill>
                <a:srgbClr val="000000"/>
              </a:solidFill>
              <a:latin typeface="Arial"/>
            </a:endParaRPr>
          </a:p>
        </p:txBody>
      </p:sp>
      <p:sp>
        <p:nvSpPr>
          <p:cNvPr id="554" name=""/>
          <p:cNvSpPr txBox="1"/>
          <p:nvPr/>
        </p:nvSpPr>
        <p:spPr>
          <a:xfrm>
            <a:off x="324000" y="1052640"/>
            <a:ext cx="8496000" cy="496872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escritorio es la primera pantalla que verás cuando enciendas el ordenador</a:t>
            </a:r>
            <a:endParaRPr b="0" lang="en-US" sz="2400" spc="-1" strike="noStrike">
              <a:solidFill>
                <a:srgbClr val="000000"/>
              </a:solidFill>
              <a:latin typeface="Arial"/>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botón Inicio está en la parte inferior izquierda de la pantalla (y te da acceso a todo dentro de tu ordenador), se encuentra en la barra de tareas.</a:t>
            </a:r>
            <a:endParaRPr b="0" lang="en-US" sz="2400" spc="-1" strike="noStrike">
              <a:solidFill>
                <a:srgbClr val="000000"/>
              </a:solidFill>
              <a:latin typeface="Arial"/>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Barra de tareas es el nombre de la barra gris en la parte de abajo de la pantalla. Verás algunos otros iconos en la barra de tareas</a:t>
            </a:r>
            <a:endParaRPr b="0" lang="en-US" sz="2400" spc="-1" strike="noStrike">
              <a:solidFill>
                <a:srgbClr val="000000"/>
              </a:solidFill>
              <a:latin typeface="Arial"/>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Iconos – Las pequeñas imágenes en el escritorio se llaman iconos. Los iconos son accesos directos a los programas. Para abrir un icono, simplemente haz doble clic en el icono (usando el botón izquierdo del ratón) para acceder (abrir) un programa.</a:t>
            </a:r>
            <a:endParaRPr b="0" lang="en-US" sz="2400" spc="-1" strike="noStrike">
              <a:solidFill>
                <a:srgbClr val="000000"/>
              </a:solidFill>
              <a:latin typeface="Arial"/>
            </a:endParaRPr>
          </a:p>
          <a:p>
            <a:pPr marL="305280" indent="-305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050920" y="549000"/>
            <a:ext cx="685800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Encender/Apagar tu ordenador</a:t>
            </a:r>
            <a:endParaRPr b="0" lang="en-US" sz="3600" spc="-1" strike="noStrike">
              <a:solidFill>
                <a:srgbClr val="000000"/>
              </a:solidFill>
              <a:latin typeface="Arial"/>
            </a:endParaRPr>
          </a:p>
        </p:txBody>
      </p:sp>
      <p:sp>
        <p:nvSpPr>
          <p:cNvPr id="556" name="PlaceHolder 2"/>
          <p:cNvSpPr>
            <a:spLocks noGrp="1"/>
          </p:cNvSpPr>
          <p:nvPr>
            <p:ph type="subTitle"/>
          </p:nvPr>
        </p:nvSpPr>
        <p:spPr>
          <a:xfrm>
            <a:off x="755640" y="1919160"/>
            <a:ext cx="7632720" cy="3525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ira este breve vídeo</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Cómo encender/apagar tu ordenador</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50"/>
                </a:solidFill>
                <a:latin typeface="Arial"/>
              </a:rPr>
              <a:t>https://www.youtube.com/watch?v=gMwQ3-WEl6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195640" y="196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Rounded MT Bold"/>
              </a:rPr>
              <a:t>ICONOS</a:t>
            </a:r>
            <a:endParaRPr b="0" lang="en-US" sz="4000" spc="-1" strike="noStrike">
              <a:solidFill>
                <a:srgbClr val="000000"/>
              </a:solidFill>
              <a:latin typeface="Arial"/>
            </a:endParaRPr>
          </a:p>
        </p:txBody>
      </p:sp>
      <p:sp>
        <p:nvSpPr>
          <p:cNvPr id="558" name=""/>
          <p:cNvSpPr txBox="1"/>
          <p:nvPr/>
        </p:nvSpPr>
        <p:spPr>
          <a:xfrm>
            <a:off x="457200" y="2014200"/>
            <a:ext cx="8229600" cy="455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cono Microsoft Word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cono Emai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cono Internet                                      </a:t>
            </a:r>
            <a:endParaRPr b="0" lang="en-US" sz="3200" spc="-1" strike="noStrike">
              <a:solidFill>
                <a:srgbClr val="000000"/>
              </a:solidFill>
              <a:latin typeface="Arial"/>
            </a:endParaRPr>
          </a:p>
        </p:txBody>
      </p:sp>
      <p:pic>
        <p:nvPicPr>
          <p:cNvPr id="559" name="Picture 4" descr=""/>
          <p:cNvPicPr/>
          <p:nvPr/>
        </p:nvPicPr>
        <p:blipFill>
          <a:blip r:embed="rId1"/>
          <a:stretch/>
        </p:blipFill>
        <p:spPr>
          <a:xfrm>
            <a:off x="5784840" y="1876320"/>
            <a:ext cx="1260360" cy="924120"/>
          </a:xfrm>
          <a:prstGeom prst="rect">
            <a:avLst/>
          </a:prstGeom>
          <a:ln w="0">
            <a:noFill/>
          </a:ln>
        </p:spPr>
      </p:pic>
      <p:pic>
        <p:nvPicPr>
          <p:cNvPr id="560" name="Picture 5" descr=""/>
          <p:cNvPicPr/>
          <p:nvPr/>
        </p:nvPicPr>
        <p:blipFill>
          <a:blip r:embed="rId2"/>
          <a:stretch/>
        </p:blipFill>
        <p:spPr>
          <a:xfrm>
            <a:off x="5797440" y="3027240"/>
            <a:ext cx="1441440" cy="1095480"/>
          </a:xfrm>
          <a:prstGeom prst="rect">
            <a:avLst/>
          </a:prstGeom>
          <a:ln w="0">
            <a:noFill/>
          </a:ln>
        </p:spPr>
      </p:pic>
      <p:pic>
        <p:nvPicPr>
          <p:cNvPr id="561" name="Picture 6" descr=""/>
          <p:cNvPicPr/>
          <p:nvPr/>
        </p:nvPicPr>
        <p:blipFill>
          <a:blip r:embed="rId3"/>
          <a:srcRect l="12638" t="24864" r="12307" b="0"/>
          <a:stretch/>
        </p:blipFill>
        <p:spPr>
          <a:xfrm>
            <a:off x="5784840" y="4325760"/>
            <a:ext cx="1425600" cy="12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Teclado</a:t>
            </a:r>
            <a:endParaRPr b="0" lang="en-US" sz="3800" spc="-1" strike="noStrike">
              <a:solidFill>
                <a:srgbClr val="000000"/>
              </a:solidFill>
              <a:latin typeface="Arial"/>
            </a:endParaRPr>
          </a:p>
        </p:txBody>
      </p:sp>
      <p:sp>
        <p:nvSpPr>
          <p:cNvPr id="563" name=""/>
          <p:cNvSpPr txBox="1"/>
          <p:nvPr/>
        </p:nvSpPr>
        <p:spPr>
          <a:xfrm>
            <a:off x="431640" y="1117080"/>
            <a:ext cx="8229600" cy="5008680"/>
          </a:xfrm>
          <a:prstGeom prst="rect">
            <a:avLst/>
          </a:prstGeom>
          <a:noFill/>
          <a:ln w="0">
            <a:noFill/>
          </a:ln>
        </p:spPr>
        <p:txBody>
          <a:bodyPr anchor="t">
            <a:normAutofit fontScale="99000"/>
          </a:bodyPr>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Rounded MT Bold"/>
              </a:rPr>
              <a:t>La barra espaciadora</a:t>
            </a:r>
            <a:r>
              <a:rPr b="0" lang="es-ES" sz="1600" spc="-1" strike="noStrike">
                <a:solidFill>
                  <a:srgbClr val="000000"/>
                </a:solidFill>
                <a:latin typeface="Arial Rounded MT Bold"/>
              </a:rPr>
              <a:t> se usa para crear un espacio entre letras o palabras, si presionas la barra espaciadora una vez, aparece un espacio. Si presionas la barra espaciadora dos veces, aparecen dos espacios, etc.</a:t>
            </a: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Rounded MT Bold"/>
              </a:rPr>
              <a:t>La tecla Enter </a:t>
            </a:r>
            <a:r>
              <a:rPr b="0" lang="es-ES" sz="1600" spc="-1" strike="noStrike">
                <a:solidFill>
                  <a:srgbClr val="000000"/>
                </a:solidFill>
                <a:latin typeface="Arial Rounded MT Bold"/>
              </a:rPr>
              <a:t>Si estás escribiendo y quieres bajar a la siguiente línea puedes presionar la tecla Enter, la tecla Enter te desplaza una línea hacia abajo. </a:t>
            </a: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Rounded MT Bold"/>
              </a:rPr>
              <a:t>La Tecla Retroceso</a:t>
            </a:r>
            <a:r>
              <a:rPr b="0" lang="es-ES" sz="1600" spc="-1" strike="noStrike">
                <a:solidFill>
                  <a:srgbClr val="000000"/>
                </a:solidFill>
                <a:latin typeface="Arial Rounded MT Bold"/>
              </a:rPr>
              <a:t>  Si has cometido un error mientras estás escribiendo, presionando la tecla Retroceso borras lo que acabas de escribir. </a:t>
            </a: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Rounded MT Bold"/>
              </a:rPr>
              <a:t>Si continúas presionando Retroceso seguirás borrando letras,</a:t>
            </a: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Rounded MT Bold"/>
              </a:rPr>
              <a:t>                                      </a:t>
            </a:r>
            <a:endParaRPr b="0" lang="en-US" sz="1600" spc="-1" strike="noStrike">
              <a:solidFill>
                <a:srgbClr val="000000"/>
              </a:solidFill>
              <a:latin typeface="Arial"/>
            </a:endParaRPr>
          </a:p>
          <a:p>
            <a:pPr marL="339480" indent="-33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Rounded MT Bold"/>
              </a:rPr>
              <a:t>                                        </a:t>
            </a:r>
            <a:endParaRPr b="0" lang="en-US" sz="1600" spc="-1" strike="noStrike">
              <a:solidFill>
                <a:srgbClr val="000000"/>
              </a:solidFill>
              <a:latin typeface="Arial"/>
            </a:endParaRPr>
          </a:p>
          <a:p>
            <a:pPr marL="339480" indent="-3394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Rounded MT Bold"/>
              </a:rPr>
              <a:t>	</a:t>
            </a:r>
            <a:r>
              <a:rPr b="0" lang="es-ES" sz="1600" spc="-1" strike="noStrike">
                <a:solidFill>
                  <a:srgbClr val="000000"/>
                </a:solidFill>
                <a:latin typeface="Arial Rounded MT Bold"/>
              </a:rPr>
              <a:t>	</a:t>
            </a:r>
            <a:r>
              <a:rPr b="0" lang="es-ES" sz="1600" spc="-1" strike="noStrike">
                <a:solidFill>
                  <a:srgbClr val="000000"/>
                </a:solidFill>
                <a:latin typeface="Arial Rounded MT Bold"/>
              </a:rPr>
              <a:t>  </a:t>
            </a:r>
            <a:r>
              <a:rPr b="0" lang="es-ES" sz="1600" spc="-1" strike="noStrike">
                <a:solidFill>
                  <a:srgbClr val="000000"/>
                </a:solidFill>
                <a:latin typeface="Arial Rounded MT Bold"/>
              </a:rPr>
              <a:t>Barra Espaciadora        Tecla Enter                          Tecla Retroceso</a:t>
            </a:r>
            <a:endParaRPr b="0" lang="en-US" sz="1600" spc="-1" strike="noStrike">
              <a:solidFill>
                <a:srgbClr val="000000"/>
              </a:solidFill>
              <a:latin typeface="Arial"/>
            </a:endParaRPr>
          </a:p>
        </p:txBody>
      </p:sp>
      <p:pic>
        <p:nvPicPr>
          <p:cNvPr id="564" name="Picture 2" descr="keyboard"/>
          <p:cNvPicPr/>
          <p:nvPr/>
        </p:nvPicPr>
        <p:blipFill>
          <a:blip r:embed="rId1"/>
          <a:stretch/>
        </p:blipFill>
        <p:spPr>
          <a:xfrm>
            <a:off x="1366920" y="3726000"/>
            <a:ext cx="6410160" cy="1609560"/>
          </a:xfrm>
          <a:prstGeom prst="rect">
            <a:avLst/>
          </a:prstGeom>
          <a:ln w="0">
            <a:noFill/>
          </a:ln>
        </p:spPr>
      </p:pic>
      <p:sp>
        <p:nvSpPr>
          <p:cNvPr id="565" name="Line 3"/>
          <p:cNvSpPr/>
          <p:nvPr/>
        </p:nvSpPr>
        <p:spPr>
          <a:xfrm flipH="1" flipV="1">
            <a:off x="5254560" y="4307040"/>
            <a:ext cx="1100160" cy="155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4"/>
          <p:cNvSpPr/>
          <p:nvPr/>
        </p:nvSpPr>
        <p:spPr>
          <a:xfrm flipV="1">
            <a:off x="4183200" y="4724280"/>
            <a:ext cx="749160" cy="111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Line 5"/>
          <p:cNvSpPr/>
          <p:nvPr/>
        </p:nvSpPr>
        <p:spPr>
          <a:xfrm flipV="1">
            <a:off x="2335320" y="5084280"/>
            <a:ext cx="595080" cy="75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40000" y="-360"/>
            <a:ext cx="635616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El Ratón</a:t>
            </a:r>
            <a:endParaRPr b="0" lang="en-US" sz="3200" spc="-1" strike="noStrike">
              <a:solidFill>
                <a:srgbClr val="000000"/>
              </a:solidFill>
              <a:latin typeface="Arial"/>
            </a:endParaRPr>
          </a:p>
        </p:txBody>
      </p:sp>
      <p:graphicFrame>
        <p:nvGraphicFramePr>
          <p:cNvPr id="569" name=""/>
          <p:cNvGraphicFramePr/>
          <p:nvPr/>
        </p:nvGraphicFramePr>
        <p:xfrm>
          <a:off x="287280" y="1108080"/>
          <a:ext cx="8569440" cy="4929120"/>
        </p:xfrm>
        <a:graphic>
          <a:graphicData uri="http://schemas.openxmlformats.org/drawingml/2006/table">
            <a:tbl>
              <a:tblPr/>
              <a:tblGrid>
                <a:gridCol w="1008000"/>
                <a:gridCol w="7561440"/>
              </a:tblGrid>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aso 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Coloca la mano suávemente sobre el ratón con tu dedo índice descansando suávemente sobre el botón derecho y mueve el ratón en pequeños movimientos.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Observa el ratón en forma de flecha moviéndose en la pantalla, si mueves la mano hacia la izquierda la flecha se mueve a la izquierda, si mueves la mano hacia arriba, la flecha se mueve hacia arriba, e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aso 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ueve el ratón en un movimiento circular y observa el movimiento de la flecha en la pantall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aso 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igue moviendo el ratón haste que te sientas cómodo con esta habilidad.</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aso 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ueve el ratón hacia la esquina superior derecha de la pantalla, muévelo hacia la esquina inferior izquierda de la pantalla – continúa con este movimiento hasta que te sientas cómod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ara hacer que pase algo en el ordenador necesitarás hacer “click” en alguna parte de la pantall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Hacer click quiere decir presionar con el dedo uno de los botones del ratón. El botón usual para hacer click es el izquierdo, pero puede cambiar algunas veces.</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144360"/>
            <a:ext cx="6356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El Ratón</a:t>
            </a:r>
            <a:endParaRPr b="0" lang="en-US" sz="4000" spc="-1" strike="noStrike">
              <a:solidFill>
                <a:srgbClr val="000000"/>
              </a:solidFill>
              <a:latin typeface="Arial"/>
            </a:endParaRPr>
          </a:p>
        </p:txBody>
      </p:sp>
      <p:sp>
        <p:nvSpPr>
          <p:cNvPr id="571" name=""/>
          <p:cNvSpPr txBox="1"/>
          <p:nvPr/>
        </p:nvSpPr>
        <p:spPr>
          <a:xfrm>
            <a:off x="457200" y="1341000"/>
            <a:ext cx="8229600" cy="475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l ratón te ayuda a moverte alrededor de la pantall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l uso del ratón requiere un poco de práctic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Mueve el ratón con cuidado y despacio haciendo un pequeño círculo en el escritorio.</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Verás una flecha en la pantalla (llamada cursor) también se mueve alrededor.</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Mueve el ratón con cuidado hacienda círculos, arriba y abajo, a la izquierda y a la derecha</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igue mirando a la pantalla del ordenador – mira lo que ocurre cuando mueves el rat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2" name="Picture 2" descr=""/>
          <p:cNvPicPr/>
          <p:nvPr/>
        </p:nvPicPr>
        <p:blipFill>
          <a:blip r:embed="rId1"/>
          <a:stretch/>
        </p:blipFill>
        <p:spPr>
          <a:xfrm rot="20352000">
            <a:off x="7299360" y="1476360"/>
            <a:ext cx="1466640" cy="7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4T08:31:01Z</dcterms:modified>
  <cp:revision>499</cp:revision>
  <dc:subject/>
  <dc:title>Title</dc:title>
</cp:coreProperties>
</file>