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E935-F75A-42CC-A35F-35196CD06BBE}"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60CA-DFBD-4097-9535-5B4F3485AF8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F42B0F-7ED2-413D-9117-88E7F5BF13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F5E8294-41F4-4249-A164-A8E303D1D4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AB3A420-587F-4102-A99D-1CBB3DB6E7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7FB55D-838C-49BF-8F78-741E997307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D9877D-0BD7-4154-900C-D6D1E461DF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BFEBA3-78D3-4B2B-B868-B99D3CE137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1D9AC7-68F7-47EE-8C50-671CC972FA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924ACBA-F014-4A66-A0FA-410D40FE08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0B0BD11-25BC-44B2-9BBA-063BC643EB5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77A88C7-FAC8-4B6C-92F4-7BF91AD39B8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5C69220-DFFD-4324-961D-C6E88E34C20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2B5758-03DC-4210-A3CE-4884EAB9C4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372BE6-7141-4B8E-B483-C60B5D07CDF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5A299F-A310-43A1-ABF5-7645D2C9B6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C20543-4762-437C-B8D6-FCFF616FBF8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8FB310-71AD-4000-B2BD-FBD7616ADD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E6F5DD-3401-4FEA-86BA-D754DEFBAE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8B178B-60ED-4163-9EEF-7AD526EB73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7BDDDA-0C03-46E0-926C-319D0B83E4E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859A195-855F-414C-A22C-6878CA5004E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331E014-7BA3-4185-B968-1C0E55452D2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3693AE4-E0A3-4621-BEA1-466892ECBE5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5E04CC9-21A6-42CC-836D-F06D8B826AC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857673E-2554-47E8-9549-83271E4AF55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8BB4402-297E-433B-A587-B20CA21D47B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3AB120B-3992-42FE-87CD-02C5842507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2F9722-8A49-4C2B-99C3-2CF867DE507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51A218-6DBF-416F-B76C-49373735C33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C0D8D30-99B6-4DE6-8993-75778EC552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5746D92-8FDA-4D90-A992-766C6DD8E9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53B235-6420-4DF5-B2BB-FAE54811B9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1C17AC0-D2C6-4431-BF8B-5CC540D4E4C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AF22919-9063-4B62-A870-247AC6CE7DB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57CFF1C-CABC-4CD6-92EA-14ECABAB757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67495BD-A836-46DF-9171-F4B737EA1B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9CE2DAC-E2ED-4BDA-A9B1-8DF1AA2DBE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6A2FA46-CC34-4248-80CF-48B5B652C1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042CD5-E640-4A44-9581-38411CCE2EA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F8E4CD7-8F92-4D46-93A9-7B4794BB745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43B24D-6ED6-44E9-9D64-5C645C5E541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2FF2E2F-A648-4B56-957A-6A91B89F761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7F10E91-4BA3-4C87-9720-43FE2A86CA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5177F9-1ED5-49D4-8653-972491864A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C789756-D9DE-4BD6-B5CD-8486F8C5632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B27D146-A83D-4331-9F53-B0D0C55CE04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D55B0A-2814-48A0-9F17-721DDD807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85BB2-DB58-4C7C-8D9A-7425F9F9D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1BA80-7647-4904-A5DD-7170C9A04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D41EC-BB07-40FD-B230-3005C6E39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41E8B-BDFB-4C52-AB9A-49C1670AA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D7A10-15E2-43C8-96BF-DDC70D69F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24909-13A2-43B4-8562-343526E3C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1BF58-61F2-4E6B-BCA0-B7EE73F64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0E721-9D63-47B3-A466-8B37A0CE3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4C7DA-6613-4765-8741-53710E3A2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D54B6-5012-484D-B1C8-513B33FFC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9CA25D-2452-4F0C-A0C6-DC1A696B2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FDEF4D-0588-40A8-9386-CB1A0F9830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0A011C-10D9-42A2-A647-4D2143756D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BBA28E-C354-409A-B17A-5B24643FD4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4CE027-D6D8-42CC-A569-2DC2592A41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A5940F-AC2C-485C-AB9C-D042301508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A6E387-3186-4050-8815-0EB749329E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71D468-57BA-497D-93EC-1BB65DF925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E078AA-9432-4703-BEB3-ADCA173471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DC3584-F37C-4029-B5FA-9E30DCC5CA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A5A268-39C9-44B9-8314-193B6B9CD6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C66FE9-B720-4AC1-94E6-72D885C1C8C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8D22D7-CB8F-4956-95D8-EDAEAE0B34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250220-E28D-4C85-81EB-13797A55889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5C1491-E9ED-4853-A486-CD7B8E1AEE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85B4D8-0B4B-445D-BB8E-66C4881C73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C19AF9-FBA8-4302-AF59-0F2818F6B3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EE6E72-4CC3-4826-8A56-E8577FF641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6C17C7-DA89-4BE8-A739-7D46D31046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906B16-F081-4C7C-940D-4684BF2C32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5EBF77-9DF2-4946-9F21-88BE156DBB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6C2AE-C7A7-42FF-8B06-C6F0806FCE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88C106-D28F-405F-9656-D4186360F0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9AEAF3-3F54-46C3-883A-BA8EC1941B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085611F-7BF3-48D2-B6D6-9E7751E4B8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61D5E65-5696-4305-B9E3-79C68DFC42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37BFC1-24B5-4877-B3D2-4B50F177C6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4BC92F-F49F-4D09-9E9A-95FAB2F9BA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E80791-220B-4C49-9DD7-2808300C03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462D1E-47B8-4AFB-908A-3CC5F2157D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61759D-CF47-4C4B-8B05-3D30849D76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4A52A7-360F-4E7F-83D1-4CEAB1B1BB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3D631D-0D93-4729-AF4C-CFC7734521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D4398B-036C-440A-953A-C75F98824C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3A05CE4-6CDA-4922-8F47-3ED7226FC1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A5A1A59-DED1-4BCF-A9C3-03EFBFAB3A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786828-1FC8-48DD-A9D2-3036D3B2CE1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B023649-2CB0-4201-8975-2889A10435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E22256-A4A4-455C-93C3-38A1471341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656EFC-AC52-4781-AB1C-01958EE6A0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9CB314C-B34F-492B-B5FC-196E4C2353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711F265-9BD7-4B99-A569-7D9DAC36F0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714E9B-A425-480C-8621-A24F56F2DEF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25F7E2-DEDB-4E1A-9191-D15835ABA0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325C2F-CCEE-4870-8244-B7E1C7DAA0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F5C06F-E024-4777-AC64-02F1687688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ECEDC3-B9EF-4F1F-BCF7-81120917E2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27A5BD-E9BE-4396-A910-779B2CE7E80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A5C0DD6-78EE-475D-A414-AAAFBA01E1D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382C82-7E84-4A6D-B91A-E9EE9B09A22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67A995E-F600-4386-B7E4-045E44FDEE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7E3472-2436-491A-9141-4BCC476EBB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E67BC6-51E2-4A4A-B0C6-5D90228D1BD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52B8407-3A42-481E-99C7-C616272F25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6C75FF-D3EB-4756-B8B7-71ED694BF1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D0DD55-1C02-4196-A0EF-54766E1047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85F22D-3818-462F-9509-3AF0E24E90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8E2085-3BF3-44DC-9B6F-B81D5C6AD0B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FA312C-C1B2-4C4B-8E4B-8AB62109ACB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F618712-1803-4ABD-9016-4E7007D09E0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3DF3240-6749-4409-A033-9F13641884C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DC6643A-41B4-4816-9C80-6074B9FA7ED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9358B8D-F0CD-4C20-96E8-54A24B85F4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773F969-431C-4036-8148-C1328C11A9E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EEE4-46B2-4E1D-AAAE-6102054E04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E152-2AF1-4634-86EC-5ACD945B735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C74F-E9D9-459E-98D5-40FEBD29A8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F96B-57D3-4650-82F8-ED23347AA2A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C3E3-F885-4B86-94FF-3815778567B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8F97-391E-4652-AABD-399C37953A8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B06B-D57A-48A3-B918-4B8A3DC28B2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1E62-A648-4306-8CB4-7C2516BD9E7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9EA3-3589-4369-9923-765BF4E3B7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22E8-23C1-418E-8057-9B2CBE352F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digitaldelsa.eu/unit1-Excercise"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jisc.ac.uk/guides/developing-digital-literacies"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onlinelibrary.wiley.com/doi/full/10.1111/j.1365-2729.2010.00379.x"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udadanía Digital</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unicación y Colab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8"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Digital Citizenship  - </a:t>
            </a:r>
            <a:r>
              <a:rPr b="1" lang="hu-HU" sz="3000" spc="-1" strike="noStrike">
                <a:solidFill>
                  <a:srgbClr val="000000"/>
                </a:solidFill>
                <a:latin typeface="Arial Rounded MT Bold"/>
              </a:rPr>
              <a:t>Digital Div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Ciudadanía Digital: </a:t>
            </a:r>
            <a:r>
              <a:rPr b="0" lang="es-ES" sz="2800" spc="-1" strike="noStrike">
                <a:solidFill>
                  <a:srgbClr val="000000"/>
                </a:solidFill>
                <a:latin typeface="Arial Rounded MT Bold"/>
              </a:rPr>
              <a:t>Utilizar Internet y los medios sociales de forma responsable y étic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Liderazgo digital: </a:t>
            </a:r>
            <a:r>
              <a:rPr b="0" lang="es-ES" sz="2800" spc="-1" strike="noStrike">
                <a:solidFill>
                  <a:srgbClr val="000000"/>
                </a:solidFill>
                <a:latin typeface="Arial Rounded MT Bold"/>
              </a:rPr>
              <a:t>Usar Internet y los medios sociales para mejorar la vida, el bienestar y las circunstancias de los demás.</a:t>
            </a: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nvertirse en líderes digit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jercicio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t>
            </a:r>
            <a:r>
              <a:rPr b="0" lang="es-ES" sz="2800" spc="-1" strike="noStrike">
                <a:solidFill>
                  <a:srgbClr val="000000"/>
                </a:solidFill>
                <a:latin typeface="Arial Rounded MT Bold"/>
              </a:rPr>
              <a:t>Completar su lista de control de liderazgo digital?</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s-ES" sz="2800" spc="-1" strike="noStrike">
                <a:solidFill>
                  <a:srgbClr val="000000"/>
                </a:solidFill>
                <a:latin typeface="Arial Rounded MT Bold"/>
              </a:rPr>
              <a:t>Para completar este ejercicio opcional de 3 minutos del proyecto DELSA vaya a </a:t>
            </a:r>
            <a:r>
              <a:rPr b="0" lang="en-IE" sz="2800" spc="-1" strike="noStrike" u="sng">
                <a:solidFill>
                  <a:srgbClr val="009999"/>
                </a:solidFill>
                <a:uFillTx/>
                <a:latin typeface="Arial Rounded MT Bold"/>
                <a:hlinkClick r:id="rId1"/>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s-ES" sz="2800" spc="-1" strike="noStrike">
                <a:solidFill>
                  <a:srgbClr val="000000"/>
                </a:solidFill>
                <a:latin typeface="Arial Rounded MT Bold"/>
              </a:rPr>
              <a:t>CSS - Completar, </a:t>
            </a:r>
            <a:r>
              <a:rPr b="0" lang="es-ES" sz="2800" spc="-1" strike="noStrike">
                <a:solidFill>
                  <a:srgbClr val="4597a0"/>
                </a:solidFill>
                <a:latin typeface="Arial Rounded MT Bold"/>
              </a:rPr>
              <a:t>capturar</a:t>
            </a:r>
            <a:r>
              <a:rPr b="0" lang="es-ES" sz="2800" spc="-1" strike="noStrike">
                <a:solidFill>
                  <a:srgbClr val="000000"/>
                </a:solidFill>
                <a:latin typeface="Arial Rounded MT Bold"/>
              </a:rPr>
              <a:t> y env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Puntos a considerar</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8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ociales y educativo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bilidades Digitales - Niveles de Alfabetización Digital</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roceso de dos vías - Interpretar y articular</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brecha digital - ¿cuáles son los factores? </a:t>
            </a:r>
            <a:r>
              <a:rPr b="0" lang="en-IE" sz="2800" spc="-1" strike="noStrike">
                <a:solidFill>
                  <a:srgbClr val="000000"/>
                </a:solidFill>
                <a:latin typeface="Arial Rounded MT Bold"/>
              </a:rPr>
              <a:t>Normas de alfabetización</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iberac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Establecer e-hábitos</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or qué la gente muestra menos civismo al usar la tecnología y las herramientas en líne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ando la gente está en línea, a veces se siente invisible - puede hacer/decir cosas que nunca haría/diría en públic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Tienes experiencia en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Se lograron los resultados del aprendizaje?</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aplicar la Ciudadanía digital a mí mismo?</a:t>
            </a:r>
            <a:r>
              <a:rPr b="1" lang="en-IE" sz="2000" spc="-1" strike="noStrike">
                <a:solidFill>
                  <a:srgbClr val="000000"/>
                </a:solidFill>
                <a:latin typeface="Arial Rounded MT Bold"/>
              </a:rPr>
              <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definir la alfabetización digital</a:t>
            </a:r>
            <a:r>
              <a:rPr b="1" lang="en-IE" sz="2000" spc="-1" strike="noStrike">
                <a:solidFill>
                  <a:srgbClr val="000000"/>
                </a:solidFill>
                <a:latin typeface="Arial Rounded MT Bold"/>
              </a:rPr>
              <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enumerar cuatro formas en las que</a:t>
            </a:r>
            <a:r>
              <a:rPr b="1" lang="en-IE" sz="2000" spc="-1" strike="noStrike">
                <a:solidFill>
                  <a:srgbClr val="000000"/>
                </a:solidFill>
                <a:latin typeface="Arial Rounded MT Bold"/>
              </a:rPr>
              <a:t> la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lfabetización digital añade calidad a mi vida</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Otros coment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Objetivos y metas</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esta unidad los participantes podrán:</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licar la ciudadanía digital a sí mismo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Definir la Alfabetización Digital.</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Enumerar cuatro formas en las que la alfabetización digital añade calidad a tu vida</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Un ordenador, un portátil, una tablet o un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68560" y="2297160"/>
            <a:ext cx="2419200" cy="1523880"/>
          </a:xfrm>
          <a:prstGeom prst="rect">
            <a:avLst/>
          </a:prstGeom>
          <a:ln w="0">
            <a:noFill/>
          </a:ln>
        </p:spPr>
      </p:pic>
      <p:pic>
        <p:nvPicPr>
          <p:cNvPr id="551" name="Picture 7" descr="ipad"/>
          <p:cNvPicPr/>
          <p:nvPr/>
        </p:nvPicPr>
        <p:blipFill>
          <a:blip r:embed="rId3"/>
          <a:stretch/>
        </p:blipFill>
        <p:spPr>
          <a:xfrm>
            <a:off x="1676520" y="390528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iudadanía Digital o simplemente Ciudadanía</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iudadanía por sí sola - a menudo se piensa que es política o que está alineada con un país (haga clic para encontrar una definición de Ciudadanía).</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Necesitamos ver la "ciudadanía digital" como simplemente parte de nuestra "ciudadanía" cotidiana como actividades de ciudadanos ac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Alfabetización Digital</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a:t>
            </a:r>
            <a:r>
              <a:rPr b="0" lang="es-ES" sz="2400" spc="-1" strike="noStrike">
                <a:solidFill>
                  <a:srgbClr val="000000"/>
                </a:solidFill>
                <a:latin typeface="Arial Rounded MT Bold"/>
              </a:rPr>
              <a:t> - la capacidad de leer y escribi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 crítica </a:t>
            </a:r>
            <a:r>
              <a:rPr b="0" lang="es-ES" sz="2400" spc="-1" strike="noStrike">
                <a:solidFill>
                  <a:srgbClr val="000000"/>
                </a:solidFill>
                <a:latin typeface="Arial Rounded MT Bold"/>
              </a:rPr>
              <a:t>- Lo que se lee en el text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 digital - "</a:t>
            </a:r>
            <a:r>
              <a:rPr b="0" lang="es-ES" sz="2400" spc="-1" strike="noStrike">
                <a:solidFill>
                  <a:srgbClr val="000000"/>
                </a:solidFill>
                <a:latin typeface="Arial Rounded MT Bold"/>
              </a:rPr>
              <a:t>La capacidad de utilizar la tecnología como una herramienta para investigar, organizar, evaluar y comunicar información, y la posesión de una comprensión fundamental de las cuestiones éticas/legales que rodean el acceso y el uso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Alfabetización Digital </a:t>
            </a:r>
            <a:endParaRPr b="0" lang="en-US" sz="36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recha Digital -Irlanda : Tiene algunos de los niveles más altos de STE. (Ciencia, Tecnología, Ingeniería y Matemáticas)... pero los niveles más bajos de habilidades digitales bás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r INFORME DE MAPA DEL PROYECTO DEL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La alfabetización digital hoy en día</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es-ES" sz="2800" spc="-1" strike="noStrike">
                <a:solidFill>
                  <a:srgbClr val="000000"/>
                </a:solidFill>
                <a:latin typeface="Arial"/>
              </a:rPr>
              <a:t>Las capacidades que se adaptan a alguien para vivir, aprender y trabajar en una sociedad digital".</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isc, 2014</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1" name="Picture 5" descr=""/>
          <p:cNvPicPr/>
          <p:nvPr/>
        </p:nvPicPr>
        <p:blipFill>
          <a:blip r:embed="rId2"/>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La alfabetización digital hoy en día</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os jóvenes/estudiantes a menudo son percibidos como </a:t>
            </a:r>
            <a:r>
              <a:rPr b="0" lang="es-ES" sz="2800" spc="-1" strike="noStrike">
                <a:solidFill>
                  <a:srgbClr val="4597a0"/>
                </a:solidFill>
                <a:latin typeface="Arial Rounded MT Bold"/>
              </a:rPr>
              <a:t>"nativos digitales" </a:t>
            </a:r>
            <a:r>
              <a:rPr b="0" lang="es-ES" sz="2800" spc="-1" strike="noStrike">
                <a:solidFill>
                  <a:srgbClr val="000000"/>
                </a:solidFill>
                <a:latin typeface="Arial Rounded MT Bold"/>
              </a:rPr>
              <a:t>que se sienten cómodos y son expertos en el uso de la tecnología.</a:t>
            </a:r>
            <a:r>
              <a:rPr b="0" lang="en-IE" sz="2800" spc="-1" strike="noStrike">
                <a:solidFill>
                  <a:srgbClr val="000000"/>
                </a:solidFill>
                <a:latin typeface="Arial Rounded MT Bold"/>
              </a:rPr>
              <a:t> - </a:t>
            </a:r>
            <a:r>
              <a:rPr b="0" lang="es-ES" sz="2800" spc="-1" strike="noStrike">
                <a:solidFill>
                  <a:srgbClr val="000000"/>
                </a:solidFill>
                <a:latin typeface="Arial Rounded MT Bold"/>
              </a:rPr>
              <a:t>suposiciones poco útiles sobre sus competencias en materia de alfabetización digital e informática</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ones and Czerniewicz, 2010</a:t>
            </a:r>
            <a:r>
              <a:rPr b="0" lang="en-IE"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Ciudadanía Digital - Nueve Elementos</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6:02:45Z</dcterms:modified>
  <cp:revision>482</cp:revision>
  <dc:subject/>
  <dc:title>Title</dc:title>
</cp:coreProperties>
</file>