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B4B7-6A2A-4538-A72E-099D775A30F8}"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5F1B-6F46-4644-A4AB-7F8C1EF3A514}"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BC234C-EB7B-4EDC-B429-C01494362E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D269960-F064-4370-82C1-8B8657450A8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E69B6E1-C3B6-46F0-90E3-A1F00AA3020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FEB8C74-2F7D-4A72-BADB-ECC91B5BB72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500897-AE99-40A6-86EB-490E5507D8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4F60C67-D489-40A0-B86E-E7736E5DD90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82BB1D7-5605-4C19-9F4F-5B3CF35469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45CE5486-0A44-45BB-AC95-C9D8DA87ECA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E16CA3F-6551-4253-A878-4D16DCD1168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505D10E-F691-4968-AA7F-C3DE5F6D9CF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81922A7-C632-448A-88FE-07477942AB9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1EC0E1-8740-4161-8FCD-14A411105D5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00B57B5-C2B6-4D7E-8B16-0A1CD070FD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DD0CAC-C1E3-4BA8-BC24-E114A035B01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B60B2B-636E-4F3A-9F10-2A61D5319A7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3F2C16B-0AE8-4A97-96C1-EB87AD79D81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13529A8-E124-4AF8-AA2E-D42E640B2A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BCDF58-09FA-42A2-AAFA-24ADAE30C5B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06CD728-0E02-4AE4-856D-E336DA4B71D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E2B1BF3-A603-4DCB-8C1D-E5B8A1536949}"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CDC1F4E-BE38-4D4B-B37B-AFB40A3EDC11}"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5BF4A39-5B33-4C68-9205-8807194B249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36C149F-16E3-4B9F-AC27-DC13EA66FE57}"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42AC7D0-61C3-46F7-8654-70DDFC68B41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246E04-5EC4-4338-9768-134A6241EBC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D75C171-5860-4505-A13D-109FDFAEA4F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A85E5FF-315E-4717-B3BC-164D5FC5329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182D35-6578-477F-BAB1-AEFFDB5B2BD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F10FD88-7330-45DD-AA7C-F002DEA8A8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9DD1ABF-6924-4083-9FD2-B055108B696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FFCC493-C142-4CCA-904D-B5425B3AA0E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06E5551-87B9-41F7-A6F5-99D5A177AE09}"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5BBA8C8-58BA-4D07-B168-9E237A94B52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341253A-8F9B-42C9-8A71-75B5A7D653A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BC2104A-72E3-4F3F-A84A-AAA854B93A9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33F79C-99F5-4CC1-A5EA-3A9BD356394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C07486-4BA0-489E-96ED-EC15B47E7C2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8E26B28-B0BD-4813-A160-2B5C0DE0B16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15FA781-FAD5-4B88-A7C2-94FB34CB497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88C4A9-6C1D-48B7-9BB0-B51B23C20C4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84CF9E4-850E-4D41-9066-5649BE61F25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6F02B9-9CD2-4493-AE53-F89907EB2E4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0592866-C076-4B83-AAD1-EE3980E7E8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FE2F91A-9AB9-474B-81CB-C1A658B1275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E872199-CE0C-4296-9C4C-357877D9BC0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2600D9-5A6D-4DE9-B0AA-A5DD05D001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2970C5-CC80-4173-BE63-5EA3738B82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73474-2736-4878-8233-DB3269EE6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538374-6F6F-47D3-9BFA-DA7C141F8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8E385F-B2DE-4215-A61E-61E65654C2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2C4D51-642C-4486-905C-4B4C68A14B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798D6A-7E88-4AB3-8B24-6954FBC7D3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EC61B-3940-4FEB-A6BE-058DACA7F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69C6DF-B20C-4D64-90B1-440E28C89B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811523-A8FE-49BB-A422-C73A4E33C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0D5035-8BE9-4AA7-B231-0F6B722520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834F71-B967-44FF-A442-8522BD24F4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7A03653-1FAB-4328-AB15-120FB7E18F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BC9F31F-BEE3-4FD5-96E4-A546FEE51F9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20E5A0E-F9C8-415D-BF52-19EFEED0A9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9F79AC6-AEE0-424D-8BD3-8C6D17751D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F3B57E3-FBA9-4B47-9FFD-8E68BC073D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4F8A00-9055-4ADE-BD8E-754734586E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EC744F-C777-44AD-9BDA-D69D3679AA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06467B-A516-4042-889D-3904C67E4D6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A95911-D3BB-404D-9276-43A3735414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FDB7DA9-029A-42FF-98A2-10B72C10806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2C08AFC-B1F4-456F-8C17-EC91AD19DD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CAD145C-52F3-4E01-B49E-A14627740A9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6C89D9A-9456-490E-8192-7AA9065E28C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7ECF225-D335-4F1A-A111-FF38F4E8CA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7E9B90-D1BA-426F-8049-AE2BB9C6230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1C569F-BF83-4B19-A1E2-CA74EA441B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2775AC0-FD30-4941-A60C-78B606FAD9B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C127DAF-AADA-4DB1-B93D-AD44237DB16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583D53A-F5D0-4E7C-9832-B66FBAE8638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E39200-5404-43D8-ACE6-00F2C93FF7C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8A523A3-1E45-4A18-9C68-8BFC80BA0D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35AF4B-C372-41B7-BCD1-E13E63A1567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3D5F3CA-F7B8-439A-813C-077EAB892EC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FC08D04-13FC-4429-BEC1-E3EE3950233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9CBDC79-E080-439E-9DCE-CA82375D42A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9678278-E381-49AA-93F4-29F4AFA7707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CEEFE3B-13FA-40C8-8A6E-8D028B17B4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7903FE-DC14-454C-9E0B-6D0C621A943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50AA1C1-78A0-4D2F-9B55-007764B7B71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1AE3F55-FABF-4A5C-97E7-7BF87867CAD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CD9425-5DD0-4D7B-B26B-4790CE563B7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24B22E-8394-4F1B-89BB-B93AF2C3FBC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90EA180-B16F-40C1-956D-DC55E50DE2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E326E9-DFE4-445E-AE02-222CB38CFD6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CCDA476-E196-4D42-AC4B-DF22958438C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8665ECB-885B-4DC4-907B-831592C9D71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0CB09C-D77C-4373-B718-FC824B1E60D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B661359-A957-4442-A84E-C62875A205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D17836A-6730-4455-9F6F-70E9305BDA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8A9CD5A-ACD0-4FDE-8560-77F70BDAF11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0B06FCB-B63B-4374-90F1-FCCD8063593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946EB93-5172-4F24-8039-34ECA1CB12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F7B3877-C955-41E5-8EAC-817B8B4E740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723BCD-3AFF-4229-8E01-1A6D312AF6A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1841D55-632F-4C6B-ABB1-BFEE66E9478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7B3826E-B1EC-43EF-8421-4733F54E88E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D9E6760-D4FD-4423-B310-C84A8146F01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445F090-F356-42C5-A666-B4BA453DA8D3}"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1AED9B-B14F-44DE-95A9-82DF5D69866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3A6F28-BEC7-4041-B0E3-A2E905546A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79BEBCB-2B90-45AF-8765-A81885E51A2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B34AF24-4F2F-47D7-B305-CA47C2A88D5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868929-2830-4BB8-A021-0638B15293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43D1AFF-FD64-4DBF-8018-6489E92083A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710781-25BB-4C6A-879E-CAFA4BB6E81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B16666-4180-4DFF-A87D-B7A90B77EB0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2A183C9-D4AB-4566-AFB6-607C0602A3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F4C92A5-CAF8-4B6D-9B99-E81E8B980FE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A365019-37BF-4F9A-9A9F-3F066EB102A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2725463-4CAA-45A2-807D-FAF5DECD511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3A0DFB-9517-48CF-8855-3757CA5DCB4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AEAC97-A21B-4424-BE6A-0B2D9B80AF0F}"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9872C3F-B0E6-4A4C-9D30-E7AB4BD1B30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1C6E-EF93-4EE9-A37A-4EBB178402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1D121-E24E-4815-A26B-869B8082119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FF5B-076F-4A63-A540-7D30A5983AC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4580-12C3-4806-BF18-551CCF3421A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F291-8369-4587-9C49-48524E41385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6C59-AB26-48C7-AA91-39E49D65A3F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2DD15-E12D-452C-94A3-883B2A0B635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CFC8-D7C2-4078-9EAD-CD1FB00080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D2C7A-22F1-4993-B14A-665D2C0410F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F4BFF-1FC0-4889-B7AB-F97C664E9C8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digitaldelsa.eu/unit1-Excercise" TargetMode="External"/><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jisc.ac.uk/guides/developing-digital-literacies"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onlinelibrary.wiley.com/doi/full/10.1111/j.1365-2729.2010.00379.x"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iudadanía Digital</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unicación y Colab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8"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Digital Citizenship  - </a:t>
            </a:r>
            <a:r>
              <a:rPr b="1" lang="hu-HU" sz="3000" spc="-1" strike="noStrike">
                <a:solidFill>
                  <a:srgbClr val="000000"/>
                </a:solidFill>
                <a:latin typeface="Arial Rounded MT Bold"/>
              </a:rPr>
              <a:t>Digital Div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Ciudadanía Digital: </a:t>
            </a:r>
            <a:r>
              <a:rPr b="0" lang="es-ES" sz="2800" spc="-1" strike="noStrike">
                <a:solidFill>
                  <a:srgbClr val="000000"/>
                </a:solidFill>
                <a:latin typeface="Arial Rounded MT Bold"/>
              </a:rPr>
              <a:t>Utilizar Internet y los medios sociales de forma responsable y étic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Liderazgo digital: </a:t>
            </a:r>
            <a:r>
              <a:rPr b="0" lang="es-ES" sz="2800" spc="-1" strike="noStrike">
                <a:solidFill>
                  <a:srgbClr val="000000"/>
                </a:solidFill>
                <a:latin typeface="Arial Rounded MT Bold"/>
              </a:rPr>
              <a:t>Usar Internet y los medios sociales para mejorar la vida, el bienestar y las circunstancias de los demás.</a:t>
            </a: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Convertirse en líderes digit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jercicio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t>
            </a:r>
            <a:r>
              <a:rPr b="0" lang="es-ES" sz="2800" spc="-1" strike="noStrike">
                <a:solidFill>
                  <a:srgbClr val="000000"/>
                </a:solidFill>
                <a:latin typeface="Arial Rounded MT Bold"/>
              </a:rPr>
              <a:t>Completar su lista de control de liderazgo digital?</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s-ES" sz="2800" spc="-1" strike="noStrike">
                <a:solidFill>
                  <a:srgbClr val="000000"/>
                </a:solidFill>
                <a:latin typeface="Arial Rounded MT Bold"/>
              </a:rPr>
              <a:t>Para completar este ejercicio opcional de 3 minutos del proyecto DELSA vaya a </a:t>
            </a:r>
            <a:r>
              <a:rPr b="0" lang="en-IE" sz="2800" spc="-1" strike="noStrike" u="sng">
                <a:solidFill>
                  <a:srgbClr val="009999"/>
                </a:solidFill>
                <a:uFillTx/>
                <a:latin typeface="Arial Rounded MT Bold"/>
                <a:hlinkClick r:id="rId1"/>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s-ES" sz="2800" spc="-1" strike="noStrike">
                <a:solidFill>
                  <a:srgbClr val="000000"/>
                </a:solidFill>
                <a:latin typeface="Arial Rounded MT Bold"/>
              </a:rPr>
              <a:t>CSS - Completar, </a:t>
            </a:r>
            <a:r>
              <a:rPr b="0" lang="es-ES" sz="2800" spc="-1" strike="noStrike">
                <a:solidFill>
                  <a:srgbClr val="4597a0"/>
                </a:solidFill>
                <a:latin typeface="Arial Rounded MT Bold"/>
              </a:rPr>
              <a:t>capturar</a:t>
            </a:r>
            <a:r>
              <a:rPr b="0" lang="es-ES" sz="2800" spc="-1" strike="noStrike">
                <a:solidFill>
                  <a:srgbClr val="000000"/>
                </a:solidFill>
                <a:latin typeface="Arial Rounded MT Bold"/>
              </a:rPr>
              <a:t> y envi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Puntos a considerar</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8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ociales y educativo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bilidades Digitales - Niveles de Alfabetización Digital</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roceso de dos vías - Interpretar y articular</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brecha digital - ¿cuáles son los factores? </a:t>
            </a:r>
            <a:r>
              <a:rPr b="0" lang="en-IE" sz="2800" spc="-1" strike="noStrike">
                <a:solidFill>
                  <a:srgbClr val="000000"/>
                </a:solidFill>
                <a:latin typeface="Arial Rounded MT Bold"/>
              </a:rPr>
              <a:t>Normas de alfabetización</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iberacos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Establecer e-hábitos</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or qué la gente muestra menos civismo al usar la tecnología y las herramientas en línea?</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ando la gente está en línea, a veces se siente invisible - puede hacer/decir cosas que nunca haría/diría en públic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Tienes experiencia en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Rounded MT Bold"/>
              </a:rPr>
              <a:t>¿Se lograron los resultados del aprendizaje?</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aplicar la Ciudadanía digital a mí mismo?</a:t>
            </a:r>
            <a:r>
              <a:rPr b="1" lang="en-IE" sz="2000" spc="-1" strike="noStrike">
                <a:solidFill>
                  <a:srgbClr val="000000"/>
                </a:solidFill>
                <a:latin typeface="Arial Rounded MT Bold"/>
              </a:rPr>
              <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definir la alfabetización digital</a:t>
            </a:r>
            <a:r>
              <a:rPr b="1" lang="en-IE" sz="2000" spc="-1" strike="noStrike">
                <a:solidFill>
                  <a:srgbClr val="000000"/>
                </a:solidFill>
                <a:latin typeface="Arial Rounded MT Bold"/>
              </a:rPr>
              <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uedo enumerar cuatro formas en las que</a:t>
            </a:r>
            <a:r>
              <a:rPr b="1" lang="en-IE" sz="2000" spc="-1" strike="noStrike">
                <a:solidFill>
                  <a:srgbClr val="000000"/>
                </a:solidFill>
                <a:latin typeface="Arial Rounded MT Bold"/>
              </a:rPr>
              <a:t> la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lfabetización digital añade calidad a mi vida</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Otros coment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Objetivos y metas</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esta unidad los participantes podrán:</a:t>
            </a:r>
            <a:endParaRPr b="0" lang="en-US" sz="28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licar la ciudadanía digital a sí mismo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Definir la Alfabetización Digital.</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Enumerar cuatro formas en las que la alfabetización digital añade calidad a tu vida</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Un ordenador, un portátil, una tablet o un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68560" y="2297160"/>
            <a:ext cx="2419200" cy="1523880"/>
          </a:xfrm>
          <a:prstGeom prst="rect">
            <a:avLst/>
          </a:prstGeom>
          <a:ln w="0">
            <a:noFill/>
          </a:ln>
        </p:spPr>
      </p:pic>
      <p:pic>
        <p:nvPicPr>
          <p:cNvPr id="551" name="Picture 7" descr="ipad"/>
          <p:cNvPicPr/>
          <p:nvPr/>
        </p:nvPicPr>
        <p:blipFill>
          <a:blip r:embed="rId3"/>
          <a:stretch/>
        </p:blipFill>
        <p:spPr>
          <a:xfrm>
            <a:off x="1676520" y="390528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iudadanía Digital o simplemente Ciudadanía</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iudadanía por sí sola - a menudo se piensa que es política o que está alineada con un país (haga clic para encontrar una definición de Ciudadanía).</a:t>
            </a: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Necesitamos ver la "ciudadanía digital" como simplemente parte de nuestra "ciudadanía" cotidiana como actividades de ciudadanos activ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Alfabetización Digital</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a:t>
            </a:r>
            <a:r>
              <a:rPr b="0" lang="es-ES" sz="2400" spc="-1" strike="noStrike">
                <a:solidFill>
                  <a:srgbClr val="000000"/>
                </a:solidFill>
                <a:latin typeface="Arial Rounded MT Bold"/>
              </a:rPr>
              <a:t> - la capacidad de leer y escribi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 crítica </a:t>
            </a:r>
            <a:r>
              <a:rPr b="0" lang="es-ES" sz="2400" spc="-1" strike="noStrike">
                <a:solidFill>
                  <a:srgbClr val="000000"/>
                </a:solidFill>
                <a:latin typeface="Arial Rounded MT Bold"/>
              </a:rPr>
              <a:t>- Lo que se lee en el text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Rounded MT Bold"/>
              </a:rPr>
              <a:t>Alfabetización digital - "</a:t>
            </a:r>
            <a:r>
              <a:rPr b="0" lang="es-ES" sz="2400" spc="-1" strike="noStrike">
                <a:solidFill>
                  <a:srgbClr val="000000"/>
                </a:solidFill>
                <a:latin typeface="Arial Rounded MT Bold"/>
              </a:rPr>
              <a:t>La capacidad de utilizar la tecnología como una herramienta para investigar, organizar, evaluar y comunicar información, y la posesión de una comprensión fundamental de las cuestiones éticas/legales que rodean el acceso y el uso de la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Alfabetización Digital </a:t>
            </a:r>
            <a:endParaRPr b="0" lang="en-US" sz="36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recha Digital -Irlanda : Tiene algunos de los niveles más altos de STE. (Ciencia, Tecnología, Ingeniería y Matemáticas)... pero los niveles más bajos de habilidades digitales bás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r INFORME DE MAPA DEL PROYECTO DEL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La alfabetización digital hoy en día</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es-ES" sz="2800" spc="-1" strike="noStrike">
                <a:solidFill>
                  <a:srgbClr val="000000"/>
                </a:solidFill>
                <a:latin typeface="Arial"/>
              </a:rPr>
              <a:t>Las capacidades que se adaptan a alguien para vivir, aprender y trabajar en una sociedad digital".</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isc, 2014</a:t>
            </a:r>
            <a:r>
              <a:rPr b="0" lang="en-IE"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1" name="Picture 5" descr=""/>
          <p:cNvPicPr/>
          <p:nvPr/>
        </p:nvPicPr>
        <p:blipFill>
          <a:blip r:embed="rId2"/>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La alfabetización digital hoy en día</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fontScale="95000"/>
          </a:bodyPr>
          <a:p>
            <a:pPr marL="325800" indent="-3258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os jóvenes/estudiantes a menudo son percibidos como </a:t>
            </a:r>
            <a:r>
              <a:rPr b="0" lang="es-ES" sz="2800" spc="-1" strike="noStrike">
                <a:solidFill>
                  <a:srgbClr val="4597a0"/>
                </a:solidFill>
                <a:latin typeface="Arial Rounded MT Bold"/>
              </a:rPr>
              <a:t>"nativos digitales" </a:t>
            </a:r>
            <a:r>
              <a:rPr b="0" lang="es-ES" sz="2800" spc="-1" strike="noStrike">
                <a:solidFill>
                  <a:srgbClr val="000000"/>
                </a:solidFill>
                <a:latin typeface="Arial Rounded MT Bold"/>
              </a:rPr>
              <a:t>que se sienten cómodos y son expertos en el uso de la tecnología.</a:t>
            </a:r>
            <a:r>
              <a:rPr b="0" lang="en-IE" sz="2800" spc="-1" strike="noStrike">
                <a:solidFill>
                  <a:srgbClr val="000000"/>
                </a:solidFill>
                <a:latin typeface="Arial Rounded MT Bold"/>
              </a:rPr>
              <a:t> - </a:t>
            </a:r>
            <a:r>
              <a:rPr b="0" lang="es-ES" sz="2800" spc="-1" strike="noStrike">
                <a:solidFill>
                  <a:srgbClr val="000000"/>
                </a:solidFill>
                <a:latin typeface="Arial Rounded MT Bold"/>
              </a:rPr>
              <a:t>suposiciones poco útiles sobre sus competencias en materia de alfabetización digital e informática</a:t>
            </a:r>
            <a:r>
              <a:rPr b="0" lang="en-IE" sz="2800" spc="-1" strike="noStrike">
                <a:solidFill>
                  <a:srgbClr val="000000"/>
                </a:solidFill>
                <a:latin typeface="Arial Rounded MT Bold"/>
              </a:rPr>
              <a:t> (</a:t>
            </a:r>
            <a:r>
              <a:rPr b="0" lang="en-IE" sz="2800" spc="-1" strike="noStrike" u="sng">
                <a:solidFill>
                  <a:srgbClr val="009999"/>
                </a:solidFill>
                <a:uFillTx/>
                <a:latin typeface="Arial Rounded MT Bold"/>
                <a:hlinkClick r:id="rId1"/>
              </a:rPr>
              <a:t>Jones and Czerniewicz, 2010</a:t>
            </a:r>
            <a:r>
              <a:rPr b="0" lang="en-IE" sz="2800" spc="-1" strike="noStrike">
                <a:solidFill>
                  <a:srgbClr val="000000"/>
                </a:solidFill>
                <a:latin typeface="Arial Rounded MT Bold"/>
              </a:rPr>
              <a: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Ciudadanía Digital - Nueve Elementos</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6:02:45Z</dcterms:modified>
  <cp:revision>482</cp:revision>
  <dc:subject/>
  <dc:title>Title</dc:title>
</cp:coreProperties>
</file>