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5E58DA1-5742-497D-9E38-01147F8DAE4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F89D37F-02B2-4856-B79A-F51C91FB7FA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5817DD8-E82D-43A3-B1C6-2BD26CF9D06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5B26EE9-651B-426F-9AD0-44C56F4A19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A36C1A-4A78-4097-BAC2-A508FD80B56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A0FE77A-EDDA-4181-9694-CA050EA88C3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7B133C6-DB6E-437F-93CC-2E968607F32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050A394-82C8-48A7-9240-7A22360A511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8E2CA44-F4C6-43BF-A9F3-E6334493AD7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FEE593F-11BA-42EA-8329-9224DF2D6A5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4994EB1-9DE7-45C9-8B4A-6C3F412A9F2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0734195-5BB7-434E-8A01-7A66673C388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974978B-FB75-4DFB-92B8-15FE967AEE2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A453F64-5F1C-4D01-8048-5E1F6313FA4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3F996D3-3CE7-42E6-A7C6-8B3BE91833D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D14A7AC-AFBB-417B-8C07-62D780D1E35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49B9A81-ED98-46A2-A096-19DFDEA59CB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F2C0FF9-DB90-4E20-A5C9-B8628B9B063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8D3C29A-73DE-4AEE-A2E3-8C566666822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36D9B884-0867-418A-AB7D-8170D286E2FF}"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437BB24-D248-4D6A-8DD1-030672BB61C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D48CAF3-CF7C-4DAA-B29D-A793B514441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CDC7D4B-79B0-40A2-A41F-955B2D04872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245D7D5-6FB1-487E-875C-7A15F2A0482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FE409BE-C94A-4B1C-8849-B95D3AC821E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DDE9619-61CA-40D4-96A1-3988BDEBF46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6C91186-CFA2-478E-B322-2124C8A6B21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F06065B-FA9B-4032-87E7-B76F0CB2085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5F1362F-F821-4F31-807D-D8CDB644CD6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62D49C1-C3C5-4D32-9214-E7C4B67FFE0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7E16A75-34C8-40A4-9ABB-E659F022D06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A714624-BC2F-4EEC-A63F-ECFCBFBA530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F0EC455-CE53-4BEC-81E9-999C71F2EC0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EC72992-E4C7-411C-B41E-9BDA55C3570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EF8DC56-87D3-4711-9A0A-D5D55B9FC0D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68403D2-2FAC-48CA-8FE4-97BBE6A433F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4AFE4BF-DFA3-4A09-A3DB-ACFAC2ACC72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5590E76-DE02-4BF6-B521-202B532302D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140CB7F-8D9E-46BF-8E66-F793F938140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2F92B7C-4C8B-4063-983E-727758A5446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535BBAE-ACCE-45E7-853D-F5A94AA63A2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756A66C-D552-4D33-B8AA-48D8C97CC64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CFC2826-F9F8-4841-8821-67DAB09BFB1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833E09A-41D6-4E42-98F6-8C7751F1F498}"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0A41D45-9D84-42FD-920D-9E012C88650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255A00-A1FC-43C7-AB94-C948A8E838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045E5A-499D-4CBA-880D-5B183A6C17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CADA12-609E-4824-8BE5-5399CCC157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D3F4A7-DC08-4AE9-AF01-E5DEE304DE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81B5B9-D2EA-4EB8-A179-ACE0D6CA57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DD515A-FE83-4545-888B-AC34330376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B17661-43AA-459E-95A8-97F5263F07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AC5391-0EBC-4AF2-AA36-E7D874C61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E58D5A-B27B-4F01-AFDE-6535E04487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524287-3589-4581-90E8-50C4F3C640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0FE48D1-8F24-45F2-A6F7-D05C37A6AD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43CDA4-C7C2-4C1C-97FF-523F01605D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CA7C0A7-ECEB-4409-8EB7-BAB2E08CDC8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21357A4-10A8-4150-81C3-92401DDA07F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95CCF2C-F453-4177-97A0-960C4BBDCA9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D2688EB-D7C6-48B2-96E9-C2AD42EAF3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7C5C6D-D0A5-4C7B-AA50-1471B5B7B3F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C71EEB3-4284-45D9-81EC-6D04F11B9F4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ADF4BB4-FCF0-485B-9566-892C0A7A725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DE2C32-8A56-4641-B521-9190A29745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FFD586-597F-46C7-A6CC-F25976EF555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BE1643D-9260-4DA9-8F7C-57445F35FF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68FCEC4-C924-4082-8CB3-A36537262CF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F94EE24-2B73-41D2-939B-D04E23FAD0D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B36AA8E-89AC-4737-A87A-371B4B65E86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20127DB-13FA-4398-B1C2-6F595123BD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F14C96A-82F1-4CCA-9815-D0D6A48C6C6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20E8277-A255-4FB2-9725-E8BA3BBCE62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3D48224-05B0-46F1-9046-F79301F1584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40C3FFF-389B-4C44-B737-0B9D4434DE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5428DE1-7B5F-444D-AC37-0F4AAFA4A6E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6247B5-92A8-4633-9746-3A9E8F7B102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D17635-823F-4597-B215-869A646014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72499BF-CD8B-4A51-B2D3-25D885D852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D968CCE-8FBC-4454-88CF-5BAA25C3B33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5F84AA0-21B0-40C4-A8F3-3E0D5ED44EF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801835B-88AA-4BBD-9B4B-B2136774574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829EFE9-7502-462C-B5ED-3B90FFB7F04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7DB09B6-8A4A-41C3-BF55-3E63B1D4AE1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F033EB2-91E7-496F-B2C0-503D707E8BA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1E61CC8-7B21-4CEE-8CA5-E94395C48BF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A47D802-A0F1-4E6C-97D9-B60AD6E866E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FE1C722-66C2-4AA3-8BA1-69B4238D1BC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6DD7F8-85FF-451A-99C2-2D4859338AD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95E233C-780E-441D-BB61-D620AFDC12F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7E4E963-5A37-499C-9866-9CF6FF1D22B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977BFF2-8B74-450A-AC8D-1558ED43945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272C14D-E29B-497E-828A-1B9BFC46CE1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73149FE-01FE-4324-98A3-78ADC95F2CA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A71138A-83D6-445E-989B-5F182448837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2B32385-670F-4CD8-8B03-69010275DF6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A6B65DC-95EE-4AAD-999A-7301E9AD05E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13AC083-B7D1-4B2E-AED3-27474045AEC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5AE582A-BBD5-46EE-87D8-89CA572CC6E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91F59BB-4453-476B-87CD-89A240273E8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8E61625-D48C-4F4C-B5B2-D7F397E405B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E64CB84-FCF4-4108-BE71-887195198AE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FBF6C51-E170-46B6-BE83-ABB02652890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D7EC519-95FC-43B5-8048-64717B3B3CA6}"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90F7C5C6-56EA-4A48-AD99-6770445479F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C8C007A-EE0A-476C-AF83-253B547F15C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E202141-9422-42EA-AC34-C8D6AE37A0C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012CE87-C88A-4D72-8CFE-50C210B905C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85B30EF-D91C-427A-9F13-9BFEF45A2B2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B71DD39-78C8-4566-9C80-8CF6B5F88DD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EB0F454-A4D3-4AD6-810A-E14A8FBC856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FB12E52-67AA-4AF3-AB46-600E7EFC457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24C85D6-B3A7-48B1-BE08-7DC52662E5C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4A36B30-01BB-4A90-A339-037C4480297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A47A5C1-CE80-472E-9B69-4DDD8AB0BB3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684A3FE-2B34-45FF-A93C-D0CADC5EF1E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B1DB200-66C0-4140-95CF-880794A6E0F9}"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8F04A78-A3B9-488B-8E45-AA31188E76D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0839423-9525-4471-AD22-B4E3898969A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D228568-0738-4F4A-B7E8-4D168EA5A458}"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9E09E-DC2D-4D27-880C-01F60A5E9C8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A70A-356B-4B99-9B28-D4B04BD181D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7FCD-CA76-4155-B214-9CF8271862E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5AE1-7C62-4CBE-B92C-4ABDAB311F7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CDE3-CCA5-4705-AD2E-CCD25ACF67A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E74F0-D59F-4D04-9303-715EA5944D5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C6DA-C3B9-4DCE-813A-1C97235F24F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302C5-8530-4B8F-A48F-0EC20FA7FB6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F481D-BB55-48B2-9520-5CCB9AE425E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406D6-34E7-44A9-9919-FDE3FB6EC77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JIo-V0beaBw"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55640" y="5157720"/>
            <a:ext cx="42483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Seguridad</a:t>
            </a:r>
            <a:endParaRPr b="0" lang="en-US" sz="3600" spc="-1" strike="noStrike">
              <a:solidFill>
                <a:srgbClr val="000000"/>
              </a:solidFill>
              <a:latin typeface="Arial"/>
            </a:endParaRPr>
          </a:p>
        </p:txBody>
      </p:sp>
      <p:sp>
        <p:nvSpPr>
          <p:cNvPr id="537" name="Rectángulo 1"/>
          <p:cNvSpPr/>
          <p:nvPr/>
        </p:nvSpPr>
        <p:spPr>
          <a:xfrm>
            <a:off x="34920" y="3141720"/>
            <a:ext cx="8872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Protección de Datos Personales y Privacida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Rounded MT Bold"/>
              </a:rPr>
              <a:t>Gestionar la propia identidad y reputación digital</a:t>
            </a:r>
            <a:endParaRPr b="0" lang="en-US" sz="3600" spc="-1" strike="noStrike">
              <a:solidFill>
                <a:srgbClr val="000000"/>
              </a:solidFill>
              <a:latin typeface="Arial"/>
            </a:endParaRPr>
          </a:p>
        </p:txBody>
      </p:sp>
      <p:sp>
        <p:nvSpPr>
          <p:cNvPr id="564" name=""/>
          <p:cNvSpPr txBox="1"/>
          <p:nvPr/>
        </p:nvSpPr>
        <p:spPr>
          <a:xfrm>
            <a:off x="-181080" y="1320480"/>
            <a:ext cx="4608720" cy="374760"/>
          </a:xfrm>
          <a:prstGeom prst="rect">
            <a:avLst/>
          </a:prstGeom>
          <a:noFill/>
          <a:ln w="0">
            <a:noFill/>
          </a:ln>
        </p:spPr>
        <p:txBody>
          <a:bodyPr anchor="t">
            <a:normAutofit fontScale="76000"/>
          </a:bodyPr>
          <a:p>
            <a:pPr lvl="1" marL="564480" indent="-217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Qué es la Identidad Digital?</a:t>
            </a:r>
            <a:endParaRPr b="0" lang="en-US" sz="2400" spc="-1" strike="noStrike">
              <a:solidFill>
                <a:srgbClr val="000000"/>
              </a:solidFill>
              <a:latin typeface="Arial"/>
            </a:endParaRPr>
          </a:p>
        </p:txBody>
      </p:sp>
      <p:sp>
        <p:nvSpPr>
          <p:cNvPr id="565" name="CasellaDiTesto 1"/>
          <p:cNvSpPr/>
          <p:nvPr/>
        </p:nvSpPr>
        <p:spPr>
          <a:xfrm>
            <a:off x="71280" y="1633680"/>
            <a:ext cx="8712360" cy="5031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La forma en que actuamos, lo que decimos, cómo lo decimos, y lo que hacemos para representar nuestros valores en línea es lo que sistemáticamente define nuestra identidad digital. </a:t>
            </a:r>
            <a:r>
              <a:rPr b="0" lang="en-GB" sz="1800" spc="-1" strike="noStrike">
                <a:solidFill>
                  <a:srgbClr val="000000"/>
                </a:solidFill>
                <a:latin typeface="Arial Rounded MT Bold"/>
              </a:rPr>
              <a:t>. </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Nuestra identidad digital no es más que la imagen espejo de nuestra imagen en general: un reflejo de las creencias, ideales y visiones fundamentales que desde la dimensión de la realidad se trasladan a la digital.</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Hablar de Identidad Digital significa abordar las siguientes cuestiones:</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Quiénes somos?</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Rounded MT Bold"/>
              </a:rPr>
              <a:t>¿Cómo hacemos lo que hacemos?</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Por qué lo hacemos?</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Para quié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536920" y="109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Gestionar la propia identidad y reputación digital</a:t>
            </a:r>
            <a:endParaRPr b="0" lang="en-US" sz="3200" spc="-1" strike="noStrike">
              <a:solidFill>
                <a:srgbClr val="000000"/>
              </a:solidFill>
              <a:latin typeface="Arial"/>
            </a:endParaRPr>
          </a:p>
        </p:txBody>
      </p:sp>
      <p:sp>
        <p:nvSpPr>
          <p:cNvPr id="567" name=""/>
          <p:cNvSpPr txBox="1"/>
          <p:nvPr/>
        </p:nvSpPr>
        <p:spPr>
          <a:xfrm>
            <a:off x="-252720" y="1568160"/>
            <a:ext cx="4895640" cy="492120"/>
          </a:xfrm>
          <a:prstGeom prst="rect">
            <a:avLst/>
          </a:prstGeom>
          <a:noFill/>
          <a:ln w="0">
            <a:noFill/>
          </a:ln>
        </p:spPr>
        <p:txBody>
          <a:bodyPr anchor="t">
            <a:normAutofit fontScale="99000"/>
          </a:bodyPr>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Qué es la Reputación Digital?</a:t>
            </a:r>
            <a:endParaRPr b="0" lang="en-US" sz="2400" spc="-1" strike="noStrike">
              <a:solidFill>
                <a:srgbClr val="000000"/>
              </a:solidFill>
              <a:latin typeface="Arial"/>
            </a:endParaRPr>
          </a:p>
          <a:p>
            <a:pPr lvl="1" marL="735480" indent="-282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CasellaDiTesto 6"/>
          <p:cNvSpPr/>
          <p:nvPr/>
        </p:nvSpPr>
        <p:spPr>
          <a:xfrm>
            <a:off x="108000" y="2708280"/>
            <a:ext cx="8785080" cy="3176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a reputación de uno simplemente muestra y revela lo que los demás piensan de él y de su percepción general.</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a reputación indica cómo el público en general percibe los valores que comunicamos en línea y a través de nuestras cuentas de medios social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La percepción de los demás puede no corresponder a los valores que queremos comunic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410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Gestionar la propia identidad y reputación digital</a:t>
            </a:r>
            <a:endParaRPr b="0" lang="en-US" sz="3200" spc="-1" strike="noStrike">
              <a:solidFill>
                <a:srgbClr val="000000"/>
              </a:solidFill>
              <a:latin typeface="Arial"/>
            </a:endParaRPr>
          </a:p>
        </p:txBody>
      </p:sp>
      <p:sp>
        <p:nvSpPr>
          <p:cNvPr id="570" name=""/>
          <p:cNvSpPr txBox="1"/>
          <p:nvPr/>
        </p:nvSpPr>
        <p:spPr>
          <a:xfrm>
            <a:off x="-360" y="1341000"/>
            <a:ext cx="7931160" cy="5749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dentidad Digital y Reputación</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CasellaDiTesto 6"/>
          <p:cNvSpPr/>
          <p:nvPr/>
        </p:nvSpPr>
        <p:spPr>
          <a:xfrm>
            <a:off x="179280" y="2503440"/>
            <a:ext cx="8785440" cy="3134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No hace falta decir que la identidad y la reputación digitales figuran como dos activos increíblemente valiosos tanto como cualquier otra característica tangible.</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Una fuerte identidad retratada en línea se traduce en una sólida impresión en nuestra vida diaria.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s importante diseñar una identidad online lo más cercana posible a nuestros valores, creencias y actitudes rea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Gestionar la propia identidad y reputación digital</a:t>
            </a:r>
            <a:endParaRPr b="0" lang="en-US" sz="3200" spc="-1" strike="noStrike">
              <a:solidFill>
                <a:srgbClr val="000000"/>
              </a:solidFill>
              <a:latin typeface="Arial"/>
            </a:endParaRPr>
          </a:p>
        </p:txBody>
      </p:sp>
      <p:sp>
        <p:nvSpPr>
          <p:cNvPr id="573" name=""/>
          <p:cNvSpPr txBox="1"/>
          <p:nvPr/>
        </p:nvSpPr>
        <p:spPr>
          <a:xfrm>
            <a:off x="-3600" y="1484280"/>
            <a:ext cx="7931160" cy="6890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dentidad Digital y Reputación</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CasellaDiTesto 1"/>
          <p:cNvSpPr/>
          <p:nvPr/>
        </p:nvSpPr>
        <p:spPr>
          <a:xfrm>
            <a:off x="250920" y="1989000"/>
            <a:ext cx="8642160" cy="46659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Durante años, los expertos en comunicación y los profesionales de la comunicación definieron una lista interminable de mejores prácticas y enfoques reproducibles para preservar y reforzar lo que primero se conoció como "reputación" y luego, con el paso de los años, "reputación digital". Las diferencias son mínimas, considerando la segunda como una evolución inevitable de la primera.</a:t>
            </a:r>
            <a:endParaRPr b="0" lang="en-US" sz="20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Todo este corpus de resultados se puede resumir en unos pocos puntos de referenc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Gestionar la propia identidad y reputación digital</a:t>
            </a:r>
            <a:endParaRPr b="0" lang="en-US" sz="3200" spc="-1" strike="noStrike">
              <a:solidFill>
                <a:srgbClr val="000000"/>
              </a:solidFill>
              <a:latin typeface="Arial"/>
            </a:endParaRPr>
          </a:p>
        </p:txBody>
      </p:sp>
      <p:sp>
        <p:nvSpPr>
          <p:cNvPr id="576"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dentidad Digital y Reputación</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CasellaDiTesto 6"/>
          <p:cNvSpPr/>
          <p:nvPr/>
        </p:nvSpPr>
        <p:spPr>
          <a:xfrm>
            <a:off x="179280" y="2133720"/>
            <a:ext cx="9144000" cy="4131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 creíble y digno de confianza.</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tablar diálogos constructivos.</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ceptar la retroalimentación negativa con madurez y sabiduría.</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coger la "diversidad" y aceptar el riesgo de ser incomprendido.</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Habla con sinceridad y respeto a tus interlocutores digitales.</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scucha atentamente a tu entorno y rastrea cualquier señal de advertencia/oportunidad.</a:t>
            </a:r>
            <a:endParaRPr b="0" lang="en-US" sz="2000" spc="-1" strike="noStrike">
              <a:solidFill>
                <a:srgbClr val="000000"/>
              </a:solidFill>
              <a:latin typeface="Arial"/>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53840" y="252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GPD - Reglamentos de la UE sobre protección de datos</a:t>
            </a:r>
            <a:endParaRPr b="0" lang="en-US" sz="3200" spc="-1" strike="noStrike">
              <a:solidFill>
                <a:srgbClr val="000000"/>
              </a:solidFill>
              <a:latin typeface="Arial"/>
            </a:endParaRPr>
          </a:p>
        </p:txBody>
      </p:sp>
      <p:sp>
        <p:nvSpPr>
          <p:cNvPr id="579" name=""/>
          <p:cNvSpPr txBox="1"/>
          <p:nvPr/>
        </p:nvSpPr>
        <p:spPr>
          <a:xfrm>
            <a:off x="-252720" y="125388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Qué es el </a:t>
            </a:r>
            <a:r>
              <a:rPr b="0" lang="hu-HU" sz="2400" spc="-1" strike="noStrike">
                <a:solidFill>
                  <a:srgbClr val="000000"/>
                </a:solidFill>
                <a:latin typeface="Arial Rounded MT Bold"/>
              </a:rPr>
              <a:t> </a:t>
            </a:r>
            <a:r>
              <a:rPr b="0" lang="en-US" sz="2400" spc="-1" strike="noStrike">
                <a:solidFill>
                  <a:srgbClr val="000000"/>
                </a:solidFill>
                <a:latin typeface="Arial Rounded MT Bold"/>
              </a:rPr>
              <a:t>RGPD?</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CasellaDiTesto 1"/>
          <p:cNvSpPr/>
          <p:nvPr/>
        </p:nvSpPr>
        <p:spPr>
          <a:xfrm>
            <a:off x="233280" y="1628640"/>
            <a:ext cx="8677440" cy="50317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RGPD </a:t>
            </a:r>
            <a:r>
              <a:rPr b="1" lang="es-ES" sz="1800" spc="-1" strike="noStrike">
                <a:solidFill>
                  <a:srgbClr val="000000"/>
                </a:solidFill>
                <a:latin typeface="Arial Rounded MT Bold"/>
              </a:rPr>
              <a:t>(Reglamento General de Protección de Datos)</a:t>
            </a:r>
            <a:r>
              <a:rPr b="0" lang="en-GB" sz="1800" spc="-1" strike="noStrike">
                <a:solidFill>
                  <a:srgbClr val="000000"/>
                </a:solidFill>
                <a:latin typeface="Arial Rounded MT Bold"/>
              </a:rPr>
              <a:t> </a:t>
            </a:r>
            <a:r>
              <a:rPr b="0" lang="es-ES" sz="1800" spc="-1" strike="noStrike">
                <a:solidFill>
                  <a:srgbClr val="000000"/>
                </a:solidFill>
                <a:latin typeface="Arial Rounded MT Bold"/>
              </a:rPr>
              <a:t>es un reglamento de la UE muy reciente - en plena aplicación en todo el territorio europeo desde mayo de 2018 - que regula estrictamente</a:t>
            </a:r>
            <a:r>
              <a:rPr b="0" lang="en-GB" sz="1800" spc="-1" strike="noStrike">
                <a:solidFill>
                  <a:srgbClr val="000000"/>
                </a:solidFill>
                <a:latin typeface="Arial Rounded MT Bold"/>
              </a:rPr>
              <a:t> </a:t>
            </a:r>
            <a:r>
              <a:rPr b="0" lang="es-ES" sz="1800" spc="-1" strike="noStrike">
                <a:solidFill>
                  <a:srgbClr val="000000"/>
                </a:solidFill>
                <a:latin typeface="Arial Rounded MT Bold"/>
              </a:rPr>
              <a:t>"el tratamiento por parte de un </a:t>
            </a:r>
            <a:r>
              <a:rPr b="1" lang="es-ES" sz="1800" spc="-1" strike="noStrike">
                <a:solidFill>
                  <a:srgbClr val="000000"/>
                </a:solidFill>
                <a:latin typeface="Arial Rounded MT Bold"/>
              </a:rPr>
              <a:t>individuo</a:t>
            </a:r>
            <a:r>
              <a:rPr b="0" lang="es-ES" sz="1800" spc="-1" strike="noStrike">
                <a:solidFill>
                  <a:srgbClr val="000000"/>
                </a:solidFill>
                <a:latin typeface="Arial Rounded MT Bold"/>
              </a:rPr>
              <a:t>, una </a:t>
            </a:r>
            <a:r>
              <a:rPr b="1" lang="es-ES" sz="1800" spc="-1" strike="noStrike">
                <a:solidFill>
                  <a:srgbClr val="000000"/>
                </a:solidFill>
                <a:latin typeface="Arial Rounded MT Bold"/>
              </a:rPr>
              <a:t>empresa</a:t>
            </a:r>
            <a:r>
              <a:rPr b="0" lang="es-ES" sz="1800" spc="-1" strike="noStrike">
                <a:solidFill>
                  <a:srgbClr val="000000"/>
                </a:solidFill>
                <a:latin typeface="Arial Rounded MT Bold"/>
              </a:rPr>
              <a:t> o una </a:t>
            </a:r>
            <a:r>
              <a:rPr b="1" lang="es-ES" sz="1800" spc="-1" strike="noStrike">
                <a:solidFill>
                  <a:srgbClr val="000000"/>
                </a:solidFill>
                <a:latin typeface="Arial Rounded MT Bold"/>
              </a:rPr>
              <a:t>organización</a:t>
            </a:r>
            <a:r>
              <a:rPr b="0" lang="es-ES" sz="1800" spc="-1" strike="noStrike">
                <a:solidFill>
                  <a:srgbClr val="000000"/>
                </a:solidFill>
                <a:latin typeface="Arial Rounded MT Bold"/>
              </a:rPr>
              <a:t> de los </a:t>
            </a:r>
            <a:r>
              <a:rPr b="1" lang="es-ES" sz="1800" spc="-1" strike="noStrike">
                <a:solidFill>
                  <a:srgbClr val="000000"/>
                </a:solidFill>
                <a:latin typeface="Arial Rounded MT Bold"/>
              </a:rPr>
              <a:t>datos personales </a:t>
            </a:r>
            <a:r>
              <a:rPr b="0" lang="es-ES" sz="1800" spc="-1" strike="noStrike">
                <a:solidFill>
                  <a:srgbClr val="000000"/>
                </a:solidFill>
                <a:latin typeface="Arial Rounded MT Bold"/>
              </a:rPr>
              <a:t>relativos a las personas en la UE".</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 </a:t>
            </a:r>
            <a:r>
              <a:rPr b="0" lang="es-ES" sz="1800" spc="-1" strike="noStrike">
                <a:solidFill>
                  <a:srgbClr val="000000"/>
                </a:solidFill>
                <a:latin typeface="Arial Rounded MT Bold"/>
              </a:rPr>
              <a:t>El verbo "tratamiento" se refiere inequívocamente a: la recogida, registro, organización, estructuración, almacenamiento, adaptación (o alteración), recuperación, consulta, uso, divulgación por transmisión, difusión (o cualquier otra forma de puesta a disposición), alineación o combinación, restricción, borrado o destrucción de datos personales.</a:t>
            </a:r>
            <a:r>
              <a:rPr b="0" lang="en-GB" sz="1800" spc="-1" strike="noStrike">
                <a:solidFill>
                  <a:srgbClr val="000000"/>
                </a:solidFill>
                <a:latin typeface="Arial Rounded MT Bold"/>
              </a:rPr>
              <a:t> (https://ec.europa.eu/info/what-constitutes-data-processing_en)</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700360" y="18864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GPD - Reglamentos de la UE sobre protección de datos</a:t>
            </a:r>
            <a:endParaRPr b="0" lang="en-US" sz="3200" spc="-1" strike="noStrike">
              <a:solidFill>
                <a:srgbClr val="000000"/>
              </a:solidFill>
              <a:latin typeface="Arial"/>
            </a:endParaRPr>
          </a:p>
        </p:txBody>
      </p:sp>
      <p:sp>
        <p:nvSpPr>
          <p:cNvPr id="582" name=""/>
          <p:cNvSpPr txBox="1"/>
          <p:nvPr/>
        </p:nvSpPr>
        <p:spPr>
          <a:xfrm>
            <a:off x="-3600" y="1773000"/>
            <a:ext cx="3745080" cy="431640"/>
          </a:xfrm>
          <a:prstGeom prst="rect">
            <a:avLst/>
          </a:prstGeom>
          <a:noFill/>
          <a:ln w="0">
            <a:noFill/>
          </a:ln>
        </p:spPr>
        <p:txBody>
          <a:bodyPr anchor="t">
            <a:normAutofit fontScale="80000"/>
          </a:bodyPr>
          <a:p>
            <a:pPr lvl="1" marL="59436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Qué es RGPD?</a:t>
            </a:r>
            <a:endParaRPr b="0" lang="en-US" sz="28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CasellaDiTesto 1"/>
          <p:cNvSpPr/>
          <p:nvPr/>
        </p:nvSpPr>
        <p:spPr>
          <a:xfrm>
            <a:off x="179280" y="2781360"/>
            <a:ext cx="8569440" cy="4117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l RGPD </a:t>
            </a:r>
            <a:r>
              <a:rPr b="0" lang="es-ES" sz="2400" spc="-1" strike="noStrike">
                <a:solidFill>
                  <a:srgbClr val="000000"/>
                </a:solidFill>
                <a:latin typeface="Arial Rounded MT Bold"/>
              </a:rPr>
              <a:t>se basa en dos principios fundamentales:</a:t>
            </a:r>
            <a:endParaRPr b="0" lang="en-US" sz="24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Proteger a los ciudadanos comunes del abuso de datos.</a:t>
            </a:r>
            <a:endParaRPr b="0" lang="en-US" sz="2400" spc="-1" strike="noStrike">
              <a:solidFill>
                <a:srgbClr val="000000"/>
              </a:solidFill>
              <a:latin typeface="Arial"/>
            </a:endParaRPr>
          </a:p>
          <a:p>
            <a:pPr lvl="1" marL="7430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mpoderar a las empresas desde "un campo de juego nivelado".</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626920" y="1998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GPD - Reglamentos de la UE sobre protección de datos</a:t>
            </a:r>
            <a:endParaRPr b="0" lang="en-US" sz="3200" spc="-1" strike="noStrike">
              <a:solidFill>
                <a:srgbClr val="000000"/>
              </a:solidFill>
              <a:latin typeface="Arial"/>
            </a:endParaRPr>
          </a:p>
        </p:txBody>
      </p:sp>
      <p:sp>
        <p:nvSpPr>
          <p:cNvPr id="585" name=""/>
          <p:cNvSpPr txBox="1"/>
          <p:nvPr/>
        </p:nvSpPr>
        <p:spPr>
          <a:xfrm>
            <a:off x="-181440" y="1625400"/>
            <a:ext cx="7931160" cy="564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es el RGPD? La perspectiva empresarial</a:t>
            </a:r>
            <a:endParaRPr b="0" lang="en-US" sz="2400" spc="-1" strike="noStrike">
              <a:solidFill>
                <a:srgbClr val="000000"/>
              </a:solidFill>
              <a:latin typeface="Arial"/>
            </a:endParaRPr>
          </a:p>
        </p:txBody>
      </p:sp>
      <p:sp>
        <p:nvSpPr>
          <p:cNvPr id="586" name="CasellaDiTesto 1"/>
          <p:cNvSpPr/>
          <p:nvPr/>
        </p:nvSpPr>
        <p:spPr>
          <a:xfrm>
            <a:off x="324000" y="2190600"/>
            <a:ext cx="8362800" cy="43002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l RGPD representa un conjunto estricto de "DEBERES DE HACER" en términos de:</a:t>
            </a:r>
            <a:endParaRPr b="0" lang="en-US" sz="20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Tipo de datos procesables</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Finalidad del tratamiento</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ea typeface="Arial"/>
              </a:rPr>
              <a:t>Cantidad de datos recolectables y duración de la disposición de los datos</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ea typeface="Arial"/>
              </a:rPr>
              <a:t>Comunicación del cobro, Obligaciones y cumplimiento global</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ea typeface="Arial"/>
              </a:rPr>
              <a:t>Tratar el ejercicio del derecho de los ciudadanos</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Para una comprensión completa: </a:t>
            </a:r>
            <a:r>
              <a:rPr b="1" lang="en-GB" sz="1800" spc="-1" strike="noStrike">
                <a:solidFill>
                  <a:srgbClr val="000000"/>
                </a:solidFill>
                <a:latin typeface="Arial Rounded MT Bold"/>
              </a:rPr>
              <a:t>Rules for Business and Organizations</a:t>
            </a:r>
            <a:r>
              <a:rPr b="0" lang="en-GB" sz="1800" spc="-1" strike="noStrike">
                <a:solidFill>
                  <a:srgbClr val="000000"/>
                </a:solidFill>
                <a:latin typeface="Arial Rounded MT Bold"/>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70036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RGPD - Reglamentos de la UE sobre protección de datos</a:t>
            </a:r>
            <a:endParaRPr b="0" lang="en-US" sz="3200" spc="-1" strike="noStrike">
              <a:solidFill>
                <a:srgbClr val="000000"/>
              </a:solidFill>
              <a:latin typeface="Arial"/>
            </a:endParaRPr>
          </a:p>
        </p:txBody>
      </p:sp>
      <p:sp>
        <p:nvSpPr>
          <p:cNvPr id="588" name=""/>
          <p:cNvSpPr txBox="1"/>
          <p:nvPr/>
        </p:nvSpPr>
        <p:spPr>
          <a:xfrm>
            <a:off x="-108360" y="1415880"/>
            <a:ext cx="7931160" cy="493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es el RGPD? La perspectiva del ciudadano</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CasellaDiTesto 1"/>
          <p:cNvSpPr/>
          <p:nvPr/>
        </p:nvSpPr>
        <p:spPr>
          <a:xfrm>
            <a:off x="179280" y="1909800"/>
            <a:ext cx="856944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Por otro lado, el RGPD se muestra como un fuerte medio de protección contra el derecho a la privacidad y el abuso del procesamiento de datos:</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Rounded MT Bold"/>
              </a:rPr>
              <a:t>¿Cuál es el objeto exacto bajo protección y cómo se protege exactamente?</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Cuáles son mis derechos?</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Rounded MT Bold"/>
              </a:rPr>
              <a:t>¿Cómo puedo saber si uno de mis derechos es violado y qué hago para que se haga valer?</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Rounded MT Bold"/>
              </a:rPr>
              <a:t>¿Cómo puedo recuperar mis datos?</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Rounded MT Bold"/>
              </a:rPr>
              <a:t>¿Cuándo debo/no debo ejercer mis derechos?</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Etc... Para una comprensión completa:</a:t>
            </a:r>
            <a:r>
              <a:rPr b="0" lang="en-GB" sz="1800" spc="-1" strike="noStrike">
                <a:solidFill>
                  <a:srgbClr val="000000"/>
                </a:solidFill>
                <a:latin typeface="Arial Rounded MT Bold"/>
              </a:rPr>
              <a:t> </a:t>
            </a:r>
            <a:r>
              <a:rPr b="1" lang="en-GB" sz="1800" spc="-1" strike="noStrike">
                <a:solidFill>
                  <a:srgbClr val="000000"/>
                </a:solidFill>
                <a:latin typeface="Arial Rounded MT Bold"/>
              </a:rPr>
              <a:t>Rights for Citizens</a:t>
            </a:r>
            <a:r>
              <a:rPr b="0"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934640" y="417240"/>
            <a:ext cx="7209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Rounded MT Bold"/>
              </a:rPr>
              <a:t>DPI (derechos de propiedad intelectual) y derechos de autor</a:t>
            </a:r>
            <a:endParaRPr b="0" lang="en-US" sz="4000" spc="-1" strike="noStrike">
              <a:solidFill>
                <a:srgbClr val="000000"/>
              </a:solidFill>
              <a:latin typeface="Arial"/>
            </a:endParaRPr>
          </a:p>
        </p:txBody>
      </p:sp>
      <p:sp>
        <p:nvSpPr>
          <p:cNvPr id="591"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Buscando una definición:  </a:t>
            </a:r>
            <a:endParaRPr b="0" lang="en-US" sz="2400" spc="-1" strike="noStrike">
              <a:solidFill>
                <a:srgbClr val="000000"/>
              </a:solidFill>
              <a:latin typeface="Arial"/>
            </a:endParaRPr>
          </a:p>
        </p:txBody>
      </p:sp>
      <p:sp>
        <p:nvSpPr>
          <p:cNvPr id="592" name="CasellaDiTesto 2"/>
          <p:cNvSpPr/>
          <p:nvPr/>
        </p:nvSpPr>
        <p:spPr>
          <a:xfrm>
            <a:off x="179280" y="1989000"/>
            <a:ext cx="8785440" cy="3905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gún la OMPI (Organización Mundial de la Propiedad Intelectual), la propiedad intelectual:</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Rounded MT Bold"/>
              </a:rPr>
              <a:t> </a:t>
            </a:r>
            <a:r>
              <a:rPr b="0" i="1" lang="es-ES" sz="2000" spc="-1" strike="noStrike">
                <a:solidFill>
                  <a:srgbClr val="000000"/>
                </a:solidFill>
                <a:latin typeface="Arial Rounded MT Bold"/>
              </a:rPr>
              <a:t>"...se refiere a las creaciones de la mente, como las invenciones; las obras literarias y artísticas; los diseños; y los símbolos, nombres e imágenes utilizados en el comercio"</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Esta definición - intencionadamente tan vaga y general - incluye todas las formas posibles en las que el cerebro humano puede encontrar una nueva e innovadora expresión de su creatividad e inteligencia. </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189000"/>
            <a:ext cx="6356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Objetivos y Metas</a:t>
            </a:r>
            <a:endParaRPr b="0" lang="en-US" sz="3800" spc="-1" strike="noStrike">
              <a:solidFill>
                <a:srgbClr val="000000"/>
              </a:solidFill>
              <a:latin typeface="Arial"/>
            </a:endParaRPr>
          </a:p>
        </p:txBody>
      </p:sp>
      <p:sp>
        <p:nvSpPr>
          <p:cNvPr id="539" name="PlaceHolder 2"/>
          <p:cNvSpPr>
            <a:spLocks noGrp="1"/>
          </p:cNvSpPr>
          <p:nvPr>
            <p:ph/>
          </p:nvPr>
        </p:nvSpPr>
        <p:spPr>
          <a:xfrm>
            <a:off x="457200" y="1268280"/>
            <a:ext cx="8229600" cy="4525920"/>
          </a:xfrm>
          <a:prstGeom prst="rect">
            <a:avLst/>
          </a:prstGeom>
          <a:noFill/>
          <a:ln w="0">
            <a:noFill/>
          </a:ln>
        </p:spPr>
        <p:txBody>
          <a:bodyPr anchor="t">
            <a:normAutofit fontScale="99000"/>
          </a:bodyPr>
          <a:p>
            <a:pPr marL="799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Rounded MT Bold"/>
              </a:rPr>
              <a:t>Al final de este módulo podrás:</a:t>
            </a:r>
            <a:endParaRPr b="0" lang="en-US" sz="28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Entender los principios básicos que distinguen los datos personales de los datos sensibles. </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Profundizar en las nuevas políticas europeas de privacidad y procesamiento de datos.</a:t>
            </a:r>
            <a:endParaRPr b="0" lang="en-US" sz="26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Rounded MT Bold"/>
              </a:rPr>
              <a:t>Comprender de qué trata la Propiedad Intelectual y las principales formas de protección</a:t>
            </a:r>
            <a:endParaRPr b="0" lang="en-US" sz="26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590920" y="19836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PI (derechos de propiedad intelectual) y derechos de autor</a:t>
            </a:r>
            <a:endParaRPr b="0" lang="en-US" sz="3200" spc="-1" strike="noStrike">
              <a:solidFill>
                <a:srgbClr val="000000"/>
              </a:solidFill>
              <a:latin typeface="Arial"/>
            </a:endParaRPr>
          </a:p>
        </p:txBody>
      </p:sp>
      <p:sp>
        <p:nvSpPr>
          <p:cNvPr id="594"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os de propiedad intelectual: </a:t>
            </a:r>
            <a:endParaRPr b="0" lang="en-US" sz="2400" spc="-1" strike="noStrike">
              <a:solidFill>
                <a:srgbClr val="000000"/>
              </a:solidFill>
              <a:latin typeface="Arial"/>
            </a:endParaRPr>
          </a:p>
        </p:txBody>
      </p:sp>
      <p:sp>
        <p:nvSpPr>
          <p:cNvPr id="595" name="CasellaDiTesto 2"/>
          <p:cNvSpPr/>
          <p:nvPr/>
        </p:nvSpPr>
        <p:spPr>
          <a:xfrm>
            <a:off x="179280" y="2173320"/>
            <a:ext cx="8785440" cy="283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or la razón mencionada, cada tipo de "producto de la mente" está destinado a un tipo específico de protección:</a:t>
            </a: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MARCAS REGISTRADAS</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Rounded MT Bold"/>
              </a:rPr>
              <a:t>"Una marca es un signo capaz de distinguir los productos o servicios de una empresa de los de otras empresas" (OMPI).</a:t>
            </a:r>
            <a:endParaRPr b="0" lang="en-US" sz="2000" spc="-1" strike="noStrike">
              <a:solidFill>
                <a:srgbClr val="000000"/>
              </a:solidFill>
              <a:latin typeface="Arial"/>
            </a:endParaRPr>
          </a:p>
        </p:txBody>
      </p:sp>
      <p:pic>
        <p:nvPicPr>
          <p:cNvPr id="596" name="Picture 2" descr="https://upload.wikimedia.org/wikipedia/commons/thumb/2/2b/RegisteredTM.svg/800px-RegisteredTM.svg.png"/>
          <p:cNvPicPr/>
          <p:nvPr/>
        </p:nvPicPr>
        <p:blipFill>
          <a:blip r:embed="rId1"/>
          <a:stretch/>
        </p:blipFill>
        <p:spPr>
          <a:xfrm>
            <a:off x="3713040" y="3435480"/>
            <a:ext cx="355680" cy="338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58408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PI (derechos de propiedad intelectual) y derechos de autor</a:t>
            </a:r>
            <a:endParaRPr b="0" lang="en-US" sz="3200" spc="-1" strike="noStrike">
              <a:solidFill>
                <a:srgbClr val="000000"/>
              </a:solidFill>
              <a:latin typeface="Arial"/>
            </a:endParaRPr>
          </a:p>
        </p:txBody>
      </p:sp>
      <p:sp>
        <p:nvSpPr>
          <p:cNvPr id="598" name=""/>
          <p:cNvSpPr txBox="1"/>
          <p:nvPr/>
        </p:nvSpPr>
        <p:spPr>
          <a:xfrm>
            <a:off x="-181440" y="1773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os de propiedad intelectual</a:t>
            </a:r>
            <a:endParaRPr b="0" lang="en-US" sz="2400" spc="-1" strike="noStrike">
              <a:solidFill>
                <a:srgbClr val="000000"/>
              </a:solidFill>
              <a:latin typeface="Arial"/>
            </a:endParaRPr>
          </a:p>
        </p:txBody>
      </p:sp>
      <p:sp>
        <p:nvSpPr>
          <p:cNvPr id="599" name="CasellaDiTesto 1"/>
          <p:cNvSpPr/>
          <p:nvPr/>
        </p:nvSpPr>
        <p:spPr>
          <a:xfrm>
            <a:off x="216000" y="2647800"/>
            <a:ext cx="8712000" cy="3965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PATENTES</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Rounded MT Bold"/>
              </a:rPr>
              <a:t>"Una patente es un derecho exclusivo concedido para una invención, que es un producto o un procedimiento que proporciona, en general, una nueva forma de hacer algo, u ofrece una nueva solución técnica a un problema. Para obtener una patente, la información técnica sobre la invención debe ser divulgada al público en una solicitud de patente" (OMPI).</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700360" y="35712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PI (derechos de propiedad intelectual) y derechos de autor</a:t>
            </a:r>
            <a:endParaRPr b="0" lang="en-US" sz="3200" spc="-1" strike="noStrike">
              <a:solidFill>
                <a:srgbClr val="000000"/>
              </a:solidFill>
              <a:latin typeface="Arial"/>
            </a:endParaRPr>
          </a:p>
        </p:txBody>
      </p:sp>
      <p:sp>
        <p:nvSpPr>
          <p:cNvPr id="601" name=""/>
          <p:cNvSpPr txBox="1"/>
          <p:nvPr/>
        </p:nvSpPr>
        <p:spPr>
          <a:xfrm>
            <a:off x="-324360" y="168084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os de propiedad intelectual: </a:t>
            </a:r>
            <a:endParaRPr b="0" lang="en-US" sz="2400" spc="-1" strike="noStrike">
              <a:solidFill>
                <a:srgbClr val="000000"/>
              </a:solidFill>
              <a:latin typeface="Arial"/>
            </a:endParaRPr>
          </a:p>
        </p:txBody>
      </p:sp>
      <p:sp>
        <p:nvSpPr>
          <p:cNvPr id="602" name="CasellaDiTesto 1"/>
          <p:cNvSpPr/>
          <p:nvPr/>
        </p:nvSpPr>
        <p:spPr>
          <a:xfrm>
            <a:off x="216000" y="2647800"/>
            <a:ext cx="871200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DISEÑOS INDUSTRIALES</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es-ES" sz="2000" spc="-1" strike="noStrike">
                <a:solidFill>
                  <a:srgbClr val="000000"/>
                </a:solidFill>
                <a:latin typeface="Arial Rounded MT Bold"/>
              </a:rPr>
              <a:t>Los diseños industriales son composiciones de líneas o colores o cualquier forma tridimensional que da una apariencia especial a un producto o artesanía. Protegen el aspecto ornamental o estético de un artículo útil, que normalmente apela al sentido de la vista o del tacto y puede ser reproducido en cantidades significativas" (OMPI).</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763360" y="260280"/>
            <a:ext cx="63565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PI (derechos de propiedad intelectual) y derechos de autor</a:t>
            </a:r>
            <a:endParaRPr b="0" lang="en-US" sz="3200" spc="-1" strike="noStrike">
              <a:solidFill>
                <a:srgbClr val="000000"/>
              </a:solidFill>
              <a:latin typeface="Arial"/>
            </a:endParaRPr>
          </a:p>
        </p:txBody>
      </p:sp>
      <p:sp>
        <p:nvSpPr>
          <p:cNvPr id="604"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os de propiedad intelectual </a:t>
            </a:r>
            <a:endParaRPr b="0" lang="en-US" sz="2400" spc="-1" strike="noStrike">
              <a:solidFill>
                <a:srgbClr val="000000"/>
              </a:solidFill>
              <a:latin typeface="Arial"/>
            </a:endParaRPr>
          </a:p>
        </p:txBody>
      </p:sp>
      <p:sp>
        <p:nvSpPr>
          <p:cNvPr id="605" name="CasellaDiTesto 1"/>
          <p:cNvSpPr/>
          <p:nvPr/>
        </p:nvSpPr>
        <p:spPr>
          <a:xfrm>
            <a:off x="216000" y="1954080"/>
            <a:ext cx="8712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Rounded MT Bold"/>
              </a:rPr>
              <a:t>COPYRIGHT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a:t>
            </a:r>
            <a:r>
              <a:rPr b="0" i="1" lang="en-GB" sz="1800" spc="-1" strike="noStrike">
                <a:solidFill>
                  <a:srgbClr val="000000"/>
                </a:solidFill>
                <a:latin typeface="Arial Rounded MT Bold"/>
              </a:rPr>
              <a:t>El Copyright </a:t>
            </a:r>
            <a:r>
              <a:rPr b="0" i="1" lang="es-ES" sz="1800" spc="-1" strike="noStrike">
                <a:solidFill>
                  <a:srgbClr val="000000"/>
                </a:solidFill>
                <a:latin typeface="Arial Rounded MT Bold"/>
              </a:rPr>
              <a:t>(o derecho de autor) es un término legal utilizado para describir los derechos que los creadores tienen sobre sus obras literarias y artísticas. Las obras amparadas por el derecho de autor abarcan desde los libros, la música, las pinturas, las esculturas y las películas, hasta los programas informáticos, las bases de datos, los anuncios, los mapas y los dibujos técnicos" (OMPI).</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Rounded MT Bold"/>
              </a:rPr>
              <a:t>El derecho de autor cubre un amplio espectro de necesidades que no se encuentran en ninguna otra parte de la legislación sobre derechos de propiedad intelectual. El único campo en el que el Derecho de Autor no encuentra espacio es el dominio de las ideas abstractas, procedimientos y métodos.</a:t>
            </a:r>
            <a:endParaRPr b="0" lang="en-US" sz="1800" spc="-1" strike="noStrike">
              <a:solidFill>
                <a:srgbClr val="000000"/>
              </a:solidFill>
              <a:latin typeface="Arial"/>
            </a:endParaRPr>
          </a:p>
        </p:txBody>
      </p:sp>
      <p:pic>
        <p:nvPicPr>
          <p:cNvPr id="606" name="Picture 4" descr="Risultati immagini per COPYRIGHT"/>
          <p:cNvPicPr/>
          <p:nvPr/>
        </p:nvPicPr>
        <p:blipFill>
          <a:blip r:embed="rId1"/>
          <a:stretch/>
        </p:blipFill>
        <p:spPr>
          <a:xfrm>
            <a:off x="2093760" y="1928880"/>
            <a:ext cx="490680" cy="48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62692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PI (derechos de propiedad intelectual) y derechos de autor</a:t>
            </a:r>
            <a:endParaRPr b="0" lang="en-US" sz="3200" spc="-1" strike="noStrike">
              <a:solidFill>
                <a:srgbClr val="000000"/>
              </a:solidFill>
              <a:latin typeface="Arial"/>
            </a:endParaRPr>
          </a:p>
        </p:txBody>
      </p:sp>
      <p:sp>
        <p:nvSpPr>
          <p:cNvPr id="608" name=""/>
          <p:cNvSpPr txBox="1"/>
          <p:nvPr/>
        </p:nvSpPr>
        <p:spPr>
          <a:xfrm>
            <a:off x="-324360" y="1557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ipos de propiedad intelectual:</a:t>
            </a:r>
            <a:endParaRPr b="0" lang="en-US" sz="2400" spc="-1" strike="noStrike">
              <a:solidFill>
                <a:srgbClr val="000000"/>
              </a:solidFill>
              <a:latin typeface="Arial"/>
            </a:endParaRPr>
          </a:p>
        </p:txBody>
      </p:sp>
      <p:sp>
        <p:nvSpPr>
          <p:cNvPr id="609" name="CasellaDiTesto 1"/>
          <p:cNvSpPr/>
          <p:nvPr/>
        </p:nvSpPr>
        <p:spPr>
          <a:xfrm>
            <a:off x="216000" y="2136600"/>
            <a:ext cx="8712000" cy="4665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De hecho, la ley de derechos de autor se refiere estrictamente a las ideas de audio y visuales:</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Rounded MT Bold"/>
              </a:rPr>
              <a:t>obras literarias (como novelas, poemas, obras de teatro, obras de referencia, artículos de periódico).</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programas de ordenador, bases de datos de algoritmos.</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elículas, composiciones musicales y coreografías.</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obras artísticas como pinturas, dibujos, fotografías. </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scultura y arquitectura.</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anuncios, mapas y dibujos técnicos.</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195640" y="260280"/>
            <a:ext cx="6851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Datos personales vs datos sensibles ¿Cómo protegerlos?</a:t>
            </a:r>
            <a:endParaRPr b="0" lang="en-US" sz="3800" spc="-1" strike="noStrike">
              <a:solidFill>
                <a:srgbClr val="000000"/>
              </a:solidFill>
              <a:latin typeface="Arial"/>
            </a:endParaRPr>
          </a:p>
        </p:txBody>
      </p:sp>
      <p:sp>
        <p:nvSpPr>
          <p:cNvPr id="541" name="CasellaDiTesto 6"/>
          <p:cNvSpPr/>
          <p:nvPr/>
        </p:nvSpPr>
        <p:spPr>
          <a:xfrm>
            <a:off x="179280" y="1135080"/>
            <a:ext cx="8507520" cy="5119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Los Datos Personales son una información que rastrea los rasgos y características relacionados con una persona individual identificada o identificable, incluso indirectamente, haciendo referencia a cualquier otra indicación. Los identificadores típicos son: </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Nombre</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Ubicaciones</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Datos</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Números  </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a:t>
            </a:r>
            <a:r>
              <a:rPr b="0" lang="es-ES" sz="2200" spc="-1" strike="noStrike">
                <a:solidFill>
                  <a:srgbClr val="000000"/>
                </a:solidFill>
                <a:latin typeface="Arial Rounded MT Bold"/>
              </a:rPr>
              <a:t>Identificadores en línea (dirección IP, localización GPS,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38200" y="256680"/>
            <a:ext cx="677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Datos personales vs datos sensibles ¿Cómo protegerlos?</a:t>
            </a:r>
            <a:endParaRPr b="0" lang="en-US" sz="3800" spc="-1" strike="noStrike">
              <a:solidFill>
                <a:srgbClr val="000000"/>
              </a:solidFill>
              <a:latin typeface="Arial"/>
            </a:endParaRPr>
          </a:p>
        </p:txBody>
      </p:sp>
      <p:sp>
        <p:nvSpPr>
          <p:cNvPr id="543"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o Personal</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CasellaDiTesto 6"/>
          <p:cNvSpPr/>
          <p:nvPr/>
        </p:nvSpPr>
        <p:spPr>
          <a:xfrm>
            <a:off x="179280" y="1695600"/>
            <a:ext cx="8507520" cy="393444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omo un dato personal se pueden entender también los factores genéticos, mentales, económicos, culturales y/o sociales, tales como: dirección de residencia, número de tarjeta de crédito, nombre y apellido completo, datos de acceso al correo electrónico.</a:t>
            </a:r>
            <a:endParaRPr b="0" lang="en-US" sz="24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5" name="Picture 1" descr=""/>
          <p:cNvPicPr/>
          <p:nvPr/>
        </p:nvPicPr>
        <p:blipFill>
          <a:blip r:embed="rId1"/>
          <a:stretch/>
        </p:blipFill>
        <p:spPr>
          <a:xfrm>
            <a:off x="3452760" y="4437000"/>
            <a:ext cx="4226040" cy="172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236680" y="264600"/>
            <a:ext cx="6850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Datos personales vs datos sensibles ¿Cómo protegerlos?</a:t>
            </a:r>
            <a:endParaRPr b="0" lang="en-US" sz="3800" spc="-1" strike="noStrike">
              <a:solidFill>
                <a:srgbClr val="000000"/>
              </a:solidFill>
              <a:latin typeface="Arial"/>
            </a:endParaRPr>
          </a:p>
        </p:txBody>
      </p:sp>
      <p:sp>
        <p:nvSpPr>
          <p:cNvPr id="547" name=""/>
          <p:cNvSpPr txBox="1"/>
          <p:nvPr/>
        </p:nvSpPr>
        <p:spPr>
          <a:xfrm>
            <a:off x="34560" y="1424160"/>
            <a:ext cx="2808360" cy="420480"/>
          </a:xfrm>
          <a:prstGeom prst="rect">
            <a:avLst/>
          </a:prstGeom>
          <a:noFill/>
          <a:ln w="0">
            <a:noFill/>
          </a:ln>
        </p:spPr>
        <p:txBody>
          <a:bodyPr anchor="t">
            <a:normAutofit fontScale="90000"/>
          </a:bodyPr>
          <a:p>
            <a:pPr lvl="1" marL="411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Dato sensible</a:t>
            </a:r>
            <a:endParaRPr b="0" lang="en-US" sz="2400" spc="-1" strike="noStrike">
              <a:solidFill>
                <a:srgbClr val="000000"/>
              </a:solidFill>
              <a:latin typeface="Arial"/>
            </a:endParaRPr>
          </a:p>
          <a:p>
            <a:pPr lvl="1" marL="4114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11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11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CasellaDiTesto 6"/>
          <p:cNvSpPr/>
          <p:nvPr/>
        </p:nvSpPr>
        <p:spPr>
          <a:xfrm>
            <a:off x="179280" y="1755720"/>
            <a:ext cx="8856720" cy="44830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 </a:t>
            </a:r>
            <a:r>
              <a:rPr b="0" lang="es-ES" sz="2400" spc="-1" strike="noStrike">
                <a:solidFill>
                  <a:srgbClr val="000000"/>
                </a:solidFill>
                <a:latin typeface="Arial Rounded MT Bold"/>
              </a:rPr>
              <a:t>Por otro lado, un dato sensible es un dato personal que goza de una mayor protección legal y debe ser tratado con medidas de precaución adicionales, previa aprobación específica del sujeto al que se refiere dicho dato.</a:t>
            </a:r>
            <a:endParaRPr b="0" lang="en-US" sz="24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En cualquier otro caso, los Datos Sensibles permanecen inaccesibles (excepto las autoridades públicas en casos específicos).</a:t>
            </a:r>
            <a:endParaRPr b="0" lang="en-US" sz="2400" spc="-1" strike="noStrike">
              <a:solidFill>
                <a:srgbClr val="000000"/>
              </a:solidFill>
              <a:latin typeface="Arial"/>
            </a:endParaRPr>
          </a:p>
        </p:txBody>
      </p:sp>
      <p:pic>
        <p:nvPicPr>
          <p:cNvPr id="549" name="Picture 1" descr=""/>
          <p:cNvPicPr/>
          <p:nvPr/>
        </p:nvPicPr>
        <p:blipFill>
          <a:blip r:embed="rId1"/>
          <a:stretch/>
        </p:blipFill>
        <p:spPr>
          <a:xfrm>
            <a:off x="4788000" y="5102280"/>
            <a:ext cx="3122640" cy="110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050920" y="96480"/>
            <a:ext cx="721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Rounded MT Bold"/>
              </a:rPr>
              <a:t>Datos personales vs datos sensibles ¿Cómo protegerlos?</a:t>
            </a:r>
            <a:endParaRPr b="0" lang="en-US" sz="3800" spc="-1" strike="noStrike">
              <a:solidFill>
                <a:srgbClr val="000000"/>
              </a:solidFill>
              <a:latin typeface="Arial"/>
            </a:endParaRPr>
          </a:p>
        </p:txBody>
      </p:sp>
      <p:sp>
        <p:nvSpPr>
          <p:cNvPr id="551" name=""/>
          <p:cNvSpPr txBox="1"/>
          <p:nvPr/>
        </p:nvSpPr>
        <p:spPr>
          <a:xfrm>
            <a:off x="-360" y="1424160"/>
            <a:ext cx="2987640" cy="420480"/>
          </a:xfrm>
          <a:prstGeom prst="rect">
            <a:avLst/>
          </a:prstGeom>
          <a:noFill/>
          <a:ln w="0">
            <a:noFill/>
          </a:ln>
        </p:spPr>
        <p:txBody>
          <a:bodyPr anchor="t">
            <a:normAutofit fontScale="90000"/>
          </a:bodyPr>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o Sensible</a:t>
            </a:r>
            <a:endParaRPr b="0" lang="en-US" sz="2400" spc="-1" strike="noStrike">
              <a:solidFill>
                <a:srgbClr val="000000"/>
              </a:solidFill>
              <a:latin typeface="Arial"/>
            </a:endParaRPr>
          </a:p>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CasellaDiTesto 6"/>
          <p:cNvSpPr/>
          <p:nvPr/>
        </p:nvSpPr>
        <p:spPr>
          <a:xfrm>
            <a:off x="179280" y="1951200"/>
            <a:ext cx="8507520" cy="31093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Se considerarán "sensibles" todas aquellas informaciones que estén comprendidas en las siguientes categorías: origen racial o étnico, opiniones políticas, creencias religiosas o filosóficas; pertenencia a sindicatos; datos relacionados con la salud; vida sexual u orientación sexual de una persona, etc.</a:t>
            </a:r>
            <a:endParaRPr b="0" lang="en-US" sz="2200" spc="-1" strike="noStrike">
              <a:solidFill>
                <a:srgbClr val="000000"/>
              </a:solidFill>
              <a:latin typeface="Arial"/>
            </a:endParaRPr>
          </a:p>
        </p:txBody>
      </p:sp>
      <p:sp>
        <p:nvSpPr>
          <p:cNvPr id="553" name="CasellaDiTesto 1"/>
          <p:cNvSpPr/>
          <p:nvPr/>
        </p:nvSpPr>
        <p:spPr>
          <a:xfrm>
            <a:off x="684360" y="4518000"/>
            <a:ext cx="7210440" cy="1862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Para recapitular, aquí hay un breve vide que ilustra los valores de nuestros datos e información para las necesidades relacionadas con las empres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GB" sz="1800" spc="-1" strike="noStrike" u="sng">
                <a:solidFill>
                  <a:srgbClr val="009999"/>
                </a:solidFill>
                <a:uFillTx/>
                <a:latin typeface="Arial"/>
                <a:hlinkClick r:id="rId1"/>
              </a:rPr>
              <a:t>https://www.youtube.com/watch?v=JIo-V0beaB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atos personales vs datos sensibles ¿Cómo protegerlos?</a:t>
            </a:r>
            <a:endParaRPr b="0" lang="en-US" sz="3200" spc="-1" strike="noStrike">
              <a:solidFill>
                <a:srgbClr val="000000"/>
              </a:solidFill>
              <a:latin typeface="Arial"/>
            </a:endParaRPr>
          </a:p>
        </p:txBody>
      </p:sp>
      <p:sp>
        <p:nvSpPr>
          <p:cNvPr id="555" name=""/>
          <p:cNvSpPr txBox="1"/>
          <p:nvPr/>
        </p:nvSpPr>
        <p:spPr>
          <a:xfrm>
            <a:off x="-360" y="1430280"/>
            <a:ext cx="7931160" cy="6177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ómo proteger tus datos</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CasellaDiTesto 6"/>
          <p:cNvSpPr/>
          <p:nvPr/>
        </p:nvSpPr>
        <p:spPr>
          <a:xfrm>
            <a:off x="179280" y="2060640"/>
            <a:ext cx="8785440" cy="4208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er discreto y reservado cuando se trata de la web, los medios de comunicación y la información personal es la primera regla. </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Tener un conocimiento completo de quién está recibiendo nuestra información, qué tipo de información estamos dando y lo más importante por qué se solicita, es una estrategia siempre ganadora.</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Sin embargo, obtener este tipo de conocimiento es difícil, sobre todo porque no podemos nunca ser plenamente conscientes de los destinatarios de nuestros datos.</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atos personales vs datos sensibles ¿Cómo protegerlos?</a:t>
            </a:r>
            <a:endParaRPr b="0" lang="en-US" sz="3200" spc="-1" strike="noStrike">
              <a:solidFill>
                <a:srgbClr val="000000"/>
              </a:solidFill>
              <a:latin typeface="Arial"/>
            </a:endParaRPr>
          </a:p>
        </p:txBody>
      </p:sp>
      <p:sp>
        <p:nvSpPr>
          <p:cNvPr id="558" name=""/>
          <p:cNvSpPr txBox="1"/>
          <p:nvPr/>
        </p:nvSpPr>
        <p:spPr>
          <a:xfrm>
            <a:off x="-108360" y="1643040"/>
            <a:ext cx="7931160" cy="5126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Rounded MT Bold"/>
              </a:rPr>
              <a:t>¿Cómo proteger tus datos</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CasellaDiTesto 1"/>
          <p:cNvSpPr/>
          <p:nvPr/>
        </p:nvSpPr>
        <p:spPr>
          <a:xfrm>
            <a:off x="0" y="2155680"/>
            <a:ext cx="8964720" cy="4724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Por eso siempre es una sabia elección tomar estas acciones increíblemente fáciles y súper efectivas:</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Medios de comunicación social: Revisa la configuración de privacidad de tus cuentas.</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Rounded MT Bold"/>
              </a:rPr>
              <a:t>Contraseña: Asegúrate de que tienes contraseñas fuertes y difíciles de detectar.</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martphone: </a:t>
            </a:r>
            <a:r>
              <a:rPr b="0" lang="es-ES" sz="2200" spc="-1" strike="noStrike">
                <a:solidFill>
                  <a:srgbClr val="000000"/>
                </a:solidFill>
                <a:latin typeface="Arial Rounded MT Bold"/>
              </a:rPr>
              <a:t>Bloquea tus aplicaciones, esconde tus fotos y desactiva las notificaciones de pantalla.</a:t>
            </a:r>
            <a:endParaRPr b="0" lang="en-US" sz="2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592000" y="21888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Datos personales vs datos sensibles ¿Cómo protegerlos?</a:t>
            </a:r>
            <a:endParaRPr b="0" lang="en-US" sz="3200" spc="-1" strike="noStrike">
              <a:solidFill>
                <a:srgbClr val="000000"/>
              </a:solidFill>
              <a:latin typeface="Arial"/>
            </a:endParaRPr>
          </a:p>
        </p:txBody>
      </p:sp>
      <p:sp>
        <p:nvSpPr>
          <p:cNvPr id="561" name=""/>
          <p:cNvSpPr txBox="1"/>
          <p:nvPr/>
        </p:nvSpPr>
        <p:spPr>
          <a:xfrm>
            <a:off x="324000" y="1424160"/>
            <a:ext cx="7354800" cy="42048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Cómo proteger tus dato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CasellaDiTesto 6"/>
          <p:cNvSpPr/>
          <p:nvPr/>
        </p:nvSpPr>
        <p:spPr>
          <a:xfrm>
            <a:off x="179280" y="1982880"/>
            <a:ext cx="8785440" cy="3969000"/>
          </a:xfrm>
          <a:prstGeom prst="rect">
            <a:avLst/>
          </a:prstGeom>
          <a:noFill/>
          <a:ln w="0">
            <a:noFill/>
          </a:ln>
        </p:spPr>
        <p:style>
          <a:lnRef idx="0"/>
          <a:fillRef idx="0"/>
          <a:effectRef idx="0"/>
          <a:fontRef idx="minor"/>
        </p:style>
        <p:txBody>
          <a:bodyPr lIns="90000" rIns="90000" tIns="46800" bIns="46800" anchor="t">
            <a:spAutoFit/>
          </a:bodyPr>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Navega en modo secreto o, mejor aún, considera adoptar un proveedor de VPN (red privada virtual).</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Si es posible, intenta evitar el Wi-Fi público y nunca introduzcas datos personales en ningún sitio web cuando te conects a un Wi-Fi público.</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Elije con mucho cuidado el documento destinado a los almacenamientos públicos/online/cloud.</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Además, gracias a una pequeña navegación es posible encontrar consejos útiles:</a:t>
            </a:r>
            <a:r>
              <a:rPr b="0" lang="en-GB" sz="1800" spc="-1" strike="noStrike">
                <a:solidFill>
                  <a:srgbClr val="000000"/>
                </a:solidFill>
                <a:latin typeface="Arial Rounded MT Bold"/>
              </a:rPr>
              <a:t> click here</a:t>
            </a:r>
            <a:endParaRPr b="0" lang="en-US" sz="1800" spc="-1" strike="noStrike">
              <a:solidFill>
                <a:srgbClr val="000000"/>
              </a:solidFill>
              <a:latin typeface="Arial"/>
            </a:endParaRPr>
          </a:p>
          <a:p>
            <a:pPr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project@internetwebsolutions.es</cp:lastModifiedBy>
  <dcterms:modified xsi:type="dcterms:W3CDTF">2020-01-17T07:40:11Z</dcterms:modified>
  <cp:revision>562</cp:revision>
  <dc:subject/>
  <dc:title>Title</dc:title>
</cp:coreProperties>
</file>