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1.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6CD2773-9A7A-4216-87A8-7EC673E818C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E8DCFF8-52F5-403B-B636-0BA54697229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5DC6FE4-C1F9-486A-82E7-146DA204FB0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39DCB5B-E7B0-480C-9F8F-418C8D8D310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BBBAF91-EF70-4520-A2B0-B05D9A28688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67D3C12-7D80-4156-908E-70C6D62E4FC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99B8F96-CA5A-485E-BDB4-1A92604E557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AABACE9-CB74-4827-AE74-FB5FA39AB67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02E8C869-BBBB-4E31-B00D-6D8A4312CEBC}"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6CA9EC1F-9188-40DF-821B-5DB8548B2B1E}"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0920D61-C47C-48F0-9B43-B55A230170E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8F72490-AF3C-4F21-B2DB-27067B66298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4261F1E-1A1F-4617-A702-AC9A9735E4D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7DB5424-C40E-4DE6-AC18-4224C24E01B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B404D03-26F7-492F-8970-A748791E5E08}"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E070031-1D3F-4B1C-AC47-A448BED26ED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6D12834-F8FB-4A86-AA76-B39604B8F7D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E495912-6949-47F7-8D4D-0F23C65A3B0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4298B56-1103-40B9-993F-80223AEA347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7DF13460-0D53-4715-A288-156787168A40}"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B3E058C6-393B-466F-B570-F61BCC42601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F61B61F1-0878-4D66-B9EE-CCC3D28439CF}"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601A0AF-5797-403D-8BE9-91DE442B419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A3420D6-9204-4D5B-BC0B-280A78D651B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C4F1119-B037-4964-A280-3FF2980715D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2C08AE3-5FE1-4F82-884C-B3800BC4E4D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1BAB625E-56BD-4539-A3FB-CAA6371796D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E5D790E-3DF2-4713-9AD8-C6DEAF77114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4012E8D-52F1-4626-983F-293560AAE16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02BC2C9-93CD-495B-9CFE-57B96D8329C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B5268B6-8DA1-42DE-AC38-3A608D10040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99A5E8AC-A770-4D96-A461-64E1ABB57DF5}"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B7AB75B5-144F-44A6-B6B5-628FC9C5DAE0}"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6AA3621F-5D55-4AA4-B2C3-23A708071109}"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4FD85AD-C7D0-4D39-92B7-1974D228AC8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6E71BCD-5CB8-40CD-B2C9-A4837BC3338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247D51E-4080-414B-984E-82D317FEA17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E3CD5C5-56D4-4BB0-BAD5-5C2B6788114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63C3FD8-77CB-4637-B3AE-C5B0BC3C3D8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085FF8B-2C86-4BB5-868B-26FCB3041BF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7533287-8705-4ADA-910E-6A02EC78619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95B50A4-D557-41BC-882B-071F6448C72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85177CAE-5C96-4534-8E8D-0E52F6E8640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7F8B9BE6-E202-4A41-A18F-CC610A972A72}"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31C1B8CD-8497-4BD1-93F2-D01F852BBB4F}"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388301-ECC4-4C5A-9E97-751B4E0EC8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037231-83E3-482A-AB30-05CC1D94C0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C77D3D-579C-4D79-9717-9690DBAA0C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075B5B-3E14-44D5-8084-9BA8E55C35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805174-72C7-441D-B7F8-2F64B93873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BD7F13-7304-461D-8983-F15B3284F2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858182-DB7B-4084-A8FD-BF2A10ED3A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1205AD-C757-4372-8ACD-6742581756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D1C2D7-B77E-49AD-BC94-FDBD8A633A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923044-D0AE-4C00-96C7-6720606966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8DF100A-739F-4C62-B1F7-0D4E218881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C58672-1FE9-4BD3-97F2-1FB6131792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C3EB15C-653D-4446-A05B-CF2965FC9C4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36A75BE-A9F1-4688-9EE8-34614E97167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4621DB5-D60A-4B1F-8328-D48ADAC2BA7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68ECDB6-1589-447F-BE76-3A3BB0925BA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E4D41D8-CA6C-46AD-950C-74ACB23E4A7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76DF2BE-EABD-452D-8887-5658357AE8E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D4F04A5-6767-4F1B-A32F-703C88EE88E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98652B1-E539-4F02-A26A-57557165E68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9718777-FECF-4B00-8D13-9338FDBD01E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8F2DD57-AF12-47A5-A6A4-DF11BCDDE75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751537D-E190-4DB9-80FD-62133E7DCC0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602645D-0E51-45DA-9CFA-621A467E67D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6BE6771-6F3C-43D3-9183-666A71ABC7A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77835B6-71A4-4577-A9F2-4E5A51F01E5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6734C8C-B808-4E01-851C-C06ECC3A868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5B764BC-514F-49A8-A40E-DC4C859A10D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53D427D-155C-41B8-AAEA-C69A34927AE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B952138-3278-4448-9925-3262B98833E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24CF330-15E1-4B4D-B11B-D05197FF75B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6854A8F-6AB9-40E4-87DF-9925778A7D1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5B04FE0-2691-45E0-B2BF-684590BFED5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727AE90-2A0D-4352-BCAE-CDA81ABA608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9675064-1819-4C33-8C7E-44448B26277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A96C69B-32D8-4A44-9478-03CF9D83BE1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4729387-B89F-4099-8163-0243D2033BC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C7B1B36-BBED-432E-A1B3-79371C8A683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C09562B-57B0-42B2-B393-B87644FAF6F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4D9D534-F692-44C3-BB53-FC8ABEAF64C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BAFAF0F-D841-4E08-A710-CC0D8F86794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3D8596C-3B34-42CC-BD10-80F6C98D3AB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EC16106-BD02-47E9-82BE-40038F9366C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9C3F12D-8B1E-470C-9C35-B5E0EE31057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5760EE5-4F35-4DEE-BFF8-DBD55B11F3F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8A0B842-4D87-410D-B39D-2E6FC8F954F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8529163-1517-46FB-AEFD-12A416F4B29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5144506-B238-4F51-A05D-07EE85EE850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77843BB-2A0A-4B8C-92FD-1E954DDFF9B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2241D2C-49EA-4C7F-B356-9D5D20C3668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267F70E-D347-44B3-9626-6F50B712C69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144ACA2-A636-402B-8872-2E2285EB11C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F65D35B-4DA2-4B5C-AF33-B0F4030413E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AB97F81-9778-4DA7-BE69-E6D125DCD5D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3A7D636-EC3E-464F-8884-9B83AE0F998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CA79C90-ACBB-4F05-91EF-686D8C03A26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A1B40FF-200B-4E25-A1E8-F521DF552DA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546BDFF-F82A-4D70-BD9E-BBFE0021C86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0391602-7EB3-470A-AD22-BD1351503F29}"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06C9D5E0-66D3-4A40-A6AB-B1B98B41E13C}"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B8D26E6A-ACA8-475D-9EA4-A309E79A7C0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E693F9F-4003-4A27-8E5D-60B15323A21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A7D3EB4-0881-4CE8-B878-979E647DD1E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D43C0BD-4A30-4420-A86D-C5E6F429682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0594118-038A-4FBB-B876-C4AA42D98D0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C0E97C0-81F0-40A8-8263-4BE5B7F6430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823ABA1-BB11-4635-B2BF-268A5AD333E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2D5D577-70DF-43B5-AFD6-354C6AD2C4E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E833487-598C-4CFF-97EC-E1ED9331D5E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09FE7A0-3A21-46DB-B34A-58D47BC11CE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856FDE6-5A99-4B01-8BF0-71E1A5EC6D14}"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EFA21A56-CD73-4C42-8B10-F9BF56D01BD8}"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0009EFF-4B84-4798-99E2-AB9610533B7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078A91A-260F-4757-8459-AF03A1BC9CB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A3480F9-B80F-4677-8A5D-CFA86F62A923}"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848B0-F989-4D33-9317-8D5222D0F0F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C6B63-29B3-45B8-B9B1-6D1CA8EF5CD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21C97-6B93-4876-9B21-03662EBEE94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6E30C-7C33-4ABA-B233-DA1137C2AE1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0A6E6-2668-4F16-A791-0013EE114CD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72481-E6D6-47F9-8216-64505074FA1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08639-03EE-4F19-BD69-950D7C5B9DE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9F1B4-6156-4E11-B5D7-98A5CA6148B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A8F28-86EF-4387-9329-BEECD019797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A5A7E-6431-4A81-9682-5BA1729E935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s://mail.google.com/" TargetMode="External"/><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s://www.whatsapp.com/" TargetMode="External"/><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s://www.messenger.com/" TargetMode="External"/><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telegram.org/" TargetMode="External"/><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s://www.wechat.com/" TargetMode="External"/><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s://www.viber.com/" TargetMode="External"/><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032000" y="5157720"/>
            <a:ext cx="511164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Solución de problemas y resolución de problemas</a:t>
            </a:r>
            <a:endParaRPr b="0" lang="en-US" sz="3200" spc="-1" strike="noStrike">
              <a:solidFill>
                <a:srgbClr val="000000"/>
              </a:solidFill>
              <a:latin typeface="Arial"/>
            </a:endParaRPr>
          </a:p>
        </p:txBody>
      </p:sp>
      <p:sp>
        <p:nvSpPr>
          <p:cNvPr id="537" name="Rectángulo 1"/>
          <p:cNvSpPr/>
          <p:nvPr/>
        </p:nvSpPr>
        <p:spPr>
          <a:xfrm>
            <a:off x="826920" y="2205000"/>
            <a:ext cx="800748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Rounded MT Bold"/>
              </a:rPr>
              <a:t>Identificación de alternativas: mensajería, correo electrónico, video ch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908000" y="340920"/>
            <a:ext cx="7508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Aplicaciones alternativas a los  </a:t>
            </a:r>
            <a:br>
              <a:rPr sz="4000"/>
            </a:br>
            <a:r>
              <a:rPr b="0" lang="en-GB" sz="4000" spc="-1" strike="noStrike">
                <a:solidFill>
                  <a:srgbClr val="000000"/>
                </a:solidFill>
                <a:latin typeface="Arial Rounded MT Bold"/>
              </a:rPr>
              <a:t>e-mails </a:t>
            </a:r>
            <a:endParaRPr b="0" lang="en-US" sz="4000" spc="-1" strike="noStrike">
              <a:solidFill>
                <a:srgbClr val="000000"/>
              </a:solidFill>
              <a:latin typeface="Arial"/>
            </a:endParaRPr>
          </a:p>
        </p:txBody>
      </p:sp>
      <p:sp>
        <p:nvSpPr>
          <p:cNvPr id="573" name=""/>
          <p:cNvSpPr txBox="1"/>
          <p:nvPr/>
        </p:nvSpPr>
        <p:spPr>
          <a:xfrm>
            <a:off x="47160" y="1815840"/>
            <a:ext cx="7931160" cy="7491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Aplicaciones para recibir e-mails: Gmail</a:t>
            </a:r>
            <a:endParaRPr b="0" lang="en-US" sz="32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CasellaDiTesto 6"/>
          <p:cNvSpPr/>
          <p:nvPr/>
        </p:nvSpPr>
        <p:spPr>
          <a:xfrm>
            <a:off x="447840" y="2479680"/>
            <a:ext cx="7848360" cy="310932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Gmail ha sido desarrollado por Google y es una alternativa eficiente a la aplicación de Outlook. En Gmail puedes acceder tanto con tu cuenta de Gmail como con tu cuenta de Outlook, lo único que necesitas es recordar tu dirección de correo y tu contraseña.  </a:t>
            </a:r>
            <a:endParaRPr b="0" lang="en-US" sz="2200" spc="-1" strike="noStrike">
              <a:solidFill>
                <a:srgbClr val="000000"/>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Gmail también permite administrar tareas y el calendario. </a:t>
            </a:r>
            <a:endParaRPr b="0" lang="en-US" sz="2200" spc="-1" strike="noStrike">
              <a:solidFill>
                <a:srgbClr val="000000"/>
              </a:solidFill>
              <a:latin typeface="Arial"/>
            </a:endParaRPr>
          </a:p>
        </p:txBody>
      </p:sp>
      <p:pic>
        <p:nvPicPr>
          <p:cNvPr id="575" name="Picture 2" descr="Image result for gmail"/>
          <p:cNvPicPr/>
          <p:nvPr/>
        </p:nvPicPr>
        <p:blipFill>
          <a:blip r:embed="rId1"/>
          <a:stretch/>
        </p:blipFill>
        <p:spPr>
          <a:xfrm>
            <a:off x="7389720" y="1303200"/>
            <a:ext cx="1306440" cy="1306800"/>
          </a:xfrm>
          <a:prstGeom prst="rect">
            <a:avLst/>
          </a:prstGeom>
          <a:ln w="0">
            <a:noFill/>
          </a:ln>
        </p:spPr>
      </p:pic>
      <p:sp>
        <p:nvSpPr>
          <p:cNvPr id="576" name="Rettangolo 1"/>
          <p:cNvSpPr/>
          <p:nvPr/>
        </p:nvSpPr>
        <p:spPr>
          <a:xfrm>
            <a:off x="3317040" y="5589720"/>
            <a:ext cx="21513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u="sng">
                <a:solidFill>
                  <a:srgbClr val="009999"/>
                </a:solidFill>
                <a:uFillTx/>
                <a:latin typeface="Arial"/>
                <a:hlinkClick r:id="rId2"/>
              </a:rPr>
              <a:t>https://mail.google.co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Aplicaciones alternativas a los  e-mails </a:t>
            </a:r>
            <a:endParaRPr b="0" lang="en-US" sz="4000" spc="-1" strike="noStrike">
              <a:solidFill>
                <a:srgbClr val="000000"/>
              </a:solidFill>
              <a:latin typeface="Arial"/>
            </a:endParaRPr>
          </a:p>
        </p:txBody>
      </p:sp>
      <p:sp>
        <p:nvSpPr>
          <p:cNvPr id="578" name=""/>
          <p:cNvSpPr txBox="1"/>
          <p:nvPr/>
        </p:nvSpPr>
        <p:spPr>
          <a:xfrm>
            <a:off x="460080" y="1430280"/>
            <a:ext cx="7931160" cy="604800"/>
          </a:xfrm>
          <a:prstGeom prst="rect">
            <a:avLst/>
          </a:prstGeom>
          <a:noFill/>
          <a:ln w="0">
            <a:noFill/>
          </a:ln>
        </p:spPr>
        <p:txBody>
          <a:bodyPr anchor="t">
            <a:normAutofit fontScale="72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Cómo tener aplicaciones para el correo electrónico?</a:t>
            </a:r>
            <a:endParaRPr b="0" lang="en-US" sz="3200" spc="-1" strike="noStrike">
              <a:solidFill>
                <a:srgbClr val="000000"/>
              </a:solidFill>
              <a:latin typeface="Arial"/>
            </a:endParaRPr>
          </a:p>
          <a:p>
            <a:pPr lvl="1" marL="534960" indent="-2055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9" name="CasellaDiTesto 6"/>
          <p:cNvSpPr/>
          <p:nvPr/>
        </p:nvSpPr>
        <p:spPr>
          <a:xfrm>
            <a:off x="539640" y="2451240"/>
            <a:ext cx="8147160" cy="3109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Si tienes un teléfono inteligente Android (o una tableta), ya tienes la aplicación de Gmail en tu dispositivo como aplicación predeterminada. En cambio, si tienes un iPhone, debes descargarlo de la tienda. </a:t>
            </a:r>
            <a:endParaRPr b="0" lang="en-US" sz="2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Para tener la aplicación de Outlook, debes descargarla de la tienda, ya sea si tienes un Android o un iPhone</a:t>
            </a:r>
            <a:r>
              <a:rPr b="0" lang="en-GB" sz="2200" spc="-1" strike="noStrike">
                <a:solidFill>
                  <a:srgbClr val="000000"/>
                </a:solidFill>
                <a:latin typeface="Arial Rounded MT Bold"/>
              </a:rPr>
              <a:t>.</a:t>
            </a:r>
            <a:endParaRPr b="0" lang="en-US" sz="2200" spc="-1" strike="noStrike">
              <a:solidFill>
                <a:srgbClr val="000000"/>
              </a:solidFill>
              <a:latin typeface="Arial"/>
            </a:endParaRPr>
          </a:p>
        </p:txBody>
      </p:sp>
      <p:sp>
        <p:nvSpPr>
          <p:cNvPr id="580"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Rounded MT Bold"/>
              </a:rPr>
              <a:t>Aplicaciones alternativas al video chat</a:t>
            </a:r>
            <a:endParaRPr b="0" lang="en-US" sz="4400" spc="-1" strike="noStrike">
              <a:solidFill>
                <a:srgbClr val="000000"/>
              </a:solidFill>
              <a:latin typeface="Arial"/>
            </a:endParaRPr>
          </a:p>
        </p:txBody>
      </p:sp>
      <p:sp>
        <p:nvSpPr>
          <p:cNvPr id="583" name="CasellaDiTesto 6"/>
          <p:cNvSpPr/>
          <p:nvPr/>
        </p:nvSpPr>
        <p:spPr>
          <a:xfrm>
            <a:off x="792000" y="1916280"/>
            <a:ext cx="7560000" cy="3703320"/>
          </a:xfrm>
          <a:prstGeom prst="rect">
            <a:avLst/>
          </a:prstGeom>
          <a:noFill/>
          <a:ln w="0">
            <a:noFill/>
          </a:ln>
        </p:spPr>
        <p:style>
          <a:lnRef idx="0"/>
          <a:fillRef idx="0"/>
          <a:effectRef idx="0"/>
          <a:fontRef idx="minor"/>
        </p:style>
        <p:txBody>
          <a:bodyPr lIns="90000" rIns="90000" tIns="46800" bIns="46800" anchor="t">
            <a:sp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Rounded MT Bold"/>
              </a:rPr>
              <a:t>Hay diferentes aplicaciones que puedes usar:</a:t>
            </a:r>
            <a:endParaRPr b="0" lang="en-US" sz="2600" spc="-1" strike="noStrike">
              <a:solidFill>
                <a:srgbClr val="000000"/>
              </a:solidFill>
              <a:latin typeface="Arial"/>
            </a:endParaRPr>
          </a:p>
          <a:p>
            <a:pPr lvl="2" marL="1028880" indent="-343080">
              <a:lnSpc>
                <a:spcPct val="15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Skype</a:t>
            </a:r>
            <a:endParaRPr b="0" lang="en-US" sz="2200" spc="-1" strike="noStrike">
              <a:solidFill>
                <a:srgbClr val="000000"/>
              </a:solidFill>
              <a:latin typeface="Arial"/>
            </a:endParaRPr>
          </a:p>
          <a:p>
            <a:pPr lvl="2" marL="1028880" indent="-343080">
              <a:lnSpc>
                <a:spcPct val="15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Hangouts Meet</a:t>
            </a:r>
            <a:endParaRPr b="0" lang="en-US" sz="2200" spc="-1" strike="noStrike">
              <a:solidFill>
                <a:srgbClr val="000000"/>
              </a:solidFill>
              <a:latin typeface="Arial"/>
            </a:endParaRPr>
          </a:p>
          <a:p>
            <a:pPr lvl="2" marL="1028880" indent="-343080">
              <a:lnSpc>
                <a:spcPct val="15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Facebook Messenger</a:t>
            </a:r>
            <a:endParaRPr b="0" lang="en-US" sz="2200" spc="-1" strike="noStrike">
              <a:solidFill>
                <a:srgbClr val="000000"/>
              </a:solidFill>
              <a:latin typeface="Arial"/>
            </a:endParaRPr>
          </a:p>
          <a:p>
            <a:pPr lvl="2" marL="1028880" indent="-343080">
              <a:lnSpc>
                <a:spcPct val="15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Telegram</a:t>
            </a:r>
            <a:endParaRPr b="0" lang="en-US" sz="2200" spc="-1" strike="noStrike">
              <a:solidFill>
                <a:srgbClr val="000000"/>
              </a:solidFill>
              <a:latin typeface="Arial"/>
            </a:endParaRPr>
          </a:p>
          <a:p>
            <a:pPr lvl="2" marL="1028880" indent="-343080">
              <a:lnSpc>
                <a:spcPct val="15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WeChat</a:t>
            </a:r>
            <a:endParaRPr b="0" lang="en-US" sz="2200" spc="-1" strike="noStrike">
              <a:solidFill>
                <a:srgbClr val="000000"/>
              </a:solidFill>
              <a:latin typeface="Arial"/>
            </a:endParaRPr>
          </a:p>
          <a:p>
            <a:pPr lvl="2" marL="1028880" indent="-343080">
              <a:lnSpc>
                <a:spcPct val="150000"/>
              </a:lnSpc>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Vibe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Rounded MT Bold"/>
              </a:rPr>
              <a:t>Aplicaciones alternativas al video chat</a:t>
            </a:r>
            <a:endParaRPr b="0" lang="en-US" sz="4400" spc="-1" strike="noStrike">
              <a:solidFill>
                <a:srgbClr val="000000"/>
              </a:solidFill>
              <a:latin typeface="Arial"/>
            </a:endParaRPr>
          </a:p>
        </p:txBody>
      </p:sp>
      <p:sp>
        <p:nvSpPr>
          <p:cNvPr id="585" name=""/>
          <p:cNvSpPr txBox="1"/>
          <p:nvPr/>
        </p:nvSpPr>
        <p:spPr>
          <a:xfrm>
            <a:off x="456840" y="1887480"/>
            <a:ext cx="7931160" cy="749520"/>
          </a:xfrm>
          <a:prstGeom prst="rect">
            <a:avLst/>
          </a:prstGeom>
          <a:noFill/>
          <a:ln w="0">
            <a:noFill/>
          </a:ln>
        </p:spPr>
        <p:txBody>
          <a:bodyPr anchor="t">
            <a:normAutofit fontScale="67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Hangouts Meet, </a:t>
            </a:r>
            <a:r>
              <a:rPr b="0" lang="en-GB" sz="3200" spc="-1" strike="noStrike">
                <a:solidFill>
                  <a:srgbClr val="000000"/>
                </a:solidFill>
                <a:latin typeface="Arial Rounded MT Bold"/>
              </a:rPr>
              <a:t> Whatsapp, Facebook Messanger, WeChat, Viber</a:t>
            </a:r>
            <a:endParaRPr b="0" lang="en-US" sz="3200" spc="-1" strike="noStrike">
              <a:solidFill>
                <a:srgbClr val="000000"/>
              </a:solidFill>
              <a:latin typeface="Arial"/>
            </a:endParaRPr>
          </a:p>
          <a:p>
            <a:pPr lvl="1" marL="497520" indent="-191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97520" indent="-191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6" name="CasellaDiTesto 6"/>
          <p:cNvSpPr/>
          <p:nvPr/>
        </p:nvSpPr>
        <p:spPr>
          <a:xfrm>
            <a:off x="647640" y="2898720"/>
            <a:ext cx="7848720" cy="3751560"/>
          </a:xfrm>
          <a:prstGeom prst="rect">
            <a:avLst/>
          </a:prstGeom>
          <a:noFill/>
          <a:ln w="0">
            <a:noFill/>
          </a:ln>
        </p:spPr>
        <p:style>
          <a:lnRef idx="0"/>
          <a:fillRef idx="0"/>
          <a:effectRef idx="0"/>
          <a:fontRef idx="minor"/>
        </p:style>
        <p:txBody>
          <a:bodyPr lIns="90000" rIns="90000" tIns="46800" bIns="46800" anchor="t">
            <a:spAutoFit/>
          </a:bodyPr>
          <a:p>
            <a:pPr lvl="1"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También se puede utilizar una de las aplicaciones que vimos para la mensajería, ya que la mayoría de ellas proporcionan video-chats y pueden ser utilizadas tanto por dispositivos móviles como por ordenadores.</a:t>
            </a:r>
            <a:endParaRPr b="0" lang="en-US" sz="2400" spc="-1" strike="noStrike">
              <a:solidFill>
                <a:srgbClr val="000000"/>
              </a:solidFill>
              <a:latin typeface="Arial"/>
            </a:endParaRPr>
          </a:p>
        </p:txBody>
      </p:sp>
      <p:sp>
        <p:nvSpPr>
          <p:cNvPr id="587"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Rounded MT Bold"/>
              </a:rPr>
              <a:t>Aplicaciones alternativas al video chat</a:t>
            </a:r>
            <a:endParaRPr b="0" lang="en-US" sz="4400" spc="-1" strike="noStrike">
              <a:solidFill>
                <a:srgbClr val="000000"/>
              </a:solidFill>
              <a:latin typeface="Arial"/>
            </a:endParaRPr>
          </a:p>
        </p:txBody>
      </p:sp>
      <p:sp>
        <p:nvSpPr>
          <p:cNvPr id="590" name=""/>
          <p:cNvSpPr txBox="1"/>
          <p:nvPr/>
        </p:nvSpPr>
        <p:spPr>
          <a:xfrm>
            <a:off x="456840" y="1617840"/>
            <a:ext cx="7931160" cy="604800"/>
          </a:xfrm>
          <a:prstGeom prst="rect">
            <a:avLst/>
          </a:prstGeom>
          <a:noFill/>
          <a:ln w="0">
            <a:noFill/>
          </a:ln>
        </p:spPr>
        <p:txBody>
          <a:bodyPr anchor="t">
            <a:normAutofit fontScale="87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Cómo tener aplicaciones para el videochat?</a:t>
            </a:r>
            <a:endParaRPr b="0" lang="en-US" sz="32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46200" indent="-248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1" name="CasellaDiTesto 6"/>
          <p:cNvSpPr/>
          <p:nvPr/>
        </p:nvSpPr>
        <p:spPr>
          <a:xfrm>
            <a:off x="457200" y="2421000"/>
            <a:ext cx="8147160" cy="34455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Puede descargar cada aplicación de la Tienda de su dispositivo móvil.</a:t>
            </a:r>
            <a:endParaRPr b="0"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Para utilizar la aplicación que prefieras en tu PC puedes descargarla de la Tienda (si tu ordenador la proporciona) o buscar el archivo de descarga en Internet. </a:t>
            </a:r>
            <a:endParaRPr b="0" lang="en-US" sz="2200" spc="-1" strike="noStrike">
              <a:solidFill>
                <a:srgbClr val="000000"/>
              </a:solidFill>
              <a:latin typeface="Arial"/>
            </a:endParaRPr>
          </a:p>
        </p:txBody>
      </p:sp>
      <p:sp>
        <p:nvSpPr>
          <p:cNvPr id="592"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Objetivos y Metas</a:t>
            </a:r>
            <a:endParaRPr b="0" lang="en-US" sz="4400" spc="-1" strike="noStrike">
              <a:solidFill>
                <a:srgbClr val="000000"/>
              </a:solidFill>
              <a:latin typeface="Arial"/>
            </a:endParaRPr>
          </a:p>
        </p:txBody>
      </p:sp>
      <p:sp>
        <p:nvSpPr>
          <p:cNvPr id="539" name="PlaceHolder 2"/>
          <p:cNvSpPr>
            <a:spLocks noGrp="1"/>
          </p:cNvSpPr>
          <p:nvPr>
            <p:ph/>
          </p:nvPr>
        </p:nvSpPr>
        <p:spPr>
          <a:xfrm>
            <a:off x="457200" y="1197000"/>
            <a:ext cx="8229600" cy="4525920"/>
          </a:xfrm>
          <a:prstGeom prst="rect">
            <a:avLst/>
          </a:prstGeom>
          <a:noFill/>
          <a:ln w="0">
            <a:noFill/>
          </a:ln>
        </p:spPr>
        <p:txBody>
          <a:bodyPr anchor="t">
            <a:normAutofit fontScale="95000"/>
          </a:bodyPr>
          <a:p>
            <a:pPr marL="766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Al final de este módulo podrás</a:t>
            </a:r>
            <a:r>
              <a:rPr b="0" lang="en-GB" sz="3200" spc="-1" strike="noStrike">
                <a:solidFill>
                  <a:srgbClr val="000000"/>
                </a:solidFill>
                <a:latin typeface="Arial Rounded MT Bold"/>
              </a:rPr>
              <a:t>:</a:t>
            </a:r>
            <a:endParaRPr b="0" lang="en-US" sz="3200" spc="-1" strike="noStrike">
              <a:solidFill>
                <a:srgbClr val="000000"/>
              </a:solidFill>
              <a:latin typeface="Arial"/>
            </a:endParaRPr>
          </a:p>
          <a:p>
            <a:pPr marL="766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s-ES" sz="2800" spc="-1" strike="noStrike">
                <a:solidFill>
                  <a:srgbClr val="000000"/>
                </a:solidFill>
                <a:latin typeface="Arial Rounded MT Bold"/>
              </a:rPr>
              <a:t>Usar aplicaciones alternativas para la mensajería</a:t>
            </a:r>
            <a:endParaRPr b="0" lang="en-US" sz="2800" spc="-1" strike="noStrike">
              <a:solidFill>
                <a:srgbClr val="000000"/>
              </a:solidFill>
              <a:latin typeface="Arial"/>
            </a:endParaRPr>
          </a:p>
          <a:p>
            <a:pPr marL="766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s-ES" sz="2800" spc="-1" strike="noStrike">
                <a:solidFill>
                  <a:srgbClr val="000000"/>
                </a:solidFill>
                <a:latin typeface="Arial Rounded MT Bold"/>
              </a:rPr>
              <a:t>Utilizar aplicaciones alternativas para el envío de correo electrónico</a:t>
            </a:r>
            <a:endParaRPr b="0" lang="en-US" sz="2800" spc="-1" strike="noStrike">
              <a:solidFill>
                <a:srgbClr val="000000"/>
              </a:solidFill>
              <a:latin typeface="Arial"/>
            </a:endParaRPr>
          </a:p>
          <a:p>
            <a:pPr marL="766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s-ES" sz="2800" spc="-1" strike="noStrike">
                <a:solidFill>
                  <a:srgbClr val="000000"/>
                </a:solidFill>
                <a:latin typeface="Arial Rounded MT Bold"/>
              </a:rPr>
              <a:t>Usar aplicaciones alternativas para el videochat</a:t>
            </a:r>
            <a:endParaRPr b="0" lang="en-US" sz="2800" spc="-1" strike="noStrike">
              <a:solidFill>
                <a:srgbClr val="000000"/>
              </a:solidFill>
              <a:latin typeface="Arial"/>
            </a:endParaRPr>
          </a:p>
          <a:p>
            <a:pPr marL="766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Rounded MT Bold"/>
              </a:rPr>
              <a:t>Aplicaciones alternativas a la mensajería </a:t>
            </a:r>
            <a:endParaRPr b="0" lang="en-US" sz="4400" spc="-1" strike="noStrike">
              <a:solidFill>
                <a:srgbClr val="000000"/>
              </a:solidFill>
              <a:latin typeface="Arial"/>
            </a:endParaRPr>
          </a:p>
        </p:txBody>
      </p:sp>
      <p:sp>
        <p:nvSpPr>
          <p:cNvPr id="541" name=""/>
          <p:cNvSpPr txBox="1"/>
          <p:nvPr/>
        </p:nvSpPr>
        <p:spPr>
          <a:xfrm>
            <a:off x="456840" y="1815840"/>
            <a:ext cx="7931160" cy="7491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plicaciones de mensajería</a:t>
            </a:r>
            <a:endParaRPr b="0" lang="en-US" sz="32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2" name="CasellaDiTesto 6"/>
          <p:cNvSpPr/>
          <p:nvPr/>
        </p:nvSpPr>
        <p:spPr>
          <a:xfrm>
            <a:off x="457200" y="2349360"/>
            <a:ext cx="7931160" cy="3385800"/>
          </a:xfrm>
          <a:prstGeom prst="rect">
            <a:avLst/>
          </a:prstGeom>
          <a:noFill/>
          <a:ln w="0">
            <a:noFill/>
          </a:ln>
        </p:spPr>
        <p:style>
          <a:lnRef idx="0"/>
          <a:fillRef idx="0"/>
          <a:effectRef idx="0"/>
          <a:fontRef idx="minor"/>
        </p:style>
        <p:txBody>
          <a:bodyPr lIns="90000" rIns="90000" tIns="46800" bIns="46800" anchor="t">
            <a:sp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Hay diferentes aplicaciones que puedes usar: </a:t>
            </a:r>
            <a:endParaRPr b="0" lang="en-US" sz="2400" spc="-1" strike="noStrike">
              <a:solidFill>
                <a:srgbClr val="000000"/>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atsapp</a:t>
            </a:r>
            <a:endParaRPr b="0" lang="en-US" sz="2400" spc="-1" strike="noStrike">
              <a:solidFill>
                <a:srgbClr val="000000"/>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Facebook Messenge</a:t>
            </a:r>
            <a:r>
              <a:rPr b="0" lang="hu-HU" sz="2400" spc="-1" strike="noStrike">
                <a:solidFill>
                  <a:srgbClr val="000000"/>
                </a:solidFill>
                <a:latin typeface="Arial Rounded MT Bold"/>
              </a:rPr>
              <a:t>r</a:t>
            </a:r>
            <a:endParaRPr b="0" lang="en-US" sz="2400" spc="-1" strike="noStrike">
              <a:solidFill>
                <a:srgbClr val="000000"/>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elegram</a:t>
            </a:r>
            <a:endParaRPr b="0" lang="en-US" sz="2400" spc="-1" strike="noStrike">
              <a:solidFill>
                <a:srgbClr val="000000"/>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eChat</a:t>
            </a:r>
            <a:endParaRPr b="0" lang="en-US" sz="2400" spc="-1" strike="noStrike">
              <a:solidFill>
                <a:srgbClr val="000000"/>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Vib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Rounded MT Bold"/>
              </a:rPr>
              <a:t>Aplicaciones alternativas a la mensajería </a:t>
            </a:r>
            <a:endParaRPr b="0" lang="en-US" sz="4400" spc="-1" strike="noStrike">
              <a:solidFill>
                <a:srgbClr val="000000"/>
              </a:solidFill>
              <a:latin typeface="Arial"/>
            </a:endParaRPr>
          </a:p>
        </p:txBody>
      </p:sp>
      <p:sp>
        <p:nvSpPr>
          <p:cNvPr id="544" name=""/>
          <p:cNvSpPr txBox="1"/>
          <p:nvPr/>
        </p:nvSpPr>
        <p:spPr>
          <a:xfrm>
            <a:off x="394920" y="1615680"/>
            <a:ext cx="7931160" cy="7491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plicaciones de mensajería: WhatsApp</a:t>
            </a:r>
            <a:endParaRPr b="0" lang="en-US" sz="32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45" name="Picture 4" descr="C:\Users\Lorenzo\Desktop\WhatsApp_chatting.jpg"/>
          <p:cNvPicPr/>
          <p:nvPr/>
        </p:nvPicPr>
        <p:blipFill>
          <a:blip r:embed="rId1"/>
          <a:stretch/>
        </p:blipFill>
        <p:spPr>
          <a:xfrm>
            <a:off x="5464080" y="2676600"/>
            <a:ext cx="3284640" cy="2624040"/>
          </a:xfrm>
          <a:prstGeom prst="rect">
            <a:avLst/>
          </a:prstGeom>
          <a:ln w="0">
            <a:noFill/>
          </a:ln>
        </p:spPr>
      </p:pic>
      <p:sp>
        <p:nvSpPr>
          <p:cNvPr id="546" name="CasellaDiTesto 6"/>
          <p:cNvSpPr/>
          <p:nvPr/>
        </p:nvSpPr>
        <p:spPr>
          <a:xfrm>
            <a:off x="395280" y="2133720"/>
            <a:ext cx="4681440" cy="461700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Whatsapp es la aplicación más utilizada para la mensajería en línea: permite a los usuarios enviar mensajes de texto y de voz, realizar llamadas de voz y de vídeo y también compartir imágenes, documentos, ubicaciones de usuarios y otros medios. </a:t>
            </a:r>
            <a:endParaRPr b="0" lang="en-US" sz="2200" spc="-1" strike="noStrike">
              <a:solidFill>
                <a:srgbClr val="000000"/>
              </a:solidFill>
              <a:latin typeface="Arial"/>
            </a:endParaRPr>
          </a:p>
        </p:txBody>
      </p:sp>
      <p:sp>
        <p:nvSpPr>
          <p:cNvPr id="547" name="Rettangolo 1"/>
          <p:cNvSpPr/>
          <p:nvPr/>
        </p:nvSpPr>
        <p:spPr>
          <a:xfrm>
            <a:off x="5727600" y="5411880"/>
            <a:ext cx="25095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u="sng">
                <a:solidFill>
                  <a:srgbClr val="009999"/>
                </a:solidFill>
                <a:uFillTx/>
                <a:latin typeface="Arial"/>
                <a:hlinkClick r:id="rId2"/>
              </a:rPr>
              <a:t>https://www.whatsapp.co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329920" y="19800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Rounded MT Bold"/>
              </a:rPr>
              <a:t>Aplicaciones alternativas a la mensajería </a:t>
            </a:r>
            <a:endParaRPr b="0" lang="en-US" sz="4400" spc="-1" strike="noStrike">
              <a:solidFill>
                <a:srgbClr val="000000"/>
              </a:solidFill>
              <a:latin typeface="Arial"/>
            </a:endParaRPr>
          </a:p>
        </p:txBody>
      </p:sp>
      <p:sp>
        <p:nvSpPr>
          <p:cNvPr id="549" name=""/>
          <p:cNvSpPr txBox="1"/>
          <p:nvPr/>
        </p:nvSpPr>
        <p:spPr>
          <a:xfrm>
            <a:off x="324000" y="1600200"/>
            <a:ext cx="8712000" cy="103680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Aplicaciones de mensajería: </a:t>
            </a:r>
            <a:r>
              <a:rPr b="0" lang="en-GB" sz="3000" spc="-1" strike="noStrike">
                <a:solidFill>
                  <a:srgbClr val="000000"/>
                </a:solidFill>
                <a:latin typeface="Arial Rounded MT Bold"/>
              </a:rPr>
              <a:t>Facebook Messenger</a:t>
            </a:r>
            <a:endParaRPr b="0" lang="en-US" sz="3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0" name="CasellaDiTesto 6"/>
          <p:cNvSpPr/>
          <p:nvPr/>
        </p:nvSpPr>
        <p:spPr>
          <a:xfrm>
            <a:off x="355680" y="2087640"/>
            <a:ext cx="8351640" cy="329436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Facebook Messenger es una aplicación y plataforma de mensajería.</a:t>
            </a:r>
            <a:endParaRPr b="0" lang="en-US" sz="2000" spc="-1" strike="noStrike">
              <a:solidFill>
                <a:srgbClr val="000000"/>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Si tienes una cuenta de Facebook, entonces </a:t>
            </a:r>
            <a:endParaRPr b="0" lang="en-US" sz="2000" spc="-1" strike="noStrike">
              <a:solidFill>
                <a:srgbClr val="000000"/>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automáticamente tienes una cuenta de Facebook Messenger: </a:t>
            </a:r>
            <a:endParaRPr b="0" lang="en-US" sz="2000" spc="-1" strike="noStrike">
              <a:solidFill>
                <a:srgbClr val="000000"/>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sólo tienes que descargar la aplicación de la Tienda e iniciar sesión con tus credenciales de Facebook. Puedes chatear con tus amigos o con quien tenga un perfil de Facebook. Cuando inicias sesión con Facebook desde tu PC, también inicias sesión en Messenger. </a:t>
            </a:r>
            <a:endParaRPr b="0" lang="en-US" sz="2000" spc="-1" strike="noStrike">
              <a:solidFill>
                <a:srgbClr val="000000"/>
              </a:solidFill>
              <a:latin typeface="Arial"/>
            </a:endParaRPr>
          </a:p>
        </p:txBody>
      </p:sp>
      <p:pic>
        <p:nvPicPr>
          <p:cNvPr id="551" name="Picture 2" descr="Image result for facebook messenger"/>
          <p:cNvPicPr/>
          <p:nvPr/>
        </p:nvPicPr>
        <p:blipFill>
          <a:blip r:embed="rId1"/>
          <a:stretch/>
        </p:blipFill>
        <p:spPr>
          <a:xfrm>
            <a:off x="7661160" y="2579760"/>
            <a:ext cx="1079640" cy="1089000"/>
          </a:xfrm>
          <a:prstGeom prst="rect">
            <a:avLst/>
          </a:prstGeom>
          <a:ln w="0">
            <a:noFill/>
          </a:ln>
        </p:spPr>
      </p:pic>
      <p:sp>
        <p:nvSpPr>
          <p:cNvPr id="552" name="Rettangolo 1"/>
          <p:cNvSpPr/>
          <p:nvPr/>
        </p:nvSpPr>
        <p:spPr>
          <a:xfrm>
            <a:off x="2054160" y="5735520"/>
            <a:ext cx="26373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u="sng">
                <a:solidFill>
                  <a:srgbClr val="009999"/>
                </a:solidFill>
                <a:uFillTx/>
                <a:latin typeface="Arial"/>
                <a:hlinkClick r:id="rId2"/>
              </a:rPr>
              <a:t>https://www.messenger.co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Rounded MT Bold"/>
              </a:rPr>
              <a:t>Aplicaciones alternativas a la mensajería </a:t>
            </a:r>
            <a:endParaRPr b="0" lang="en-US" sz="4400" spc="-1" strike="noStrike">
              <a:solidFill>
                <a:srgbClr val="000000"/>
              </a:solidFill>
              <a:latin typeface="Arial"/>
            </a:endParaRPr>
          </a:p>
        </p:txBody>
      </p:sp>
      <p:sp>
        <p:nvSpPr>
          <p:cNvPr id="554" name=""/>
          <p:cNvSpPr txBox="1"/>
          <p:nvPr/>
        </p:nvSpPr>
        <p:spPr>
          <a:xfrm>
            <a:off x="456840" y="1815840"/>
            <a:ext cx="7931160" cy="10364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plicaciones de mensajería: Telegram</a:t>
            </a:r>
            <a:endParaRPr b="0" lang="en-US" sz="32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5" name="CasellaDiTesto 6"/>
          <p:cNvSpPr/>
          <p:nvPr/>
        </p:nvSpPr>
        <p:spPr>
          <a:xfrm>
            <a:off x="430200" y="2563920"/>
            <a:ext cx="8207280" cy="310932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El telegrama es un servicio de mensajería instantánea y voz sobre IP basado en la nube. Es muy similar a Whatsapp y más que eso, Telegram tiene "canales" que pueden ser utilizados para la difusión de mensajes a un número ilimitado de abonados. </a:t>
            </a:r>
            <a:endParaRPr b="0" lang="en-US" sz="2200" spc="-1" strike="noStrike">
              <a:solidFill>
                <a:srgbClr val="000000"/>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El Telegrama también se puede utilizar en un PC.</a:t>
            </a:r>
            <a:endParaRPr b="0" lang="en-US" sz="2200" spc="-1" strike="noStrike">
              <a:solidFill>
                <a:srgbClr val="000000"/>
              </a:solidFill>
              <a:latin typeface="Arial"/>
            </a:endParaRPr>
          </a:p>
        </p:txBody>
      </p:sp>
      <p:pic>
        <p:nvPicPr>
          <p:cNvPr id="556" name="Picture 4" descr="Image result for telegram"/>
          <p:cNvPicPr/>
          <p:nvPr/>
        </p:nvPicPr>
        <p:blipFill>
          <a:blip r:embed="rId1"/>
          <a:stretch/>
        </p:blipFill>
        <p:spPr>
          <a:xfrm>
            <a:off x="7497720" y="1417680"/>
            <a:ext cx="1139760" cy="1081080"/>
          </a:xfrm>
          <a:prstGeom prst="rect">
            <a:avLst/>
          </a:prstGeom>
          <a:ln w="0">
            <a:noFill/>
          </a:ln>
        </p:spPr>
      </p:pic>
      <p:sp>
        <p:nvSpPr>
          <p:cNvPr id="557" name="Rettangolo 1"/>
          <p:cNvSpPr/>
          <p:nvPr/>
        </p:nvSpPr>
        <p:spPr>
          <a:xfrm>
            <a:off x="3628800" y="5656320"/>
            <a:ext cx="18860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u="sng">
                <a:solidFill>
                  <a:srgbClr val="009999"/>
                </a:solidFill>
                <a:uFillTx/>
                <a:latin typeface="Arial"/>
                <a:hlinkClick r:id="rId2"/>
              </a:rPr>
              <a:t>https://telegram.org/</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Rounded MT Bold"/>
              </a:rPr>
              <a:t>Aplicaciones alternativas a la mensajería </a:t>
            </a:r>
            <a:endParaRPr b="0" lang="en-US" sz="4400" spc="-1" strike="noStrike">
              <a:solidFill>
                <a:srgbClr val="000000"/>
              </a:solidFill>
              <a:latin typeface="Arial"/>
            </a:endParaRPr>
          </a:p>
        </p:txBody>
      </p:sp>
      <p:sp>
        <p:nvSpPr>
          <p:cNvPr id="559" name=""/>
          <p:cNvSpPr txBox="1"/>
          <p:nvPr/>
        </p:nvSpPr>
        <p:spPr>
          <a:xfrm>
            <a:off x="456840" y="1703160"/>
            <a:ext cx="7931160" cy="8031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plicaciones de mensajería:  WeChat</a:t>
            </a:r>
            <a:endParaRPr b="0" lang="en-US" sz="32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CasellaDiTesto 6"/>
          <p:cNvSpPr/>
          <p:nvPr/>
        </p:nvSpPr>
        <p:spPr>
          <a:xfrm>
            <a:off x="468360" y="2506680"/>
            <a:ext cx="8207280" cy="3611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Al igual que Whatsapp, WeChat proporciona mensajes de texto, de difusión y de voz. Con él puedes compartir fotos, vídeos, documentos y ubicación y también puedes hacer videollamadas y conferencias. WeChat también permite a los usuarios intercambiar contactos con personas cercanas a través de Bluetooth y también puede integrarse con otros servicios de redes sociales como Facebook.</a:t>
            </a:r>
            <a:endParaRPr b="0" lang="en-US" sz="2200" spc="-1" strike="noStrike">
              <a:solidFill>
                <a:srgbClr val="000000"/>
              </a:solidFill>
              <a:latin typeface="Arial"/>
            </a:endParaRPr>
          </a:p>
        </p:txBody>
      </p:sp>
      <p:pic>
        <p:nvPicPr>
          <p:cNvPr id="561" name="Picture 2" descr="Image result for wechat"/>
          <p:cNvPicPr/>
          <p:nvPr/>
        </p:nvPicPr>
        <p:blipFill>
          <a:blip r:embed="rId1"/>
          <a:stretch/>
        </p:blipFill>
        <p:spPr>
          <a:xfrm>
            <a:off x="7380360" y="1446120"/>
            <a:ext cx="1008000" cy="1008000"/>
          </a:xfrm>
          <a:prstGeom prst="rect">
            <a:avLst/>
          </a:prstGeom>
          <a:ln w="0">
            <a:noFill/>
          </a:ln>
        </p:spPr>
      </p:pic>
      <p:sp>
        <p:nvSpPr>
          <p:cNvPr id="562" name="Rettangolo 1"/>
          <p:cNvSpPr/>
          <p:nvPr/>
        </p:nvSpPr>
        <p:spPr>
          <a:xfrm>
            <a:off x="5006160" y="5589720"/>
            <a:ext cx="22428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u="sng">
                <a:solidFill>
                  <a:srgbClr val="009999"/>
                </a:solidFill>
                <a:uFillTx/>
                <a:latin typeface="Arial"/>
                <a:hlinkClick r:id="rId2"/>
              </a:rPr>
              <a:t>https://www.wechat.co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Rounded MT Bold"/>
              </a:rPr>
              <a:t>Aplicaciones alternativas a la mensajería </a:t>
            </a:r>
            <a:endParaRPr b="0" lang="en-US" sz="4400" spc="-1" strike="noStrike">
              <a:solidFill>
                <a:srgbClr val="000000"/>
              </a:solidFill>
              <a:latin typeface="Arial"/>
            </a:endParaRPr>
          </a:p>
        </p:txBody>
      </p:sp>
      <p:sp>
        <p:nvSpPr>
          <p:cNvPr id="564" name=""/>
          <p:cNvSpPr txBox="1"/>
          <p:nvPr/>
        </p:nvSpPr>
        <p:spPr>
          <a:xfrm>
            <a:off x="456840" y="1815840"/>
            <a:ext cx="7931160" cy="10364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plicaciones de mensajería: Viber</a:t>
            </a:r>
            <a:endParaRPr b="0" lang="en-US" sz="32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5" name="CasellaDiTesto 6"/>
          <p:cNvSpPr/>
          <p:nvPr/>
        </p:nvSpPr>
        <p:spPr>
          <a:xfrm>
            <a:off x="468360" y="2552760"/>
            <a:ext cx="8207280" cy="344556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Viber es otra aplicación muy similar a Whatsapp, que proporciona mensajes de texto y de voz, videollamadas, fotos y otros medios compartidos. Al igual que en Whatsapp y Telegram, también puedes iniciar sesión en Viber desde los ordenadores.</a:t>
            </a:r>
            <a:endParaRPr b="0" lang="en-US" sz="2200" spc="-1" strike="noStrike">
              <a:solidFill>
                <a:srgbClr val="000000"/>
              </a:solidFill>
              <a:latin typeface="Arial"/>
            </a:endParaRPr>
          </a:p>
        </p:txBody>
      </p:sp>
      <p:pic>
        <p:nvPicPr>
          <p:cNvPr id="566" name="Picture 2" descr="Image result for viber"/>
          <p:cNvPicPr/>
          <p:nvPr/>
        </p:nvPicPr>
        <p:blipFill>
          <a:blip r:embed="rId1"/>
          <a:stretch/>
        </p:blipFill>
        <p:spPr>
          <a:xfrm>
            <a:off x="6788160" y="1979640"/>
            <a:ext cx="1887480" cy="950760"/>
          </a:xfrm>
          <a:prstGeom prst="rect">
            <a:avLst/>
          </a:prstGeom>
          <a:ln w="0">
            <a:noFill/>
          </a:ln>
        </p:spPr>
      </p:pic>
      <p:sp>
        <p:nvSpPr>
          <p:cNvPr id="567" name="Rettangolo 1"/>
          <p:cNvSpPr/>
          <p:nvPr/>
        </p:nvSpPr>
        <p:spPr>
          <a:xfrm>
            <a:off x="3369960" y="5602320"/>
            <a:ext cx="2105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u="sng">
                <a:solidFill>
                  <a:srgbClr val="009999"/>
                </a:solidFill>
                <a:uFillTx/>
                <a:latin typeface="Arial"/>
                <a:hlinkClick r:id="rId2"/>
              </a:rPr>
              <a:t>https://www.viber.co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Rounded MT Bold"/>
              </a:rPr>
              <a:t>¿Cómo tener aplicaciones para la mensajería?</a:t>
            </a:r>
            <a:endParaRPr b="0" lang="en-US" sz="4000" spc="-1" strike="noStrike">
              <a:solidFill>
                <a:srgbClr val="000000"/>
              </a:solidFill>
              <a:latin typeface="Arial"/>
            </a:endParaRPr>
          </a:p>
        </p:txBody>
      </p:sp>
      <p:sp>
        <p:nvSpPr>
          <p:cNvPr id="569" name="CasellaDiTesto 6"/>
          <p:cNvSpPr/>
          <p:nvPr/>
        </p:nvSpPr>
        <p:spPr>
          <a:xfrm>
            <a:off x="460440" y="1773360"/>
            <a:ext cx="820872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También hay otras aplicaciones gratuitas que puedes usar para la mensajería, es muy fácil buscar otras. Puedes elegir la aplicación que prefieras buscar en la tienda de tu smartphone (Play Store para Android o App Store para iOS).</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Sólo tienes que escribir el nombre de la aplicación que más te gusta en la tienda e instalarla!</a:t>
            </a:r>
            <a:endParaRPr b="0" lang="en-US" sz="2400" spc="-1" strike="noStrike">
              <a:solidFill>
                <a:srgbClr val="000000"/>
              </a:solidFill>
              <a:latin typeface="Arial"/>
            </a:endParaRPr>
          </a:p>
        </p:txBody>
      </p:sp>
      <p:sp>
        <p:nvSpPr>
          <p:cNvPr id="570"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project@internetwebsolutions.es</cp:lastModifiedBy>
  <dcterms:modified xsi:type="dcterms:W3CDTF">2020-01-15T15:25:48Z</dcterms:modified>
  <cp:revision>481</cp:revision>
  <dc:subject/>
  <dc:title>Title</dc:title>
</cp:coreProperties>
</file>