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130A-AA49-4C53-BA3B-86D1FE886A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0900-03F4-4D9F-A291-66112232B631}"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CAAAAA-AF61-492B-A781-C9FB07425B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B36039-4CC4-4BFD-806D-1A9B8610722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A30D55-04BB-4D8B-9575-F7C78073CB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8CB071-69E7-49BA-B103-B380E238C0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29FE23-3C05-41B1-8D48-712219D2E0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444C26-3120-4632-BAF0-8D6B5A981F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2A235C-8172-42B0-9996-735798F823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6212C1-D871-4C3D-ABE2-85E4C9092D2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CD57B55-FCE5-42D0-B1BF-BF54B089311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A752BBD-3BA9-4A5A-9AEA-B2E14B07DF6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8AD226-19CE-4C0D-9504-E758CBF6EB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430027-CCF3-4336-8A54-E9081F4E67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CDB7B6-6E49-4370-9E32-DE964B4211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5F44E3D-7556-41A2-AF70-B90DFE8A384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142F7D-B5F7-40A1-9E00-0239E38B5B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BBF520-8946-4BA2-81D7-25CE9F218AE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2E0A73-84CE-42A4-8B28-270D0EEB58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7ACDA2-9FB6-43B6-BF40-82E09EEC0A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3C3529-D85B-43EC-B99E-34452B4AC18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186C9CE-D850-4A77-A695-093D7448606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965073-1927-4A37-AA1B-E7C2E9DCD19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B2111B3-964E-4839-A1D8-1A64F1B2136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D43C3C-C901-4F94-8504-CF4AF195A1C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31A45F5-FE06-4046-93A7-925C741830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DE8970-FB36-4657-A26A-D0FB6A35DB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FCF2D2-4AD4-499D-B0F9-B1D609CD01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07121A5-29B7-44C2-9FA0-8E31989638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B4F1BC-0007-4661-99A6-F8735CCEAB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0F55381-6017-47C9-9D32-C173D5FFFB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BEE417-C787-4BE1-96B0-CF4866CD66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57634F-BBBD-43F7-AFE6-BD1088A1F7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513277D-1103-4BA4-A798-220DFC5C67B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ED2559B-D3B1-4C9E-8DA7-7E0F8FDFE36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7BDD1BD-D35F-4FB3-B0AF-E6071110CF7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AF6C84-6DE7-40CC-BC25-35BAE57DEFE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F69599A-EE09-432D-A407-EF91F07938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A319A2A-76BF-420A-BE4C-97F818A70FD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F837B45-949A-4DCC-9D9A-91F4518DCD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B2E68FE-328B-447C-A5A7-02E4F8A5C0E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FC56A12-E536-4B15-8CDC-B0B1F3A74F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C5EF35-3E0D-4BAE-B0B8-D61EC93B16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A0FA66-C871-46C8-B649-C1C7E0A0DF4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95A7D7-FE45-4DBE-B9B2-E00B62A1190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1AA1E0B-86B3-4871-ADCB-76173A69189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5F8E550-2E62-4891-96C9-614B7A0E57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9A0934-C747-45A2-A085-EFB563963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ACC8A-7EB3-49E6-B8D7-05AA2051B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FB6BED-8262-49AF-872D-D7451B9DA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1AAAE-A177-4585-952E-3CEFC99FE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DB6BD-32F1-49D6-BE1B-8E7D46452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7D587-C2D0-43B3-B56A-00A59D210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DF1EE-A78A-4557-B22F-4DAFC533C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58505-670A-4EAB-B290-EE0E72CE4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3BA9B-BB1A-40FA-83E5-3290E9642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FF626-0084-43B1-AB98-89C15BE76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D521E8-ADBF-423B-A46B-A482FEA9C1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C2D6E4-BBFC-452A-BCEA-4685E7ED9F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6C7BDB-3E43-4BE7-884E-7ABC2A3353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FC1228-5748-4C14-906E-900B937CAB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039CE9-FEE1-4D64-86B7-8554E53669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3D269A-754C-4BA3-8767-F60A536C0D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105DA8-CC48-4ECF-AB14-1459D8A1EA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83CC6F-D32F-49F5-906F-8BA318ABAB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2761D9-C506-4EBB-A408-89F0655F8F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C45966-DF49-4A65-B74F-D666E2FD02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592FDC-1E38-46CD-930D-99051B5B1E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7A2BDB-B9A7-4407-9AD8-AEB89B6608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311B74-67FF-46EE-B035-D2EFEF3129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E11DB6-F462-4F10-8FC3-C559B7D0E2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CD9F95-7445-4087-A0EC-7579EE1B7D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2196AD-9542-4D18-829D-AB24C5B059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3BBA0A-2F56-47C9-8CDF-2405E736B3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2985B6-AAE2-4E3A-809F-7273C3E3FF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008C94-9A6D-4BCD-9572-E38F7910BB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7CAD0F-88C4-426D-8843-3AA8968782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10AFB1-09D0-4871-99A0-4E958BC28D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EB20F5-64D5-4EFF-B59F-3B3D58B7B9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07F217-7C09-412C-996D-F2528A9E61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4BE896-A4F8-402F-858E-BBCFDDE86E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8CE7C0-91BD-4CF0-850D-517AEA8AE9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0B9598-96C4-4B96-B9A6-034EB950669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BD133F0-E8B8-42DC-A924-7480A2B244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4A1DCD-40DE-41A0-88B1-BE3B471E74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9A6D74-2251-4A63-86CC-F8025EA04F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743C21-40AF-4452-A642-E336437344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86193F-A8C1-4E2D-90D4-0F456B5F1E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88C339E-CC00-4BDE-8974-F61AB0DE9E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3319AB-75DC-4F9D-A619-A42427FADB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A28701-D837-4F72-9FA8-01D00BED79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38CD3C-866E-44C2-9626-095A8EEA4C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240E93-2026-453B-962B-FAE0943054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85536A-835E-42D2-96DC-0FA9F5B4BF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A4CF00B-2D0F-483C-A0AA-362CEC107D9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CC0CA8-8D1F-4DB0-AE77-6B428F38520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2DA0DF-2464-4D18-809C-53A67310283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6788F8-4BF5-4A9A-BCA6-06C489896F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E7346E-53AA-4F79-8C30-9F351C91D6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794A94-2874-4CD9-89C2-3E7C6A0C94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1F17F3E-A4AB-4E36-A02F-5F13947767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327906-F4B4-43E3-9BE6-D3C6A8F130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A531E4-7DB7-40F5-9978-45C0FC1F29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E0A9DF-48F7-4E2B-A3BE-92A2BFBC95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DB01A9-31F8-4137-9BC8-4A550D3E33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B26C20D-2E2A-48E7-AE91-802E19FF1C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8763D22-5076-494E-96CC-425C9E5EDC2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9BB7CF4-9E51-4AA8-B5D1-93DE41D2B0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91C0F7-72F0-4CD1-BE01-A83C4209E6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186555-5C42-4541-B3E2-BB84B90813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62F33B3-A741-4EB1-B21A-6C83A04FD3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C82AA75-152F-46B4-8ED0-C687E686D7E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539C844-4E7F-4375-B9AB-F68886B2EE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8EA322-1DF2-424B-AF96-A910F3CF77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A818A3-ED74-47F2-A3F1-1D8668F833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6DDCA2-7DB2-4520-A81C-095819E25C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C009D0-8D92-46D4-8AC9-3B2422D198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4FC1040-E9D7-4533-B815-D8E680A06A8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C87C9E-A7AC-4F66-8310-5F45074A804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3305FD-ABE2-46A0-8FA7-E9598D01889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3F7B61-3FCD-4E45-B46D-0EA4CDCA88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341852-9BFE-4C93-B109-8B227897433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2FEA-65EF-4077-992F-C01DF31515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6E83-FA7F-4C6C-B22D-9FF1AA7188D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957E-6677-4CAE-8A44-7644F1FBD2D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4C27-AC0F-45A9-BF0C-39A8D4FE95E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40FE-D671-47E3-8CD6-142B35B7A43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736E-BE31-42E6-AEA3-1D1D101589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E8EB-5A44-4A26-A68A-E1BD2ECD76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7167-F4E7-4D83-9934-CC578D885A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3BE4-E9DB-44F0-9B07-2EDE5A8115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CCF2-A26C-40B4-8D50-B01B6FCB94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reación de contenidos digitales</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Apps para conectar con la gen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Usando Skype, Twitter y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ndo tu cuenta de Twitter(Escritorio)</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creas tu cuenta, el “nombre complete” que usas es el nombre que se muestra, pero lo puedes cambiar por el que quieras, por lo que puedes ser anónimo si lo dese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una contraseña segu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tus intereses - Twitter te sugerirá personas a las que segui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una image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scribe tu perfil – este permitirá a la gente saber un poco más sobre 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reando tu cuenta de Twitter (Móvil)</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roduce tu nombre, número de teléfono/dirección de email. Usa datos de contacto reales porque necesitarás verificarlo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roduce el número de verificación que has recibido a través de la información de contacto que proporcionaste. Elige una contraseña segura. </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Decide si te gustaría sincronizar tus contactos. Esto puede ayudarte a encontrar seguidores en Twitter, pero si no lo deseas, simplemente toca “no por ahor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Búsqueda por intereses p.ej deportes. Esto ayudará a Twitter a recomendarte buenos perfiles para segui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reando tu cuenta de Twitter (móvil)</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ugerirá algunas cuentas que puedes seguir en base a tus intereses. Elige aquellas que te parezcan interesant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Ahora estás preparado para twitear!  </a:t>
            </a:r>
            <a:r>
              <a:rPr b="0" lang="en-GB" sz="2600" spc="-1" strike="noStrike">
                <a:solidFill>
                  <a:srgbClr val="000000"/>
                </a:solidFill>
                <a:latin typeface="Arial Rounded MT Bold"/>
              </a:rPr>
              <a:t>Haz clic en el botón azul de la parte superior derecha para twitear, haz clic en la silueta gris en la parte superior izquierda para cambiar tu imagen de perfil y la configuración, y ¡empieza a twitear!</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usar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es genial para encontrar las últimas noticias – muchas noticias importantes se publican en Twitter.</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s un sitio para chatear con amigos y para relacionarse con las personas a las que sigues p. ej. periodistas, músicos, deportistas,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cuerda – es públic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us tweets pueden contener fotos y enlaces, así como texto.</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5435640" y="5084640"/>
            <a:ext cx="2374920" cy="114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l lenguaje de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 usa @ cuando incluyes el @nombredetwitter de alguien en el tweet. La persona recibirá una notificación de que la has mencionado.</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significa ‘retweet’. Puedes RT a cualquiera volviendo a publicar su tweet, o puedes añadir un comentari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significa Mensaje Directo. Te permite chatear en privad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Una palabra o frase precedida del símbolo # está destacando una palabra clave y te permite buscar ese términ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weets Famosos</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Últimas Noticia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569040"/>
            <a:ext cx="3774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a noticia del accid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legó a Twitter 15 minutos antes de que los medios convencionales se apoderaran de la histo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sa Twitter para concienciar / formar una comunidad online para causas en las que estés interesad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uede apoyar el incremento de la participación ciudad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uede aumentar el interés de los medios / incrementar el apoyo- ¿recuerdas el reto del cubo de hielo? </a:t>
            </a:r>
            <a:r>
              <a:rPr b="0" i="1" lang="en-IE" sz="2000" spc="-1" strike="noStrike">
                <a:solidFill>
                  <a:srgbClr val="000000"/>
                </a:solidFill>
                <a:latin typeface="Arial Rounded MT Bold"/>
              </a:rPr>
              <a:t>(las donaciones ALS del reto del cubo de hielo fueron 15.6 millones de dólares, frente a los 1.8 millones del mismo perio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Rounded MT Bold"/>
              </a:rPr>
              <a:t>     </a:t>
            </a:r>
            <a:r>
              <a:rPr b="0" i="1" lang="en-IE" sz="2000" spc="-1" strike="noStrike">
                <a:solidFill>
                  <a:srgbClr val="000000"/>
                </a:solidFill>
                <a:latin typeface="Arial Rounded MT Bold"/>
              </a:rPr>
              <a:t>del año anterior</a:t>
            </a:r>
            <a:r>
              <a:rPr b="0" lang="en-IE"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ciativas:</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durante los ataques de </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     </a:t>
            </a:r>
            <a:r>
              <a:rPr b="0" lang="en-IE" sz="2000" spc="-1" strike="noStrike">
                <a:solidFill>
                  <a:srgbClr val="000000"/>
                </a:solidFill>
                <a:latin typeface="Arial Rounded MT Bold"/>
              </a:rPr>
              <a:t>París</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Otros beneficios...</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a:off x="2268360" y="4149360"/>
            <a:ext cx="2736000" cy="143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s de Twitter</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lige dos temas o áreas en las que estés interesa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Busca personalidades en estas áreas que estén en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igue sus cuentas y crea tu lista de contactos.</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es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es una red soci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 puede usar en tu ordenador / portátil o lo puedes descargar la </a:t>
            </a:r>
            <a:r>
              <a:rPr b="1" lang="en-GB" sz="2400" spc="-1" strike="noStrike">
                <a:solidFill>
                  <a:srgbClr val="000000"/>
                </a:solidFill>
                <a:latin typeface="Arial Rounded MT Bold"/>
              </a:rPr>
              <a:t>app</a:t>
            </a:r>
            <a:r>
              <a:rPr b="0" lang="en-GB" sz="2400" spc="-1" strike="noStrike">
                <a:solidFill>
                  <a:srgbClr val="000000"/>
                </a:solidFill>
                <a:latin typeface="Arial Rounded MT Bold"/>
              </a:rPr>
              <a:t> de Facebook de tu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se usa para conectar con amigos o colegas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 permite compartir publicaciones con los demás – las publicaciones pueden incluir música, imágenes o ¡simplemente tus pensamiento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es la mayor red social del mundo con ¡más de 2 billones de usuarios al m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3187800" y="5362560"/>
            <a:ext cx="2247840" cy="68904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a unidad podrás:</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nfigurar cuentas en Skype, Twitter y Facebook.</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tus cuentas en tu vida diari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ómo accedo a Facebook?</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e a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 d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registr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 un smartphone, descarg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desde tu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nfigura tu cuenta de Facebook</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a tu perfil de Facebook antes de empezar a conectar con los amigos.</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l área de perfil se llama tu ‘biografía’ ya que muestra una serie ordenada de tus actividad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 subir dos fotos – una foto de portada, que es un banner en la parte superior de tu perfil y una pequeña foto redonda de perfil.</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n tu biografía, puedes incluir información sobre ti mismo como formación, trabajo, hobbies,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ndo Facebook</a:t>
            </a:r>
            <a:endParaRPr b="0" lang="en-US" sz="4000" spc="-1" strike="noStrike">
              <a:solidFill>
                <a:srgbClr val="000000"/>
              </a:solidFill>
              <a:latin typeface="Arial"/>
            </a:endParaRPr>
          </a:p>
        </p:txBody>
      </p:sp>
      <p:sp>
        <p:nvSpPr>
          <p:cNvPr id="609" name=""/>
          <p:cNvSpPr txBox="1"/>
          <p:nvPr/>
        </p:nvSpPr>
        <p:spPr>
          <a:xfrm>
            <a:off x="684000" y="1628640"/>
            <a:ext cx="7559640" cy="39499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completes tu perfil puedes empezar a añadir amigos enviando solicitudes de Amistad. </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edes encontrar amigos buscándolos o Facebook puede usar los emails de tus contacto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ambién puedes buscar páginas y darles “like” p. ej. periódicos o equipos deportivo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entras en tu cuenta serás llevado a la página de inicio o “Noticias” que incluye una serie de publicaciones de tus amigos o de las páginas que te gu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ando Facebook</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fontScale="94000"/>
          </a:bodyPr>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Si deseas publicar ve a la caja donde pone “Qué estás pensando”</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Puedes comunicar tus actividades, publicar una historia, una foto, o compartir un video.</a:t>
            </a: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Esto se llama tu ‘Actualización de estado’</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484360" y="2133720"/>
            <a:ext cx="4800600" cy="1552320"/>
          </a:xfrm>
          <a:prstGeom prst="rect">
            <a:avLst/>
          </a:prstGeom>
          <a:ln w="0">
            <a:noFill/>
          </a:ln>
        </p:spPr>
      </p:pic>
      <p:cxnSp>
        <p:nvCxnSpPr>
          <p:cNvPr id="613" name="Straight Arrow Connector 2"/>
          <p:cNvCxnSpPr/>
          <p:nvPr/>
        </p:nvCxnSpPr>
        <p:spPr>
          <a:xfrm>
            <a:off x="2050560" y="2133720"/>
            <a:ext cx="1080360" cy="7768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ando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tiene una opción de chat privado llamado Facebook Chat o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ermite chatear en tiempo real con cualquier amigo que esté online al mismo tiempo (Consejo: si están online, aparecerá un punto verde al lado de sus nombre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n el dispositivo móvil,</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necesitarás instalar la App</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Messenger.</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724360" y="3933720"/>
            <a:ext cx="258768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ivacidad de Facebook</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te permite controlar quien puede ver tu información personal y lo que publica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os controles de privacidad se encuentran en la opción “ajust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s elegir mantener tu información en privad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ee el siguiente artículo para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más información:</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435640" y="371628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Un ordenador, un portátil, una tablet o un smartphone con conexión a interne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ara las video llamadas por Skype necesitarás tener disponible una cámara/micrófono en tu ordenador/portátil.</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es un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que funciona usando intern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ermite video llamadas y llamadas de voz entre smartphones, tablets y ordenadores. También permite enviar mensaj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s llamadas de Skype a Skype son gratuitas a cualquier parte del mundo, por eso, es una app verdaderamente útil para mantenerse en contacto con amigos y familia.</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accedo a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uedes instalar l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de Skype en tu ordenador o portátil visitando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z clic en el botón “</a:t>
            </a:r>
            <a:r>
              <a:rPr b="1" lang="en-GB" sz="2800" spc="-1" strike="noStrike">
                <a:solidFill>
                  <a:srgbClr val="000000"/>
                </a:solidFill>
                <a:latin typeface="Arial Rounded MT Bold"/>
              </a:rPr>
              <a:t>Obtener Skyp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o u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escarga</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desde tu app store.</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ndo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n tu ordenador o portatil haz doble clic en la app de Skyp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erás estas opcion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z clic en el enlace “registro”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igue los pasos indicados</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sí podrás configurar tu cuenta.</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A</a:t>
            </a:r>
            <a:r>
              <a:rPr b="0" lang="en-GB" sz="2200" spc="-1" strike="noStrike">
                <a:solidFill>
                  <a:srgbClr val="000000"/>
                </a:solidFill>
                <a:latin typeface="Arial Rounded MT Bold"/>
              </a:rPr>
              <a:t>: si ya dispones de una dirección de email de Hotmail o Outlook, puedes registrarte con ese email. O puedes usar tu número de teléfono.</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i tiene la app de Skype descargada en tu teléfono o tablet tócala para abrirl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Skype en acción</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ia y pega el enlace de aquí abajo en tu navegado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es Twitter?</a:t>
            </a:r>
            <a:br>
              <a:rPr sz="4000"/>
            </a:br>
            <a:endParaRPr b="0" lang="en-US" sz="4000" spc="-1" strike="noStrike">
              <a:solidFill>
                <a:srgbClr val="000000"/>
              </a:solidFill>
              <a:latin typeface="Arial"/>
            </a:endParaRPr>
          </a:p>
        </p:txBody>
      </p:sp>
      <p:sp>
        <p:nvSpPr>
          <p:cNvPr id="568" name=""/>
          <p:cNvSpPr txBox="1"/>
          <p:nvPr/>
        </p:nvSpPr>
        <p:spPr>
          <a:xfrm>
            <a:off x="250920" y="1022400"/>
            <a:ext cx="8532720" cy="4680000"/>
          </a:xfrm>
          <a:prstGeom prst="rect">
            <a:avLst/>
          </a:prstGeom>
          <a:noFill/>
          <a:ln w="0">
            <a:noFill/>
          </a:ln>
        </p:spPr>
        <p:txBody>
          <a:bodyPr anchor="t">
            <a:normAutofit fontScale="90000"/>
          </a:bodyPr>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es una red social.</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 puede usar en tu ordenador/portátil o puedes descargar la </a:t>
            </a:r>
            <a:r>
              <a:rPr b="1" lang="en-GB" sz="2600" spc="-1" strike="noStrike">
                <a:solidFill>
                  <a:srgbClr val="000000"/>
                </a:solidFill>
                <a:latin typeface="Arial Rounded MT Bold"/>
              </a:rPr>
              <a:t>aplicación</a:t>
            </a:r>
            <a:r>
              <a:rPr b="0" lang="en-GB" sz="2600" spc="-1" strike="noStrike">
                <a:solidFill>
                  <a:srgbClr val="000000"/>
                </a:solidFill>
                <a:latin typeface="Arial Rounded MT Bold"/>
              </a:rPr>
              <a:t> de Twitter desde la tienda de aplicaciones.</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e usa para seguir las últimas noticias, para seguir a personalidades solo para mantenerse en contacto. </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ermite a la gente escribir mensajes cortos (280 caracteres) o ‘Tweets’ que serán visibles para otros usuarios de Twitter.</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tiene 100 millones de usuarios y cada día se envían 500 millones de tweets!</a:t>
            </a:r>
            <a:endParaRPr b="0" lang="en-US" sz="2600" spc="-1" strike="noStrike">
              <a:solidFill>
                <a:srgbClr val="000000"/>
              </a:solidFill>
              <a:latin typeface="Arial"/>
            </a:endParaRPr>
          </a:p>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763040" y="765000"/>
            <a:ext cx="890280" cy="8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accedo a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isita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 d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registr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o u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escarg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desde tu tienda de aplicacion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2-04T10:38:40Z</dcterms:modified>
  <cp:revision>504</cp:revision>
  <dc:subject/>
  <dc:title>Title</dc:title>
</cp:coreProperties>
</file>