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159B-8B9C-4A57-838C-44254402961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371600" y="1143000"/>
            <a:ext cx="4114800" cy="3086280"/>
          </a:xfrm>
          <a:prstGeom prst="rect">
            <a:avLst/>
          </a:prstGeom>
          <a:ln w="0">
            <a:noFill/>
          </a:ln>
        </p:spPr>
      </p:sp>
      <p:sp>
        <p:nvSpPr>
          <p:cNvPr id="59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59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009F8-CCF9-40A9-9658-12BBDDA1C0F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0708667-F19A-489B-B46E-BE6CCD914B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76C9A0B-AC87-4CDD-A51D-9C7DF6C6374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617A8D1-0D65-424C-9875-2052406065E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24B6072-DE09-4E0E-92B1-B05D2E636D0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B8FF28-DE2D-47D1-8337-092E6F5EAF6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D44D064-E2A6-4975-8A9A-E37D02B8BC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C56628-B607-4BDC-82EF-C190F994F74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C0F3E9F-1B82-4928-ADD0-E75D20B31F0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BD55DA4-F5F4-4EE7-A15B-8D776D9FA3A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CAAC760-337E-4047-8C22-1B7BA8520E7C}"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7A93BB9-C38C-46BC-A186-5138D514EBD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95C06D8-862B-4BDD-9F53-9A569B66FB1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B808F17-F9BF-46EC-8E0C-7979D8F95F7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03F0C56-E44A-406D-B5CD-A66B02EB07B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55E5EE1-689A-40F2-9AAB-5BD4B781154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B8E573A-D9B5-46C7-8D8E-ABF4BFCB4EF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C992485-E062-4D6B-A27A-77A09AE5D0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5E91B3-AC0D-4153-9BF1-E9C45E2210A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6160AB9-208E-4D1B-B0E6-88D30769A6A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EDFDFC79-5842-4BCF-BF96-1E69D2A551C6}"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1D12FE0-8E22-4D00-BCFA-2223516A063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B19DC83-5552-49AE-A0DA-9904FB3DFC2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80A549B-AAE3-4717-BD59-F4BDC1B75E7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ACB4F3F-05CD-40B6-805E-E4CDE05A18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76C3C5E-70EA-4147-A7AE-7B3FE89B8FD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A36DB28-17BA-4262-AE8C-0A636EEFA4B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01146CA-635C-4DE6-97AC-A97EE3E4759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04D9934-EFD3-429A-8CEE-EC4C7C20394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A7DF825-8343-4403-BD48-FACE05D74A1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4FFB793-E462-4989-B873-CCF0EABDA09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E7A035D-5622-439A-8E33-881E78126C0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D5DDF931-1702-4800-8DCF-8ECBE6D15AD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C89DD4B-2DB8-4A4E-9D4F-EFA78A68D3A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9505A44-449F-4CB8-8DFA-C04C258F7973}"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00C0DBC-73F4-4626-B448-A57C7BFBB37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2F90A3FE-D420-4F57-B5C3-AFB3DE91ED0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C5ACD8-6FC1-4D9D-8225-963CACF0A49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9965CA5-EA1F-439E-8652-CCC8AAAC61D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7443D15-0A38-4D12-9D18-55305411687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007BA06-97FF-448A-84C6-5B96B4B6F20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755AA7E-2782-445B-B268-7DDFC683B11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4CF188A-E623-4924-BF52-31EE24A4850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C1E6CC6-50C0-41A2-B2C9-F5964ABCA01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859B1E5-B45A-4ADD-9F00-4695FCA8A39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87764D9-E512-4360-A7AF-A56A7DBF684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18EDD03-84B8-4919-88C5-3095D63290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EDA7B5-FAF8-4BA1-A148-0D1BBE190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449E9D-9F7B-4D94-B29B-758E695DFE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AA054-F04F-4C81-B889-B40547ED3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CE7FB-B18D-4ABA-82E8-C08AF6DCB7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EC2653-C2B2-4BDD-BA6F-D61BE48A4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65691C-59B4-440A-9220-FAE7FC468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E36875-60DD-4986-9988-3B772093B3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9D6FE4-6127-457F-8DA0-EF92C97B25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E55E25-3177-4DD7-9FF0-B4725C7B36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63D723-3B17-4B47-897B-0B13879C37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CBA62B-42E5-4DA5-BD81-DDAD632B05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96899A8-D248-45E3-9474-80E9A5F8E94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0D62AC-AC4D-430F-8E8F-0C48EDCB48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F609BBE-C336-435C-AADE-20C3B4FA2DE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0572D4B-CE72-42F4-AE55-FBF972DE298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281AEB-3E73-4F08-A7F1-EA525DD8CD8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90AC6E-4832-47D6-BDC8-BBA67AD982E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25A6062-436C-431E-9F0F-8E70843719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52D2F1-6F10-41D9-9D3F-6434993897A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17C7405-C843-409C-92E7-132FB388AA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8FCF1B9-A77C-499A-990D-FF3E90C84D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18DB6DE-DB4C-4AA1-9AA5-8155E83F31E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E514226-E2B3-4829-9230-B273F08B736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D12D969C-7A99-4064-A032-DA1F940D369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A808638-3198-415B-A6B6-EF365455BD7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07D803A-7A45-4E4B-B49D-499D7538BE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5D65C69-344C-4098-8511-E1730E20917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21BA795-A0E7-47F9-844D-FE4053D9336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9F30DDF-068F-4191-A320-23FCFD973BF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10763B2-9206-486F-B89B-9652B8879D4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4C39948-FFC3-4CCC-AB6B-40A15CD0BB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ACF0DA-05E1-480C-A3D2-AB91743E1B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6A75B1-C728-4344-99B4-13977584F1B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F7F3165-E5B5-4856-8875-D4FE45B81CB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9199E47-5442-417B-9995-34787948047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C6D76DC-B623-4F38-938D-E216937948A4}"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B8A6B40-1A42-48F6-B144-7855732EEC6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300FEA-BAA7-4492-8840-83621B312DE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AFF9DD8-18FB-42FD-B259-2F0DC3018F1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019A800-B921-4806-A32B-5A28C3AFAC34}"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96B29F2-E45C-42C5-B1DD-0C88BAB79DA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790704-39FF-4D47-A7CB-0DFB3203C6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57DB26-FBFA-48D9-8ABC-7396D5AC393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AA3B9DD-4506-4268-8776-5034144641F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8A6BA4-FDF2-420F-B21E-CFF3E745C52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0DA74D6-2204-42E2-BB2F-060139996FF4}"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D6B3FF3-7694-45D3-8344-44606C560DD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EB2CC18-87B9-4519-85B5-A4ACD3EAFC0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1D476C2-2262-44D2-92A4-395E67661F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37A28B-DDA6-47F3-9803-CA4871A80D9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A594806-3927-4118-A168-D4184651B81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D8465C-F7FD-4803-A954-7FFFC3A3288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35F3E07-3590-4C78-9534-4A49774F1D7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CA03DE-86D0-4CD2-9E17-AC00706C7B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43BC69-9C17-41C3-8254-CCF7BB953D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6DE212A-27D2-4688-B91A-86278E81A1B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7EA25F1-1E72-45AA-B3F5-1458582B45A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09B4451-1F22-430E-909F-033006A025C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8E0EC03-24CF-4297-AA3A-73C02625E12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81E0D3C-0E31-4DED-BAB1-84BAF810D82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BF2222-E73C-4C75-88BC-32C9658891C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82E4AED-C02A-42BD-9029-7294986542E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3570207-5E3B-436C-BA10-4A3C6E14A6B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CEECC2A-745A-458A-A798-E226DB3DB2F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EF95720-82DA-4505-9CCC-7CF05227BD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D2DD1BB-BD1A-41B0-9F3E-AF64F28C445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9CC634A-16AB-4F6B-9B0F-ADB2C7A8351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4C14F8A-BF98-4AB3-8D05-1810E0BA26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7A912A9-10DE-4D5B-917F-830E1CB38A9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764135A-B593-4876-A1CE-07FFEDC96DB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DF2B02D-1DE2-4881-A0FD-C4FB15C0393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18999F7-373E-426F-98D0-E9387C449C7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FDF6CB1-0498-4797-9C9C-C7E6AA0ADE8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C7EE2E-FF75-46A4-A09C-686F1D0EFCFC}"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D96E-DA56-452D-BAE0-013FB2E787B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F76A7-BC50-4AA9-AAD6-60239BB9C3D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C55C0-41AD-4039-914E-0F5F34C2E35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DE3C-7B90-4995-B5C2-BD948CFA3AB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036C-0B39-4045-B15F-7F5DF3286DF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0471B-A57F-4F73-ABDD-48DF7FAB3E4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B64EC-6316-43B8-B9C6-5A8CEDF800B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F3D1-CB42-4C91-907A-07D434127E1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703DD-A983-48F6-B0C0-9576BD99577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D45C-C6BA-45B1-9658-5CF876B1CFD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Creación de contenidos digitales</a:t>
            </a:r>
            <a:endParaRPr b="0" lang="en-US" sz="3600" spc="-1" strike="noStrike">
              <a:solidFill>
                <a:srgbClr val="000000"/>
              </a:solidFill>
              <a:latin typeface="Arial"/>
            </a:endParaRPr>
          </a:p>
        </p:txBody>
      </p:sp>
      <p:sp>
        <p:nvSpPr>
          <p:cNvPr id="544" name="Rectángulo 1"/>
          <p:cNvSpPr/>
          <p:nvPr/>
        </p:nvSpPr>
        <p:spPr>
          <a:xfrm>
            <a:off x="1619280" y="3244680"/>
            <a:ext cx="6900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Aplicaciones útiles para ti:</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Viajes e idioma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Viajar al extranjero</a:t>
            </a:r>
            <a:endParaRPr b="0" lang="en-US" sz="4000" spc="-1" strike="noStrike">
              <a:solidFill>
                <a:srgbClr val="000000"/>
              </a:solidFill>
              <a:latin typeface="Arial"/>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Has descargado iTranslate en tu dispositivo.</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lse sobre la aplicación para abrir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hora puedes utilizar tu teléfono o tableta para traducir otros idiomas.</a:t>
            </a:r>
            <a:endParaRPr b="0" lang="en-US" sz="2800" spc="-1" strike="noStrike">
              <a:solidFill>
                <a:srgbClr val="000000"/>
              </a:solidFill>
              <a:latin typeface="Arial"/>
            </a:endParaRPr>
          </a:p>
        </p:txBody>
      </p:sp>
      <p:pic>
        <p:nvPicPr>
          <p:cNvPr id="572" name="Picture 2" descr=""/>
          <p:cNvPicPr/>
          <p:nvPr/>
        </p:nvPicPr>
        <p:blipFill>
          <a:blip r:embed="rId1"/>
          <a:stretch/>
        </p:blipFill>
        <p:spPr>
          <a:xfrm>
            <a:off x="2627280" y="4005360"/>
            <a:ext cx="3745080" cy="2120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o de iTranslate</a:t>
            </a:r>
            <a:endParaRPr b="0" lang="en-US" sz="4000" spc="-1" strike="noStrike">
              <a:solidFill>
                <a:srgbClr val="000000"/>
              </a:solidFill>
              <a:latin typeface="Arial"/>
            </a:endParaRPr>
          </a:p>
        </p:txBody>
      </p:sp>
      <p:sp>
        <p:nvSpPr>
          <p:cNvPr id="574"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Verás dos opciones en tu pantalla.</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Pulsa sobre la bandera y selecciona tu propio idioma.</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Pulsa sobre la otra bandera y selecciona el idioma que deseas traducir, por ejemplo, si deseas traducir del húngaro al irlandés, entonces           es la primera opción y          es la segunda</a:t>
            </a:r>
            <a:endParaRPr b="0" lang="en-US" sz="3000" spc="-1" strike="noStrike">
              <a:solidFill>
                <a:srgbClr val="000000"/>
              </a:solidFill>
              <a:latin typeface="Arial"/>
            </a:endParaRPr>
          </a:p>
        </p:txBody>
      </p:sp>
      <p:pic>
        <p:nvPicPr>
          <p:cNvPr id="575" name="Picture 2" descr=""/>
          <p:cNvPicPr/>
          <p:nvPr/>
        </p:nvPicPr>
        <p:blipFill>
          <a:blip r:embed="rId1"/>
          <a:stretch/>
        </p:blipFill>
        <p:spPr>
          <a:xfrm>
            <a:off x="2556000" y="4292640"/>
            <a:ext cx="823680" cy="503280"/>
          </a:xfrm>
          <a:prstGeom prst="rect">
            <a:avLst/>
          </a:prstGeom>
          <a:ln w="0">
            <a:noFill/>
          </a:ln>
        </p:spPr>
      </p:pic>
      <p:pic>
        <p:nvPicPr>
          <p:cNvPr id="576" name="Picture 4" descr=""/>
          <p:cNvPicPr/>
          <p:nvPr/>
        </p:nvPicPr>
        <p:blipFill>
          <a:blip r:embed="rId2"/>
          <a:stretch/>
        </p:blipFill>
        <p:spPr>
          <a:xfrm>
            <a:off x="7451640" y="4383000"/>
            <a:ext cx="792360" cy="43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a:t>
            </a:r>
            <a:endParaRPr b="0" lang="en-US" sz="4000" spc="-1" strike="noStrike">
              <a:solidFill>
                <a:srgbClr val="000000"/>
              </a:solidFill>
              <a:latin typeface="Arial"/>
            </a:endParaRPr>
          </a:p>
        </p:txBody>
      </p:sp>
      <p:sp>
        <p:nvSpPr>
          <p:cNvPr id="578" name=""/>
          <p:cNvSpPr txBox="1"/>
          <p:nvPr/>
        </p:nvSpPr>
        <p:spPr>
          <a:xfrm>
            <a:off x="0" y="1412640"/>
            <a:ext cx="9144000" cy="41655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ás de vacaciones en Españ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u lengua materna es el inglé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Utilizando la aplicación iTranslate traduce lo siguiente del inglés al español</a:t>
            </a:r>
            <a:r>
              <a:rPr b="0" lang="en-GB"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onsejo: También puede tocar el micrófono para traducir lo que está diciendo. </a:t>
            </a:r>
            <a:endParaRPr b="0" lang="en-US" sz="2800" spc="-1" strike="noStrike">
              <a:solidFill>
                <a:srgbClr val="000000"/>
              </a:solidFill>
              <a:latin typeface="Arial"/>
            </a:endParaRPr>
          </a:p>
        </p:txBody>
      </p:sp>
      <p:pic>
        <p:nvPicPr>
          <p:cNvPr id="579" name="Picture 2" descr=""/>
          <p:cNvPicPr/>
          <p:nvPr/>
        </p:nvPicPr>
        <p:blipFill>
          <a:blip r:embed="rId1"/>
          <a:stretch/>
        </p:blipFill>
        <p:spPr>
          <a:xfrm>
            <a:off x="5940360" y="501336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81" name=""/>
          <p:cNvSpPr txBox="1"/>
          <p:nvPr/>
        </p:nvSpPr>
        <p:spPr>
          <a:xfrm>
            <a:off x="457200" y="1915920"/>
            <a:ext cx="8229600" cy="423828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YouTube es un sitio para compartir videos.</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Por lo menos una hora de vídeo se sube a YouTube cada segundo!</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Descarga la aplicación de YouTube desde tu tienda de aplicacion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s útil YouTube?</a:t>
            </a:r>
            <a:endParaRPr b="0" lang="en-US" sz="4000" spc="-1" strike="noStrike">
              <a:solidFill>
                <a:srgbClr val="000000"/>
              </a:solidFill>
              <a:latin typeface="Arial"/>
            </a:endParaRPr>
          </a:p>
        </p:txBody>
      </p:sp>
      <p:sp>
        <p:nvSpPr>
          <p:cNvPr id="583" name=""/>
          <p:cNvSpPr txBox="1"/>
          <p:nvPr/>
        </p:nvSpPr>
        <p:spPr>
          <a:xfrm>
            <a:off x="457200" y="1916280"/>
            <a:ext cx="8229600" cy="4209840"/>
          </a:xfrm>
          <a:prstGeom prst="rect">
            <a:avLst/>
          </a:prstGeom>
          <a:noFill/>
          <a:ln w="0">
            <a:noFill/>
          </a:ln>
        </p:spPr>
        <p:txBody>
          <a:bodyPr anchor="t">
            <a:normAutofit fontScale="97000"/>
          </a:bodyPr>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No es necesario subir vídeos para usar YouTube.</a:t>
            </a:r>
            <a:endParaRPr b="0" lang="en-US" sz="3000" spc="-1" strike="noStrike">
              <a:solidFill>
                <a:srgbClr val="000000"/>
              </a:solidFill>
              <a:latin typeface="Arial"/>
            </a:endParaRPr>
          </a:p>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YouTube puede ser muy útil para encontrar vídeos "Cómo" con guías paso a paso.</a:t>
            </a:r>
            <a:endParaRPr b="0" lang="en-US" sz="3000" spc="-1" strike="noStrike">
              <a:solidFill>
                <a:srgbClr val="000000"/>
              </a:solidFill>
              <a:latin typeface="Arial"/>
            </a:endParaRPr>
          </a:p>
          <a:p>
            <a:pPr marL="332640" indent="-33264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Por ejemplo D.I.Y, cocina o músic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a:t>
            </a:r>
            <a:endParaRPr b="0" lang="en-US" sz="4000" spc="-1" strike="noStrike">
              <a:solidFill>
                <a:srgbClr val="000000"/>
              </a:solidFill>
              <a:latin typeface="Arial"/>
            </a:endParaRPr>
          </a:p>
        </p:txBody>
      </p:sp>
      <p:sp>
        <p:nvSpPr>
          <p:cNvPr id="585" name=""/>
          <p:cNvSpPr txBox="1"/>
          <p:nvPr/>
        </p:nvSpPr>
        <p:spPr>
          <a:xfrm>
            <a:off x="457200" y="1197000"/>
            <a:ext cx="8686800" cy="4525920"/>
          </a:xfrm>
          <a:prstGeom prst="rect">
            <a:avLst/>
          </a:prstGeom>
          <a:noFill/>
          <a:ln w="0">
            <a:noFill/>
          </a:ln>
        </p:spPr>
        <p:txBody>
          <a:bodyPr anchor="t">
            <a:normAutofit fontScale="93000"/>
          </a:bodyPr>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ás tratando de reparar una fuga en el grifo de  casa.</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bre la aplicación de YouTube.</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usca el símbolo de            búsqueda en la parte superior.</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cribe "Cómo reparar una fuga en el grifo" y busca el mejor vídeo que te ayude.</a:t>
            </a:r>
            <a:endParaRPr b="0" lang="en-US" sz="2800" spc="-1" strike="noStrike">
              <a:solidFill>
                <a:srgbClr val="000000"/>
              </a:solidFill>
              <a:latin typeface="Arial"/>
            </a:endParaRPr>
          </a:p>
        </p:txBody>
      </p:sp>
      <p:pic>
        <p:nvPicPr>
          <p:cNvPr id="586" name="Picture 2" descr=""/>
          <p:cNvPicPr/>
          <p:nvPr/>
        </p:nvPicPr>
        <p:blipFill>
          <a:blip r:embed="rId1"/>
          <a:stretch/>
        </p:blipFill>
        <p:spPr>
          <a:xfrm>
            <a:off x="4356000" y="3459240"/>
            <a:ext cx="69084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a:t>
            </a:r>
            <a:endParaRPr b="0" lang="en-US" sz="4000" spc="-1" strike="noStrike">
              <a:solidFill>
                <a:srgbClr val="000000"/>
              </a:solidFill>
              <a:latin typeface="Arial"/>
            </a:endParaRPr>
          </a:p>
        </p:txBody>
      </p:sp>
      <p:sp>
        <p:nvSpPr>
          <p:cNvPr id="588"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Recibiste un regalo de un piano para tu cumpleaños.</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Abre la aplicación de YouTube.</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Busca el símbolo de búsqueda en la parte superior.</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Escribe 'piano para principiantes'.</a:t>
            </a:r>
            <a:endParaRPr b="0" lang="en-US" sz="3000" spc="-1" strike="noStrike">
              <a:solidFill>
                <a:srgbClr val="000000"/>
              </a:solidFill>
              <a:latin typeface="Arial"/>
            </a:endParaRPr>
          </a:p>
        </p:txBody>
      </p:sp>
      <p:pic>
        <p:nvPicPr>
          <p:cNvPr id="589" name="Picture 2" descr=""/>
          <p:cNvPicPr/>
          <p:nvPr/>
        </p:nvPicPr>
        <p:blipFill>
          <a:blip r:embed="rId1"/>
          <a:stretch/>
        </p:blipFill>
        <p:spPr>
          <a:xfrm>
            <a:off x="3132000" y="4653000"/>
            <a:ext cx="690840" cy="633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Búsquedas en YouTube</a:t>
            </a:r>
            <a:endParaRPr b="0" lang="en-US" sz="4000" spc="-1" strike="noStrike">
              <a:solidFill>
                <a:srgbClr val="000000"/>
              </a:solidFill>
              <a:latin typeface="Arial"/>
            </a:endParaRPr>
          </a:p>
        </p:txBody>
      </p:sp>
      <p:sp>
        <p:nvSpPr>
          <p:cNvPr id="591" name=""/>
          <p:cNvSpPr txBox="1"/>
          <p:nvPr/>
        </p:nvSpPr>
        <p:spPr>
          <a:xfrm>
            <a:off x="0" y="1196640"/>
            <a:ext cx="9144000" cy="482436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ugerencia: Es posible que obtengas muchos resultados cuando busques en YouTub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Una buena forma de filtrar estos resultados es comprobar el número de visualizacio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i hay miles/millones de vistas, puede ser una señal de que otros han encontrado el vídeo út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sualizacione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2" name="Picture 2" descr=""/>
          <p:cNvPicPr/>
          <p:nvPr/>
        </p:nvPicPr>
        <p:blipFill>
          <a:blip r:embed="rId1"/>
          <a:stretch/>
        </p:blipFill>
        <p:spPr>
          <a:xfrm>
            <a:off x="2916360" y="3639960"/>
            <a:ext cx="5905440" cy="2036880"/>
          </a:xfrm>
          <a:prstGeom prst="rect">
            <a:avLst/>
          </a:prstGeom>
          <a:ln w="0">
            <a:noFill/>
          </a:ln>
        </p:spPr>
      </p:pic>
      <p:cxnSp>
        <p:nvCxnSpPr>
          <p:cNvPr id="593" name="Straight Arrow Connector 4"/>
          <p:cNvCxnSpPr/>
          <p:nvPr/>
        </p:nvCxnSpPr>
        <p:spPr>
          <a:xfrm>
            <a:off x="2592000" y="3968640"/>
            <a:ext cx="2926440" cy="1087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uáles son sus intereses?</a:t>
            </a:r>
            <a:endParaRPr b="0" lang="en-US" sz="4000" spc="-1" strike="noStrike">
              <a:solidFill>
                <a:srgbClr val="000000"/>
              </a:solidFill>
              <a:latin typeface="Arial"/>
            </a:endParaRPr>
          </a:p>
        </p:txBody>
      </p:sp>
      <p:sp>
        <p:nvSpPr>
          <p:cNvPr id="595" name=""/>
          <p:cNvSpPr txBox="1"/>
          <p:nvPr/>
        </p:nvSpPr>
        <p:spPr>
          <a:xfrm>
            <a:off x="108000" y="1170000"/>
            <a:ext cx="9036000" cy="4309920"/>
          </a:xfrm>
          <a:prstGeom prst="rect">
            <a:avLst/>
          </a:prstGeom>
          <a:noFill/>
          <a:ln w="0">
            <a:noFill/>
          </a:ln>
        </p:spPr>
        <p:txBody>
          <a:bodyPr anchor="t">
            <a:normAutofit fontScale="86000"/>
          </a:bodyPr>
          <a:p>
            <a:pPr marL="294840" indent="-2948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Piensa en algo que te gustaría hacer, por ejemplo, Yoga, cocina, juegos en línea.</a:t>
            </a:r>
            <a:endParaRPr b="0" lang="en-US" sz="3000" spc="-1" strike="noStrike">
              <a:solidFill>
                <a:srgbClr val="000000"/>
              </a:solidFill>
              <a:latin typeface="Arial"/>
            </a:endParaRPr>
          </a:p>
          <a:p>
            <a:pPr marL="294840" indent="-2948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Busca en tu tienda de aplicaciones las aplicaciones relevantes</a:t>
            </a:r>
            <a:endParaRPr b="0" lang="en-US" sz="3000" spc="-1" strike="noStrike">
              <a:solidFill>
                <a:srgbClr val="000000"/>
              </a:solidFill>
              <a:latin typeface="Arial"/>
            </a:endParaRPr>
          </a:p>
          <a:p>
            <a:pPr marL="294840" indent="-2948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Revisa las revisiones de la aplicación para ver qué piensan los demás.</a:t>
            </a:r>
            <a:endParaRPr b="0" lang="en-US" sz="3000" spc="-1" strike="noStrike">
              <a:solidFill>
                <a:srgbClr val="000000"/>
              </a:solidFill>
              <a:latin typeface="Arial"/>
            </a:endParaRPr>
          </a:p>
          <a:p>
            <a:pPr marL="294840" indent="-2948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Rounded MT Bold"/>
              </a:rPr>
              <a:t>Comprueba que la aplicación es gratuita antes de descargarla! Algunas aplicaciones tienen un pequeño coste: puedes elegir pagar si crees que la aplicación merece la pen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360"/>
            <a:ext cx="635652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Visión general de esta Unidad</a:t>
            </a:r>
            <a:endParaRPr b="0" lang="en-US" sz="4000" spc="-1" strike="noStrike">
              <a:solidFill>
                <a:srgbClr val="000000"/>
              </a:solidFill>
              <a:latin typeface="Arial"/>
            </a:endParaRPr>
          </a:p>
        </p:txBody>
      </p:sp>
      <p:sp>
        <p:nvSpPr>
          <p:cNvPr id="546" name=""/>
          <p:cNvSpPr txBox="1"/>
          <p:nvPr/>
        </p:nvSpPr>
        <p:spPr>
          <a:xfrm>
            <a:off x="0" y="1844640"/>
            <a:ext cx="9144000" cy="40226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Hay diapositivas 18 en esta Unida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Debería tomar aproximadamente x tiempo para completarla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Si estás conectado a Internet y hay palabras en azul, puedes hacer clic en ellas para acceder a información adicional.</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tivos y metas</a:t>
            </a:r>
            <a:endParaRPr b="0" lang="en-US" sz="4000" spc="-1" strike="noStrike">
              <a:solidFill>
                <a:srgbClr val="000000"/>
              </a:solidFill>
              <a:latin typeface="Arial"/>
            </a:endParaRPr>
          </a:p>
        </p:txBody>
      </p:sp>
      <p:sp>
        <p:nvSpPr>
          <p:cNvPr id="548"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l final de esta Unidad podrás:</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sar aplicaciones específicas que son útiles para su vida.</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Qué necesito para esta unidad?</a:t>
            </a:r>
            <a:endParaRPr b="0" lang="en-US" sz="3600" spc="-1" strike="noStrike">
              <a:solidFill>
                <a:srgbClr val="000000"/>
              </a:solidFill>
              <a:latin typeface="Arial"/>
            </a:endParaRPr>
          </a:p>
        </p:txBody>
      </p:sp>
      <p:sp>
        <p:nvSpPr>
          <p:cNvPr id="550"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a tableta o un smartphone con conexión a intern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1" name="Picture 4" descr=""/>
          <p:cNvPicPr/>
          <p:nvPr/>
        </p:nvPicPr>
        <p:blipFill>
          <a:blip r:embed="rId1"/>
          <a:stretch/>
        </p:blipFill>
        <p:spPr>
          <a:xfrm>
            <a:off x="1273320" y="3141720"/>
            <a:ext cx="2904840" cy="1695240"/>
          </a:xfrm>
          <a:prstGeom prst="rect">
            <a:avLst/>
          </a:prstGeom>
          <a:ln w="0">
            <a:noFill/>
          </a:ln>
        </p:spPr>
      </p:pic>
      <p:pic>
        <p:nvPicPr>
          <p:cNvPr id="552"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cicio</a:t>
            </a:r>
            <a:endParaRPr b="0" lang="en-US" sz="4000" spc="-1" strike="noStrike">
              <a:solidFill>
                <a:srgbClr val="000000"/>
              </a:solidFill>
              <a:latin typeface="Arial"/>
            </a:endParaRPr>
          </a:p>
        </p:txBody>
      </p:sp>
      <p:sp>
        <p:nvSpPr>
          <p:cNvPr id="554" name=""/>
          <p:cNvSpPr txBox="1"/>
          <p:nvPr/>
        </p:nvSpPr>
        <p:spPr>
          <a:xfrm>
            <a:off x="456840" y="1600200"/>
            <a:ext cx="843588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prendiste a descargar aplicaciones en la última unidad.</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Ve a tu tienda de aplicaciones.</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usca "Google Maps" y descárgalo.</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Busca 'iTranslate' y descárga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6" name=""/>
          <p:cNvSpPr txBox="1"/>
          <p:nvPr/>
        </p:nvSpPr>
        <p:spPr>
          <a:xfrm>
            <a:off x="-360" y="1699920"/>
            <a:ext cx="9007560" cy="4383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oca la aplicación Google Maps para abrirla.</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Busca un lugar en tu país de orige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Desliza el dedo por la parte inferior de la pantalla para obtener la informació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oca en "Direcciones" y luego elige tu punto de partida. Esta puede ser su dirección. Sugerencia: si tienes tu ubicación activada (en tu dispositivo), puedes elegir comenzar las indicaciones desde donde te encuentres.</a:t>
            </a:r>
            <a:endParaRPr b="0" lang="en-US" sz="2800" spc="-1" strike="noStrike">
              <a:solidFill>
                <a:srgbClr val="000000"/>
              </a:solidFill>
              <a:latin typeface="Arial"/>
            </a:endParaRPr>
          </a:p>
        </p:txBody>
      </p:sp>
      <p:pic>
        <p:nvPicPr>
          <p:cNvPr id="557" name="Picture 4" descr=""/>
          <p:cNvPicPr/>
          <p:nvPr/>
        </p:nvPicPr>
        <p:blipFill>
          <a:blip r:embed="rId1"/>
          <a:stretch/>
        </p:blipFill>
        <p:spPr>
          <a:xfrm>
            <a:off x="7596360" y="1557360"/>
            <a:ext cx="933120" cy="94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9" name=""/>
          <p:cNvSpPr txBox="1"/>
          <p:nvPr/>
        </p:nvSpPr>
        <p:spPr>
          <a:xfrm>
            <a:off x="-360" y="1263600"/>
            <a:ext cx="90075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Verás una serie de opciones para indican conducción, el transporte público, la caminata, el taxi y la biciclet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Pulse sobre el símbolo para ver</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uánto tiempo te llevará a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aminando o conduciendo</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0" name="Picture 3" descr=""/>
          <p:cNvPicPr/>
          <p:nvPr/>
        </p:nvPicPr>
        <p:blipFill>
          <a:blip r:embed="rId1"/>
          <a:stretch/>
        </p:blipFill>
        <p:spPr>
          <a:xfrm>
            <a:off x="5518080" y="2565360"/>
            <a:ext cx="2482920" cy="3583080"/>
          </a:xfrm>
          <a:prstGeom prst="rect">
            <a:avLst/>
          </a:prstGeom>
          <a:ln w="0">
            <a:noFill/>
          </a:ln>
        </p:spPr>
      </p:pic>
      <p:cxnSp>
        <p:nvCxnSpPr>
          <p:cNvPr id="561" name="Straight Arrow Connector 2"/>
          <p:cNvCxnSpPr/>
          <p:nvPr/>
        </p:nvCxnSpPr>
        <p:spPr>
          <a:xfrm flipV="1">
            <a:off x="2576160" y="3525480"/>
            <a:ext cx="2942280" cy="6955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40000" y="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jercicio Google Maps</a:t>
            </a:r>
            <a:endParaRPr b="0" lang="en-US" sz="4000" spc="-1" strike="noStrike">
              <a:solidFill>
                <a:srgbClr val="000000"/>
              </a:solidFill>
              <a:latin typeface="Arial"/>
            </a:endParaRPr>
          </a:p>
        </p:txBody>
      </p:sp>
      <p:sp>
        <p:nvSpPr>
          <p:cNvPr id="563" name=""/>
          <p:cNvSpPr txBox="1"/>
          <p:nvPr/>
        </p:nvSpPr>
        <p:spPr>
          <a:xfrm>
            <a:off x="2880" y="1125000"/>
            <a:ext cx="9007560" cy="4526280"/>
          </a:xfrm>
          <a:prstGeom prst="rect">
            <a:avLst/>
          </a:prstGeom>
          <a:noFill/>
          <a:ln w="0">
            <a:noFill/>
          </a:ln>
        </p:spPr>
        <p:txBody>
          <a:bodyPr anchor="t">
            <a:normAutofit fontScale="93000"/>
          </a:bodyPr>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tás en París, Francia, de vacaciones.</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e gustaría viajar a Calais, también en Francia.</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Usa Google Maps para encontrar las opciones de ruta.</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Es más rápido conducir o tomar el transporte público?</a:t>
            </a:r>
            <a:endParaRPr b="0" lang="en-US" sz="2800" spc="-1" strike="noStrike">
              <a:solidFill>
                <a:srgbClr val="000000"/>
              </a:solidFill>
              <a:latin typeface="Arial"/>
            </a:endParaRPr>
          </a:p>
          <a:p>
            <a:pPr marL="318960" indent="-31896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Cuáles son las opciones de transporte público?</a:t>
            </a:r>
            <a:endParaRPr b="0" lang="en-US" sz="2800" spc="-1" strike="noStrike">
              <a:solidFill>
                <a:srgbClr val="000000"/>
              </a:solidFill>
              <a:latin typeface="Arial"/>
            </a:endParaRPr>
          </a:p>
        </p:txBody>
      </p:sp>
      <p:pic>
        <p:nvPicPr>
          <p:cNvPr id="564" name="Picture 4" descr=""/>
          <p:cNvPicPr/>
          <p:nvPr/>
        </p:nvPicPr>
        <p:blipFill>
          <a:blip r:embed="rId1"/>
          <a:stretch/>
        </p:blipFill>
        <p:spPr>
          <a:xfrm>
            <a:off x="6875640" y="1052640"/>
            <a:ext cx="933120" cy="961920"/>
          </a:xfrm>
          <a:prstGeom prst="rect">
            <a:avLst/>
          </a:prstGeom>
          <a:ln w="0">
            <a:noFill/>
          </a:ln>
        </p:spPr>
      </p:pic>
      <p:pic>
        <p:nvPicPr>
          <p:cNvPr id="565" name="Picture 2" descr=""/>
          <p:cNvPicPr/>
          <p:nvPr/>
        </p:nvPicPr>
        <p:blipFill>
          <a:blip r:embed="rId2"/>
          <a:stretch/>
        </p:blipFill>
        <p:spPr>
          <a:xfrm>
            <a:off x="4788000" y="3141720"/>
            <a:ext cx="1728720" cy="1046160"/>
          </a:xfrm>
          <a:prstGeom prst="rect">
            <a:avLst/>
          </a:prstGeom>
          <a:ln w="0">
            <a:noFill/>
          </a:ln>
        </p:spPr>
      </p:pic>
      <p:pic>
        <p:nvPicPr>
          <p:cNvPr id="566" name="Picture 3" descr=""/>
          <p:cNvPicPr/>
          <p:nvPr/>
        </p:nvPicPr>
        <p:blipFill>
          <a:blip r:embed="rId3"/>
          <a:stretch/>
        </p:blipFill>
        <p:spPr>
          <a:xfrm>
            <a:off x="2556000" y="4508640"/>
            <a:ext cx="1674720" cy="1049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nsejo de Google Maps</a:t>
            </a:r>
            <a:endParaRPr b="0" lang="en-US" sz="4000" spc="-1" strike="noStrike">
              <a:solidFill>
                <a:srgbClr val="000000"/>
              </a:solidFill>
              <a:latin typeface="Arial"/>
            </a:endParaRPr>
          </a:p>
        </p:txBody>
      </p:sp>
      <p:sp>
        <p:nvSpPr>
          <p:cNvPr id="568"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También puedes descargar el mapa ('download offline map') para que puedas seguir usándolo cuando no estés conectado a Internet - ¡muy útil cuando viajas y el wifi no está disponible!</a:t>
            </a:r>
            <a:endParaRPr b="0" lang="en-US" sz="2800" spc="-1" strike="noStrike">
              <a:solidFill>
                <a:srgbClr val="000000"/>
              </a:solidFill>
              <a:latin typeface="Arial"/>
            </a:endParaRPr>
          </a:p>
        </p:txBody>
      </p:sp>
      <p:pic>
        <p:nvPicPr>
          <p:cNvPr id="569"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7T08:40:01Z</dcterms:modified>
  <cp:revision>465</cp:revision>
  <dc:subject/>
  <dc:title>Title</dc:title>
</cp:coreProperties>
</file>