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3E41-3446-4CED-B54E-7F5174963EB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371600" y="1143000"/>
            <a:ext cx="4114800" cy="3086280"/>
          </a:xfrm>
          <a:prstGeom prst="rect">
            <a:avLst/>
          </a:prstGeom>
          <a:ln w="0">
            <a:noFill/>
          </a:ln>
        </p:spPr>
      </p:sp>
      <p:sp>
        <p:nvSpPr>
          <p:cNvPr id="5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9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00E4-63F3-4540-8C15-0D2B17B6C3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3C1DF34-1352-47C6-9F05-69F9FD77BBD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289C6B6-82C5-4F20-9723-9B3E50E4D89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AB439A5-DC10-4EA9-AF15-52966598355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A5A5C3E-667C-4220-9C88-464B4003856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22C7BBE-3E71-40F7-BFA4-F2576180AF1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A09CA30-4C35-455E-A7ED-5F2EF93D2CE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8CFCC5E-48E6-4349-A71B-18C3A052A89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EBAA75F-6AAD-4291-9A2B-F907668CF61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FD90E1D-223E-4BDC-B87F-53A11E1DD61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755B494-34D7-404F-93CC-CA078814AD1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933325E-A142-4F79-8E50-B5A647633FC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1243566-658F-4BA5-B722-CB718723AE3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B60B2E3-8A1F-47F4-A1FB-C3A1E1BCA62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5464E04-47A3-4BC9-BF90-0077E3C2A55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0A3EA7D-16CE-4486-85FD-E5532F07ACD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43DE29F-6B08-4CAD-8CDC-D07190DD55D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EE0CFE6-4ADA-4172-BD97-E6F6B9BCDD1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D9311EB-DB3B-45F3-A444-C29986E47A5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204F9D1-11D9-48A7-BA4F-9F6D3F66CFB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3C8EC47-D7CC-4746-9B71-EE34C3C57B5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F114CE4-7FCE-4AFB-938B-BF012939C53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D225E4F-33D3-445D-96BE-94EF59FB590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5F2A02A-562D-430E-9228-BAB29327ADD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0CE07F8-22FB-4833-9814-39BCBE163D9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A43EE1D-FFFF-4D6C-BF1D-F588431B01F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2F9DB08-3150-4E01-8E24-45F9585B11D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E170B7F-F892-4A05-966F-AEB3046F200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1CA6BCA-A3E1-4678-8382-71BEE08C5D9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24E12DA-B8EF-4E44-926D-02B6AE35BCE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3EF40C2-E084-4E9C-9B7B-9F039CAAE88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77FD0B9-A724-4A8A-8CAB-2AC89CEF3C1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AD98386-9D1C-41EA-AE79-C71530F576B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DD10C4E-BB44-4602-BAD4-1CDBC18BB79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776D04F-6E88-4EDE-BBA2-D956B0675E1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1249076-6FAB-4E5E-9C5C-2F05CCF4BE2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0AC9DB0-ADBE-44F5-9BA5-6E3D75D5BBE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95DD0F8-10C5-4617-B0C8-C1CB96A7C1A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7ECE12A-FF9E-4109-B6AE-40D7CFED637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3EBF919-512B-4ED5-A816-9BB2737F846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24CAC21-91B8-4697-8346-3795A214C0A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E51E340-27C5-41BC-BF30-9B644B447E1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2873171-C182-4EF1-95FC-2CC388CE298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EF8023B-13E1-4E8D-8169-BAC0C0D1483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C34155C-F600-47DB-82D2-7FB59659D49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744CF07-2BB8-4FD7-A18C-A0520CF1349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83170E-F3F1-4304-A5D7-D256E2A15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C318D9-62E9-4F41-B886-192933C21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33B058-4BC4-47F4-BED5-0F064B8AC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8D6ABD-8B82-4E61-A79D-5A1ACA063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ECEBF9-5E60-4924-8C64-B91EC5BEC9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841464-D606-4F62-BD7B-7604128413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23F3E5-DA69-4A0C-A631-406E17348D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851F0E-8AB8-48DC-91C9-6B8F905DD6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19F078-8CEA-4135-A068-645EEDAA6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62772B-6EFF-4A7D-8A5C-A4F249A9D4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4E3357-0CB4-495A-8E68-735A2DC246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CEE0BE-FFE0-42D5-BC0A-1AADA994F9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E424552-05BF-4916-BD4F-73D24DB459A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E85E85-E85A-4A4F-BA5B-BA6724BDF7D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CAB00A-BFEC-47D1-A44C-2D41A526B32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A2B8833-F948-41EE-9E0E-7B30DEAD43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598422-2476-4CF3-9DAD-D1D38D0D03F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E38D54-7AB6-48C6-A415-11D4E783F00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1B8360-C132-40BF-A32C-29ED0E7E68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282223-FA5E-45A7-AF8F-E581584B63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0DECF6-406B-43B9-813C-F6B6E0C256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2892CC-E511-4DDD-BFEC-AF619E2410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EA46839-F2B2-4E9B-92E8-2EFA91CE630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C68C048-991F-4CE5-8DBC-B7D1898FC60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2D759A9-96D9-4F89-9DD1-C44C949DBB6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367995-D732-4DB5-AA37-066CC4257F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797A611-6785-4F71-B57D-3C4CBACAFB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8122A32-81B8-43BD-B7AB-FCCC05B2E5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47483A5-72E4-45C6-A4BE-2963435A98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C032C7C-F041-47A7-BE9D-1973055087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E29277-8D91-4EB3-8670-DA69843E71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A8BCA6-D006-4AE7-BBAC-77690093B2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867406-6227-4313-8274-971572D2A3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020D7E-39BA-49AD-A726-133438A219D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502154D-8255-49DA-9394-7038AD89F8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DBAE2CF-04AC-48BD-A22C-F72A2C04BAA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4B51B81-CF7D-45FA-A65A-05C7653FB00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9631DCE-9065-431E-9043-8CB6DEE6188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04014B3-1338-4981-8030-36AB662F816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37B22C4-CA96-4418-A3CB-95C58BADD04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61EED1E-9B2C-4BFD-9447-3AEB754CE29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CFD82A0-6012-494B-A068-1D239386407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5BA905C-A157-421B-A38B-8A4566A6D58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BBB9223-F69A-4104-ABED-37565652D92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FCF515-F9EC-4B5B-9820-AAE5A11778F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6A11D10-F3A1-43AF-9091-04B2907E16A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DD4593B-647F-4029-9C15-D414480237A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19A3A92-A77C-4252-A592-92E9E4197E5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F829A59-C834-4E45-B8C9-A0ECAE3B95B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0444151-0B16-477E-94A5-F0BBE8E920F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F191751-9BDE-41B9-B1B6-31180E5285A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FCE5E11-BE36-47F2-AACD-99143B359D1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301B9EE-34D2-4A70-AB12-E0E8C7EEF44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A2F0E9C-49FF-491C-8DDA-17CBC26EE3B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B7B1101-26A9-40B7-9D87-C501D776EA2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FDFC990-9D97-4EE0-BD12-CFB403A6FFC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0FA926B-CEC8-4785-B307-CF927FE73CC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DBF6C65-276A-4817-9BFE-6C473A0C62A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4C068B0-F6B3-4DEA-B1BE-C59B6E5E26C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ABCC0EE-77FA-4338-B71F-36CD713B797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9F89D53-ED0B-411F-8219-CDD77AAABC7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407E5F1-54A7-4E93-9CAE-0AB123830BC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7C1937C-2173-42B9-9A71-BDD255B5F10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9F5EC57-39E4-45AB-98DC-F3C4C5115AC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1076B6C-A553-42FC-B798-60F18758DB3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6F0C019-5DCE-4803-913A-5BA4A37D88B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2368277-B7E2-4833-AFB8-B114C40D3E7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90487EB-9180-493F-9E18-F8F7068C863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2BCDBD4-AF3B-4A29-AEC9-B953C4ACC54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2F817EA-A248-4B4C-B295-4D22AA8D51B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17B6AE8-FA5A-4F21-B58F-B594DE97856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6A53454-F244-41EE-AA80-5AB1581066F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FCB4325-52CC-44E0-B089-6F1EA0740E5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FB46354-11F5-4584-B220-D36EBE0611E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BCE6431-ED5C-4262-BBA1-3D4739260C30}"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5635-1C2E-428E-A3BB-52ED23EBA99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EBB3-665D-4EB0-8D6D-5E3D9400E1D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54E6-BA46-4C43-8C57-155C99CF11D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FAAF-DA3B-4CF1-B548-1DF4B6B351F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89C1-30DC-4E88-A454-28DDC71CDEC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4475-FD91-4357-8B43-0587E0BF00C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7ECE-1BDD-463E-A5ED-6A1C7903038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8A5A-9C30-424E-B6A9-CC3834E8D02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A465-A762-44AB-AAC1-B15CCA6A104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4FE6-8FF3-4E29-AA05-34580253444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Creación de contenidos digitales</a:t>
            </a:r>
            <a:endParaRPr b="0" lang="en-US" sz="3600" spc="-1" strike="noStrike">
              <a:solidFill>
                <a:srgbClr val="000000"/>
              </a:solidFill>
              <a:latin typeface="Arial"/>
            </a:endParaRPr>
          </a:p>
        </p:txBody>
      </p:sp>
      <p:sp>
        <p:nvSpPr>
          <p:cNvPr id="544" name="Rectángulo 1"/>
          <p:cNvSpPr/>
          <p:nvPr/>
        </p:nvSpPr>
        <p:spPr>
          <a:xfrm>
            <a:off x="1619280" y="3244680"/>
            <a:ext cx="6900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Aplicaciones útiles para ti:</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Viajes e idiom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Viajar al extranjero</a:t>
            </a:r>
            <a:endParaRPr b="0" lang="en-US" sz="4000" spc="-1" strike="noStrike">
              <a:solidFill>
                <a:srgbClr val="000000"/>
              </a:solidFill>
              <a:latin typeface="Arial"/>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Has descargado iTranslate en tu dispositivo.</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ulse sobre la aplicación para abrirl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hora puedes utilizar tu teléfono o tableta para traducir otros idiomas.</a:t>
            </a:r>
            <a:endParaRPr b="0" lang="en-US" sz="2800" spc="-1" strike="noStrike">
              <a:solidFill>
                <a:srgbClr val="000000"/>
              </a:solidFill>
              <a:latin typeface="Arial"/>
            </a:endParaRPr>
          </a:p>
        </p:txBody>
      </p:sp>
      <p:pic>
        <p:nvPicPr>
          <p:cNvPr id="572" name="Picture 2" descr=""/>
          <p:cNvPicPr/>
          <p:nvPr/>
        </p:nvPicPr>
        <p:blipFill>
          <a:blip r:embed="rId1"/>
          <a:stretch/>
        </p:blipFill>
        <p:spPr>
          <a:xfrm>
            <a:off x="2627280" y="4005360"/>
            <a:ext cx="3745080" cy="212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2400" y="392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o de iTranslate</a:t>
            </a:r>
            <a:endParaRPr b="0" lang="en-US" sz="4000" spc="-1" strike="noStrike">
              <a:solidFill>
                <a:srgbClr val="000000"/>
              </a:solidFill>
              <a:latin typeface="Arial"/>
            </a:endParaRPr>
          </a:p>
        </p:txBody>
      </p:sp>
      <p:sp>
        <p:nvSpPr>
          <p:cNvPr id="574" name=""/>
          <p:cNvSpPr txBox="1"/>
          <p:nvPr/>
        </p:nvSpPr>
        <p:spPr>
          <a:xfrm>
            <a:off x="395280" y="134136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Verás dos opciones en tu pantalla.</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Pulsa sobre la bandera y selecciona tu propio idioma.</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Pulsa sobre la otra bandera y selecciona el idioma que deseas traducir, por ejemplo, si deseas traducir del húngaro al irlandés, entonces           es la primera opción y          es la segunda</a:t>
            </a:r>
            <a:endParaRPr b="0" lang="en-US" sz="3000" spc="-1" strike="noStrike">
              <a:solidFill>
                <a:srgbClr val="000000"/>
              </a:solidFill>
              <a:latin typeface="Arial"/>
            </a:endParaRPr>
          </a:p>
        </p:txBody>
      </p:sp>
      <p:pic>
        <p:nvPicPr>
          <p:cNvPr id="575" name="Picture 2" descr=""/>
          <p:cNvPicPr/>
          <p:nvPr/>
        </p:nvPicPr>
        <p:blipFill>
          <a:blip r:embed="rId1"/>
          <a:stretch/>
        </p:blipFill>
        <p:spPr>
          <a:xfrm>
            <a:off x="2556000" y="4292640"/>
            <a:ext cx="823680" cy="503280"/>
          </a:xfrm>
          <a:prstGeom prst="rect">
            <a:avLst/>
          </a:prstGeom>
          <a:ln w="0">
            <a:noFill/>
          </a:ln>
        </p:spPr>
      </p:pic>
      <p:pic>
        <p:nvPicPr>
          <p:cNvPr id="576" name="Picture 4" descr=""/>
          <p:cNvPicPr/>
          <p:nvPr/>
        </p:nvPicPr>
        <p:blipFill>
          <a:blip r:embed="rId2"/>
          <a:stretch/>
        </p:blipFill>
        <p:spPr>
          <a:xfrm>
            <a:off x="7451640" y="4383000"/>
            <a:ext cx="792360" cy="43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410920" y="61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a:t>
            </a:r>
            <a:endParaRPr b="0" lang="en-US" sz="4000" spc="-1" strike="noStrike">
              <a:solidFill>
                <a:srgbClr val="000000"/>
              </a:solidFill>
              <a:latin typeface="Arial"/>
            </a:endParaRPr>
          </a:p>
        </p:txBody>
      </p:sp>
      <p:sp>
        <p:nvSpPr>
          <p:cNvPr id="578" name=""/>
          <p:cNvSpPr txBox="1"/>
          <p:nvPr/>
        </p:nvSpPr>
        <p:spPr>
          <a:xfrm>
            <a:off x="0" y="1412640"/>
            <a:ext cx="9144000" cy="41655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tás de vacaciones en Españ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Tu lengua materna es el inglé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Utilizando la aplicación iTranslate traduce lo siguiente del inglés al español</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od morning</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ere is the bus st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onsejo: También puede tocar el micrófono para traducir lo que está diciendo. </a:t>
            </a:r>
            <a:endParaRPr b="0" lang="en-US" sz="2800" spc="-1" strike="noStrike">
              <a:solidFill>
                <a:srgbClr val="000000"/>
              </a:solidFill>
              <a:latin typeface="Arial"/>
            </a:endParaRPr>
          </a:p>
        </p:txBody>
      </p:sp>
      <p:pic>
        <p:nvPicPr>
          <p:cNvPr id="579" name="Picture 2" descr=""/>
          <p:cNvPicPr/>
          <p:nvPr/>
        </p:nvPicPr>
        <p:blipFill>
          <a:blip r:embed="rId1"/>
          <a:stretch/>
        </p:blipFill>
        <p:spPr>
          <a:xfrm>
            <a:off x="5940360" y="5013360"/>
            <a:ext cx="720720" cy="71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YouTube</a:t>
            </a:r>
            <a:endParaRPr b="0" lang="en-US" sz="4000" spc="-1" strike="noStrike">
              <a:solidFill>
                <a:srgbClr val="000000"/>
              </a:solidFill>
              <a:latin typeface="Arial"/>
            </a:endParaRPr>
          </a:p>
        </p:txBody>
      </p:sp>
      <p:sp>
        <p:nvSpPr>
          <p:cNvPr id="581" name=""/>
          <p:cNvSpPr txBox="1"/>
          <p:nvPr/>
        </p:nvSpPr>
        <p:spPr>
          <a:xfrm>
            <a:off x="457200" y="1915920"/>
            <a:ext cx="8229600" cy="423828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YouTube es un sitio para compartir videos.</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Por lo menos una hora de vídeo se sube a YouTube cada segundo!</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Descarga la aplicación de YouTube desde tu tienda de aplicacion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 útil YouTube?</a:t>
            </a:r>
            <a:endParaRPr b="0" lang="en-US" sz="4000" spc="-1" strike="noStrike">
              <a:solidFill>
                <a:srgbClr val="000000"/>
              </a:solidFill>
              <a:latin typeface="Arial"/>
            </a:endParaRPr>
          </a:p>
        </p:txBody>
      </p:sp>
      <p:sp>
        <p:nvSpPr>
          <p:cNvPr id="583" name=""/>
          <p:cNvSpPr txBox="1"/>
          <p:nvPr/>
        </p:nvSpPr>
        <p:spPr>
          <a:xfrm>
            <a:off x="457200" y="1916280"/>
            <a:ext cx="8229600" cy="4209840"/>
          </a:xfrm>
          <a:prstGeom prst="rect">
            <a:avLst/>
          </a:prstGeom>
          <a:noFill/>
          <a:ln w="0">
            <a:noFill/>
          </a:ln>
        </p:spPr>
        <p:txBody>
          <a:bodyPr anchor="t">
            <a:normAutofit fontScale="97000"/>
          </a:bodyPr>
          <a:p>
            <a:pPr marL="332640" indent="-33264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No es necesario subir vídeos para usar YouTube.</a:t>
            </a:r>
            <a:endParaRPr b="0" lang="en-US" sz="3000" spc="-1" strike="noStrike">
              <a:solidFill>
                <a:srgbClr val="000000"/>
              </a:solidFill>
              <a:latin typeface="Arial"/>
            </a:endParaRPr>
          </a:p>
          <a:p>
            <a:pPr marL="332640" indent="-33264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YouTube puede ser muy útil para encontrar vídeos "Cómo" con guías paso a paso.</a:t>
            </a:r>
            <a:endParaRPr b="0" lang="en-US" sz="3000" spc="-1" strike="noStrike">
              <a:solidFill>
                <a:srgbClr val="000000"/>
              </a:solidFill>
              <a:latin typeface="Arial"/>
            </a:endParaRPr>
          </a:p>
          <a:p>
            <a:pPr marL="332640" indent="-33264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Por ejemplo D.I.Y, cocina o mús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a:t>
            </a:r>
            <a:endParaRPr b="0" lang="en-US" sz="4000" spc="-1" strike="noStrike">
              <a:solidFill>
                <a:srgbClr val="000000"/>
              </a:solidFill>
              <a:latin typeface="Arial"/>
            </a:endParaRPr>
          </a:p>
        </p:txBody>
      </p:sp>
      <p:sp>
        <p:nvSpPr>
          <p:cNvPr id="585" name=""/>
          <p:cNvSpPr txBox="1"/>
          <p:nvPr/>
        </p:nvSpPr>
        <p:spPr>
          <a:xfrm>
            <a:off x="457200" y="1197000"/>
            <a:ext cx="8686800" cy="4525920"/>
          </a:xfrm>
          <a:prstGeom prst="rect">
            <a:avLst/>
          </a:prstGeom>
          <a:noFill/>
          <a:ln w="0">
            <a:noFill/>
          </a:ln>
        </p:spPr>
        <p:txBody>
          <a:bodyPr anchor="t">
            <a:normAutofit fontScale="93000"/>
          </a:bodyPr>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tás tratando de reparar una fuga en el grifo de  casa.</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bre la aplicación de YouTube.</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Busca el símbolo de            búsqueda en la parte superior.</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cribe "Cómo reparar una fuga en el grifo" y busca el mejor vídeo que te ayude.</a:t>
            </a:r>
            <a:endParaRPr b="0" lang="en-US" sz="2800" spc="-1" strike="noStrike">
              <a:solidFill>
                <a:srgbClr val="000000"/>
              </a:solidFill>
              <a:latin typeface="Arial"/>
            </a:endParaRPr>
          </a:p>
        </p:txBody>
      </p:sp>
      <p:pic>
        <p:nvPicPr>
          <p:cNvPr id="586" name="Picture 2" descr=""/>
          <p:cNvPicPr/>
          <p:nvPr/>
        </p:nvPicPr>
        <p:blipFill>
          <a:blip r:embed="rId1"/>
          <a:stretch/>
        </p:blipFill>
        <p:spPr>
          <a:xfrm>
            <a:off x="4356000" y="3459240"/>
            <a:ext cx="69084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484000" y="1854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a:t>
            </a:r>
            <a:endParaRPr b="0" lang="en-US" sz="4000" spc="-1" strike="noStrike">
              <a:solidFill>
                <a:srgbClr val="000000"/>
              </a:solidFill>
              <a:latin typeface="Arial"/>
            </a:endParaRPr>
          </a:p>
        </p:txBody>
      </p:sp>
      <p:sp>
        <p:nvSpPr>
          <p:cNvPr id="588" name=""/>
          <p:cNvSpPr txBox="1"/>
          <p:nvPr/>
        </p:nvSpPr>
        <p:spPr>
          <a:xfrm>
            <a:off x="457200" y="1600200"/>
            <a:ext cx="8686800" cy="452592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Recibiste un regalo de un piano para tu cumpleaños.</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Abre la aplicación de YouTube.</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Busca el símbolo de búsqueda en la parte superior.</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Escribe 'piano para principiantes'.</a:t>
            </a:r>
            <a:endParaRPr b="0" lang="en-US" sz="3000" spc="-1" strike="noStrike">
              <a:solidFill>
                <a:srgbClr val="000000"/>
              </a:solidFill>
              <a:latin typeface="Arial"/>
            </a:endParaRPr>
          </a:p>
        </p:txBody>
      </p:sp>
      <p:pic>
        <p:nvPicPr>
          <p:cNvPr id="589" name="Picture 2" descr=""/>
          <p:cNvPicPr/>
          <p:nvPr/>
        </p:nvPicPr>
        <p:blipFill>
          <a:blip r:embed="rId1"/>
          <a:stretch/>
        </p:blipFill>
        <p:spPr>
          <a:xfrm>
            <a:off x="3132000" y="4653000"/>
            <a:ext cx="690840" cy="63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234000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Búsquedas en YouTube</a:t>
            </a:r>
            <a:endParaRPr b="0" lang="en-US" sz="4000" spc="-1" strike="noStrike">
              <a:solidFill>
                <a:srgbClr val="000000"/>
              </a:solidFill>
              <a:latin typeface="Arial"/>
            </a:endParaRPr>
          </a:p>
        </p:txBody>
      </p:sp>
      <p:sp>
        <p:nvSpPr>
          <p:cNvPr id="591" name=""/>
          <p:cNvSpPr txBox="1"/>
          <p:nvPr/>
        </p:nvSpPr>
        <p:spPr>
          <a:xfrm>
            <a:off x="0" y="1196640"/>
            <a:ext cx="9144000" cy="482436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Sugerencia: Es posible que obtengas muchos resultados cuando busques en YouTub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Una buena forma de filtrar estos resultados es comprobar el número de visualizacio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Si hay miles/millones de vistas, puede ser una señal de que otros han encontrado el vídeo úti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Visualizaciones</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2" name="Picture 2" descr=""/>
          <p:cNvPicPr/>
          <p:nvPr/>
        </p:nvPicPr>
        <p:blipFill>
          <a:blip r:embed="rId1"/>
          <a:stretch/>
        </p:blipFill>
        <p:spPr>
          <a:xfrm>
            <a:off x="2916360" y="3639960"/>
            <a:ext cx="5905440" cy="2036880"/>
          </a:xfrm>
          <a:prstGeom prst="rect">
            <a:avLst/>
          </a:prstGeom>
          <a:ln w="0">
            <a:noFill/>
          </a:ln>
        </p:spPr>
      </p:pic>
      <p:cxnSp>
        <p:nvCxnSpPr>
          <p:cNvPr id="593" name="Straight Arrow Connector 4"/>
          <p:cNvCxnSpPr/>
          <p:nvPr/>
        </p:nvCxnSpPr>
        <p:spPr>
          <a:xfrm>
            <a:off x="2592000" y="3968640"/>
            <a:ext cx="2926440" cy="10872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329920" y="-36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uáles son sus intereses?</a:t>
            </a:r>
            <a:endParaRPr b="0" lang="en-US" sz="4000" spc="-1" strike="noStrike">
              <a:solidFill>
                <a:srgbClr val="000000"/>
              </a:solidFill>
              <a:latin typeface="Arial"/>
            </a:endParaRPr>
          </a:p>
        </p:txBody>
      </p:sp>
      <p:sp>
        <p:nvSpPr>
          <p:cNvPr id="595" name=""/>
          <p:cNvSpPr txBox="1"/>
          <p:nvPr/>
        </p:nvSpPr>
        <p:spPr>
          <a:xfrm>
            <a:off x="108000" y="1170000"/>
            <a:ext cx="9036000" cy="4309920"/>
          </a:xfrm>
          <a:prstGeom prst="rect">
            <a:avLst/>
          </a:prstGeom>
          <a:noFill/>
          <a:ln w="0">
            <a:noFill/>
          </a:ln>
        </p:spPr>
        <p:txBody>
          <a:bodyPr anchor="t">
            <a:normAutofit fontScale="86000"/>
          </a:bodyPr>
          <a:p>
            <a:pPr marL="294840" indent="-2948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Piensa en algo que te gustaría hacer, por ejemplo, Yoga, cocina, juegos en línea.</a:t>
            </a:r>
            <a:endParaRPr b="0" lang="en-US" sz="3000" spc="-1" strike="noStrike">
              <a:solidFill>
                <a:srgbClr val="000000"/>
              </a:solidFill>
              <a:latin typeface="Arial"/>
            </a:endParaRPr>
          </a:p>
          <a:p>
            <a:pPr marL="294840" indent="-2948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Busca en tu tienda de aplicaciones las aplicaciones relevantes</a:t>
            </a:r>
            <a:endParaRPr b="0" lang="en-US" sz="3000" spc="-1" strike="noStrike">
              <a:solidFill>
                <a:srgbClr val="000000"/>
              </a:solidFill>
              <a:latin typeface="Arial"/>
            </a:endParaRPr>
          </a:p>
          <a:p>
            <a:pPr marL="294840" indent="-2948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Revisa las revisiones de la aplicación para ver qué piensan los demás.</a:t>
            </a:r>
            <a:endParaRPr b="0" lang="en-US" sz="3000" spc="-1" strike="noStrike">
              <a:solidFill>
                <a:srgbClr val="000000"/>
              </a:solidFill>
              <a:latin typeface="Arial"/>
            </a:endParaRPr>
          </a:p>
          <a:p>
            <a:pPr marL="294840" indent="-2948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Comprueba que la aplicación es gratuita antes de descargarla! Algunas aplicaciones tienen un pequeño coste: puedes elegir pagar si crees que la aplicación merece la pen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360"/>
            <a:ext cx="635652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Visión general de esta Unidad</a:t>
            </a:r>
            <a:endParaRPr b="0" lang="en-US" sz="4000" spc="-1" strike="noStrike">
              <a:solidFill>
                <a:srgbClr val="000000"/>
              </a:solidFill>
              <a:latin typeface="Arial"/>
            </a:endParaRPr>
          </a:p>
        </p:txBody>
      </p:sp>
      <p:sp>
        <p:nvSpPr>
          <p:cNvPr id="546" name=""/>
          <p:cNvSpPr txBox="1"/>
          <p:nvPr/>
        </p:nvSpPr>
        <p:spPr>
          <a:xfrm>
            <a:off x="0" y="1844640"/>
            <a:ext cx="9144000" cy="402264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Hay diapositivas 18 en esta Unidad.</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Debería tomar aproximadamente x tiempo para completarl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Si estás conectado a Internet y hay palabras en azul, puedes hacer clic en ellas para acceder a información adicional.</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Objetivos y metas</a:t>
            </a:r>
            <a:endParaRPr b="0" lang="en-US" sz="4000" spc="-1" strike="noStrike">
              <a:solidFill>
                <a:srgbClr val="000000"/>
              </a:solidFill>
              <a:latin typeface="Arial"/>
            </a:endParaRPr>
          </a:p>
        </p:txBody>
      </p:sp>
      <p:sp>
        <p:nvSpPr>
          <p:cNvPr id="548" name="PlaceHolder 2"/>
          <p:cNvSpPr>
            <a:spLocks noGrp="1"/>
          </p:cNvSpPr>
          <p:nvPr>
            <p:ph/>
          </p:nvPr>
        </p:nvSpPr>
        <p:spPr>
          <a:xfrm>
            <a:off x="457200" y="1989000"/>
            <a:ext cx="82296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l final de esta Unidad podrás:</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Usar aplicaciones específicas que son útiles para su vida.</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050560" y="311040"/>
            <a:ext cx="7093080" cy="81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Qué necesito para esta unidad?</a:t>
            </a:r>
            <a:endParaRPr b="0" lang="en-US" sz="3600" spc="-1" strike="noStrike">
              <a:solidFill>
                <a:srgbClr val="000000"/>
              </a:solidFill>
              <a:latin typeface="Arial"/>
            </a:endParaRPr>
          </a:p>
        </p:txBody>
      </p:sp>
      <p:sp>
        <p:nvSpPr>
          <p:cNvPr id="550" name=""/>
          <p:cNvSpPr txBox="1"/>
          <p:nvPr/>
        </p:nvSpPr>
        <p:spPr>
          <a:xfrm>
            <a:off x="53964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na tableta o un smartphone con conexión a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1" name="Picture 4" descr=""/>
          <p:cNvPicPr/>
          <p:nvPr/>
        </p:nvPicPr>
        <p:blipFill>
          <a:blip r:embed="rId1"/>
          <a:stretch/>
        </p:blipFill>
        <p:spPr>
          <a:xfrm>
            <a:off x="1273320" y="3141720"/>
            <a:ext cx="2904840" cy="1695240"/>
          </a:xfrm>
          <a:prstGeom prst="rect">
            <a:avLst/>
          </a:prstGeom>
          <a:ln w="0">
            <a:noFill/>
          </a:ln>
        </p:spPr>
      </p:pic>
      <p:pic>
        <p:nvPicPr>
          <p:cNvPr id="552" name="Picture 5" descr=""/>
          <p:cNvPicPr/>
          <p:nvPr/>
        </p:nvPicPr>
        <p:blipFill>
          <a:blip r:embed="rId2"/>
          <a:stretch/>
        </p:blipFill>
        <p:spPr>
          <a:xfrm>
            <a:off x="4979880" y="2681280"/>
            <a:ext cx="2905200" cy="229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40000" y="274320"/>
            <a:ext cx="68040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cicio</a:t>
            </a:r>
            <a:endParaRPr b="0" lang="en-US" sz="4000" spc="-1" strike="noStrike">
              <a:solidFill>
                <a:srgbClr val="000000"/>
              </a:solidFill>
              <a:latin typeface="Arial"/>
            </a:endParaRPr>
          </a:p>
        </p:txBody>
      </p:sp>
      <p:sp>
        <p:nvSpPr>
          <p:cNvPr id="554" name=""/>
          <p:cNvSpPr txBox="1"/>
          <p:nvPr/>
        </p:nvSpPr>
        <p:spPr>
          <a:xfrm>
            <a:off x="456840" y="1600200"/>
            <a:ext cx="843588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prendiste a descargar aplicaciones en la última unidad.</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Ve a tu tienda de aplicaciones.</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Busca "Google Maps" y descárgalo.</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Busca 'iTranslate' y descárga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410920" y="189000"/>
            <a:ext cx="635652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a:t>
            </a:r>
            <a:endParaRPr b="0" lang="en-US" sz="4000" spc="-1" strike="noStrike">
              <a:solidFill>
                <a:srgbClr val="000000"/>
              </a:solidFill>
              <a:latin typeface="Arial"/>
            </a:endParaRPr>
          </a:p>
        </p:txBody>
      </p:sp>
      <p:sp>
        <p:nvSpPr>
          <p:cNvPr id="556" name=""/>
          <p:cNvSpPr txBox="1"/>
          <p:nvPr/>
        </p:nvSpPr>
        <p:spPr>
          <a:xfrm>
            <a:off x="-360" y="1699920"/>
            <a:ext cx="9007560" cy="4383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Toca la aplicación Google Maps para abrirl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Busca un lugar en tu país de orige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Desliza el dedo por la parte inferior de la pantalla para obtener la inform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Toca en "Direcciones" y luego elige tu punto de partida. Esta puede ser su dirección. Sugerencia: si tienes tu ubicación activada (en tu dispositivo), puedes elegir comenzar las indicaciones desde donde te encuentres.</a:t>
            </a:r>
            <a:endParaRPr b="0" lang="en-US" sz="2800" spc="-1" strike="noStrike">
              <a:solidFill>
                <a:srgbClr val="000000"/>
              </a:solidFill>
              <a:latin typeface="Arial"/>
            </a:endParaRPr>
          </a:p>
        </p:txBody>
      </p:sp>
      <p:pic>
        <p:nvPicPr>
          <p:cNvPr id="557" name="Picture 4" descr=""/>
          <p:cNvPicPr/>
          <p:nvPr/>
        </p:nvPicPr>
        <p:blipFill>
          <a:blip r:embed="rId1"/>
          <a:stretch/>
        </p:blipFill>
        <p:spPr>
          <a:xfrm>
            <a:off x="7596360" y="1557360"/>
            <a:ext cx="933120" cy="94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40000" y="-360"/>
            <a:ext cx="635616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a:t>
            </a:r>
            <a:endParaRPr b="0" lang="en-US" sz="4000" spc="-1" strike="noStrike">
              <a:solidFill>
                <a:srgbClr val="000000"/>
              </a:solidFill>
              <a:latin typeface="Arial"/>
            </a:endParaRPr>
          </a:p>
        </p:txBody>
      </p:sp>
      <p:sp>
        <p:nvSpPr>
          <p:cNvPr id="559" name=""/>
          <p:cNvSpPr txBox="1"/>
          <p:nvPr/>
        </p:nvSpPr>
        <p:spPr>
          <a:xfrm>
            <a:off x="-360" y="1263600"/>
            <a:ext cx="900756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Verás una serie de opciones para indican conducción, el transporte público, la caminata, el taxi y la bicicleta:</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ulse sobre el símbolo para ver</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uánto tiempo te llevará a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aminando o conduciendo</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0" name="Picture 3" descr=""/>
          <p:cNvPicPr/>
          <p:nvPr/>
        </p:nvPicPr>
        <p:blipFill>
          <a:blip r:embed="rId1"/>
          <a:stretch/>
        </p:blipFill>
        <p:spPr>
          <a:xfrm>
            <a:off x="5518080" y="2565360"/>
            <a:ext cx="2482920" cy="3583080"/>
          </a:xfrm>
          <a:prstGeom prst="rect">
            <a:avLst/>
          </a:prstGeom>
          <a:ln w="0">
            <a:noFill/>
          </a:ln>
        </p:spPr>
      </p:pic>
      <p:cxnSp>
        <p:nvCxnSpPr>
          <p:cNvPr id="561" name="Straight Arrow Connector 2"/>
          <p:cNvCxnSpPr/>
          <p:nvPr/>
        </p:nvCxnSpPr>
        <p:spPr>
          <a:xfrm flipV="1">
            <a:off x="2576160" y="3525480"/>
            <a:ext cx="2942280" cy="69552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40000" y="0"/>
            <a:ext cx="635616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 Google Maps</a:t>
            </a:r>
            <a:endParaRPr b="0" lang="en-US" sz="4000" spc="-1" strike="noStrike">
              <a:solidFill>
                <a:srgbClr val="000000"/>
              </a:solidFill>
              <a:latin typeface="Arial"/>
            </a:endParaRPr>
          </a:p>
        </p:txBody>
      </p:sp>
      <p:sp>
        <p:nvSpPr>
          <p:cNvPr id="563" name=""/>
          <p:cNvSpPr txBox="1"/>
          <p:nvPr/>
        </p:nvSpPr>
        <p:spPr>
          <a:xfrm>
            <a:off x="2880" y="1125000"/>
            <a:ext cx="9007560" cy="4526280"/>
          </a:xfrm>
          <a:prstGeom prst="rect">
            <a:avLst/>
          </a:prstGeom>
          <a:noFill/>
          <a:ln w="0">
            <a:noFill/>
          </a:ln>
        </p:spPr>
        <p:txBody>
          <a:bodyPr anchor="t">
            <a:normAutofit fontScale="93000"/>
          </a:bodyPr>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tás en París, Francia, de vacaciones.</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Te gustaría viajar a Calais, también en Francia.</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Usa Google Maps para encontrar las opciones de ruta.</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 más rápido conducir o tomar el transporte público?</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uáles son las opciones de transporte público?</a:t>
            </a:r>
            <a:endParaRPr b="0" lang="en-US" sz="2800" spc="-1" strike="noStrike">
              <a:solidFill>
                <a:srgbClr val="000000"/>
              </a:solidFill>
              <a:latin typeface="Arial"/>
            </a:endParaRPr>
          </a:p>
        </p:txBody>
      </p:sp>
      <p:pic>
        <p:nvPicPr>
          <p:cNvPr id="564" name="Picture 4" descr=""/>
          <p:cNvPicPr/>
          <p:nvPr/>
        </p:nvPicPr>
        <p:blipFill>
          <a:blip r:embed="rId1"/>
          <a:stretch/>
        </p:blipFill>
        <p:spPr>
          <a:xfrm>
            <a:off x="6875640" y="1052640"/>
            <a:ext cx="933120" cy="961920"/>
          </a:xfrm>
          <a:prstGeom prst="rect">
            <a:avLst/>
          </a:prstGeom>
          <a:ln w="0">
            <a:noFill/>
          </a:ln>
        </p:spPr>
      </p:pic>
      <p:pic>
        <p:nvPicPr>
          <p:cNvPr id="565" name="Picture 2" descr=""/>
          <p:cNvPicPr/>
          <p:nvPr/>
        </p:nvPicPr>
        <p:blipFill>
          <a:blip r:embed="rId2"/>
          <a:stretch/>
        </p:blipFill>
        <p:spPr>
          <a:xfrm>
            <a:off x="4788000" y="3141720"/>
            <a:ext cx="1728720" cy="1046160"/>
          </a:xfrm>
          <a:prstGeom prst="rect">
            <a:avLst/>
          </a:prstGeom>
          <a:ln w="0">
            <a:noFill/>
          </a:ln>
        </p:spPr>
      </p:pic>
      <p:pic>
        <p:nvPicPr>
          <p:cNvPr id="566" name="Picture 3" descr=""/>
          <p:cNvPicPr/>
          <p:nvPr/>
        </p:nvPicPr>
        <p:blipFill>
          <a:blip r:embed="rId3"/>
          <a:stretch/>
        </p:blipFill>
        <p:spPr>
          <a:xfrm>
            <a:off x="2556000" y="4508640"/>
            <a:ext cx="1674720" cy="104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nsejo de Google Maps</a:t>
            </a:r>
            <a:endParaRPr b="0" lang="en-US" sz="4000" spc="-1" strike="noStrike">
              <a:solidFill>
                <a:srgbClr val="000000"/>
              </a:solidFill>
              <a:latin typeface="Arial"/>
            </a:endParaRPr>
          </a:p>
        </p:txBody>
      </p:sp>
      <p:sp>
        <p:nvSpPr>
          <p:cNvPr id="568" name=""/>
          <p:cNvSpPr txBox="1"/>
          <p:nvPr/>
        </p:nvSpPr>
        <p:spPr>
          <a:xfrm>
            <a:off x="457200" y="1600200"/>
            <a:ext cx="8578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También puedes descargar el mapa ('download offline map') para que puedas seguir usándolo cuando no estés conectado a Internet - ¡muy útil cuando viajas y el wifi no está disponible!</a:t>
            </a:r>
            <a:endParaRPr b="0" lang="en-US" sz="2800" spc="-1" strike="noStrike">
              <a:solidFill>
                <a:srgbClr val="000000"/>
              </a:solidFill>
              <a:latin typeface="Arial"/>
            </a:endParaRPr>
          </a:p>
        </p:txBody>
      </p:sp>
      <p:pic>
        <p:nvPicPr>
          <p:cNvPr id="569" name="Picture 4" descr=""/>
          <p:cNvPicPr/>
          <p:nvPr/>
        </p:nvPicPr>
        <p:blipFill>
          <a:blip r:embed="rId1"/>
          <a:stretch/>
        </p:blipFill>
        <p:spPr>
          <a:xfrm>
            <a:off x="3564000" y="3573360"/>
            <a:ext cx="2151000" cy="219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7T08:40:01Z</dcterms:modified>
  <cp:revision>465</cp:revision>
  <dc:subject/>
  <dc:title>Title</dc:title>
</cp:coreProperties>
</file>