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BDF96-6129-401E-8B39-48201244E1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156C-27E1-4584-8958-F220F1BCC0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83F6A-8129-49EB-B175-96BD68329B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3573-12D0-40FB-9033-C6009C515B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E8FA8DB-1F27-4067-9D61-0AA1B4EF0B0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2ED1B90-0EEF-4C7F-BA65-F3CC998B035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6A1F81-3048-434A-A103-D09568D172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4823E1-0E21-40E8-87E4-D8F4FEDB1D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DC0AA0-2694-492C-8B15-87671B0477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DC25B6-6CBA-43EB-8504-47523D27E5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E96126-F634-4EC9-8F3D-1F5CAC3D5BA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275E263-1B49-4282-822B-05B618D410F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54024FB-EB86-47D4-A2F2-DD9BFE10552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7C5E10-61DC-457E-96B8-C3B8A9A3D1B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717CF67-D087-422F-A882-C4EC52471F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03A2E60-C3EC-4CF6-81B6-AC98B63D8C1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25FCAE-C6B8-4DB6-8C93-B81519AE810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3514B6-1FE4-4F62-AA39-52F6F347161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4D5C68F-4643-4EC7-BE29-694D0523448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F77025-A62D-4AD0-B9B5-92D93269C4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E105AC-E76A-4984-BDE5-038DB2049B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9DF337-F02E-48A5-8703-36E8DADD60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E3EC37-7B13-4ACE-9DBB-24191F28A99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1E5B8AA-1D99-443F-A880-E2A8FAB9F19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D63E2BD-9AF5-4CC5-BFE2-14E18A3E0CD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93C6924-3270-4CC5-B2E4-853AC358A36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EAA73FD-2FA7-424B-94EA-FBE84B15E17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31C6B3-2EEC-45FD-82F9-3B129F5556C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E7AD279-334A-4207-92F2-8D476C88923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17545D3-770B-4694-9504-988AEB39E4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674C696-3042-439C-8310-7A8CDC2DD2A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90F61E-D7C4-482B-90D1-D6366651585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ADD475B-B771-4F9A-8C36-7954AA03C5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574350-1C24-4E28-8618-33C23B3FB8F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50D5C63-8745-41F2-9FDE-C5ED43932B0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F4E1C03-E4CC-46C0-A715-F7175CB7910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F23BB69-F88D-4798-A4FB-6FDE82A23986}"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3430EAE-8392-421D-A69C-B783FEB992E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4CA60B2-8605-47ED-B406-207ACD7F4FA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E5ADC98-F9FF-408B-9AAF-64821D80FC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B45BB74-94E9-4BAF-9DD1-FE8A686F023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2790A0-66D4-40D4-9958-E3F9CE268BC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054CBB-C52C-4037-916C-240CA5E130E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A93629-6DE4-4807-B30A-B93AE26A458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6E0246-CB94-46F3-88A3-9A8A2627EFA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5A3DC0-BDB7-43E9-9ED9-E4757B2EF8D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1892F4E-FA43-4316-8A1C-2EFB31989EF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EF07464-8CE9-4018-8C14-101380626EF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0D69CAA-092C-4988-81D2-809B4F63929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D2C3AF-B997-498A-9C97-F9B5E7F30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3EA24C-0072-4473-989D-937665849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0F68B3-6636-4DF9-A4D0-6D3662A383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9604DF-988D-409B-9B49-99C58ADC9F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4784D3-8042-42E9-B79C-3629458EFD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4A4A50-D15D-4764-9FD1-E05FDD8CC4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94E8CB-F561-4569-B9A5-D9DE4C2D0D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B1ADDF-3D73-4036-86B2-48FD2ECEF5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0F704-8E61-4D81-B81D-63B2881CE7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936181-C26F-4850-9780-089A618C7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A0A2FE-7BEC-41C9-A8FB-5F02C4C4B0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665276-949B-4837-AC8F-8373658DD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FBBF981-97A3-4178-A4C9-E6EAF199B25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E41F349-135F-4574-A01C-4F17F93DF6A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ECAFBC-4620-4AC7-893A-891785FD2C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46C106E-B62C-4536-BBB8-E224420BBB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1EBA39-C687-4758-9B7E-CAD7EA9C2EE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576483-ACED-4BFB-BB8C-62734354C6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FC77CD-FF2D-472F-93D9-8E1E11F1CF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53A7162-25A3-4AFE-8079-5879EE03C7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FE922F-0256-4E02-BA4C-EB04A1ADC9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6C75658-E0A6-4867-BB9F-BBC3F0810D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CF1703D-003A-43B0-ACAB-2E5A9936CA5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97D14C-FCCC-416B-884D-5A07E71F6C0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956AAD5-2014-4902-8525-A39EA02293D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6586A5-E96F-480F-8C3A-F814651C69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D00FF09-DD02-4F5B-A799-958F5D7A1B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D04BEE7-5A2A-428C-B25C-305D5357AA9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0C3E1B-BCA7-4758-81B1-AFD012B92C0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87631C-537F-4E80-B3AD-97493C4B22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AF27729-1D4A-45CA-8CD8-AD111EAEBF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17A6B6-CF3F-44E5-9A83-4F60C67DEB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008A755-403C-4890-A70A-22BADF4D12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7864FD0-8E5C-46BA-8FA0-53BB9CE580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28CC60E-3CD4-4560-B25A-4B44B07F93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AFDD45E-F13B-4568-A8E4-87E3A30140F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37BE370-1D69-4B04-8A13-4FC2652737C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344325-08BE-4222-B6FE-C9BC8E4B598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C57BEB0-17A1-405A-8F0C-615AB806AA7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7894F75-2CCB-4A1E-BA59-A81CC70688F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8B2D4C-2A7C-470F-B863-DF6532AE2FE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131934B-E4CE-4652-BA43-8AB594CD3A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589D57-2DE6-4961-83A5-F0F5579BB8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9E8368-A08B-4CF4-B429-0A8EA9B701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C22592-134E-4F96-98A1-0A1DF7D2CE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1B8615D-9281-4BA7-989F-9D2E86F5B31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CAD4F45-FCB2-4988-BFDE-8EE9885001D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B596AA-BDEC-4333-A58B-4419590A08C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09E3A55-7C85-432C-A6DE-5AE32AAF9BC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284DB20-1736-4C9A-BAC4-77F16D6D4FB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09AA16-1DCE-41BA-B2B5-3E1A1A3AB85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BEE6B3-E899-4339-B22F-13C446E982A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34D034E-BB8F-45AA-97FF-173552CB7C2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B5E4A2-CA03-4C3A-AD04-55E1069312A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9CB0A9-3184-4853-91D5-F0C2105952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90C9A6C-572A-4FD8-AA2A-E4E80BC4774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2A6ECD-C397-4EFE-89EA-732B2033694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68A56F-C361-4CA3-8BF7-CA84862F3FD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13C560-0DB2-4AA3-9550-F656EBE24D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C1221D2-09C1-4C6B-B6D9-14939516CE7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B7F9314-3918-4BFE-876F-D6EFA075BB1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425037A-46EC-4E4D-BC6B-CC918804FC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21A40DA-F371-4056-97A9-97F3D501E06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6D1FD1B-1A55-4D68-AF45-074B98DB23B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5C8FD50-EE5C-43B5-89E6-82D307E0886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51E3FD-2535-4E35-B400-073C89EC57B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AA057D-8EE8-4B6C-949B-2FD32E9138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232312C-D56A-4330-BFCF-00FB56AE90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C36C8A2-0F95-4CF8-98B3-F55B8460E7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0D7E8FC-6FBA-4931-B4BB-388A73B8CB1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2ED7A62-C37E-4C74-A34D-FB5C47A1017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9215DFB-5DF1-4694-89ED-A0A9AB27973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1D25C5-4C34-4E0D-8C11-50B50624FC7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FB282C3-3203-4951-BB1B-1C422CCFF81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8141BA2-0091-4647-87CD-30DBA5CE335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4F60-2C85-437F-ACD4-B8AB33B1549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A1C5-1ACF-4777-B9EF-6094BBAE10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C500-47DC-494F-9449-A506BACEA1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995D-7BFE-4AF7-AFBC-066E32B8A2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DE897-D449-477A-8539-3D622EE277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5242-2298-4BC9-8B3D-4A32443C682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C9A4-BA54-4212-A92D-95B9C3E8BFD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EC00E-1EBF-4CB5-B062-F5704424FB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C556-966A-4156-9163-378C6E9C283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C0949-FDB4-4A9F-9AF0-51379DB4C7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információkezelés</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formáció és digitális műveltsé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ternetes dokumentumok</a:t>
            </a:r>
            <a:endParaRPr b="0" lang="en-US" sz="4400" spc="-1" strike="noStrike">
              <a:solidFill>
                <a:srgbClr val="000000"/>
              </a:solidFill>
              <a:latin typeface="Arial"/>
            </a:endParaRPr>
          </a:p>
        </p:txBody>
      </p:sp>
      <p:sp>
        <p:nvSpPr>
          <p:cNvPr id="569" name=""/>
          <p:cNvSpPr txBox="1"/>
          <p:nvPr/>
        </p:nvSpPr>
        <p:spPr>
          <a:xfrm>
            <a:off x="457200" y="1844640"/>
            <a:ext cx="8229600" cy="4176720"/>
          </a:xfrm>
          <a:prstGeom prst="rect">
            <a:avLst/>
          </a:prstGeom>
          <a:noFill/>
          <a:ln w="0">
            <a:noFill/>
          </a:ln>
        </p:spPr>
        <p:txBody>
          <a:bodyPr anchor="t">
            <a:normAutofit/>
          </a:bodyPr>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Az interneten írásos dokumentumok is találhatóak.</a:t>
            </a:r>
            <a:endParaRPr b="0" lang="en-US" sz="2300" spc="-1" strike="noStrike">
              <a:solidFill>
                <a:srgbClr val="000000"/>
              </a:solidFill>
              <a:latin typeface="Arial"/>
            </a:endParaRPr>
          </a:p>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Ezek lehetnek tájékoztató dokumentumok vagy sablonok is.</a:t>
            </a:r>
            <a:endParaRPr b="0" lang="en-US" sz="2300" spc="-1" strike="noStrike">
              <a:solidFill>
                <a:srgbClr val="000000"/>
              </a:solidFill>
              <a:latin typeface="Arial"/>
            </a:endParaRPr>
          </a:p>
          <a:p>
            <a:pPr marL="343080" indent="-343080">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öbb típusuk is van.</a:t>
            </a:r>
            <a:br>
              <a:rPr sz="2300"/>
            </a:br>
            <a:r>
              <a:rPr b="0" lang="hu-HU" sz="2300" spc="-1" strike="noStrike">
                <a:solidFill>
                  <a:srgbClr val="000000"/>
                </a:solidFill>
                <a:latin typeface="Arial Rounded MT Bold"/>
              </a:rPr>
              <a:t>PDF dokumentum:</a:t>
            </a:r>
            <a:endParaRPr b="0" lang="en-US" sz="2300" spc="-1" strike="noStrike">
              <a:solidFill>
                <a:srgbClr val="000000"/>
              </a:solidFill>
              <a:latin typeface="Arial"/>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https://www.netliteracy.org/wp-content/uploads/2012/07/Basic-Internet-Skills.pdf </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Ezeket általában nem tudod szerkeszteni, de lehetséges nyomtatni, letölteni vagy menten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Dokumentum mentése az internetről</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hhoz, hogy nyomtatni tudj egy dokumentumot, csatlakoztatni kell a számítógépedet a nyomtatóhoz.</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PDF dokumentum letöltéséhez és mentéséhez a képen látható ikonokat szükséges használnod:</a:t>
            </a:r>
            <a:endParaRPr b="0" lang="en-US" sz="2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0000"/>
                </a:solidFill>
                <a:latin typeface="Arial Rounded MT Bold"/>
              </a:rPr>
              <a:t>Kattints ide a nyomtatáshoz</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0000"/>
                </a:solidFill>
                <a:latin typeface="Arial Rounded MT Bold"/>
              </a:rPr>
              <a:t>Kattints ide a mentéshez</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Rounded MT Bold"/>
              </a:rPr>
              <a:t>Ez is a Mentés ikon</a:t>
            </a:r>
            <a:endParaRPr b="0" lang="en-US" sz="1800" spc="-1" strike="noStrike">
              <a:solidFill>
                <a:srgbClr val="000000"/>
              </a:solidFill>
              <a:latin typeface="Arial"/>
            </a:endParaRPr>
          </a:p>
        </p:txBody>
      </p:sp>
      <p:sp>
        <p:nvSpPr>
          <p:cNvPr id="579" name="Straight Connector 5"/>
          <p:cNvSpPr/>
          <p:nvPr/>
        </p:nvSpPr>
        <p:spPr>
          <a:xfrm flipV="1">
            <a:off x="1608120" y="5656320"/>
            <a:ext cx="501840" cy="41040"/>
          </a:xfrm>
          <a:prstGeom prst="line">
            <a:avLst/>
          </a:prstGeom>
          <a:ln w="648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47560" y="2376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 2</a:t>
            </a:r>
            <a:endParaRPr b="0" lang="en-US" sz="4000" spc="-1" strike="noStrike">
              <a:solidFill>
                <a:srgbClr val="000000"/>
              </a:solidFill>
              <a:latin typeface="Arial"/>
            </a:endParaRPr>
          </a:p>
        </p:txBody>
      </p:sp>
      <p:sp>
        <p:nvSpPr>
          <p:cNvPr id="581" name=""/>
          <p:cNvSpPr txBox="1"/>
          <p:nvPr/>
        </p:nvSpPr>
        <p:spPr>
          <a:xfrm>
            <a:off x="371520" y="1584000"/>
            <a:ext cx="8448480" cy="443700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ide a PDF dokumentumhoz:</a:t>
            </a: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artsd az egeredet az oldal tetején ameddig ezt nem látod:</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nyíl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nts el a dokumentumot az asztalra.</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5122800" y="367344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2</a:t>
            </a:r>
            <a:br>
              <a:rPr sz="4400"/>
            </a:br>
            <a:r>
              <a:rPr b="0" lang="en-IE" sz="4400" spc="-1" strike="noStrike">
                <a:solidFill>
                  <a:srgbClr val="000000"/>
                </a:solidFill>
                <a:latin typeface="Arial Rounded MT Bold"/>
              </a:rPr>
              <a:t>(</a:t>
            </a:r>
            <a:r>
              <a:rPr b="0" lang="hu-HU" sz="4400" spc="-1" strike="noStrike">
                <a:solidFill>
                  <a:srgbClr val="000000"/>
                </a:solidFill>
                <a:latin typeface="Arial Rounded MT Bold"/>
              </a:rPr>
              <a:t>Folytatás)</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ek az ikonok jelennek meg az oldal jobb felső sarkában</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igen</a:t>
            </a:r>
            <a:r>
              <a:rPr b="0" lang="en-IE" sz="2800" spc="-1" strike="noStrike">
                <a:solidFill>
                  <a:srgbClr val="000000"/>
                </a:solidFill>
                <a:latin typeface="Arial Rounded MT Bold"/>
              </a:rPr>
              <a:t>, </a:t>
            </a:r>
            <a:r>
              <a:rPr b="0" lang="hu-HU" sz="2800" spc="-1" strike="noStrike">
                <a:solidFill>
                  <a:srgbClr val="000000"/>
                </a:solidFill>
                <a:latin typeface="Arial Rounded MT Bold"/>
              </a:rPr>
              <a:t>kattints 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Mentés másként” gomb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t követően a „Mentés”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ombr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Rounded MT Bold"/>
              </a:rPr>
              <a:t>Mentés másként gom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mail-ek és csatolmányok</a:t>
            </a:r>
            <a:endParaRPr b="0" lang="en-US" sz="4400" spc="-1" strike="noStrike">
              <a:solidFill>
                <a:srgbClr val="000000"/>
              </a:solidFill>
              <a:latin typeface="Arial"/>
            </a:endParaRPr>
          </a:p>
        </p:txBody>
      </p:sp>
      <p:sp>
        <p:nvSpPr>
          <p:cNvPr id="592" name=""/>
          <p:cNvSpPr txBox="1"/>
          <p:nvPr/>
        </p:nvSpPr>
        <p:spPr>
          <a:xfrm>
            <a:off x="394920" y="1600200"/>
            <a:ext cx="8497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e-mail-ek információkat tartalmaznak és lehetnek csatolmányaik i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ilyen  gémkapocs ikon </a:t>
            </a:r>
            <a:r>
              <a:rPr b="0" lang="en-GB" sz="2800" spc="-1" strike="noStrike">
                <a:solidFill>
                  <a:srgbClr val="000000"/>
                </a:solidFill>
                <a:latin typeface="Arial Rounded MT Bold"/>
              </a:rPr>
              <a:t> </a:t>
            </a:r>
            <a:r>
              <a:rPr b="0" lang="hu-HU" sz="2800" spc="-1" strike="noStrike">
                <a:solidFill>
                  <a:srgbClr val="000000"/>
                </a:solidFill>
                <a:latin typeface="Arial Rounded MT Bold"/>
              </a:rPr>
              <a:t>jelzi a csatolmány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gy csatolmány lehet dokumentum, kép, amit menteni tudsz, így a későbbiekben is megtekinthet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alálsz olyan e-mail-t a beérkező leveleid közt, aminek van</a:t>
            </a:r>
            <a:r>
              <a:rPr b="0" lang="en-GB" sz="2800" spc="-1" strike="noStrike">
                <a:solidFill>
                  <a:srgbClr val="000000"/>
                </a:solidFill>
                <a:latin typeface="Arial Rounded MT Bold"/>
              </a:rPr>
              <a:t>? </a:t>
            </a:r>
            <a:r>
              <a:rPr b="0" lang="hu-HU" sz="2800" spc="-1" strike="noStrike">
                <a:solidFill>
                  <a:srgbClr val="000000"/>
                </a:solidFill>
                <a:latin typeface="Arial Rounded MT Bold"/>
              </a:rPr>
              <a:t>Honnan ismerted fe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3564000" y="2997360"/>
            <a:ext cx="619200" cy="51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mail-ek és csatolmányok</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nnek az e-mail-nek van csatolmánya:</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nnek az e-mail-nek nincs csatolmánya</a:t>
            </a:r>
            <a:endParaRPr b="0" lang="en-US" sz="28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0000"/>
                </a:solidFill>
                <a:latin typeface="Arial"/>
              </a:rPr>
              <a:t>Csatolmány ikon</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GB" sz="4400" spc="-1" strike="noStrike">
                <a:solidFill>
                  <a:srgbClr val="000000"/>
                </a:solidFill>
                <a:latin typeface="Arial Rounded MT Bold"/>
              </a:rPr>
              <a:t> 3 </a:t>
            </a:r>
            <a:endParaRPr b="0" lang="en-US" sz="4400" spc="-1" strike="noStrike">
              <a:solidFill>
                <a:srgbClr val="000000"/>
              </a:solidFill>
              <a:latin typeface="Arial"/>
            </a:endParaRPr>
          </a:p>
        </p:txBody>
      </p:sp>
      <p:sp>
        <p:nvSpPr>
          <p:cNvPr id="601" name=""/>
          <p:cNvSpPr txBox="1"/>
          <p:nvPr/>
        </p:nvSpPr>
        <p:spPr>
          <a:xfrm>
            <a:off x="457200" y="14400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yisd meg az e-mail fiókod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eress egy e-mail-t, aminek van csatolmány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yisd meg az e-mail-t és a csatolmányá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álaszd a csatolmány letöltése lehetősége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Ments el a csatolmány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az asztalra:</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5508720" y="4797360"/>
            <a:ext cx="3097080" cy="77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Fájlok és mappák</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Úgy tudod rendezni a dokumentumokat a számítógépeden, ahogyan rendeznéd az iratokat egy iratszekrényben.</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Létre tudsz hozni mappákat a számítógépeden, így könnyen megtalálhatod a dokumentumokat a későbbiekben vagy könnyedén informálódhatsz.</a:t>
            </a:r>
            <a:endParaRPr b="0" lang="en-US" sz="28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Fájlok és mappák kezelése</a:t>
            </a:r>
            <a:endParaRPr b="0" lang="en-US" sz="4400" spc="-1" strike="noStrike">
              <a:solidFill>
                <a:srgbClr val="000000"/>
              </a:solidFill>
              <a:latin typeface="Arial"/>
            </a:endParaRPr>
          </a:p>
        </p:txBody>
      </p:sp>
      <p:sp>
        <p:nvSpPr>
          <p:cNvPr id="607" name=""/>
          <p:cNvSpPr txBox="1"/>
          <p:nvPr/>
        </p:nvSpPr>
        <p:spPr>
          <a:xfrm>
            <a:off x="457200" y="1484280"/>
            <a:ext cx="8229600" cy="46087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appákat tudsz létrehozni különböző tárggyal, névvel.</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Például, ha létrehozol egy „Autó” nevű mappát, ez tartalmazhatja a gépjárműadóval, vagy a biztosítással kapcsolatos dokumentumokat, másolatokat.</a:t>
            </a:r>
            <a:endParaRPr b="0" lang="en-US" sz="3200" spc="-1" strike="noStrike">
              <a:solidFill>
                <a:srgbClr val="000000"/>
              </a:solidFill>
              <a:latin typeface="Arial"/>
            </a:endParaRPr>
          </a:p>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Úgy gondolod szükséged lehet további mappák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IE" sz="4400" spc="-1" strike="noStrike">
                <a:solidFill>
                  <a:srgbClr val="000000"/>
                </a:solidFill>
                <a:latin typeface="Arial Rounded MT Bold"/>
              </a:rPr>
              <a:t>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zz létre egy mappát az asztalodon</a:t>
            </a:r>
            <a:r>
              <a:rPr b="0" lang="en-IE" sz="3000" spc="-1" strike="noStrike">
                <a:solidFill>
                  <a:srgbClr val="000000"/>
                </a:solidFill>
                <a:latin typeface="Arial Rounded MT Bold"/>
              </a:rPr>
              <a:t>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hu-HU" sz="3000" spc="-1" strike="noStrike">
                <a:solidFill>
                  <a:srgbClr val="000000"/>
                </a:solidFill>
                <a:latin typeface="Arial Rounded MT Bold"/>
              </a:rPr>
              <a:t>Kattints jobb egér gombbal.</a:t>
            </a: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220824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a menü fog megjelenni</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kitűzések</a:t>
            </a:r>
            <a:endParaRPr b="0" lang="en-US" sz="4400" spc="-1" strike="noStrike">
              <a:solidFill>
                <a:srgbClr val="000000"/>
              </a:solidFill>
              <a:latin typeface="Arial"/>
            </a:endParaRPr>
          </a:p>
        </p:txBody>
      </p:sp>
      <p:sp>
        <p:nvSpPr>
          <p:cNvPr id="546" name="PlaceHolder 2"/>
          <p:cNvSpPr>
            <a:spLocks noGrp="1"/>
          </p:cNvSpPr>
          <p:nvPr>
            <p:ph/>
          </p:nvPr>
        </p:nvSpPr>
        <p:spPr>
          <a:xfrm>
            <a:off x="457200" y="1417320"/>
            <a:ext cx="8229600" cy="47084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egység végére képes leszel:</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digitális információt meghatározni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digitális információt kezelni.</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sználni a könyvjelzőket és a kedvenceket az internete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nteni és mappába rendezni a dokumentumokat, fájlok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a:t>
            </a:r>
            <a:r>
              <a:rPr b="0" lang="en-IE" sz="4400" spc="-1" strike="noStrike">
                <a:solidFill>
                  <a:srgbClr val="000000"/>
                </a:solidFill>
                <a:latin typeface="Arial Rounded MT Bold"/>
              </a:rPr>
              <a:t>4 (</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attints az „Új”-ra</a:t>
            </a:r>
            <a:r>
              <a:rPr b="0" lang="en-IE" sz="3000" spc="-1" strike="noStrike">
                <a:solidFill>
                  <a:srgbClr val="000000"/>
                </a:solidFill>
                <a:latin typeface="Arial Rounded MT Bold"/>
              </a:rPr>
              <a:t> (</a:t>
            </a:r>
            <a:r>
              <a:rPr b="0" lang="hu-HU" sz="3000" spc="-1" strike="noStrike">
                <a:solidFill>
                  <a:srgbClr val="000000"/>
                </a:solidFill>
                <a:latin typeface="Arial Rounded MT Bold"/>
              </a:rPr>
              <a:t>a bal oldali gombot használd az egeren</a:t>
            </a:r>
            <a:r>
              <a:rPr b="0" lang="en-IE" sz="3000" spc="-1" strike="noStrike">
                <a:solidFill>
                  <a:srgbClr val="000000"/>
                </a:solidFill>
                <a:latin typeface="Arial Rounded MT Bold"/>
              </a:rPr>
              <a: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Egy másik menü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fog megjelenni.</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Kattints a „Mappa”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sorra a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    </a:t>
            </a:r>
            <a:r>
              <a:rPr b="0" lang="hu-HU" sz="3000" spc="-1" strike="noStrike">
                <a:solidFill>
                  <a:srgbClr val="000000"/>
                </a:solidFill>
                <a:latin typeface="Arial Rounded MT Bold"/>
              </a:rPr>
              <a:t>menü tetejé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572000" y="2708280"/>
            <a:ext cx="4394160" cy="309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a:t>
            </a:r>
            <a:r>
              <a:rPr b="0" lang="en-IE" sz="4400" spc="-1" strike="noStrike">
                <a:solidFill>
                  <a:srgbClr val="000000"/>
                </a:solidFill>
                <a:latin typeface="Arial Rounded MT Bold"/>
              </a:rPr>
              <a:t> 4</a:t>
            </a:r>
            <a:r>
              <a:rPr b="0" lang="en-IE" sz="4400" spc="-1" strike="noStrike">
                <a:solidFill>
                  <a:srgbClr val="000000"/>
                </a:solidFill>
                <a:latin typeface="Arial"/>
              </a:rPr>
              <a:t> </a:t>
            </a:r>
            <a:r>
              <a:rPr b="0" lang="hu-HU" sz="4400" spc="-1" strike="noStrike">
                <a:solidFill>
                  <a:srgbClr val="000000"/>
                </a:solidFill>
                <a:latin typeface="Arial Rounded MT Bold"/>
              </a:rPr>
              <a:t>(folytatás)</a:t>
            </a:r>
            <a:endParaRPr b="0" lang="en-US" sz="4400" spc="-1" strike="noStrike">
              <a:solidFill>
                <a:srgbClr val="000000"/>
              </a:solidFill>
              <a:latin typeface="Arial"/>
            </a:endParaRPr>
          </a:p>
        </p:txBody>
      </p:sp>
      <p:sp>
        <p:nvSpPr>
          <p:cNvPr id="618" name=""/>
          <p:cNvSpPr txBox="1"/>
          <p:nvPr/>
        </p:nvSpPr>
        <p:spPr>
          <a:xfrm>
            <a:off x="457200" y="1422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z az ikon fog megjelenni:</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evezd át a mappát „Gyakorlás” név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495160" y="53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4</a:t>
            </a:r>
            <a:r>
              <a:rPr b="0" lang="en-IE" sz="4400" spc="-1" strike="noStrike">
                <a:solidFill>
                  <a:srgbClr val="000000"/>
                </a:solidFill>
                <a:latin typeface="Arial Rounded MT Bold"/>
              </a:rPr>
              <a:t> (</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1" name=""/>
          <p:cNvSpPr txBox="1"/>
          <p:nvPr/>
        </p:nvSpPr>
        <p:spPr>
          <a:xfrm>
            <a:off x="324000" y="116532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úzd át a mappába azt a két dokumentumot amit a második és a harmadik feladatban mentettél e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 második feladatban mentett dokumentumra, és tarts hosszan lenyomva az egér gombját</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hu-HU" sz="2400" spc="-1" strike="noStrike">
                <a:solidFill>
                  <a:srgbClr val="000000"/>
                </a:solidFill>
                <a:latin typeface="Arial Rounded MT Bold"/>
              </a:rPr>
              <a:t>Egy világos kék mező fog megjelenni a dokumentum körül</a:t>
            </a:r>
            <a:r>
              <a:rPr b="0" lang="en-IE"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Nyomd meg az egér </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hu-HU" sz="2400" spc="-1" strike="noStrike">
                <a:solidFill>
                  <a:srgbClr val="000000"/>
                </a:solidFill>
                <a:latin typeface="Arial Rounded MT Bold"/>
              </a:rPr>
              <a:t>bal oldali gombjá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2" name="Picture 3" descr=""/>
          <p:cNvPicPr/>
          <p:nvPr/>
        </p:nvPicPr>
        <p:blipFill>
          <a:blip r:embed="rId1"/>
          <a:stretch/>
        </p:blipFill>
        <p:spPr>
          <a:xfrm>
            <a:off x="4356000" y="3160800"/>
            <a:ext cx="3384720" cy="2921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4 </a:t>
            </a:r>
            <a:r>
              <a:rPr b="0" lang="en-IE" sz="4400" spc="-1" strike="noStrike">
                <a:solidFill>
                  <a:srgbClr val="000000"/>
                </a:solidFill>
                <a:latin typeface="Arial Rounded MT Bold"/>
              </a:rPr>
              <a:t>(</a:t>
            </a:r>
            <a:r>
              <a:rPr b="0" lang="hu-HU" sz="4400" spc="-1" strike="noStrike">
                <a:solidFill>
                  <a:srgbClr val="000000"/>
                </a:solidFill>
                <a:latin typeface="Arial Rounded MT Bold"/>
              </a:rPr>
              <a:t>folytatás</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4" name=""/>
          <p:cNvSpPr txBox="1"/>
          <p:nvPr/>
        </p:nvSpPr>
        <p:spPr>
          <a:xfrm>
            <a:off x="449280" y="1409760"/>
            <a:ext cx="822960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Tartsd lenyomva az egér bal oldalát, ameddig áthúzod a dokumentumot a „Gyakorlás” mappába, majd engedd el.</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találod a dokumentumot, ha a mappára kattintasz?</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Ismételd meg a feladatot a harmadik feladatban mentett dokumentummal.</a:t>
            </a:r>
            <a:endParaRPr b="0" lang="en-US" sz="2200" spc="-1" strike="noStrike">
              <a:solidFill>
                <a:srgbClr val="000000"/>
              </a:solidFill>
              <a:latin typeface="Arial"/>
            </a:endParaRPr>
          </a:p>
        </p:txBody>
      </p:sp>
      <p:pic>
        <p:nvPicPr>
          <p:cNvPr id="625" name="Picture 3" descr=""/>
          <p:cNvPicPr/>
          <p:nvPr/>
        </p:nvPicPr>
        <p:blipFill>
          <a:blip r:embed="rId1"/>
          <a:stretch/>
        </p:blipFill>
        <p:spPr>
          <a:xfrm>
            <a:off x="971640" y="2205000"/>
            <a:ext cx="2448000" cy="199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További mappák</a:t>
            </a:r>
            <a:r>
              <a:rPr b="0" lang="en-IE"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Létre tudsz hozni további mappákat a számítógép C meghajtóján </a:t>
            </a:r>
            <a:r>
              <a:rPr b="0" lang="en-IE" sz="3200" spc="-1" strike="noStrike">
                <a:solidFill>
                  <a:srgbClr val="000000"/>
                </a:solidFill>
                <a:latin typeface="Arial Rounded MT Bold"/>
              </a:rPr>
              <a:t>– </a:t>
            </a:r>
            <a:r>
              <a:rPr b="0" lang="hu-HU" sz="3200" spc="-1" strike="noStrike">
                <a:solidFill>
                  <a:srgbClr val="000000"/>
                </a:solidFill>
                <a:latin typeface="Arial Rounded MT Bold"/>
              </a:rPr>
              <a:t>de nem fogod látni ezeket a dokumentumokat a számítógéped asztalán amikor bekapcsolod a számítógépet.</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Itt egy Youtube videó arról, hogy ezt hogyan teheted meg:</a:t>
            </a: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Összegzés</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bben a tananyagegységben:</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nultuk mi a digitális információ.</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nultuk hogyan kezeljük a digitális információ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könyvjelzők és kedvencek</a:t>
            </a:r>
            <a:r>
              <a:rPr b="0" lang="en-GB" sz="2800" spc="-1" strike="noStrike">
                <a:solidFill>
                  <a:srgbClr val="000000"/>
                </a:solidFill>
                <a:latin typeface="Arial Rounded MT Bold"/>
              </a:rPr>
              <a:t>,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internetes dokumentumok és e-mail-ek </a:t>
            </a:r>
            <a:r>
              <a:rPr b="0" lang="hu-HU" sz="2800" spc="-1" strike="noStrike">
                <a:solidFill>
                  <a:srgbClr val="000000"/>
                </a:solidFill>
                <a:latin typeface="Arial Rounded MT Bold"/>
              </a:rPr>
              <a:t>	</a:t>
            </a:r>
            <a:r>
              <a:rPr b="0" lang="hu-HU" sz="2800" spc="-1" strike="noStrike">
                <a:solidFill>
                  <a:srgbClr val="000000"/>
                </a:solidFill>
                <a:latin typeface="Arial Rounded MT Bold"/>
              </a:rPr>
              <a:t>  csatolmányainak mentésé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hu-HU" sz="2800" spc="-1" strike="noStrike">
                <a:solidFill>
                  <a:srgbClr val="000000"/>
                </a:solidFill>
                <a:latin typeface="Arial Rounded MT Bold"/>
              </a:rPr>
              <a:t>dokumentumok mappába rendezésé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Mire lesz szükséged</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gy számítógépre, laptopra vagy tabletre, internetkapcsolatt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Digitális információ</a:t>
            </a:r>
            <a:endParaRPr b="0" lang="en-US" sz="4400" spc="-1" strike="noStrike">
              <a:solidFill>
                <a:srgbClr val="000000"/>
              </a:solidFill>
              <a:latin typeface="Arial"/>
            </a:endParaRPr>
          </a:p>
        </p:txBody>
      </p:sp>
      <p:sp>
        <p:nvSpPr>
          <p:cNvPr id="553" name=""/>
          <p:cNvSpPr txBox="1"/>
          <p:nvPr/>
        </p:nvSpPr>
        <p:spPr>
          <a:xfrm>
            <a:off x="457200" y="141912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információ egy olyan információ, amivel akkor találkozol, ha elektronikus eszközt használsz (számítógép, laptop…).</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Olykor az adat szót használjuk az információ szó helyet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digitális információ lehet dokumentum, kép, fotó, zene, kép, vagy akár számok egy táblázatban.</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lálod ezeket a típusú dokumentumokat a számítógépe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hu-HU" sz="4400" spc="-1" strike="noStrike">
                <a:solidFill>
                  <a:srgbClr val="000000"/>
                </a:solidFill>
                <a:latin typeface="Arial Rounded MT Bold"/>
              </a:rPr>
              <a:t>Digitális információkezelés</a:t>
            </a:r>
            <a:endParaRPr b="0" lang="en-US" sz="4400" spc="-1" strike="noStrike">
              <a:solidFill>
                <a:srgbClr val="000000"/>
              </a:solidFill>
              <a:latin typeface="Arial"/>
            </a:endParaRPr>
          </a:p>
        </p:txBody>
      </p:sp>
      <p:sp>
        <p:nvSpPr>
          <p:cNvPr id="555" name=""/>
          <p:cNvSpPr txBox="1"/>
          <p:nvPr/>
        </p:nvSpPr>
        <p:spPr>
          <a:xfrm>
            <a:off x="457200" y="1915920"/>
            <a:ext cx="8229600" cy="410508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agy mennyiségű információ található az interneten, amit szükséges lehet kezelni.</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 digitális információ megtalálható az interneten, az e-mail fiókodban, vagy a számítógépeden, a tárolt dokumentumok közt</a:t>
            </a:r>
            <a:endParaRPr b="0" lang="en-US" sz="3000" spc="-1" strike="noStrike">
              <a:solidFill>
                <a:srgbClr val="000000"/>
              </a:solidFill>
              <a:latin typeface="Arial"/>
            </a:endParaRPr>
          </a:p>
          <a:p>
            <a:pPr marL="343080" indent="-343080" algn="just">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Néhány információ hasznos lehet számodra, néhány nem </a:t>
            </a:r>
            <a:r>
              <a:rPr b="0" lang="en-GB" sz="3000" spc="-1" strike="noStrike">
                <a:solidFill>
                  <a:srgbClr val="000000"/>
                </a:solidFill>
                <a:latin typeface="Arial Rounded MT Bold"/>
              </a:rPr>
              <a:t>– </a:t>
            </a:r>
            <a:r>
              <a:rPr b="0" lang="hu-HU" sz="3000" spc="-1" strike="noStrike">
                <a:solidFill>
                  <a:srgbClr val="000000"/>
                </a:solidFill>
                <a:latin typeface="Arial Rounded MT Bold"/>
              </a:rPr>
              <a:t>te döntesz</a:t>
            </a:r>
            <a:r>
              <a:rPr b="0" lang="en-GB"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Internetes információkezelés</a:t>
            </a:r>
            <a:endParaRPr b="0" lang="en-US" sz="4400" spc="-1" strike="noStrike">
              <a:solidFill>
                <a:srgbClr val="000000"/>
              </a:solidFill>
              <a:latin typeface="Arial"/>
            </a:endParaRPr>
          </a:p>
        </p:txBody>
      </p:sp>
      <p:sp>
        <p:nvSpPr>
          <p:cNvPr id="557" name=""/>
          <p:cNvSpPr txBox="1"/>
          <p:nvPr/>
        </p:nvSpPr>
        <p:spPr>
          <a:xfrm>
            <a:off x="258840" y="1557000"/>
            <a:ext cx="8229600" cy="4367160"/>
          </a:xfrm>
          <a:prstGeom prst="rect">
            <a:avLst/>
          </a:prstGeom>
          <a:noFill/>
          <a:ln w="0">
            <a:noFill/>
          </a:ln>
        </p:spPr>
        <p:txBody>
          <a:bodyPr anchor="t">
            <a:normAutofit fontScale="63000"/>
          </a:bodyPr>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mlékszel erre az előző tananyagegységből?</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történik egyetlen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erc alatt az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nterneten.</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rengeteg </a:t>
            </a:r>
            <a:endParaRPr b="0" lang="en-US" sz="2800" spc="-1" strike="noStrike">
              <a:solidFill>
                <a:srgbClr val="000000"/>
              </a:solidFill>
              <a:latin typeface="Arial"/>
            </a:endParaRPr>
          </a:p>
          <a:p>
            <a:pPr marL="216000" indent="-216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nformáció!</a:t>
            </a:r>
            <a:endParaRPr b="0" lang="en-US" sz="2800" spc="-1" strike="noStrike">
              <a:solidFill>
                <a:srgbClr val="000000"/>
              </a:solidFill>
              <a:latin typeface="Arial"/>
            </a:endParaRPr>
          </a:p>
          <a:p>
            <a:pPr marL="216000" indent="-216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Rounded MT Bold"/>
              </a:rPr>
              <a:t>Forrás: </a:t>
            </a:r>
            <a:r>
              <a:rPr b="0" lang="en-GB" sz="1200" spc="-1" strike="noStrike">
                <a:solidFill>
                  <a:srgbClr val="000000"/>
                </a:solidFill>
                <a:latin typeface="Arial Rounded MT Bold"/>
              </a:rPr>
              <a:t>visualcapitalist.com</a:t>
            </a:r>
            <a:endParaRPr b="0" lang="en-US" sz="1200" spc="-1" strike="noStrike">
              <a:solidFill>
                <a:srgbClr val="000000"/>
              </a:solidFill>
              <a:latin typeface="Arial"/>
            </a:endParaRPr>
          </a:p>
          <a:p>
            <a:pPr marL="216000" indent="-216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16000" indent="-216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11640" y="213372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0508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Internetes információkezelés</a:t>
            </a:r>
            <a:endParaRPr b="0" lang="en-US" sz="3600" spc="-1" strike="noStrike">
              <a:solidFill>
                <a:srgbClr val="000000"/>
              </a:solidFill>
              <a:latin typeface="Arial"/>
            </a:endParaRPr>
          </a:p>
        </p:txBody>
      </p:sp>
      <p:sp>
        <p:nvSpPr>
          <p:cNvPr id="560" name=""/>
          <p:cNvSpPr txBox="1"/>
          <p:nvPr/>
        </p:nvSpPr>
        <p:spPr>
          <a:xfrm>
            <a:off x="409680" y="1413000"/>
            <a:ext cx="8229600" cy="4425840"/>
          </a:xfrm>
          <a:prstGeom prst="rect">
            <a:avLst/>
          </a:prstGeom>
          <a:noFill/>
          <a:ln w="0">
            <a:noFill/>
          </a:ln>
        </p:spPr>
        <p:txBody>
          <a:bodyPr anchor="t">
            <a:normAutofit fontScale="99000"/>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Hogyan tudsz megtalálni egy weboldalt, amit gyakran használsz?</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önyvjelzők és kedvencek segítenek abban, hogy megtaláljuk azokat az oldalakat, amiket gyakran használunk.</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böngészőben található egy csillag ikon: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történik akkor, ha a csillag ikonra kattintasz?</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attints az ikonra, ha azt szeretnéd, hogy a számítógéped emlékezzen a weboldalra a későbbiekben.</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625920"/>
            <a:ext cx="830160" cy="68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Gyakorlat 1</a:t>
            </a:r>
            <a:endParaRPr b="0" lang="en-US" sz="4000" spc="-1" strike="noStrike">
              <a:solidFill>
                <a:srgbClr val="000000"/>
              </a:solidFill>
              <a:latin typeface="Arial"/>
            </a:endParaRPr>
          </a:p>
        </p:txBody>
      </p:sp>
      <p:sp>
        <p:nvSpPr>
          <p:cNvPr id="563" name=""/>
          <p:cNvSpPr txBox="1"/>
          <p:nvPr/>
        </p:nvSpPr>
        <p:spPr>
          <a:xfrm>
            <a:off x="457200" y="126828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yisd meg a böngészőt , majd a Google-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d be, hogy „ mozifilmek” és a város nevét, ahol vagy, majd üsd le az</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r>
              <a:rPr b="0" lang="en-GB" sz="2800" spc="-1" strike="noStrike">
                <a:solidFill>
                  <a:srgbClr val="000000"/>
                </a:solidFill>
                <a:latin typeface="Arial Rounded MT Bold"/>
              </a:rPr>
              <a:t>Enter</a:t>
            </a:r>
            <a:r>
              <a:rPr b="0" lang="hu-HU" sz="2800" spc="-1" strike="noStrike">
                <a:solidFill>
                  <a:srgbClr val="000000"/>
                </a:solidFill>
                <a:latin typeface="Arial Rounded MT Bold"/>
              </a:rPr>
              <a:t>”-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yőzödj meg arról, hogy azt a weboldalt nyitottad meg, amit szerettél voln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d meg a csillag ikont a eszköztárban és add ezt a weboldalt a kedvencek közé.</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913120" y="1773360"/>
            <a:ext cx="33177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Gyakorlat 1</a:t>
            </a:r>
            <a:r>
              <a:rPr b="0" lang="en-GB" sz="4400" spc="-1" strike="noStrike">
                <a:solidFill>
                  <a:srgbClr val="000000"/>
                </a:solidFill>
                <a:latin typeface="Arial Rounded MT Bold"/>
              </a:rPr>
              <a:t> (</a:t>
            </a:r>
            <a:r>
              <a:rPr b="0" lang="hu-HU" sz="4400" spc="-1" strike="noStrike">
                <a:solidFill>
                  <a:srgbClr val="000000"/>
                </a:solidFill>
                <a:latin typeface="Arial Rounded MT Bold"/>
              </a:rPr>
              <a:t>folytatás</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Zárd be a böngészőt majd nyisd meg újra</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gtalálod ezt a weboldalt a könyvjelzők/kedvencek közt?</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ovábbi információ elérhető:</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önyvjelzőket tudod használni a Twitteren is:</a:t>
            </a:r>
            <a:endParaRPr b="0" lang="en-US" sz="2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11280" y="3860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3:22:14Z</dcterms:modified>
  <cp:revision>561</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