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3173-DDC7-45C1-8528-AE736B6241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34AF-5290-4245-920A-C1A1294363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5384-2DB3-4699-BED9-5D1F23EB2E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455D-778A-4241-A0C5-A540DADB8C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EC83D5-593C-44A8-8767-2B0BB0754A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9B967C-4829-4512-9D07-3B8EE64AF4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301454-CE55-49CA-AD3E-ACDE1E6A09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A9F6EA-699C-49DB-B497-EC231C8DF3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D06AF0-79F2-4488-BB0D-1DA909F421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3CADC6-DAED-435A-B6C8-1341A5271C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600DC8-2D32-4E5A-8D3E-08870D2AFE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9DE8E98-C790-480D-8625-A86F0E4D7E3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47FB6A-5664-40DD-A998-9E683F41844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7EB2BBC-C3C9-4BBA-9B95-2D8C124FED5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E16257-3E52-4C9C-9C3D-71CDE0F613A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BF5561-9F6D-45BD-946D-CFCA2D3F7C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B76942-22F3-4E8B-8CE1-774B9CB6C5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F1853C1-48D6-4921-9A63-9F74CE4B15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50B58E-54F6-418F-842A-30C1F5C35C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3CB35B-C90E-492A-B3C4-EA89866990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2B9311-7A57-482A-B1BE-6302A146FD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345EE4-F940-4B7D-BEFC-FFED86D546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5E0D20-507E-4931-8B34-CB1AC47CF36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457F620-9AA5-4533-8ED3-9E7C96BDD0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7BBE8EA-BD4A-4799-8DD2-F7DC8CF009F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5129029-FFE4-4432-B177-703D2D181C2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654BAC7-22D1-4C8A-ABD8-81B53ACA738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3402B3-12D3-4EAB-9E87-7258BE286B2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D21F83-AC0F-44D4-825D-D079FA9F0D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0AA833-F4B5-4AE8-8112-1B7748F52BD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8DEF512-13B2-44BD-8786-36D7A27AA2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4DAD746-6062-4947-B7A0-5969719830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46CC22-1ABE-4BD8-AD35-59A798562B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B30CEE-BD8C-4542-BB4B-536D81C19A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E8935D-C268-4011-A46B-145F3A5891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850FD1-499A-4AB3-BE92-DCDE6D02D7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B68815E-2F87-4114-93DC-263FD21CFC4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67EE38B-0752-4752-8E79-04720A9539E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9DAB53B-7482-4535-8EE7-BB9EFADDA7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7E26C0-BFCC-4EDA-8EA0-6FEFBFF736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9400F6-A829-4D08-B08E-814868E846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06A38DE-BCDF-4E52-A1F5-46302887E2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C605F2-66B3-46CC-9957-CD692C1443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978C5D-F60D-49C5-BE41-056D7473B3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91A8C6-EE17-4737-AF0C-54B2BF4093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C55FFE-7AEC-47BA-8CE1-D935F51764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E12C4FC-FC11-4F27-B87D-BE65567DA8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A02C385-A87C-4A0A-AE7A-033A90D24C4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306C4E5-ED57-4F60-9A6A-F290A5CBD53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BA130-55C8-4EF7-B4F8-988221A5F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415C8-B786-4891-9150-045754D7E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79C04-1D72-469F-AFD8-5C9CDDBD6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35E875-7BE7-478B-A853-B2A4DBFEE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2033B-6AC2-4950-A2E7-CE6E2C275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96E76-E5BA-4F00-BD00-C0494D799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79991-9335-4571-8E07-652222E64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D8089-7197-4423-8BEB-1F2699F68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C9C0D-3F77-44E3-B60D-76609D093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3B20B-96E2-4FC6-B6E2-878DA2630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F0B1EC-5CAC-402D-B322-D207386297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C5843-9103-44E0-B9F2-AE5BAE694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BB9C3CC-B33C-4F32-8C8B-DCF0AF16321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FDBAD1-5A81-4CC4-9987-3461CF4D27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930BF1-B332-4BF1-9BD9-98C79307E8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80E002-9896-45E0-AC5B-16EF26678A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84799D-CAA4-40E2-B185-CF9CFC855D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BA7D5A-3F8F-47C8-82D5-FFA87C2420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A66C46-7899-499E-9550-B84CF9C466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F50890-6653-4810-942D-9017A6BFAC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DFC497-D270-42CE-B43C-56995AB750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5D8FE8-35E8-4E0C-A358-7CE06C7378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0A2D46-1326-43E3-98B1-D443FE75230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D47182-0997-4377-B078-4C20096653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C7EE84-F34A-44C5-80E9-8A9C724AA3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24ACB1-4C99-404E-A001-292DE86690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614957-AB01-4A18-BE64-0B0672C871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356572-A07E-4DEA-A3CE-386D5A87DC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DDF987-26BF-4700-AF5E-62DCEC92AF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1AF139-C141-49CD-A2AB-2216454A35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5BC7DF-FE69-4807-91AB-A4CD450C63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3A6955-7DA8-4874-B8CE-93032ECE80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2A1239-359F-4906-8890-CA04FE4232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D96D90-C22F-47FE-8C3A-201969591E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35E01A-F1D8-4E48-B01D-9CFF8FF70D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3766E2-5670-40B2-A684-EAEBC8A25D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9E2D0B8-943D-4ADC-A832-59B718D732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52A785-222E-42AF-951B-D24F03988A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7B03E3-55F7-40C6-9125-17D02C1B5A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F427A5-1FDB-4C3B-997D-DAE8912E80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2F9B97-C485-48F9-A2EB-CF4FC53045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178356-7360-459D-9D32-30FCF3C0E6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56B460-907D-4102-90B4-798931CB29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521A8E-87D0-4FA1-B357-81D248D221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86DD4B-E695-42AE-97D8-B27F25091D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FCB3CC-C5C4-436A-A94B-47A808BEDC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CF15472-DA1A-4661-AC08-07CAA2E0C0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661FA8-17F0-42E3-998F-20A4CF8D66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C523917-6442-45E2-A28E-6477C6ACFAA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5BBCEB-8468-44B6-9B82-C8CCC2903B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2E1080-9A51-4A53-A855-A7C4560767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D1284B-3345-4968-A404-C121C0EAD9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74DCFA-B965-478E-80FE-4A7060E08A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C5F6BF-84B6-4C78-8A07-2B2C5B20D6A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D71538-80AA-4B2D-A0FE-1DF87D2301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5E29FC-A9B2-4E80-8F14-0E898C73D7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A6BE30-F51D-4294-B0B2-5668F08F62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E3EE63-5ADB-4EE6-AED9-55A3A59FA8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8D7E9A-A96D-4AA9-B643-90E621A0018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CAD1FEB-E35E-40C2-B280-A0CCFAB571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65D5992-E290-4FC9-B252-765A511356A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A061ED-B2F3-4D59-9F55-2A3D7E6D89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432C7A-2C58-49DF-9E9C-CF0705207C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3C76DD8-25AE-47E0-B68D-FF08DF91AE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5FD306-B087-488A-91FA-D42BF3C6F1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704FC3-467B-40B0-AA02-95AD806499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B826E5-BD9C-47C5-8EB9-02351AD0F8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DC9636-8EFE-45D6-81D3-2A2D11BFCE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950789-6F53-47F3-935A-7DB4AEA6DB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9F5648-D776-4633-A635-51A5DBF62F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0E2AC35-6434-4EE5-B917-3394172BCDA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F0EB702-3D7C-4072-B022-339A8085E39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C578708-0E1C-4D25-B9B4-427776B0CE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7F6A6F-3DA7-40B4-B259-27AB465D96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725BFD-A179-425F-8F73-1D0B54BD808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6712-5DF7-4945-93F6-12DF165647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644D-3DD5-4289-B563-7D62F26B7C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945E-3BB6-429F-B755-31A69A05FFA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5830-3F00-4F21-A1C5-70F6A7908D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814C-F226-4375-8F69-6C3D843A371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D020-DAED-44C0-A97B-7C3C76E3A6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8FB9-89E3-4AC9-9745-F54766C511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893D-4CB9-4B01-8188-DEF86AFA3A9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E148-7BC4-4A4B-9A0A-D81D580522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606A-C2FA-4A69-A996-329C0766252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információkezelés</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formáció és digitális műveltsé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ternetes dokumentumok</a:t>
            </a:r>
            <a:endParaRPr b="0" lang="en-US" sz="4400" spc="-1" strike="noStrike">
              <a:solidFill>
                <a:srgbClr val="000000"/>
              </a:solidFill>
              <a:latin typeface="Arial"/>
            </a:endParaRPr>
          </a:p>
        </p:txBody>
      </p:sp>
      <p:sp>
        <p:nvSpPr>
          <p:cNvPr id="569" name=""/>
          <p:cNvSpPr txBox="1"/>
          <p:nvPr/>
        </p:nvSpPr>
        <p:spPr>
          <a:xfrm>
            <a:off x="457200" y="1844640"/>
            <a:ext cx="8229600" cy="4176720"/>
          </a:xfrm>
          <a:prstGeom prst="rect">
            <a:avLst/>
          </a:prstGeom>
          <a:noFill/>
          <a:ln w="0">
            <a:noFill/>
          </a:ln>
        </p:spPr>
        <p:txBody>
          <a:bodyPr anchor="t">
            <a:normAutofit/>
          </a:bodyPr>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Az interneten írásos dokumentumok is találhatóak.</a:t>
            </a:r>
            <a:endParaRPr b="0" lang="en-US" sz="2300" spc="-1" strike="noStrike">
              <a:solidFill>
                <a:srgbClr val="000000"/>
              </a:solidFill>
              <a:latin typeface="Arial"/>
            </a:endParaRPr>
          </a:p>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Ezek lehetnek tájékoztató dokumentumok vagy sablonok is.</a:t>
            </a:r>
            <a:endParaRPr b="0" lang="en-US" sz="2300" spc="-1" strike="noStrike">
              <a:solidFill>
                <a:srgbClr val="000000"/>
              </a:solidFill>
              <a:latin typeface="Arial"/>
            </a:endParaRPr>
          </a:p>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öbb típusuk is van.</a:t>
            </a:r>
            <a:br>
              <a:rPr sz="2300"/>
            </a:br>
            <a:r>
              <a:rPr b="0" lang="hu-HU" sz="2300" spc="-1" strike="noStrike">
                <a:solidFill>
                  <a:srgbClr val="000000"/>
                </a:solidFill>
                <a:latin typeface="Arial Rounded MT Bold"/>
              </a:rPr>
              <a:t>PDF dokumentum:</a:t>
            </a:r>
            <a:endParaRPr b="0" lang="en-US" sz="2300" spc="-1" strike="noStrike">
              <a:solidFill>
                <a:srgbClr val="000000"/>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https://www.netliteracy.org/wp-content/uploads/2012/07/Basic-Internet-Skills.pdf </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Ezeket általában nem tudod szerkeszteni, de lehetséges nyomtatni, letölteni vagy menten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Dokumentum mentése az internetről</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hhoz, hogy nyomtatni tudj egy dokumentumot, csatlakoztatni kell a számítógépedet a nyomtatóhoz.</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PDF dokumentum letöltéséhez és mentéséhez a képen látható ikonokat szükséges használnod:</a:t>
            </a:r>
            <a:endParaRPr b="0" lang="en-US" sz="2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0000"/>
                </a:solidFill>
                <a:latin typeface="Arial Rounded MT Bold"/>
              </a:rPr>
              <a:t>Kattints ide a nyomtatáshoz</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0000"/>
                </a:solidFill>
                <a:latin typeface="Arial Rounded MT Bold"/>
              </a:rPr>
              <a:t>Kattints ide a mentéshez</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Rounded MT Bold"/>
              </a:rPr>
              <a:t>Ez is a Mentés ikon</a:t>
            </a:r>
            <a:endParaRPr b="0" lang="en-US" sz="1800" spc="-1" strike="noStrike">
              <a:solidFill>
                <a:srgbClr val="000000"/>
              </a:solidFill>
              <a:latin typeface="Arial"/>
            </a:endParaRPr>
          </a:p>
        </p:txBody>
      </p:sp>
      <p:sp>
        <p:nvSpPr>
          <p:cNvPr id="579" name="Straight Connector 5"/>
          <p:cNvSpPr/>
          <p:nvPr/>
        </p:nvSpPr>
        <p:spPr>
          <a:xfrm flipV="1">
            <a:off x="1608120" y="5656320"/>
            <a:ext cx="501840" cy="4104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47560" y="2376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 2</a:t>
            </a:r>
            <a:endParaRPr b="0" lang="en-US" sz="4000" spc="-1" strike="noStrike">
              <a:solidFill>
                <a:srgbClr val="000000"/>
              </a:solidFill>
              <a:latin typeface="Arial"/>
            </a:endParaRPr>
          </a:p>
        </p:txBody>
      </p:sp>
      <p:sp>
        <p:nvSpPr>
          <p:cNvPr id="581" name=""/>
          <p:cNvSpPr txBox="1"/>
          <p:nvPr/>
        </p:nvSpPr>
        <p:spPr>
          <a:xfrm>
            <a:off x="371520" y="1584000"/>
            <a:ext cx="8448480" cy="4437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ide a PDF dokumentumhoz:</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artsd az egeredet az oldal tetején ameddig ezt nem látod:</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nyíl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nts el a dokumentumot az asztalra.</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5122800" y="367344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2</a:t>
            </a:r>
            <a:br>
              <a:rPr sz="4400"/>
            </a:br>
            <a:r>
              <a:rPr b="0" lang="en-IE" sz="4400" spc="-1" strike="noStrike">
                <a:solidFill>
                  <a:srgbClr val="000000"/>
                </a:solidFill>
                <a:latin typeface="Arial Rounded MT Bold"/>
              </a:rPr>
              <a:t>(</a:t>
            </a:r>
            <a:r>
              <a:rPr b="0" lang="hu-HU" sz="4400" spc="-1" strike="noStrike">
                <a:solidFill>
                  <a:srgbClr val="000000"/>
                </a:solidFill>
                <a:latin typeface="Arial Rounded MT Bold"/>
              </a:rPr>
              <a:t>Folytatás)</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ek az ikonok jelennek meg az oldal jobb felső sarkában</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igen</a:t>
            </a:r>
            <a:r>
              <a:rPr b="0" lang="en-IE" sz="2800" spc="-1" strike="noStrike">
                <a:solidFill>
                  <a:srgbClr val="000000"/>
                </a:solidFill>
                <a:latin typeface="Arial Rounded MT Bold"/>
              </a:rPr>
              <a:t>, </a:t>
            </a:r>
            <a:r>
              <a:rPr b="0" lang="hu-HU" sz="2800" spc="-1" strike="noStrike">
                <a:solidFill>
                  <a:srgbClr val="000000"/>
                </a:solidFill>
                <a:latin typeface="Arial Rounded MT Bold"/>
              </a:rPr>
              <a:t>kattints 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Mentés másként” gomb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t követően a „Menté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omb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Rounded MT Bold"/>
              </a:rPr>
              <a:t>Mentés másként gom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mail-ek és csatolmányok</a:t>
            </a:r>
            <a:endParaRPr b="0" lang="en-US" sz="4400" spc="-1" strike="noStrike">
              <a:solidFill>
                <a:srgbClr val="000000"/>
              </a:solidFill>
              <a:latin typeface="Arial"/>
            </a:endParaRPr>
          </a:p>
        </p:txBody>
      </p:sp>
      <p:sp>
        <p:nvSpPr>
          <p:cNvPr id="592" name=""/>
          <p:cNvSpPr txBox="1"/>
          <p:nvPr/>
        </p:nvSpPr>
        <p:spPr>
          <a:xfrm>
            <a:off x="394920" y="1600200"/>
            <a:ext cx="8497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e-mail-ek információkat tartalmaznak és lehetnek csatolmányaik 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ilyen  gémkapocs ikon </a:t>
            </a:r>
            <a:r>
              <a:rPr b="0" lang="en-GB" sz="2800" spc="-1" strike="noStrike">
                <a:solidFill>
                  <a:srgbClr val="000000"/>
                </a:solidFill>
                <a:latin typeface="Arial Rounded MT Bold"/>
              </a:rPr>
              <a:t> </a:t>
            </a:r>
            <a:r>
              <a:rPr b="0" lang="hu-HU" sz="2800" spc="-1" strike="noStrike">
                <a:solidFill>
                  <a:srgbClr val="000000"/>
                </a:solidFill>
                <a:latin typeface="Arial Rounded MT Bold"/>
              </a:rPr>
              <a:t>jelzi a csatolmány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csatolmány lehet dokumentum, kép, amit menteni tudsz, így a későbbiekben is megtekinthet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alálsz olyan e-mail-t a beérkező leveleid közt, aminek va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nnan ismerted fe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3564000" y="2997360"/>
            <a:ext cx="619200" cy="51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mail-ek és csatolmányok</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nnek az e-mail-nek van csatolmánya:</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nnek az e-mail-nek nincs csatolmánya</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a:rPr>
              <a:t>Csatolmány ikon</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GB" sz="4400" spc="-1" strike="noStrike">
                <a:solidFill>
                  <a:srgbClr val="000000"/>
                </a:solidFill>
                <a:latin typeface="Arial Rounded MT Bold"/>
              </a:rPr>
              <a:t> 3 </a:t>
            </a:r>
            <a:endParaRPr b="0" lang="en-US" sz="4400" spc="-1" strike="noStrike">
              <a:solidFill>
                <a:srgbClr val="000000"/>
              </a:solidFill>
              <a:latin typeface="Arial"/>
            </a:endParaRPr>
          </a:p>
        </p:txBody>
      </p:sp>
      <p:sp>
        <p:nvSpPr>
          <p:cNvPr id="601" name=""/>
          <p:cNvSpPr txBox="1"/>
          <p:nvPr/>
        </p:nvSpPr>
        <p:spPr>
          <a:xfrm>
            <a:off x="457200" y="14400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yisd meg az e-mail fiókod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eress egy e-mail-t, aminek van csatolmány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yisd meg az e-mail-t és a csatolmányá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álaszd a csatolmány letöltése lehetősége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Ments el a csatolmány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az asztalra:</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5508720" y="4797360"/>
            <a:ext cx="3097080" cy="7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Fájlok és mappák</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Úgy tudod rendezni a dokumentumokat a számítógépeden, ahogyan rendeznéd az iratokat egy iratszekrényben.</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Létre tudsz hozni mappákat a számítógépeden, így könnyen megtalálhatod a dokumentumokat a későbbiekben vagy könnyedén informálódhatsz.</a:t>
            </a:r>
            <a:endParaRPr b="0" lang="en-US" sz="28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Fájlok és mappák kezelése</a:t>
            </a:r>
            <a:endParaRPr b="0" lang="en-US" sz="4400" spc="-1" strike="noStrike">
              <a:solidFill>
                <a:srgbClr val="000000"/>
              </a:solidFill>
              <a:latin typeface="Arial"/>
            </a:endParaRPr>
          </a:p>
        </p:txBody>
      </p:sp>
      <p:sp>
        <p:nvSpPr>
          <p:cNvPr id="607" name=""/>
          <p:cNvSpPr txBox="1"/>
          <p:nvPr/>
        </p:nvSpPr>
        <p:spPr>
          <a:xfrm>
            <a:off x="457200" y="1484280"/>
            <a:ext cx="8229600" cy="46087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ppákat tudsz létrehozni különböző tárggyal, névvel.</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Például, ha létrehozol egy „Autó” nevű mappát, ez tartalmazhatja a gépjárműadóval, vagy a biztosítással kapcsolatos dokumentumokat, másolatokat.</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Úgy gondolod szükséged lehet további mappák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IE" sz="4400" spc="-1" strike="noStrike">
                <a:solidFill>
                  <a:srgbClr val="000000"/>
                </a:solidFill>
                <a:latin typeface="Arial Rounded MT Bold"/>
              </a:rPr>
              <a:t>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zz létre egy mappát az asztalodon</a:t>
            </a:r>
            <a:r>
              <a:rPr b="0" lang="en-IE" sz="3000" spc="-1" strike="noStrike">
                <a:solidFill>
                  <a:srgbClr val="000000"/>
                </a:solidFill>
                <a:latin typeface="Arial Rounded MT Bold"/>
              </a:rPr>
              <a:t>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hu-HU" sz="3000" spc="-1" strike="noStrike">
                <a:solidFill>
                  <a:srgbClr val="000000"/>
                </a:solidFill>
                <a:latin typeface="Arial Rounded MT Bold"/>
              </a:rPr>
              <a:t>Kattints jobb egér gombbal.</a:t>
            </a: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22082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a menü fog megjelenni</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kitűzések</a:t>
            </a:r>
            <a:endParaRPr b="0" lang="en-US" sz="4400" spc="-1" strike="noStrike">
              <a:solidFill>
                <a:srgbClr val="000000"/>
              </a:solidFill>
              <a:latin typeface="Arial"/>
            </a:endParaRPr>
          </a:p>
        </p:txBody>
      </p:sp>
      <p:sp>
        <p:nvSpPr>
          <p:cNvPr id="546" name="PlaceHolder 2"/>
          <p:cNvSpPr>
            <a:spLocks noGrp="1"/>
          </p:cNvSpPr>
          <p:nvPr>
            <p:ph/>
          </p:nvPr>
        </p:nvSpPr>
        <p:spPr>
          <a:xfrm>
            <a:off x="457200" y="1417320"/>
            <a:ext cx="8229600" cy="47084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egység végére képes leszel:</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digitális információt meghatározni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digitális információt kezelni.</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sználni a könyvjelzőket és a kedvenceket az internete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nteni és mappába rendezni a dokumentumokat, fájlok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a:t>
            </a:r>
            <a:r>
              <a:rPr b="0" lang="en-IE" sz="4400" spc="-1" strike="noStrike">
                <a:solidFill>
                  <a:srgbClr val="000000"/>
                </a:solidFill>
                <a:latin typeface="Arial Rounded MT Bold"/>
              </a:rPr>
              <a:t>4 (</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attints az „Új”-ra</a:t>
            </a:r>
            <a:r>
              <a:rPr b="0" lang="en-IE" sz="3000" spc="-1" strike="noStrike">
                <a:solidFill>
                  <a:srgbClr val="000000"/>
                </a:solidFill>
                <a:latin typeface="Arial Rounded MT Bold"/>
              </a:rPr>
              <a:t> (</a:t>
            </a:r>
            <a:r>
              <a:rPr b="0" lang="hu-HU" sz="3000" spc="-1" strike="noStrike">
                <a:solidFill>
                  <a:srgbClr val="000000"/>
                </a:solidFill>
                <a:latin typeface="Arial Rounded MT Bold"/>
              </a:rPr>
              <a:t>a bal oldali gombot használd az egeren</a:t>
            </a:r>
            <a:r>
              <a:rPr b="0" lang="en-IE" sz="3000" spc="-1" strike="noStrike">
                <a:solidFill>
                  <a:srgbClr val="000000"/>
                </a:solidFill>
                <a:latin typeface="Arial Rounded MT Bold"/>
              </a:rPr>
              <a: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Egy másik menü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fog megjelenni.</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attints a „Mappa”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sorra a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menü tetejé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572000" y="2708280"/>
            <a:ext cx="4394160" cy="309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IE" sz="4400" spc="-1" strike="noStrike">
                <a:solidFill>
                  <a:srgbClr val="000000"/>
                </a:solidFill>
                <a:latin typeface="Arial Rounded MT Bold"/>
              </a:rPr>
              <a:t> 4</a:t>
            </a:r>
            <a:r>
              <a:rPr b="0" lang="en-IE" sz="4400" spc="-1" strike="noStrike">
                <a:solidFill>
                  <a:srgbClr val="000000"/>
                </a:solidFill>
                <a:latin typeface="Arial"/>
              </a:rPr>
              <a:t> </a:t>
            </a:r>
            <a:r>
              <a:rPr b="0" lang="hu-HU" sz="4400" spc="-1" strike="noStrike">
                <a:solidFill>
                  <a:srgbClr val="000000"/>
                </a:solidFill>
                <a:latin typeface="Arial Rounded MT Bold"/>
              </a:rPr>
              <a:t>(folytatás)</a:t>
            </a:r>
            <a:endParaRPr b="0" lang="en-US" sz="4400" spc="-1" strike="noStrike">
              <a:solidFill>
                <a:srgbClr val="000000"/>
              </a:solidFill>
              <a:latin typeface="Arial"/>
            </a:endParaRPr>
          </a:p>
        </p:txBody>
      </p:sp>
      <p:sp>
        <p:nvSpPr>
          <p:cNvPr id="618" name=""/>
          <p:cNvSpPr txBox="1"/>
          <p:nvPr/>
        </p:nvSpPr>
        <p:spPr>
          <a:xfrm>
            <a:off x="457200" y="1422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z az ikon fog megjelenn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vezd át a mappát „Gyakorlás” név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495160" y="53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4</a:t>
            </a:r>
            <a:r>
              <a:rPr b="0" lang="en-IE" sz="4400" spc="-1" strike="noStrike">
                <a:solidFill>
                  <a:srgbClr val="000000"/>
                </a:solidFill>
                <a:latin typeface="Arial Rounded MT Bold"/>
              </a:rPr>
              <a:t> (</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1" name=""/>
          <p:cNvSpPr txBox="1"/>
          <p:nvPr/>
        </p:nvSpPr>
        <p:spPr>
          <a:xfrm>
            <a:off x="324000" y="116532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úzd át a mappába azt a két dokumentumot amit a második és a harmadik feladatban mentettél e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második feladatban mentett dokumentumra, és tarts hosszan lenyomva az egér gombját</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hu-HU" sz="2400" spc="-1" strike="noStrike">
                <a:solidFill>
                  <a:srgbClr val="000000"/>
                </a:solidFill>
                <a:latin typeface="Arial Rounded MT Bold"/>
              </a:rPr>
              <a:t>Egy világos kék mező fog megjelenni a dokumentum körül</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yomd meg az egér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bal oldali gombjá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2" name="Picture 3" descr=""/>
          <p:cNvPicPr/>
          <p:nvPr/>
        </p:nvPicPr>
        <p:blipFill>
          <a:blip r:embed="rId1"/>
          <a:stretch/>
        </p:blipFill>
        <p:spPr>
          <a:xfrm>
            <a:off x="4356000" y="3160800"/>
            <a:ext cx="3384720" cy="292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4 </a:t>
            </a:r>
            <a:r>
              <a:rPr b="0" lang="en-IE" sz="4400" spc="-1" strike="noStrike">
                <a:solidFill>
                  <a:srgbClr val="000000"/>
                </a:solidFill>
                <a:latin typeface="Arial Rounded MT Bold"/>
              </a:rPr>
              <a:t>(</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4" name=""/>
          <p:cNvSpPr txBox="1"/>
          <p:nvPr/>
        </p:nvSpPr>
        <p:spPr>
          <a:xfrm>
            <a:off x="449280" y="140976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artsd lenyomva az egér bal oldalát, ameddig áthúzod a dokumentumot a „Gyakorlás” mappába, majd engedd el.</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találod a dokumentumot, ha a mappára kattintasz?</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smételd meg a feladatot a harmadik feladatban mentett dokumentummal.</a:t>
            </a:r>
            <a:endParaRPr b="0" lang="en-US" sz="2200" spc="-1" strike="noStrike">
              <a:solidFill>
                <a:srgbClr val="000000"/>
              </a:solidFill>
              <a:latin typeface="Arial"/>
            </a:endParaRPr>
          </a:p>
        </p:txBody>
      </p:sp>
      <p:pic>
        <p:nvPicPr>
          <p:cNvPr id="625" name="Picture 3" descr=""/>
          <p:cNvPicPr/>
          <p:nvPr/>
        </p:nvPicPr>
        <p:blipFill>
          <a:blip r:embed="rId1"/>
          <a:stretch/>
        </p:blipFill>
        <p:spPr>
          <a:xfrm>
            <a:off x="971640" y="2205000"/>
            <a:ext cx="2448000" cy="199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További mappák</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Létre tudsz hozni további mappákat a számítógép C meghajtóján </a:t>
            </a:r>
            <a:r>
              <a:rPr b="0" lang="en-IE" sz="3200" spc="-1" strike="noStrike">
                <a:solidFill>
                  <a:srgbClr val="000000"/>
                </a:solidFill>
                <a:latin typeface="Arial Rounded MT Bold"/>
              </a:rPr>
              <a:t>– </a:t>
            </a:r>
            <a:r>
              <a:rPr b="0" lang="hu-HU" sz="3200" spc="-1" strike="noStrike">
                <a:solidFill>
                  <a:srgbClr val="000000"/>
                </a:solidFill>
                <a:latin typeface="Arial Rounded MT Bold"/>
              </a:rPr>
              <a:t>de nem fogod látni ezeket a dokumentumokat a számítógéped asztalán amikor bekapcsolod a számítógépet.</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Itt egy Youtube videó arról, hogy ezt hogyan teheted meg:</a:t>
            </a: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Összegzés</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bben a tananyagegységben:</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nultuk mi a digitális információ.</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nultuk hogyan kezeljük a digitális információ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könyvjelzők és kedvencek</a:t>
            </a:r>
            <a:r>
              <a:rPr b="0" lang="en-GB" sz="2800" spc="-1" strike="noStrike">
                <a:solidFill>
                  <a:srgbClr val="000000"/>
                </a:solidFill>
                <a:latin typeface="Arial Rounded MT Bold"/>
              </a:rPr>
              <a:t>,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internetes dokumentumok és e-mail-ek </a:t>
            </a:r>
            <a:r>
              <a:rPr b="0" lang="hu-HU" sz="2800" spc="-1" strike="noStrike">
                <a:solidFill>
                  <a:srgbClr val="000000"/>
                </a:solidFill>
                <a:latin typeface="Arial Rounded MT Bold"/>
              </a:rPr>
              <a:t>	</a:t>
            </a:r>
            <a:r>
              <a:rPr b="0" lang="hu-HU" sz="2800" spc="-1" strike="noStrike">
                <a:solidFill>
                  <a:srgbClr val="000000"/>
                </a:solidFill>
                <a:latin typeface="Arial Rounded MT Bold"/>
              </a:rPr>
              <a:t>  csatolmányainak mentésé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dokumentumok mappába rendezésé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Mire lesz szükséged</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gy számítógépre, laptopra vagy tabletre, internetkapcsolatt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Digitális információ</a:t>
            </a:r>
            <a:endParaRPr b="0" lang="en-US" sz="4400" spc="-1" strike="noStrike">
              <a:solidFill>
                <a:srgbClr val="000000"/>
              </a:solidFill>
              <a:latin typeface="Arial"/>
            </a:endParaRPr>
          </a:p>
        </p:txBody>
      </p:sp>
      <p:sp>
        <p:nvSpPr>
          <p:cNvPr id="553" name=""/>
          <p:cNvSpPr txBox="1"/>
          <p:nvPr/>
        </p:nvSpPr>
        <p:spPr>
          <a:xfrm>
            <a:off x="457200" y="141912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információ egy olyan információ, amivel akkor találkozol, ha elektronikus eszközt használsz (számítógép, laptop…).</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Olykor az adat szót használjuk az információ szó helyet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információ lehet dokumentum, kép, fotó, zene, kép, vagy akár számok egy táblázatba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lálod ezeket a típusú dokumentumokat a számítógépe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hu-HU" sz="4400" spc="-1" strike="noStrike">
                <a:solidFill>
                  <a:srgbClr val="000000"/>
                </a:solidFill>
                <a:latin typeface="Arial Rounded MT Bold"/>
              </a:rPr>
              <a:t>Digitális információkezelés</a:t>
            </a:r>
            <a:endParaRPr b="0" lang="en-US" sz="4400" spc="-1" strike="noStrike">
              <a:solidFill>
                <a:srgbClr val="000000"/>
              </a:solidFill>
              <a:latin typeface="Arial"/>
            </a:endParaRPr>
          </a:p>
        </p:txBody>
      </p:sp>
      <p:sp>
        <p:nvSpPr>
          <p:cNvPr id="555" name=""/>
          <p:cNvSpPr txBox="1"/>
          <p:nvPr/>
        </p:nvSpPr>
        <p:spPr>
          <a:xfrm>
            <a:off x="457200" y="1915920"/>
            <a:ext cx="8229600" cy="410508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gy mennyiségű információ található az interneten, amit szükséges lehet kezelni.</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 digitális információ megtalálható az interneten, az e-mail fiókodban, vagy a számítógépeden, a tárolt dokumentumok köz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éhány információ hasznos lehet számodra, néhány nem </a:t>
            </a:r>
            <a:r>
              <a:rPr b="0" lang="en-GB" sz="3000" spc="-1" strike="noStrike">
                <a:solidFill>
                  <a:srgbClr val="000000"/>
                </a:solidFill>
                <a:latin typeface="Arial Rounded MT Bold"/>
              </a:rPr>
              <a:t>– </a:t>
            </a:r>
            <a:r>
              <a:rPr b="0" lang="hu-HU" sz="3000" spc="-1" strike="noStrike">
                <a:solidFill>
                  <a:srgbClr val="000000"/>
                </a:solidFill>
                <a:latin typeface="Arial Rounded MT Bold"/>
              </a:rPr>
              <a:t>te döntesz</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ternetes információkezelés</a:t>
            </a:r>
            <a:endParaRPr b="0" lang="en-US" sz="4400" spc="-1" strike="noStrike">
              <a:solidFill>
                <a:srgbClr val="000000"/>
              </a:solidFill>
              <a:latin typeface="Arial"/>
            </a:endParaRPr>
          </a:p>
        </p:txBody>
      </p:sp>
      <p:sp>
        <p:nvSpPr>
          <p:cNvPr id="557" name=""/>
          <p:cNvSpPr txBox="1"/>
          <p:nvPr/>
        </p:nvSpPr>
        <p:spPr>
          <a:xfrm>
            <a:off x="258840" y="1557000"/>
            <a:ext cx="8229600" cy="4367160"/>
          </a:xfrm>
          <a:prstGeom prst="rect">
            <a:avLst/>
          </a:prstGeom>
          <a:noFill/>
          <a:ln w="0">
            <a:noFill/>
          </a:ln>
        </p:spPr>
        <p:txBody>
          <a:bodyPr anchor="t">
            <a:normAutofit fontScale="63000"/>
          </a:bodyPr>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mlékszel erre az előző tananyagegységből?</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történik egyetlen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erc alatt az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nterneten.</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rengeteg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nformáció!</a:t>
            </a:r>
            <a:endParaRPr b="0" lang="en-US" sz="2800" spc="-1" strike="noStrike">
              <a:solidFill>
                <a:srgbClr val="000000"/>
              </a:solidFill>
              <a:latin typeface="Arial"/>
            </a:endParaRPr>
          </a:p>
          <a:p>
            <a:pPr marL="216000" indent="-216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Rounded MT Bold"/>
              </a:rPr>
              <a:t>Forrás: </a:t>
            </a:r>
            <a:r>
              <a:rPr b="0" lang="en-GB" sz="1200" spc="-1" strike="noStrike">
                <a:solidFill>
                  <a:srgbClr val="000000"/>
                </a:solidFill>
                <a:latin typeface="Arial Rounded MT Bold"/>
              </a:rPr>
              <a:t>visualcapitalist.com</a:t>
            </a:r>
            <a:endParaRPr b="0" lang="en-US" sz="12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11640" y="213372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0508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Internetes információkezelés</a:t>
            </a:r>
            <a:endParaRPr b="0" lang="en-US" sz="3600" spc="-1" strike="noStrike">
              <a:solidFill>
                <a:srgbClr val="000000"/>
              </a:solidFill>
              <a:latin typeface="Arial"/>
            </a:endParaRPr>
          </a:p>
        </p:txBody>
      </p:sp>
      <p:sp>
        <p:nvSpPr>
          <p:cNvPr id="560" name=""/>
          <p:cNvSpPr txBox="1"/>
          <p:nvPr/>
        </p:nvSpPr>
        <p:spPr>
          <a:xfrm>
            <a:off x="409680" y="1413000"/>
            <a:ext cx="8229600" cy="4425840"/>
          </a:xfrm>
          <a:prstGeom prst="rect">
            <a:avLst/>
          </a:prstGeom>
          <a:noFill/>
          <a:ln w="0">
            <a:noFill/>
          </a:ln>
        </p:spPr>
        <p:txBody>
          <a:bodyPr anchor="t">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Hogyan tudsz megtalálni egy weboldalt, amit gyakran használsz?</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önyvjelzők és kedvencek segítenek abban, hogy megtaláljuk azokat az oldalakat, amiket gyakran használunk.</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böngészőben található egy csillag ikon: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történik akkor, ha a csillag ikonra kattintasz?</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ikonra, ha azt szeretnéd, hogy a számítógéped emlékezzen a weboldalra a későbbiekben.</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625920"/>
            <a:ext cx="830160" cy="68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 1</a:t>
            </a:r>
            <a:endParaRPr b="0" lang="en-US" sz="4000" spc="-1" strike="noStrike">
              <a:solidFill>
                <a:srgbClr val="000000"/>
              </a:solidFill>
              <a:latin typeface="Arial"/>
            </a:endParaRPr>
          </a:p>
        </p:txBody>
      </p:sp>
      <p:sp>
        <p:nvSpPr>
          <p:cNvPr id="563" name=""/>
          <p:cNvSpPr txBox="1"/>
          <p:nvPr/>
        </p:nvSpPr>
        <p:spPr>
          <a:xfrm>
            <a:off x="457200" y="126828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d meg a böngészőt , majd a Google-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d be, hogy „ mozifilmek” és a város nevét, ahol vagy, majd üsd le az</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r>
              <a:rPr b="0" lang="en-GB" sz="2800" spc="-1" strike="noStrike">
                <a:solidFill>
                  <a:srgbClr val="000000"/>
                </a:solidFill>
                <a:latin typeface="Arial Rounded MT Bold"/>
              </a:rPr>
              <a:t>Enter</a:t>
            </a:r>
            <a:r>
              <a:rPr b="0" lang="hu-HU" sz="2800" spc="-1" strike="noStrike">
                <a:solidFill>
                  <a:srgbClr val="000000"/>
                </a:solidFill>
                <a:latin typeface="Arial Rounded MT Bold"/>
              </a:rPr>
              <a:t>”-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yőzödj meg arról, hogy azt a weboldalt nyitottad meg, amit szerettél voln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d meg a csillag ikont a eszköztárban és add ezt a weboldalt a kedvencek közé.</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913120" y="1773360"/>
            <a:ext cx="33177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1</a:t>
            </a:r>
            <a:r>
              <a:rPr b="0" lang="en-GB" sz="4400" spc="-1" strike="noStrike">
                <a:solidFill>
                  <a:srgbClr val="000000"/>
                </a:solidFill>
                <a:latin typeface="Arial Rounded MT Bold"/>
              </a:rPr>
              <a:t> (</a:t>
            </a:r>
            <a:r>
              <a:rPr b="0" lang="hu-HU" sz="4400" spc="-1" strike="noStrike">
                <a:solidFill>
                  <a:srgbClr val="000000"/>
                </a:solidFill>
                <a:latin typeface="Arial Rounded MT Bold"/>
              </a:rPr>
              <a:t>folytatás</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Zárd be a böngészőt majd nyisd meg újr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lálod ezt a weboldalt a könyvjelzők/kedvencek közt?</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ovábbi információ elérhető:</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önyvjelzőket tudod használni a Twitteren is:</a:t>
            </a: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11280" y="3860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3:22:14Z</dcterms:modified>
  <cp:revision>561</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