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940FFD-CD7A-42FC-82A5-9CB3F349D8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0FD2B84-B674-401F-8D0A-2205E0FB50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65A890-3370-438E-937B-D5607684C7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496F3C-F28E-4D0C-A112-9A416A365B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5EB7AF-8E3D-42A9-8CA8-048B8D072F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3D7258-C324-4A33-A1FE-4D05D978F1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CC21F5-8482-49B4-BD0B-85AA86865B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B067435-59C0-4581-A32E-0CCC48BB468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3B372D-7D57-49B3-8AF7-2AE14E3C80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7DE9CBD-4EB6-4BD2-B828-F4DF4D22549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0AB481-8F18-4B08-A430-05503DCAA6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B0D075-68AC-42AC-B565-CD6DDB2723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E56BC01-25A8-4FFD-99B5-0D6EC0F9124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E61431-94A0-4D7A-9A79-0E366C5CCD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A1F55F-5115-4A3B-BD8D-DD053F72CD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B4BC3C-D7E6-4DE0-885F-3EB085FFCB4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E465E2-F738-4496-B412-E4E3A403464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43EEE3-200A-44E7-8F18-33E16AB635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7338DE-9D09-46C7-A846-86D32B53E1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93E6512-2456-48D7-9C53-E6C2F067CA8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C0E7BF0-4B7C-43D4-9034-8E6E80973DF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1CE30FF-A981-4ACC-8C0D-D659BD71C90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26F966-E405-4AC8-8F5F-91F1084B7E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1ECDCF3-696C-4FEB-88C7-B1A2B87E606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41E87A-9A5F-4480-A2AD-0FD47777823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364C47B-A998-44EB-AFEA-276695EAC9B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EF88A8D-1006-4691-B0D3-65309DF8D9C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8BC38A-7682-45D5-8B81-F1ABCF5082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6334523-41A7-4B2E-9E05-BE3FDC97B1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0F2794-11A3-41A2-B4F0-A5D82668EA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02F1388-5446-4576-9295-E789B1FA34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E0408B1-9F31-4C41-9E44-6B20A3C6F08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02E57AD-F69D-4359-926C-BC63310AC9C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D95F6F5-FDFB-4410-A247-0353205A98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34B01EE-7FE2-462C-9C44-5AE533361A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5BEC38-30C8-4218-906C-4ED0C781E9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2A45BF9-E21A-4DC0-9F47-0B00035AF0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477E3BA-CCD6-4B4D-A2A7-DFA4FE0E6C7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BCC877B-077F-4E25-B41B-B0697951BC0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961B36-FE3A-4D27-B5AF-00C22553BD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11E2E7-DF41-4719-81FC-31F0FBFB66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F981C6-2EEC-423A-A71D-1C76324A339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5E07F9-C275-46F5-8984-9130D7CA2D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CD0E3B5-E282-4B2C-AA67-730549ACF4F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54210CD-E688-4474-A993-E7B45774649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1710D8-B33A-4AC3-8DA3-0AA2F42BB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8DA1F-8602-4324-8942-26B0184C6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9853F-C201-4CE2-A517-1AB86F668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51AFA-154B-4618-A00B-384F4EE75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2AB94-807D-4948-9622-79720B9D0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B6FC0-B57A-4FC3-AD42-F60573B9B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5740D-11DC-44D9-8770-23AE1540C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6B4B8-79DD-428E-9373-79CDE6032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2CBF6-99C4-432E-AC40-F4510E3D7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564D2-38F5-4B0B-A224-22901CE96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4DFB8-DEB4-4118-8D81-F9E3C4FC0D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CE8E1-536D-438A-AF39-A65AB30234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989E53-EA2A-482E-ACE8-CA243D6D96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80FEDD-9CBD-4E0B-995B-57A3BFAFB0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6D5A21-5A10-4C68-90C1-3BA00755AC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9E03AA-5CD3-47CD-AA0B-49CE3FCD12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946654-42FA-4244-A196-8297D02490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6A7A4B-F7FE-439E-B71E-291E26CCA5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0AE1B8-426E-4443-9C5B-1218AA1BB1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EFDD2D-A2D5-42C3-9FA6-CAF2D22D7F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0C6C73-1711-42E5-87FF-FB0620A46E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91372A-8857-4C00-A98A-4770931A62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B7C9B6-D659-4606-A86E-3F79315E50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E4A3C2-ABA0-4AAE-9B20-8B32FD83B6A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C7A186-FDE2-47F8-B6FD-3C45783CAA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591506-4433-4919-8D19-5463809568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A380EA-B711-4B88-80B6-D0E358FB93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32D746-AAA7-4401-8BB8-7ADFB0B60B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08C07E-C65C-4A61-9BA4-E963FB9E2A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BE280B-E11B-4481-9671-D5AC2CF1DA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102A2C-67B9-4BA8-A24A-B76465B02A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5E69D5-6630-42EB-B07E-8CCADCA09F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EAACA4-17A0-4782-BE22-4390936FC5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0BDB95-D012-4FE6-A0B8-8CB44B5132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1EB920-D298-4E60-AB57-F5FC664E20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6822B52-0690-49BF-8F30-67EB686ADF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29C6CB-781E-41CE-8DF3-9E47B430384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0FEE29-149A-4CB7-B5F0-A685ADE232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4915C9-23F3-4C8D-840B-76E800DB6C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946FF7-A26F-4855-94D9-C262AF5312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BEDF2C-E42C-4D2E-8967-93D1A5EDB7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CEA8BD-7E4D-40A9-AE2F-BBB01CE7CF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CE9847-19FE-498D-BD28-9E7C12BF82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DDA845-139B-4305-9D6D-DF7DB0BD67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EF313C-DA02-4A5C-9CAF-9F54013BCE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28482B-8F3B-42B5-BCCD-F7D30BE46D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9C59BBD-7D85-4DB0-84FC-8E3910BF909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E6A14B-1AB5-43A9-BFDF-B70DA3A6180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1B5B0B-ACA6-4BD7-87A0-DA12DA89A9D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6FEAF7-E30B-43DC-BCD6-8270CB7D7A8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1F88D0-DD24-489C-AB58-CBE5776B30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2E245F-8380-48F2-B966-ABE9901B64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BD3E88-B1A2-4216-B47E-5892E03C6D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D43E40-D7D6-4A4E-98E3-97651D136B7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878150-F4A0-4542-BFD3-32E71D62E8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DEE069-0958-41A3-98C8-9BE13BE13B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24E0E0-B258-4FF0-A01C-37D98CA10FC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D7B16B-E02D-4B89-A34E-A28EB78D2E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C8A0C89-D53F-471A-9CD6-82E8A4976D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AECAA15-AC2E-4937-8011-DC480CE58F3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8DF4D7B-7676-4243-A90C-FA162EC01EB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3920F63-BFB4-4576-A55E-92FD5F7F57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BAD0E8-DC58-41AF-808E-AFAA6ABF3E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0FDCC1-3688-4BE1-BCBE-658837D0CA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E6785E-DEB4-455B-BA46-EE68FB95244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7EAC800-86A9-42D3-BA04-A98E4BEE48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D84B39-EA6D-463A-86FF-8CFC39E1DB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0D5742-4D9A-4EC5-AFB4-E33544DD11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80F4F5-D097-4AC1-8471-EE465DF18F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5675DCB-4823-4CAA-89B8-B584BDB5421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EA1D831-A417-45F2-999D-291573D8D9F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E6FD880-1A43-4278-B3C5-24ADC721F4F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27A242E-DA6E-4B77-97D5-534898FB3A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E9CA38-2C9D-4C7C-A9AB-1C16AA66AE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05F6D6-6DD1-49FB-B9DD-994C5C6B2F7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2C35-3E6C-4FF5-A143-58F2BD92D4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4AEB-AFA2-4B65-B5CD-A785D6E590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C6A9-27A0-43E0-BAFD-0F3F557CB5F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4733-9B8F-450B-B0C6-53D8D80D59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CD4C-2BB6-49CC-99F8-736F7A7BD9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F465-6235-4408-AD2F-3EE4F99119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90F4-60EF-4EA2-B6F0-DA80A4FB84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5F24-0369-4888-B016-5DC52658FA2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5BC4-4D2F-4A14-8497-366F4E2EA40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BC6E-B502-4090-A080-075113DF1C5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számítógép használat alapjai</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dat és információ ismerete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30280" y="274320"/>
            <a:ext cx="512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z egér</a:t>
            </a:r>
            <a:endParaRPr b="0" lang="en-US" sz="36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ost tekintsd meg a következő 25 perces videó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z egér használatának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apvető ismereteirő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 hardver?</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ámítógép fizikailag megfogható részeinek összessége, illetve kiegészítő egységei (pl. monitor, egér, billentyűze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a:t>
            </a:r>
            <a:r>
              <a:rPr b="0" lang="hu-HU" sz="2400" spc="-1" strike="noStrike">
                <a:solidFill>
                  <a:srgbClr val="000000"/>
                </a:solidFill>
                <a:latin typeface="Arial Rounded MT Bold"/>
              </a:rPr>
              <a:t>Billentyűzet és egér</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 szoftver?</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oftvernek a számítógépek memóri-ájában elhelyezkedő, azokat működtető programokat nevezzük. </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 olyan számítógépet veszel, amelyre egyetlen szoftver sincs feltöltve, akkor azt a számítógépet semmire sem tudod majd használni! Telepíts szoftvereket a számítógépedre, hogy azt igényeidnek megfelelően tudd haszná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268280"/>
            <a:ext cx="8515440" cy="48974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oftverek két típusát különböztetjük meg: felhasználói programokat és operációs rendszereke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Arial Rounded MT Bold"/>
              </a:rPr>
              <a:t>Felhasználói programo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elhasználói programok speciális feladatok ellátására alkalmas szoftverek. Léteznek szövegek szerkesztésére alkalmas programok, táblázatok létrehozására alkalmas programok, stb.</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Példák felhasználói programokra: Microsoft Word (szövegek szerkesztésére alkalmas), Microsoft Excel (táblázatok létrehozása alkalmas), Google Chrome (internetes böngészésre alkalmas).</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Szoftver típusok</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537920"/>
            <a:ext cx="8353440" cy="419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Oper</a:t>
            </a:r>
            <a:r>
              <a:rPr b="0" lang="hu-HU" sz="2800" spc="-1" strike="noStrike" u="sng">
                <a:solidFill>
                  <a:srgbClr val="000000"/>
                </a:solidFill>
                <a:uFillTx/>
                <a:latin typeface="Arial Rounded MT Bold"/>
              </a:rPr>
              <a:t>ációs rendszer</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legtöbb felhasználói program nem képes közvetlen működésre a hardverrel, szükséges egy alapprogram, amely közvetlenül kezeli a hardvert, illetve egységes környezetet biztosít a számítógépen futtatandó programoknak.</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az alapprogram az operációs rendszer, mely összeköti a hardvert a felhasználói programokkal. </a:t>
            </a:r>
            <a:endParaRPr b="0" lang="en-US" sz="2800" spc="-1" strike="noStrike">
              <a:solidFill>
                <a:srgbClr val="000000"/>
              </a:solidFill>
              <a:latin typeface="Arial"/>
            </a:endParaRPr>
          </a:p>
        </p:txBody>
      </p:sp>
      <p:sp>
        <p:nvSpPr>
          <p:cNvPr id="577"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Szoftver típusok</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ea typeface="Times New Roman"/>
              </a:rPr>
              <a:t>Hard</a:t>
            </a:r>
            <a:r>
              <a:rPr b="1" lang="hu-HU" sz="1600" spc="-1" strike="noStrike">
                <a:solidFill>
                  <a:srgbClr val="000000"/>
                </a:solidFill>
                <a:latin typeface="Arial Rounded MT Bold"/>
                <a:ea typeface="Times New Roman"/>
              </a:rPr>
              <a:t>v</a:t>
            </a:r>
            <a:r>
              <a:rPr b="1" lang="en-IE" sz="1600" spc="-1" strike="noStrike">
                <a:solidFill>
                  <a:srgbClr val="000000"/>
                </a:solidFill>
                <a:latin typeface="Arial Rounded MT Bold"/>
                <a:ea typeface="Times New Roman"/>
              </a:rPr>
              <a:t>e</a:t>
            </a:r>
            <a:r>
              <a:rPr b="1" lang="hu-HU" sz="1600" spc="-1" strike="noStrike">
                <a:solidFill>
                  <a:srgbClr val="000000"/>
                </a:solidFill>
                <a:latin typeface="Arial Rounded MT Bold"/>
                <a:ea typeface="Times New Roman"/>
              </a:rPr>
              <a:t>r</a:t>
            </a:r>
            <a:r>
              <a:rPr b="1" lang="en-IE" sz="1600" spc="-1" strike="noStrike">
                <a:solidFill>
                  <a:srgbClr val="000000"/>
                </a:solidFill>
                <a:latin typeface="Arial Rounded MT Bold"/>
                <a:ea typeface="Times New Roman"/>
              </a:rPr>
              <a:t> (</a:t>
            </a:r>
            <a:r>
              <a:rPr b="1" lang="hu-HU" sz="1600" spc="-1" strike="noStrike">
                <a:solidFill>
                  <a:srgbClr val="000000"/>
                </a:solidFill>
                <a:latin typeface="Arial Rounded MT Bold"/>
                <a:ea typeface="Times New Roman"/>
              </a:rPr>
              <a:t>számítógép</a:t>
            </a:r>
            <a:r>
              <a:rPr b="1" lang="en-IE" sz="1600" spc="-1" strike="noStrike">
                <a:solidFill>
                  <a:srgbClr val="000000"/>
                </a:solidFill>
                <a:latin typeface="Arial Rounded MT Bold"/>
                <a:ea typeface="Times New Roman"/>
              </a:rPr>
              <a:t>) </a:t>
            </a:r>
            <a:endParaRPr b="0" lang="en-US" sz="1600" spc="-1" strike="noStrike">
              <a:solidFill>
                <a:srgbClr val="000000"/>
              </a:solidFill>
              <a:latin typeface="Arial"/>
            </a:endParaRPr>
          </a:p>
        </p:txBody>
      </p:sp>
      <p:sp>
        <p:nvSpPr>
          <p:cNvPr id="579" name="Text Box 18"/>
          <p:cNvSpPr/>
          <p:nvPr/>
        </p:nvSpPr>
        <p:spPr>
          <a:xfrm>
            <a:off x="2195640" y="4356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ea typeface="Times New Roman"/>
              </a:rPr>
              <a:t>Operációs rendszer</a:t>
            </a:r>
            <a:r>
              <a:rPr b="1" lang="hu-HU" sz="1600" spc="-1" strike="noStrike">
                <a:solidFill>
                  <a:srgbClr val="000000"/>
                </a:solidFill>
                <a:latin typeface="Arial Rounded MT Bold"/>
                <a:ea typeface="Times New Roman"/>
              </a:rPr>
              <a:t> </a:t>
            </a:r>
            <a:r>
              <a:rPr b="1" lang="en-IE" sz="1600" spc="-1" strike="noStrike">
                <a:solidFill>
                  <a:srgbClr val="000000"/>
                </a:solidFill>
                <a:latin typeface="Arial Rounded MT Bold"/>
                <a:ea typeface="Times New Roman"/>
              </a:rPr>
              <a:t>(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ea typeface="Times New Roman"/>
              </a:rPr>
              <a:t>Felhasználói programok </a:t>
            </a:r>
            <a:r>
              <a:rPr b="1" lang="en-IE" sz="1600" spc="-1" strike="noStrike">
                <a:solidFill>
                  <a:srgbClr val="000000"/>
                </a:solidFill>
                <a:latin typeface="Arial Rounded MT Bold"/>
                <a:ea typeface="Times New Roman"/>
              </a:rPr>
              <a:t>(Word, Excel</a:t>
            </a:r>
            <a:r>
              <a:rPr b="1" lang="hu-HU" sz="1600" spc="-1" strike="noStrike">
                <a:solidFill>
                  <a:srgbClr val="000000"/>
                </a:solidFill>
                <a:latin typeface="Arial Rounded MT Bold"/>
                <a:ea typeface="Times New Roman"/>
              </a:rPr>
              <a:t>, stb.</a:t>
            </a:r>
            <a:r>
              <a:rPr b="1" lang="en-IE" sz="1600" spc="-1" strike="noStrike">
                <a:solidFill>
                  <a:srgbClr val="000000"/>
                </a:solidFill>
                <a:latin typeface="Arial Rounded MT Bold"/>
                <a:ea typeface="Times New Roman"/>
              </a:rPr>
              <a:t>)</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431640" y="1641240"/>
            <a:ext cx="828072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számítógép alapprogramja </a:t>
            </a:r>
            <a:r>
              <a:rPr b="0" lang="en-IE" sz="2800" spc="-1" strike="noStrike">
                <a:solidFill>
                  <a:srgbClr val="000000"/>
                </a:solidFill>
                <a:latin typeface="Arial Rounded MT Bold"/>
              </a:rPr>
              <a:t>az operációs rendszer, mely összeköti a hardvert a felhasználói programokkal. </a:t>
            </a:r>
            <a:endParaRPr b="0" lang="en-US" sz="2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ációs rendsz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Rounded MT Bold"/>
              </a:rPr>
              <a:t>Összefoglalás</a:t>
            </a:r>
            <a:endParaRPr b="0" lang="en-US" sz="4400" spc="-1" strike="noStrike">
              <a:solidFill>
                <a:srgbClr val="000000"/>
              </a:solidFill>
              <a:latin typeface="Arial"/>
            </a:endParaRPr>
          </a:p>
        </p:txBody>
      </p:sp>
      <p:sp>
        <p:nvSpPr>
          <p:cNvPr id="589" name=""/>
          <p:cNvSpPr txBox="1"/>
          <p:nvPr/>
        </p:nvSpPr>
        <p:spPr>
          <a:xfrm>
            <a:off x="457200" y="1417320"/>
            <a:ext cx="8229600" cy="46753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épzési egység végére megtanulta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e- és kikapcsolni a számítógépe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hardver és a szoftver jelentésé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agabiztosan használni az egere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agabiztosan használni a billentyűzetet</a:t>
            </a:r>
            <a:endParaRPr b="0" lang="en-US" sz="24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 képzés során elsajátítható ismeretek</a:t>
            </a:r>
            <a:endParaRPr b="0" lang="en-US" sz="4000" spc="-1" strike="noStrike">
              <a:solidFill>
                <a:srgbClr val="000000"/>
              </a:solidFill>
              <a:latin typeface="Arial"/>
            </a:endParaRPr>
          </a:p>
        </p:txBody>
      </p:sp>
      <p:sp>
        <p:nvSpPr>
          <p:cNvPr id="539" name="PlaceHolder 2"/>
          <p:cNvSpPr>
            <a:spLocks noGrp="1"/>
          </p:cNvSpPr>
          <p:nvPr>
            <p:ph/>
          </p:nvPr>
        </p:nvSpPr>
        <p:spPr>
          <a:xfrm>
            <a:off x="287280" y="1916280"/>
            <a:ext cx="8569440" cy="3921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i egység végére megtanulod:</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e- és kikapcsolni a számítógép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hardver és a szoftver jelentésé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gabiztosan használni az eger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gabiztosan használni a billentyűzetet</a:t>
            </a:r>
            <a:endParaRPr b="0" lang="en-US" sz="3200" spc="-1" strike="noStrike">
              <a:solidFill>
                <a:srgbClr val="000000"/>
              </a:solidFill>
              <a:latin typeface="Arial"/>
            </a:endParaRPr>
          </a:p>
          <a:p>
            <a:pPr marL="8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re lesz szükségem ehhez a képzéshez?</a:t>
            </a:r>
            <a:endParaRPr b="0" lang="en-US" sz="3600" spc="-1" strike="noStrike">
              <a:solidFill>
                <a:srgbClr val="000000"/>
              </a:solidFill>
              <a:latin typeface="Arial"/>
            </a:endParaRPr>
          </a:p>
        </p:txBody>
      </p:sp>
      <p:sp>
        <p:nvSpPr>
          <p:cNvPr id="541" name=""/>
          <p:cNvSpPr txBox="1"/>
          <p:nvPr/>
        </p:nvSpPr>
        <p:spPr>
          <a:xfrm>
            <a:off x="250920" y="1557000"/>
            <a:ext cx="8277120" cy="4452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ámítógép, laptop, tablet, vagy okostelefon</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735280" y="-4176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evezetés: a számítógép</a:t>
            </a:r>
            <a:endParaRPr b="0" lang="en-US" sz="3200" spc="-1" strike="noStrike">
              <a:solidFill>
                <a:srgbClr val="000000"/>
              </a:solidFill>
              <a:latin typeface="Arial"/>
            </a:endParaRPr>
          </a:p>
        </p:txBody>
      </p:sp>
      <p:sp>
        <p:nvSpPr>
          <p:cNvPr id="547" name=""/>
          <p:cNvSpPr txBox="1"/>
          <p:nvPr/>
        </p:nvSpPr>
        <p:spPr>
          <a:xfrm>
            <a:off x="323640" y="1412640"/>
            <a:ext cx="8351640" cy="431964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Asztal az első munkafelület a számítógép bekapcsolását majd az operációs rendszer betöltését követőe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Start menü a képernyő bal alsó sarkában, az úgynevezett Tálcán található. A Start menüből érhető el a számítógép minden funkciója.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álcának nevezzük a képernyő alján húzódó (általában szürke színű) területet. A Tálcán számos Ikon található.</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konok: az Asztalon található kis képek. Az Ikonok a programok parancsikonjai. Megnyitni az Ikonokat úgy tudod, hogy kétszer rájuk kattintasz az egér bal gombjáv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39640" y="549000"/>
            <a:ext cx="656892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számítógép be- és kikapcsolása</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Tekintsd meg a következő </a:t>
            </a:r>
            <a:r>
              <a:rPr b="1" lang="en-IE" sz="3200" spc="-1" strike="noStrike">
                <a:solidFill>
                  <a:srgbClr val="000000"/>
                </a:solidFill>
                <a:latin typeface="Arial"/>
              </a:rPr>
              <a:t>vide</a:t>
            </a:r>
            <a:r>
              <a:rPr b="1" lang="hu-HU" sz="3200" spc="-1" strike="noStrike">
                <a:solidFill>
                  <a:srgbClr val="000000"/>
                </a:solidFill>
                <a:latin typeface="Arial"/>
              </a:rPr>
              <a:t>ó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Hogyan kapcsold be és ki a számítógéped?</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a:t>
            </a:r>
            <a:r>
              <a:rPr b="1" lang="hu-HU" sz="4000" spc="-1" strike="noStrike">
                <a:solidFill>
                  <a:srgbClr val="000000"/>
                </a:solidFill>
                <a:latin typeface="Arial Rounded MT Bold"/>
              </a:rPr>
              <a:t>konok</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Microsoft Word </a:t>
            </a:r>
            <a:r>
              <a:rPr b="0" lang="hu-HU" sz="2800" spc="-1" strike="noStrike">
                <a:solidFill>
                  <a:srgbClr val="000000"/>
                </a:solidFill>
                <a:latin typeface="Arial Rounded MT Bold"/>
              </a:rPr>
              <a:t>iko</a:t>
            </a:r>
            <a:r>
              <a:rPr b="0" lang="en-IE" sz="2800" spc="-1" strike="noStrike">
                <a:solidFill>
                  <a:srgbClr val="000000"/>
                </a:solidFill>
                <a:latin typeface="Arial Rounded MT Bold"/>
              </a:rPr>
              <a:t>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lektronikus levél (</a:t>
            </a:r>
            <a:r>
              <a:rPr b="0" lang="en-IE" sz="2800" spc="-1" strike="noStrike">
                <a:solidFill>
                  <a:srgbClr val="000000"/>
                </a:solidFill>
                <a:latin typeface="Arial Rounded MT Bold"/>
              </a:rPr>
              <a:t>E</a:t>
            </a:r>
            <a:r>
              <a:rPr b="0" lang="hu-HU" sz="2800" spc="-1" strike="noStrike">
                <a:solidFill>
                  <a:srgbClr val="000000"/>
                </a:solidFill>
                <a:latin typeface="Arial Rounded MT Bold"/>
              </a:rPr>
              <a:t>-</a:t>
            </a:r>
            <a:r>
              <a:rPr b="0" lang="en-IE" sz="2800" spc="-1" strike="noStrike">
                <a:solidFill>
                  <a:srgbClr val="000000"/>
                </a:solidFill>
                <a:latin typeface="Arial Rounded MT Bold"/>
              </a:rPr>
              <a:t>mail</a:t>
            </a:r>
            <a:r>
              <a:rPr b="0" lang="hu-HU" sz="2800" spc="-1" strike="noStrike">
                <a:solidFill>
                  <a:srgbClr val="000000"/>
                </a:solidFill>
                <a:latin typeface="Arial Rounded MT Bold"/>
              </a:rPr>
              <a:t>) ik</a:t>
            </a:r>
            <a:r>
              <a:rPr b="0" lang="en-IE" sz="2800" spc="-1" strike="noStrike">
                <a:solidFill>
                  <a:srgbClr val="000000"/>
                </a:solidFill>
                <a:latin typeface="Arial Rounded MT Bold"/>
              </a:rPr>
              <a:t>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nternet</a:t>
            </a:r>
            <a:r>
              <a:rPr b="0" lang="hu-HU" sz="2800" spc="-1" strike="noStrike">
                <a:solidFill>
                  <a:srgbClr val="000000"/>
                </a:solidFill>
                <a:latin typeface="Arial Rounded MT Bold"/>
              </a:rPr>
              <a:t> ik</a:t>
            </a:r>
            <a:r>
              <a:rPr b="0" lang="en-IE" sz="2800" spc="-1" strike="noStrike">
                <a:solidFill>
                  <a:srgbClr val="000000"/>
                </a:solidFill>
                <a:latin typeface="Arial Rounded MT Bold"/>
              </a:rPr>
              <a:t>on</a:t>
            </a:r>
            <a:r>
              <a:rPr b="0" lang="hu-HU" sz="2800" spc="-1" strike="noStrike">
                <a:solidFill>
                  <a:srgbClr val="000000"/>
                </a:solidFill>
                <a:latin typeface="Arial Rounded MT Bold"/>
              </a:rPr>
              <a:t> (Google Chrome)</a:t>
            </a:r>
            <a:r>
              <a:rPr b="0" lang="en-IE"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52" name="Picture 4" descr=""/>
          <p:cNvPicPr/>
          <p:nvPr/>
        </p:nvPicPr>
        <p:blipFill>
          <a:blip r:embed="rId1"/>
          <a:stretch/>
        </p:blipFill>
        <p:spPr>
          <a:xfrm>
            <a:off x="6545160" y="1889280"/>
            <a:ext cx="1260720" cy="923760"/>
          </a:xfrm>
          <a:prstGeom prst="rect">
            <a:avLst/>
          </a:prstGeom>
          <a:ln w="0">
            <a:noFill/>
          </a:ln>
        </p:spPr>
      </p:pic>
      <p:pic>
        <p:nvPicPr>
          <p:cNvPr id="553" name="Picture 5" descr=""/>
          <p:cNvPicPr/>
          <p:nvPr/>
        </p:nvPicPr>
        <p:blipFill>
          <a:blip r:embed="rId2"/>
          <a:stretch/>
        </p:blipFill>
        <p:spPr>
          <a:xfrm>
            <a:off x="6545160" y="3457440"/>
            <a:ext cx="1441440" cy="1095480"/>
          </a:xfrm>
          <a:prstGeom prst="rect">
            <a:avLst/>
          </a:prstGeom>
          <a:ln w="0">
            <a:noFill/>
          </a:ln>
        </p:spPr>
      </p:pic>
      <p:pic>
        <p:nvPicPr>
          <p:cNvPr id="554" name="Picture 6" descr=""/>
          <p:cNvPicPr/>
          <p:nvPr/>
        </p:nvPicPr>
        <p:blipFill>
          <a:blip r:embed="rId3"/>
          <a:srcRect l="12638" t="24864" r="12307" b="0"/>
          <a:stretch/>
        </p:blipFill>
        <p:spPr>
          <a:xfrm>
            <a:off x="6415200" y="494172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Billentyűzet</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8000"/>
          </a:bodyPr>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A Szóköz billentyűt két betű vagy szó közötti elválasztásra használhatjuk. A billentyű egyszeri leütésre egy szóközt, kettőre kettőt és így tovább tesz a szövegbe.</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Enter billentyű: gépelés során, ha a következő, egyel lejjebbi sorra szeretnél lépni, az Enter billentyű lenyomásával teheted meg.</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Törlés (visszalépés – backspace) billentyű: ha hibát vétettél a gépelés során, a törlés (visszalépés – backspace) gomb kitörli, amit legutóbb gépeltél. Ha többször nyomod le a billentyűt, további betűk kitörlése történik.</a:t>
            </a: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                                      </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                                        </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Szóköz</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Enter      </a:t>
            </a:r>
            <a:r>
              <a:rPr b="0" lang="hu-HU" sz="1600" spc="-1" strike="noStrike">
                <a:solidFill>
                  <a:srgbClr val="000000"/>
                </a:solidFill>
                <a:latin typeface="Arial"/>
              </a:rPr>
              <a:t>               Törlés</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z egér</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732200"/>
        </p:xfrm>
        <a:graphic>
          <a:graphicData uri="http://schemas.openxmlformats.org/drawingml/2006/table">
            <a:tbl>
              <a:tblPr/>
              <a:tblGrid>
                <a:gridCol w="1116000"/>
                <a:gridCol w="7453440"/>
              </a:tblGrid>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edd a (jobb) kezed lazán az egérre úgy, hogy a mutatóujjad kerüljön az egér bal oldali gombjára, majd mozgasd kis mozdulatokkal az egeret minden irányba.</a:t>
                      </a:r>
                      <a:r>
                        <a:rPr b="0" lang="en-IE" sz="1800" spc="-1" strike="noStrike">
                          <a:solidFill>
                            <a:srgbClr val="000000"/>
                          </a:solidFill>
                          <a:latin typeface="Arial Rounded MT Bold"/>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Figyeld meg a kis nyíl alakzatot: ha kezeddel az egeret balra mozdítod, a nyíl balra mozdul a képernyőn, ha az egeret felfele mozdítod, a nyíl felfele mozdul a képernyőn, és így tovább</a:t>
                      </a:r>
                      <a:r>
                        <a:rPr b="0" lang="hu-HU"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2.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zgasd az egeret körbe-körbe az asztalon és figyeld meg a kis nyíl mozgását a képernyő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362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3.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Folytasd az egér mozgatását amíg magabiztossá válik a mozdul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4.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zgasd az egeret a képernyő jobb felső sarkába, majd a bal alsó sarkába! Addig folytasd ezt a mozdulatsort amíg magabiztosan nem meg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Egy program futtatásához, vagy a számítógép vezérléséhez mozgassa a képernyőn a nyilat a megfelelő hely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attintás: nyomd meg az egér valamelyik gombját egyszer azzal az ujjaddal, amelyiket ráhelyezted. Amikor kattintanod szükséges, azt általában az egér bal gombjával végez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30280" y="144360"/>
            <a:ext cx="512136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Az egér</a:t>
            </a:r>
            <a:endParaRPr b="0" lang="en-US" sz="4000" spc="-1" strike="noStrike">
              <a:solidFill>
                <a:srgbClr val="000000"/>
              </a:solidFill>
              <a:latin typeface="Arial"/>
            </a:endParaRPr>
          </a:p>
        </p:txBody>
      </p:sp>
      <p:sp>
        <p:nvSpPr>
          <p:cNvPr id="564" name=""/>
          <p:cNvSpPr txBox="1"/>
          <p:nvPr/>
        </p:nvSpPr>
        <p:spPr>
          <a:xfrm>
            <a:off x="457200" y="1409760"/>
            <a:ext cx="8229600" cy="475128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gér mozgatása a számítógéphez kapcsolódó monitor képernyőjén megjelenő nyíl alakzat (egérmutató) helyzetét változtatja, így segíti a számítógép vezérlését.</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e felejtsd el: az egér használata némi gyakorlást kívá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geret finoman, lassan mozgasd az asztal egy kis területé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ogy az egeret az asztalon mozgatod a képernyőn az egérmutató (más néven kurzor) is mozogni fog.</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Óvatosan mozgasd az egeret körbe-körbe, fel-le, jobbra és balra!</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Figyeld meg, hogy mi történik a képernyőn, amikor mozgatod az egeret!</a:t>
            </a:r>
            <a:endParaRPr b="0" lang="en-US" sz="2200" spc="-1" strike="noStrike">
              <a:solidFill>
                <a:srgbClr val="000000"/>
              </a:solidFill>
              <a:latin typeface="Arial"/>
            </a:endParaRPr>
          </a:p>
        </p:txBody>
      </p:sp>
      <p:pic>
        <p:nvPicPr>
          <p:cNvPr id="565" name="Picture 2" descr=""/>
          <p:cNvPicPr/>
          <p:nvPr/>
        </p:nvPicPr>
        <p:blipFill>
          <a:blip r:embed="rId1"/>
          <a:stretch/>
        </p:blipFill>
        <p:spPr>
          <a:xfrm rot="20352000">
            <a:off x="7402680" y="234720"/>
            <a:ext cx="1466640" cy="79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2:00:46Z</dcterms:modified>
  <cp:revision>504</cp:revision>
  <dc:subject/>
  <dc:title>Title</dc:title>
</cp:coreProperties>
</file>