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199356D-B0D7-49F3-9145-3AD163A4B7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DB53096-183E-440C-9428-E17B73516E8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2079278-3E4C-4A25-9FF5-41AB1008B15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BFB87B-684C-4594-911E-9F1BF55863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2180B9-77C1-49EF-9BBF-CE43D49E5E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19C1FC-79CF-447A-A435-920C0449330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D3961BB-EDF1-410F-9826-4420F97CD68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936CD76-33A9-4131-8751-03126496A08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78F01CE-DCAC-43D8-8193-AA9716C9447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0D7B53B-77B4-44DD-A814-E38A3836FC9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1244FD7-3F13-47CE-B14C-B9B88B40D28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7EB409A-AC34-4777-B6C7-145AEEAF9D8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22FC5EA-82EB-46F0-9B06-6C5A89A2A91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9EB052-1C1B-49A9-8888-0361798FB3D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A108D99-46E8-4506-B51F-940475FF78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67D191-647D-4C0D-BECC-0CFA417599F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5EDFB1-8FD2-47BA-A23B-F5C4648C27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384C82-A950-4699-9387-F3AB0B80C9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7BFE24-4D7C-4A1E-AC1E-4A0B58A0EEC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F896061-BC66-4BBE-B38D-1E7DA713F29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62EBED2-DEBA-4A89-8944-20039BC436A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569CD2-507B-44D4-BE58-1BFEBA99B974}"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1D8B6D-BBFF-4F08-B4CA-309315DEF4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27508CA-50F9-44BF-BBB8-F3C567FE65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3E81DE4-A9F7-42E2-B332-8E6038F5274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CF0E66-437A-462F-8C8B-14FD93ACB1B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F9D3CCD-E08C-47EF-9D9F-B4553706857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7C9DDB1-CD6A-408D-9972-74ECCAFC9E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63E205F-1577-4F26-A23B-590EEE97C74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CE9DDD0-AA60-4195-9AD5-3B9A5C8CCD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3D6A0CD-60FD-4192-BF52-F87AA3E1B5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31FBADE-A5A9-45CF-B73B-700EB40479D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80CC0FD-25FF-40D8-B0B5-993B29D4B9C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D5C5E2D-B37F-40C0-9493-1CBFEEA4C55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9B5E944-BAE2-4A61-A1B5-FC777A6381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4730C2D-E001-4FEF-AFF3-0330AB3710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7535E2C-7B90-46C1-A715-3B84007A932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5886C73-E983-4706-9FDC-91BBBEBC0A0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DAFD84D-7BDF-48FA-8D69-B82061CA385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23A0EF9-1ACA-4352-9D60-E08EC1883C7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3C09F3-A937-4ADC-A8D9-EFF792C222D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23A923-0AB1-43A0-9FC6-B7FD5A442AD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3214053-7BC2-4581-A681-6233D7735AC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29B7BDF-BCBC-443B-AAB5-8F26CF0D665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01C17C-64A8-4DB4-9F33-D3946798834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E987A8-FC52-4712-91F6-AD03AAFC47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38306A-2712-4073-83C1-66E5728F8F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B3FD27-28AE-4B05-893B-61440919A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9EF915-60E5-42CD-A602-9492117FD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CDF6E-DCB4-4501-9975-40EF20547E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FE5DB0-2664-462B-89F0-9005A8CF33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463169-86B3-41DE-A814-A8C9F2233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1877C8-D892-4412-AA13-26CFA09F7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16EDA5-5573-4551-896F-B2426A6F2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BF8646-1317-4F83-AEB0-9178E91BC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CF7BD4-388E-4F47-BE9B-E362DB684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EBB720-BB84-40A8-A02C-5E6A50E19E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D765D7-F24F-43E4-BF19-E47C754B9FDF}"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F445DC2-B984-450C-8270-1CECDEC7D31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DA15E2-3300-4ACF-963D-ACF24D7E5FB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E4EC74-2614-4F7A-A5D5-5AA4EC26F9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4F27FE-13D3-4EDD-BA1E-6F260EC387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F3A0555-0EE4-432C-8DA0-6A972AC94D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0065F1-AC8A-4030-A0B7-545873613C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40E9730-B385-4920-866A-AD50428646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E64BE55-5DD0-450E-99DD-060482322D4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C648FBA-CA3C-4EA2-A21C-70C4ED79C65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00B620-0BA9-4A39-8273-113391D73F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909F00-DF91-433F-BD3C-908BF25A74E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D91F28-3CCC-44F1-BE2F-35BA74BE11D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95A92E1-2706-46DD-8AA3-C7464F8369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7B6318-7E91-4D42-8A93-DF7729F0A43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6045693-5425-436F-8D6A-671611A12C5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82BC626-17BC-4955-8A41-AD9678A44E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0A6652-CF00-4DFE-9AEA-C5D7439BDAA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C15D26-9E22-4A70-B9D3-0B3DD6A314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0D215D-9269-4FE5-BDF6-BAA1AA3D4CB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E742F40-0680-451B-8FD3-3633458336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7A4326-A400-49D8-ACAE-4A1A076B7C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FFAC90-FBBB-44EE-AE33-5D0FBC5499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940C04-FA46-4422-BF3A-5D7E8C2C6F4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B089AAD-6685-4D9B-9BE3-1F99F9A51AD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894D67-2A82-43A2-B955-8661F9E8EF6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A4DB6BC-D711-41E7-AE59-5383B117FD0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27A420-E593-4155-B6CC-F37D1238C1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CEEE178-C467-464F-A493-5F3E1BE48E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C51841-A9FD-4980-89C5-BF7F0E97CB5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F0DE48-C46C-49F4-BBA0-71920CB2915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84F786B-50C2-41E1-BD21-79126C8BE9A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729114A-9AA9-4979-B799-9AC425D466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467ECD-B091-437A-9E62-CC9D388A9F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D70822-D000-48C1-BE51-1A5B146CC42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B0F844E-EF73-47BA-A337-0CC70A19363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83457CD-B1F5-4C4C-92D5-0FD046C17F5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B768432-419E-4344-BBCA-73535519EE1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9F5F45B-3035-47A0-AD60-1F222C111CF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62E88BF-EE13-4774-B11F-F4AAC06FE5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4FA618-F3F4-4200-8EE9-11112000658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B9528DF-33DD-4824-97B6-4FCE5E246E1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67E927A-16C8-4517-ACFD-56690C38D8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751429-5929-46FD-926D-3AD891A324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052C76-2CAB-43D4-A915-5722AD3967C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DAD64BE-5507-4657-A7F2-8CA3D71D7E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93091F-7066-41D1-A5B4-BD417EF6167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16DF083-BBB2-4B47-AED0-ED46D27DC83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173E0B-B502-4518-B8F8-1E1F4B2A681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BCE0AFC-8E67-4BB0-B685-872D8D8B8C9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2CFB177-3B6E-447D-8324-770565F96AF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F127C4-9B0D-418B-889B-C5C7316992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437D690-20A7-4E13-9C9A-BED515F08C5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03A18CD-B3D3-4135-870E-45A3884417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8E1AD5-92B0-4AFC-AC2F-A8B13BA56F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6E8E71-301C-45C8-BC92-FFC5688DAC2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0614D39-D2E6-4C29-8D00-BCB1C6B8CF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70C3085-3766-4A47-8FDF-0A1E978B0C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FAC5F7E-7056-47F2-AC82-CD7F040730B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9A5E7E0-DA35-4D35-A252-4D20C67CECB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5A82A7A-ED34-4EE9-8AC1-92C0599489C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9A5F00-A45F-4637-A1B5-9A2204E763A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D7B1D73-4D1C-45CD-AC79-36D1383F5E6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6EB83-6C2A-41AC-A808-B1AD9C3E1CE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0A28-C05B-4BEF-A4B5-4AAB39E197C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E0FE-F944-4EA7-A935-B469F3AB27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BDC3C-E288-4ED0-9C77-70E2831AEEF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97A3-33BD-42CD-824C-597AE77A05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4F36-306D-455A-9D6C-70BBC677728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2E47-022B-42E3-A0CA-0CF03FC23CB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CFDB-A02D-449F-B77B-31C4D45002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B7BDC-16AD-409D-8BE3-7ACE37767BC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B477-125A-4EC1-85C1-EEC98D80F54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számítógép használat alapjai</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dat és információ ismerete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30280" y="274320"/>
            <a:ext cx="512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z egér</a:t>
            </a:r>
            <a:endParaRPr b="0" lang="en-US" sz="36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ost tekintsd meg a következő 25 perces videót</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z egér használatának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lapvető ismereteirő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 hardver?</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ámítógép fizikailag megfogható részeinek összessége, illetve kiegészítő egységei (pl. monitor, egér, billentyűze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a:t>
            </a:r>
            <a:r>
              <a:rPr b="0" lang="hu-HU" sz="2400" spc="-1" strike="noStrike">
                <a:solidFill>
                  <a:srgbClr val="000000"/>
                </a:solidFill>
                <a:latin typeface="Arial Rounded MT Bold"/>
              </a:rPr>
              <a:t>Billentyűzet és egér</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 szoftver?</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fontScale="98000"/>
          </a:bodyPr>
          <a:p>
            <a:pPr marL="335880" indent="-3358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oftvernek a számítógépek memóri-ájában elhelyezkedő, azokat működtető programokat nevezzük. </a:t>
            </a:r>
            <a:endParaRPr b="0" lang="en-US" sz="3200" spc="-1" strike="noStrike">
              <a:solidFill>
                <a:srgbClr val="000000"/>
              </a:solidFill>
              <a:latin typeface="Arial"/>
            </a:endParaRPr>
          </a:p>
          <a:p>
            <a:pPr marL="335880" indent="-3358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 olyan számítógépet veszel, amelyre egyetlen szoftver sincs feltöltve, akkor azt a számítógépet semmire sem tudod majd használni! Telepíts szoftvereket a számítógépedre, hogy azt igényeidnek megfelelően tudd használ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268280"/>
            <a:ext cx="8515440" cy="489744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oftverek két típusát különböztetjük meg: felhasználói programokat és operációs rendszereke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Arial Rounded MT Bold"/>
              </a:rPr>
              <a:t>Felhasználói programo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elhasználói programok speciális feladatok ellátására alkalmas szoftverek. Léteznek szövegek szerkesztésére alkalmas programok, táblázatok létrehozására alkalmas programok, stb.</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Példák felhasználói programokra: Microsoft Word (szövegek szerkesztésére alkalmas), Microsoft Excel (táblázatok létrehozása alkalmas), Google Chrome (internetes böngészésre alkalmas).</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Szoftver típusok</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537920"/>
            <a:ext cx="8353440" cy="419436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Oper</a:t>
            </a:r>
            <a:r>
              <a:rPr b="0" lang="hu-HU" sz="2800" spc="-1" strike="noStrike" u="sng">
                <a:solidFill>
                  <a:srgbClr val="000000"/>
                </a:solidFill>
                <a:uFillTx/>
                <a:latin typeface="Arial Rounded MT Bold"/>
              </a:rPr>
              <a:t>ációs rendszer</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legtöbb felhasználói program nem képes közvetlen működésre a hardverrel, szükséges egy alapprogram, amely közvetlenül kezeli a hardvert, illetve egységes környezetet biztosít a számítógépen futtatandó programoknak.</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az alapprogram az operációs rendszer, mely összeköti a hardvert a felhasználói programokkal. </a:t>
            </a:r>
            <a:endParaRPr b="0" lang="en-US" sz="2800" spc="-1" strike="noStrike">
              <a:solidFill>
                <a:srgbClr val="000000"/>
              </a:solidFill>
              <a:latin typeface="Arial"/>
            </a:endParaRPr>
          </a:p>
        </p:txBody>
      </p:sp>
      <p:sp>
        <p:nvSpPr>
          <p:cNvPr id="577"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Szoftver típusok</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ea typeface="Times New Roman"/>
              </a:rPr>
              <a:t>Hard</a:t>
            </a:r>
            <a:r>
              <a:rPr b="1" lang="hu-HU" sz="1600" spc="-1" strike="noStrike">
                <a:solidFill>
                  <a:srgbClr val="000000"/>
                </a:solidFill>
                <a:latin typeface="Arial Rounded MT Bold"/>
                <a:ea typeface="Times New Roman"/>
              </a:rPr>
              <a:t>v</a:t>
            </a:r>
            <a:r>
              <a:rPr b="1" lang="en-IE" sz="1600" spc="-1" strike="noStrike">
                <a:solidFill>
                  <a:srgbClr val="000000"/>
                </a:solidFill>
                <a:latin typeface="Arial Rounded MT Bold"/>
                <a:ea typeface="Times New Roman"/>
              </a:rPr>
              <a:t>e</a:t>
            </a:r>
            <a:r>
              <a:rPr b="1" lang="hu-HU" sz="1600" spc="-1" strike="noStrike">
                <a:solidFill>
                  <a:srgbClr val="000000"/>
                </a:solidFill>
                <a:latin typeface="Arial Rounded MT Bold"/>
                <a:ea typeface="Times New Roman"/>
              </a:rPr>
              <a:t>r</a:t>
            </a:r>
            <a:r>
              <a:rPr b="1" lang="en-IE" sz="1600" spc="-1" strike="noStrike">
                <a:solidFill>
                  <a:srgbClr val="000000"/>
                </a:solidFill>
                <a:latin typeface="Arial Rounded MT Bold"/>
                <a:ea typeface="Times New Roman"/>
              </a:rPr>
              <a:t> (</a:t>
            </a:r>
            <a:r>
              <a:rPr b="1" lang="hu-HU" sz="1600" spc="-1" strike="noStrike">
                <a:solidFill>
                  <a:srgbClr val="000000"/>
                </a:solidFill>
                <a:latin typeface="Arial Rounded MT Bold"/>
                <a:ea typeface="Times New Roman"/>
              </a:rPr>
              <a:t>számítógép</a:t>
            </a:r>
            <a:r>
              <a:rPr b="1" lang="en-IE" sz="1600" spc="-1" strike="noStrike">
                <a:solidFill>
                  <a:srgbClr val="000000"/>
                </a:solidFill>
                <a:latin typeface="Arial Rounded MT Bold"/>
                <a:ea typeface="Times New Roman"/>
              </a:rPr>
              <a:t>) </a:t>
            </a:r>
            <a:endParaRPr b="0" lang="en-US" sz="1600" spc="-1" strike="noStrike">
              <a:solidFill>
                <a:srgbClr val="000000"/>
              </a:solidFill>
              <a:latin typeface="Arial"/>
            </a:endParaRPr>
          </a:p>
        </p:txBody>
      </p:sp>
      <p:sp>
        <p:nvSpPr>
          <p:cNvPr id="579" name="Text Box 18"/>
          <p:cNvSpPr/>
          <p:nvPr/>
        </p:nvSpPr>
        <p:spPr>
          <a:xfrm>
            <a:off x="2195640" y="4356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ea typeface="Times New Roman"/>
              </a:rPr>
              <a:t>Operációs rendszer</a:t>
            </a:r>
            <a:r>
              <a:rPr b="1" lang="hu-HU" sz="1600" spc="-1" strike="noStrike">
                <a:solidFill>
                  <a:srgbClr val="000000"/>
                </a:solidFill>
                <a:latin typeface="Arial Rounded MT Bold"/>
                <a:ea typeface="Times New Roman"/>
              </a:rPr>
              <a:t> </a:t>
            </a:r>
            <a:r>
              <a:rPr b="1" lang="en-IE" sz="1600" spc="-1" strike="noStrike">
                <a:solidFill>
                  <a:srgbClr val="000000"/>
                </a:solidFill>
                <a:latin typeface="Arial Rounded MT Bold"/>
                <a:ea typeface="Times New Roman"/>
              </a:rPr>
              <a:t>(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Rounded MT Bold"/>
                <a:ea typeface="Times New Roman"/>
              </a:rPr>
              <a:t>Felhasználói programok </a:t>
            </a:r>
            <a:r>
              <a:rPr b="1" lang="en-IE" sz="1600" spc="-1" strike="noStrike">
                <a:solidFill>
                  <a:srgbClr val="000000"/>
                </a:solidFill>
                <a:latin typeface="Arial Rounded MT Bold"/>
                <a:ea typeface="Times New Roman"/>
              </a:rPr>
              <a:t>(Word, Excel</a:t>
            </a:r>
            <a:r>
              <a:rPr b="1" lang="hu-HU" sz="1600" spc="-1" strike="noStrike">
                <a:solidFill>
                  <a:srgbClr val="000000"/>
                </a:solidFill>
                <a:latin typeface="Arial Rounded MT Bold"/>
                <a:ea typeface="Times New Roman"/>
              </a:rPr>
              <a:t>, stb.</a:t>
            </a:r>
            <a:r>
              <a:rPr b="1" lang="en-IE" sz="1600" spc="-1" strike="noStrike">
                <a:solidFill>
                  <a:srgbClr val="000000"/>
                </a:solidFill>
                <a:latin typeface="Arial Rounded MT Bold"/>
                <a:ea typeface="Times New Roman"/>
              </a:rPr>
              <a:t>)</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431640" y="1641240"/>
            <a:ext cx="8280720" cy="1373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számítógép alapprogramja </a:t>
            </a:r>
            <a:r>
              <a:rPr b="0" lang="en-IE" sz="2800" spc="-1" strike="noStrike">
                <a:solidFill>
                  <a:srgbClr val="000000"/>
                </a:solidFill>
                <a:latin typeface="Arial Rounded MT Bold"/>
              </a:rPr>
              <a:t>az operációs rendszer, mely összeköti a hardvert a felhasználói programokkal. </a:t>
            </a:r>
            <a:endParaRPr b="0" lang="en-US" sz="2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ációs rendszer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Rounded MT Bold"/>
              </a:rPr>
              <a:t>Összefoglalás</a:t>
            </a:r>
            <a:endParaRPr b="0" lang="en-US" sz="4400" spc="-1" strike="noStrike">
              <a:solidFill>
                <a:srgbClr val="000000"/>
              </a:solidFill>
              <a:latin typeface="Arial"/>
            </a:endParaRPr>
          </a:p>
        </p:txBody>
      </p:sp>
      <p:sp>
        <p:nvSpPr>
          <p:cNvPr id="589" name=""/>
          <p:cNvSpPr txBox="1"/>
          <p:nvPr/>
        </p:nvSpPr>
        <p:spPr>
          <a:xfrm>
            <a:off x="457200" y="1417320"/>
            <a:ext cx="8229600" cy="46753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épzési egység végére megtanultad:</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e- és kikapcsolni a számítógépe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hardver és a szoftver jelentésé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agabiztosan használni az egere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agabiztosan használni a billentyűzetet</a:t>
            </a:r>
            <a:endParaRPr b="0" lang="en-US" sz="24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 képzés során elsajátítható ismeretek</a:t>
            </a:r>
            <a:endParaRPr b="0" lang="en-US" sz="4000" spc="-1" strike="noStrike">
              <a:solidFill>
                <a:srgbClr val="000000"/>
              </a:solidFill>
              <a:latin typeface="Arial"/>
            </a:endParaRPr>
          </a:p>
        </p:txBody>
      </p:sp>
      <p:sp>
        <p:nvSpPr>
          <p:cNvPr id="539" name="PlaceHolder 2"/>
          <p:cNvSpPr>
            <a:spLocks noGrp="1"/>
          </p:cNvSpPr>
          <p:nvPr>
            <p:ph/>
          </p:nvPr>
        </p:nvSpPr>
        <p:spPr>
          <a:xfrm>
            <a:off x="287280" y="1916280"/>
            <a:ext cx="8569440" cy="3921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képzési egység végére megtanulod:</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e- és kikapcsolni a számítógép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hardver és a szoftver jelentésé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gabiztosan használni az eger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gabiztosan használni a billentyűzetet</a:t>
            </a:r>
            <a:endParaRPr b="0" lang="en-US" sz="3200" spc="-1" strike="noStrike">
              <a:solidFill>
                <a:srgbClr val="000000"/>
              </a:solidFill>
              <a:latin typeface="Arial"/>
            </a:endParaRPr>
          </a:p>
          <a:p>
            <a:pPr marL="8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re lesz szükségem ehhez a képzéshez?</a:t>
            </a:r>
            <a:endParaRPr b="0" lang="en-US" sz="3600" spc="-1" strike="noStrike">
              <a:solidFill>
                <a:srgbClr val="000000"/>
              </a:solidFill>
              <a:latin typeface="Arial"/>
            </a:endParaRPr>
          </a:p>
        </p:txBody>
      </p:sp>
      <p:sp>
        <p:nvSpPr>
          <p:cNvPr id="541" name=""/>
          <p:cNvSpPr txBox="1"/>
          <p:nvPr/>
        </p:nvSpPr>
        <p:spPr>
          <a:xfrm>
            <a:off x="250920" y="1557000"/>
            <a:ext cx="8277120" cy="4452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ámítógép, laptop, tablet, vagy okostelefon</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735280" y="-4176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evezetés: a számítógép</a:t>
            </a:r>
            <a:endParaRPr b="0" lang="en-US" sz="3200" spc="-1" strike="noStrike">
              <a:solidFill>
                <a:srgbClr val="000000"/>
              </a:solidFill>
              <a:latin typeface="Arial"/>
            </a:endParaRPr>
          </a:p>
        </p:txBody>
      </p:sp>
      <p:sp>
        <p:nvSpPr>
          <p:cNvPr id="547" name=""/>
          <p:cNvSpPr txBox="1"/>
          <p:nvPr/>
        </p:nvSpPr>
        <p:spPr>
          <a:xfrm>
            <a:off x="323640" y="1412640"/>
            <a:ext cx="8351640" cy="431964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Asztal az első munkafelület a számítógép bekapcsolását majd az operációs rendszer betöltését követőe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Start menü a képernyő bal alsó sarkában, az úgynevezett Tálcán található. A Start menüből érhető el a számítógép minden funkciója.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álcának nevezzük a képernyő alján húzódó (általában szürke színű) területet. A Tálcán számos Ikon található.</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konok: az Asztalon található kis képek. Az Ikonok a programok parancsikonjai. Megnyitni az Ikonokat úgy tudod, hogy kétszer rájuk kattintasz az egér bal gombjáv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39640" y="549000"/>
            <a:ext cx="656892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 számítógép be- és kikapcsolása</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Tekintsd meg a következő </a:t>
            </a:r>
            <a:r>
              <a:rPr b="1" lang="en-IE" sz="3200" spc="-1" strike="noStrike">
                <a:solidFill>
                  <a:srgbClr val="000000"/>
                </a:solidFill>
                <a:latin typeface="Arial"/>
              </a:rPr>
              <a:t>vide</a:t>
            </a:r>
            <a:r>
              <a:rPr b="1" lang="hu-HU" sz="3200" spc="-1" strike="noStrike">
                <a:solidFill>
                  <a:srgbClr val="000000"/>
                </a:solidFill>
                <a:latin typeface="Arial"/>
              </a:rPr>
              <a:t>ó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Hogyan kapcsold be és ki a számítógéped?</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a:t>
            </a:r>
            <a:r>
              <a:rPr b="1" lang="hu-HU" sz="4000" spc="-1" strike="noStrike">
                <a:solidFill>
                  <a:srgbClr val="000000"/>
                </a:solidFill>
                <a:latin typeface="Arial Rounded MT Bold"/>
              </a:rPr>
              <a:t>konok</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Microsoft Word </a:t>
            </a:r>
            <a:r>
              <a:rPr b="0" lang="hu-HU" sz="2800" spc="-1" strike="noStrike">
                <a:solidFill>
                  <a:srgbClr val="000000"/>
                </a:solidFill>
                <a:latin typeface="Arial Rounded MT Bold"/>
              </a:rPr>
              <a:t>iko</a:t>
            </a:r>
            <a:r>
              <a:rPr b="0" lang="en-IE" sz="2800" spc="-1" strike="noStrike">
                <a:solidFill>
                  <a:srgbClr val="000000"/>
                </a:solidFill>
                <a:latin typeface="Arial Rounded MT Bold"/>
              </a:rPr>
              <a:t>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lektronikus levél (</a:t>
            </a:r>
            <a:r>
              <a:rPr b="0" lang="en-IE" sz="2800" spc="-1" strike="noStrike">
                <a:solidFill>
                  <a:srgbClr val="000000"/>
                </a:solidFill>
                <a:latin typeface="Arial Rounded MT Bold"/>
              </a:rPr>
              <a:t>E</a:t>
            </a:r>
            <a:r>
              <a:rPr b="0" lang="hu-HU" sz="2800" spc="-1" strike="noStrike">
                <a:solidFill>
                  <a:srgbClr val="000000"/>
                </a:solidFill>
                <a:latin typeface="Arial Rounded MT Bold"/>
              </a:rPr>
              <a:t>-</a:t>
            </a:r>
            <a:r>
              <a:rPr b="0" lang="en-IE" sz="2800" spc="-1" strike="noStrike">
                <a:solidFill>
                  <a:srgbClr val="000000"/>
                </a:solidFill>
                <a:latin typeface="Arial Rounded MT Bold"/>
              </a:rPr>
              <a:t>mail</a:t>
            </a:r>
            <a:r>
              <a:rPr b="0" lang="hu-HU" sz="2800" spc="-1" strike="noStrike">
                <a:solidFill>
                  <a:srgbClr val="000000"/>
                </a:solidFill>
                <a:latin typeface="Arial Rounded MT Bold"/>
              </a:rPr>
              <a:t>) ik</a:t>
            </a:r>
            <a:r>
              <a:rPr b="0" lang="en-IE" sz="2800" spc="-1" strike="noStrike">
                <a:solidFill>
                  <a:srgbClr val="000000"/>
                </a:solidFill>
                <a:latin typeface="Arial Rounded MT Bold"/>
              </a:rPr>
              <a:t>on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nternet</a:t>
            </a:r>
            <a:r>
              <a:rPr b="0" lang="hu-HU" sz="2800" spc="-1" strike="noStrike">
                <a:solidFill>
                  <a:srgbClr val="000000"/>
                </a:solidFill>
                <a:latin typeface="Arial Rounded MT Bold"/>
              </a:rPr>
              <a:t> ik</a:t>
            </a:r>
            <a:r>
              <a:rPr b="0" lang="en-IE" sz="2800" spc="-1" strike="noStrike">
                <a:solidFill>
                  <a:srgbClr val="000000"/>
                </a:solidFill>
                <a:latin typeface="Arial Rounded MT Bold"/>
              </a:rPr>
              <a:t>on</a:t>
            </a:r>
            <a:r>
              <a:rPr b="0" lang="hu-HU" sz="2800" spc="-1" strike="noStrike">
                <a:solidFill>
                  <a:srgbClr val="000000"/>
                </a:solidFill>
                <a:latin typeface="Arial Rounded MT Bold"/>
              </a:rPr>
              <a:t> (Google Chrome)</a:t>
            </a:r>
            <a:r>
              <a:rPr b="0" lang="en-IE"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52" name="Picture 4" descr=""/>
          <p:cNvPicPr/>
          <p:nvPr/>
        </p:nvPicPr>
        <p:blipFill>
          <a:blip r:embed="rId1"/>
          <a:stretch/>
        </p:blipFill>
        <p:spPr>
          <a:xfrm>
            <a:off x="6545160" y="1889280"/>
            <a:ext cx="1260720" cy="923760"/>
          </a:xfrm>
          <a:prstGeom prst="rect">
            <a:avLst/>
          </a:prstGeom>
          <a:ln w="0">
            <a:noFill/>
          </a:ln>
        </p:spPr>
      </p:pic>
      <p:pic>
        <p:nvPicPr>
          <p:cNvPr id="553" name="Picture 5" descr=""/>
          <p:cNvPicPr/>
          <p:nvPr/>
        </p:nvPicPr>
        <p:blipFill>
          <a:blip r:embed="rId2"/>
          <a:stretch/>
        </p:blipFill>
        <p:spPr>
          <a:xfrm>
            <a:off x="6545160" y="3457440"/>
            <a:ext cx="1441440" cy="1095480"/>
          </a:xfrm>
          <a:prstGeom prst="rect">
            <a:avLst/>
          </a:prstGeom>
          <a:ln w="0">
            <a:noFill/>
          </a:ln>
        </p:spPr>
      </p:pic>
      <p:pic>
        <p:nvPicPr>
          <p:cNvPr id="554" name="Picture 6" descr=""/>
          <p:cNvPicPr/>
          <p:nvPr/>
        </p:nvPicPr>
        <p:blipFill>
          <a:blip r:embed="rId3"/>
          <a:srcRect l="12638" t="24864" r="12307" b="0"/>
          <a:stretch/>
        </p:blipFill>
        <p:spPr>
          <a:xfrm>
            <a:off x="6415200" y="494172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Billentyűzet</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8000"/>
          </a:bodyPr>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A Szóköz billentyűt két betű vagy szó közötti elválasztásra használhatjuk. A billentyű egyszeri leütésre egy szóközt, kettőre kettőt és így tovább tesz a szövegbe.</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Enter billentyű: gépelés során, ha a következő, egyel lejjebbi sorra szeretnél lépni, az Enter billentyű lenyomásával teheted meg.</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Törlés (visszalépés – backspace) billentyű: ha hibát vétettél a gépelés során, a törlés (visszalépés – backspace) gomb kitörli, amit legutóbb gépeltél. Ha többször nyomod le a billentyűt, további betűk kitörlése történik.</a:t>
            </a: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                                      </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                                        </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Szóköz</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 </a:t>
            </a:r>
            <a:r>
              <a:rPr b="0" lang="hu-HU" sz="1600" spc="-1" strike="noStrike">
                <a:solidFill>
                  <a:srgbClr val="000000"/>
                </a:solidFill>
                <a:latin typeface="Arial"/>
              </a:rPr>
              <a:t> </a:t>
            </a:r>
            <a:r>
              <a:rPr b="0" lang="en-IE" sz="1600" spc="-1" strike="noStrike">
                <a:solidFill>
                  <a:srgbClr val="000000"/>
                </a:solidFill>
                <a:latin typeface="Arial"/>
              </a:rPr>
              <a:t>Enter      </a:t>
            </a:r>
            <a:r>
              <a:rPr b="0" lang="hu-HU" sz="1600" spc="-1" strike="noStrike">
                <a:solidFill>
                  <a:srgbClr val="000000"/>
                </a:solidFill>
                <a:latin typeface="Arial"/>
              </a:rPr>
              <a:t>               Törlés</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z egér</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732200"/>
        </p:xfrm>
        <a:graphic>
          <a:graphicData uri="http://schemas.openxmlformats.org/drawingml/2006/table">
            <a:tbl>
              <a:tblPr/>
              <a:tblGrid>
                <a:gridCol w="1116000"/>
                <a:gridCol w="7453440"/>
              </a:tblGrid>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edd a (jobb) kezed lazán az egérre úgy, hogy a mutatóujjad kerüljön az egér bal oldali gombjára, majd mozgasd kis mozdulatokkal az egeret minden irányba.</a:t>
                      </a:r>
                      <a:r>
                        <a:rPr b="0" lang="en-IE" sz="1800" spc="-1" strike="noStrike">
                          <a:solidFill>
                            <a:srgbClr val="000000"/>
                          </a:solidFill>
                          <a:latin typeface="Arial Rounded MT Bold"/>
                        </a:rPr>
                        <a:t>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Figyeld meg a kis nyíl alakzatot: ha kezeddel az egeret balra mozdítod, a nyíl balra mozdul a képernyőn, ha az egeret felfele mozdítod, a nyíl felfele mozdul a képernyőn, és így tovább</a:t>
                      </a:r>
                      <a:r>
                        <a:rPr b="0" lang="hu-HU"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2.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zgasd az egeret körbe-körbe az asztalon és figyeld meg a kis nyíl mozgását a képernyő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3362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3.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Folytasd az egér mozgatását amíg magabiztossá válik a mozdul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4. lépés</a:t>
                      </a:r>
                      <a:r>
                        <a:rPr b="0" lang="en-IE" sz="1800" spc="-1" strike="noStrike">
                          <a:solidFill>
                            <a:srgbClr val="000000"/>
                          </a:solidFill>
                          <a:latin typeface="Arial Rounded MT Bold"/>
                        </a:rPr>
                        <a:t>:</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zgasd az egeret a képernyő jobb felső sarkába, majd a bal alsó sarkába! Addig folytasd ezt a mozdulatsort amíg magabiztosan nem megy!</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Egy program futtatásához, vagy a számítógép vezérléséhez mozgassa a képernyőn a nyilat a megfelelő hely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Fonto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gn="just">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Kattintás: nyomd meg az egér valamelyik gombját egyszer azzal az ujjaddal, amelyiket ráhelyezted. Amikor kattintanod szükséges, azt általában az egér bal gombjával végez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30280" y="144360"/>
            <a:ext cx="512136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Az egér</a:t>
            </a:r>
            <a:endParaRPr b="0" lang="en-US" sz="4000" spc="-1" strike="noStrike">
              <a:solidFill>
                <a:srgbClr val="000000"/>
              </a:solidFill>
              <a:latin typeface="Arial"/>
            </a:endParaRPr>
          </a:p>
        </p:txBody>
      </p:sp>
      <p:sp>
        <p:nvSpPr>
          <p:cNvPr id="564" name=""/>
          <p:cNvSpPr txBox="1"/>
          <p:nvPr/>
        </p:nvSpPr>
        <p:spPr>
          <a:xfrm>
            <a:off x="457200" y="1409760"/>
            <a:ext cx="8229600" cy="475128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gér mozgatása a számítógéphez kapcsolódó monitor képernyőjén megjelenő nyíl alakzat (egérmutató) helyzetét változtatja, így segíti a számítógép vezérlését.</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e felejtsd el: az egér használata némi gyakorlást kívá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geret finoman, lassan mozgasd az asztal egy kis területén!</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ogy az egeret az asztalon mozgatod a képernyőn az egérmutató (más néven kurzor) is mozogni fog.</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Óvatosan mozgasd az egeret körbe-körbe, fel-le, jobbra és balra!</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Figyeld meg, hogy mi történik a képernyőn, amikor mozgatod az egeret!</a:t>
            </a:r>
            <a:endParaRPr b="0" lang="en-US" sz="2200" spc="-1" strike="noStrike">
              <a:solidFill>
                <a:srgbClr val="000000"/>
              </a:solidFill>
              <a:latin typeface="Arial"/>
            </a:endParaRPr>
          </a:p>
        </p:txBody>
      </p:sp>
      <p:pic>
        <p:nvPicPr>
          <p:cNvPr id="565" name="Picture 2" descr=""/>
          <p:cNvPicPr/>
          <p:nvPr/>
        </p:nvPicPr>
        <p:blipFill>
          <a:blip r:embed="rId1"/>
          <a:stretch/>
        </p:blipFill>
        <p:spPr>
          <a:xfrm rot="20352000">
            <a:off x="7402680" y="234720"/>
            <a:ext cx="1466640" cy="79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2:00:46Z</dcterms:modified>
  <cp:revision>504</cp:revision>
  <dc:subject/>
  <dc:title>Title</dc:title>
</cp:coreProperties>
</file>