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3CB3AE6-4776-495A-9A74-6BF7C333B02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EF91DD1-1F41-4480-9334-83F739E23E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9DDA5F-2EA9-4796-87DC-ABA89ADB6D9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8D93EF-2B3E-488A-803B-FB1A74C075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E7290D-0A27-47AC-ABFF-E2DD086EA42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240B6BE-243D-4940-BAC4-2875698A21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7E0ABB-10BC-4BAE-A6F2-A3321A1BC64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072DF8-AB33-4BA6-8418-F10C92958E1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9CFFC36-689F-46F7-8C68-0E0F1D84AB5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8E4DC1-7FE5-4207-B1AF-371E40966B7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88C365-6463-4884-93F0-7E11E93AB1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7198E0-3536-4055-AA26-7A88517132C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50A3D42-02FC-4DC1-9831-02215F1DE1F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EAAB780-A839-49BD-A06A-68C34FFBF2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8966957-DC8C-4285-8D2B-371EF735FA0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AF2116-8AC8-4162-9437-D3A929B7A4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A36DF6D-DCA5-42A2-8490-366DDC3D7D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46E732B-DA42-47AB-BA72-36413EEE5B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A4B4442-E63C-4613-8FFA-9A9871FEC8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66989F4-C273-4371-B23C-32895EAC41F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D8A353E-DCEF-4F81-9D36-35E2933A60F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968BB64-B844-40A7-950A-CBED415C004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E70FF4-6C90-4B14-B64B-BCAC954A695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9BE019-A801-478E-A238-7204DE56581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8409070-584B-444C-AF11-5F88090B364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0DD0133-3AF5-45EB-B829-9AA0D7400B2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34ABAD2-9622-4A09-AA78-409A7412A9C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A686500-061F-4A9A-8F71-CA3523A63D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3E962DB-AD01-4B6D-8EFF-63E7A59E1F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75A3144-0674-4BBD-AEA8-859F66C82F5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449C08A-854B-4A21-BE06-35D56B0D2D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34B33EF-C4C0-46E1-BD62-40799F6F61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92E1D7B-CA51-459B-8F57-03330DF5C3F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49894E6-A6AF-4270-A43D-C696E21B2B5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68F13AC-6CE2-4A79-85AD-05EFA56844C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61AC293-07AE-4D4E-AC3D-625FA97BA58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E50EA55-B31C-42BD-AAE7-4A5DFB8428B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0298B58-DED9-4A76-ADE5-5F2C7CAF13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AED3BB1-2565-42AE-88E8-69DFEBE8A10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A0EFEA3-7F11-42BF-A075-4F05D640BA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F352581-FFA6-4D7C-BF44-41DBC15B48C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B49889A-5116-4411-986A-87D3F481D4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9BB2A46-D9E1-467B-B595-E920207D4D7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01C7A684-0B81-4BD0-ACB0-161521C5AA1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453BC0-47D9-4D7E-BE32-1D5ED702BF6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857ED7-5887-49A3-9417-FB0E791206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81CA0D-BF26-4531-B178-88A7198DC7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D87D52-B6BA-43D7-B4DF-574DAC08C2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D37022-F579-439F-AAEE-DBA091C153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5FC82-45D9-48E3-A08B-E6A7AE801E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02DB4-6725-4C9F-B353-6E389A2BE3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9DF6DA-8525-4CE0-9AEF-42073A305B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8609F1-CBF7-4999-9533-6ACC60CC4E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9905E-0813-4190-BE53-2F4BD3885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F54E8-93DB-44CE-91C0-CBFAB30D4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8ACBD1-A71A-4A29-9853-4237F9FD20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4AC7EB-A8D9-4C34-8C0B-FA417B9C0E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A8C4D0A-38B1-4F05-966B-37E4547D54A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B92B043-2111-4157-999E-CC40D34CEB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AAE184-7EAF-4209-ADFD-5CA7D7E3FB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00E377E-5E18-4B02-BF38-9DEDA991A9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C9A3A1-13EB-411C-9421-4AFC4061F4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C6BA79B-033C-44F7-ACA1-79FCE69377E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3236C9-EB49-4127-B3B5-130D617A68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FA4DB3-AC9C-4FE2-8E30-0652584652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17EB24-187B-4EC2-8C55-F983940C73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0B47BCD-1EE9-47CF-AB70-700BE1FBA33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C3F655A-6866-47AC-B0E1-5B05BB773DC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FEC04AF-BB3D-401F-866A-01D05FB8721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A169E35-EA6E-4B28-B201-3FC29BAAF73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AB56C2-B654-4C76-A53F-BC7FB6C640B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E0DDC06-DDCC-480E-97B0-F756620DB33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977750-6A26-4889-A721-87B43775F7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AB0C48B-A755-41EF-A1F8-0861DC296E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3E4DEB-298B-4B39-99F2-16DD77FB27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265F811-0429-41F3-924B-7A00F027BA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E7C0D7-B6DC-4C40-8F37-D9E682C413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B04D8F-26D6-4CE1-B516-AB85731A8E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8CEB81-650F-4023-8846-AD32E3914D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5378B7B-53FA-4D98-A554-2A85657CFE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FE6EB90-F988-41EE-81B5-71DF021BB2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476AFE5-2E0E-48B2-851C-AC30AD24E4E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3CC7BA-DA25-4CB1-BE43-8E4D7A08714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2E7D2C-D9CC-46ED-93EF-5B84041A9A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36340B-4173-4FB7-84B5-03AF647765F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34D80D1-AF2B-4274-934B-D832F3433AF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AB5CD9F-3D84-4665-A9C8-BF2D11B03C2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804FD2-1E41-450F-9006-6D18A622F0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7B4A28-1111-40D8-A48B-A3B6A05AF3A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5D0B3C5-F33E-4B78-A423-0F89F6E0AF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A5B538-6C2C-4303-8FBF-A64F48F8EAC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7F65CB3-F0C6-405C-A3C0-127E09CAE00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92772B0-2EE8-49C7-8064-209D0F3DB80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696E3A9-9F48-4F67-AF34-210D1C7599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08FC4E4-6675-4074-9B5E-F7F40C734E6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4E3577E-B640-4048-BF3B-C3EE7890C8A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F01AD9-C3DE-4B2E-94B3-BE0C75BA79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EDA639-EA2A-4E4E-B911-4C7F4C7DDDB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F63667-132C-4D9B-B730-1AC85E294C4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0F4C6E5-43A8-4C86-A594-6F4669B1780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AAE4BA-519C-4301-85F4-7E9722197A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6734CFE-CCE7-4736-B84E-F95CCDB32AF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AED0D80-6432-4811-AB47-0980A1DE93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874AD9-A2D2-45B7-A9B6-E3F08211F9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95D7607-C5A4-490D-B58A-80DDD3D189F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F88D6FB-9D03-4F82-B3B7-9A220EC8D8F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37CB4DA-F89C-4A08-A87D-4543E39E9B0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B03724-E8A0-419C-88D0-534406EEE5E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13B026-F488-45CE-9AD8-EAF11092169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FFC84FE-1AB2-49DF-A74F-3A415D1182F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8B6D65B-6A5D-4B2D-95DE-6C10D21624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9E56072-BCF5-45E2-AE26-8E25B123AA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ADDE2C6-CFE4-43F0-BDCE-9B8851956D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450284-7A70-4A69-A84E-588B9302FD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E74606-5DF0-4BCD-B2CE-385FD9DAD97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B558558-6A9F-4AB8-A4DC-7CB8D3FA060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798FB28-A064-48E3-BC23-7DB51A5425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0EF3A05-EFAF-40F9-85AB-CDBC9B0CA1F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F704141-2C9D-452B-9FA3-F39AD6C112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844310-9FF7-42A0-B7FE-B2A41854EA3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ECBC8-86F5-4999-9F0B-D723F678E3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BD203-4C10-4A51-B092-9B737FFE88D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B3A5A-56D7-47C2-92B7-6B0154146F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34C84-E1FD-47F9-B240-E7EB6439B28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7603-D136-4A08-8879-AB933EA4F4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E7D2-4AC7-4237-8593-1AC89EF2F34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166D3-13D5-4AAD-84F0-EA1E066BF2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F6BC9-6F4F-4579-9F66-AD81C5CCC6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879F-8C60-419D-8806-8A7A82DE89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674E6-DC8D-4470-9E9C-BDC636C4186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tartalom készítés</a:t>
            </a:r>
            <a:endParaRPr b="0" lang="en-US" sz="3600" spc="-1" strike="noStrike">
              <a:solidFill>
                <a:srgbClr val="000000"/>
              </a:solidFill>
              <a:latin typeface="Arial"/>
            </a:endParaRPr>
          </a:p>
        </p:txBody>
      </p:sp>
      <p:sp>
        <p:nvSpPr>
          <p:cNvPr id="537" name="Rectángulo 1"/>
          <p:cNvSpPr/>
          <p:nvPr/>
        </p:nvSpPr>
        <p:spPr>
          <a:xfrm>
            <a:off x="1042920" y="3244680"/>
            <a:ext cx="720108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Hasznos alkalmazások: Utazás és nyelv</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ITranslate használata</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ét opciót fog látni a képernyőjé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Érintse meg a zászlót és válassza ki a saját nyelvé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Érintse meg a másik zászlót és válassza ki a nyelvet, amire fordítani szeretne. Pl.: amennyiben magyarról szeretne írre fordítani:</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Első érintés:</a:t>
            </a:r>
            <a:r>
              <a:rPr b="0" lang="hu-HU" sz="3000" spc="-1" strike="noStrike">
                <a:solidFill>
                  <a:srgbClr val="000000"/>
                </a:solidFill>
                <a:latin typeface="Arial Rounded MT Bold"/>
              </a:rPr>
              <a:t>	</a:t>
            </a:r>
            <a:r>
              <a:rPr b="0" lang="hu-HU" sz="3000" spc="-1" strike="noStrike">
                <a:solidFill>
                  <a:srgbClr val="000000"/>
                </a:solidFill>
                <a:latin typeface="Arial Rounded MT Bold"/>
              </a:rPr>
              <a:t>	</a:t>
            </a:r>
            <a:r>
              <a:rPr b="0" lang="hu-HU" sz="3000" spc="-1" strike="noStrike">
                <a:solidFill>
                  <a:srgbClr val="000000"/>
                </a:solidFill>
                <a:latin typeface="Arial Rounded MT Bold"/>
              </a:rPr>
              <a:t>    második érintés:</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3203640" y="4827600"/>
            <a:ext cx="823680" cy="503280"/>
          </a:xfrm>
          <a:prstGeom prst="rect">
            <a:avLst/>
          </a:prstGeom>
          <a:ln w="0">
            <a:noFill/>
          </a:ln>
        </p:spPr>
      </p:pic>
      <p:pic>
        <p:nvPicPr>
          <p:cNvPr id="567" name="Picture 4" descr=""/>
          <p:cNvPicPr/>
          <p:nvPr/>
        </p:nvPicPr>
        <p:blipFill>
          <a:blip r:embed="rId2"/>
          <a:stretch/>
        </p:blipFill>
        <p:spPr>
          <a:xfrm>
            <a:off x="7667640" y="489420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69" name=""/>
          <p:cNvSpPr txBox="1"/>
          <p:nvPr/>
        </p:nvSpPr>
        <p:spPr>
          <a:xfrm>
            <a:off x="395280" y="1412640"/>
            <a:ext cx="8748720" cy="416556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panyolországban nyaral.</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Angol az anyanyelve.</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Translate használatával fordítsa a következő szöveget angolról spanyolra:</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05600" indent="-271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ip</a:t>
            </a:r>
            <a:r>
              <a:rPr b="0" lang="hu-HU" sz="2800" spc="-1" strike="noStrike">
                <a:solidFill>
                  <a:srgbClr val="000000"/>
                </a:solidFill>
                <a:latin typeface="Arial Rounded MT Bold"/>
              </a:rPr>
              <a:t>p</a:t>
            </a:r>
            <a:r>
              <a:rPr b="0" lang="en-GB" sz="2800" spc="-1" strike="noStrike">
                <a:solidFill>
                  <a:srgbClr val="000000"/>
                </a:solidFill>
                <a:latin typeface="Arial Rounded MT Bold"/>
              </a:rPr>
              <a:t>: </a:t>
            </a:r>
            <a:r>
              <a:rPr b="0" lang="hu-HU" sz="2800" spc="-1" strike="noStrike">
                <a:solidFill>
                  <a:srgbClr val="000000"/>
                </a:solidFill>
                <a:latin typeface="Arial Rounded MT Bold"/>
              </a:rPr>
              <a:t>Amennyiben a lentebb látható mikrofon szimbólumra kattint fel is mondhatja a fordítandó szövege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4784760" y="543708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188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ideó megosztó alkalmazá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ponta legalább 1 órányi videó kerül feltöltésre a YouTube-ra.</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öltse le a YouTube alkalmazást az áruházbó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Hasznos</a:t>
            </a:r>
            <a:r>
              <a:rPr b="1" lang="en-GB" sz="4000" spc="-1" strike="noStrike">
                <a:solidFill>
                  <a:srgbClr val="000000"/>
                </a:solidFill>
                <a:latin typeface="Arial Rounded MT Bold"/>
              </a:rPr>
              <a:t> a YouTube</a:t>
            </a:r>
            <a:r>
              <a:rPr b="1"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em kötelező feltöltened videót, ahhoz hogy használhasd az alkalmazás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gyon sok és hasznos „Hogyan…” és „Lépésről-lépésre” videó található rajta. pl.: recept videó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76" name=""/>
          <p:cNvSpPr txBox="1"/>
          <p:nvPr/>
        </p:nvSpPr>
        <p:spPr>
          <a:xfrm>
            <a:off x="539280" y="1405080"/>
            <a:ext cx="8363160" cy="4525920"/>
          </a:xfrm>
          <a:prstGeom prst="rect">
            <a:avLst/>
          </a:prstGeom>
          <a:noFill/>
          <a:ln w="0">
            <a:noFill/>
          </a:ln>
        </p:spPr>
        <p:txBody>
          <a:bodyPr anchor="t">
            <a:normAutofit/>
          </a:bodyPr>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pp egy csepegő csapot szeretne megjavítani otthon.</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Nyissa meg a YouTube alkalmazás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e meg a képernyő fenti részében</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található keresés ikont </a:t>
            </a:r>
            <a:r>
              <a:rPr b="0" lang="hu-HU" sz="2400" spc="-1" strike="noStrike">
                <a:solidFill>
                  <a:srgbClr val="000000"/>
                </a:solidFill>
                <a:latin typeface="Wingdings"/>
                <a:ea typeface="Wingdings"/>
              </a:rPr>
              <a:t></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a be a következőt: „Hogyan javítsak meg csepegő csapot” és találja meg az ön számára megfelelő videót. </a:t>
            </a:r>
            <a:endParaRPr b="0" lang="en-US" sz="2400" spc="-1" strike="noStrike">
              <a:solidFill>
                <a:srgbClr val="000000"/>
              </a:solidFill>
              <a:latin typeface="Arial"/>
            </a:endParaRPr>
          </a:p>
        </p:txBody>
      </p:sp>
      <p:pic>
        <p:nvPicPr>
          <p:cNvPr id="577" name="Picture 2" descr=""/>
          <p:cNvPicPr/>
          <p:nvPr/>
        </p:nvPicPr>
        <p:blipFill>
          <a:blip r:embed="rId1"/>
          <a:stretch/>
        </p:blipFill>
        <p:spPr>
          <a:xfrm>
            <a:off x="4827600" y="407664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79" name=""/>
          <p:cNvSpPr txBox="1"/>
          <p:nvPr/>
        </p:nvSpPr>
        <p:spPr>
          <a:xfrm>
            <a:off x="457200" y="1600200"/>
            <a:ext cx="83836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ületésnapjára egy zongorát kapott ajándékb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sa meg a YouTube alkalmazás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 keresés ikont </a:t>
            </a:r>
            <a:r>
              <a:rPr b="0" lang="hu-HU"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ja be a következőt: „Zongorázás kezdőknek”.</a:t>
            </a:r>
            <a:endParaRPr b="0" lang="en-US" sz="2800" spc="-1" strike="noStrike">
              <a:solidFill>
                <a:srgbClr val="000000"/>
              </a:solidFill>
              <a:latin typeface="Arial"/>
            </a:endParaRPr>
          </a:p>
        </p:txBody>
      </p:sp>
      <p:pic>
        <p:nvPicPr>
          <p:cNvPr id="580" name="Picture 2" descr=""/>
          <p:cNvPicPr/>
          <p:nvPr/>
        </p:nvPicPr>
        <p:blipFill>
          <a:blip r:embed="rId1"/>
          <a:stretch/>
        </p:blipFill>
        <p:spPr>
          <a:xfrm>
            <a:off x="6804000" y="3862440"/>
            <a:ext cx="690480" cy="635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YouTube keresések</a:t>
            </a:r>
            <a:endParaRPr b="0" lang="en-US" sz="4000" spc="-1" strike="noStrike">
              <a:solidFill>
                <a:srgbClr val="000000"/>
              </a:solidFill>
              <a:latin typeface="Arial"/>
            </a:endParaRPr>
          </a:p>
        </p:txBody>
      </p:sp>
      <p:sp>
        <p:nvSpPr>
          <p:cNvPr id="582" name=""/>
          <p:cNvSpPr txBox="1"/>
          <p:nvPr/>
        </p:nvSpPr>
        <p:spPr>
          <a:xfrm>
            <a:off x="395280" y="1196640"/>
            <a:ext cx="8424720" cy="482436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ip</a:t>
            </a:r>
            <a:r>
              <a:rPr b="0" lang="hu-HU" sz="2600" spc="-1" strike="noStrike">
                <a:solidFill>
                  <a:srgbClr val="000000"/>
                </a:solidFill>
                <a:latin typeface="Arial Rounded MT Bold"/>
              </a:rPr>
              <a:t>p</a:t>
            </a:r>
            <a:r>
              <a:rPr b="0" lang="en-GB" sz="2600" spc="-1" strike="noStrike">
                <a:solidFill>
                  <a:srgbClr val="000000"/>
                </a:solidFill>
                <a:latin typeface="Arial Rounded MT Bold"/>
              </a:rPr>
              <a:t>: </a:t>
            </a:r>
            <a:r>
              <a:rPr b="0" lang="hu-HU" sz="2600" spc="-1" strike="noStrike">
                <a:solidFill>
                  <a:srgbClr val="000000"/>
                </a:solidFill>
                <a:latin typeface="Arial Rounded MT Bold"/>
              </a:rPr>
              <a:t>Nagyon sok eredményt kaphat egy YouTube keresés alkalmával. Egy jó módszer a megfelelő eredmény megtalálására a Sz</a:t>
            </a:r>
            <a:r>
              <a:rPr b="1" lang="hu-HU" sz="2600" spc="-1" strike="noStrike">
                <a:solidFill>
                  <a:srgbClr val="000000"/>
                </a:solidFill>
                <a:latin typeface="Arial Rounded MT Bold"/>
              </a:rPr>
              <a:t>ű</a:t>
            </a:r>
            <a:r>
              <a:rPr b="0" lang="hu-HU" sz="2600" spc="-1" strike="noStrike">
                <a:solidFill>
                  <a:srgbClr val="000000"/>
                </a:solidFill>
                <a:latin typeface="Arial Rounded MT Bold"/>
              </a:rPr>
              <a:t>r</a:t>
            </a:r>
            <a:r>
              <a:rPr b="1" lang="hu-HU" sz="2600" spc="-1" strike="noStrike">
                <a:solidFill>
                  <a:srgbClr val="000000"/>
                </a:solidFill>
                <a:latin typeface="Arial Rounded MT Bold"/>
              </a:rPr>
              <a:t>ő</a:t>
            </a:r>
            <a:r>
              <a:rPr b="0" lang="hu-HU" sz="2600" spc="-1" strike="noStrike">
                <a:solidFill>
                  <a:srgbClr val="000000"/>
                </a:solidFill>
                <a:latin typeface="Arial Rounded MT Bold"/>
              </a:rPr>
              <a:t> használata, pl: a legnézettebb videó alapjáni szűrés.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a százezrek, milliók megnézték, akkor valószínűleg nagyon sokan találták azt hasznosnak.</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Nézettség.</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83" name="Picture 2" descr=""/>
          <p:cNvPicPr/>
          <p:nvPr/>
        </p:nvPicPr>
        <p:blipFill>
          <a:blip r:embed="rId1"/>
          <a:stretch/>
        </p:blipFill>
        <p:spPr>
          <a:xfrm>
            <a:off x="3203640" y="4203720"/>
            <a:ext cx="5113440" cy="1763640"/>
          </a:xfrm>
          <a:prstGeom prst="rect">
            <a:avLst/>
          </a:prstGeom>
          <a:ln w="0">
            <a:noFill/>
          </a:ln>
        </p:spPr>
      </p:pic>
      <p:cxnSp>
        <p:nvCxnSpPr>
          <p:cNvPr id="584" name="Straight Arrow Connector 4"/>
          <p:cNvCxnSpPr/>
          <p:nvPr/>
        </p:nvCxnSpPr>
        <p:spPr>
          <a:xfrm>
            <a:off x="2556000" y="4365360"/>
            <a:ext cx="2808720" cy="216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Érdeklődési körök</a:t>
            </a:r>
            <a:endParaRPr b="0" lang="en-US" sz="4000" spc="-1" strike="noStrike">
              <a:solidFill>
                <a:srgbClr val="000000"/>
              </a:solidFill>
              <a:latin typeface="Arial"/>
            </a:endParaRPr>
          </a:p>
        </p:txBody>
      </p:sp>
      <p:sp>
        <p:nvSpPr>
          <p:cNvPr id="586" name=""/>
          <p:cNvSpPr txBox="1"/>
          <p:nvPr/>
        </p:nvSpPr>
        <p:spPr>
          <a:xfrm>
            <a:off x="323640" y="1109160"/>
            <a:ext cx="8569080" cy="4310280"/>
          </a:xfrm>
          <a:prstGeom prst="rect">
            <a:avLst/>
          </a:prstGeom>
          <a:noFill/>
          <a:ln w="0">
            <a:noFill/>
          </a:ln>
        </p:spPr>
        <p:txBody>
          <a:bodyPr anchor="t">
            <a:normAutofit fontScale="91000"/>
          </a:bodyPr>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ondoljon olyanra amit szívesen csinálna. Pl.: jóga, főzés, online játékok.</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Keressen az alkalmazás áruházában ezekhez kapcsolatos alkalmazásokat.</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ézze meg az alkalmazásról adott véleményeket.</a:t>
            </a:r>
            <a:endParaRPr b="0" lang="en-US" sz="2400" spc="-1" strike="noStrike">
              <a:solidFill>
                <a:srgbClr val="000000"/>
              </a:solidFill>
              <a:latin typeface="Arial"/>
            </a:endParaRPr>
          </a:p>
          <a:p>
            <a:pPr marL="312120" indent="-31212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llenőrizze, hogy az alkalmazás ingyenes-e mielőtt letöltené! Néhány alkalmazás kisebb költséggel jár – választhatja ezt is, amennyiben úgy érzi, hogy megér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Célok és célkitűzések</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 végén megszerezhet</a:t>
            </a:r>
            <a:r>
              <a:rPr b="1" lang="hu-HU" sz="3200" spc="-1" strike="noStrike">
                <a:solidFill>
                  <a:srgbClr val="000000"/>
                </a:solidFill>
                <a:latin typeface="Arial Rounded MT Bold"/>
              </a:rPr>
              <a:t>ő</a:t>
            </a:r>
            <a:r>
              <a:rPr b="0" lang="hu-HU" sz="3200" spc="-1" strike="noStrike">
                <a:solidFill>
                  <a:srgbClr val="000000"/>
                </a:solidFill>
                <a:latin typeface="Arial Rounded MT Bold"/>
              </a:rPr>
              <a:t> kompetenciák</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sznos mindennapi alkalmazások használata</a:t>
            </a:r>
            <a:r>
              <a:rPr b="0" lang="en-GB" sz="3200" spc="-1" strike="noStrike">
                <a:solidFill>
                  <a:srgbClr val="000000"/>
                </a:solidFill>
                <a:latin typeface="Arial Rounded MT Bold"/>
              </a:rPr>
              <a:t> </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Arial Rounded MT Bold"/>
              </a:rPr>
              <a:t>Képzéshez szükséges</a:t>
            </a:r>
            <a:br>
              <a:rPr sz="3600"/>
            </a:br>
            <a:r>
              <a:rPr b="1" lang="hu-HU" sz="3600" spc="-1" strike="noStrike">
                <a:solidFill>
                  <a:srgbClr val="000000"/>
                </a:solidFill>
                <a:latin typeface="Arial Rounded MT Bold"/>
              </a:rPr>
              <a:t>eszközök</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gy táblagép vagy okos telefon internet elérhet</a:t>
            </a:r>
            <a:r>
              <a:rPr b="1" lang="hu-HU" sz="3200" spc="-1" strike="noStrike">
                <a:solidFill>
                  <a:srgbClr val="000000"/>
                </a:solidFill>
                <a:latin typeface="Arial Rounded MT Bold"/>
              </a:rPr>
              <a:t>ő</a:t>
            </a:r>
            <a:r>
              <a:rPr b="0" lang="hu-HU" sz="3200" spc="-1" strike="noStrike">
                <a:solidFill>
                  <a:srgbClr val="000000"/>
                </a:solidFill>
                <a:latin typeface="Arial Rounded MT Bold"/>
              </a:rPr>
              <a:t>ségg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45" name=""/>
          <p:cNvSpPr txBox="1"/>
          <p:nvPr/>
        </p:nvSpPr>
        <p:spPr>
          <a:xfrm>
            <a:off x="468000" y="1484280"/>
            <a:ext cx="856764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el</a:t>
            </a:r>
            <a:r>
              <a:rPr b="1" lang="hu-HU" sz="2800" spc="-1" strike="noStrike">
                <a:solidFill>
                  <a:srgbClr val="000000"/>
                </a:solidFill>
                <a:latin typeface="Arial Rounded MT Bold"/>
              </a:rPr>
              <a:t>ő</a:t>
            </a:r>
            <a:r>
              <a:rPr b="0" lang="hu-HU" sz="2800" spc="-1" strike="noStrike">
                <a:solidFill>
                  <a:srgbClr val="000000"/>
                </a:solidFill>
                <a:latin typeface="Arial Rounded MT Bold"/>
              </a:rPr>
              <a:t>z</a:t>
            </a:r>
            <a:r>
              <a:rPr b="1" lang="hu-HU" sz="2800" spc="-1" strike="noStrike">
                <a:solidFill>
                  <a:srgbClr val="000000"/>
                </a:solidFill>
                <a:latin typeface="Arial Rounded MT Bold"/>
              </a:rPr>
              <a:t>ő </a:t>
            </a:r>
            <a:r>
              <a:rPr b="0" lang="hu-HU" sz="2800" spc="-1" strike="noStrike">
                <a:solidFill>
                  <a:srgbClr val="000000"/>
                </a:solidFill>
                <a:latin typeface="Arial Rounded MT Bold"/>
              </a:rPr>
              <a:t>anyagban megtanult alkalmazás letöltési módszer alapján:</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sa meg az alkalmazás áruházat (Play áruház, Microsoft áruház stb.)</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 Google Térképet és töltse le.</a:t>
            </a:r>
            <a:endParaRPr b="0" lang="en-US" sz="2800" spc="-1" strike="noStrike">
              <a:solidFill>
                <a:srgbClr val="000000"/>
              </a:solidFill>
              <a:latin typeface="Arial"/>
            </a:endParaRPr>
          </a:p>
          <a:p>
            <a:pPr lvl="1" marL="743040" indent="-28584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se meg az ITranslate alkalmazást és töltse 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a:t>
            </a:r>
            <a:r>
              <a:rPr b="1" lang="en-GB" sz="4000" spc="-1" strike="noStrike">
                <a:solidFill>
                  <a:srgbClr val="000000"/>
                </a:solidFill>
                <a:latin typeface="Arial Rounded MT Bold"/>
              </a:rPr>
              <a:t> </a:t>
            </a:r>
            <a:r>
              <a:rPr b="1" lang="hu-HU" sz="4000" spc="-1" strike="noStrike">
                <a:solidFill>
                  <a:srgbClr val="000000"/>
                </a:solidFill>
                <a:latin typeface="Arial Rounded MT Bold"/>
              </a:rPr>
              <a:t>Térkép</a:t>
            </a:r>
            <a:endParaRPr b="0" lang="en-US" sz="4000" spc="-1" strike="noStrike">
              <a:solidFill>
                <a:srgbClr val="000000"/>
              </a:solidFill>
              <a:latin typeface="Arial"/>
            </a:endParaRPr>
          </a:p>
        </p:txBody>
      </p:sp>
      <p:sp>
        <p:nvSpPr>
          <p:cNvPr id="547" name=""/>
          <p:cNvSpPr txBox="1"/>
          <p:nvPr/>
        </p:nvSpPr>
        <p:spPr>
          <a:xfrm>
            <a:off x="493560" y="1915920"/>
            <a:ext cx="8156880" cy="4383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intse meg a Google Térkép ikont a megnyitáshoz</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en rá egy helyre az országába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képernyőn húzza az ujját lentről felfelé, hogy a helyszínhez kapcsolódó információk megjelenjene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on az Útvonaltervezés lehetőségre és válassza ki az indulási pontját. Ez lehet a lakcíme is. Tipp: Amennyiben a helymeghatározás be van kapcsolva készülékén jelenlegi tartózkodásától könnyedén tud tervezni. </a:t>
            </a:r>
            <a:endParaRPr b="0" lang="en-US" sz="2400" spc="-1" strike="noStrike">
              <a:solidFill>
                <a:srgbClr val="000000"/>
              </a:solidFill>
              <a:latin typeface="Arial"/>
            </a:endParaRPr>
          </a:p>
        </p:txBody>
      </p:sp>
      <p:pic>
        <p:nvPicPr>
          <p:cNvPr id="548" name="Picture 4" descr=""/>
          <p:cNvPicPr/>
          <p:nvPr/>
        </p:nvPicPr>
        <p:blipFill>
          <a:blip r:embed="rId1"/>
          <a:stretch/>
        </p:blipFill>
        <p:spPr>
          <a:xfrm>
            <a:off x="7834320" y="75096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 Térkép</a:t>
            </a:r>
            <a:endParaRPr b="0" lang="en-US" sz="4000" spc="-1" strike="noStrike">
              <a:solidFill>
                <a:srgbClr val="000000"/>
              </a:solidFill>
              <a:latin typeface="Arial"/>
            </a:endParaRPr>
          </a:p>
        </p:txBody>
      </p:sp>
      <p:sp>
        <p:nvSpPr>
          <p:cNvPr id="550" name=""/>
          <p:cNvSpPr txBox="1"/>
          <p:nvPr/>
        </p:nvSpPr>
        <p:spPr>
          <a:xfrm>
            <a:off x="323640" y="1263600"/>
            <a:ext cx="4895640" cy="4525920"/>
          </a:xfrm>
          <a:prstGeom prst="rect">
            <a:avLst/>
          </a:prstGeom>
          <a:noFill/>
          <a:ln w="0">
            <a:noFill/>
          </a:ln>
        </p:spPr>
        <p:txBody>
          <a:bodyPr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öbb lehetőséget is felkínál az alkalmazás az eljutáshoz:</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utó, tömegközlekedés, taxi,</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gyalog, bicikli.</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attintson a megfelelő</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szimbólumra, hogy megtudja</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ennyi az eljutási idő      autóval, vagy gyalog.</a:t>
            </a:r>
            <a:endParaRPr b="0" lang="en-US" sz="2600" spc="-1" strike="noStrike">
              <a:solidFill>
                <a:srgbClr val="000000"/>
              </a:solidFill>
              <a:latin typeface="Arial"/>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51" name="Picture 3" descr=""/>
          <p:cNvPicPr/>
          <p:nvPr/>
        </p:nvPicPr>
        <p:blipFill>
          <a:blip r:embed="rId1"/>
          <a:stretch/>
        </p:blipFill>
        <p:spPr>
          <a:xfrm>
            <a:off x="5635800" y="2081160"/>
            <a:ext cx="2482560" cy="3584520"/>
          </a:xfrm>
          <a:prstGeom prst="rect">
            <a:avLst/>
          </a:prstGeom>
          <a:ln w="0">
            <a:noFill/>
          </a:ln>
        </p:spPr>
      </p:pic>
      <p:cxnSp>
        <p:nvCxnSpPr>
          <p:cNvPr id="552" name="Straight Arrow Connector 2"/>
          <p:cNvCxnSpPr/>
          <p:nvPr/>
        </p:nvCxnSpPr>
        <p:spPr>
          <a:xfrm flipV="1">
            <a:off x="4140360" y="3068280"/>
            <a:ext cx="149616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6480" y="25236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Google Térkép a gyakorlatban</a:t>
            </a:r>
            <a:endParaRPr b="0" lang="en-US" sz="3800" spc="-1" strike="noStrike">
              <a:solidFill>
                <a:srgbClr val="000000"/>
              </a:solidFill>
              <a:latin typeface="Arial"/>
            </a:endParaRPr>
          </a:p>
        </p:txBody>
      </p:sp>
      <p:sp>
        <p:nvSpPr>
          <p:cNvPr id="554" name=""/>
          <p:cNvSpPr txBox="1"/>
          <p:nvPr/>
        </p:nvSpPr>
        <p:spPr>
          <a:xfrm>
            <a:off x="395280" y="1484280"/>
            <a:ext cx="830736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Franciaországban, Párizsban van nyaraláson.</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Franciaországon belül Calaisba szeretne eljut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asználja a Google Térképet az eljutási lehetőség feltérképezésé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utóval vagy tömegközlekedéssel gyorsabb eljut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ilyen tömegközlekedési opciók vannak?</a:t>
            </a:r>
            <a:endParaRPr b="0" lang="en-US" sz="2600" spc="-1" strike="noStrike">
              <a:solidFill>
                <a:srgbClr val="000000"/>
              </a:solidFill>
              <a:latin typeface="Arial"/>
            </a:endParaRPr>
          </a:p>
        </p:txBody>
      </p:sp>
      <p:pic>
        <p:nvPicPr>
          <p:cNvPr id="555" name="Picture 4" descr=""/>
          <p:cNvPicPr/>
          <p:nvPr/>
        </p:nvPicPr>
        <p:blipFill>
          <a:blip r:embed="rId1"/>
          <a:stretch/>
        </p:blipFill>
        <p:spPr>
          <a:xfrm>
            <a:off x="8028000" y="522360"/>
            <a:ext cx="933480" cy="961920"/>
          </a:xfrm>
          <a:prstGeom prst="rect">
            <a:avLst/>
          </a:prstGeom>
          <a:ln w="0">
            <a:noFill/>
          </a:ln>
        </p:spPr>
      </p:pic>
      <p:pic>
        <p:nvPicPr>
          <p:cNvPr id="556" name="Picture 2" descr=""/>
          <p:cNvPicPr/>
          <p:nvPr/>
        </p:nvPicPr>
        <p:blipFill>
          <a:blip r:embed="rId2"/>
          <a:stretch/>
        </p:blipFill>
        <p:spPr>
          <a:xfrm>
            <a:off x="1332000" y="4700520"/>
            <a:ext cx="2160360" cy="1309680"/>
          </a:xfrm>
          <a:prstGeom prst="rect">
            <a:avLst/>
          </a:prstGeom>
          <a:ln w="0">
            <a:noFill/>
          </a:ln>
        </p:spPr>
      </p:pic>
      <p:pic>
        <p:nvPicPr>
          <p:cNvPr id="557" name="Picture 3" descr=""/>
          <p:cNvPicPr/>
          <p:nvPr/>
        </p:nvPicPr>
        <p:blipFill>
          <a:blip r:embed="rId3"/>
          <a:stretch/>
        </p:blipFill>
        <p:spPr>
          <a:xfrm>
            <a:off x="5364000" y="4719600"/>
            <a:ext cx="2089440" cy="1308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Google Térkép tipp</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alkalmazás rendelkezik egy offline verzióval is, melyet letöltés után akár internetkapcsolat nélkül is tudunk használni – nagyon hasznos amikor nem érhető el wifi kapcsolat.</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626920" y="259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Utazás</a:t>
            </a:r>
            <a:r>
              <a:rPr b="1" lang="en-GB" sz="4000" spc="-1" strike="noStrike">
                <a:solidFill>
                  <a:srgbClr val="000000"/>
                </a:solidFill>
                <a:latin typeface="Arial Rounded MT Bold"/>
              </a:rPr>
              <a:t> </a:t>
            </a:r>
            <a:r>
              <a:rPr b="1" lang="hu-HU" sz="4000" spc="-1" strike="noStrike">
                <a:solidFill>
                  <a:srgbClr val="000000"/>
                </a:solidFill>
                <a:latin typeface="Arial Rounded MT Bold"/>
              </a:rPr>
              <a:t>külfö</a:t>
            </a:r>
            <a:r>
              <a:rPr b="1" lang="en-GB" sz="4000" spc="-1" strike="noStrike">
                <a:solidFill>
                  <a:srgbClr val="000000"/>
                </a:solidFill>
                <a:latin typeface="Arial Rounded MT Bold"/>
              </a:rPr>
              <a:t>ldre</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után letöltötte az ITranslate alkalmazá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attintson az ikonra a megnyitáshoz.</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ár használhatja is fordításra. Telefonon és táblagépen is elérhető.</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700360" y="3716280"/>
            <a:ext cx="3743280" cy="212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5T17:18:25Z</dcterms:modified>
  <cp:revision>477</cp:revision>
  <dc:subject/>
  <dc:title>Title</dc:title>
</cp:coreProperties>
</file>