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FDBA-780C-4443-8F53-874BCF94EA2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A9CF-ACEF-4858-ABC4-1F692CEC3B8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26230-DAFB-41BE-9FD2-7C8C9DFD1A52}"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57198-8B59-4A8F-B119-4C1C4EF686AE}"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2F5E-04D8-42CA-8BA0-41A014ECF0E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0CB38-6861-4C5C-AD31-E936A714BE2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954B-93FF-4442-9789-A44C2726E3D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259B-3A3A-482C-9EE6-53EE63DD6A6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59FB-4ACA-4FAA-BB21-9EA4B785532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1C697-081C-4A60-B8B3-0E32142A82C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57453-051C-45AD-A807-5D881319A01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F06A-5974-4263-BAD8-04641E14FDE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DD6A3-1F2A-4E50-8E62-E6765ACC749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DC9C-45C7-4481-925C-99823962219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42E0A7F-6BBB-4155-862F-BC9848A42E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14D2296-C098-483C-ACC1-DDDCA4F3AF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78BE82D-0536-445C-BF01-D0B1CC8366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34B2FA9-7CA5-486C-B933-9B89AB8649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73360BF-EB47-4145-B4BA-CEE8CA02E1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DAE17C2-7511-4C37-8C96-469D69D509B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01CDCEE-8D32-467D-B247-DCED38F6E32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1119997-63BC-4205-A20C-9DFC9C929A0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28877C6-DB6C-4C36-A673-92A03591CAE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720E31D-FB97-42DF-B739-7DC45042176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10EDBA3-66F3-4FA0-A64B-513FE65B7F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9E7929-81F5-43C0-8582-9E66E133114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030DCA-24F2-40A4-82A0-6CECBF4963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86A9E49-9CDC-4A63-A0FF-B2FA6FA7D7D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0F379E-FD92-4C43-A783-7975578F11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1491B01-1D06-4ADA-8D09-AC12F2E3AB6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9B31BD-826B-4E5E-98D0-BBC8AB17E52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D29A7A-C2E5-403D-9436-B5A8C973DD9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18BB48-7B64-48A3-92F6-E0A1E4C65CD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BBA54FF-6C8A-46A9-BD2B-007C10C0FD8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AFD98E6-C833-4841-B98F-F4ED626409C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E55885F-CE09-4C53-B196-F42B23918C3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53DD227-42A2-4DF8-9BB8-437C47AB3F1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723DF03-0D4E-4E20-96A4-6EBEB6FB95D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C1C0FAA-7365-465F-9D03-C1E1679A7D2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2D7FBC6-4D90-43CD-A561-3731BFE821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27B38C5-C25B-4EBE-A1CD-CA0B37D8B4B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9E14079-DDAB-41D5-A4B2-F19C9567BE0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09E05C-F1CB-45A8-939F-ADD5C18260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84E495F-95B1-4957-AAFE-A130F1F6CA5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415819E-C34F-4394-B81F-D8C4EC056CE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A408B66-B83B-441B-8FD3-6A0BABAF5D8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E772F26-20F3-414A-B899-9E3AF24F907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1AC72AA-CCDE-4128-B6F8-4417229873B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17EE182-90B6-461E-9EA9-5282A82F5C7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3AF968-67D7-4680-992F-E65EB80E79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BED8E34-383B-4E48-8030-96A1643F395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7685945-5917-40B1-91CC-060451DA42A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9AC1D9F-BD89-4482-823A-B75382902FB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EF16699-95FF-4C12-8BB2-F00A6A2AD1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1185B2-86BC-464A-B268-222757E5E69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25B225F-72D7-403B-9F96-69E6108977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DE92CCD-64D4-4E03-804C-215F4D235CD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E79F869-69D5-49F1-9A55-AD346AB20F4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0F7785F-A937-4D08-B5AD-F002D1048B1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11AA3C-1C66-43EA-ADDA-834F4CEC76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79EF76-6E14-4DDF-8E05-E6D1886BB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CB7A25-A56F-4687-B197-6C93A4694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354C1-93B6-4101-A0D1-A20E7C322D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824B9-2B45-4A02-BC22-812841409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33EF7-D055-49AB-9B38-98B2727E2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0DC977-6751-478E-A170-7282F5465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C3AF60-DC62-4BA0-B77D-F30658C2B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CAFAA-2390-4C2A-928B-9EBAA66F9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AF0811-19E8-4209-8B21-5880B2EB6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CD3A4-C9A7-4FBD-8ED3-DC60ABFAB4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5959E8-515F-4755-B188-42E1F22A27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6FE60C7-2531-4C81-A9DD-DC78E2C9F1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4683436-160D-4464-9787-220E0362CAE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2D95635-BA66-4F62-A364-6D83E3B5EA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FD3F21-9951-4983-B997-61EBDDE117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898F695-C94E-4336-BAA8-3843A9DE26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93855B-FB19-4DA8-A7EF-EE34541022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7A8C7D-51DB-45C2-805A-B48FDD15FA7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683E08-0008-4222-A0DE-5EA1A869A1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2BE6947-C734-4818-AD4D-E7EF92E3C4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FC716D-3795-4BD6-904D-AC10B9C6E0C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B9696A-B2A8-44A7-9523-A7C899868A3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8449B42-8E54-43E3-BF04-EC5DCCB2427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072A69-5595-4D6C-B5CB-9B8E54AB367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B7A012-83B6-4B5C-B81C-C52A4CC2E05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FEE601-4FFF-430C-A01E-C6C06A6E3E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DAB29E-9D4C-4CFA-80F5-30F0F9E8CF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6D1474-7D41-40C4-8C37-A6960E9307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70A2B0-FFA3-4C73-A32C-9414DDAF06F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D6A16F-6E29-4C22-A3F5-90C540DBBD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9EE33E-535B-4547-889C-D6228D2F1B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219438E-8C3A-4C95-9208-26D46463D0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300437-B2EA-4069-9C78-313B6116B6B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01978D2-58C8-4BF7-AFA4-449421BC205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5E0FCB1-97FF-4CE9-B17A-6A4C102E18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794377-B692-4BBB-9808-F2E0BF9B85A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77CC84-23B3-466B-B6A0-557CDDE2A0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040E0A-E791-4698-A1C7-D122BAD2A7B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743FE3-0842-4E6D-855B-4B3B077D13C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983A67F-9AC4-49A3-8314-634C086E505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C748E9-5E1B-4864-B636-538EB57715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3EA2E5-0880-4347-AF1F-3F65F29E41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2A3664-4000-4443-888E-3F522C5740D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EE78C9-249F-481D-BABA-478B784A9CC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D29638F-7D4D-4219-9C6E-7633CFD32B7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A34B42-81CF-4FB5-BD04-792E736FC7A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20A90B-C795-4158-AF21-494182B8ACA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D6E4820-2C22-4C83-BDD0-3512AF62DEC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168ACC5-1AF9-4DAC-9F09-703458CB93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27D576-0015-484E-A781-D1D05A50A3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E1DD831-CB41-4D19-9639-CE41BFF88AB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705FD1C-29E4-4C24-A136-BF1A600FB9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5BB426B-C248-49C7-9E7D-A86997BC0C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F6BD35-3149-4A8E-90D4-5037497B9F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79EB10-841C-48C3-BCE4-D7D40F49C0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EE7912-FCEA-4C92-9997-A3EF3E7AF2C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66E693C-45EA-40F8-824C-027C721F33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2CFE21C-C389-4D32-AF6D-E154864F2CF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7CED139-9E66-4E51-8293-1EE56985D8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CA83BE8-C38D-4CDB-B285-A6061355C5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E14465-A75C-4FA0-8F5F-BD006C962E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747A94-4EC1-49EF-98FE-EAFD7522CB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6DE904-D0DB-4DA5-B24D-9BD81676E7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4BD5D97-5FF5-4AB6-978E-632F93ADB64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D93500-2031-4253-B896-8CA4E4365DD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8CE1C9B-8719-43DF-B3A4-B06AE162F1F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4D03790-7F46-4A2F-9239-2D8839CAB4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BBB7D8-9949-4EAD-9D2D-14CCE9C404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3B3974E-3D1E-4F76-8D4C-AF14D98E95D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CC98FD0-7AFF-4D8E-A35F-ABCAC0D07EA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90A2F12-0C38-4E06-964F-FA661E9AF42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8EAD689-5D9A-4233-ABB1-D54B07BC112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5A73150-9FE3-455A-AD43-5A417CF3F18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4C66A32-2426-4BF8-A65E-38FF34880A7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FA5B-26E9-4F30-9BB4-88D066AD31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C624-F78A-4D5C-AEBB-594686DCCE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48AF-8F32-4D8A-AEA9-48D1F40A41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9D8A-9ED2-4737-9157-06EC62FA0C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B275-90FF-442D-B329-2C2A8100BF5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A3D55-12EF-407D-969C-F011C106DC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64FD-49DB-4AB7-9005-E9184DDD56D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93FA-9879-4AFF-85E5-75E5559B0FA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DCE5-8C37-4173-92A5-C7A5B2ECE3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299B3-6EFD-4106-BFB5-2A178BA6164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file:///link" TargetMode="External"/><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Rozwiązywanie problemów technicznych: rozpoznawanie potrzeb i reakcji technologicznych</a:t>
            </a:r>
            <a:endParaRPr b="0" lang="en-US" sz="2400" spc="-1" strike="noStrike">
              <a:solidFill>
                <a:srgbClr val="000000"/>
              </a:solidFill>
              <a:latin typeface="Arial"/>
            </a:endParaRPr>
          </a:p>
        </p:txBody>
      </p:sp>
      <p:sp>
        <p:nvSpPr>
          <p:cNvPr id="544" name="Rectángulo 1"/>
          <p:cNvSpPr/>
          <p:nvPr/>
        </p:nvSpPr>
        <p:spPr>
          <a:xfrm>
            <a:off x="1144440" y="3357720"/>
            <a:ext cx="566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a:t>
            </a:r>
            <a:r>
              <a:rPr b="0" lang="hu-HU" sz="3200" spc="-1" strike="noStrike">
                <a:solidFill>
                  <a:srgbClr val="000000"/>
                </a:solidFill>
                <a:latin typeface="Arial Rounded MT Bold"/>
              </a:rPr>
              <a:t>ozwiązywanie problemów</a:t>
            </a: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Ekran</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68" name=""/>
          <p:cNvGraphicFramePr/>
          <p:nvPr/>
        </p:nvGraphicFramePr>
        <p:xfrm>
          <a:off x="515880" y="242712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emny ekran</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monitor jest podlaczony do sieci, do komputera i jest wlaczony.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acisnij na przycisk wlacz lub zawies.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kabel monitora jest podlaczony do komputera i czy dziala poprawni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Obraz jest bardzo duzy, bardzo maly lub zamazany. </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ybierz rozdzielczosc ekranu w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Kliknij Click prawym przyciskiem na Pokaz ustawienia’.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zejrzyj opcje rozdzielczosci ekranu i wybierz opcje.</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Urządzenia peryferyjne</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16864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ysz, klawiatura lub inne urzadzenia peryferyjne nie dzialaja.</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sa podlaczone do komputera.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sa bezprzewodowe, sprawdz czy sa wlaczone i naladowan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sa kompatybilne z Twoim komputerem i z systemem operacyjnym.</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ylacz komputer, podlacz i odlacz urzadzenie peryferyjne i wlacz je na now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oszukaj mozliwych aktualizacji poprzez Windows.</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K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875400"/>
        </p:xfrm>
        <a:graphic>
          <a:graphicData uri="http://schemas.openxmlformats.org/drawingml/2006/table">
            <a:tbl>
              <a:tblPr/>
              <a:tblGrid>
                <a:gridCol w="1616040"/>
                <a:gridCol w="73486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505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omputer nie wlacza si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komputer jest podlaczony do sieci.</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wlacznik z tylu komputer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komputer sie nie wlacza moze dawac znaki poprzez dzwieki, z ktorych najczestsze t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agly </a:t>
                      </a:r>
                      <a:r>
                        <a:rPr b="0" lang="es-ES" sz="1600" spc="-1" strike="noStrike">
                          <a:solidFill>
                            <a:srgbClr val="ffffff"/>
                          </a:solidFill>
                          <a:latin typeface="Arial"/>
                        </a:rPr>
                        <a:t>	</a:t>
                      </a:r>
                      <a:r>
                        <a:rPr b="0" lang="es-ES" sz="1600" spc="-1" strike="noStrike">
                          <a:solidFill>
                            <a:srgbClr val="ffffff"/>
                          </a:solidFill>
                          <a:latin typeface="Arial"/>
                        </a:rPr>
                        <a:t>   Brak pradu.</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rotki i staly </a:t>
                      </a:r>
                      <a:r>
                        <a:rPr b="0" lang="es-ES" sz="1600" spc="-1" strike="noStrike">
                          <a:solidFill>
                            <a:srgbClr val="ffffff"/>
                          </a:solidFill>
                          <a:latin typeface="Arial"/>
                        </a:rPr>
                        <a:t>	</a:t>
                      </a:r>
                      <a:r>
                        <a:rPr b="0" lang="es-ES" sz="1600" spc="-1" strike="noStrike">
                          <a:solidFill>
                            <a:srgbClr val="ffffff"/>
                          </a:solidFill>
                          <a:latin typeface="Arial"/>
                        </a:rPr>
                        <a:t>Glowna plyta jest uszkodzon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bardzo dlugi</a:t>
                      </a:r>
                      <a:r>
                        <a:rPr b="0" lang="es-ES" sz="1600" spc="-1" strike="noStrike">
                          <a:solidFill>
                            <a:srgbClr val="ffffff"/>
                          </a:solidFill>
                          <a:latin typeface="Arial"/>
                        </a:rPr>
                        <a:t>	</a:t>
                      </a:r>
                      <a:r>
                        <a:rPr b="0" lang="es-ES" sz="1600" spc="-1" strike="noStrike">
                          <a:solidFill>
                            <a:srgbClr val="ffffff"/>
                          </a:solidFill>
                          <a:latin typeface="Arial"/>
                        </a:rPr>
                        <a:t>    blad RAM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i 1 krotki   blad w glownej plyc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i 2 krotkie   problema karty wi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dlugi                   Pracuje poprawni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Kazdy z powyzszych problemow bedzie wymagac wymiany uszkodzonej czesci.</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897600" y="4046400"/>
            <a:ext cx="1800360" cy="134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Błędy i rozwiązania przedstawione w poprzednich slajdach są najczęstsze, a także </a:t>
            </a:r>
            <a:r>
              <a:rPr b="0" lang="pl-PL" sz="2200" spc="-1" strike="noStrike">
                <a:solidFill>
                  <a:srgbClr val="92d050"/>
                </a:solidFill>
                <a:latin typeface="Arial Rounded MT Bold"/>
              </a:rPr>
              <a:t>proponowane rozwiązania są najłatwiejsze</a:t>
            </a:r>
            <a:r>
              <a:rPr b="0" lang="pl-PL" sz="2200" spc="-1" strike="noStrike">
                <a:solidFill>
                  <a:srgbClr val="000000"/>
                </a:solidFill>
                <a:latin typeface="Arial Rounded MT Bold"/>
              </a:rPr>
              <a:t> i najczęstsze</a:t>
            </a:r>
            <a:r>
              <a:rPr b="0" lang="it-IT" sz="2200" spc="-1" strike="noStrike">
                <a:solidFill>
                  <a:srgbClr val="00000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Możesz </a:t>
            </a:r>
            <a:r>
              <a:rPr b="0" lang="it-IT" sz="2200" spc="-1" strike="noStrike">
                <a:solidFill>
                  <a:srgbClr val="000000"/>
                </a:solidFill>
                <a:latin typeface="Arial Rounded MT Bold"/>
              </a:rPr>
              <a:t>poszerzy</a:t>
            </a:r>
            <a:r>
              <a:rPr b="0" lang="pl-PL" sz="2200" spc="-1" strike="noStrike">
                <a:solidFill>
                  <a:srgbClr val="000000"/>
                </a:solidFill>
                <a:latin typeface="Arial Rounded MT Bold"/>
              </a:rPr>
              <a:t>ć tę informację poprzez linki w bibliografii.</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Przykłady oparte są na systemie operacyjnym Windows 10</a:t>
            </a:r>
            <a:r>
              <a:rPr b="0" lang="it-IT" sz="2200" spc="-1" strike="noStrike">
                <a:solidFill>
                  <a:srgbClr val="000000"/>
                </a:solidFill>
                <a:latin typeface="Arial Rounded MT Bold"/>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68360" y="124920"/>
            <a:ext cx="678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79" name=""/>
          <p:cNvSpPr txBox="1"/>
          <p:nvPr/>
        </p:nvSpPr>
        <p:spPr>
          <a:xfrm>
            <a:off x="457200" y="16398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Aktualizuj swój system operacyjny (O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uczową częścią komputera jest system operacyjny, więc w celu zapewnienia poprawnego działania zaleca się aktualizację, a jeśli nasz komputer działa z systemem Windows, możemy użyć aktualizacji systemu Window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en sposób zawsze będziemy aktualizować sterowniki urządzeń peryferyjny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2843280" y="3730680"/>
            <a:ext cx="3962160" cy="238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2" name=""/>
          <p:cNvSpPr txBox="1"/>
          <p:nvPr/>
        </p:nvSpPr>
        <p:spPr>
          <a:xfrm>
            <a:off x="457200" y="18558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aktualizuj aplikacj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obnie jak system operacyjny, również </a:t>
            </a:r>
            <a:r>
              <a:rPr b="0" lang="pl-PL" sz="2000" spc="-1" strike="noStrike">
                <a:solidFill>
                  <a:srgbClr val="92d050"/>
                </a:solidFill>
                <a:latin typeface="Arial Rounded MT Bold"/>
              </a:rPr>
              <a:t>zainstalowane aplikacje </a:t>
            </a:r>
            <a:r>
              <a:rPr b="0" lang="pl-PL" sz="2000" spc="-1" strike="noStrike">
                <a:solidFill>
                  <a:srgbClr val="000000"/>
                </a:solidFill>
                <a:latin typeface="Arial Rounded MT Bold"/>
              </a:rPr>
              <a:t>działają lepiej i są bezpieczniejsze, jeśli będziemy je </a:t>
            </a:r>
            <a:r>
              <a:rPr b="0" lang="pl-PL" sz="2000" spc="-1" strike="noStrike">
                <a:solidFill>
                  <a:srgbClr val="92d050"/>
                </a:solidFill>
                <a:latin typeface="Arial Rounded MT Bold"/>
              </a:rPr>
              <a:t>aktualizować</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dinstaluj aplikacj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m więcej zainstalowanych aplikacji, tym wolniej będzie działał komputer z powodu nadmiaru zadań w tle i plików w komputerze. Dobrym zadaniem konserwacyjnym byłoby </a:t>
            </a:r>
            <a:r>
              <a:rPr b="0" lang="pl-PL" sz="2000" spc="-1" strike="noStrike">
                <a:solidFill>
                  <a:srgbClr val="92d050"/>
                </a:solidFill>
                <a:latin typeface="Arial Rounded MT Bold"/>
              </a:rPr>
              <a:t>usunięcie wszystkich nieużywanych aplikac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ystem start</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iele aplikacji uruchamia się domyślnie po uruchomieniu systemu operacyjnego, co powoduje, że komputer działa powoli i zajmuje więcej czasu, zanim jest całkowicie gotowy do uruchomie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uniknąć tego problemu, możemy </a:t>
            </a:r>
            <a:r>
              <a:rPr b="0" lang="pl-PL" sz="2000" spc="-1" strike="noStrike">
                <a:solidFill>
                  <a:srgbClr val="92d050"/>
                </a:solidFill>
                <a:latin typeface="Arial Rounded MT Bold"/>
              </a:rPr>
              <a:t>zdefiniować aplikacje, które chcemy uruchomić </a:t>
            </a:r>
            <a:r>
              <a:rPr b="0" lang="pl-PL" sz="2000" spc="-1" strike="noStrike">
                <a:solidFill>
                  <a:srgbClr val="000000"/>
                </a:solidFill>
                <a:latin typeface="Arial Rounded MT Bold"/>
              </a:rPr>
              <a:t>razem z komputerem</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by to zrobić, możemy:</a:t>
            </a:r>
            <a:endParaRPr b="0" lang="en-US" sz="2000" spc="-1" strike="noStrike">
              <a:solidFill>
                <a:srgbClr val="000000"/>
              </a:solidFill>
              <a:latin typeface="Arial"/>
            </a:endParaRPr>
          </a:p>
          <a:p>
            <a:pPr>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Klikn</a:t>
            </a:r>
            <a:r>
              <a:rPr b="0" lang="it-IT" sz="1800" spc="-1" strike="noStrike">
                <a:solidFill>
                  <a:srgbClr val="000000"/>
                </a:solidFill>
                <a:latin typeface="Arial Rounded MT Bold"/>
              </a:rPr>
              <a:t>ac</a:t>
            </a:r>
            <a:r>
              <a:rPr b="0" lang="pl-PL" sz="1800" spc="-1" strike="noStrike">
                <a:solidFill>
                  <a:srgbClr val="000000"/>
                </a:solidFill>
                <a:latin typeface="Arial Rounded MT Bold"/>
              </a:rPr>
              <a:t> prawym przyciskiem na pasku zadań i wybierz opcję „menedżer zadań”</a:t>
            </a:r>
            <a:endParaRPr b="0" lang="en-US" sz="1800" spc="-1" strike="noStrike">
              <a:solidFill>
                <a:srgbClr val="000000"/>
              </a:solidFill>
              <a:latin typeface="Arial"/>
            </a:endParaRPr>
          </a:p>
          <a:p>
            <a:pPr>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Po wejściu do zakładki „start” wybieramy aplikację i klikamy „wyłąc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ystem start</a:t>
            </a: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67984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0" name=""/>
          <p:cNvSpPr txBox="1"/>
          <p:nvPr/>
        </p:nvSpPr>
        <p:spPr>
          <a:xfrm>
            <a:off x="395280" y="1297080"/>
            <a:ext cx="4330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yw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92d050"/>
                </a:solidFill>
                <a:latin typeface="Arial Rounded MT Bold"/>
              </a:rPr>
              <a:t>Antywirus</a:t>
            </a:r>
            <a:r>
              <a:rPr b="0" lang="pl-PL" sz="1800" spc="-1" strike="noStrike">
                <a:solidFill>
                  <a:srgbClr val="000000"/>
                </a:solidFill>
                <a:latin typeface="Arial Rounded MT Bold"/>
              </a:rPr>
              <a:t> powinien być zawsze </a:t>
            </a:r>
            <a:r>
              <a:rPr b="0" lang="pl-PL" sz="1800" spc="-1" strike="noStrike">
                <a:solidFill>
                  <a:srgbClr val="92d050"/>
                </a:solidFill>
                <a:latin typeface="Arial Rounded MT Bold"/>
              </a:rPr>
              <a:t>aktywny i aktualizowany</a:t>
            </a:r>
            <a:r>
              <a:rPr b="0" lang="pl-PL"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 przypadku systemu Windows 10 nie jest konieczne instalowanie żadnego dodatkowego oprogramowania antywirusowego, ponieważ zapewnia ono dobry system antywirusow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Nazywa się „</a:t>
            </a:r>
            <a:r>
              <a:rPr b="0" lang="pl-PL" sz="1800" spc="-1" strike="noStrike">
                <a:solidFill>
                  <a:srgbClr val="92d050"/>
                </a:solidFill>
                <a:latin typeface="Arial Rounded MT Bold"/>
              </a:rPr>
              <a:t>Zabezpieczeniami systemu Windows</a:t>
            </a:r>
            <a:r>
              <a:rPr b="0" lang="pl-PL" sz="1800" spc="-1" strike="noStrike">
                <a:solidFill>
                  <a:srgbClr val="000000"/>
                </a:solidFill>
                <a:latin typeface="Arial Rounded MT Bold"/>
              </a:rPr>
              <a:t>” i obejmuje kilka systemów zabezpieczeń oprócz standardowego programu</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705200" y="1717560"/>
            <a:ext cx="4330800" cy="41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fontScale="99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yw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Nie zaleca się wyłączania automatycznej kontroli systemu, który odpowiada za regularne wyszukiwanie wirusów.</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chcemy mieć dodatkowy egzamin, możemy to zrobić, klikając „Szybki przegląd”</a:t>
            </a:r>
            <a:endParaRPr b="0" lang="en-US" sz="2400" spc="-1" strike="noStrike">
              <a:solidFill>
                <a:srgbClr val="000000"/>
              </a:solidFill>
              <a:latin typeface="Arial"/>
            </a:endParaRPr>
          </a:p>
        </p:txBody>
      </p:sp>
      <p:pic>
        <p:nvPicPr>
          <p:cNvPr id="594" name="Imagen 2" descr=""/>
          <p:cNvPicPr/>
          <p:nvPr/>
        </p:nvPicPr>
        <p:blipFill>
          <a:blip r:embed="rId1"/>
          <a:stretch/>
        </p:blipFill>
        <p:spPr>
          <a:xfrm>
            <a:off x="5051520" y="1841400"/>
            <a:ext cx="36558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ele i zadania</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końcu tego modułu będziesz </a:t>
            </a:r>
            <a:r>
              <a:rPr b="0" lang="it-IT" sz="2800" spc="-1" strike="noStrike">
                <a:solidFill>
                  <a:srgbClr val="000000"/>
                </a:solidFill>
                <a:latin typeface="Arial Rounded MT Bold"/>
              </a:rPr>
              <a:t>w stani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Zidentyfik</a:t>
            </a:r>
            <a:r>
              <a:rPr b="0" lang="it-IT" sz="2400" spc="-1" strike="noStrike">
                <a:solidFill>
                  <a:srgbClr val="000000"/>
                </a:solidFill>
                <a:latin typeface="Arial Rounded MT Bold"/>
              </a:rPr>
              <a:t>ować</a:t>
            </a:r>
            <a:r>
              <a:rPr b="0" lang="pl-PL" sz="2400" spc="-1" strike="noStrike">
                <a:solidFill>
                  <a:srgbClr val="000000"/>
                </a:solidFill>
                <a:latin typeface="Arial Rounded MT Bold"/>
              </a:rPr>
              <a:t> błędy i awarie sprzętu lub oprogramowania</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oprawic wydajność komputerów</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Jeśli masz połączenie z Internetem i są słowa w kolorze </a:t>
            </a:r>
            <a:r>
              <a:rPr b="0" lang="en-GB" sz="2400" spc="-1" strike="noStrike" u="sng">
                <a:solidFill>
                  <a:srgbClr val="009999"/>
                </a:solidFill>
                <a:uFillTx/>
                <a:latin typeface="Arial Rounded MT Bold"/>
                <a:hlinkClick r:id="rId1"/>
              </a:rPr>
              <a:t>niebieskim</a:t>
            </a:r>
            <a:r>
              <a:rPr b="0" lang="pl-PL" sz="2400" spc="-1" strike="noStrike">
                <a:solidFill>
                  <a:srgbClr val="000000"/>
                </a:solidFill>
                <a:latin typeface="Arial Rounded MT Bold"/>
              </a:rPr>
              <a:t>, możesz je</a:t>
            </a:r>
            <a:r>
              <a:rPr b="0" lang="it-IT" sz="2400" spc="-1" strike="noStrike">
                <a:solidFill>
                  <a:srgbClr val="000000"/>
                </a:solidFill>
                <a:latin typeface="Arial Rounded MT Bold"/>
              </a:rPr>
              <a:t> </a:t>
            </a:r>
            <a:r>
              <a:rPr b="0" lang="pl-PL" sz="2400" spc="-1" strike="noStrike">
                <a:solidFill>
                  <a:srgbClr val="000000"/>
                </a:solidFill>
                <a:latin typeface="Arial Rounded MT Bold"/>
              </a:rPr>
              <a:t>kliknąć, aby uzyskać dostęp do dodatkowych informacji</a:t>
            </a:r>
            <a:r>
              <a:rPr b="0" lang="it-IT" sz="2400" spc="-1" strike="noStrike">
                <a:solidFill>
                  <a:srgbClr val="000000"/>
                </a:solidFill>
                <a:latin typeface="Arial Rounded MT Bold"/>
              </a:rPr>
              <a:t>. </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626920" y="1569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596" name=""/>
          <p:cNvSpPr txBox="1"/>
          <p:nvPr/>
        </p:nvSpPr>
        <p:spPr>
          <a:xfrm>
            <a:off x="456840" y="1639800"/>
            <a:ext cx="49784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efragmentacja dysku </a:t>
            </a:r>
            <a:endParaRPr b="0" lang="en-US" sz="3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 systemie Windows jest aplikacja, która może defragmentować dysk twardy. Dzięki temu komputer może uzyskać dostęp do plików w łatwiejszy i bardziej wydajny sposób.</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yszukaj defragmentator dysków za pomocą wyszukiwarki Windows, wybierz dysk twardy i kliknij „optymalizuj”.</a:t>
            </a:r>
            <a:endParaRPr b="0" lang="en-US" sz="2200" spc="-1" strike="noStrike">
              <a:solidFill>
                <a:srgbClr val="000000"/>
              </a:solidFill>
              <a:latin typeface="Arial"/>
            </a:endParaRPr>
          </a:p>
        </p:txBody>
      </p:sp>
      <p:pic>
        <p:nvPicPr>
          <p:cNvPr id="597" name="Imagen 1" descr=""/>
          <p:cNvPicPr/>
          <p:nvPr/>
        </p:nvPicPr>
        <p:blipFill>
          <a:blip r:embed="rId1"/>
          <a:stretch/>
        </p:blipFill>
        <p:spPr>
          <a:xfrm>
            <a:off x="5651640" y="1773360"/>
            <a:ext cx="2827080" cy="1143000"/>
          </a:xfrm>
          <a:prstGeom prst="rect">
            <a:avLst/>
          </a:prstGeom>
          <a:ln w="0">
            <a:noFill/>
          </a:ln>
        </p:spPr>
      </p:pic>
      <p:pic>
        <p:nvPicPr>
          <p:cNvPr id="598" name="Imagen 3" descr=""/>
          <p:cNvPicPr/>
          <p:nvPr/>
        </p:nvPicPr>
        <p:blipFill>
          <a:blip r:embed="rId2"/>
          <a:stretch/>
        </p:blipFill>
        <p:spPr>
          <a:xfrm>
            <a:off x="5651640" y="3141720"/>
            <a:ext cx="3241440" cy="233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rogramowanie czyszczące</a:t>
            </a:r>
            <a:endParaRPr b="0" lang="en-US" sz="30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Arial Rounded MT Bold"/>
              </a:rPr>
              <a:t>Z czasem nasz komputer zbiera pliki tymczasowe z różnych aplikacji, co zajmuje miejsce i zajmuje zasoby twojego systemu operacyjnego</a:t>
            </a:r>
            <a:r>
              <a:rPr b="0" lang="it-IT" sz="2100" spc="-1" strike="noStrike">
                <a:solidFill>
                  <a:srgbClr val="000000"/>
                </a:solidFill>
                <a:latin typeface="Arial Rounded MT Bold"/>
              </a:rPr>
              <a:t>.</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100" spc="-1" strike="noStrike">
                <a:solidFill>
                  <a:srgbClr val="000000"/>
                </a:solidFill>
                <a:latin typeface="Arial Rounded MT Bold"/>
              </a:rPr>
              <a:t>Istnieje kilka programów, które pomagają nam w tym zadaniu, np</a:t>
            </a:r>
            <a:r>
              <a:rPr b="0" lang="it-IT" sz="2100" spc="-1" strike="noStrike">
                <a:solidFill>
                  <a:srgbClr val="000000"/>
                </a:solidFill>
                <a:latin typeface="Arial Rounded MT Bold"/>
              </a:rPr>
              <a:t>. </a:t>
            </a:r>
            <a:r>
              <a:rPr b="0" lang="en-GB" sz="2100" spc="-1" strike="noStrike">
                <a:solidFill>
                  <a:srgbClr val="92d050"/>
                </a:solidFill>
                <a:latin typeface="Arial Rounded MT Bold"/>
              </a:rPr>
              <a:t>CCleaner</a:t>
            </a:r>
            <a:r>
              <a:rPr b="0" lang="en-GB" sz="2100" spc="-1" strike="noStrike">
                <a:solidFill>
                  <a:srgbClr val="000000"/>
                </a:solidFill>
                <a:latin typeface="Arial Rounded MT Bold"/>
              </a:rPr>
              <a:t>. </a:t>
            </a:r>
            <a:endParaRPr b="0" lang="en-US" sz="2100" spc="-1" strike="noStrike">
              <a:solidFill>
                <a:srgbClr val="000000"/>
              </a:solidFill>
              <a:latin typeface="Arial"/>
            </a:endParaRPr>
          </a:p>
        </p:txBody>
      </p:sp>
      <p:pic>
        <p:nvPicPr>
          <p:cNvPr id="601" name="Imagen 4" descr=""/>
          <p:cNvPicPr/>
          <p:nvPr/>
        </p:nvPicPr>
        <p:blipFill>
          <a:blip r:embed="rId1"/>
          <a:stretch/>
        </p:blipFill>
        <p:spPr>
          <a:xfrm>
            <a:off x="2987640" y="431784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787120" y="43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3" name=""/>
          <p:cNvSpPr txBox="1"/>
          <p:nvPr/>
        </p:nvSpPr>
        <p:spPr>
          <a:xfrm>
            <a:off x="439200" y="1417680"/>
            <a:ext cx="82472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zyszczeni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a pomocą tego programu możemy wyczyścić pliki tymczasowe z Internetu oprócz rekordów, które nie są używa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 tym ekranie możemy wybrać wszystkie opcje wyszukiwarek i wykonać je.</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3059280" y="3519360"/>
            <a:ext cx="4609800" cy="24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zyszczenie sprzętu</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Oprócz </a:t>
            </a:r>
            <a:r>
              <a:rPr b="0" lang="it-IT" sz="2000" spc="-1" strike="noStrike">
                <a:solidFill>
                  <a:srgbClr val="000000"/>
                </a:solidFill>
                <a:latin typeface="Arial Rounded MT Bold"/>
              </a:rPr>
              <a:t>o</a:t>
            </a:r>
            <a:r>
              <a:rPr b="0" lang="pl-PL" sz="2000" spc="-1" strike="noStrike">
                <a:solidFill>
                  <a:srgbClr val="000000"/>
                </a:solidFill>
                <a:latin typeface="Arial Rounded MT Bold"/>
              </a:rPr>
              <a:t>czyszcz</a:t>
            </a:r>
            <a:r>
              <a:rPr b="0" lang="it-IT" sz="2000" spc="-1" strike="noStrike">
                <a:solidFill>
                  <a:srgbClr val="000000"/>
                </a:solidFill>
                <a:latin typeface="Arial Rounded MT Bold"/>
              </a:rPr>
              <a:t>a</a:t>
            </a:r>
            <a:r>
              <a:rPr b="0" lang="pl-PL" sz="2000" spc="-1" strike="noStrike">
                <a:solidFill>
                  <a:srgbClr val="000000"/>
                </a:solidFill>
                <a:latin typeface="Arial Rounded MT Bold"/>
              </a:rPr>
              <a:t>nia oprogramowania, </a:t>
            </a:r>
            <a:r>
              <a:rPr b="0" lang="pl-PL" sz="2000" spc="-1" strike="noStrike">
                <a:solidFill>
                  <a:srgbClr val="92d050"/>
                </a:solidFill>
                <a:latin typeface="Arial Rounded MT Bold"/>
              </a:rPr>
              <a:t>czyszczenie sprzętu ma również wpływ na optymalne funkcjonowanie komputer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winniśmy czyścić obudowy </a:t>
            </a:r>
            <a:r>
              <a:rPr b="0" lang="pl-PL" sz="2000" spc="-1" strike="noStrike">
                <a:solidFill>
                  <a:srgbClr val="92d050"/>
                </a:solidFill>
                <a:latin typeface="Arial Rounded MT Bold"/>
              </a:rPr>
              <a:t>komputerów</a:t>
            </a:r>
            <a:r>
              <a:rPr b="0" lang="pl-PL" sz="2000" spc="-1" strike="noStrike">
                <a:solidFill>
                  <a:srgbClr val="000000"/>
                </a:solidFill>
                <a:latin typeface="Arial Rounded MT Bold"/>
              </a:rPr>
              <a:t> w środku raz w miesiącu lub co dwa miesią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ajlepszym sposobem na to jest użycie </a:t>
            </a:r>
            <a:r>
              <a:rPr b="0" lang="pl-PL" sz="2000" spc="-1" strike="noStrike">
                <a:solidFill>
                  <a:srgbClr val="92d050"/>
                </a:solidFill>
                <a:latin typeface="Arial Rounded MT Bold"/>
              </a:rPr>
              <a:t>odkurzacza</a:t>
            </a:r>
            <a:r>
              <a:rPr b="0" lang="pl-PL" sz="2000" spc="-1" strike="noStrike">
                <a:solidFill>
                  <a:srgbClr val="000000"/>
                </a:solidFill>
                <a:latin typeface="Arial Rounded MT Bold"/>
              </a:rPr>
              <a:t>, który czyści wszystkie części komputera bez powodowania uszkodzeń.</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Laptopy muszą być otwarte w celu czyszczenia, więc lepiej zabierz je do </a:t>
            </a:r>
            <a:r>
              <a:rPr b="0" lang="pl-PL" sz="2000" spc="-1" strike="noStrike">
                <a:solidFill>
                  <a:srgbClr val="92d050"/>
                </a:solidFill>
                <a:latin typeface="Arial Rounded MT Bold"/>
              </a:rPr>
              <a:t>specjalistycznego centrum</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pl-PL" sz="3200" spc="-1" strike="noStrike">
                <a:solidFill>
                  <a:srgbClr val="000000"/>
                </a:solidFill>
                <a:latin typeface="Arial Rounded MT Bold"/>
              </a:rPr>
              <a:t>Wskazówki i porady dotyczące płynnego zarządzania oprogramowaniem</a:t>
            </a:r>
            <a:endParaRPr b="0" lang="en-US" sz="32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Instalacja</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reszcie, od czasu do czasu zaleca się ponowną </a:t>
            </a:r>
            <a:r>
              <a:rPr b="0" lang="pl-PL" sz="2000" spc="-1" strike="noStrike">
                <a:solidFill>
                  <a:srgbClr val="92d050"/>
                </a:solidFill>
                <a:latin typeface="Arial Rounded MT Bold"/>
              </a:rPr>
              <a:t>instalację</a:t>
            </a:r>
            <a:r>
              <a:rPr b="0" lang="pl-PL" sz="2000" spc="-1" strike="noStrike">
                <a:solidFill>
                  <a:srgbClr val="000000"/>
                </a:solidFill>
                <a:latin typeface="Arial Rounded MT Bold"/>
              </a:rPr>
              <a:t> całego systemu</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ystem operacyjny zbiera po pewnym czasie wiele plików tymczasowych i aktualizacji oraz plików sterowników, które są przestarzałe lub już ich nie potrzebujem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tego powodu wygodnie jest </a:t>
            </a:r>
            <a:r>
              <a:rPr b="0" lang="pl-PL" sz="2000" spc="-1" strike="noStrike">
                <a:solidFill>
                  <a:srgbClr val="92d050"/>
                </a:solidFill>
                <a:latin typeface="Arial Rounded MT Bold"/>
              </a:rPr>
              <a:t>sformatować i ponownie zainstalować </a:t>
            </a:r>
            <a:r>
              <a:rPr b="0" lang="pl-PL" sz="2000" spc="-1" strike="noStrike">
                <a:solidFill>
                  <a:srgbClr val="000000"/>
                </a:solidFill>
                <a:latin typeface="Arial Rounded MT Bold"/>
              </a:rPr>
              <a:t>cały system raz w roku lub raz na dwa lata. Ale lepiej zabierzmy ich do </a:t>
            </a:r>
            <a:r>
              <a:rPr b="0" lang="pl-PL" sz="2000" spc="-1" strike="noStrike">
                <a:solidFill>
                  <a:srgbClr val="92d050"/>
                </a:solidFill>
                <a:latin typeface="Arial Rounded MT Bold"/>
              </a:rPr>
              <a:t>specjalistycznego centrum</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fontScale="98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ym krokiem, jeśli chodzi o rozwiązanie dowolnego problemu z komputerem, jest </a:t>
            </a:r>
            <a:r>
              <a:rPr b="0" lang="pl-PL" sz="2000" spc="-1" strike="noStrike">
                <a:solidFill>
                  <a:srgbClr val="92d050"/>
                </a:solidFill>
                <a:latin typeface="Arial Rounded MT Bold"/>
              </a:rPr>
              <a:t>ustalenie, który </a:t>
            </a:r>
            <a:r>
              <a:rPr b="0" lang="it-IT" sz="2000" spc="-1" strike="noStrike">
                <a:solidFill>
                  <a:srgbClr val="92d050"/>
                </a:solidFill>
                <a:latin typeface="Arial Rounded MT Bold"/>
              </a:rPr>
              <a:t>komponent</a:t>
            </a:r>
            <a:r>
              <a:rPr b="0" lang="pl-PL" sz="2000" spc="-1" strike="noStrike">
                <a:solidFill>
                  <a:srgbClr val="92d050"/>
                </a:solidFill>
                <a:latin typeface="Arial Rounded MT Bold"/>
              </a:rPr>
              <a:t> </a:t>
            </a:r>
            <a:r>
              <a:rPr b="0" lang="pl-PL" sz="2000" spc="-1" strike="noStrike">
                <a:solidFill>
                  <a:srgbClr val="000000"/>
                </a:solidFill>
                <a:latin typeface="Arial Rounded MT Bold"/>
              </a:rPr>
              <a:t>nie działa poprawni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Czasami wynika to z czegoś prostego, na przykład: dźwięk nie działa lub nie widzimy poprawnie, że ekran lub klawiatura / mysz przestały działać.</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Innym razem komputer nawet się nie uruchamia, nagle uruchamia się ponownie lub wyłącza, a my nie wiemy, co się dziej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Aby </a:t>
            </a:r>
            <a:r>
              <a:rPr b="0" lang="pl-PL" sz="2000" spc="-1" strike="noStrike">
                <a:solidFill>
                  <a:srgbClr val="92d050"/>
                </a:solidFill>
                <a:latin typeface="Arial Rounded MT Bold"/>
              </a:rPr>
              <a:t>zidentyfikować problem</a:t>
            </a:r>
            <a:r>
              <a:rPr b="0" lang="pl-PL" sz="2000" spc="-1" strike="noStrike">
                <a:solidFill>
                  <a:srgbClr val="000000"/>
                </a:solidFill>
                <a:latin typeface="Arial Rounded MT Bold"/>
              </a:rPr>
              <a:t>, musimy zwrócić uwagę na wskazówki, które daje nam kompu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ierwszym krokiem jest sprawdzenie, czy problem dotyczy oprogramowania lub sprzętu. Najprostszą metodą jest uzyskanie dostępu do komputera w „</a:t>
            </a:r>
            <a:r>
              <a:rPr b="0" lang="pl-PL" sz="2000" spc="-1" strike="noStrike">
                <a:solidFill>
                  <a:srgbClr val="92d050"/>
                </a:solidFill>
                <a:latin typeface="Arial Rounded MT Bold"/>
              </a:rPr>
              <a:t>trybie awaryjnym</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ryb awaryjny to tryb uruchamiania komputera, w którym system uruchamia się tylko z niezbędnymi aplikacjami i sterownikami, a wszystko, co nie jest konieczne, pozostaje wyłączon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eraz zobaczymy, jak uzyskać dostęp do trybu awaryjneg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liknij „Wyłącz” i, naciskając klawisz „Shift”, kliknij „Uruchom ponown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eraz komputer uruchomi się ponownie i wyświetli menu, w którym wybieramy „</a:t>
            </a:r>
            <a:r>
              <a:rPr b="0" lang="pl-PL" sz="2000" spc="-1" strike="noStrike">
                <a:solidFill>
                  <a:srgbClr val="92d050"/>
                </a:solidFill>
                <a:latin typeface="Arial Rounded MT Bold"/>
              </a:rPr>
              <a:t>Rozwiązywanie problemów” -&gt; Opcje zaawansowane -&gt; „Konfiguracja uruchamiani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58632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trybie awaryjnym spróbujemy odtworzyć błą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śli możemy to odtworzyć, oznacza to, że jest to błąd </a:t>
            </a:r>
            <a:r>
              <a:rPr b="1" lang="pl-PL" sz="2200" spc="-1" strike="noStrike">
                <a:solidFill>
                  <a:srgbClr val="92d050"/>
                </a:solidFill>
                <a:latin typeface="Arial Rounded MT Bold"/>
              </a:rPr>
              <a:t>sprzętowy</a:t>
            </a:r>
            <a:r>
              <a:rPr b="0" lang="pl-PL"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eciwnie, jeśli błąd nie pojawi się ponownie, oznacza to, że pochodzi on z </a:t>
            </a:r>
            <a:r>
              <a:rPr b="1" lang="pl-PL" sz="2200" spc="-1" strike="noStrike">
                <a:solidFill>
                  <a:srgbClr val="92d050"/>
                </a:solidFill>
                <a:latin typeface="Arial Rounded MT Bold"/>
              </a:rPr>
              <a:t>oprogramowania</a:t>
            </a:r>
            <a:r>
              <a:rPr b="1" lang="it-IT" sz="2200" spc="-1" strike="noStrike">
                <a:solidFill>
                  <a:srgbClr val="92d05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9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Błąd występuje przed lub po </a:t>
            </a:r>
            <a:r>
              <a:rPr b="0" lang="pl-PL" sz="2000" spc="-1" strike="noStrike">
                <a:solidFill>
                  <a:srgbClr val="92d050"/>
                </a:solidFill>
                <a:latin typeface="Arial Rounded MT Bold"/>
              </a:rPr>
              <a:t>komunikacie o błędzi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st to jeden z najprostszych przypadków identyfikowania i korygowania błędów, ponieważ w komunikacie pojawią się ważne informacje pomocne w naprawie komputer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oże to być okno błędu lub błąd pełnego ekranu, w obu przypadkach musimy </a:t>
            </a:r>
            <a:r>
              <a:rPr b="0" lang="pl-PL" sz="2000" spc="-1" strike="noStrike">
                <a:solidFill>
                  <a:srgbClr val="92d050"/>
                </a:solidFill>
                <a:latin typeface="Arial Rounded MT Bold"/>
              </a:rPr>
              <a:t>spojrzeć na kod błędu i odczytać komunikat</a:t>
            </a:r>
            <a:r>
              <a:rPr b="0" lang="pl-PL"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fontScale="94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Zidentyfikować problem</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Komunikat o błędzie może również pojawić się, zanim komputer całkowicie się uruchomi</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każdym razie musimy skopiować kod lub komunikat o błędzie i wyszukać go w Internecie, abyśmy mogli znaleźć rozwiązanie naszego problemu.</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21300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000" spc="-1" strike="noStrike">
                <a:solidFill>
                  <a:srgbClr val="000000"/>
                </a:solidFill>
                <a:latin typeface="Arial Rounded MT Bold"/>
              </a:rPr>
              <a:t>Jak radzić sobie z problemami technicznymi związanymi ze sprzętem</a:t>
            </a:r>
            <a:endParaRPr b="0" lang="en-US" sz="30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ajczęstsze błędy</a:t>
            </a:r>
            <a:endParaRPr b="0" lang="en-US" sz="3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Czasami nie pojawia się komunikat o błędzie, który daje nam wskazówki co do dokładnej awari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Z tego powodu tutaj jest lista </a:t>
            </a:r>
            <a:r>
              <a:rPr b="1" lang="pl-PL" sz="1800" spc="-1" strike="noStrike">
                <a:solidFill>
                  <a:srgbClr val="00b0f0"/>
                </a:solidFill>
                <a:latin typeface="Arial Rounded MT Bold"/>
              </a:rPr>
              <a:t>najczęstsz</a:t>
            </a:r>
            <a:r>
              <a:rPr b="1" lang="it-IT" sz="1800" spc="-1" strike="noStrike">
                <a:solidFill>
                  <a:srgbClr val="00b0f0"/>
                </a:solidFill>
                <a:latin typeface="Arial Rounded MT Bold"/>
              </a:rPr>
              <a:t>ych</a:t>
            </a:r>
            <a:r>
              <a:rPr b="1" lang="pl-PL" sz="1800" spc="-1" strike="noStrike">
                <a:solidFill>
                  <a:srgbClr val="00b0f0"/>
                </a:solidFill>
                <a:latin typeface="Arial Rounded MT Bold"/>
              </a:rPr>
              <a:t> błęd</a:t>
            </a:r>
            <a:r>
              <a:rPr b="1" lang="it-IT" sz="1800" spc="-1" strike="noStrike">
                <a:solidFill>
                  <a:srgbClr val="00b0f0"/>
                </a:solidFill>
                <a:latin typeface="Arial Rounded MT Bold"/>
              </a:rPr>
              <a:t>ow</a:t>
            </a:r>
            <a:r>
              <a:rPr b="1" lang="pl-PL" sz="1800" spc="-1" strike="noStrike">
                <a:solidFill>
                  <a:srgbClr val="00b0f0"/>
                </a:solidFill>
                <a:latin typeface="Arial Rounded MT Bold"/>
              </a:rPr>
              <a:t> </a:t>
            </a:r>
            <a:r>
              <a:rPr b="0" lang="pl-PL" sz="1800" spc="-1" strike="noStrike">
                <a:solidFill>
                  <a:srgbClr val="000000"/>
                </a:solidFill>
                <a:latin typeface="Arial Rounded MT Bold"/>
              </a:rPr>
              <a:t>i ich możliwe rozwiązania.</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573360"/>
          <a:ext cx="8362800" cy="2546280"/>
        </p:xfrm>
        <a:graphic>
          <a:graphicData uri="http://schemas.openxmlformats.org/drawingml/2006/table">
            <a:tbl>
              <a:tblPr/>
              <a:tblGrid>
                <a:gridCol w="1913040"/>
                <a:gridCol w="6449760"/>
              </a:tblGrid>
              <a:tr h="505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m</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Mozliwe rozwiazanie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ie mozna nic uslyszec</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glosnosc komputera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awdz czy glosnik jest wlaczony i podlaczony.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Jesli masz sluchawki podlaczone, wylacz je.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ylacz i wlacz na nowo glosniki.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Wlacz na nowo k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probuj podlaczyc glosnik do innych narzedzi (telefon komorkowy, PC, itp.) zeby moc wyeliminowac mozliwosc problema zwiazanego z glosnikiem..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22Z</dcterms:modified>
  <cp:revision>531</cp:revision>
  <dc:subject/>
  <dc:title>Title</dc:title>
</cp:coreProperties>
</file>