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E188-E02F-4458-B636-6338FB53D0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FBF8-28C9-4C0A-B74E-4C3FDE90411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C719-67F7-4EAF-8247-2F743DEC4387}"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68AF-FD8F-4331-8624-A417661112C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8131-58A6-4045-BEA3-3FD4DB85F507}"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F515-F91E-4C86-AB92-3A65072927C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ACE2-98FF-4DD6-BEDF-BD24F5333736}"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11C0-FF34-427D-A27A-C560C316E907}"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A19F-9DF7-4EE5-A6EE-7BBD1EB1F41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5FD8-62F0-410B-A395-1AD95C8D58BE}"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F9FF-EEB0-4516-ABE4-A572012FB676}"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D91D-376C-4CBC-969B-829DE3B0DD22}"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1600" y="1143000"/>
            <a:ext cx="4114800" cy="3086280"/>
          </a:xfrm>
          <a:prstGeom prst="rect">
            <a:avLst/>
          </a:prstGeom>
          <a:ln w="0">
            <a:noFill/>
          </a:ln>
        </p:spPr>
      </p:sp>
      <p:sp>
        <p:nvSpPr>
          <p:cNvPr id="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F9DF-1611-4EEE-A683-551361DD32B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71600" y="1143000"/>
            <a:ext cx="4114800" cy="3086280"/>
          </a:xfrm>
          <a:prstGeom prst="rect">
            <a:avLst/>
          </a:prstGeom>
          <a:ln w="0">
            <a:noFill/>
          </a:ln>
        </p:spPr>
      </p:sp>
      <p:sp>
        <p:nvSpPr>
          <p:cNvPr id="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0871-4CF5-4669-A64D-EEE0E1D0C0CB}"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B9BF2AA-FBCC-490E-8B93-C279AAF1773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7B99F2-359E-4FE8-86DE-F2778F3777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187CB4-A982-4298-BD77-10FD6C90EC8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DB5CE9-2344-4022-ACE8-A5E6B120DA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1588DD-DF85-437E-8148-D0026923E3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D4D1A2-CF9F-4CBD-A4D1-0AF50B395E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765E2E5-C7C7-4447-A81E-6E66525C5C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880C5F6-45BD-49B0-A987-D51D001D224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F120AB4-7A08-4DA9-849D-F04AEDDA9C5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F8239BD-9ED6-4515-92B9-E84EF1B2DC4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C24E794-663E-4925-B050-2D573028EF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72664B-0215-4F48-9051-52BDE48BCC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B86C1CD-0451-41B8-9619-31AB17BEF02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CE7D82-5104-4512-A20B-9D7107AC65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0C0558-E253-4868-80F6-8A8757F3FE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68C4DA-A83A-471B-93F4-782C353027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F4E328-3211-4315-B938-1EC23FE79AE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5CE94A-29BD-411B-861A-51762D673A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01D3C06-6579-44B6-97C7-B9225E97149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5AAB555-C4CA-4F63-8BAD-2261D5A6A0C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F05A0C4-06C7-4A3A-B470-B8A3683CD40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548014B-D0A4-4502-8EA2-1281649A96A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02533CA-4A22-4013-AE63-FCD1D5313C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A178784-C571-4FE3-B730-77D6177971D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F5CC412-614F-46D3-BB6F-0B621908E4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5EEF0BE-CDB8-4833-8A61-82E9151D0C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16B6A86-A1E2-4AA0-8033-1A58B0F5528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87414F3-E5FC-4839-A3E9-1684B20761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1931E3-7DD1-42BB-B2C7-B4E7E7F361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58EC1BB-2D38-49D2-AE12-15B5CD10C9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7305DE1-8657-4468-B7FC-34EE695A53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ACF19E5-0A2E-4A45-92A6-26B407B82C8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5935C20-D281-4113-9CDA-BA817CC3115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23CB83F-7C9B-422F-BD19-EA8C436192B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3CC3828-469D-4AC7-AA89-957B4E8CFE0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599FB4-5E32-4751-881B-6E7D6592A8F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305D4F-CC69-4D75-958F-7835D8B7B5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908C9D-205D-4EFB-AD38-460185A198E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8669CE-2F28-4133-8051-F635C29E2F0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4C8870-2B26-4BA9-93AF-F5B85DACE3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6D0E06-0DD9-4110-A684-00E4A7A07B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DEBBC0-E8B6-414F-8CF2-028EBC8458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9E0F54C-C58F-4868-A437-82FF68DB10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672DA5C-7E91-465C-9354-B5029A83AC9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DDEA7EA-9E48-4666-A98A-B97A0DFD286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2ADA19-C909-42F1-A505-2D9B76206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DC9F8-7CC8-4E3B-9062-F811DBAC8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36E1A9-8223-47FB-BE67-F2A8E579B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4F71A-7B07-4E0C-886A-318D8D326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2E45D-FF5B-4203-96D4-A93C24B73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6E34E-DED9-413F-A900-805A1BF33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B8BA2-D21F-4FD6-A77B-2CB136F04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2DDBD-C6DE-48B0-9B10-7FE7F01DF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9CD9E-B409-485B-9DEF-2B52FC8F6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6DD79-8CEC-49C2-9F48-2A4C72C07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C0D60D-82DE-48B4-A45F-C498025F3A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AA77AE-AEF6-49C7-B851-2159CA5A4A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7092E4-5E09-41C7-B043-5DC6A91558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601173-8232-45E1-9003-0B095F4188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C7DCCE-F127-4D00-A178-64AF10550F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2E96E6-F245-4B14-9AB4-38DB51AA67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492E5A-A654-43A7-8BA9-81A3B1A703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BBD41B-E4D1-4F68-8750-5739FC6B32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573703-485A-4805-934F-95CD9FD4A0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F39225-2A46-48BE-8DC5-899A24FC3D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46C6D2-9260-473B-99E9-0871D51144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18FB21-646E-4232-8C8A-0BC41E8BF8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9C264B-66CF-49F2-9922-9FA0574011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505A1B-C87E-4992-9EC8-22FA8D72F6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B47D1C-761B-49C4-A6FD-A89CB2D096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13A2B1-95BC-4C1E-A2CA-04851D313C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80CCF5-84F3-4014-86DE-FC113D9845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C0DC5A-FDB5-4EB0-8FA8-79B707C664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58BC02-FC69-4181-BD50-7A3AFB8D13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B7035C-D220-4497-865E-A8021129C3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BAFC8A-C7E4-471F-BB9C-AA738EE340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2622C8-D0ED-41D1-9A25-FA6268B37D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1E31E6-0545-43D7-91C7-E215877DC4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431D4A-FDE9-457A-B084-F04B17E24D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C46801-1143-4F49-916E-B1DACC006D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4D32566-BAA6-40F2-921B-2CB6B10E9F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6E89E4-9AC8-4A84-9A83-AA9E6DE845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251204-9018-4017-8740-4E71E42F2D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E07F8A-FA6E-4FDC-9765-C6093057FD8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0D7DC6-4380-4BBD-AAA1-94DC43F337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F22098-9982-4F5E-8C37-E8F07E22A5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CD27C9-2BC8-4DD9-B2E6-5EB8ABBF11A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90C0B1-F760-4BDD-964C-3D026C17CF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C50C82-9067-40CD-961C-3E667A69A7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1FEF06-CE3C-48D6-A5EF-863001335A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DBF013-3A7A-4C06-ACBA-24A744F9C4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5417F09-BABA-4165-9728-B42FB800A6C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5A0569F-A10D-48E5-971B-572626F32B8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2BCA5D4-B915-4C29-BD40-9E556C7BBE7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50FB1C-FAC4-4335-BEF5-426575982D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A2F7A3-F2CD-4270-8B02-14713A00CB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A5DD91-4995-403F-8091-02AECAB70F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685DB9-96D6-4D50-8396-760B524AAA4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DDAE2E2-0CF3-4D07-B3A0-10F86F9ED3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B7F6C4-D385-4A18-8B76-7968595285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A1B41A-9D8F-4371-9378-84E56868B2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A441FF-C74E-4BD1-8032-F3FFF157A1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9550F8-C246-4DA7-BE19-222E5EBE90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C2371B-AC7B-4182-9135-5182427D807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18DC7D4-9AB6-4BFD-BF41-E65A362818F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B005FE-0995-4E04-ADCB-166A3D613B5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AC0D40-E4F7-4798-BD64-CD0C627F3FF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8C2952C-77D6-46F9-BC0B-27321F7F62C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5C05F30-BD40-4E2D-9534-8424748CFE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73ACF9E-6DC6-493C-B80B-500CCE094EB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6FC2D1-A0BB-418D-806C-CCE5CB2EAB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568A12-075A-471E-B7E0-D6226C4779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98C798-6EAD-43F4-AA1D-3012DD5A11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C85506-CF46-44FE-8F65-596E11C239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CECEEB-7ECA-4314-8872-D2FE524A81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A4F9AE5-63C7-403F-81DB-333C7417FF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88204B8-C2D6-4E56-A0B8-80F9731D2F3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4995F9C-9F19-4A6A-9073-8DD92AC46C3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5C047C-2666-414F-9300-C4FDF027CB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4B5ACB-5491-40D9-AEE0-880C600638A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F9E1-DB1A-4EFD-8046-7E6412C77F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CAEB-3AF8-4034-8EFC-3B48D42C7D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4E30-0B32-443E-8889-EA3266778B3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4613-9ED1-424A-893F-F357C43CFB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7D52-B34F-4297-8710-022414A589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E4BB-A6BB-4D8C-9EFC-A9547683CC0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0E61-62ED-472E-AF8C-2C5B27BC06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0E62-5ED4-417F-9160-3699ED2BBD9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200D-3BB0-45D0-96A8-23A090CA5A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CD67-22CF-4719-9B79-753034E9D16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file:///link"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Rozwiązywanie problemów technicznych: rozpoznawanie potrzeb i reakcji technologicznych</a:t>
            </a:r>
            <a:endParaRPr b="0" lang="en-US" sz="2400" spc="-1" strike="noStrike">
              <a:solidFill>
                <a:srgbClr val="000000"/>
              </a:solidFill>
              <a:latin typeface="Arial"/>
            </a:endParaRPr>
          </a:p>
        </p:txBody>
      </p:sp>
      <p:sp>
        <p:nvSpPr>
          <p:cNvPr id="544" name="Rectángulo 1"/>
          <p:cNvSpPr/>
          <p:nvPr/>
        </p:nvSpPr>
        <p:spPr>
          <a:xfrm>
            <a:off x="1144440" y="3357720"/>
            <a:ext cx="566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R</a:t>
            </a:r>
            <a:r>
              <a:rPr b="0" lang="hu-HU" sz="3200" spc="-1" strike="noStrike">
                <a:solidFill>
                  <a:srgbClr val="000000"/>
                </a:solidFill>
                <a:latin typeface="Arial Rounded MT Bold"/>
              </a:rPr>
              <a:t>ozwiązywanie problemów</a:t>
            </a: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56000" y="198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67" name=""/>
          <p:cNvSpPr txBox="1"/>
          <p:nvPr/>
        </p:nvSpPr>
        <p:spPr>
          <a:xfrm>
            <a:off x="40464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Rounded MT Bold"/>
              </a:rPr>
              <a:t>Ekran</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68" name=""/>
          <p:cNvGraphicFramePr/>
          <p:nvPr/>
        </p:nvGraphicFramePr>
        <p:xfrm>
          <a:off x="515880" y="2427120"/>
          <a:ext cx="7440840" cy="359424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iemny ekran</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monitor jest podlaczony do sieci, do komputera i jest wlaczony.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acisnij na przycisk wlacz lub zawies.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kabel monitora jest podlaczony do komputera i czy dziala poprawnie.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91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braz jest bardzo duzy, bardzo maly lub zamazany. </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Wybierz rozdzielczosc ekranu w Window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Kliknij Click prawym przyciskiem na Pokaz ustawienia’.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zejrzyj opcje rozdzielczosci ekranu i wybierz opcje.</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83000" y="250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Urządzenia peryferyjne</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2168640"/>
        </p:xfrm>
        <a:graphic>
          <a:graphicData uri="http://schemas.openxmlformats.org/drawingml/2006/table">
            <a:tbl>
              <a:tblPr/>
              <a:tblGrid>
                <a:gridCol w="2135160"/>
                <a:gridCol w="65991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ysz, klawiatura lub inne urzadzenia peryferyjne nie dzialaja.</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sa podlaczone do komputera.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sli sa bezprzewodowe, sprawdz czy sa wlaczone i naladowan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sa kompatybilne z Twoim komputerem i z systemem operacyjnym.</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ylacz komputer, podlacz i odlacz urzadzenie peryferyjne i wlacz je na nowo.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oszukaj mozliwych aktualizacji poprzez Windows.</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626920" y="110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73" name=""/>
          <p:cNvSpPr txBox="1"/>
          <p:nvPr/>
        </p:nvSpPr>
        <p:spPr>
          <a:xfrm>
            <a:off x="324000" y="127944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Komputer:</a:t>
            </a:r>
            <a:endParaRPr b="0" lang="en-US" sz="2000" spc="-1" strike="noStrike">
              <a:solidFill>
                <a:srgbClr val="000000"/>
              </a:solidFill>
              <a:latin typeface="Arial"/>
            </a:endParaRPr>
          </a:p>
        </p:txBody>
      </p:sp>
      <p:graphicFrame>
        <p:nvGraphicFramePr>
          <p:cNvPr id="574" name=""/>
          <p:cNvGraphicFramePr/>
          <p:nvPr/>
        </p:nvGraphicFramePr>
        <p:xfrm>
          <a:off x="179280" y="2349360"/>
          <a:ext cx="8964720" cy="3875400"/>
        </p:xfrm>
        <a:graphic>
          <a:graphicData uri="http://schemas.openxmlformats.org/drawingml/2006/table">
            <a:tbl>
              <a:tblPr/>
              <a:tblGrid>
                <a:gridCol w="1616040"/>
                <a:gridCol w="734868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50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omputer nie wlacza si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komputer jest podlaczony do sieci.</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wlacznik z tylu komputera.</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sli komputer sie nie wlacza moze dawac znaki poprzez dzwieki, z ktorych najczestsze t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iagly </a:t>
                      </a:r>
                      <a:r>
                        <a:rPr b="0" lang="es-ES" sz="1600" spc="-1" strike="noStrike">
                          <a:solidFill>
                            <a:srgbClr val="ffffff"/>
                          </a:solidFill>
                          <a:latin typeface="Arial"/>
                        </a:rPr>
                        <a:t>	</a:t>
                      </a:r>
                      <a:r>
                        <a:rPr b="0" lang="es-ES" sz="1600" spc="-1" strike="noStrike">
                          <a:solidFill>
                            <a:srgbClr val="ffffff"/>
                          </a:solidFill>
                          <a:latin typeface="Arial"/>
                        </a:rPr>
                        <a:t>   Brak pradu.</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rotki i staly </a:t>
                      </a:r>
                      <a:r>
                        <a:rPr b="0" lang="es-ES" sz="1600" spc="-1" strike="noStrike">
                          <a:solidFill>
                            <a:srgbClr val="ffffff"/>
                          </a:solidFill>
                          <a:latin typeface="Arial"/>
                        </a:rPr>
                        <a:t>	</a:t>
                      </a:r>
                      <a:r>
                        <a:rPr b="0" lang="es-ES" sz="1600" spc="-1" strike="noStrike">
                          <a:solidFill>
                            <a:srgbClr val="ffffff"/>
                          </a:solidFill>
                          <a:latin typeface="Arial"/>
                        </a:rPr>
                        <a:t>Glowna plyta jest uszkodzon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bardzo dlugi</a:t>
                      </a:r>
                      <a:r>
                        <a:rPr b="0" lang="es-ES" sz="1600" spc="-1" strike="noStrike">
                          <a:solidFill>
                            <a:srgbClr val="ffffff"/>
                          </a:solidFill>
                          <a:latin typeface="Arial"/>
                        </a:rPr>
                        <a:t>	</a:t>
                      </a:r>
                      <a:r>
                        <a:rPr b="0" lang="es-ES" sz="1600" spc="-1" strike="noStrike">
                          <a:solidFill>
                            <a:srgbClr val="ffffff"/>
                          </a:solidFill>
                          <a:latin typeface="Arial"/>
                        </a:rPr>
                        <a:t>    blad RAM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dlugi i 1 krotki   blad w glownej plyc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dlugi i 2 krotkie   problema karty wide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dlugi                   Pracuje poprawn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azdy z powyzszych problemow bedzie wymagac wymiany uszkodzonej czesci.</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6897600" y="4046400"/>
            <a:ext cx="1800360" cy="134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Błędy i rozwiązania przedstawione w poprzednich slajdach są najczęstsze, a także </a:t>
            </a:r>
            <a:r>
              <a:rPr b="0" lang="pl-PL" sz="2200" spc="-1" strike="noStrike">
                <a:solidFill>
                  <a:srgbClr val="92d050"/>
                </a:solidFill>
                <a:latin typeface="Arial Rounded MT Bold"/>
              </a:rPr>
              <a:t>proponowane rozwiązania są najłatwiejsze</a:t>
            </a:r>
            <a:r>
              <a:rPr b="0" lang="pl-PL" sz="2200" spc="-1" strike="noStrike">
                <a:solidFill>
                  <a:srgbClr val="000000"/>
                </a:solidFill>
                <a:latin typeface="Arial Rounded MT Bold"/>
              </a:rPr>
              <a:t> i najczęstsz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Możesz </a:t>
            </a:r>
            <a:r>
              <a:rPr b="0" lang="it-IT" sz="2200" spc="-1" strike="noStrike">
                <a:solidFill>
                  <a:srgbClr val="000000"/>
                </a:solidFill>
                <a:latin typeface="Arial Rounded MT Bold"/>
              </a:rPr>
              <a:t>poszerzy</a:t>
            </a:r>
            <a:r>
              <a:rPr b="0" lang="pl-PL" sz="2200" spc="-1" strike="noStrike">
                <a:solidFill>
                  <a:srgbClr val="000000"/>
                </a:solidFill>
                <a:latin typeface="Arial Rounded MT Bold"/>
              </a:rPr>
              <a:t>ć tę informację poprzez linki w bibliografii.</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rzykłady oparte są na systemie operacyjnym Windows 10</a:t>
            </a:r>
            <a:r>
              <a:rPr b="0" lang="it-IT" sz="2200" spc="-1" strike="noStrike">
                <a:solidFill>
                  <a:srgbClr val="000000"/>
                </a:solidFill>
                <a:latin typeface="Arial Rounded MT Bold"/>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68360" y="124920"/>
            <a:ext cx="678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79" name=""/>
          <p:cNvSpPr txBox="1"/>
          <p:nvPr/>
        </p:nvSpPr>
        <p:spPr>
          <a:xfrm>
            <a:off x="457200" y="16398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Aktualizuj swój system operacyjny (O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uczową częścią komputera jest system operacyjny, więc w celu zapewnienia poprawnego działania zaleca się aktualizację, a jeśli nasz komputer działa z systemem Windows, możemy użyć aktualizacji systemu Window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en sposób zawsze będziemy aktualizować sterowniki urządzeń peryferyjnych</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80" name="Imagen 1" descr=""/>
          <p:cNvPicPr/>
          <p:nvPr/>
        </p:nvPicPr>
        <p:blipFill>
          <a:blip r:embed="rId1"/>
          <a:stretch/>
        </p:blipFill>
        <p:spPr>
          <a:xfrm>
            <a:off x="2843280" y="3730680"/>
            <a:ext cx="3962160" cy="238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82" name=""/>
          <p:cNvSpPr txBox="1"/>
          <p:nvPr/>
        </p:nvSpPr>
        <p:spPr>
          <a:xfrm>
            <a:off x="457200" y="18558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aktualizuj aplikacj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dobnie jak system operacyjny, również </a:t>
            </a:r>
            <a:r>
              <a:rPr b="0" lang="pl-PL" sz="2000" spc="-1" strike="noStrike">
                <a:solidFill>
                  <a:srgbClr val="92d050"/>
                </a:solidFill>
                <a:latin typeface="Arial Rounded MT Bold"/>
              </a:rPr>
              <a:t>zainstalowane aplikacje </a:t>
            </a:r>
            <a:r>
              <a:rPr b="0" lang="pl-PL" sz="2000" spc="-1" strike="noStrike">
                <a:solidFill>
                  <a:srgbClr val="000000"/>
                </a:solidFill>
                <a:latin typeface="Arial Rounded MT Bold"/>
              </a:rPr>
              <a:t>działają lepiej i są bezpieczniejsze, jeśli będziemy je </a:t>
            </a:r>
            <a:r>
              <a:rPr b="0" lang="pl-PL" sz="2000" spc="-1" strike="noStrike">
                <a:solidFill>
                  <a:srgbClr val="92d050"/>
                </a:solidFill>
                <a:latin typeface="Arial Rounded MT Bold"/>
              </a:rPr>
              <a:t>aktualizować</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dinstaluj aplikacj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m więcej zainstalowanych aplikacji, tym wolniej będzie działał komputer z powodu nadmiaru zadań w tle i plików w komputerze. Dobrym zadaniem konserwacyjnym byłoby </a:t>
            </a:r>
            <a:r>
              <a:rPr b="0" lang="pl-PL" sz="2000" spc="-1" strike="noStrike">
                <a:solidFill>
                  <a:srgbClr val="92d050"/>
                </a:solidFill>
                <a:latin typeface="Arial Rounded MT Bold"/>
              </a:rPr>
              <a:t>usunięcie wszystkich nieużywanych aplikac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ystem start</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iele aplikacji uruchamia się domyślnie po uruchomieniu systemu operacyjnego, co powoduje, że komputer działa powoli i zajmuje więcej czasu, zanim jest całkowicie gotowy do uruchomie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uniknąć tego problemu, możemy </a:t>
            </a:r>
            <a:r>
              <a:rPr b="0" lang="pl-PL" sz="2000" spc="-1" strike="noStrike">
                <a:solidFill>
                  <a:srgbClr val="92d050"/>
                </a:solidFill>
                <a:latin typeface="Arial Rounded MT Bold"/>
              </a:rPr>
              <a:t>zdefiniować aplikacje, które chcemy uruchomić </a:t>
            </a:r>
            <a:r>
              <a:rPr b="0" lang="pl-PL" sz="2000" spc="-1" strike="noStrike">
                <a:solidFill>
                  <a:srgbClr val="000000"/>
                </a:solidFill>
                <a:latin typeface="Arial Rounded MT Bold"/>
              </a:rPr>
              <a:t>razem z komputerem</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by to zrobić, możemy:</a:t>
            </a:r>
            <a:endParaRPr b="0" lang="en-US" sz="2000" spc="-1" strike="noStrike">
              <a:solidFill>
                <a:srgbClr val="000000"/>
              </a:solidFill>
              <a:latin typeface="Arial"/>
            </a:endParaRPr>
          </a:p>
          <a:p>
            <a:pPr>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Klikn</a:t>
            </a:r>
            <a:r>
              <a:rPr b="0" lang="it-IT" sz="1800" spc="-1" strike="noStrike">
                <a:solidFill>
                  <a:srgbClr val="000000"/>
                </a:solidFill>
                <a:latin typeface="Arial Rounded MT Bold"/>
              </a:rPr>
              <a:t>ac</a:t>
            </a:r>
            <a:r>
              <a:rPr b="0" lang="pl-PL" sz="1800" spc="-1" strike="noStrike">
                <a:solidFill>
                  <a:srgbClr val="000000"/>
                </a:solidFill>
                <a:latin typeface="Arial Rounded MT Bold"/>
              </a:rPr>
              <a:t> prawym przyciskiem na pasku zadań i wybierz opcję „menedżer zadań”</a:t>
            </a:r>
            <a:endParaRPr b="0" lang="en-US" sz="1800" spc="-1" strike="noStrike">
              <a:solidFill>
                <a:srgbClr val="000000"/>
              </a:solidFill>
              <a:latin typeface="Arial"/>
            </a:endParaRPr>
          </a:p>
          <a:p>
            <a:pPr>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o wejściu do zakładki „start” wybieramy aplikację i klikamy „wyłą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ystem start</a:t>
            </a:r>
            <a:endParaRPr b="0" lang="en-US" sz="3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67984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90" name=""/>
          <p:cNvSpPr txBox="1"/>
          <p:nvPr/>
        </p:nvSpPr>
        <p:spPr>
          <a:xfrm>
            <a:off x="395280" y="1297080"/>
            <a:ext cx="4330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ywiru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92d050"/>
                </a:solidFill>
                <a:latin typeface="Arial Rounded MT Bold"/>
              </a:rPr>
              <a:t>Antywirus</a:t>
            </a:r>
            <a:r>
              <a:rPr b="0" lang="pl-PL" sz="1800" spc="-1" strike="noStrike">
                <a:solidFill>
                  <a:srgbClr val="000000"/>
                </a:solidFill>
                <a:latin typeface="Arial Rounded MT Bold"/>
              </a:rPr>
              <a:t> powinien być zawsze </a:t>
            </a:r>
            <a:r>
              <a:rPr b="0" lang="pl-PL" sz="1800" spc="-1" strike="noStrike">
                <a:solidFill>
                  <a:srgbClr val="92d050"/>
                </a:solidFill>
                <a:latin typeface="Arial Rounded MT Bold"/>
              </a:rPr>
              <a:t>aktywny i aktualizowany</a:t>
            </a:r>
            <a:r>
              <a:rPr b="0" lang="pl-PL" sz="1800" spc="-1" strike="noStrike">
                <a:solidFill>
                  <a:srgbClr val="000000"/>
                </a:solidFill>
                <a:latin typeface="Arial Rounded MT Bold"/>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W przypadku systemu Windows 10 nie jest konieczne instalowanie żadnego dodatkowego oprogramowania antywirusowego, ponieważ zapewnia ono dobry system antywirusow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Nazywa się „</a:t>
            </a:r>
            <a:r>
              <a:rPr b="0" lang="pl-PL" sz="1800" spc="-1" strike="noStrike">
                <a:solidFill>
                  <a:srgbClr val="92d050"/>
                </a:solidFill>
                <a:latin typeface="Arial Rounded MT Bold"/>
              </a:rPr>
              <a:t>Zabezpieczeniami systemu Windows</a:t>
            </a:r>
            <a:r>
              <a:rPr b="0" lang="pl-PL" sz="1800" spc="-1" strike="noStrike">
                <a:solidFill>
                  <a:srgbClr val="000000"/>
                </a:solidFill>
                <a:latin typeface="Arial Rounded MT Bold"/>
              </a:rPr>
              <a:t>” i obejmuje kilka systemów zabezpieczeń oprócz standardowego programu</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705200" y="1717560"/>
            <a:ext cx="4330800" cy="41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fontScale="99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ywiru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ie zaleca się wyłączania automatycznej kontroli systemu, który odpowiada za regularne wyszukiwanie wirusów.</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chcemy mieć dodatkowy egzamin, możemy to zrobić, klikając „Szybki przegląd”</a:t>
            </a:r>
            <a:endParaRPr b="0" lang="en-US" sz="2400" spc="-1" strike="noStrike">
              <a:solidFill>
                <a:srgbClr val="000000"/>
              </a:solidFill>
              <a:latin typeface="Arial"/>
            </a:endParaRPr>
          </a:p>
        </p:txBody>
      </p:sp>
      <p:pic>
        <p:nvPicPr>
          <p:cNvPr id="594" name="Imagen 2" descr=""/>
          <p:cNvPicPr/>
          <p:nvPr/>
        </p:nvPicPr>
        <p:blipFill>
          <a:blip r:embed="rId1"/>
          <a:stretch/>
        </p:blipFill>
        <p:spPr>
          <a:xfrm>
            <a:off x="5051520" y="1841400"/>
            <a:ext cx="365580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 końcu tego modułu będziesz </a:t>
            </a:r>
            <a:r>
              <a:rPr b="0" lang="it-IT" sz="2800" spc="-1" strike="noStrike">
                <a:solidFill>
                  <a:srgbClr val="000000"/>
                </a:solidFill>
                <a:latin typeface="Arial Rounded MT Bold"/>
              </a:rPr>
              <a:t>w stani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Zidentyfik</a:t>
            </a:r>
            <a:r>
              <a:rPr b="0" lang="it-IT" sz="2400" spc="-1" strike="noStrike">
                <a:solidFill>
                  <a:srgbClr val="000000"/>
                </a:solidFill>
                <a:latin typeface="Arial Rounded MT Bold"/>
              </a:rPr>
              <a:t>ować</a:t>
            </a:r>
            <a:r>
              <a:rPr b="0" lang="pl-PL" sz="2400" spc="-1" strike="noStrike">
                <a:solidFill>
                  <a:srgbClr val="000000"/>
                </a:solidFill>
                <a:latin typeface="Arial Rounded MT Bold"/>
              </a:rPr>
              <a:t> błędy i awarie sprzętu lub oprogramowania</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oprawic wydajność komputerów</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masz połączenie z Internetem i są słowa w kolorze </a:t>
            </a:r>
            <a:r>
              <a:rPr b="0" lang="en-GB" sz="2400" spc="-1" strike="noStrike" u="sng">
                <a:solidFill>
                  <a:srgbClr val="009999"/>
                </a:solidFill>
                <a:uFillTx/>
                <a:latin typeface="Arial Rounded MT Bold"/>
                <a:hlinkClick r:id="rId1"/>
              </a:rPr>
              <a:t>niebieskim</a:t>
            </a:r>
            <a:r>
              <a:rPr b="0" lang="pl-PL" sz="2400" spc="-1" strike="noStrike">
                <a:solidFill>
                  <a:srgbClr val="000000"/>
                </a:solidFill>
                <a:latin typeface="Arial Rounded MT Bold"/>
              </a:rPr>
              <a:t>, możesz je</a:t>
            </a:r>
            <a:r>
              <a:rPr b="0" lang="it-IT" sz="2400" spc="-1" strike="noStrike">
                <a:solidFill>
                  <a:srgbClr val="000000"/>
                </a:solidFill>
                <a:latin typeface="Arial Rounded MT Bold"/>
              </a:rPr>
              <a:t> </a:t>
            </a:r>
            <a:r>
              <a:rPr b="0" lang="pl-PL" sz="2400" spc="-1" strike="noStrike">
                <a:solidFill>
                  <a:srgbClr val="000000"/>
                </a:solidFill>
                <a:latin typeface="Arial Rounded MT Bold"/>
              </a:rPr>
              <a:t>kliknąć, aby uzyskać dostęp do dodatkowych informacji</a:t>
            </a:r>
            <a:r>
              <a:rPr b="0" lang="it-IT" sz="2400" spc="-1" strike="noStrike">
                <a:solidFill>
                  <a:srgbClr val="000000"/>
                </a:solidFill>
                <a:latin typeface="Arial Rounded MT Bold"/>
              </a:rPr>
              <a:t>. </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626920" y="1569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96" name=""/>
          <p:cNvSpPr txBox="1"/>
          <p:nvPr/>
        </p:nvSpPr>
        <p:spPr>
          <a:xfrm>
            <a:off x="456840" y="1639800"/>
            <a:ext cx="49784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efragmentacja dysku </a:t>
            </a:r>
            <a:endParaRPr b="0" lang="en-US" sz="3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 systemie Windows jest aplikacja, która może defragmentować dysk twardy. Dzięki temu komputer może uzyskać dostęp do plików w łatwiejszy i bardziej wydajny sposób.</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szukaj defragmentator dysków za pomocą wyszukiwarki Windows, wybierz dysk twardy i kliknij „optymalizuj”.</a:t>
            </a:r>
            <a:endParaRPr b="0" lang="en-US" sz="2200" spc="-1" strike="noStrike">
              <a:solidFill>
                <a:srgbClr val="000000"/>
              </a:solidFill>
              <a:latin typeface="Arial"/>
            </a:endParaRPr>
          </a:p>
        </p:txBody>
      </p:sp>
      <p:pic>
        <p:nvPicPr>
          <p:cNvPr id="597" name="Imagen 1" descr=""/>
          <p:cNvPicPr/>
          <p:nvPr/>
        </p:nvPicPr>
        <p:blipFill>
          <a:blip r:embed="rId1"/>
          <a:stretch/>
        </p:blipFill>
        <p:spPr>
          <a:xfrm>
            <a:off x="5651640" y="1773360"/>
            <a:ext cx="2827080" cy="1143000"/>
          </a:xfrm>
          <a:prstGeom prst="rect">
            <a:avLst/>
          </a:prstGeom>
          <a:ln w="0">
            <a:noFill/>
          </a:ln>
        </p:spPr>
      </p:pic>
      <p:pic>
        <p:nvPicPr>
          <p:cNvPr id="598" name="Imagen 3" descr=""/>
          <p:cNvPicPr/>
          <p:nvPr/>
        </p:nvPicPr>
        <p:blipFill>
          <a:blip r:embed="rId2"/>
          <a:stretch/>
        </p:blipFill>
        <p:spPr>
          <a:xfrm>
            <a:off x="5651640" y="3141720"/>
            <a:ext cx="3241440" cy="233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rogramowanie czyszczące</a:t>
            </a:r>
            <a:endParaRPr b="0" lang="en-US" sz="30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Arial Rounded MT Bold"/>
              </a:rPr>
              <a:t>Z czasem nasz komputer zbiera pliki tymczasowe z różnych aplikacji, co zajmuje miejsce i zajmuje zasoby twojego systemu operacyjnego</a:t>
            </a:r>
            <a:r>
              <a:rPr b="0" lang="it-IT" sz="2100" spc="-1" strike="noStrike">
                <a:solidFill>
                  <a:srgbClr val="000000"/>
                </a:solidFill>
                <a:latin typeface="Arial Rounded MT Bold"/>
              </a:rPr>
              <a:t>.</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Arial Rounded MT Bold"/>
              </a:rPr>
              <a:t>Istnieje kilka programów, które pomagają nam w tym zadaniu, np</a:t>
            </a:r>
            <a:r>
              <a:rPr b="0" lang="it-IT" sz="2100" spc="-1" strike="noStrike">
                <a:solidFill>
                  <a:srgbClr val="000000"/>
                </a:solidFill>
                <a:latin typeface="Arial Rounded MT Bold"/>
              </a:rPr>
              <a:t>. </a:t>
            </a:r>
            <a:r>
              <a:rPr b="0" lang="en-GB" sz="2100" spc="-1" strike="noStrike">
                <a:solidFill>
                  <a:srgbClr val="92d050"/>
                </a:solidFill>
                <a:latin typeface="Arial Rounded MT Bold"/>
              </a:rPr>
              <a:t>CCleaner</a:t>
            </a:r>
            <a:r>
              <a:rPr b="0" lang="en-GB" sz="2100" spc="-1" strike="noStrike">
                <a:solidFill>
                  <a:srgbClr val="000000"/>
                </a:solidFill>
                <a:latin typeface="Arial Rounded MT Bold"/>
              </a:rPr>
              <a:t>. </a:t>
            </a:r>
            <a:endParaRPr b="0" lang="en-US" sz="2100" spc="-1" strike="noStrike">
              <a:solidFill>
                <a:srgbClr val="000000"/>
              </a:solidFill>
              <a:latin typeface="Arial"/>
            </a:endParaRPr>
          </a:p>
        </p:txBody>
      </p:sp>
      <p:pic>
        <p:nvPicPr>
          <p:cNvPr id="601" name="Imagen 4" descr=""/>
          <p:cNvPicPr/>
          <p:nvPr/>
        </p:nvPicPr>
        <p:blipFill>
          <a:blip r:embed="rId1"/>
          <a:stretch/>
        </p:blipFill>
        <p:spPr>
          <a:xfrm>
            <a:off x="2987640" y="4317840"/>
            <a:ext cx="381960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787120" y="43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3" name=""/>
          <p:cNvSpPr txBox="1"/>
          <p:nvPr/>
        </p:nvSpPr>
        <p:spPr>
          <a:xfrm>
            <a:off x="439200" y="1417680"/>
            <a:ext cx="82472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zyszczeni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 pomocą tego programu możemy wyczyścić pliki tymczasowe z Internetu oprócz rekordów, które nie są używa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 tym ekranie możemy wybrać wszystkie opcje wyszukiwarek i wykonać je.</a:t>
            </a:r>
            <a:endParaRPr b="0" lang="en-US" sz="2000" spc="-1" strike="noStrike">
              <a:solidFill>
                <a:srgbClr val="000000"/>
              </a:solidFill>
              <a:latin typeface="Arial"/>
            </a:endParaRPr>
          </a:p>
        </p:txBody>
      </p:sp>
      <p:pic>
        <p:nvPicPr>
          <p:cNvPr id="604" name="Imagen 3" descr=""/>
          <p:cNvPicPr/>
          <p:nvPr/>
        </p:nvPicPr>
        <p:blipFill>
          <a:blip r:embed="rId1"/>
          <a:stretch/>
        </p:blipFill>
        <p:spPr>
          <a:xfrm>
            <a:off x="3059280" y="3519360"/>
            <a:ext cx="4609800" cy="24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6" name=""/>
          <p:cNvSpPr txBox="1"/>
          <p:nvPr/>
        </p:nvSpPr>
        <p:spPr>
          <a:xfrm>
            <a:off x="456840" y="1413000"/>
            <a:ext cx="793116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zyszczenie sprzętu</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prócz </a:t>
            </a:r>
            <a:r>
              <a:rPr b="0" lang="it-IT" sz="2000" spc="-1" strike="noStrike">
                <a:solidFill>
                  <a:srgbClr val="000000"/>
                </a:solidFill>
                <a:latin typeface="Arial Rounded MT Bold"/>
              </a:rPr>
              <a:t>o</a:t>
            </a:r>
            <a:r>
              <a:rPr b="0" lang="pl-PL" sz="2000" spc="-1" strike="noStrike">
                <a:solidFill>
                  <a:srgbClr val="000000"/>
                </a:solidFill>
                <a:latin typeface="Arial Rounded MT Bold"/>
              </a:rPr>
              <a:t>czyszcz</a:t>
            </a:r>
            <a:r>
              <a:rPr b="0" lang="it-IT" sz="2000" spc="-1" strike="noStrike">
                <a:solidFill>
                  <a:srgbClr val="000000"/>
                </a:solidFill>
                <a:latin typeface="Arial Rounded MT Bold"/>
              </a:rPr>
              <a:t>a</a:t>
            </a:r>
            <a:r>
              <a:rPr b="0" lang="pl-PL" sz="2000" spc="-1" strike="noStrike">
                <a:solidFill>
                  <a:srgbClr val="000000"/>
                </a:solidFill>
                <a:latin typeface="Arial Rounded MT Bold"/>
              </a:rPr>
              <a:t>nia oprogramowania, </a:t>
            </a:r>
            <a:r>
              <a:rPr b="0" lang="pl-PL" sz="2000" spc="-1" strike="noStrike">
                <a:solidFill>
                  <a:srgbClr val="92d050"/>
                </a:solidFill>
                <a:latin typeface="Arial Rounded MT Bold"/>
              </a:rPr>
              <a:t>czyszczenie sprzętu ma również wpływ na optymalne funkcjonowanie komputer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winniśmy czyścić obudowy </a:t>
            </a:r>
            <a:r>
              <a:rPr b="0" lang="pl-PL" sz="2000" spc="-1" strike="noStrike">
                <a:solidFill>
                  <a:srgbClr val="92d050"/>
                </a:solidFill>
                <a:latin typeface="Arial Rounded MT Bold"/>
              </a:rPr>
              <a:t>komputerów</a:t>
            </a:r>
            <a:r>
              <a:rPr b="0" lang="pl-PL" sz="2000" spc="-1" strike="noStrike">
                <a:solidFill>
                  <a:srgbClr val="000000"/>
                </a:solidFill>
                <a:latin typeface="Arial Rounded MT Bold"/>
              </a:rPr>
              <a:t> w środku raz w miesiącu lub co dwa miesią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jlepszym sposobem na to jest użycie </a:t>
            </a:r>
            <a:r>
              <a:rPr b="0" lang="pl-PL" sz="2000" spc="-1" strike="noStrike">
                <a:solidFill>
                  <a:srgbClr val="92d050"/>
                </a:solidFill>
                <a:latin typeface="Arial Rounded MT Bold"/>
              </a:rPr>
              <a:t>odkurzacza</a:t>
            </a:r>
            <a:r>
              <a:rPr b="0" lang="pl-PL" sz="2000" spc="-1" strike="noStrike">
                <a:solidFill>
                  <a:srgbClr val="000000"/>
                </a:solidFill>
                <a:latin typeface="Arial Rounded MT Bold"/>
              </a:rPr>
              <a:t>, który czyści wszystkie części komputera bez powodowania uszkodze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Laptopy muszą być otwarte w celu czyszczenia, więc lepiej zabierz je do </a:t>
            </a:r>
            <a:r>
              <a:rPr b="0" lang="pl-PL" sz="2000" spc="-1" strike="noStrike">
                <a:solidFill>
                  <a:srgbClr val="92d050"/>
                </a:solidFill>
                <a:latin typeface="Arial Rounded MT Bold"/>
              </a:rPr>
              <a:t>specjalistycznego centrum</a:t>
            </a:r>
            <a:r>
              <a:rPr b="0" lang="pl-PL"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8" name=""/>
          <p:cNvSpPr txBox="1"/>
          <p:nvPr/>
        </p:nvSpPr>
        <p:spPr>
          <a:xfrm>
            <a:off x="457200" y="1413000"/>
            <a:ext cx="7283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Instalacja</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reszcie, od czasu do czasu zaleca się ponowną </a:t>
            </a:r>
            <a:r>
              <a:rPr b="0" lang="pl-PL" sz="2000" spc="-1" strike="noStrike">
                <a:solidFill>
                  <a:srgbClr val="92d050"/>
                </a:solidFill>
                <a:latin typeface="Arial Rounded MT Bold"/>
              </a:rPr>
              <a:t>instalację</a:t>
            </a:r>
            <a:r>
              <a:rPr b="0" lang="pl-PL" sz="2000" spc="-1" strike="noStrike">
                <a:solidFill>
                  <a:srgbClr val="000000"/>
                </a:solidFill>
                <a:latin typeface="Arial Rounded MT Bold"/>
              </a:rPr>
              <a:t> całego systemu</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System operacyjny zbiera po pewnym czasie wiele plików tymczasowych i aktualizacji oraz plików sterowników, które są przestarzałe lub już ich nie potrzebujemy</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 tego powodu wygodnie jest </a:t>
            </a:r>
            <a:r>
              <a:rPr b="0" lang="pl-PL" sz="2000" spc="-1" strike="noStrike">
                <a:solidFill>
                  <a:srgbClr val="92d050"/>
                </a:solidFill>
                <a:latin typeface="Arial Rounded MT Bold"/>
              </a:rPr>
              <a:t>sformatować i ponownie zainstalować </a:t>
            </a:r>
            <a:r>
              <a:rPr b="0" lang="pl-PL" sz="2000" spc="-1" strike="noStrike">
                <a:solidFill>
                  <a:srgbClr val="000000"/>
                </a:solidFill>
                <a:latin typeface="Arial Rounded MT Bold"/>
              </a:rPr>
              <a:t>cały system raz w roku lub raz na dwa lata. Ale lepiej zabierzmy ich do </a:t>
            </a:r>
            <a:r>
              <a:rPr b="0" lang="pl-PL" sz="2000" spc="-1" strike="noStrike">
                <a:solidFill>
                  <a:srgbClr val="92d050"/>
                </a:solidFill>
                <a:latin typeface="Arial Rounded MT Bold"/>
              </a:rPr>
              <a:t>specjalistycznego centrum</a:t>
            </a:r>
            <a:r>
              <a:rPr b="0" lang="pl-PL"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fontScale="98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ierwszym krokiem, jeśli chodzi o rozwiązanie dowolnego problemu z komputerem, jest </a:t>
            </a:r>
            <a:r>
              <a:rPr b="0" lang="pl-PL" sz="2000" spc="-1" strike="noStrike">
                <a:solidFill>
                  <a:srgbClr val="92d050"/>
                </a:solidFill>
                <a:latin typeface="Arial Rounded MT Bold"/>
              </a:rPr>
              <a:t>ustalenie, który </a:t>
            </a:r>
            <a:r>
              <a:rPr b="0" lang="it-IT" sz="2000" spc="-1" strike="noStrike">
                <a:solidFill>
                  <a:srgbClr val="92d050"/>
                </a:solidFill>
                <a:latin typeface="Arial Rounded MT Bold"/>
              </a:rPr>
              <a:t>komponent</a:t>
            </a:r>
            <a:r>
              <a:rPr b="0" lang="pl-PL" sz="2000" spc="-1" strike="noStrike">
                <a:solidFill>
                  <a:srgbClr val="92d050"/>
                </a:solidFill>
                <a:latin typeface="Arial Rounded MT Bold"/>
              </a:rPr>
              <a:t> </a:t>
            </a:r>
            <a:r>
              <a:rPr b="0" lang="pl-PL" sz="2000" spc="-1" strike="noStrike">
                <a:solidFill>
                  <a:srgbClr val="000000"/>
                </a:solidFill>
                <a:latin typeface="Arial Rounded MT Bold"/>
              </a:rPr>
              <a:t>nie działa poprawni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Czasami wynika to z czegoś prostego, na przykład: dźwięk nie działa lub nie widzimy poprawnie, że ekran lub klawiatura / mysz przestały działać.</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nnym razem komputer nawet się nie uruchamia, nagle uruchamia się ponownie lub wyłącza, a my nie wiemy, co się dziej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a:t>
            </a:r>
            <a:r>
              <a:rPr b="0" lang="pl-PL" sz="2000" spc="-1" strike="noStrike">
                <a:solidFill>
                  <a:srgbClr val="92d050"/>
                </a:solidFill>
                <a:latin typeface="Arial Rounded MT Bold"/>
              </a:rPr>
              <a:t>zidentyfikować problem</a:t>
            </a:r>
            <a:r>
              <a:rPr b="0" lang="pl-PL" sz="2000" spc="-1" strike="noStrike">
                <a:solidFill>
                  <a:srgbClr val="000000"/>
                </a:solidFill>
                <a:latin typeface="Arial Rounded MT Bold"/>
              </a:rPr>
              <a:t>, musimy zwrócić uwagę na wskazówki, które daje nam k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ierwszym krokiem jest sprawdzenie, czy problem dotyczy oprogramowania lub sprzętu. Najprostszą metodą jest uzyskanie dostępu do komputera w „</a:t>
            </a:r>
            <a:r>
              <a:rPr b="0" lang="pl-PL" sz="2000" spc="-1" strike="noStrike">
                <a:solidFill>
                  <a:srgbClr val="92d050"/>
                </a:solidFill>
                <a:latin typeface="Arial Rounded MT Bold"/>
              </a:rPr>
              <a:t>trybie awaryjnym</a:t>
            </a:r>
            <a:r>
              <a:rPr b="0" lang="pl-PL"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ryb awaryjny to tryb uruchamiania komputera, w którym system uruchamia się tylko z niezbędnymi aplikacjami i sterownikami, a wszystko, co nie jest konieczne, pozostaje wyłączon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eraz zobaczymy, jak uzyskać dostęp do trybu awaryjnego</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iknij „Wyłącz” i, naciskając klawisz „Shift”, kliknij „Uruchom ponown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eraz komputer uruchomi się ponownie i wyświetli menu, w którym wybieramy „</a:t>
            </a:r>
            <a:r>
              <a:rPr b="0" lang="pl-PL" sz="2000" spc="-1" strike="noStrike">
                <a:solidFill>
                  <a:srgbClr val="92d050"/>
                </a:solidFill>
                <a:latin typeface="Arial Rounded MT Bold"/>
              </a:rPr>
              <a:t>Rozwiązywanie problemów” -&gt; Opcje zaawansowane -&gt; „Konfiguracja uruchami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806560" y="3586320"/>
            <a:ext cx="3530880" cy="23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871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5"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rybie awaryjnym spróbujemy odtworzyć błą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możemy to odtworzyć, oznacza to, że jest to błąd </a:t>
            </a:r>
            <a:r>
              <a:rPr b="1" lang="pl-PL" sz="2200" spc="-1" strike="noStrike">
                <a:solidFill>
                  <a:srgbClr val="92d050"/>
                </a:solidFill>
                <a:latin typeface="Arial Rounded MT Bold"/>
              </a:rPr>
              <a:t>sprzętowy</a:t>
            </a:r>
            <a:r>
              <a:rPr b="0" lang="pl-PL"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eciwnie, jeśli błąd nie pojawi się ponownie, oznacza to, że pochodzi on z </a:t>
            </a:r>
            <a:r>
              <a:rPr b="1" lang="pl-PL" sz="2200" spc="-1" strike="noStrike">
                <a:solidFill>
                  <a:srgbClr val="92d050"/>
                </a:solidFill>
                <a:latin typeface="Arial Rounded MT Bold"/>
              </a:rPr>
              <a:t>oprogramowania</a:t>
            </a:r>
            <a:r>
              <a:rPr b="1" lang="it-IT" sz="2200" spc="-1" strike="noStrike">
                <a:solidFill>
                  <a:srgbClr val="92d050"/>
                </a:solidFill>
                <a:latin typeface="Arial Rounded MT Bold"/>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6920" y="178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fontScale="99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Błąd występuje przed lub po </a:t>
            </a:r>
            <a:r>
              <a:rPr b="0" lang="pl-PL" sz="2000" spc="-1" strike="noStrike">
                <a:solidFill>
                  <a:srgbClr val="92d050"/>
                </a:solidFill>
                <a:latin typeface="Arial Rounded MT Bold"/>
              </a:rPr>
              <a:t>komunikacie o błędzi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st to jeden z najprostszych przypadków identyfikowania i korygowania błędów, ponieważ w komunikacie pojawią się ważne informacje pomocne w naprawie komputer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 to być okno błędu lub błąd pełnego ekranu, w obu przypadkach musimy </a:t>
            </a:r>
            <a:r>
              <a:rPr b="0" lang="pl-PL" sz="2000" spc="-1" strike="noStrike">
                <a:solidFill>
                  <a:srgbClr val="92d050"/>
                </a:solidFill>
                <a:latin typeface="Arial Rounded MT Bold"/>
              </a:rPr>
              <a:t>spojrzeć na kod błędu i odczytać komunikat</a:t>
            </a:r>
            <a:r>
              <a:rPr b="0" lang="pl-PL"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fontScale="94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omunikat o błędzie może również pojawić się, zanim komputer całkowicie się uruchomi</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każdym razie musimy skopiować kod lub komunikat o błędzie i wyszukać go w Internecie, abyśmy mogli znaleźć rozwiązanie naszego problemu.</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30280" y="321300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Czasami nie pojawia się komunikat o błędzie, który daje nam wskazówki co do dokładnej awarii.</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Z tego powodu tutaj jest lista </a:t>
            </a:r>
            <a:r>
              <a:rPr b="1" lang="pl-PL" sz="1800" spc="-1" strike="noStrike">
                <a:solidFill>
                  <a:srgbClr val="00b0f0"/>
                </a:solidFill>
                <a:latin typeface="Arial Rounded MT Bold"/>
              </a:rPr>
              <a:t>najczęstsz</a:t>
            </a:r>
            <a:r>
              <a:rPr b="1" lang="it-IT" sz="1800" spc="-1" strike="noStrike">
                <a:solidFill>
                  <a:srgbClr val="00b0f0"/>
                </a:solidFill>
                <a:latin typeface="Arial Rounded MT Bold"/>
              </a:rPr>
              <a:t>ych</a:t>
            </a:r>
            <a:r>
              <a:rPr b="1" lang="pl-PL" sz="1800" spc="-1" strike="noStrike">
                <a:solidFill>
                  <a:srgbClr val="00b0f0"/>
                </a:solidFill>
                <a:latin typeface="Arial Rounded MT Bold"/>
              </a:rPr>
              <a:t> błęd</a:t>
            </a:r>
            <a:r>
              <a:rPr b="1" lang="it-IT" sz="1800" spc="-1" strike="noStrike">
                <a:solidFill>
                  <a:srgbClr val="00b0f0"/>
                </a:solidFill>
                <a:latin typeface="Arial Rounded MT Bold"/>
              </a:rPr>
              <a:t>ow</a:t>
            </a:r>
            <a:r>
              <a:rPr b="1" lang="pl-PL" sz="1800" spc="-1" strike="noStrike">
                <a:solidFill>
                  <a:srgbClr val="00b0f0"/>
                </a:solidFill>
                <a:latin typeface="Arial Rounded MT Bold"/>
              </a:rPr>
              <a:t> </a:t>
            </a:r>
            <a:r>
              <a:rPr b="0" lang="pl-PL" sz="1800" spc="-1" strike="noStrike">
                <a:solidFill>
                  <a:srgbClr val="000000"/>
                </a:solidFill>
                <a:latin typeface="Arial Rounded MT Bold"/>
              </a:rPr>
              <a:t>i ich możliwe rozwiązania.</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573360"/>
          <a:ext cx="8362800" cy="2546280"/>
        </p:xfrm>
        <a:graphic>
          <a:graphicData uri="http://schemas.openxmlformats.org/drawingml/2006/table">
            <a:tbl>
              <a:tblPr/>
              <a:tblGrid>
                <a:gridCol w="1913040"/>
                <a:gridCol w="6449760"/>
              </a:tblGrid>
              <a:tr h="5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041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ie mozna nic uslyszec</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glosnosc komputera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glosnik jest wlaczony i podlaczony.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sli masz sluchawki podlaczone, wylacz je.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ylacz i wlacz na nowo glosniki.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lacz na nowo k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obuj podlaczyc glosnik do innych narzedzi (telefon komorkowy, PC, itp.) zeby moc wyeliminowac mozliwosc problema zwiazanego z glosnikiem..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30:22Z</dcterms:modified>
  <cp:revision>531</cp:revision>
  <dc:subject/>
  <dc:title>Title</dc:title>
</cp:coreProperties>
</file>