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0A89-5199-47B2-BDA0-B0A013517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B7DD-5543-4761-B393-73C033E2C5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C12B-A4AE-43EF-8703-ED6A22D173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58CE-DE53-4DCC-BA07-4FC429204F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6127-DC39-4407-A031-7D9C2AE061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DCCE36-4AC2-467E-8D70-B44A5CF47B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14AC7C-36F3-417F-9713-B11E03882B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E5360DF-614D-4A6B-A791-18A4929ED40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EF24C4-6C25-4AC4-9343-2A84343F317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97FC25-953F-4ED6-8B16-3266F9CA64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55607A-A79C-4B78-B665-9A695CB8D1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F755C7-609C-480A-8F15-B1BEFD37BE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FFB31A5-FFC5-4BD0-83DE-9101A17282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42CDDC1-9C01-4B62-A8FC-AAB169C6A59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28F5439-91F9-475B-9162-C66E1B53C28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C32A2B-DE35-45A7-A8E6-31ECCC0EB6C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F6320B-55CC-4CB3-AFA0-A9467532FC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16EA66-812B-4ADB-AE1B-EA6E3BCE47D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73E4B3-57C9-496C-8A06-B860C38E72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6147C6A-9313-40AA-8538-15A40B9B8AD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B7CBE6-77C7-48FF-86EE-C3085C8F4A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5F93D5-59B9-4741-9D70-DD53130F0CC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6ED03D-8425-4F96-B29B-CDFB18CF5E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7DB3538-B180-4616-8A64-A7BB003FF9E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19F981-5054-482F-89E7-6C7AFF2D59F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7D803C-AB5A-4E7C-981F-29E6F39D387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5D0CE6F-281D-4F15-A84E-7DE60C392A1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336DDB-5818-4C57-88CB-0309550606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9C33F5F-6E63-4B36-959D-DE7A15BBAC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4B42CE0-CE72-4410-9204-ACF37F7BBC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F2F6D67-D1E0-4A9C-BC5E-CDE60F99BD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79F3B77-E96E-4D64-A58B-C02201132A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E3BC63-550B-45CD-BB30-47535F4CD0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5FA556-6AB7-4E3D-BF81-7258BB9882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3EF9D4-FE52-49D0-A5AF-0D79F87D93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FEA186D-414B-4BBF-BA13-E6BB016D6D7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C57C5C9-BEA2-410F-B34B-6113A765C74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9EFB9A6-3212-4D56-A94D-64F37469857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8862B3-D366-4588-8BA5-426E925EB29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C6CDAD9-B4E0-426A-BE68-DA030D65994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C0BA65-C3C1-4FC0-B575-FFC5EC5364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DEFAB1E-214B-45DB-8604-D848D1FB4C1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6368F69-84CF-4CBE-93B9-6EB1961D85F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436E63-1578-40F0-B093-A7230E094E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9F8708-6DDA-44E3-875D-B93EF17FDC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C476BE-6947-4233-81E8-4CEF927558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B58495-0E7E-42C4-926E-CDA199F4594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F3CEAF1-C282-4A86-ACE9-74D5D275A0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E000F69-ED4F-4368-8722-E14CFC2AA32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E812916-6953-4B58-8CB2-DF8397077F7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D5C8E8-29A7-4AC4-AD1E-0E8092B37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8A62F-D18B-443E-8107-02B3EE45E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5C0B6-1E09-4C3F-8DF6-3C4A54BCD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02AAC-0BC5-4746-9121-99383EBA8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D9509-0233-4D69-BF2F-BC596D0B2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80A13-6DC6-44F9-A584-BD4CA037D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4FABF-5F09-4EC0-AA68-C266E1D82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AA220-35EA-4A45-91F5-49FE7749D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4AA31-4D33-46C1-BBE5-7852C3101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8E653F-23A6-425A-95C7-A0A734736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46AC0F-4C51-43E1-AA0F-521DF42C6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ACBE73-C9B7-4B1D-BACC-F10BE3BCB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AC0325-FE35-4F50-8F36-739C7B9DDE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D4E7CA-E791-4FF2-89B4-75CF896EF6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764FF0-5380-4A7A-959B-CF989E6434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5D5ABA-BDB6-4ABE-88EA-CF2F2165F1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3594FF-3D1A-47AA-B396-16E38F969F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CEB98A-EC5B-49D0-84A2-4DDA22392C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05DD96-7311-467D-A14A-20D1A9CA03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5769D6-1973-4863-87A3-6D504722E8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E4309E-841B-44E3-A063-6867BDDE4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6EFDC7-A392-4182-A232-529EBBDB85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47F4E6-E376-4EB7-A37B-10499FF36A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5E04AB-0AA8-44DA-96A7-8A5A10CED3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C4A922C-0981-4AD2-960D-01C0E23AF9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A64A9C-831D-4C29-83BF-19422E0755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D89836-234B-4FA9-A450-1BBA520096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06A310-862C-4B39-A87A-8FD63AEF66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5F485A-6816-44DE-B480-7C1E97ECB0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244D60-4AFF-4B18-AA97-DE45FE7975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FE8323-0822-4D86-8149-4C96DBF088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27F9DF-9095-4E25-9E07-6AD5336824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E6A573-3168-4AE1-8C9C-D0F1430534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0F50CC-1250-4EED-8DEA-0DB6ABDA8C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2CE36A-0515-48C3-8241-89053EAA92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32A19B1-1C7B-4BFD-99AD-5C8DDD3F17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6E1CCD0-8F48-4A3F-BC98-8968515EEA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FE59F5-5338-47E6-B13E-532063ADEB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93EC80-D717-4821-9CCC-7830F838B4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4E6F164-F0D8-4796-8925-BAF0D196C7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D661FD-B015-467F-A151-266A175B51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7D8219-B5FB-4E21-8D78-521178C45A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C93EB2-0C06-48B0-8C8B-AFF713FA64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30BE77-BBF2-485D-BAC8-23E12E07EE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C893AE-4970-42D7-8C0C-D3CE13ABBC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20D3D9-521C-4897-A5BE-512AA4EE64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AE28473-DA7C-4B64-B9A1-620DF586098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065324-18B3-4004-B248-14CBE9923D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6BA6CB-4D7B-4898-B030-FC9AE34E49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5D0943-25E6-40BC-92DA-2E3330D1C2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0FD6815-7324-45FF-83AD-1419EA087E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1BC586-FECF-45F4-8EA4-7AAF15E24F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059D79-8AF8-4B60-A09F-221325D860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AEE955-5A76-4BDB-98A7-569D6C1538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309CDB-4944-442A-AB06-D5DFE9FC6C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01CB38-BBA7-44FB-B870-3CD20D2A79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17725F-66F2-466F-9BE8-C14E6026B6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379D67-C53B-4365-BA4B-BDD8B040BDC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41270E7-632C-4965-9526-AEC9FA2D0E9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176FAF4-09C9-4311-ABBE-75D30716BB0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2D12786-760B-4510-ADB6-5A9C7246DB4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E2A67F3-F44E-4863-A677-95C294EC487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65CFC9-5328-4F98-B33F-913A1A2CDE8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6253CD-3F96-426E-BB45-002ED1BA162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D1AB752-CF0D-4EE7-B3FB-85356B3CF39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9CABB7-6AC1-4D54-BC30-A25EA10E329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78DD1A-F17E-4210-829D-12B6171375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FB3EC1-57BB-4BC6-AAA2-042123472C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9DFB9A-C31C-4FDA-B9BC-FD35A8D5E1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C80428A-A40B-407F-B07A-D32DE89A659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4C86EBE-BDC7-4F06-9DB5-F0FF36350D0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4F8B212-FC1E-47FA-8722-BF4E7F3B70F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488B1B7-8F92-490B-9E2C-805CBE4A781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A26B005-CF24-4D96-811B-0B428C9677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B366DDA-1311-4D84-8FE4-13BCE4E2B84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65C9-9B3E-482A-81EB-8DD60EC63A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E62D-7F68-4C25-B18C-C623049E67E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84E1-5C56-420B-90B2-DB82EC0104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F73C-8658-4120-81AB-F7EFE64C983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E340-6D0A-47C7-8DE8-6E2D2B49CE5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2EE4-CB95-46EF-9928-F7B836A955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254F-9C82-4344-832A-93C58AEF53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F119-F53E-40D3-B91F-E68E2CB9118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A9C9-4212-48A5-8F5F-31107B677B7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AE2A-CBB5-4D49-9522-058E5C10D8E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564000" y="5084640"/>
            <a:ext cx="54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Zarządanie informacjami cyfrowymi</a:t>
            </a:r>
            <a:endParaRPr b="0" lang="en-US" sz="3600" spc="-1" strike="noStrike">
              <a:solidFill>
                <a:srgbClr val="000000"/>
              </a:solidFill>
              <a:latin typeface="Arial"/>
            </a:endParaRPr>
          </a:p>
        </p:txBody>
      </p:sp>
      <p:sp>
        <p:nvSpPr>
          <p:cNvPr id="544" name="Rectangle 1"/>
          <p:cNvSpPr/>
          <p:nvPr/>
        </p:nvSpPr>
        <p:spPr>
          <a:xfrm>
            <a:off x="539640" y="324468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Informacja i analiza dany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kumenty w Internecie</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4000"/>
          </a:bodyPr>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Pisemne dokumenty można znaleźć w Internec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gą to być dokumenty z informacjami lub formularzami do wypełnienia</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Istnieją różne rodzaje dokumentów </a:t>
            </a:r>
            <a:endParaRPr b="0" lang="en-US" sz="2600" spc="-1" strike="noStrike">
              <a:solidFill>
                <a:srgbClr val="000000"/>
              </a:solidFill>
              <a:latin typeface="Arial"/>
            </a:endParaRPr>
          </a:p>
          <a:p>
            <a:pPr marL="322200" indent="-322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    </a:t>
            </a:r>
            <a:r>
              <a:rPr b="0" lang="pl-PL" sz="2600" spc="-1" strike="noStrike">
                <a:solidFill>
                  <a:srgbClr val="000000"/>
                </a:solidFill>
                <a:latin typeface="Arial Rounded MT Bold"/>
              </a:rPr>
              <a:t>To jest pdf</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22200" indent="-322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wykle nie można zmienić / edytować tego typu dokumentu, ale można go wydrukować lub pobrać / zapisać</a:t>
            </a:r>
            <a:r>
              <a:rPr b="0" lang="it-IT"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Zapisywanie dokumentów z Internetu</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by wydrukować dokument, musisz podłączyć komputer do drukar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by pobrać lub zapisać dokument PDF na komputerze, możesz użyć tych ikon u góry ekran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81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Kliknij tutaj, aby wydrukować</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Kliknij tutaj, aby zapisać</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Rounded MT Bold"/>
              </a:rPr>
              <a:t>Jest to również symbol „Zapisz”</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ten link do pliku PDF</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rzytrzymaj kursor u góry strony, aż zobaczysz te znak</a:t>
            </a:r>
            <a:r>
              <a:rPr b="0" lang="it-IT" sz="2400" spc="-1" strike="noStrike">
                <a:solidFill>
                  <a:srgbClr val="000000"/>
                </a:solidFill>
                <a:latin typeface="Arial Rounded MT Bold"/>
              </a:rPr>
              <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strzałkę</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apisz ten dokument na pulpicie</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18556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2 (ciąg dalszy)</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te symbole pojawiły się w prawym górnym rogu strony</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tak, naciśnij przycis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 </a:t>
            </a:r>
            <a:r>
              <a:rPr b="0" lang="it-IT" sz="2800" spc="-1" strike="noStrike">
                <a:solidFill>
                  <a:srgbClr val="000000"/>
                </a:solidFill>
                <a:latin typeface="Arial Rounded MT Bold"/>
              </a:rPr>
              <a:t>‘</a:t>
            </a:r>
            <a:r>
              <a:rPr b="0" lang="it-IT" sz="2800" spc="-1" strike="noStrike">
                <a:solidFill>
                  <a:srgbClr val="000000"/>
                </a:solidFill>
                <a:latin typeface="Arial Rounded MT Bold"/>
              </a:rPr>
              <a:t>z</a:t>
            </a:r>
            <a:r>
              <a:rPr b="0" lang="pl-PL" sz="2800" spc="-1" strike="noStrike">
                <a:solidFill>
                  <a:srgbClr val="000000"/>
                </a:solidFill>
                <a:latin typeface="Arial Rounded MT Bold"/>
              </a:rPr>
              <a:t>apisz jako</a:t>
            </a:r>
            <a:r>
              <a:rPr b="0" lang="it-IT" sz="2800" spc="-1" strike="noStrike">
                <a:solidFill>
                  <a:srgbClr val="000000"/>
                </a:solidFill>
                <a:latin typeface="Arial Rounded MT Bold"/>
              </a:rPr>
              <a:t>’</a:t>
            </a:r>
            <a:r>
              <a:rPr b="0" lang="pl-PL" sz="2800" spc="-1" strike="noStrike">
                <a:solidFill>
                  <a:srgbClr val="000000"/>
                </a:solidFill>
                <a:latin typeface="Arial Rounded MT Bold"/>
              </a:rPr>
              <a:t> po najechaniu</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niego kursorem,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 następnie </a:t>
            </a:r>
            <a:r>
              <a:rPr b="0" lang="it-IT" sz="2800" spc="-1" strike="noStrike">
                <a:solidFill>
                  <a:srgbClr val="000000"/>
                </a:solidFill>
                <a:latin typeface="Arial Rounded MT Bold"/>
              </a:rPr>
              <a:t>‘z</a:t>
            </a:r>
            <a:r>
              <a:rPr b="0" lang="pl-PL" sz="2800" spc="-1" strike="noStrike">
                <a:solidFill>
                  <a:srgbClr val="000000"/>
                </a:solidFill>
                <a:latin typeface="Arial Rounded MT Bold"/>
              </a:rPr>
              <a:t>apisz</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Zapisz jako przyc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e i załączniki</a:t>
            </a:r>
            <a:endParaRPr b="0" lang="en-US" sz="4400" spc="-1" strike="noStrike">
              <a:solidFill>
                <a:srgbClr val="000000"/>
              </a:solidFill>
              <a:latin typeface="Arial"/>
            </a:endParaRPr>
          </a:p>
        </p:txBody>
      </p:sp>
      <p:sp>
        <p:nvSpPr>
          <p:cNvPr id="592" name=""/>
          <p:cNvSpPr txBox="1"/>
          <p:nvPr/>
        </p:nvSpPr>
        <p:spPr>
          <a:xfrm>
            <a:off x="457200" y="1600200"/>
            <a:ext cx="836280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adomości e-mail zawierają informacje w samym e-mailu i mogą również zawierać załączni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ki spinacz do papieru: </a:t>
            </a: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jest symbolem załącznika</a:t>
            </a:r>
            <a:br>
              <a:rPr sz="2800"/>
            </a:b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łącznik to dokument lub zdjęcie, które można zapisać, aby móc je później obejrzeć</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wiadomość e-mail wysłaną do Ciebie z załącznikiem? Skąd wiesz</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5148360" y="2492280"/>
            <a:ext cx="129528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e i załączniki</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en e-mail ma załącznik</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Ten e-mail nie ma załącznik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Symbol załącznika</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3 </a:t>
            </a:r>
            <a:endParaRPr b="0" lang="en-US" sz="4400" spc="-1" strike="noStrike">
              <a:solidFill>
                <a:srgbClr val="000000"/>
              </a:solidFill>
              <a:latin typeface="Arial"/>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wórz swoje konto e-mail</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Znajdź wiadomość e-mail z załącznikiem</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Otwórz ten e-mail znajdź załączni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Wybierz opcję pobierz załączni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pisz załącznik na pulpici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84328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Pliki i foldery</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porządkować dokumenty tak, jak dokumenty w szafce na dokumenty</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tworzyć folder na swoim komputerze, aby łatwo znaleźć dokument lub inne informacje</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Zarządzanie plikami / folderami</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mputerze możesz tworzyć foldery różnych tematów</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mieć folder z napisem </a:t>
            </a:r>
            <a:r>
              <a:rPr b="0" lang="it-IT" sz="3200" spc="-1" strike="noStrike">
                <a:solidFill>
                  <a:srgbClr val="000000"/>
                </a:solidFill>
                <a:latin typeface="Arial Rounded MT Bold"/>
              </a:rPr>
              <a:t>‘</a:t>
            </a:r>
            <a:r>
              <a:rPr b="0" lang="pl-PL" sz="3200" spc="-1" strike="noStrike">
                <a:solidFill>
                  <a:srgbClr val="000000"/>
                </a:solidFill>
                <a:latin typeface="Arial Rounded MT Bold"/>
              </a:rPr>
              <a:t>Samochód</a:t>
            </a:r>
            <a:r>
              <a:rPr b="0" lang="it-IT" sz="3200" spc="-1" strike="noStrike">
                <a:solidFill>
                  <a:srgbClr val="000000"/>
                </a:solidFill>
                <a:latin typeface="Arial Rounded MT Bold"/>
              </a:rPr>
              <a:t>’</a:t>
            </a:r>
            <a:r>
              <a:rPr b="0" lang="pl-PL" sz="3200" spc="-1" strike="noStrike">
                <a:solidFill>
                  <a:srgbClr val="000000"/>
                </a:solidFill>
                <a:latin typeface="Arial Rounded MT Bold"/>
              </a:rPr>
              <a:t>, który może zawierać dokumenty potwierdzające opłacenie podatku samochodowego lub dokumentów ubezpieczeni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zy możesz pomyśleć o innych folderach, które mó</a:t>
            </a:r>
            <a:r>
              <a:rPr b="0" lang="it-IT" sz="3200" spc="-1" strike="noStrike">
                <a:solidFill>
                  <a:srgbClr val="000000"/>
                </a:solidFill>
                <a:latin typeface="Arial Rounded MT Bold"/>
              </a:rPr>
              <a:t>głbyś</a:t>
            </a:r>
            <a:r>
              <a:rPr b="0" lang="pl-PL" sz="3200" spc="-1" strike="noStrike">
                <a:solidFill>
                  <a:srgbClr val="000000"/>
                </a:solidFill>
                <a:latin typeface="Arial Rounded MT Bold"/>
              </a:rPr>
              <a:t> mieć</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Tworzenie folderu na pulpicie</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Przejdź na pulpit</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pl-PL" sz="3000" spc="-1" strike="noStrike">
                <a:solidFill>
                  <a:srgbClr val="000000"/>
                </a:solidFill>
                <a:latin typeface="Arial Rounded MT Bold"/>
              </a:rPr>
              <a:t>Kliknij prawym przyciskiem myszy” na myszy</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430440"/>
            <a:ext cx="2495520" cy="2590920"/>
          </a:xfrm>
          <a:prstGeom prst="rect">
            <a:avLst/>
          </a:prstGeom>
          <a:ln w="0">
            <a:noFill/>
          </a:ln>
        </p:spPr>
      </p:pic>
      <p:sp>
        <p:nvSpPr>
          <p:cNvPr id="612" name="TextBox 6"/>
          <p:cNvSpPr/>
          <p:nvPr/>
        </p:nvSpPr>
        <p:spPr>
          <a:xfrm>
            <a:off x="6684840" y="3573360"/>
            <a:ext cx="18003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ojawi się to okno</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oznać czym są informacje cyfrowe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rządzać informacjami cyfrowymi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żywać</a:t>
            </a:r>
            <a:r>
              <a:rPr b="0" lang="it-IT" sz="3200" spc="-1" strike="noStrike">
                <a:solidFill>
                  <a:srgbClr val="000000"/>
                </a:solidFill>
                <a:latin typeface="Arial Rounded MT Bold"/>
              </a:rPr>
              <a:t> </a:t>
            </a:r>
            <a:r>
              <a:rPr b="0" lang="pl-PL" sz="3200" spc="-1" strike="noStrike">
                <a:solidFill>
                  <a:srgbClr val="000000"/>
                </a:solidFill>
                <a:latin typeface="Arial Rounded MT Bold"/>
              </a:rPr>
              <a:t>zakładek i ulubionych w Interneci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pisać i uporządk</a:t>
            </a:r>
            <a:r>
              <a:rPr b="0" lang="it-IT" sz="3200" spc="-1" strike="noStrike">
                <a:solidFill>
                  <a:srgbClr val="000000"/>
                </a:solidFill>
                <a:latin typeface="Arial Rounded MT Bold"/>
              </a:rPr>
              <a:t>owa</a:t>
            </a:r>
            <a:r>
              <a:rPr b="0" lang="pl-PL" sz="3200" spc="-1" strike="noStrike">
                <a:solidFill>
                  <a:srgbClr val="000000"/>
                </a:solidFill>
                <a:latin typeface="Arial Rounded MT Bold"/>
              </a:rPr>
              <a:t>ć informacje w folderach, plikach i dyskach twardych</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112840" y="-10044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Kliknij nowy (lewym przyciskiem myszy)</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Pojawi się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kolejne 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Kliknij </a:t>
            </a:r>
            <a:r>
              <a:rPr b="0" lang="it-IT" sz="3000" spc="-1" strike="noStrike">
                <a:solidFill>
                  <a:srgbClr val="000000"/>
                </a:solidFill>
                <a:latin typeface="Arial Rounded MT Bold"/>
              </a:rPr>
              <a:t>‘</a:t>
            </a:r>
            <a:r>
              <a:rPr b="0" lang="pl-PL" sz="3000" spc="-1" strike="noStrike">
                <a:solidFill>
                  <a:srgbClr val="000000"/>
                </a:solidFill>
                <a:latin typeface="Arial Rounded MT Bold"/>
              </a:rPr>
              <a:t>Folder</a:t>
            </a:r>
            <a:r>
              <a:rPr b="0" lang="it-IT"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u góry tego menu.</a:t>
            </a: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Pojawi się ta ‘iko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Zmień nazwę folderu ‘Nauk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124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ciągnij 2 dokumenty zapisane w ćwiczeniach 2 i 3 do folder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335880" indent="-335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Za pomoca</a:t>
            </a:r>
            <a:r>
              <a:rPr b="0" lang="pl-PL" sz="2800" spc="-1" strike="noStrike">
                <a:solidFill>
                  <a:srgbClr val="000000"/>
                </a:solidFill>
                <a:latin typeface="Arial Rounded MT Bold"/>
              </a:rPr>
              <a:t> myszy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a:t>
            </a:r>
            <a:r>
              <a:rPr b="0" lang="pl-PL" sz="2800" spc="-1" strike="noStrike">
                <a:solidFill>
                  <a:srgbClr val="000000"/>
                </a:solidFill>
                <a:latin typeface="Arial Rounded MT Bold"/>
              </a:rPr>
              <a:t>najedź kursorem</a:t>
            </a:r>
            <a:r>
              <a:rPr b="0" lang="it-IT" sz="2800" spc="-1" strike="noStrike">
                <a:solidFill>
                  <a:srgbClr val="000000"/>
                </a:solidFill>
                <a:latin typeface="Arial Rounded MT Bold"/>
              </a:rPr>
              <a:t>’</a:t>
            </a:r>
            <a:r>
              <a:rPr b="0" lang="pl-PL" sz="2800" spc="-1" strike="noStrike">
                <a:solidFill>
                  <a:srgbClr val="000000"/>
                </a:solidFill>
                <a:latin typeface="Arial Rounded MT Bold"/>
              </a:rPr>
              <a:t> na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kument zapisany w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ćwiczeniu 2 (wokół niego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pojawi się słabe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niebieskie pol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ciśnij przycisk po lewej stronie mysz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808200" y="2630520"/>
            <a:ext cx="304452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041560" y="2743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rzytrzymaj lewy przycisk podczas </a:t>
            </a:r>
            <a:r>
              <a:rPr b="0" lang="it-IT" sz="3000" spc="-1" strike="noStrike">
                <a:solidFill>
                  <a:srgbClr val="000000"/>
                </a:solidFill>
                <a:latin typeface="Arial Rounded MT Bold"/>
              </a:rPr>
              <a:t>‘</a:t>
            </a:r>
            <a:r>
              <a:rPr b="0" lang="pl-PL" sz="3000" spc="-1" strike="noStrike">
                <a:solidFill>
                  <a:srgbClr val="000000"/>
                </a:solidFill>
                <a:latin typeface="Arial Rounded MT Bold"/>
              </a:rPr>
              <a:t>przeciągania</a:t>
            </a:r>
            <a:r>
              <a:rPr b="0" lang="it-IT" sz="3000" spc="-1" strike="noStrike">
                <a:solidFill>
                  <a:srgbClr val="000000"/>
                </a:solidFill>
                <a:latin typeface="Arial Rounded MT Bold"/>
              </a:rPr>
              <a:t>’</a:t>
            </a:r>
            <a:r>
              <a:rPr b="0" lang="pl-PL" sz="3000" spc="-1" strike="noStrike">
                <a:solidFill>
                  <a:srgbClr val="000000"/>
                </a:solidFill>
                <a:latin typeface="Arial Rounded MT Bold"/>
              </a:rPr>
              <a:t> dokumentu do folderu </a:t>
            </a:r>
            <a:r>
              <a:rPr b="0" lang="it-IT" sz="3000" spc="-1" strike="noStrike">
                <a:solidFill>
                  <a:srgbClr val="000000"/>
                </a:solidFill>
                <a:latin typeface="Arial Rounded MT Bold"/>
              </a:rPr>
              <a:t>‘</a:t>
            </a:r>
            <a:r>
              <a:rPr b="0" lang="pl-PL" sz="3000" spc="-1" strike="noStrike">
                <a:solidFill>
                  <a:srgbClr val="000000"/>
                </a:solidFill>
                <a:latin typeface="Arial Rounded MT Bold"/>
              </a:rPr>
              <a:t>Nauka</a:t>
            </a:r>
            <a:r>
              <a:rPr b="0" lang="it-IT" sz="3000" spc="-1" strike="noStrike">
                <a:solidFill>
                  <a:srgbClr val="000000"/>
                </a:solidFill>
                <a:latin typeface="Arial Rounded MT Bold"/>
              </a:rPr>
              <a:t>’</a:t>
            </a:r>
            <a:r>
              <a:rPr b="0" lang="pl-PL" sz="3000" spc="-1" strike="noStrike">
                <a:solidFill>
                  <a:srgbClr val="000000"/>
                </a:solidFill>
                <a:latin typeface="Arial Rounded MT Bold"/>
              </a:rPr>
              <a:t>, a następnie puść</a:t>
            </a:r>
            <a:r>
              <a:rPr b="0" lang="it-IT" sz="3000" spc="-1" strike="noStrike">
                <a:solidFill>
                  <a:srgbClr val="000000"/>
                </a:solidFill>
                <a:latin typeface="Arial Rounded MT Bold"/>
              </a:rPr>
              <a:t>.</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pl-PL" sz="3000" spc="-1" strike="noStrike">
                <a:solidFill>
                  <a:srgbClr val="000000"/>
                </a:solidFill>
                <a:latin typeface="Arial Rounded MT Bold"/>
              </a:rPr>
              <a:t>Czy możesz znaleźć ten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dokument, klikając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folder</a:t>
            </a:r>
            <a:r>
              <a:rPr b="0" lang="en-IE"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wtórz to zadanie z innym dokumentem zapisanym w ćwiczeniu 3</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258920" y="3141720"/>
            <a:ext cx="2376360" cy="193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ięcej folderów…</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tworzyć folder na komputerze na dysku twardym - po uruchomieniu komputera ten plik nie będzie widoczny na pulpicie</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Oto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na YouTub</a:t>
            </a:r>
            <a:r>
              <a:rPr b="0" lang="it-IT" sz="3200" spc="-1" strike="noStrike">
                <a:solidFill>
                  <a:srgbClr val="000000"/>
                </a:solidFill>
                <a:latin typeface="Arial Rounded MT Bold"/>
              </a:rPr>
              <a:t>i</a:t>
            </a:r>
            <a:r>
              <a:rPr b="0" lang="pl-PL" sz="3200" spc="-1" strike="noStrike">
                <a:solidFill>
                  <a:srgbClr val="000000"/>
                </a:solidFill>
                <a:latin typeface="Arial Rounded MT Bold"/>
              </a:rPr>
              <a:t>e, któr</a:t>
            </a:r>
            <a:r>
              <a:rPr b="0" lang="it-IT" sz="3200" spc="-1" strike="noStrike">
                <a:solidFill>
                  <a:srgbClr val="000000"/>
                </a:solidFill>
                <a:latin typeface="Arial Rounded MT Bold"/>
              </a:rPr>
              <a:t>e</a:t>
            </a:r>
            <a:r>
              <a:rPr b="0" lang="pl-PL" sz="3200" spc="-1" strike="noStrike">
                <a:solidFill>
                  <a:srgbClr val="000000"/>
                </a:solidFill>
                <a:latin typeface="Arial Rounded MT Bold"/>
              </a:rPr>
              <a:t> pokazuje, jak to zrobić</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Podsumowanie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 tym module dowiedzielismy </a:t>
            </a:r>
            <a:r>
              <a:rPr b="0" lang="pl-PL" sz="2800" spc="-1" strike="noStrike">
                <a:solidFill>
                  <a:srgbClr val="000000"/>
                </a:solidFill>
                <a:latin typeface="Arial Rounded MT Bold"/>
              </a:rPr>
              <a:t>się</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o to jest informacja cyfrow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 zarządzać informacjami cyfrowymi za pomocą</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zakładek i ulubionych,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pl-PL" sz="2800" spc="-1" strike="noStrike">
                <a:solidFill>
                  <a:srgbClr val="000000"/>
                </a:solidFill>
                <a:latin typeface="Arial Rounded MT Bold"/>
              </a:rPr>
              <a:t>zapisan</a:t>
            </a:r>
            <a:r>
              <a:rPr b="0" lang="it-IT" sz="2800" spc="-1" strike="noStrike">
                <a:solidFill>
                  <a:srgbClr val="000000"/>
                </a:solidFill>
                <a:latin typeface="Arial Rounded MT Bold"/>
              </a:rPr>
              <a:t>ia</a:t>
            </a:r>
            <a:r>
              <a:rPr b="0" lang="pl-PL" sz="2800" spc="-1" strike="noStrike">
                <a:solidFill>
                  <a:srgbClr val="000000"/>
                </a:solidFill>
                <a:latin typeface="Arial Rounded MT Bold"/>
              </a:rPr>
              <a:t> dokumentów z </a:t>
            </a:r>
            <a:r>
              <a:rPr b="0" lang="it-IT" sz="2800" spc="-1" strike="noStrike">
                <a:solidFill>
                  <a:srgbClr val="000000"/>
                </a:solidFill>
                <a:latin typeface="Arial Rounded MT Bold"/>
              </a:rPr>
              <a:t>i</a:t>
            </a:r>
            <a:r>
              <a:rPr b="0" lang="pl-PL" sz="2800" spc="-1" strike="noStrike">
                <a:solidFill>
                  <a:srgbClr val="000000"/>
                </a:solidFill>
                <a:latin typeface="Arial Rounded MT Bold"/>
              </a:rPr>
              <a:t>nternetu i e-</a:t>
            </a:r>
            <a:r>
              <a:rPr b="0" lang="it-IT" sz="2800" spc="-1" strike="noStrike">
                <a:solidFill>
                  <a:srgbClr val="000000"/>
                </a:solidFill>
                <a:latin typeface="Arial Rounded MT Bold"/>
              </a:rPr>
              <a:t>	</a:t>
            </a:r>
            <a:r>
              <a:rPr b="0" lang="pl-PL" sz="2800" spc="-1" strike="noStrike">
                <a:solidFill>
                  <a:srgbClr val="000000"/>
                </a:solidFill>
                <a:latin typeface="Arial Rounded MT Bold"/>
              </a:rPr>
              <a:t>mail</a:t>
            </a:r>
            <a:r>
              <a:rPr b="0" lang="it-IT" sz="2800" spc="-1" strike="noStrike">
                <a:solidFill>
                  <a:srgbClr val="000000"/>
                </a:solidFill>
                <a:latin typeface="Arial Rounded MT Bold"/>
              </a:rPr>
              <a:t>a</a:t>
            </a:r>
            <a:r>
              <a:rPr b="0" lang="pl-PL" sz="2800" spc="-1" strike="noStrike">
                <a:solidFill>
                  <a:srgbClr val="000000"/>
                </a:solidFill>
                <a:latin typeface="Arial Rounded MT Bold"/>
              </a:rPr>
              <a:t> na nasz pulpit</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pl-PL" sz="2800" spc="-1" strike="noStrike">
                <a:solidFill>
                  <a:srgbClr val="000000"/>
                </a:solidFill>
                <a:latin typeface="Arial Rounded MT Bold"/>
              </a:rPr>
              <a:t>folderów do organizowania naszych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kumentów</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potrzebujesz?</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omputer, laptop lub tablet z połączeniem internetowy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formacje cyfrowe</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e cyfrowe to informacje, które można znaleźć za pomocą komputer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asami ludzie używają słow</a:t>
            </a:r>
            <a:r>
              <a:rPr b="0" lang="it-IT" sz="2800" spc="-1" strike="noStrike">
                <a:solidFill>
                  <a:srgbClr val="000000"/>
                </a:solidFill>
                <a:latin typeface="Arial Rounded MT Bold"/>
              </a:rPr>
              <a:t>a </a:t>
            </a:r>
            <a:r>
              <a:rPr b="0" lang="pl-PL" sz="2800" spc="-1" strike="noStrike">
                <a:solidFill>
                  <a:srgbClr val="000000"/>
                </a:solidFill>
                <a:latin typeface="Arial Rounded MT Bold"/>
              </a:rPr>
              <a:t>dan</a:t>
            </a:r>
            <a:r>
              <a:rPr b="0" lang="it-IT" sz="2800" spc="-1" strike="noStrike">
                <a:solidFill>
                  <a:srgbClr val="000000"/>
                </a:solidFill>
                <a:latin typeface="Arial Rounded MT Bold"/>
              </a:rPr>
              <a:t>e</a:t>
            </a:r>
            <a:r>
              <a:rPr b="0" lang="pl-PL" sz="2800" spc="-1" strike="noStrike">
                <a:solidFill>
                  <a:srgbClr val="000000"/>
                </a:solidFill>
                <a:latin typeface="Arial Rounded MT Bold"/>
              </a:rPr>
              <a:t> zamiast słow</a:t>
            </a:r>
            <a:r>
              <a:rPr b="0" lang="it-IT" sz="2800" spc="-1" strike="noStrike">
                <a:solidFill>
                  <a:srgbClr val="000000"/>
                </a:solidFill>
                <a:latin typeface="Arial Rounded MT Bold"/>
              </a:rPr>
              <a:t>a </a:t>
            </a:r>
            <a:r>
              <a:rPr b="0" lang="pl-PL" sz="2800" spc="-1" strike="noStrike">
                <a:solidFill>
                  <a:srgbClr val="000000"/>
                </a:solidFill>
                <a:latin typeface="Arial Rounded MT Bold"/>
              </a:rPr>
              <a:t>informacj</a:t>
            </a:r>
            <a:r>
              <a:rPr b="0" lang="it-IT" sz="2800" spc="-1" strike="noStrike">
                <a:solidFill>
                  <a:srgbClr val="000000"/>
                </a:solidFill>
                <a:latin typeface="Arial Rounded MT Bold"/>
              </a:rPr>
              <a:t>e</a:t>
            </a:r>
            <a:r>
              <a:rPr b="1"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ą cyfrową może być dokument w formie pisemnej / na maszynie, zdjęcie, </a:t>
            </a:r>
            <a:r>
              <a:rPr b="0" lang="it-IT" sz="2800" spc="-1" strike="noStrike">
                <a:solidFill>
                  <a:srgbClr val="000000"/>
                </a:solidFill>
                <a:latin typeface="Arial Rounded MT Bold"/>
              </a:rPr>
              <a:t>obrazek</a:t>
            </a:r>
            <a:r>
              <a:rPr b="0" lang="pl-PL" sz="2800" spc="-1" strike="noStrike">
                <a:solidFill>
                  <a:srgbClr val="000000"/>
                </a:solidFill>
                <a:latin typeface="Arial Rounded MT Bold"/>
              </a:rPr>
              <a:t>, utwór muzyczny, liczby w arkuszu kalkulacyjnym</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te różne rodzaje informacji na swoim komputerze</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Zarządzanie informacjami cyfrowymi</a:t>
            </a:r>
            <a:endParaRPr b="0" lang="en-US" sz="4400" spc="-1" strike="noStrike">
              <a:solidFill>
                <a:srgbClr val="000000"/>
              </a:solidFill>
              <a:latin typeface="Arial"/>
            </a:endParaRPr>
          </a:p>
        </p:txBody>
      </p:sp>
      <p:sp>
        <p:nvSpPr>
          <p:cNvPr id="555" name=""/>
          <p:cNvSpPr txBox="1"/>
          <p:nvPr/>
        </p:nvSpPr>
        <p:spPr>
          <a:xfrm>
            <a:off x="456840" y="1600200"/>
            <a:ext cx="843588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 dostępnych jest tak wiele informacji, że może być konieczne zarządzanie nimi, aby były dla Ciebie przydatn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Informacje cyfrowe można znaleźć 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 w wiadomości e-mail lub przechowywać na komputerz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iektóre informacje będą dla ciebie przydatne, niektóre nie – </a:t>
            </a:r>
            <a:r>
              <a:rPr b="0" lang="it-IT" sz="3200" spc="-1" strike="noStrike">
                <a:solidFill>
                  <a:srgbClr val="000000"/>
                </a:solidFill>
                <a:latin typeface="Arial Rounded MT Bold"/>
              </a:rPr>
              <a:t>Ty </a:t>
            </a:r>
            <a:r>
              <a:rPr b="0" lang="pl-PL" sz="3200" spc="-1" strike="noStrike">
                <a:solidFill>
                  <a:srgbClr val="000000"/>
                </a:solidFill>
                <a:latin typeface="Arial Rounded MT Bold"/>
              </a:rPr>
              <a:t>decydujesz</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Zarządzanie informacjami z Internetu</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59000"/>
          </a:bodyPr>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zy pamiętasz to z poprzedniego modułu</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Oto co się dzieje</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w </a:t>
            </a:r>
            <a:r>
              <a:rPr b="0" lang="pl-PL" sz="2800" spc="-1" strike="noStrike">
                <a:solidFill>
                  <a:srgbClr val="000000"/>
                </a:solidFill>
                <a:latin typeface="Arial Rounded MT Bold"/>
              </a:rPr>
              <a:t>minutę</a:t>
            </a:r>
            <a:r>
              <a:rPr b="0" lang="it-IT" sz="2800" spc="-1" strike="noStrike">
                <a:solidFill>
                  <a:srgbClr val="000000"/>
                </a:solidFill>
                <a:latin typeface="Arial Rounded MT Bold"/>
              </a:rPr>
              <a:t> na</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a:t>
            </a:r>
            <a:r>
              <a:rPr b="0" lang="it-IT" sz="2800" spc="-1" strike="noStrike">
                <a:solidFill>
                  <a:srgbClr val="000000"/>
                </a:solidFill>
                <a:latin typeface="Arial Rounded MT Bold"/>
              </a:rPr>
              <a:t>cie</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o dużo</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a:t>
            </a:r>
            <a:r>
              <a:rPr b="0" lang="it-IT" sz="2800" spc="-1" strike="noStrike">
                <a:solidFill>
                  <a:srgbClr val="000000"/>
                </a:solidFill>
                <a:latin typeface="Arial Rounded MT Bold"/>
              </a:rPr>
              <a:t>i</a:t>
            </a:r>
            <a:r>
              <a:rPr b="0" lang="pl-PL" sz="2800" spc="-1" strike="noStrike">
                <a:solidFill>
                  <a:srgbClr val="000000"/>
                </a:solidFill>
                <a:latin typeface="Arial Rounded MT Bold"/>
              </a:rPr>
              <a: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202320" indent="-2023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202320" indent="-202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arządzanie informacjami z internetu</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łatwo znaleźć często używaną stronę internetową</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Rounded MT Bold"/>
              </a:rPr>
              <a:t>Zakładki </a:t>
            </a:r>
            <a:r>
              <a:rPr b="0" lang="pl-PL" sz="2400" spc="-1" strike="noStrike">
                <a:solidFill>
                  <a:srgbClr val="000000"/>
                </a:solidFill>
                <a:latin typeface="Arial Rounded MT Bold"/>
              </a:rPr>
              <a:t>i</a:t>
            </a:r>
            <a:r>
              <a:rPr b="1" lang="pl-PL" sz="2400" spc="-1" strike="noStrike">
                <a:solidFill>
                  <a:srgbClr val="000000"/>
                </a:solidFill>
                <a:latin typeface="Arial Rounded MT Bold"/>
              </a:rPr>
              <a:t> ulubione </a:t>
            </a:r>
            <a:r>
              <a:rPr b="0" lang="pl-PL" sz="2400" spc="-1" strike="noStrike">
                <a:solidFill>
                  <a:srgbClr val="000000"/>
                </a:solidFill>
                <a:latin typeface="Arial Rounded MT Bold"/>
              </a:rPr>
              <a:t>pomagają nam znaleźć często używane strony internetow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 przeglądarce jest taka ikona gwiazdki</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pl-PL" sz="2400" spc="-1" strike="noStrike">
                <a:solidFill>
                  <a:srgbClr val="000000"/>
                </a:solidFill>
                <a:latin typeface="Arial Rounded MT Bold"/>
              </a:rPr>
              <a:t>na pasku narzędzi</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się stanie, gdy wskażesz na tę gwiazd</a:t>
            </a:r>
            <a:r>
              <a:rPr b="0" lang="it-IT" sz="2400" spc="-1" strike="noStrike">
                <a:solidFill>
                  <a:srgbClr val="000000"/>
                </a:solidFill>
                <a:latin typeface="Arial Rounded MT Bold"/>
              </a:rPr>
              <a:t>k</a:t>
            </a:r>
            <a:r>
              <a:rPr b="0" lang="pl-PL" sz="2400" spc="-1" strike="noStrike">
                <a:solidFill>
                  <a:srgbClr val="000000"/>
                </a:solidFill>
                <a:latin typeface="Arial Rounded MT Bold"/>
              </a:rPr>
              <a:t>ę</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tę gwiazdkę, aby komputer zapamiętał, że chcesz ponownie zobaczyć tę stronę</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425760"/>
            <a:ext cx="119052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1</a:t>
            </a:r>
            <a:endParaRPr b="0" lang="en-US" sz="40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twórz wyszukiwarkę Goog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 np. </a:t>
            </a:r>
            <a:r>
              <a:rPr b="0" lang="it-IT" sz="2800" spc="-1" strike="noStrike">
                <a:solidFill>
                  <a:srgbClr val="000000"/>
                </a:solidFill>
                <a:latin typeface="Arial Rounded MT Bold"/>
              </a:rPr>
              <a:t>‘Godziny w kinie’</a:t>
            </a:r>
            <a:r>
              <a:rPr b="0" lang="pl-PL" sz="2800" spc="-1" strike="noStrike">
                <a:solidFill>
                  <a:srgbClr val="000000"/>
                </a:solidFill>
                <a:latin typeface="Arial Rounded MT Bold"/>
              </a:rPr>
              <a:t> i lokalne miasto i naciśnij </a:t>
            </a:r>
            <a:r>
              <a:rPr b="0" lang="it-IT" sz="2800" spc="-1" strike="noStrike">
                <a:solidFill>
                  <a:srgbClr val="000000"/>
                </a:solidFill>
                <a:latin typeface="Arial Rounded MT Bold"/>
              </a:rPr>
              <a:t>‘</a:t>
            </a:r>
            <a:r>
              <a:rPr b="0" lang="pl-PL" sz="2800" spc="-1" strike="noStrike">
                <a:solidFill>
                  <a:srgbClr val="000000"/>
                </a:solidFill>
                <a:latin typeface="Arial Rounded MT Bold"/>
              </a:rPr>
              <a:t>Enter</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pewnij się, że jest to strona internetowa, którą chcesz</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ikonę gwiazdki na pasku narzędzi i dodaj tę stronę do ulubionych</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220032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18556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1 (ciąg dalszy)</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mknij przeglądarkę na komputerze i otwórz ją ponown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stronę, którą </a:t>
            </a:r>
            <a:r>
              <a:rPr b="0" lang="it-IT" sz="2800" spc="-1" strike="noStrike">
                <a:solidFill>
                  <a:srgbClr val="000000"/>
                </a:solidFill>
                <a:latin typeface="Arial Rounded MT Bold"/>
              </a:rPr>
              <a:t>zaznaczy</a:t>
            </a:r>
            <a:r>
              <a:rPr b="0" lang="pl-PL" sz="2800" spc="-1" strike="noStrike">
                <a:solidFill>
                  <a:srgbClr val="000000"/>
                </a:solidFill>
                <a:latin typeface="Arial Rounded MT Bold"/>
              </a:rPr>
              <a:t>łeś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dałeś do ulubionych</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ęcej informacji jest dostępnych na st</a:t>
            </a:r>
            <a:r>
              <a:rPr b="0" lang="it-IT" sz="2800" spc="-1" strike="noStrike">
                <a:solidFill>
                  <a:srgbClr val="000000"/>
                </a:solidFill>
                <a:latin typeface="Arial Rounded MT Bold"/>
              </a:rPr>
              <a:t>ronie</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akże używać zakładek na Twitterze</a:t>
            </a: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7:40Z</dcterms:modified>
  <cp:revision>526</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