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C51D-D4BC-4DB6-B99B-3B99A47E7D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F128-B3F2-4F40-83F8-134B4E89C7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9185-C98B-4654-9590-D3F2C9057F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77C8-7672-4FF9-87B6-D5C72925F3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C07C-07E6-4547-8D8E-C3191EE8D3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2B7C69-EE07-4AD6-9441-1D326F31AC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181759C-B36D-4BF0-85B2-DBF535D93A0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03AB930-278E-4060-9AA4-A229033FFEF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8508CF-753C-4EA1-98CA-A55D2CC878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BEFB09-BF5E-442A-B36F-7A1F3D887C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304A6C-8B88-4A98-B113-10BD98571BE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A6243FA-826B-43C2-B215-1E6CFDCC363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3FD4E06-0D2D-4968-A87A-DCB3A93C972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27D8AC-6836-4045-A134-0593F4E8F59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06EA247-761B-4C48-9F47-798D853A143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BF9F98-1EFE-43B3-B976-64A9C8FF718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B9A491-4BA6-49D8-A364-235B817BD12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508F22A-BE04-4328-BA7E-3BC7445CBC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B9E422-8EA1-4C72-9514-2C4ACF71E1C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176AD45-A32A-46F5-BB34-E9E3ED68971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BF3110-E49E-4709-8EEC-BA5CB9C0325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773C23D-D007-4A2F-A71B-BD34A7787CE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70DD9C-1926-4C6D-A471-E7548664250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213DC3-DE79-46B9-AE8F-8ADDB2BF63F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23EF8A7-EEFE-4DCA-969E-A5265D08757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DF8AEE1-2683-424D-8B01-881CA9FFE00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A63B02-BDEB-4A60-8FDC-0616C05297F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E65F42C-6267-4D73-B206-2E4E2798444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8D720DF-999F-49C8-B74E-A2E92E9741C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011F6B7-590E-48E7-959E-24BD11C7D8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BBFF2B9-94CE-43A1-906C-E74EE76A72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5297F00-71DA-4369-BFE3-3535A30EE8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145461-197E-43A1-B1B8-984959C5428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58EF50-A8C4-426A-8DFB-180B2CFC50D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496206B-ACB4-47A9-B8DA-E503FC0450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27E53D3-2880-49EF-A65F-7DBB42F161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1015398-F167-4F7A-910C-6F666914E4B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19AD3FD-0059-46E1-A296-A960C87F4C0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47C0A5F-C657-48AD-9945-7CAFD0B70A2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805489C-8884-41D6-A0B8-11B19DC5611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2BF6796-BAE7-4ED7-BD95-D333EA737F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DC7DE05-22EB-4E70-874E-FFD42128C05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AFCF264-5665-4AA4-9467-30B6A957D76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255CE04-6170-45D9-A506-A0BCB0F36F5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A573CF-5BE5-4517-A905-C70695AA58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129DBC4-EEE5-44C5-8B19-F4F01AAC6DF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0171F0-A531-4FCA-8353-C325A3D745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DA8692C-1E98-40CE-861B-9D72776B829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23E2B43-406E-48C6-BB7D-F61295B8CE7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6EF1C93-7405-4426-BBA7-A8EB4821825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23F83B-910C-49ED-A88F-33E8D4EB45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B09CA-3CCE-4BF3-8666-9296CDC83E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E7B9F-96C4-4675-9458-FB5DD880B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14A2E4-1F32-4329-B603-15CB2CDB2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8A723E-A711-4AE6-A330-14D86DAB9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C0C3E6-1007-4465-A74C-7A6075740C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94B14A-AEDD-47D7-A960-400C32887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BB994-3B7B-4532-A839-A4F59FE588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CAB6D3-FDE3-4D10-9B97-DEDC7B2B5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024654-39FE-4256-862D-E3950B500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5578CF-3D75-458E-93D4-F14110083F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DDE680-FADC-4AEA-BF15-EF2720BF30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EDA9969-F75B-4C07-B06F-E7E065590F6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310675-E523-46E6-A676-E07E225BCE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9A4A40-D3DB-4BFB-BD5C-518E9DE225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816607-F7B9-4705-92F1-46172AF14E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E81A318-5CEE-4C6A-9A28-AE303AA65C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33CCF39-6A3C-48FD-8C7B-AAE8E7E9CA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EF3140F-75B3-4A69-8C32-A8EB1EFDEF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85335D-1CA0-4E5D-A895-A21B97EA7D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147247-F12A-401C-8767-E91A76022E2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1A6ADA6-1B64-4168-8923-2F8C75791B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A86200A-8D69-4353-BFFB-7F87733BB05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527D9D9-AD12-4A5C-A8CE-935BE4E4FE5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EB71E0E-984D-44F5-BB18-0B5C63EBCC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818F15-DE02-4B5F-AE62-A2FD5413B74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4CF448E-4728-4ABB-9701-ABEA7FF4937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316D78-595B-4BD4-AA60-E4FE4A31D4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9B2EC0-8481-4226-BA50-3292206D80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15DD39-BEAC-4977-A1B8-D6D01BB6FC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9BD4F0-C8EE-46EF-99B6-2C76A0F1F4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3B7149-610F-4BD3-95F8-C1F317F573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93038E-ECCF-4604-BA3C-370AB856C0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E9409E-ED74-4C5D-BBE5-A0D89BC1106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4125F5-DA53-45F2-B48A-5A35AA6BB6F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5F18C2A-2604-43A8-8710-79B2E441C58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2098C77-BFA4-4CEC-A892-3FFD85D2CCA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088940-8056-48C8-8938-1E9DBE55508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340E66-0B8B-492C-8E4E-825F111706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A751F1D-7357-42FA-B4AF-DA5BBDCE7A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87A85BB-4ACA-4343-A928-E09CF46E24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4EC078-D31C-400E-967E-BBDF918292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E58F4EF-4106-49B4-A953-75C57EDF666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00C697-E694-4B90-98D8-53044EE0BC8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8FEB3F-A546-41DD-B9A1-30C22CA059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EB3C62C-8E54-4FD1-90BB-D0B8546A87B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F9B467A-8C20-4138-89C7-968585667C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36AACB8-0E4A-4636-ACB6-6B38F0A9985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F9CADF7-EF35-4851-A1FC-30DAE2DCBD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349459-C924-41FF-B2ED-0992085395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E0F4D5C-A51A-4BCD-8448-FE23C2AE8ED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EE54F63-3AC0-4AB1-972C-8D407BD4023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51445B-4F1A-45B0-BACD-B56FF49E7C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7D36D1-06B7-4792-9D3B-FE79C4B0B6E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36C473F-C918-42D5-9E49-9F1212868FA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D4945C-A922-4EBE-B4D1-1AA5A508E5A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9A1153-B1E1-445A-A74A-5F5C4345627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56FF8B-FD6F-440D-8426-41BCD871FCF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0564789-990C-4422-B78F-18B52150761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AB443B1-AB6F-4296-B6C4-AA4A6761A25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9AB972B-B19C-4206-B702-D4ADE1F33BE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E44D6D4-063E-4B61-84A4-AE69E7EA398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4B8906E-C8D8-477D-8BAD-4F781D97120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D6B2160-F1AD-473D-B23E-8F9C4A82CA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70522B-704E-4CA7-BDCA-08CC30A1CA1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1578FA0-9EDA-411C-9596-64D7BFA4E9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6A1B86-9EAB-4556-9D70-3453752C6A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F2BD26-3341-460A-AA49-89D46C96588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B38D70-ECCA-4056-812E-C6DF1E898B9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03022D1-6717-46D1-9547-7B839BE1357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CAA2BB8-8F85-459D-8559-B1BC1BB9341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0DF9145-3E4A-42D0-B6D5-3E8123EF8C3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54FE05C-DB98-421E-8995-EBAEC7D963E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DFB27F-0D81-4272-BC00-FCCBAB9A228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4D3C484-C262-400C-A9DB-F98D1FF6E35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E6C1-36CB-4F52-8A0D-D822EFCF542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71F1-4F21-4A4A-B5F2-E88B4EC2DF8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CF6B9-D17E-4E39-B951-DA27869F14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624D-B61F-40BE-B2F4-159C29746A2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6C21-E90D-4317-8966-86EFAE6C6C4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C584A-B257-4E56-B94A-7405CC9391E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7A95A-FB29-4375-B3F3-09B80C45779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C954-A20D-4D04-9E79-3CE04F95594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2572B-BD5A-448C-90F0-E2347C2B125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5CF1F-C86A-425D-880F-FAB7762316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564000" y="5084640"/>
            <a:ext cx="54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Zarządanie informacjami cyfrowymi</a:t>
            </a:r>
            <a:endParaRPr b="0" lang="en-US" sz="3600" spc="-1" strike="noStrike">
              <a:solidFill>
                <a:srgbClr val="000000"/>
              </a:solidFill>
              <a:latin typeface="Arial"/>
            </a:endParaRPr>
          </a:p>
        </p:txBody>
      </p:sp>
      <p:sp>
        <p:nvSpPr>
          <p:cNvPr id="544" name="Rectangle 1"/>
          <p:cNvSpPr/>
          <p:nvPr/>
        </p:nvSpPr>
        <p:spPr>
          <a:xfrm>
            <a:off x="539640" y="324468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Informacja i analiza dany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kumenty w Internecie</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4000"/>
          </a:bodyPr>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Pisemne dokumenty można znaleźć w Internec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gą to być dokumenty z informacjami lub formularzami do wypełnienia</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Istnieją różne rodzaje dokumentów </a:t>
            </a:r>
            <a:endParaRPr b="0" lang="en-US" sz="2600" spc="-1" strike="noStrike">
              <a:solidFill>
                <a:srgbClr val="000000"/>
              </a:solidFill>
              <a:latin typeface="Arial"/>
            </a:endParaRPr>
          </a:p>
          <a:p>
            <a:pPr marL="322200" indent="-322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    </a:t>
            </a:r>
            <a:r>
              <a:rPr b="0" lang="pl-PL" sz="2600" spc="-1" strike="noStrike">
                <a:solidFill>
                  <a:srgbClr val="000000"/>
                </a:solidFill>
                <a:latin typeface="Arial Rounded MT Bold"/>
              </a:rPr>
              <a:t>To jest pdf</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2200" indent="-322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22200" indent="-322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wykle nie można zmienić / edytować tego typu dokumentu, ale można go wydrukować lub pobrać / zapisać</a:t>
            </a:r>
            <a:r>
              <a:rPr b="0" lang="it-IT"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Zapisywanie dokumentów z Internetu</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by wydrukować dokument, musisz podłączyć komputer do drukar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by pobrać lub zapisać dokument PDF na komputerze, możesz użyć tych ikon u góry ekran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81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Kliknij tutaj, aby wydrukować</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Kliknij tutaj, aby zapisać</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0000"/>
                </a:solidFill>
                <a:latin typeface="Arial Rounded MT Bold"/>
              </a:rPr>
              <a:t>Jest to również symbol „Zapisz”</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ten link do pliku PDF</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rzytrzymaj kursor u góry strony, aż zobaczysz te znak</a:t>
            </a:r>
            <a:r>
              <a:rPr b="0" lang="it-IT" sz="2400" spc="-1" strike="noStrike">
                <a:solidFill>
                  <a:srgbClr val="000000"/>
                </a:solidFill>
                <a:latin typeface="Arial Rounded MT Bold"/>
              </a:rPr>
              <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Kliknij strzałkę</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apisz ten dokument na pulpicie</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18556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2 (ciąg dalszy)</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te symbole pojawiły się w prawym górnym rogu strony</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tak, naciśnij przycis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 </a:t>
            </a:r>
            <a:r>
              <a:rPr b="0" lang="it-IT" sz="2800" spc="-1" strike="noStrike">
                <a:solidFill>
                  <a:srgbClr val="000000"/>
                </a:solidFill>
                <a:latin typeface="Arial Rounded MT Bold"/>
              </a:rPr>
              <a:t>‘</a:t>
            </a:r>
            <a:r>
              <a:rPr b="0" lang="it-IT" sz="2800" spc="-1" strike="noStrike">
                <a:solidFill>
                  <a:srgbClr val="000000"/>
                </a:solidFill>
                <a:latin typeface="Arial Rounded MT Bold"/>
              </a:rPr>
              <a:t>z</a:t>
            </a:r>
            <a:r>
              <a:rPr b="0" lang="pl-PL" sz="2800" spc="-1" strike="noStrike">
                <a:solidFill>
                  <a:srgbClr val="000000"/>
                </a:solidFill>
                <a:latin typeface="Arial Rounded MT Bold"/>
              </a:rPr>
              <a:t>apisz jako</a:t>
            </a:r>
            <a:r>
              <a:rPr b="0" lang="it-IT" sz="2800" spc="-1" strike="noStrike">
                <a:solidFill>
                  <a:srgbClr val="000000"/>
                </a:solidFill>
                <a:latin typeface="Arial Rounded MT Bold"/>
              </a:rPr>
              <a:t>’</a:t>
            </a:r>
            <a:r>
              <a:rPr b="0" lang="pl-PL" sz="2800" spc="-1" strike="noStrike">
                <a:solidFill>
                  <a:srgbClr val="000000"/>
                </a:solidFill>
                <a:latin typeface="Arial Rounded MT Bold"/>
              </a:rPr>
              <a:t> po najechaniu</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niego kursorem,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a następnie </a:t>
            </a:r>
            <a:r>
              <a:rPr b="0" lang="it-IT" sz="2800" spc="-1" strike="noStrike">
                <a:solidFill>
                  <a:srgbClr val="000000"/>
                </a:solidFill>
                <a:latin typeface="Arial Rounded MT Bold"/>
              </a:rPr>
              <a:t>‘z</a:t>
            </a:r>
            <a:r>
              <a:rPr b="0" lang="pl-PL" sz="2800" spc="-1" strike="noStrike">
                <a:solidFill>
                  <a:srgbClr val="000000"/>
                </a:solidFill>
                <a:latin typeface="Arial Rounded MT Bold"/>
              </a:rPr>
              <a:t>apisz</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Zapisz jako przyc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e i załączniki</a:t>
            </a:r>
            <a:endParaRPr b="0" lang="en-US" sz="4400" spc="-1" strike="noStrike">
              <a:solidFill>
                <a:srgbClr val="000000"/>
              </a:solidFill>
              <a:latin typeface="Arial"/>
            </a:endParaRPr>
          </a:p>
        </p:txBody>
      </p:sp>
      <p:sp>
        <p:nvSpPr>
          <p:cNvPr id="592" name=""/>
          <p:cNvSpPr txBox="1"/>
          <p:nvPr/>
        </p:nvSpPr>
        <p:spPr>
          <a:xfrm>
            <a:off x="457200" y="1600200"/>
            <a:ext cx="8362800" cy="452592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adomości e-mail zawierają informacje w samym e-mailu i mogą również zawierać załącznik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ki spinacz do papieru: </a:t>
            </a: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jest symbolem załącznika</a:t>
            </a:r>
            <a:br>
              <a:rPr sz="2800"/>
            </a:b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łącznik to dokument lub zdjęcie, które można zapisać, aby móc je później obejrzeć</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wiadomość e-mail wysłaną do Ciebie z załącznikiem? Skąd wiesz</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5148360" y="2492280"/>
            <a:ext cx="129528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e i załączniki</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en e-mail ma załącznik</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Ten e-mail nie ma załącznik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Symbol załącznika</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3 </a:t>
            </a:r>
            <a:endParaRPr b="0" lang="en-US" sz="4400" spc="-1" strike="noStrike">
              <a:solidFill>
                <a:srgbClr val="000000"/>
              </a:solidFill>
              <a:latin typeface="Arial"/>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wórz swoje konto e-mail</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Znajdź wiadomość e-mail z załącznikiem</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Otwórz ten e-mail znajdź załączni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Wybierz opcję pobierz załączni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pisz załącznik na pulpici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84328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Pliki i foldery</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porządkować dokumenty tak, jak dokumenty w szafce na dokumenty</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tworzyć folder na swoim komputerze, aby łatwo znaleźć dokument lub inne informacje</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Zarządzanie plikami / folderami</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mputerze możesz tworzyć foldery różnych tematów</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mieć folder z napisem </a:t>
            </a:r>
            <a:r>
              <a:rPr b="0" lang="it-IT" sz="3200" spc="-1" strike="noStrike">
                <a:solidFill>
                  <a:srgbClr val="000000"/>
                </a:solidFill>
                <a:latin typeface="Arial Rounded MT Bold"/>
              </a:rPr>
              <a:t>‘</a:t>
            </a:r>
            <a:r>
              <a:rPr b="0" lang="pl-PL" sz="3200" spc="-1" strike="noStrike">
                <a:solidFill>
                  <a:srgbClr val="000000"/>
                </a:solidFill>
                <a:latin typeface="Arial Rounded MT Bold"/>
              </a:rPr>
              <a:t>Samochód</a:t>
            </a:r>
            <a:r>
              <a:rPr b="0" lang="it-IT" sz="3200" spc="-1" strike="noStrike">
                <a:solidFill>
                  <a:srgbClr val="000000"/>
                </a:solidFill>
                <a:latin typeface="Arial Rounded MT Bold"/>
              </a:rPr>
              <a:t>’</a:t>
            </a:r>
            <a:r>
              <a:rPr b="0" lang="pl-PL" sz="3200" spc="-1" strike="noStrike">
                <a:solidFill>
                  <a:srgbClr val="000000"/>
                </a:solidFill>
                <a:latin typeface="Arial Rounded MT Bold"/>
              </a:rPr>
              <a:t>, który może zawierać dokumenty potwierdzające opłacenie podatku samochodowego lub dokumentów ubezpieczeni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zy możesz pomyśleć o innych folderach, które mó</a:t>
            </a:r>
            <a:r>
              <a:rPr b="0" lang="it-IT" sz="3200" spc="-1" strike="noStrike">
                <a:solidFill>
                  <a:srgbClr val="000000"/>
                </a:solidFill>
                <a:latin typeface="Arial Rounded MT Bold"/>
              </a:rPr>
              <a:t>głbyś</a:t>
            </a:r>
            <a:r>
              <a:rPr b="0" lang="pl-PL" sz="3200" spc="-1" strike="noStrike">
                <a:solidFill>
                  <a:srgbClr val="000000"/>
                </a:solidFill>
                <a:latin typeface="Arial Rounded MT Bold"/>
              </a:rPr>
              <a:t> mieć</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Tworzenie folderu na pulpicie</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Przejdź na pulpit</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pl-PL" sz="3000" spc="-1" strike="noStrike">
                <a:solidFill>
                  <a:srgbClr val="000000"/>
                </a:solidFill>
                <a:latin typeface="Arial Rounded MT Bold"/>
              </a:rPr>
              <a:t>Kliknij prawym przyciskiem myszy” na myszy</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430440"/>
            <a:ext cx="2495520" cy="2590920"/>
          </a:xfrm>
          <a:prstGeom prst="rect">
            <a:avLst/>
          </a:prstGeom>
          <a:ln w="0">
            <a:noFill/>
          </a:ln>
        </p:spPr>
      </p:pic>
      <p:sp>
        <p:nvSpPr>
          <p:cNvPr id="612" name="TextBox 6"/>
          <p:cNvSpPr/>
          <p:nvPr/>
        </p:nvSpPr>
        <p:spPr>
          <a:xfrm>
            <a:off x="6684840" y="3573360"/>
            <a:ext cx="18003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ojawi się to okno</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oznać czym są informacje cyfrowe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rządzać informacjami cyfrowymi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żywać</a:t>
            </a:r>
            <a:r>
              <a:rPr b="0" lang="it-IT" sz="3200" spc="-1" strike="noStrike">
                <a:solidFill>
                  <a:srgbClr val="000000"/>
                </a:solidFill>
                <a:latin typeface="Arial Rounded MT Bold"/>
              </a:rPr>
              <a:t> </a:t>
            </a:r>
            <a:r>
              <a:rPr b="0" lang="pl-PL" sz="3200" spc="-1" strike="noStrike">
                <a:solidFill>
                  <a:srgbClr val="000000"/>
                </a:solidFill>
                <a:latin typeface="Arial Rounded MT Bold"/>
              </a:rPr>
              <a:t>zakładek i ulubionych w Interneci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pisać i uporządk</a:t>
            </a:r>
            <a:r>
              <a:rPr b="0" lang="it-IT" sz="3200" spc="-1" strike="noStrike">
                <a:solidFill>
                  <a:srgbClr val="000000"/>
                </a:solidFill>
                <a:latin typeface="Arial Rounded MT Bold"/>
              </a:rPr>
              <a:t>owa</a:t>
            </a:r>
            <a:r>
              <a:rPr b="0" lang="pl-PL" sz="3200" spc="-1" strike="noStrike">
                <a:solidFill>
                  <a:srgbClr val="000000"/>
                </a:solidFill>
                <a:latin typeface="Arial Rounded MT Bold"/>
              </a:rPr>
              <a:t>ć informacje w folderach, plikach i dyskach twardych</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112840" y="-10044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Kliknij nowy (lewym przyciskiem myszy)</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Pojawi się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kolejne 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Kliknij </a:t>
            </a:r>
            <a:r>
              <a:rPr b="0" lang="it-IT" sz="3000" spc="-1" strike="noStrike">
                <a:solidFill>
                  <a:srgbClr val="000000"/>
                </a:solidFill>
                <a:latin typeface="Arial Rounded MT Bold"/>
              </a:rPr>
              <a:t>‘</a:t>
            </a:r>
            <a:r>
              <a:rPr b="0" lang="pl-PL" sz="3000" spc="-1" strike="noStrike">
                <a:solidFill>
                  <a:srgbClr val="000000"/>
                </a:solidFill>
                <a:latin typeface="Arial Rounded MT Bold"/>
              </a:rPr>
              <a:t>Folder</a:t>
            </a:r>
            <a:r>
              <a:rPr b="0" lang="it-IT"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u góry tego menu.</a:t>
            </a: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Pojawi się ta ‘ikon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Zmień nazwę folderu ‘Nauk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1248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Przeciągnij 2 dokumenty zapisane w ćwiczeniach 2 i 3 do folderu</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335880" indent="-335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Za pomoca</a:t>
            </a:r>
            <a:r>
              <a:rPr b="0" lang="pl-PL" sz="2800" spc="-1" strike="noStrike">
                <a:solidFill>
                  <a:srgbClr val="000000"/>
                </a:solidFill>
                <a:latin typeface="Arial Rounded MT Bold"/>
              </a:rPr>
              <a:t> myszy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a:t>
            </a:r>
            <a:r>
              <a:rPr b="0" lang="pl-PL" sz="2800" spc="-1" strike="noStrike">
                <a:solidFill>
                  <a:srgbClr val="000000"/>
                </a:solidFill>
                <a:latin typeface="Arial Rounded MT Bold"/>
              </a:rPr>
              <a:t>najedź kursorem</a:t>
            </a:r>
            <a:r>
              <a:rPr b="0" lang="it-IT" sz="2800" spc="-1" strike="noStrike">
                <a:solidFill>
                  <a:srgbClr val="000000"/>
                </a:solidFill>
                <a:latin typeface="Arial Rounded MT Bold"/>
              </a:rPr>
              <a:t>’</a:t>
            </a:r>
            <a:r>
              <a:rPr b="0" lang="pl-PL" sz="2800" spc="-1" strike="noStrike">
                <a:solidFill>
                  <a:srgbClr val="000000"/>
                </a:solidFill>
                <a:latin typeface="Arial Rounded MT Bold"/>
              </a:rPr>
              <a:t> na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kument zapisany w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ćwiczeniu 2 (wokół niego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pojawi się słabe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it-IT" sz="2800" spc="-1" strike="noStrike">
                <a:solidFill>
                  <a:srgbClr val="000000"/>
                </a:solidFill>
                <a:latin typeface="Arial Rounded MT Bold"/>
              </a:rPr>
              <a:t>	</a:t>
            </a:r>
            <a:r>
              <a:rPr b="0" lang="pl-PL" sz="2800" spc="-1" strike="noStrike">
                <a:solidFill>
                  <a:srgbClr val="000000"/>
                </a:solidFill>
                <a:latin typeface="Arial Rounded MT Bold"/>
              </a:rPr>
              <a:t>niebieskie pole)</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ciśnij przycisk po lewej stronie mysz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808200" y="2630520"/>
            <a:ext cx="304452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041560" y="2743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Ćwiczenie 4 (ciąg dalszy)</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rzytrzymaj lewy przycisk podczas </a:t>
            </a:r>
            <a:r>
              <a:rPr b="0" lang="it-IT" sz="3000" spc="-1" strike="noStrike">
                <a:solidFill>
                  <a:srgbClr val="000000"/>
                </a:solidFill>
                <a:latin typeface="Arial Rounded MT Bold"/>
              </a:rPr>
              <a:t>‘</a:t>
            </a:r>
            <a:r>
              <a:rPr b="0" lang="pl-PL" sz="3000" spc="-1" strike="noStrike">
                <a:solidFill>
                  <a:srgbClr val="000000"/>
                </a:solidFill>
                <a:latin typeface="Arial Rounded MT Bold"/>
              </a:rPr>
              <a:t>przeciągania</a:t>
            </a:r>
            <a:r>
              <a:rPr b="0" lang="it-IT" sz="3000" spc="-1" strike="noStrike">
                <a:solidFill>
                  <a:srgbClr val="000000"/>
                </a:solidFill>
                <a:latin typeface="Arial Rounded MT Bold"/>
              </a:rPr>
              <a:t>’</a:t>
            </a:r>
            <a:r>
              <a:rPr b="0" lang="pl-PL" sz="3000" spc="-1" strike="noStrike">
                <a:solidFill>
                  <a:srgbClr val="000000"/>
                </a:solidFill>
                <a:latin typeface="Arial Rounded MT Bold"/>
              </a:rPr>
              <a:t> dokumentu do folderu </a:t>
            </a:r>
            <a:r>
              <a:rPr b="0" lang="it-IT" sz="3000" spc="-1" strike="noStrike">
                <a:solidFill>
                  <a:srgbClr val="000000"/>
                </a:solidFill>
                <a:latin typeface="Arial Rounded MT Bold"/>
              </a:rPr>
              <a:t>‘</a:t>
            </a:r>
            <a:r>
              <a:rPr b="0" lang="pl-PL" sz="3000" spc="-1" strike="noStrike">
                <a:solidFill>
                  <a:srgbClr val="000000"/>
                </a:solidFill>
                <a:latin typeface="Arial Rounded MT Bold"/>
              </a:rPr>
              <a:t>Nauka</a:t>
            </a:r>
            <a:r>
              <a:rPr b="0" lang="it-IT" sz="3000" spc="-1" strike="noStrike">
                <a:solidFill>
                  <a:srgbClr val="000000"/>
                </a:solidFill>
                <a:latin typeface="Arial Rounded MT Bold"/>
              </a:rPr>
              <a:t>’</a:t>
            </a:r>
            <a:r>
              <a:rPr b="0" lang="pl-PL" sz="3000" spc="-1" strike="noStrike">
                <a:solidFill>
                  <a:srgbClr val="000000"/>
                </a:solidFill>
                <a:latin typeface="Arial Rounded MT Bold"/>
              </a:rPr>
              <a:t>, a następnie puść</a:t>
            </a:r>
            <a:r>
              <a:rPr b="0" lang="it-IT" sz="3000" spc="-1" strike="noStrike">
                <a:solidFill>
                  <a:srgbClr val="000000"/>
                </a:solidFill>
                <a:latin typeface="Arial Rounded MT Bold"/>
              </a:rPr>
              <a:t>.</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pl-PL" sz="3000" spc="-1" strike="noStrike">
                <a:solidFill>
                  <a:srgbClr val="000000"/>
                </a:solidFill>
                <a:latin typeface="Arial Rounded MT Bold"/>
              </a:rPr>
              <a:t>Czy możesz znaleźć ten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dokument, klikając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it-IT" sz="3000" spc="-1" strike="noStrike">
                <a:solidFill>
                  <a:srgbClr val="000000"/>
                </a:solidFill>
                <a:latin typeface="Arial Rounded MT Bold"/>
              </a:rPr>
              <a:t>	</a:t>
            </a:r>
            <a:r>
              <a:rPr b="0" lang="pl-PL" sz="3000" spc="-1" strike="noStrike">
                <a:solidFill>
                  <a:srgbClr val="000000"/>
                </a:solidFill>
                <a:latin typeface="Arial Rounded MT Bold"/>
              </a:rPr>
              <a:t>folder</a:t>
            </a:r>
            <a:r>
              <a:rPr b="0" lang="en-IE"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Powtórz to zadanie z innym dokumentem zapisanym w ćwiczeniu 3</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258920" y="3141720"/>
            <a:ext cx="2376360" cy="193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ięcej folderów…</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utworzyć folder na komputerze na dysku twardym - po uruchomieniu komputera ten plik nie będzie widoczny na pulpicie</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Oto </a:t>
            </a:r>
            <a:r>
              <a:rPr b="0" lang="it-IT" sz="3200" spc="-1" strike="noStrike">
                <a:solidFill>
                  <a:srgbClr val="000000"/>
                </a:solidFill>
                <a:latin typeface="Arial Rounded MT Bold"/>
              </a:rPr>
              <a:t>wideo</a:t>
            </a:r>
            <a:r>
              <a:rPr b="0" lang="pl-PL" sz="3200" spc="-1" strike="noStrike">
                <a:solidFill>
                  <a:srgbClr val="000000"/>
                </a:solidFill>
                <a:latin typeface="Arial Rounded MT Bold"/>
              </a:rPr>
              <a:t> na YouTub</a:t>
            </a:r>
            <a:r>
              <a:rPr b="0" lang="it-IT" sz="3200" spc="-1" strike="noStrike">
                <a:solidFill>
                  <a:srgbClr val="000000"/>
                </a:solidFill>
                <a:latin typeface="Arial Rounded MT Bold"/>
              </a:rPr>
              <a:t>i</a:t>
            </a:r>
            <a:r>
              <a:rPr b="0" lang="pl-PL" sz="3200" spc="-1" strike="noStrike">
                <a:solidFill>
                  <a:srgbClr val="000000"/>
                </a:solidFill>
                <a:latin typeface="Arial Rounded MT Bold"/>
              </a:rPr>
              <a:t>e, któr</a:t>
            </a:r>
            <a:r>
              <a:rPr b="0" lang="it-IT" sz="3200" spc="-1" strike="noStrike">
                <a:solidFill>
                  <a:srgbClr val="000000"/>
                </a:solidFill>
                <a:latin typeface="Arial Rounded MT Bold"/>
              </a:rPr>
              <a:t>e</a:t>
            </a:r>
            <a:r>
              <a:rPr b="0" lang="pl-PL" sz="3200" spc="-1" strike="noStrike">
                <a:solidFill>
                  <a:srgbClr val="000000"/>
                </a:solidFill>
                <a:latin typeface="Arial Rounded MT Bold"/>
              </a:rPr>
              <a:t> pokazuje, jak to zrobić</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Podsumowanie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 tym module dowiedzielismy </a:t>
            </a:r>
            <a:r>
              <a:rPr b="0" lang="pl-PL" sz="2800" spc="-1" strike="noStrike">
                <a:solidFill>
                  <a:srgbClr val="000000"/>
                </a:solidFill>
                <a:latin typeface="Arial Rounded MT Bold"/>
              </a:rPr>
              <a:t>się</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o to jest informacja cyfrow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 zarządzać informacjami cyfrowymi za pomocą</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zakładek i ulubionych,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pl-PL" sz="2800" spc="-1" strike="noStrike">
                <a:solidFill>
                  <a:srgbClr val="000000"/>
                </a:solidFill>
                <a:latin typeface="Arial Rounded MT Bold"/>
              </a:rPr>
              <a:t>zapisan</a:t>
            </a:r>
            <a:r>
              <a:rPr b="0" lang="it-IT" sz="2800" spc="-1" strike="noStrike">
                <a:solidFill>
                  <a:srgbClr val="000000"/>
                </a:solidFill>
                <a:latin typeface="Arial Rounded MT Bold"/>
              </a:rPr>
              <a:t>ia</a:t>
            </a:r>
            <a:r>
              <a:rPr b="0" lang="pl-PL" sz="2800" spc="-1" strike="noStrike">
                <a:solidFill>
                  <a:srgbClr val="000000"/>
                </a:solidFill>
                <a:latin typeface="Arial Rounded MT Bold"/>
              </a:rPr>
              <a:t> dokumentów z </a:t>
            </a:r>
            <a:r>
              <a:rPr b="0" lang="it-IT" sz="2800" spc="-1" strike="noStrike">
                <a:solidFill>
                  <a:srgbClr val="000000"/>
                </a:solidFill>
                <a:latin typeface="Arial Rounded MT Bold"/>
              </a:rPr>
              <a:t>i</a:t>
            </a:r>
            <a:r>
              <a:rPr b="0" lang="pl-PL" sz="2800" spc="-1" strike="noStrike">
                <a:solidFill>
                  <a:srgbClr val="000000"/>
                </a:solidFill>
                <a:latin typeface="Arial Rounded MT Bold"/>
              </a:rPr>
              <a:t>nternetu i e-</a:t>
            </a:r>
            <a:r>
              <a:rPr b="0" lang="it-IT" sz="2800" spc="-1" strike="noStrike">
                <a:solidFill>
                  <a:srgbClr val="000000"/>
                </a:solidFill>
                <a:latin typeface="Arial Rounded MT Bold"/>
              </a:rPr>
              <a:t>	</a:t>
            </a:r>
            <a:r>
              <a:rPr b="0" lang="pl-PL" sz="2800" spc="-1" strike="noStrike">
                <a:solidFill>
                  <a:srgbClr val="000000"/>
                </a:solidFill>
                <a:latin typeface="Arial Rounded MT Bold"/>
              </a:rPr>
              <a:t>mail</a:t>
            </a:r>
            <a:r>
              <a:rPr b="0" lang="it-IT" sz="2800" spc="-1" strike="noStrike">
                <a:solidFill>
                  <a:srgbClr val="000000"/>
                </a:solidFill>
                <a:latin typeface="Arial Rounded MT Bold"/>
              </a:rPr>
              <a:t>a</a:t>
            </a:r>
            <a:r>
              <a:rPr b="0" lang="pl-PL" sz="2800" spc="-1" strike="noStrike">
                <a:solidFill>
                  <a:srgbClr val="000000"/>
                </a:solidFill>
                <a:latin typeface="Arial Rounded MT Bold"/>
              </a:rPr>
              <a:t> na nasz pulpit</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pl-PL" sz="2800" spc="-1" strike="noStrike">
                <a:solidFill>
                  <a:srgbClr val="000000"/>
                </a:solidFill>
                <a:latin typeface="Arial Rounded MT Bold"/>
              </a:rPr>
              <a:t>folderów do organizowania naszych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kumentów</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potrzebujesz?</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omputer, laptop lub tablet z połączeniem internetowy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formacje cyfrowe</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e cyfrowe to informacje, które można znaleźć za pomocą komputera.</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asami ludzie używają słow</a:t>
            </a:r>
            <a:r>
              <a:rPr b="0" lang="it-IT" sz="2800" spc="-1" strike="noStrike">
                <a:solidFill>
                  <a:srgbClr val="000000"/>
                </a:solidFill>
                <a:latin typeface="Arial Rounded MT Bold"/>
              </a:rPr>
              <a:t>a </a:t>
            </a:r>
            <a:r>
              <a:rPr b="0" lang="pl-PL" sz="2800" spc="-1" strike="noStrike">
                <a:solidFill>
                  <a:srgbClr val="000000"/>
                </a:solidFill>
                <a:latin typeface="Arial Rounded MT Bold"/>
              </a:rPr>
              <a:t>dan</a:t>
            </a:r>
            <a:r>
              <a:rPr b="0" lang="it-IT" sz="2800" spc="-1" strike="noStrike">
                <a:solidFill>
                  <a:srgbClr val="000000"/>
                </a:solidFill>
                <a:latin typeface="Arial Rounded MT Bold"/>
              </a:rPr>
              <a:t>e</a:t>
            </a:r>
            <a:r>
              <a:rPr b="0" lang="pl-PL" sz="2800" spc="-1" strike="noStrike">
                <a:solidFill>
                  <a:srgbClr val="000000"/>
                </a:solidFill>
                <a:latin typeface="Arial Rounded MT Bold"/>
              </a:rPr>
              <a:t> zamiast słow</a:t>
            </a:r>
            <a:r>
              <a:rPr b="0" lang="it-IT" sz="2800" spc="-1" strike="noStrike">
                <a:solidFill>
                  <a:srgbClr val="000000"/>
                </a:solidFill>
                <a:latin typeface="Arial Rounded MT Bold"/>
              </a:rPr>
              <a:t>a </a:t>
            </a:r>
            <a:r>
              <a:rPr b="0" lang="pl-PL" sz="2800" spc="-1" strike="noStrike">
                <a:solidFill>
                  <a:srgbClr val="000000"/>
                </a:solidFill>
                <a:latin typeface="Arial Rounded MT Bold"/>
              </a:rPr>
              <a:t>informacj</a:t>
            </a:r>
            <a:r>
              <a:rPr b="0" lang="it-IT" sz="2800" spc="-1" strike="noStrike">
                <a:solidFill>
                  <a:srgbClr val="000000"/>
                </a:solidFill>
                <a:latin typeface="Arial Rounded MT Bold"/>
              </a:rPr>
              <a:t>e</a:t>
            </a:r>
            <a:r>
              <a:rPr b="1"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ą cyfrową może być dokument w formie pisemnej / na maszynie, zdjęcie, </a:t>
            </a:r>
            <a:r>
              <a:rPr b="0" lang="it-IT" sz="2800" spc="-1" strike="noStrike">
                <a:solidFill>
                  <a:srgbClr val="000000"/>
                </a:solidFill>
                <a:latin typeface="Arial Rounded MT Bold"/>
              </a:rPr>
              <a:t>obrazek</a:t>
            </a:r>
            <a:r>
              <a:rPr b="0" lang="pl-PL" sz="2800" spc="-1" strike="noStrike">
                <a:solidFill>
                  <a:srgbClr val="000000"/>
                </a:solidFill>
                <a:latin typeface="Arial Rounded MT Bold"/>
              </a:rPr>
              <a:t>, utwór muzyczny, liczby w arkuszu kalkulacyjnym</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te różne rodzaje informacji na swoim komputerze</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1692000" y="27432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Zarządzanie informacjami cyfrowymi</a:t>
            </a:r>
            <a:endParaRPr b="0" lang="en-US" sz="4400" spc="-1" strike="noStrike">
              <a:solidFill>
                <a:srgbClr val="000000"/>
              </a:solidFill>
              <a:latin typeface="Arial"/>
            </a:endParaRPr>
          </a:p>
        </p:txBody>
      </p:sp>
      <p:sp>
        <p:nvSpPr>
          <p:cNvPr id="555" name=""/>
          <p:cNvSpPr txBox="1"/>
          <p:nvPr/>
        </p:nvSpPr>
        <p:spPr>
          <a:xfrm>
            <a:off x="456840" y="1600200"/>
            <a:ext cx="843588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 dostępnych jest tak wiele informacji, że może być konieczne zarządzanie nimi, aby były dla Ciebie przydatn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Informacje cyfrowe można znaleźć 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 w wiadomości e-mail lub przechowywać na komputerz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iektóre informacje będą dla ciebie przydatne, niektóre nie – </a:t>
            </a:r>
            <a:r>
              <a:rPr b="0" lang="it-IT" sz="3200" spc="-1" strike="noStrike">
                <a:solidFill>
                  <a:srgbClr val="000000"/>
                </a:solidFill>
                <a:latin typeface="Arial Rounded MT Bold"/>
              </a:rPr>
              <a:t>Ty </a:t>
            </a:r>
            <a:r>
              <a:rPr b="0" lang="pl-PL" sz="3200" spc="-1" strike="noStrike">
                <a:solidFill>
                  <a:srgbClr val="000000"/>
                </a:solidFill>
                <a:latin typeface="Arial Rounded MT Bold"/>
              </a:rPr>
              <a:t>decydujesz</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547280" y="274320"/>
            <a:ext cx="713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Zarządzanie informacjami z Internetu</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59000"/>
          </a:bodyPr>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zy pamiętasz to z poprzedniego modułu</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Oto co się dzieje</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w </a:t>
            </a:r>
            <a:r>
              <a:rPr b="0" lang="pl-PL" sz="2800" spc="-1" strike="noStrike">
                <a:solidFill>
                  <a:srgbClr val="000000"/>
                </a:solidFill>
                <a:latin typeface="Arial Rounded MT Bold"/>
              </a:rPr>
              <a:t>minutę</a:t>
            </a:r>
            <a:r>
              <a:rPr b="0" lang="it-IT" sz="2800" spc="-1" strike="noStrike">
                <a:solidFill>
                  <a:srgbClr val="000000"/>
                </a:solidFill>
                <a:latin typeface="Arial Rounded MT Bold"/>
              </a:rPr>
              <a:t> na</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a:t>
            </a:r>
            <a:r>
              <a:rPr b="0" lang="it-IT" sz="2800" spc="-1" strike="noStrike">
                <a:solidFill>
                  <a:srgbClr val="000000"/>
                </a:solidFill>
                <a:latin typeface="Arial Rounded MT Bold"/>
              </a:rPr>
              <a:t>cie</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o dużo</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formacj</a:t>
            </a:r>
            <a:r>
              <a:rPr b="0" lang="it-IT" sz="2800" spc="-1" strike="noStrike">
                <a:solidFill>
                  <a:srgbClr val="000000"/>
                </a:solidFill>
                <a:latin typeface="Arial Rounded MT Bold"/>
              </a:rPr>
              <a:t>i</a:t>
            </a:r>
            <a:r>
              <a:rPr b="0" lang="pl-PL" sz="2800" spc="-1" strike="noStrike">
                <a:solidFill>
                  <a:srgbClr val="000000"/>
                </a:solidFill>
                <a:latin typeface="Arial Rounded MT Bold"/>
              </a:rPr>
              <a: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202320" indent="-2023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202320" indent="-202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arządzanie informacjami z internetu</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łatwo znaleźć często używaną stronę internetową</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Rounded MT Bold"/>
              </a:rPr>
              <a:t>Zakładki </a:t>
            </a:r>
            <a:r>
              <a:rPr b="0" lang="pl-PL" sz="2400" spc="-1" strike="noStrike">
                <a:solidFill>
                  <a:srgbClr val="000000"/>
                </a:solidFill>
                <a:latin typeface="Arial Rounded MT Bold"/>
              </a:rPr>
              <a:t>i</a:t>
            </a:r>
            <a:r>
              <a:rPr b="1" lang="pl-PL" sz="2400" spc="-1" strike="noStrike">
                <a:solidFill>
                  <a:srgbClr val="000000"/>
                </a:solidFill>
                <a:latin typeface="Arial Rounded MT Bold"/>
              </a:rPr>
              <a:t> ulubione </a:t>
            </a:r>
            <a:r>
              <a:rPr b="0" lang="pl-PL" sz="2400" spc="-1" strike="noStrike">
                <a:solidFill>
                  <a:srgbClr val="000000"/>
                </a:solidFill>
                <a:latin typeface="Arial Rounded MT Bold"/>
              </a:rPr>
              <a:t>pomagają nam znaleźć często używane strony internetow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 przeglądarce jest taka ikona gwiazdki</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pl-PL" sz="2400" spc="-1" strike="noStrike">
                <a:solidFill>
                  <a:srgbClr val="000000"/>
                </a:solidFill>
                <a:latin typeface="Arial Rounded MT Bold"/>
              </a:rPr>
              <a:t>na pasku narzędzi</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się stanie, gdy wskażesz na tę gwiazd</a:t>
            </a:r>
            <a:r>
              <a:rPr b="0" lang="it-IT" sz="2400" spc="-1" strike="noStrike">
                <a:solidFill>
                  <a:srgbClr val="000000"/>
                </a:solidFill>
                <a:latin typeface="Arial Rounded MT Bold"/>
              </a:rPr>
              <a:t>k</a:t>
            </a:r>
            <a:r>
              <a:rPr b="0" lang="pl-PL" sz="2400" spc="-1" strike="noStrike">
                <a:solidFill>
                  <a:srgbClr val="000000"/>
                </a:solidFill>
                <a:latin typeface="Arial Rounded MT Bold"/>
              </a:rPr>
              <a:t>ę</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Kliknij tę gwiazdkę, aby komputer zapamiętał, że chcesz ponownie zobaczyć tę stronę</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425760"/>
            <a:ext cx="119052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1</a:t>
            </a:r>
            <a:endParaRPr b="0" lang="en-US" sz="40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twórz wyszukiwarkę Goog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 np. </a:t>
            </a:r>
            <a:r>
              <a:rPr b="0" lang="it-IT" sz="2800" spc="-1" strike="noStrike">
                <a:solidFill>
                  <a:srgbClr val="000000"/>
                </a:solidFill>
                <a:latin typeface="Arial Rounded MT Bold"/>
              </a:rPr>
              <a:t>‘Godziny w kinie’</a:t>
            </a:r>
            <a:r>
              <a:rPr b="0" lang="pl-PL" sz="2800" spc="-1" strike="noStrike">
                <a:solidFill>
                  <a:srgbClr val="000000"/>
                </a:solidFill>
                <a:latin typeface="Arial Rounded MT Bold"/>
              </a:rPr>
              <a:t> i lokalne miasto i naciśnij </a:t>
            </a:r>
            <a:r>
              <a:rPr b="0" lang="it-IT" sz="2800" spc="-1" strike="noStrike">
                <a:solidFill>
                  <a:srgbClr val="000000"/>
                </a:solidFill>
                <a:latin typeface="Arial Rounded MT Bold"/>
              </a:rPr>
              <a:t>‘</a:t>
            </a:r>
            <a:r>
              <a:rPr b="0" lang="pl-PL" sz="2800" spc="-1" strike="noStrike">
                <a:solidFill>
                  <a:srgbClr val="000000"/>
                </a:solidFill>
                <a:latin typeface="Arial Rounded MT Bold"/>
              </a:rPr>
              <a:t>Enter</a:t>
            </a:r>
            <a:r>
              <a:rPr b="0" lang="it-IT"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pewnij się, że jest to strona internetowa, którą chcesz</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najdź ikonę gwiazdki na pasku narzędzi i dodaj tę stronę do ulubionych</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220032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185560" y="274320"/>
            <a:ext cx="6923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1 (ciąg dalszy)</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mknij przeglądarkę na komputerze i otwórz ją ponown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y możesz znaleźć stronę, którą </a:t>
            </a:r>
            <a:r>
              <a:rPr b="0" lang="it-IT" sz="2800" spc="-1" strike="noStrike">
                <a:solidFill>
                  <a:srgbClr val="000000"/>
                </a:solidFill>
                <a:latin typeface="Arial Rounded MT Bold"/>
              </a:rPr>
              <a:t>zaznaczy</a:t>
            </a:r>
            <a:r>
              <a:rPr b="0" lang="pl-PL" sz="2800" spc="-1" strike="noStrike">
                <a:solidFill>
                  <a:srgbClr val="000000"/>
                </a:solidFill>
                <a:latin typeface="Arial Rounded MT Bold"/>
              </a:rPr>
              <a:t>łeś </a:t>
            </a:r>
            <a:r>
              <a:rPr b="0" lang="it-IT" sz="2800" spc="-1" strike="noStrike">
                <a:solidFill>
                  <a:srgbClr val="000000"/>
                </a:solidFill>
                <a:latin typeface="Arial Rounded MT Bold"/>
              </a:rPr>
              <a:t>/ </a:t>
            </a:r>
            <a:r>
              <a:rPr b="0" lang="pl-PL" sz="2800" spc="-1" strike="noStrike">
                <a:solidFill>
                  <a:srgbClr val="000000"/>
                </a:solidFill>
                <a:latin typeface="Arial Rounded MT Bold"/>
              </a:rPr>
              <a:t>dodałeś do ulubionych</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ięcej informacji jest dostępnych na st</a:t>
            </a:r>
            <a:r>
              <a:rPr b="0" lang="it-IT" sz="2800" spc="-1" strike="noStrike">
                <a:solidFill>
                  <a:srgbClr val="000000"/>
                </a:solidFill>
                <a:latin typeface="Arial Rounded MT Bold"/>
              </a:rPr>
              <a:t>ronie</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także używać zakładek na Twitterze</a:t>
            </a: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7:40Z</dcterms:modified>
  <cp:revision>526</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