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F7CF277-1EA8-47A2-B7B7-D574772B909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564C23B-C58E-450D-8807-E286E2EAB93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50E549F-FB9D-4980-9DB7-9B312E2BF35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23BE410-9804-4A1E-943D-88F76B7A43B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80BE34C-7BEA-4036-893C-ABECB6D4420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6C48B0B-B650-4A5C-B7F9-81624C5E5DD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44250E1-54C2-41D6-B6BD-71CC5A6C5A9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107A4E5-BE41-4F15-8BE1-6C450C861DB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203C1B7-5574-4087-B195-30171718D63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FA9B65F-F48C-4C21-94A9-4C56CC4FE80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BA971F4-8824-4379-8154-A2C61EDF799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DDAB69D-AC19-47BF-BB67-6F2ECDBC85F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8DDF4F5-8FD7-49F0-8D73-936BE3D20FA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09646ED-CD00-43D4-8B22-B1C59081B2D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D95B391-EC2D-457A-9EF3-4FB01633A7A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631A564-4ECE-4E02-9078-F0188BCE5BC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55B59BC-8164-48A0-89DF-0DF8CF63DD8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C3F73C0-6F77-46DB-AC1B-6199C1263EA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C3F789F-C645-4A97-B8A6-729B08F525F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C4B36BA-3D46-46EC-892F-A8030011661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B58F736-D706-4FEF-BC2C-468336FE651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FBACC72-F783-4E21-B519-CF8E50B67B2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B48DCB5-1DA2-4EF1-92DE-8A6B74C7499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785DFB7-6295-4612-8F2E-F667308C4D4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35FA082-156D-4B5C-8698-F654544C266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36899AE-86AD-46A9-848E-B543E146001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BBAF487-C423-42BD-973B-BD59157F36C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B790A43-F1DC-4958-A556-1072E3E832C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1785242-A451-4AA5-9167-5F36E1B554F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D0A41C3-BF9F-4833-AF1E-99710784714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F9561EC-0173-498A-BE39-09A0D210CFD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B782F8F-5FA1-403C-9E5F-87716A397D9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842A52E-67ED-417D-AD21-B345B57FF43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670CFA9-2E6C-45E5-9EC2-C42605E7279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D61E708-7148-48BC-9735-26F5823BFAE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320E0A9-3152-494F-8CED-5CFB51614D3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AADD352-9D37-42D4-8C7C-C0EEE871F16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9EF83A7-028C-474A-8950-ED9CFEE174C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E7FB889-1B67-4AAB-AD7E-9E88E8B81F4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9E537E8-1929-45C4-A71F-82502B8C092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78863B7-C48B-41CE-833C-337B4547B07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93A681E-178C-47AC-8224-8ABCEA3D832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8CDA975-10EC-48AD-AF73-BB7A488BC61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1AF531C-3915-4157-BD71-BB33E83495F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44405B3D-7AF6-472A-82A9-763E695EBB2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33B392-AF75-4012-BF96-17C16A08CB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C883A7-C6DA-4FA4-9053-3E697C47F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DD28DB-284B-4250-8DDE-E112A00F5A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D69943-E3A5-46A8-A5E4-E661F91BB1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0D52ED-CA03-4BF0-81C5-65E28CD448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29B124-9F41-435A-B3B1-10AAF2B633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08E043-C872-45D3-A737-F08D13453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7D3E5C-74FD-4210-B981-9962F44C76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4DAECD-FB88-4763-AF65-E9CBA16468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BE071E-01D1-4BFF-9FCC-D621214092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359B5E-4412-411D-8712-8BA70489C9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D7DC66-D70C-4309-AE91-AB39DCC284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54BA360-7036-4D2F-A428-30B9790CD1A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B7410E-303E-4FBF-91DA-4A95EAFA199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DA27F0-9DF6-4576-BA3D-7CD0FD9F7A1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CF516D-13F7-4DCD-B43C-D41C6EB39CF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BED7426-FA41-4954-9CFC-67E91B5BA3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AB50ED3-C4D0-484A-B36B-2C2AE2CFDA7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78E351-E0A4-4675-88A6-E70AD43090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C49C768-45B8-4A7A-A124-13875DE9E4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B3853C8-C648-423A-9B58-87659E8CBB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2A4AA52-9BA3-4A4C-AA64-01942EACAF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7AC0C51-7F12-4197-BEED-D7F604B2F0E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733FBDD-3D14-479A-B9BE-37FA117A7A2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9F3D673-346D-43D3-8FC5-11F40C24801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BC6463-DDC0-4A3B-93E8-5061F40EF75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F05D3E5-F37D-45D1-ADB1-FFCCF91CE6E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DAA33AD-FA72-4671-BFBF-D96669B91A4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8757A63-4C5C-499F-8828-626254C5A3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3D78956-8EF9-4547-B112-6FA80FB92B3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C24912E-AEF1-455A-82E4-42E4FB4A17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44FD0F-EB3A-427E-8105-330B979338F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EC574D6-492E-4475-A558-5F7C54080A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B7AB87-6E79-45A2-BB20-797C203E42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70E986E-0646-4DA9-889A-DD505BB8F90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0C29FA6-5F9B-46C4-AAF5-A8BAFF9BE7E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FF014F8-B0DA-4AA9-88EE-4368F567E01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6816BB5-4658-4A86-A71C-697E0926672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AB2208C-FB97-422B-89AA-D1974301E81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6E9BBAD-A2C4-48C9-BBE9-35FA3C81EAC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C60B5AE-2BA4-4EC3-A825-535AA28727C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C0BEFE9-F910-4A57-9319-3BA54B98BF6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7E2E0CC-ACAD-45DA-8D66-850FB1400B7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E8F6280-4CB5-4737-AF31-BE062B558B4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4C8A37D-5EB9-4EAC-A224-A4B765ECC53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206B4C3-667E-4E9B-9DD2-13729B3C321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BBF0B60-BBA8-4476-8837-D268DCC4567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68B3C3A-8F88-497B-95BF-477AA3F8268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5B00619-47C1-4DE4-8500-54112330275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19CA39C-2EB9-469F-AE90-1D74C2930FC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56FE7C8-F51D-4E80-9830-3F4690E1A65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B3C597F-CD6F-4055-B69E-782983BB3AC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1C451BA-EE42-4C32-A851-425A1507128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9C7DD4D-236F-4464-8E8C-93D7CF43D26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462B960-5CE7-4A3B-82F1-E0114681ACF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A1165A4-ADD3-43F6-B0E1-B389BEBF512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8417BEC-668A-4FB2-9B9B-92365D51878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16260D4-75C9-4C7B-9BE2-6E5D650BEC6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7DF6CD7-4DA3-47F1-89F7-8F465ADA7D3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C09E3CC-99CF-4243-A5DB-13570CA8ADF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E3BF61F-D2C1-472F-8AE5-15724EAFFE8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866CC50-3E7A-41D9-BCEB-13A943A97E1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B221550-0D14-4F61-ADEB-6B03A7CF4FB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056F04F-FDAD-4624-A5D8-E3F63AC4A29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DCE17DB-491B-41F5-A07B-A983939CF39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4F1D191-4DFA-4279-B871-CA4F5269FAE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7D32B43-51D1-4A95-BEB6-FBE7D25E21D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EB9296F-3F0D-40BC-A7A3-21474C484B1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4B17D41-B4E8-4995-BE4D-1233C1221CA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E234D40-E218-4AF0-B415-5621DB95A93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1955A64-C57F-413D-81F5-635B1BA8324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397DAC6-ECBB-4736-BF12-F1F93D2A499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84606A9-8EFB-4ADC-A404-4608D8F05A7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B106C60-E1FB-4FC2-BA9E-74EECAD7917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22ED955-C38A-4DA9-BABC-1477E9770C44}"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876A-298B-481C-AE42-DD25D161C0C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54D6-8239-4388-B1AB-EB5549931F0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30F04-F0D7-46B3-9447-2541C75C1D7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B8828-5ADC-46CC-B378-0522762E3D1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698C-A9E8-479B-B31B-89A9626363B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702F-87C5-4A01-8C52-3888F4487E5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C2545-326A-4053-880E-D741DA5F45F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7A46-4630-4F1D-AA65-F3519279F53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D4CC-A93D-49C8-93E5-3569FE026B3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7A3B-9B2C-49D1-A8CD-4CF8BE65DD3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JIo-V0beaBw"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355640" y="5157720"/>
            <a:ext cx="42483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Bezpieczeństwo</a:t>
            </a:r>
            <a:endParaRPr b="0" lang="en-US" sz="3600" spc="-1" strike="noStrike">
              <a:solidFill>
                <a:srgbClr val="000000"/>
              </a:solidFill>
              <a:latin typeface="Arial"/>
            </a:endParaRPr>
          </a:p>
        </p:txBody>
      </p:sp>
      <p:sp>
        <p:nvSpPr>
          <p:cNvPr id="537" name="Rectángulo 1"/>
          <p:cNvSpPr/>
          <p:nvPr/>
        </p:nvSpPr>
        <p:spPr>
          <a:xfrm>
            <a:off x="34920" y="3141720"/>
            <a:ext cx="88725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Ochrona danych </a:t>
            </a:r>
            <a:r>
              <a:rPr b="0" lang="it-IT" sz="4000" spc="-1" strike="noStrike">
                <a:solidFill>
                  <a:srgbClr val="000000"/>
                </a:solidFill>
                <a:latin typeface="Arial Rounded MT Bold"/>
              </a:rPr>
              <a:t>osobo</a:t>
            </a:r>
            <a:r>
              <a:rPr b="0" lang="pl-PL" sz="4000" spc="-1" strike="noStrike">
                <a:solidFill>
                  <a:srgbClr val="000000"/>
                </a:solidFill>
                <a:latin typeface="Arial Rounded MT Bold"/>
              </a:rPr>
              <a:t>wych i prywatnośc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Zarządzaj swoją tożsamością cyfrową i reputacją</a:t>
            </a:r>
            <a:endParaRPr b="0" lang="en-US" sz="3600" spc="-1" strike="noStrike">
              <a:solidFill>
                <a:srgbClr val="000000"/>
              </a:solidFill>
              <a:latin typeface="Arial"/>
            </a:endParaRPr>
          </a:p>
        </p:txBody>
      </p:sp>
      <p:sp>
        <p:nvSpPr>
          <p:cNvPr id="564" name=""/>
          <p:cNvSpPr txBox="1"/>
          <p:nvPr/>
        </p:nvSpPr>
        <p:spPr>
          <a:xfrm>
            <a:off x="-181440" y="1424160"/>
            <a:ext cx="5473800" cy="374400"/>
          </a:xfrm>
          <a:prstGeom prst="rect">
            <a:avLst/>
          </a:prstGeom>
          <a:noFill/>
          <a:ln w="0">
            <a:noFill/>
          </a:ln>
        </p:spPr>
        <p:txBody>
          <a:bodyPr anchor="t">
            <a:normAutofit fontScale="77000"/>
          </a:bodyPr>
          <a:p>
            <a:pPr lvl="1" marL="572040" indent="-21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o to jest </a:t>
            </a:r>
            <a:r>
              <a:rPr b="0" lang="pl-PL" sz="2400" spc="-1" strike="noStrike">
                <a:solidFill>
                  <a:srgbClr val="000000"/>
                </a:solidFill>
                <a:latin typeface="Arial Rounded MT Bold"/>
              </a:rPr>
              <a:t>tożsamość cyfrowa</a:t>
            </a:r>
            <a:r>
              <a:rPr b="0" lang="en-US" sz="2400" spc="-1" strike="noStrike">
                <a:solidFill>
                  <a:srgbClr val="000000"/>
                </a:solidFill>
                <a:latin typeface="Arial Rounded MT Bold"/>
              </a:rPr>
              <a:t>?</a:t>
            </a:r>
            <a:endParaRPr b="0" lang="en-US" sz="2400" spc="-1" strike="noStrike">
              <a:solidFill>
                <a:srgbClr val="000000"/>
              </a:solidFill>
              <a:latin typeface="Arial"/>
            </a:endParaRPr>
          </a:p>
        </p:txBody>
      </p:sp>
      <p:sp>
        <p:nvSpPr>
          <p:cNvPr id="565" name="CasellaDiTesto 1"/>
          <p:cNvSpPr/>
          <p:nvPr/>
        </p:nvSpPr>
        <p:spPr>
          <a:xfrm>
            <a:off x="108000" y="1844640"/>
            <a:ext cx="8928000" cy="4620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Sposób, w jaki działamy, co mówimy, jak to mówimy, i to, co robimy, aby uświadomić sobie nasze wartości online, jest tym, co systematycznie definiuje naszą tożsamość cyfrową</a:t>
            </a:r>
            <a:r>
              <a:rPr b="0" lang="en-GB" sz="1800" spc="-1" strike="noStrike">
                <a:solidFill>
                  <a:srgbClr val="000000"/>
                </a:solidFill>
                <a:latin typeface="Arial Rounded MT Bold"/>
              </a:rPr>
              <a:t>. </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Nasza tożsamość cyfrowa jest niczym innym jak lustrzanym odbiciem naszego ogólnego obrazu: odzwierciedleniem podstawowych przekonań, ideałów i wizji, które z wymiaru rzeczywistości przenoszą się na cyfrowy</a:t>
            </a:r>
            <a:r>
              <a:rPr b="0"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Mówienie o tożsamości cyfrowej oznacza odpowiedź na następujące pytania</a:t>
            </a:r>
            <a:r>
              <a:rPr b="0" lang="en-GB" sz="1800" spc="-1" strike="noStrike">
                <a:solidFill>
                  <a:srgbClr val="000000"/>
                </a:solidFill>
                <a:latin typeface="Arial Rounded MT Bold"/>
              </a:rPr>
              <a:t>: </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Kim jesteśmy?</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Rounded MT Bold"/>
              </a:rPr>
              <a:t>Jak robimy to, co robimy?</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Dlaczego to robimy?</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Dla ko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536920" y="109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Zarządzaj swoją tożsamością cyfrową i reputacją</a:t>
            </a:r>
            <a:endParaRPr b="0" lang="en-US" sz="3200" spc="-1" strike="noStrike">
              <a:solidFill>
                <a:srgbClr val="000000"/>
              </a:solidFill>
              <a:latin typeface="Arial"/>
            </a:endParaRPr>
          </a:p>
        </p:txBody>
      </p:sp>
      <p:sp>
        <p:nvSpPr>
          <p:cNvPr id="567" name=""/>
          <p:cNvSpPr txBox="1"/>
          <p:nvPr/>
        </p:nvSpPr>
        <p:spPr>
          <a:xfrm>
            <a:off x="-252360" y="1568160"/>
            <a:ext cx="5976720" cy="4921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o to jest </a:t>
            </a:r>
            <a:r>
              <a:rPr b="0" lang="it-IT" sz="2400" spc="-1" strike="noStrike">
                <a:solidFill>
                  <a:srgbClr val="000000"/>
                </a:solidFill>
                <a:latin typeface="Arial Rounded MT Bold"/>
              </a:rPr>
              <a:t>r</a:t>
            </a:r>
            <a:r>
              <a:rPr b="0" lang="pl-PL" sz="2400" spc="-1" strike="noStrike">
                <a:solidFill>
                  <a:srgbClr val="000000"/>
                </a:solidFill>
                <a:latin typeface="Arial Rounded MT Bold"/>
              </a:rPr>
              <a:t>eputacja cyfrowa</a:t>
            </a:r>
            <a:r>
              <a:rPr b="0" lang="en-US" sz="2400" spc="-1" strike="noStrike">
                <a:solidFill>
                  <a:srgbClr val="000000"/>
                </a:solidFill>
                <a:latin typeface="Arial Rounded MT Bold"/>
              </a:rPr>
              <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CasellaDiTesto 6"/>
          <p:cNvSpPr/>
          <p:nvPr/>
        </p:nvSpPr>
        <p:spPr>
          <a:xfrm>
            <a:off x="108000" y="2276640"/>
            <a:ext cx="8785080" cy="3502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Reputacja osoby po prostu pokazuje i ujawnia, co inni myślą o nim / nim i jego / jej ogólnej percepcji</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Reputacja wskazuje, w jaki sposób opinia publiczna postrzega wartości, które komunikujemy online i za pośrednictwem naszych kont w mediach</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ostrzeganie innych może nie odpowiadać wartościom, które chcemy przekazać</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410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Zarządzaj swoją tożsamością cyfrową i reputacją</a:t>
            </a:r>
            <a:endParaRPr b="0" lang="en-US" sz="3200" spc="-1" strike="noStrike">
              <a:solidFill>
                <a:srgbClr val="000000"/>
              </a:solidFill>
              <a:latin typeface="Arial"/>
            </a:endParaRPr>
          </a:p>
        </p:txBody>
      </p:sp>
      <p:sp>
        <p:nvSpPr>
          <p:cNvPr id="570" name=""/>
          <p:cNvSpPr txBox="1"/>
          <p:nvPr/>
        </p:nvSpPr>
        <p:spPr>
          <a:xfrm>
            <a:off x="-360" y="1341000"/>
            <a:ext cx="7931160" cy="5749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yfrowa tożsamość i reputacja</a:t>
            </a:r>
            <a:endParaRPr b="0" lang="en-US" sz="2400" spc="-1" strike="noStrike">
              <a:solidFill>
                <a:srgbClr val="000000"/>
              </a:solidFill>
              <a:latin typeface="Arial"/>
            </a:endParaRPr>
          </a:p>
        </p:txBody>
      </p:sp>
      <p:sp>
        <p:nvSpPr>
          <p:cNvPr id="571" name="CasellaDiTesto 6"/>
          <p:cNvSpPr/>
          <p:nvPr/>
        </p:nvSpPr>
        <p:spPr>
          <a:xfrm>
            <a:off x="179280" y="2503440"/>
            <a:ext cx="8785440" cy="282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Nie trzeba dodawać, że tożsamość cyfrowa i reputacja to dwa niezwykle cenne zasoby, tak samo jak każda inna namacalna cecha</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Silna tożsamość przedstawiona w Internecie przekłada się na solidne wrażenie w naszym codziennym życiu</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ażne jest, aby tożsamość online była jak najbliższa naszym prawdziwym wartościom, przekonaniom i postawom</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Zarządzaj swoją tożsamością cyfrową i reputacją</a:t>
            </a:r>
            <a:endParaRPr b="0" lang="en-US" sz="3200" spc="-1" strike="noStrike">
              <a:solidFill>
                <a:srgbClr val="000000"/>
              </a:solidFill>
              <a:latin typeface="Arial"/>
            </a:endParaRPr>
          </a:p>
        </p:txBody>
      </p:sp>
      <p:sp>
        <p:nvSpPr>
          <p:cNvPr id="573" name=""/>
          <p:cNvSpPr txBox="1"/>
          <p:nvPr/>
        </p:nvSpPr>
        <p:spPr>
          <a:xfrm>
            <a:off x="-3600" y="1484280"/>
            <a:ext cx="7931160" cy="6890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yfrowa tożsamość i reputacja</a:t>
            </a:r>
            <a:endParaRPr b="0" lang="en-US" sz="2400" spc="-1" strike="noStrike">
              <a:solidFill>
                <a:srgbClr val="000000"/>
              </a:solidFill>
              <a:latin typeface="Arial"/>
            </a:endParaRPr>
          </a:p>
        </p:txBody>
      </p:sp>
      <p:sp>
        <p:nvSpPr>
          <p:cNvPr id="574" name="CasellaDiTesto 1"/>
          <p:cNvSpPr/>
          <p:nvPr/>
        </p:nvSpPr>
        <p:spPr>
          <a:xfrm>
            <a:off x="250920" y="1989000"/>
            <a:ext cx="8642160" cy="3751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rzez lata uczeni w dziedzinie komunikacji i praktycy określali niekończącą się listę najlepszych praktyk i powtarzalnych podejść, aby zachować i wzmocnić to, co wcześniej było znane jako „reputacja”, a następnie - z upływem lat - „cyfrowa reputacja”. Różnice są minimalne, biorąc pod uwagę drugą nieuniknioną ewolucję pierwszej</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Cały ten zbiór wyników można zsumować w kilku punktach</a:t>
            </a:r>
            <a:r>
              <a:rPr b="0" lang="en-GB"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Zarządzaj swoją tożsamością cyfrową i reputacją</a:t>
            </a:r>
            <a:endParaRPr b="0" lang="en-US" sz="3200" spc="-1" strike="noStrike">
              <a:solidFill>
                <a:srgbClr val="000000"/>
              </a:solidFill>
              <a:latin typeface="Arial"/>
            </a:endParaRPr>
          </a:p>
        </p:txBody>
      </p:sp>
      <p:sp>
        <p:nvSpPr>
          <p:cNvPr id="576"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yfrowa tożsamość i reputacja</a:t>
            </a:r>
            <a:endParaRPr b="0" lang="en-US" sz="2400" spc="-1" strike="noStrike">
              <a:solidFill>
                <a:srgbClr val="000000"/>
              </a:solidFill>
              <a:latin typeface="Arial"/>
            </a:endParaRPr>
          </a:p>
        </p:txBody>
      </p:sp>
      <p:sp>
        <p:nvSpPr>
          <p:cNvPr id="577" name="CasellaDiTesto 6"/>
          <p:cNvSpPr/>
          <p:nvPr/>
        </p:nvSpPr>
        <p:spPr>
          <a:xfrm>
            <a:off x="179280" y="2133720"/>
            <a:ext cx="9144000" cy="465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Bądź wiarygodny i godny zaufania</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rowadz konstruktywne dialogi</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rzyjmuj negatywne opinie z dojrzałością i mądrością</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rzyjmuj „różnorodność” i zaakceptuj ryzyko niezrozumienia</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Rozmawiaj szczerze i szanuj swoich cyfrowych rozmówców</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Słuchaj uważnie swojego otoczenia i </a:t>
            </a:r>
            <a:r>
              <a:rPr b="0" lang="it-IT" sz="2000" spc="-1" strike="noStrike">
                <a:solidFill>
                  <a:srgbClr val="000000"/>
                </a:solidFill>
                <a:latin typeface="Arial Rounded MT Bold"/>
              </a:rPr>
              <a:t>znaj</a:t>
            </a:r>
            <a:r>
              <a:rPr b="0" lang="pl-PL" sz="2000" spc="-1" strike="noStrike">
                <a:solidFill>
                  <a:srgbClr val="000000"/>
                </a:solidFill>
                <a:latin typeface="Arial Rounded MT Bold"/>
              </a:rPr>
              <a:t>dź każdy sygnał ostrzeżenia / okazji</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53840" y="252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Rounded MT Bold"/>
              </a:rPr>
              <a:t>RODO - przepisy UE dotyczące ochrony danych</a:t>
            </a:r>
            <a:endParaRPr b="0" lang="en-US" sz="3600" spc="-1" strike="noStrike">
              <a:solidFill>
                <a:srgbClr val="000000"/>
              </a:solidFill>
              <a:latin typeface="Arial"/>
            </a:endParaRPr>
          </a:p>
        </p:txBody>
      </p:sp>
      <p:sp>
        <p:nvSpPr>
          <p:cNvPr id="579" name=""/>
          <p:cNvSpPr txBox="1"/>
          <p:nvPr/>
        </p:nvSpPr>
        <p:spPr>
          <a:xfrm>
            <a:off x="-252720" y="1268280"/>
            <a:ext cx="7931160" cy="7495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Co to jest RODO</a:t>
            </a:r>
            <a:r>
              <a:rPr b="0" lang="en-US" sz="2400" spc="-1" strike="noStrike">
                <a:solidFill>
                  <a:srgbClr val="000000"/>
                </a:solidFill>
                <a:latin typeface="Arial Rounded MT Bold"/>
              </a:rPr>
              <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CasellaDiTesto 1"/>
          <p:cNvSpPr/>
          <p:nvPr/>
        </p:nvSpPr>
        <p:spPr>
          <a:xfrm>
            <a:off x="233280" y="1557360"/>
            <a:ext cx="8677440" cy="5031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RODO </a:t>
            </a:r>
            <a:r>
              <a:rPr b="0" i="1" lang="pl-PL" sz="1800" spc="-1" strike="noStrike">
                <a:solidFill>
                  <a:srgbClr val="000000"/>
                </a:solidFill>
                <a:latin typeface="Arial Rounded MT Bold"/>
              </a:rPr>
              <a:t>(</a:t>
            </a:r>
            <a:r>
              <a:rPr b="1" i="1" lang="pl-PL" sz="1800" spc="-1" strike="noStrike">
                <a:solidFill>
                  <a:srgbClr val="000000"/>
                </a:solidFill>
                <a:latin typeface="Arial Rounded MT Bold"/>
              </a:rPr>
              <a:t>Ogólne rozporządzenie o ochronie danych</a:t>
            </a:r>
            <a:r>
              <a:rPr b="0" i="1" lang="pl-PL" sz="1800" spc="-1" strike="noStrike">
                <a:solidFill>
                  <a:srgbClr val="000000"/>
                </a:solidFill>
                <a:latin typeface="Arial Rounded MT Bold"/>
              </a:rPr>
              <a:t>) to najnowsze rozporządzenie UE - w pełni obowiązujące na terytorium europejskim od maja 2018 r. - które ściśle reguluje „przetwarzanie przez </a:t>
            </a:r>
            <a:r>
              <a:rPr b="1" i="1" lang="pl-PL" sz="1800" spc="-1" strike="noStrike">
                <a:solidFill>
                  <a:srgbClr val="000000"/>
                </a:solidFill>
                <a:latin typeface="Arial Rounded MT Bold"/>
              </a:rPr>
              <a:t>osobę fizyczną, firmę lub organizację danych osobowych dotyczących osób fizycznych </a:t>
            </a:r>
            <a:r>
              <a:rPr b="0" i="1" lang="pl-PL" sz="1800" spc="-1" strike="noStrike">
                <a:solidFill>
                  <a:srgbClr val="000000"/>
                </a:solidFill>
                <a:latin typeface="Arial Rounded MT Bold"/>
              </a:rPr>
              <a:t>w UE”</a:t>
            </a:r>
            <a:r>
              <a:rPr b="0" i="1" lang="it-IT"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 </a:t>
            </a:r>
            <a:r>
              <a:rPr b="0" lang="pl-PL" sz="1800" spc="-1" strike="noStrike">
                <a:solidFill>
                  <a:srgbClr val="000000"/>
                </a:solidFill>
                <a:latin typeface="Arial Rounded MT Bold"/>
              </a:rPr>
              <a:t>Czasownik „przetwarzanie” jednoznacznie odnosi się do: gromadzenia, nagrywania, organizacji, strukturyzacji, przechowywania, adaptacji (lub modyfikacji), wyszukiwania, konsultacji, użytkowania, ujawniania poprzez transmisję, rozpowszechnianie (lub w inny sposób udostępnianie), dostosowania lub połączenia, ograniczenia, usunięci</a:t>
            </a:r>
            <a:r>
              <a:rPr b="0" lang="it-IT" sz="1800" spc="-1" strike="noStrike">
                <a:solidFill>
                  <a:srgbClr val="000000"/>
                </a:solidFill>
                <a:latin typeface="Arial Rounded MT Bold"/>
              </a:rPr>
              <a:t>a</a:t>
            </a:r>
            <a:r>
              <a:rPr b="0" lang="pl-PL" sz="1800" spc="-1" strike="noStrike">
                <a:solidFill>
                  <a:srgbClr val="000000"/>
                </a:solidFill>
                <a:latin typeface="Arial Rounded MT Bold"/>
              </a:rPr>
              <a:t> lub zniszczeni</a:t>
            </a:r>
            <a:r>
              <a:rPr b="0" lang="it-IT" sz="1800" spc="-1" strike="noStrike">
                <a:solidFill>
                  <a:srgbClr val="000000"/>
                </a:solidFill>
                <a:latin typeface="Arial Rounded MT Bold"/>
              </a:rPr>
              <a:t>a</a:t>
            </a:r>
            <a:r>
              <a:rPr b="0" lang="pl-PL" sz="1800" spc="-1" strike="noStrike">
                <a:solidFill>
                  <a:srgbClr val="000000"/>
                </a:solidFill>
                <a:latin typeface="Arial Rounded MT Bold"/>
              </a:rPr>
              <a:t> danych osobowych </a:t>
            </a:r>
            <a:r>
              <a:rPr b="0" lang="en-GB" sz="1800" spc="-1" strike="noStrike">
                <a:solidFill>
                  <a:srgbClr val="000000"/>
                </a:solidFill>
                <a:latin typeface="Arial Rounded MT Bold"/>
              </a:rPr>
              <a:t>(https://ec.europa.eu/info/what-constitutes-data-processing_en)</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700360" y="18864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RODO - przepisy UE dotyczące ochrony danych</a:t>
            </a:r>
            <a:endParaRPr b="0" lang="en-US" sz="3200" spc="-1" strike="noStrike">
              <a:solidFill>
                <a:srgbClr val="000000"/>
              </a:solidFill>
              <a:latin typeface="Arial"/>
            </a:endParaRPr>
          </a:p>
        </p:txBody>
      </p:sp>
      <p:sp>
        <p:nvSpPr>
          <p:cNvPr id="582" name=""/>
          <p:cNvSpPr txBox="1"/>
          <p:nvPr/>
        </p:nvSpPr>
        <p:spPr>
          <a:xfrm>
            <a:off x="-3600" y="1773000"/>
            <a:ext cx="3745080" cy="431640"/>
          </a:xfrm>
          <a:prstGeom prst="rect">
            <a:avLst/>
          </a:prstGeom>
          <a:noFill/>
          <a:ln w="0">
            <a:noFill/>
          </a:ln>
        </p:spPr>
        <p:txBody>
          <a:bodyPr anchor="t">
            <a:normAutofit fontScale="80000"/>
          </a:bodyPr>
          <a:p>
            <a:pPr lvl="1" marL="59436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Co to jest RODO</a:t>
            </a:r>
            <a:r>
              <a:rPr b="0" lang="en-US" sz="2800" spc="-1" strike="noStrike">
                <a:solidFill>
                  <a:srgbClr val="000000"/>
                </a:solidFill>
                <a:latin typeface="Arial Rounded MT Bold"/>
              </a:rPr>
              <a:t>?</a:t>
            </a:r>
            <a:endParaRPr b="0" lang="en-US" sz="28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CasellaDiTesto 1"/>
          <p:cNvSpPr/>
          <p:nvPr/>
        </p:nvSpPr>
        <p:spPr>
          <a:xfrm>
            <a:off x="0" y="2781360"/>
            <a:ext cx="8748720" cy="3568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RODO opiera się na dwóch podstawowych zasadach</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lvl="1" marL="7430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Ochrona zwykłych obywateli przed nadużyciami danych</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marL="7430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Wzmocnienie pozycji przedsiębiorstw na „równych zasadach</a:t>
            </a:r>
            <a:r>
              <a:rPr b="0" lang="en-GB" sz="2400" spc="-1" strike="noStrike">
                <a:solidFill>
                  <a:srgbClr val="000000"/>
                </a:solidFill>
                <a:latin typeface="Arial Rounded MT Bold"/>
              </a:rPr>
              <a:t>”</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626920" y="1998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RODO - przepisy UE dotyczące ochrony danych</a:t>
            </a:r>
            <a:endParaRPr b="0" lang="en-US" sz="3200" spc="-1" strike="noStrike">
              <a:solidFill>
                <a:srgbClr val="000000"/>
              </a:solidFill>
              <a:latin typeface="Arial"/>
            </a:endParaRPr>
          </a:p>
        </p:txBody>
      </p:sp>
      <p:sp>
        <p:nvSpPr>
          <p:cNvPr id="585" name=""/>
          <p:cNvSpPr txBox="1"/>
          <p:nvPr/>
        </p:nvSpPr>
        <p:spPr>
          <a:xfrm>
            <a:off x="-181440" y="1625400"/>
            <a:ext cx="7931160" cy="5648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o to jest RODO? Perspektywa biznesowa</a:t>
            </a:r>
            <a:endParaRPr b="0" lang="en-US" sz="2400" spc="-1" strike="noStrike">
              <a:solidFill>
                <a:srgbClr val="000000"/>
              </a:solidFill>
              <a:latin typeface="Arial"/>
            </a:endParaRPr>
          </a:p>
        </p:txBody>
      </p:sp>
      <p:sp>
        <p:nvSpPr>
          <p:cNvPr id="586" name="CasellaDiTesto 1"/>
          <p:cNvSpPr/>
          <p:nvPr/>
        </p:nvSpPr>
        <p:spPr>
          <a:xfrm>
            <a:off x="324000" y="2190600"/>
            <a:ext cx="8362800" cy="3477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RODO stanowi rygorystyczny zestaw „</a:t>
            </a:r>
            <a:r>
              <a:rPr b="0" lang="it-IT" sz="2000" spc="-1" strike="noStrike">
                <a:solidFill>
                  <a:srgbClr val="000000"/>
                </a:solidFill>
                <a:latin typeface="Arial Rounded MT Bold"/>
              </a:rPr>
              <a:t>NALEZY ZROBIC</a:t>
            </a:r>
            <a:r>
              <a:rPr b="0" lang="pl-PL" sz="2000" spc="-1" strike="noStrike">
                <a:solidFill>
                  <a:srgbClr val="000000"/>
                </a:solidFill>
                <a:latin typeface="Arial Rounded MT Bold"/>
              </a:rPr>
              <a:t>” pod względem</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Rodzaj danych przetwarzalnych</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Cel przetwarzania</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ea typeface="Arial"/>
              </a:rPr>
              <a:t>Ilość danych do zebrania i trwałość </a:t>
            </a:r>
            <a:r>
              <a:rPr b="0" lang="it-IT" sz="1800" spc="-1" strike="noStrike">
                <a:solidFill>
                  <a:srgbClr val="000000"/>
                </a:solidFill>
                <a:latin typeface="Arial Rounded MT Bold"/>
                <a:ea typeface="Arial"/>
              </a:rPr>
              <a:t>dostepu</a:t>
            </a:r>
            <a:r>
              <a:rPr b="0" lang="pl-PL" sz="1800" spc="-1" strike="noStrike">
                <a:solidFill>
                  <a:srgbClr val="000000"/>
                </a:solidFill>
                <a:latin typeface="Arial Rounded MT Bold"/>
                <a:ea typeface="Arial"/>
              </a:rPr>
              <a:t> danych</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ea typeface="Arial"/>
              </a:rPr>
              <a:t>Powiadomienie o </a:t>
            </a:r>
            <a:r>
              <a:rPr b="0" lang="it-IT" sz="1800" spc="-1" strike="noStrike">
                <a:solidFill>
                  <a:srgbClr val="000000"/>
                </a:solidFill>
                <a:latin typeface="Arial Rounded MT Bold"/>
                <a:ea typeface="Arial"/>
              </a:rPr>
              <a:t>zbieraniu</a:t>
            </a:r>
            <a:r>
              <a:rPr b="0" lang="pl-PL" sz="1800" spc="-1" strike="noStrike">
                <a:solidFill>
                  <a:srgbClr val="000000"/>
                </a:solidFill>
                <a:latin typeface="Arial Rounded MT Bold"/>
                <a:ea typeface="Arial"/>
              </a:rPr>
              <a:t>, </a:t>
            </a:r>
            <a:r>
              <a:rPr b="0" lang="it-IT" sz="1800" spc="-1" strike="noStrike">
                <a:solidFill>
                  <a:srgbClr val="000000"/>
                </a:solidFill>
                <a:latin typeface="Arial Rounded MT Bold"/>
                <a:ea typeface="Arial"/>
              </a:rPr>
              <a:t>o</a:t>
            </a:r>
            <a:r>
              <a:rPr b="0" lang="pl-PL" sz="1800" spc="-1" strike="noStrike">
                <a:solidFill>
                  <a:srgbClr val="000000"/>
                </a:solidFill>
                <a:latin typeface="Arial Rounded MT Bold"/>
                <a:ea typeface="Arial"/>
              </a:rPr>
              <a:t>bowiązkach i ogólnej realizacji</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ea typeface="Arial"/>
              </a:rPr>
              <a:t>Radzenie sobie z obywatelami korzysta z ich prawa</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Dla kompleksowego zrozumienia: </a:t>
            </a:r>
            <a:r>
              <a:rPr b="1" lang="en-GB" sz="1800" spc="-1" strike="noStrike">
                <a:solidFill>
                  <a:srgbClr val="000000"/>
                </a:solidFill>
                <a:latin typeface="Arial Rounded MT Bold"/>
              </a:rPr>
              <a:t>Rules for Business and Organizations</a:t>
            </a:r>
            <a:r>
              <a:rPr b="0" lang="en-GB" sz="1800" spc="-1" strike="noStrike">
                <a:solidFill>
                  <a:srgbClr val="000000"/>
                </a:solidFill>
                <a:latin typeface="Arial Rounded MT Bold"/>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70036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RODO - przepisy UE dotyczące ochrony danych</a:t>
            </a:r>
            <a:endParaRPr b="0" lang="en-US" sz="3200" spc="-1" strike="noStrike">
              <a:solidFill>
                <a:srgbClr val="000000"/>
              </a:solidFill>
              <a:latin typeface="Arial"/>
            </a:endParaRPr>
          </a:p>
        </p:txBody>
      </p:sp>
      <p:sp>
        <p:nvSpPr>
          <p:cNvPr id="588" name=""/>
          <p:cNvSpPr txBox="1"/>
          <p:nvPr/>
        </p:nvSpPr>
        <p:spPr>
          <a:xfrm>
            <a:off x="-108360" y="1415880"/>
            <a:ext cx="7931160" cy="4939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Co to jest RODO? Perspektywa Obywateli</a:t>
            </a:r>
            <a:endParaRPr b="0" lang="en-US" sz="2400" spc="-1" strike="noStrike">
              <a:solidFill>
                <a:srgbClr val="000000"/>
              </a:solidFill>
              <a:latin typeface="Arial"/>
            </a:endParaRPr>
          </a:p>
        </p:txBody>
      </p:sp>
      <p:sp>
        <p:nvSpPr>
          <p:cNvPr id="589" name="CasellaDiTesto 1"/>
          <p:cNvSpPr/>
          <p:nvPr/>
        </p:nvSpPr>
        <p:spPr>
          <a:xfrm>
            <a:off x="179280" y="1909800"/>
            <a:ext cx="856944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Z drugiej strony RODO okazuje się silnym środkiem ochrony przed prawem do prywatności i nadużyciami związanymi z przetwarzaniem danych</a:t>
            </a:r>
            <a:r>
              <a:rPr b="0"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Rounded MT Bold"/>
              </a:rPr>
              <a:t>Jaki dokładnie jest chroniony obiekt i jak jest dokładnie chroniony</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Jakie są moje prawa?</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Rounded MT Bold"/>
              </a:rPr>
              <a:t>Skąd mam wiedzieć, czy którekolwiek z moich praw zostało naruszone i co zrobić, aby je dochodzić</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Jak mogę odzyskać dane? </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Rounded MT Bold"/>
              </a:rPr>
              <a:t>Kiedy powinienem </a:t>
            </a:r>
            <a:r>
              <a:rPr b="0" i="1" lang="it-IT" sz="1800" spc="-1" strike="noStrike">
                <a:solidFill>
                  <a:srgbClr val="000000"/>
                </a:solidFill>
                <a:latin typeface="Arial Rounded MT Bold"/>
              </a:rPr>
              <a:t> lub nie </a:t>
            </a:r>
            <a:r>
              <a:rPr b="0" i="1" lang="pl-PL" sz="1800" spc="-1" strike="noStrike">
                <a:solidFill>
                  <a:srgbClr val="000000"/>
                </a:solidFill>
                <a:latin typeface="Arial Rounded MT Bold"/>
              </a:rPr>
              <a:t>korzystać z moich praw</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Itd… Dla pełnego zrozumienia: </a:t>
            </a:r>
            <a:r>
              <a:rPr b="1" lang="en-GB" sz="1800" spc="-1" strike="noStrike">
                <a:solidFill>
                  <a:srgbClr val="000000"/>
                </a:solidFill>
                <a:latin typeface="Arial Rounded MT Bold"/>
              </a:rPr>
              <a:t>Rights for Citizens</a:t>
            </a:r>
            <a:r>
              <a:rPr b="0"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476360" y="345960"/>
            <a:ext cx="764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000000"/>
                </a:solidFill>
                <a:latin typeface="Arial Rounded MT Bold"/>
              </a:rPr>
              <a:t>Prawa własności intelektualnej i prawa autorskie</a:t>
            </a:r>
            <a:endParaRPr b="0" lang="en-US" sz="4000" spc="-1" strike="noStrike">
              <a:solidFill>
                <a:srgbClr val="000000"/>
              </a:solidFill>
              <a:latin typeface="Arial"/>
            </a:endParaRPr>
          </a:p>
        </p:txBody>
      </p:sp>
      <p:sp>
        <p:nvSpPr>
          <p:cNvPr id="591"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zukanie definicji: </a:t>
            </a:r>
            <a:endParaRPr b="0" lang="en-US" sz="2400" spc="-1" strike="noStrike">
              <a:solidFill>
                <a:srgbClr val="000000"/>
              </a:solidFill>
              <a:latin typeface="Arial"/>
            </a:endParaRPr>
          </a:p>
        </p:txBody>
      </p:sp>
      <p:sp>
        <p:nvSpPr>
          <p:cNvPr id="592" name="CasellaDiTesto 2"/>
          <p:cNvSpPr/>
          <p:nvPr/>
        </p:nvSpPr>
        <p:spPr>
          <a:xfrm>
            <a:off x="179280" y="1989000"/>
            <a:ext cx="8785440" cy="360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edług WIPO (Światowej Organizacji Własności Intelektualnej), własność intelektualna</a:t>
            </a:r>
            <a:r>
              <a:rPr b="0" lang="it-IT" sz="2000" spc="-1" strike="noStrike">
                <a:solidFill>
                  <a:srgbClr val="000000"/>
                </a:solidFill>
                <a:latin typeface="Arial Rounded MT Bold"/>
              </a:rPr>
              <a:t>: </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Rounded MT Bold"/>
              </a:rPr>
              <a:t> </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Rounded MT Bold"/>
              </a:rPr>
              <a:t>„… </a:t>
            </a:r>
            <a:r>
              <a:rPr b="0" i="1" lang="pl-PL" sz="2000" spc="-1" strike="noStrike">
                <a:solidFill>
                  <a:srgbClr val="000000"/>
                </a:solidFill>
                <a:latin typeface="Arial Rounded MT Bold"/>
              </a:rPr>
              <a:t>Odnosi się do tworów umysłu, takich jak wynalazki; dzieła literackie i artystyczne; projekty; oraz symbole, nazwy i obrazy używane w handlu</a:t>
            </a:r>
            <a:r>
              <a:rPr b="0" i="1" lang="en-GB"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Taka definicja - celowo tak niejasna i ogólna - obejmuje wszystkie możliwe sposoby, w jakie ludzki mózg może wymyślić nowy i innowacyjny wyraz swojej kreatywności i inteligencji</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189000"/>
            <a:ext cx="6356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Cele i zadania</a:t>
            </a:r>
            <a:endParaRPr b="0" lang="en-US" sz="3800" spc="-1" strike="noStrike">
              <a:solidFill>
                <a:srgbClr val="000000"/>
              </a:solidFill>
              <a:latin typeface="Arial"/>
            </a:endParaRPr>
          </a:p>
        </p:txBody>
      </p:sp>
      <p:sp>
        <p:nvSpPr>
          <p:cNvPr id="539" name="PlaceHolder 2"/>
          <p:cNvSpPr>
            <a:spLocks noGrp="1"/>
          </p:cNvSpPr>
          <p:nvPr>
            <p:ph/>
          </p:nvPr>
        </p:nvSpPr>
        <p:spPr>
          <a:xfrm>
            <a:off x="457200" y="1268280"/>
            <a:ext cx="8229600" cy="4525920"/>
          </a:xfrm>
          <a:prstGeom prst="rect">
            <a:avLst/>
          </a:prstGeom>
          <a:noFill/>
          <a:ln w="0">
            <a:noFill/>
          </a:ln>
        </p:spPr>
        <p:txBody>
          <a:bodyPr anchor="t">
            <a:normAutofit fontScale="99000"/>
          </a:bodyPr>
          <a:p>
            <a:pPr marL="799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Rounded MT Bold"/>
              </a:rPr>
              <a:t>Na końcu tego modułu będziesz </a:t>
            </a:r>
            <a:r>
              <a:rPr b="0" lang="it-IT" sz="2800" spc="-1" strike="noStrike">
                <a:solidFill>
                  <a:srgbClr val="000000"/>
                </a:solidFill>
                <a:latin typeface="Arial Rounded MT Bold"/>
              </a:rPr>
              <a:t>w stanie</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Zrozum</a:t>
            </a:r>
            <a:r>
              <a:rPr b="0" lang="it-IT" sz="2600" spc="-1" strike="noStrike">
                <a:solidFill>
                  <a:srgbClr val="000000"/>
                </a:solidFill>
                <a:latin typeface="Arial Rounded MT Bold"/>
              </a:rPr>
              <a:t>ieć</a:t>
            </a:r>
            <a:r>
              <a:rPr b="0" lang="pl-PL" sz="2600" spc="-1" strike="noStrike">
                <a:solidFill>
                  <a:srgbClr val="000000"/>
                </a:solidFill>
                <a:latin typeface="Arial Rounded MT Bold"/>
              </a:rPr>
              <a:t> podstawowe zasady odróżniające dane osobowe od danych wrażliwych</a:t>
            </a:r>
            <a:r>
              <a:rPr b="0" lang="hu-HU" sz="2600" spc="-1" strike="noStrike">
                <a:solidFill>
                  <a:srgbClr val="000000"/>
                </a:solidFill>
                <a:latin typeface="Arial Rounded MT Bold"/>
              </a:rPr>
              <a:t>.</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Przyj</a:t>
            </a:r>
            <a:r>
              <a:rPr b="0" lang="it-IT" sz="2600" spc="-1" strike="noStrike">
                <a:solidFill>
                  <a:srgbClr val="000000"/>
                </a:solidFill>
                <a:latin typeface="Arial Rounded MT Bold"/>
              </a:rPr>
              <a:t>rzeć</a:t>
            </a:r>
            <a:r>
              <a:rPr b="0" lang="pl-PL" sz="2600" spc="-1" strike="noStrike">
                <a:solidFill>
                  <a:srgbClr val="000000"/>
                </a:solidFill>
                <a:latin typeface="Arial Rounded MT Bold"/>
              </a:rPr>
              <a:t> się bliżej nowej europejskiej polityce prywatności i przetwarzania danych</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600" spc="-1" strike="noStrike">
                <a:solidFill>
                  <a:srgbClr val="000000"/>
                </a:solidFill>
                <a:latin typeface="Arial Rounded MT Bold"/>
              </a:rPr>
              <a:t>Zrozum</a:t>
            </a:r>
            <a:r>
              <a:rPr b="0" lang="it-IT" sz="2600" spc="-1" strike="noStrike">
                <a:solidFill>
                  <a:srgbClr val="000000"/>
                </a:solidFill>
                <a:latin typeface="Arial Rounded MT Bold"/>
              </a:rPr>
              <a:t>ieć</a:t>
            </a:r>
            <a:r>
              <a:rPr b="0" lang="pl-PL" sz="2600" spc="-1" strike="noStrike">
                <a:solidFill>
                  <a:srgbClr val="000000"/>
                </a:solidFill>
                <a:latin typeface="Arial Rounded MT Bold"/>
              </a:rPr>
              <a:t>, na czym polega własność intelektualna i jakie są główne formy ochrony</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590920" y="19836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Prawa własności intelektualnej i prawa autorskie</a:t>
            </a:r>
            <a:endParaRPr b="0" lang="en-US" sz="3200" spc="-1" strike="noStrike">
              <a:solidFill>
                <a:srgbClr val="000000"/>
              </a:solidFill>
              <a:latin typeface="Arial"/>
            </a:endParaRPr>
          </a:p>
        </p:txBody>
      </p:sp>
      <p:sp>
        <p:nvSpPr>
          <p:cNvPr id="594"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dzaje własności intelektualnej: </a:t>
            </a:r>
            <a:endParaRPr b="0" lang="en-US" sz="2400" spc="-1" strike="noStrike">
              <a:solidFill>
                <a:srgbClr val="000000"/>
              </a:solidFill>
              <a:latin typeface="Arial"/>
            </a:endParaRPr>
          </a:p>
        </p:txBody>
      </p:sp>
      <p:sp>
        <p:nvSpPr>
          <p:cNvPr id="595" name="CasellaDiTesto 2"/>
          <p:cNvSpPr/>
          <p:nvPr/>
        </p:nvSpPr>
        <p:spPr>
          <a:xfrm>
            <a:off x="179280" y="2173320"/>
            <a:ext cx="8785440" cy="3751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 wymienionego powodu każdy rodzaj „produktu umysłu” jest przeznaczony do określonego rodzaju ochrony</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ZNAKI TOWAROWE</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Rounded MT Bold"/>
              </a:rPr>
              <a:t>„</a:t>
            </a:r>
            <a:r>
              <a:rPr b="0" i="1" lang="pl-PL" sz="2000" spc="-1" strike="noStrike">
                <a:solidFill>
                  <a:srgbClr val="000000"/>
                </a:solidFill>
                <a:latin typeface="Arial Rounded MT Bold"/>
              </a:rPr>
              <a:t>Znak towarowy jest znakiem umożliwiającym odróżnienie towarów lub usług jednego przedsiębiorstwa od towarów lub usług innych przedsiębiorstw” (WIPO).</a:t>
            </a:r>
            <a:endParaRPr b="0" lang="en-US" sz="2000" spc="-1" strike="noStrike">
              <a:solidFill>
                <a:srgbClr val="000000"/>
              </a:solidFill>
              <a:latin typeface="Arial"/>
            </a:endParaRPr>
          </a:p>
        </p:txBody>
      </p:sp>
      <p:pic>
        <p:nvPicPr>
          <p:cNvPr id="596" name="Picture 2" descr="https://upload.wikimedia.org/wikipedia/commons/thumb/2/2b/RegisteredTM.svg/800px-RegisteredTM.svg.png"/>
          <p:cNvPicPr/>
          <p:nvPr/>
        </p:nvPicPr>
        <p:blipFill>
          <a:blip r:embed="rId1"/>
          <a:stretch/>
        </p:blipFill>
        <p:spPr>
          <a:xfrm>
            <a:off x="3063960" y="3500280"/>
            <a:ext cx="355680" cy="3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58408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Prawa własności intelektualnej i prawa autorskie</a:t>
            </a:r>
            <a:endParaRPr b="0" lang="en-US" sz="3200" spc="-1" strike="noStrike">
              <a:solidFill>
                <a:srgbClr val="000000"/>
              </a:solidFill>
              <a:latin typeface="Arial"/>
            </a:endParaRPr>
          </a:p>
        </p:txBody>
      </p:sp>
      <p:sp>
        <p:nvSpPr>
          <p:cNvPr id="598" name=""/>
          <p:cNvSpPr txBox="1"/>
          <p:nvPr/>
        </p:nvSpPr>
        <p:spPr>
          <a:xfrm>
            <a:off x="-181440" y="1773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dzaje własności intelektualnej: </a:t>
            </a:r>
            <a:endParaRPr b="0" lang="en-US" sz="2400" spc="-1" strike="noStrike">
              <a:solidFill>
                <a:srgbClr val="000000"/>
              </a:solidFill>
              <a:latin typeface="Arial"/>
            </a:endParaRPr>
          </a:p>
        </p:txBody>
      </p:sp>
      <p:sp>
        <p:nvSpPr>
          <p:cNvPr id="599" name="CasellaDiTesto 1"/>
          <p:cNvSpPr/>
          <p:nvPr/>
        </p:nvSpPr>
        <p:spPr>
          <a:xfrm>
            <a:off x="216000" y="2647800"/>
            <a:ext cx="8712000" cy="3599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PATENT</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Rounded MT Bold"/>
              </a:rPr>
              <a:t>„</a:t>
            </a:r>
            <a:r>
              <a:rPr b="0" i="1" lang="pl-PL" sz="2000" spc="-1" strike="noStrike">
                <a:solidFill>
                  <a:srgbClr val="000000"/>
                </a:solidFill>
                <a:latin typeface="Arial Rounded MT Bold"/>
              </a:rPr>
              <a:t>Patent jest wyłącznym prawem przyznanym na wynalazek, który jest produktem lub procesem, który ogólnie zapewnia nowy sposób robienia czegoś lub oferuje nowe techniczne rozwiązanie problemu. Aby uzyskać patent, informacje techniczne na temat wynalazku muszą zostać podane do wiadomości publicznej we wniosku patentowym ”(WIPO).</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700360" y="35712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Prawa własności intelektualnej i prawa autorskie</a:t>
            </a:r>
            <a:endParaRPr b="0" lang="en-US" sz="3200" spc="-1" strike="noStrike">
              <a:solidFill>
                <a:srgbClr val="000000"/>
              </a:solidFill>
              <a:latin typeface="Arial"/>
            </a:endParaRPr>
          </a:p>
        </p:txBody>
      </p:sp>
      <p:sp>
        <p:nvSpPr>
          <p:cNvPr id="601" name=""/>
          <p:cNvSpPr txBox="1"/>
          <p:nvPr/>
        </p:nvSpPr>
        <p:spPr>
          <a:xfrm>
            <a:off x="-324360" y="168084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dzaje własności intelektualnej: </a:t>
            </a:r>
            <a:endParaRPr b="0" lang="en-US" sz="2400" spc="-1" strike="noStrike">
              <a:solidFill>
                <a:srgbClr val="000000"/>
              </a:solidFill>
              <a:latin typeface="Arial"/>
            </a:endParaRPr>
          </a:p>
        </p:txBody>
      </p:sp>
      <p:sp>
        <p:nvSpPr>
          <p:cNvPr id="602" name="CasellaDiTesto 1"/>
          <p:cNvSpPr/>
          <p:nvPr/>
        </p:nvSpPr>
        <p:spPr>
          <a:xfrm>
            <a:off x="216000" y="2647800"/>
            <a:ext cx="8712000" cy="3751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WZORNICTWO PRZEMYSŁOWE</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Rounded MT Bold"/>
              </a:rPr>
              <a:t>„</a:t>
            </a:r>
            <a:r>
              <a:rPr b="0" i="1" lang="pl-PL" sz="2000" spc="-1" strike="noStrike">
                <a:solidFill>
                  <a:srgbClr val="000000"/>
                </a:solidFill>
                <a:latin typeface="Arial Rounded MT Bold"/>
              </a:rPr>
              <a:t>Wzory przemysłowe to kompozycje linii lub kolorów lub dowolnych trójwymiarowych form, które nadają produktowi lub rękodziełu szczególny wygląd. Chronią ozdobny lub estetyczny aspekt przydatnego wyrobu, który zwykle przemawia do zmysłu wzroku lub dotyku i może być powielany w znacznych ilościach ”(WIPO).</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763360" y="260280"/>
            <a:ext cx="63565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Prawa własności intelektualnej i prawa autorskie</a:t>
            </a:r>
            <a:endParaRPr b="0" lang="en-US" sz="3200" spc="-1" strike="noStrike">
              <a:solidFill>
                <a:srgbClr val="000000"/>
              </a:solidFill>
              <a:latin typeface="Arial"/>
            </a:endParaRPr>
          </a:p>
        </p:txBody>
      </p:sp>
      <p:sp>
        <p:nvSpPr>
          <p:cNvPr id="604"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dzaje własności intelektualnej: </a:t>
            </a:r>
            <a:endParaRPr b="0" lang="en-US" sz="2400" spc="-1" strike="noStrike">
              <a:solidFill>
                <a:srgbClr val="000000"/>
              </a:solidFill>
              <a:latin typeface="Arial"/>
            </a:endParaRPr>
          </a:p>
        </p:txBody>
      </p:sp>
      <p:sp>
        <p:nvSpPr>
          <p:cNvPr id="605" name="CasellaDiTesto 1"/>
          <p:cNvSpPr/>
          <p:nvPr/>
        </p:nvSpPr>
        <p:spPr>
          <a:xfrm>
            <a:off x="216000" y="1954080"/>
            <a:ext cx="8712000" cy="3797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Rounded MT Bold"/>
              </a:rPr>
              <a:t>PRAWA AUTORSKIE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Rounded MT Bold"/>
              </a:rPr>
              <a:t>„</a:t>
            </a:r>
            <a:r>
              <a:rPr b="0" i="1" lang="pl-PL" sz="1800" spc="-1" strike="noStrike">
                <a:solidFill>
                  <a:srgbClr val="000000"/>
                </a:solidFill>
                <a:latin typeface="Arial Rounded MT Bold"/>
              </a:rPr>
              <a:t>Prawo autorskie (lub prawo autora) to termin prawny używany do opisania praw twórców do ich dzieł literackich i artystycznych. Dzieła objęte prawem autorskim obejmują książki, muzykę, obrazy, rzeźbę i filmy, programy komputerowe, bazy danych, reklamy, mapy i rysunki techniczne ”(WIPO).</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800" spc="-1" strike="noStrike">
                <a:solidFill>
                  <a:srgbClr val="000000"/>
                </a:solidFill>
                <a:latin typeface="Arial Rounded MT Bold"/>
              </a:rPr>
              <a:t>Prawo autorskie obejmuje szeroki zakres potrzeb, których nie można znaleźć w żadnej innej części przepisów dotyczących praw własności intelektualnej. Jedynym polem, w którym Copyright nie ma miejsca, są abstrakcyjne domeny pomysłów, procedur i metod.</a:t>
            </a:r>
            <a:endParaRPr b="0" lang="en-US" sz="1800" spc="-1" strike="noStrike">
              <a:solidFill>
                <a:srgbClr val="000000"/>
              </a:solidFill>
              <a:latin typeface="Arial"/>
            </a:endParaRPr>
          </a:p>
        </p:txBody>
      </p:sp>
      <p:pic>
        <p:nvPicPr>
          <p:cNvPr id="606" name="Picture 4" descr="Risultati immagini per COPYRIGHT"/>
          <p:cNvPicPr/>
          <p:nvPr/>
        </p:nvPicPr>
        <p:blipFill>
          <a:blip r:embed="rId1"/>
          <a:stretch/>
        </p:blipFill>
        <p:spPr>
          <a:xfrm>
            <a:off x="3073320" y="1928880"/>
            <a:ext cx="490680" cy="48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62692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Prawa własności intelektualnej i prawa autorskie</a:t>
            </a:r>
            <a:endParaRPr b="0" lang="en-US" sz="3200" spc="-1" strike="noStrike">
              <a:solidFill>
                <a:srgbClr val="000000"/>
              </a:solidFill>
              <a:latin typeface="Arial"/>
            </a:endParaRPr>
          </a:p>
        </p:txBody>
      </p:sp>
      <p:sp>
        <p:nvSpPr>
          <p:cNvPr id="608" name=""/>
          <p:cNvSpPr txBox="1"/>
          <p:nvPr/>
        </p:nvSpPr>
        <p:spPr>
          <a:xfrm>
            <a:off x="-324360" y="1557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Rodzaje własności intelektualnej: </a:t>
            </a:r>
            <a:endParaRPr b="0" lang="en-US" sz="2400" spc="-1" strike="noStrike">
              <a:solidFill>
                <a:srgbClr val="000000"/>
              </a:solidFill>
              <a:latin typeface="Arial"/>
            </a:endParaRPr>
          </a:p>
        </p:txBody>
      </p:sp>
      <p:sp>
        <p:nvSpPr>
          <p:cNvPr id="609" name="CasellaDiTesto 1"/>
          <p:cNvSpPr/>
          <p:nvPr/>
        </p:nvSpPr>
        <p:spPr>
          <a:xfrm>
            <a:off x="216000" y="2136600"/>
            <a:ext cx="8712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rzeczywistości prawo autorskie jest ściśle odnoszone do pomysłów audio i wizula</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dzieła literackie (takie jak powieści, wiersze, sztuki teatralne, odniesienia, artykuły w gazetach)</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rogramy komputerowe, bazy danych algorytmów</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filmy, kompozycje muzyczne i choreografia</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dzieła artystyczne, takie jak obrazy, rysunki, fotografie</a:t>
            </a:r>
            <a:r>
              <a:rPr b="0" lang="hu-HU" sz="2000" spc="-1" strike="noStrike">
                <a:solidFill>
                  <a:srgbClr val="000000"/>
                </a:solidFill>
                <a:latin typeface="Arial Rounded MT Bold"/>
              </a:rPr>
              <a:t>.</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rzeźba i architektura</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reklamy, mapy i rysunki technicz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195640" y="260280"/>
            <a:ext cx="6851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000000"/>
                </a:solidFill>
                <a:latin typeface="Arial Rounded MT Bold"/>
              </a:rPr>
              <a:t>Dane osobowe a dane wrażliwe</a:t>
            </a:r>
            <a:r>
              <a:rPr b="0" lang="it-IT" sz="3800" spc="-1" strike="noStrike">
                <a:solidFill>
                  <a:srgbClr val="000000"/>
                </a:solidFill>
                <a:latin typeface="Arial Rounded MT Bold"/>
              </a:rPr>
              <a:t>.</a:t>
            </a:r>
            <a:r>
              <a:rPr b="0" lang="pl-PL" sz="3800" spc="-1" strike="noStrike">
                <a:solidFill>
                  <a:srgbClr val="000000"/>
                </a:solidFill>
                <a:latin typeface="Arial Rounded MT Bold"/>
              </a:rPr>
              <a:t> Jak je chronić</a:t>
            </a:r>
            <a:r>
              <a:rPr b="0" lang="hu-HU"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41" name="CasellaDiTesto 6"/>
          <p:cNvSpPr/>
          <p:nvPr/>
        </p:nvSpPr>
        <p:spPr>
          <a:xfrm>
            <a:off x="179280" y="1268280"/>
            <a:ext cx="8507520" cy="5119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200" spc="-1" strike="noStrike">
                <a:solidFill>
                  <a:srgbClr val="000000"/>
                </a:solidFill>
                <a:latin typeface="Arial Rounded MT Bold"/>
              </a:rPr>
              <a:t>Dane osobowe </a:t>
            </a:r>
            <a:r>
              <a:rPr b="0" lang="pl-PL" sz="2200" spc="-1" strike="noStrike">
                <a:solidFill>
                  <a:srgbClr val="000000"/>
                </a:solidFill>
                <a:latin typeface="Arial Rounded MT Bold"/>
              </a:rPr>
              <a:t>to informacje, które śledzą cechy i cechy związane ze zidentyfikowaną lub możliwą do zidentyfikowania osobą fizyczną - nawet pośrednio, poprzez odniesienie do dowolnego innego wskazania. Typowe identyfikatory to</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Nazwisko</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Lokalizacje</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Dane</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Liczby </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Identyfikatory online (adresIP, lokalizacja GPS, it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38200" y="256680"/>
            <a:ext cx="677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000000"/>
                </a:solidFill>
                <a:latin typeface="Arial Rounded MT Bold"/>
              </a:rPr>
              <a:t>Dane osobowe a dane wrażliwe</a:t>
            </a:r>
            <a:r>
              <a:rPr b="0" lang="it-IT" sz="3800" spc="-1" strike="noStrike">
                <a:solidFill>
                  <a:srgbClr val="000000"/>
                </a:solidFill>
                <a:latin typeface="Arial Rounded MT Bold"/>
              </a:rPr>
              <a:t>.</a:t>
            </a:r>
            <a:r>
              <a:rPr b="0" lang="pl-PL" sz="3800" spc="-1" strike="noStrike">
                <a:solidFill>
                  <a:srgbClr val="000000"/>
                </a:solidFill>
                <a:latin typeface="Arial Rounded MT Bold"/>
              </a:rPr>
              <a:t> Jak je chronić</a:t>
            </a:r>
            <a:r>
              <a:rPr b="0" lang="hu-HU"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43" name=""/>
          <p:cNvSpPr txBox="1"/>
          <p:nvPr/>
        </p:nvSpPr>
        <p:spPr>
          <a:xfrm>
            <a:off x="-252720" y="1268280"/>
            <a:ext cx="7931160" cy="7495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ne osobow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CasellaDiTesto 6"/>
          <p:cNvSpPr/>
          <p:nvPr/>
        </p:nvSpPr>
        <p:spPr>
          <a:xfrm>
            <a:off x="179280" y="1700280"/>
            <a:ext cx="8507520" cy="283716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Rounded MT Bold"/>
              </a:rPr>
              <a:t>Dane osobowe mogą być również przewidziane jako czynniki genetyczne, psychiczne, ekonomiczne, kulturowe i / lub społeczne, takie jak: adres zamieszkania, numer karty kredytowej, pełne imię i nazwisko, dane logowania do e-maila</a:t>
            </a:r>
            <a:endParaRPr b="0" lang="en-US" sz="2400" spc="-1" strike="noStrike">
              <a:solidFill>
                <a:srgbClr val="000000"/>
              </a:solidFill>
              <a:latin typeface="Arial"/>
            </a:endParaRPr>
          </a:p>
        </p:txBody>
      </p:sp>
      <p:pic>
        <p:nvPicPr>
          <p:cNvPr id="545" name="Picture 1" descr=""/>
          <p:cNvPicPr/>
          <p:nvPr/>
        </p:nvPicPr>
        <p:blipFill>
          <a:blip r:embed="rId1"/>
          <a:stretch/>
        </p:blipFill>
        <p:spPr>
          <a:xfrm>
            <a:off x="4140360" y="4437000"/>
            <a:ext cx="4225680" cy="172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236680" y="264600"/>
            <a:ext cx="6850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000000"/>
                </a:solidFill>
                <a:latin typeface="Arial Rounded MT Bold"/>
              </a:rPr>
              <a:t>Dane osobowe a dane wrażliwe</a:t>
            </a:r>
            <a:r>
              <a:rPr b="0" lang="it-IT" sz="3800" spc="-1" strike="noStrike">
                <a:solidFill>
                  <a:srgbClr val="000000"/>
                </a:solidFill>
                <a:latin typeface="Arial Rounded MT Bold"/>
              </a:rPr>
              <a:t>.</a:t>
            </a:r>
            <a:r>
              <a:rPr b="0" lang="pl-PL" sz="3800" spc="-1" strike="noStrike">
                <a:solidFill>
                  <a:srgbClr val="000000"/>
                </a:solidFill>
                <a:latin typeface="Arial Rounded MT Bold"/>
              </a:rPr>
              <a:t> Jak je chronić</a:t>
            </a:r>
            <a:r>
              <a:rPr b="0" lang="hu-HU"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47" name=""/>
          <p:cNvSpPr txBox="1"/>
          <p:nvPr/>
        </p:nvSpPr>
        <p:spPr>
          <a:xfrm>
            <a:off x="34560" y="1267920"/>
            <a:ext cx="2808360" cy="420840"/>
          </a:xfrm>
          <a:prstGeom prst="rect">
            <a:avLst/>
          </a:prstGeom>
          <a:noFill/>
          <a:ln w="0">
            <a:noFill/>
          </a:ln>
        </p:spPr>
        <p:txBody>
          <a:bodyPr anchor="t">
            <a:normAutofit fontScale="90000"/>
          </a:bodyPr>
          <a:p>
            <a:pPr lvl="1" marL="411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ne wrażliwe</a:t>
            </a:r>
            <a:endParaRPr b="0" lang="en-US" sz="2400" spc="-1" strike="noStrike">
              <a:solidFill>
                <a:srgbClr val="000000"/>
              </a:solidFill>
              <a:latin typeface="Arial"/>
            </a:endParaRPr>
          </a:p>
          <a:p>
            <a:pPr lvl="1" marL="411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11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CasellaDiTesto 6"/>
          <p:cNvSpPr/>
          <p:nvPr/>
        </p:nvSpPr>
        <p:spPr>
          <a:xfrm>
            <a:off x="179280" y="1913040"/>
            <a:ext cx="8856720" cy="2837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Z drugiej strony, dane wrażliwe to dane osobowe, które posiadają silniejszą ochronę prawną i muszą być przetwarzane z zachowaniem dodatkowych środków ostrożności, po szczególnym zatwierdzeniu podmiotu, którego dane te dotyczą</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W każdym innym przypadku dane wrażliwe pozostają niedostępne (z wyjątkiem organów publicznych w szczególnych przypadkach).</a:t>
            </a:r>
            <a:endParaRPr b="0" lang="en-US" sz="2000" spc="-1" strike="noStrike">
              <a:solidFill>
                <a:srgbClr val="000000"/>
              </a:solidFill>
              <a:latin typeface="Arial"/>
            </a:endParaRPr>
          </a:p>
        </p:txBody>
      </p:sp>
      <p:pic>
        <p:nvPicPr>
          <p:cNvPr id="549" name="Picture 1" descr=""/>
          <p:cNvPicPr/>
          <p:nvPr/>
        </p:nvPicPr>
        <p:blipFill>
          <a:blip r:embed="rId1"/>
          <a:stretch/>
        </p:blipFill>
        <p:spPr>
          <a:xfrm>
            <a:off x="4788000" y="5102280"/>
            <a:ext cx="3122640" cy="110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050920" y="96480"/>
            <a:ext cx="721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800" spc="-1" strike="noStrike">
                <a:solidFill>
                  <a:srgbClr val="000000"/>
                </a:solidFill>
                <a:latin typeface="Arial Rounded MT Bold"/>
              </a:rPr>
              <a:t>Dane osobowe a dane wrażliwe</a:t>
            </a:r>
            <a:r>
              <a:rPr b="0" lang="it-IT" sz="3800" spc="-1" strike="noStrike">
                <a:solidFill>
                  <a:srgbClr val="000000"/>
                </a:solidFill>
                <a:latin typeface="Arial Rounded MT Bold"/>
              </a:rPr>
              <a:t>.</a:t>
            </a:r>
            <a:r>
              <a:rPr b="0" lang="pl-PL" sz="3800" spc="-1" strike="noStrike">
                <a:solidFill>
                  <a:srgbClr val="000000"/>
                </a:solidFill>
                <a:latin typeface="Arial Rounded MT Bold"/>
              </a:rPr>
              <a:t> Jak je chronić</a:t>
            </a:r>
            <a:r>
              <a:rPr b="0" lang="hu-HU"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51" name=""/>
          <p:cNvSpPr txBox="1"/>
          <p:nvPr/>
        </p:nvSpPr>
        <p:spPr>
          <a:xfrm>
            <a:off x="-360" y="1424160"/>
            <a:ext cx="2987640" cy="420480"/>
          </a:xfrm>
          <a:prstGeom prst="rect">
            <a:avLst/>
          </a:prstGeom>
          <a:noFill/>
          <a:ln w="0">
            <a:noFill/>
          </a:ln>
        </p:spPr>
        <p:txBody>
          <a:bodyPr anchor="t">
            <a:normAutofit fontScale="90000"/>
          </a:bodyPr>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ne wrażliwe</a:t>
            </a:r>
            <a:endParaRPr b="0" lang="en-US" sz="2400" spc="-1" strike="noStrike">
              <a:solidFill>
                <a:srgbClr val="000000"/>
              </a:solidFill>
              <a:latin typeface="Arial"/>
            </a:endParaRPr>
          </a:p>
        </p:txBody>
      </p:sp>
      <p:sp>
        <p:nvSpPr>
          <p:cNvPr id="552" name="CasellaDiTesto 6"/>
          <p:cNvSpPr/>
          <p:nvPr/>
        </p:nvSpPr>
        <p:spPr>
          <a:xfrm>
            <a:off x="179280" y="1773360"/>
            <a:ext cx="8507520" cy="3109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Należy uważać za „wrażliwe” wszystkie te informacje, które należą do następujących kategorii: pochodzenie rasowe lub etniczne, poglądy polityczne, przekonania religijne lub filozoficzne; </a:t>
            </a:r>
            <a:r>
              <a:rPr b="0" lang="it-IT" sz="2200" spc="-1" strike="noStrike">
                <a:solidFill>
                  <a:srgbClr val="000000"/>
                </a:solidFill>
                <a:latin typeface="Arial Rounded MT Bold"/>
              </a:rPr>
              <a:t>c</a:t>
            </a:r>
            <a:r>
              <a:rPr b="0" lang="pl-PL" sz="2200" spc="-1" strike="noStrike">
                <a:solidFill>
                  <a:srgbClr val="000000"/>
                </a:solidFill>
                <a:latin typeface="Arial Rounded MT Bold"/>
              </a:rPr>
              <a:t>złonkostwo w związkach zawodowych; </a:t>
            </a:r>
            <a:r>
              <a:rPr b="0" lang="it-IT" sz="2200" spc="-1" strike="noStrike">
                <a:solidFill>
                  <a:srgbClr val="000000"/>
                </a:solidFill>
                <a:latin typeface="Arial Rounded MT Bold"/>
              </a:rPr>
              <a:t>d</a:t>
            </a:r>
            <a:r>
              <a:rPr b="0" lang="pl-PL" sz="2200" spc="-1" strike="noStrike">
                <a:solidFill>
                  <a:srgbClr val="000000"/>
                </a:solidFill>
                <a:latin typeface="Arial Rounded MT Bold"/>
              </a:rPr>
              <a:t>ane dotyczące zdrowia; życie seksualne lub orientacja seksualna osoby itp.</a:t>
            </a:r>
            <a:endParaRPr b="0" lang="en-US" sz="2200" spc="-1" strike="noStrike">
              <a:solidFill>
                <a:srgbClr val="000000"/>
              </a:solidFill>
              <a:latin typeface="Arial"/>
            </a:endParaRPr>
          </a:p>
        </p:txBody>
      </p:sp>
      <p:sp>
        <p:nvSpPr>
          <p:cNvPr id="553" name="CasellaDiTesto 1"/>
          <p:cNvSpPr/>
          <p:nvPr/>
        </p:nvSpPr>
        <p:spPr>
          <a:xfrm>
            <a:off x="684360" y="4811760"/>
            <a:ext cx="7210440" cy="15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Podsumowując, oto krótki klip wideo ilustrujący wartości naszych danych i informacji dla potrzeb związanych z biznesem</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GB" sz="1800" spc="-1" strike="noStrike" u="sng">
                <a:solidFill>
                  <a:srgbClr val="009999"/>
                </a:solidFill>
                <a:uFillTx/>
                <a:latin typeface="Arial"/>
                <a:hlinkClick r:id="rId1"/>
              </a:rPr>
              <a:t>https://www.youtube.com/watch?v=JIo-V0beaB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Dane osobowe a dane wrażliwe Jak je chronić</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
        <p:nvSpPr>
          <p:cNvPr id="555" name=""/>
          <p:cNvSpPr txBox="1"/>
          <p:nvPr/>
        </p:nvSpPr>
        <p:spPr>
          <a:xfrm>
            <a:off x="-360" y="1430280"/>
            <a:ext cx="7931160" cy="6177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Jak chronić swoje dan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CasellaDiTesto 6"/>
          <p:cNvSpPr/>
          <p:nvPr/>
        </p:nvSpPr>
        <p:spPr>
          <a:xfrm>
            <a:off x="179280" y="2060640"/>
            <a:ext cx="878544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Dyskretność i powściągliwość w odniesieniu do stron internetowych, mediów i danych osobowych to pierwsza zasada</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Mając pełną świadomość tego, kto otrzymuje nasze informacje, jakiego rodzaju informacje udzielamy i, co najważniejsze, dlaczego są proszeni, jest strategią zawsze zwycięską</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Rounded MT Bold"/>
              </a:rPr>
              <a:t>Jednak uzyskanie tego rodzaju wiedzy jest trudne, głównie dlatego, że nigdy nie jesteśmy w pełni świadomi odbiorców naszych danych</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583000" y="244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Dane osobowe a dane wrażliwe Jak je chronić</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
        <p:nvSpPr>
          <p:cNvPr id="558" name=""/>
          <p:cNvSpPr txBox="1"/>
          <p:nvPr/>
        </p:nvSpPr>
        <p:spPr>
          <a:xfrm>
            <a:off x="-108360" y="1643040"/>
            <a:ext cx="7931160" cy="5126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Jak chronić swoje dan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CasellaDiTesto 1"/>
          <p:cNvSpPr/>
          <p:nvPr/>
        </p:nvSpPr>
        <p:spPr>
          <a:xfrm>
            <a:off x="0" y="2155680"/>
            <a:ext cx="8964720" cy="4221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Właśnie dlatego podejmowanie tych niewiarygodnie łatwych i bardzo skutecznych działań jest zawsze rozsądnym wyborem</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Media społecznościowe: sprawdź ustawienia prywatności swoich kont</a:t>
            </a:r>
            <a:r>
              <a:rPr b="0" lang="hu-HU" sz="2200" spc="-1" strike="noStrike">
                <a:solidFill>
                  <a:srgbClr val="000000"/>
                </a:solidFill>
                <a:latin typeface="Arial Rounded MT Bold"/>
              </a:rPr>
              <a:t>.</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Hasło: upewnij się, że masz silne i trudne do wykrycia hasła</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Rounded MT Bold"/>
              </a:rPr>
              <a:t>Smartfon: zablokuj aplikacje, ukryj zdjęcia i wyłącz powiadomienia na ekranie</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592000" y="21888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Rounded MT Bold"/>
              </a:rPr>
              <a:t>Dane osobowe a dane wrażliwe Jak je chronić</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
        <p:nvSpPr>
          <p:cNvPr id="561" name=""/>
          <p:cNvSpPr txBox="1"/>
          <p:nvPr/>
        </p:nvSpPr>
        <p:spPr>
          <a:xfrm>
            <a:off x="324000" y="1424160"/>
            <a:ext cx="7354800" cy="420480"/>
          </a:xfrm>
          <a:prstGeom prst="rect">
            <a:avLst/>
          </a:prstGeom>
          <a:noFill/>
          <a:ln w="0">
            <a:noFill/>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Jak chronić swoje dane?</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CasellaDiTesto 6"/>
          <p:cNvSpPr/>
          <p:nvPr/>
        </p:nvSpPr>
        <p:spPr>
          <a:xfrm>
            <a:off x="179280" y="1982880"/>
            <a:ext cx="8785440" cy="4380480"/>
          </a:xfrm>
          <a:prstGeom prst="rect">
            <a:avLst/>
          </a:prstGeom>
          <a:noFill/>
          <a:ln w="0">
            <a:noFill/>
          </a:ln>
        </p:spPr>
        <p:style>
          <a:lnRef idx="0"/>
          <a:fillRef idx="0"/>
          <a:effectRef idx="0"/>
          <a:fontRef idx="minor"/>
        </p:style>
        <p:txBody>
          <a:bodyPr lIns="90000" rIns="90000" tIns="46800" bIns="46800" anchor="t">
            <a:spAutoFit/>
          </a:bodyPr>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Tajne przeglądanie, a jeszcze lepiej rozważ przyjęcie dostawcy VPN (wirtualnej sieci prywatnej)</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Jeśli to możliwe, staraj się unikać publicznego Wi-Fi i nigdy nie wstawiaj danych osobowych do żadnej witryny po podłączeniu do publicznego Wi-Fi</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Wybierz bardzo ostrożnie dokument przeznaczony do magazynów publicznych / internetowych / w chmurze</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Rounded MT Bold"/>
              </a:rPr>
              <a:t>Dodatkowo, dzięki niewielkiemu przeglądaniu, można znaleźć przydatne porady</a:t>
            </a:r>
            <a:r>
              <a:rPr b="0" lang="en-GB" sz="1800" spc="-1" strike="noStrike">
                <a:solidFill>
                  <a:srgbClr val="000000"/>
                </a:solidFill>
                <a:latin typeface="Arial Rounded MT Bold"/>
              </a:rPr>
              <a:t>: kliknij tutaj</a:t>
            </a:r>
            <a:endParaRPr b="0" lang="en-US" sz="1800" spc="-1" strike="noStrike">
              <a:solidFill>
                <a:srgbClr val="000000"/>
              </a:solidFill>
              <a:latin typeface="Arial"/>
            </a:endParaRPr>
          </a:p>
          <a:p>
            <a:pPr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Katarzyna Turzanska</cp:lastModifiedBy>
  <dcterms:modified xsi:type="dcterms:W3CDTF">2020-02-04T08:30:01Z</dcterms:modified>
  <cp:revision>553</cp:revision>
  <dc:subject/>
  <dc:title>Title</dc:title>
</cp:coreProperties>
</file>