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082878-CC9A-40BD-8E8D-7D9558880C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E8484E7-9342-40BA-83A9-CF33D331391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49E8DD2-B0FC-4C68-9877-4137365118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C7DAE4-9E8A-4FC3-81E8-12B20BD39A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AAADB1-51B5-467E-B069-D585DF507D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5C9170-A92B-4BF5-8F96-1853A601551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B8BEC5-35B6-418D-8C45-72598AE0EFD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3C1094C-B54B-439C-A9EA-47C7A5059B5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19461FF-92C3-4007-9072-609DCC4453E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4C2B2E2-2100-463C-B740-F97EF3CCD24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4E0164-35A6-4E29-83D7-291BCBC8CEB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92F532B-7A68-4AFC-9DFC-FAE56F271AD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A6E3C7B-705B-4398-AADA-E0B844D03DF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94F47E8-4809-47DD-B59E-A950D2EF96B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D2BD2A-41F9-4853-A1D8-9EFD4BA3EBC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C14220-1381-4E73-B225-2C878C13917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12A098-EFB8-4505-A3F2-5F41951749C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FA0540-3F38-4D6D-B0CD-445FDCE828B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34CCC3-93F4-4E69-8E4D-210E0B09053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DAB75BC-8044-45D9-A944-8AC3BEC10E4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01A55D7-B07A-4F92-99C2-1732DEF27FA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95E3E49-B891-44AD-8E95-6884CA9071B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A2E1F67-48CF-48EF-AE2C-100BD6C87A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64A06DB-4162-4D0F-AE7A-F5EF0B393C5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136C69C-6022-4719-B880-B78E69D7AC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B812415-2C31-4546-A6D8-761AAA3C05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AF159E2-DFD9-49AF-A93F-514C36F4AC7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9175897-F070-49EF-8D52-793CFE98D9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69E977-2EAD-42AF-AA1A-33E21F2174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965255-4BA7-49E1-96B7-878978182C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0481232-4526-4FBE-B1C0-9D17882EB1A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092CA31-AC30-4F0A-B090-E5619EA8EEF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3A1D0E5-3681-4B1B-B8D5-B9D98C08FAF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56084E9-FF17-4EAB-BD63-C18B44BEA0C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EF3B02-2B5E-4779-8ED1-CEB7E5B92D1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D1EE1B4-043A-4CCC-832C-2C2A231876F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1CBA550-2791-4797-AC24-94AD945D31D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572556B-0868-4C51-AFDE-D110DB26BEF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3A926D-4FB1-4690-A233-0AAFFFE63B3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638A763-849E-43E1-8160-CF6192B788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DD05D0-6ECD-416F-829A-ECA8B536531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261A21-0F20-4999-A26C-7557B79ADC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A6957B-B1A3-4A62-8004-AAABC8121A9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647C291-2C7C-4592-94F2-7D480231611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785D38B-D224-4198-8A93-16CAB0D0B99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6756FD-A9D1-48C7-867A-940CF6C7B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C10FB-A714-4C39-A141-663B54D10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3CAF04-6CB6-4D5A-8155-5A22219B2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ACF07E-E22A-4647-8137-89E8EB8E8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0A812-8014-42B5-A34D-01F809ECA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52558-6C37-424C-803B-D158DF46C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B6CE7-F386-4BD6-B171-CEC7494D0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14F27-E39E-418B-A0BD-46AA429B2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8D3D1-405C-4F3F-9898-CDF673DCD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6AB7F-F77C-46E3-9DC9-26CD36CF2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44931-2E1F-4159-8B2F-147B3B9214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46B573-11D8-4887-8036-202A210F65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DE3601-9F1B-412D-8584-B57F8BB6E1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179A05-DF88-4399-A315-8DD0D1D842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2BB48C-E6EC-46D4-AE5B-F8F73BD05D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042536-BFC0-4195-96AE-BDF0D23598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585A88-016F-4B7D-B271-716236415D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79F3F1-E499-4A53-891B-A3ED12E555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65B528-352E-4CE4-96FD-37D288046C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C443E0-4F4C-4C57-BB21-74C1374DC7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6B46F0-C479-492A-8478-AC1C5BAAD9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914860-AA5B-4CD0-85F3-AB18228D85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1AAC1EB-02D9-430D-A723-BC19BC6C38C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15BDD5C-2C5F-4471-8287-732F79F6269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A74D5D-B483-46F4-862D-D9C7BB98F3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8BD443-8D13-4D93-BBE8-E1A6774BDD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7AA643-BF84-4DEF-903D-442A9519F8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32F14A-2919-420A-96CB-12CA209D26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598F36-69A9-419D-973C-CEAC3E2058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742549-D02A-4487-AE95-C098CA28B3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93F08E-96C4-405C-8B60-A3089D0A92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A768D7-3C12-4BB2-A432-6617EC85BB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FCB2E8-00D5-4A04-BF34-7A068B9918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3BDA0D-E75D-40AC-B27A-CE2882DB6F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CDC1AF-0AD4-45F3-9038-0A6D3A6A3D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F89F2B-8D97-47BD-8803-649AD17D7C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D175891-2B90-4DA9-A762-23F1B45AA0D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A163C51-42C3-4642-9422-E9F3BE2D27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9FF34F4-517E-42EB-B54C-2A62703EA7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2181FD-3914-4134-A77F-54E3B093E0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C95866F-52A6-4C42-BBE1-C675ADDDA2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FBC926-C263-46D1-9A66-6EBF491409A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5B87B3-4D6E-45EB-ABF3-7E33006BF5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04C5C5-3370-434B-9B64-D7A2F70BB3C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22332A-6288-480C-8A17-D738D9AC43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965DE54-23E2-4D40-AC76-9572FEDF9F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F7CA3BB-18FB-4F0F-955E-55DB313D68D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E68D3E4-0339-42D2-8590-6164912D0FE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6B1B969-4D04-41FB-9DD1-9C7CB17A389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8D4C9D0-597A-44F9-9975-FE5C823424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B2D6184-AC72-46A7-B094-1749B87A9E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C424320-09A4-41C1-9068-BEB178860F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764788-6573-4A68-AB8A-D8C124F8E9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3BC58FE-2CA5-471E-923A-C3E10343A0A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566F8D-2F6A-449F-B8B5-BDA31C98D3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8FB783-F5EA-4CEE-8407-CECCD059BEC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438B24-A43C-4327-9B94-05B5877F73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74B843-18FB-44A5-89AD-F2CC7E3936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5415319-A7AF-4CE4-8405-1D5EF336BDF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8BD0C2E-9C45-4FF6-9AF2-F2DA4B4533C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7C0400-2908-4AC1-B9A5-95CE65EF45F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6D8945-CA0F-48CF-9C71-8D129504295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33F26D3-8AE7-445F-A79E-6EF4C7B0A7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679A97-4A33-4DC4-AD48-1EA34403F8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E729BC-60BB-4373-B6AE-B1FD111B2B9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3CE0E2-8223-4270-A614-38F468A5EB9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995FEFB-E1CF-4CDB-AE7B-6205249C19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9F31017-F6A0-4A11-836E-2FACA8D7C4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B2BD3FA-A7CC-41F7-91E1-5D8981101C6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AE3BA38-DA69-4A8C-B839-C97EBD1A58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02F145F-7B9C-4B49-8F99-7126398AA82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5015A01-02A0-4756-A260-10DDAA6EC4A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231DB2-074A-41EB-A9E7-E1B4741E43A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BEF363-4C05-435D-9895-E0DFD2781C0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D73236-9EFD-4929-989D-DC52E0C39E5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FD0D-7E08-4609-9895-AE78889F2F8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A468-82F7-4A30-9AD9-C0088909FD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579A-F2E9-4D5D-AEF1-95FF3EB4184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CB86-5C03-4964-B04D-B1042C9058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29E3-092A-48BF-AB91-063236FCB91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1567-4638-4F19-B9BA-284A54B6B0E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D858-1B0E-4E2F-8FCF-E492F9A34CD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0811-9809-4B8E-A666-A74FBD2F180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36E9-F9CA-401D-8D2D-E29913E68F1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B7B6-DB19-4C6B-8102-813D02CF85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Bezpieczeństwo</a:t>
            </a:r>
            <a:endParaRPr b="0" lang="en-US" sz="3600" spc="-1" strike="noStrike">
              <a:solidFill>
                <a:srgbClr val="000000"/>
              </a:solidFill>
              <a:latin typeface="Arial"/>
            </a:endParaRPr>
          </a:p>
        </p:txBody>
      </p:sp>
      <p:sp>
        <p:nvSpPr>
          <p:cNvPr id="537" name="Rectángulo 1"/>
          <p:cNvSpPr/>
          <p:nvPr/>
        </p:nvSpPr>
        <p:spPr>
          <a:xfrm>
            <a:off x="34920" y="3141720"/>
            <a:ext cx="8872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Ochrona danych </a:t>
            </a:r>
            <a:r>
              <a:rPr b="0" lang="it-IT" sz="4000" spc="-1" strike="noStrike">
                <a:solidFill>
                  <a:srgbClr val="000000"/>
                </a:solidFill>
                <a:latin typeface="Arial Rounded MT Bold"/>
              </a:rPr>
              <a:t>osobo</a:t>
            </a:r>
            <a:r>
              <a:rPr b="0" lang="pl-PL" sz="4000" spc="-1" strike="noStrike">
                <a:solidFill>
                  <a:srgbClr val="000000"/>
                </a:solidFill>
                <a:latin typeface="Arial Rounded MT Bold"/>
              </a:rPr>
              <a:t>wych i prywatnośc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Zarządzaj swoją tożsamością cyfrową i reputacją</a:t>
            </a:r>
            <a:endParaRPr b="0" lang="en-US" sz="3600" spc="-1" strike="noStrike">
              <a:solidFill>
                <a:srgbClr val="000000"/>
              </a:solidFill>
              <a:latin typeface="Arial"/>
            </a:endParaRPr>
          </a:p>
        </p:txBody>
      </p:sp>
      <p:sp>
        <p:nvSpPr>
          <p:cNvPr id="564" name=""/>
          <p:cNvSpPr txBox="1"/>
          <p:nvPr/>
        </p:nvSpPr>
        <p:spPr>
          <a:xfrm>
            <a:off x="-181440" y="1424160"/>
            <a:ext cx="5473800" cy="374400"/>
          </a:xfrm>
          <a:prstGeom prst="rect">
            <a:avLst/>
          </a:prstGeom>
          <a:noFill/>
          <a:ln w="0">
            <a:noFill/>
          </a:ln>
        </p:spPr>
        <p:txBody>
          <a:bodyPr anchor="t">
            <a:normAutofit fontScale="77000"/>
          </a:bodyPr>
          <a:p>
            <a:pPr lvl="1" marL="572040" indent="-21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 to jest </a:t>
            </a:r>
            <a:r>
              <a:rPr b="0" lang="pl-PL" sz="2400" spc="-1" strike="noStrike">
                <a:solidFill>
                  <a:srgbClr val="000000"/>
                </a:solidFill>
                <a:latin typeface="Arial Rounded MT Bold"/>
              </a:rPr>
              <a:t>tożsamość cyfrowa</a:t>
            </a:r>
            <a:r>
              <a:rPr b="0" lang="en-US"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65" name="CasellaDiTesto 1"/>
          <p:cNvSpPr/>
          <p:nvPr/>
        </p:nvSpPr>
        <p:spPr>
          <a:xfrm>
            <a:off x="108000" y="1844640"/>
            <a:ext cx="8928000" cy="4620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Sposób, w jaki działamy, co mówimy, jak to mówimy, i to, co robimy, aby uświadomić sobie nasze wartości online, jest tym, co systematycznie definiuje naszą tożsamość cyfrową</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Nasza tożsamość cyfrowa jest niczym innym jak lustrzanym odbiciem naszego ogólnego obrazu: odzwierciedleniem podstawowych przekonań, ideałów i wizji, które z wymiaru rzeczywistości przenoszą się na cyfrowy</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Mówienie o tożsamości cyfrowej oznacza odpowiedź na następujące pytania</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Kim jesteśmy?</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Jak robimy to, co robimy?</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Dlaczego to robimy?</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Dla ko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67" name=""/>
          <p:cNvSpPr txBox="1"/>
          <p:nvPr/>
        </p:nvSpPr>
        <p:spPr>
          <a:xfrm>
            <a:off x="-252360" y="1568160"/>
            <a:ext cx="597672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to jest </a:t>
            </a:r>
            <a:r>
              <a:rPr b="0" lang="it-IT" sz="2400" spc="-1" strike="noStrike">
                <a:solidFill>
                  <a:srgbClr val="000000"/>
                </a:solidFill>
                <a:latin typeface="Arial Rounded MT Bold"/>
              </a:rPr>
              <a:t>r</a:t>
            </a:r>
            <a:r>
              <a:rPr b="0" lang="pl-PL" sz="2400" spc="-1" strike="noStrike">
                <a:solidFill>
                  <a:srgbClr val="000000"/>
                </a:solidFill>
                <a:latin typeface="Arial Rounded MT Bold"/>
              </a:rPr>
              <a:t>eputacja cyfrowa</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08000" y="2276640"/>
            <a:ext cx="8785080" cy="350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putacja osoby po prostu pokazuje i ujawnia, co inni myślą o nim / nim i jego / jej ogólnej percepcji</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putacja wskazuje, w jaki sposób opinia publiczna postrzega wartości, które komunikujemy online i za pośrednictwem naszych kont w mediach</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strzeganie innych może nie odpowiadać wartościom, które chcemy przekazać</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70" name=""/>
          <p:cNvSpPr txBox="1"/>
          <p:nvPr/>
        </p:nvSpPr>
        <p:spPr>
          <a:xfrm>
            <a:off x="-360" y="134100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yfrowa tożsamość i reputacja</a:t>
            </a:r>
            <a:endParaRPr b="0" lang="en-US" sz="2400" spc="-1" strike="noStrike">
              <a:solidFill>
                <a:srgbClr val="000000"/>
              </a:solidFill>
              <a:latin typeface="Arial"/>
            </a:endParaRPr>
          </a:p>
        </p:txBody>
      </p:sp>
      <p:sp>
        <p:nvSpPr>
          <p:cNvPr id="571" name="CasellaDiTesto 6"/>
          <p:cNvSpPr/>
          <p:nvPr/>
        </p:nvSpPr>
        <p:spPr>
          <a:xfrm>
            <a:off x="179280" y="2503440"/>
            <a:ext cx="8785440" cy="282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trzeba dodawać, że tożsamość cyfrowa i reputacja to dwa niezwykle cenne zasoby, tak samo jak każda inna namacalna cech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Silna tożsamość przedstawiona w Internecie przekłada się na solidne wrażenie w naszym codziennym życiu</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ażne jest, aby tożsamość online była jak najbliższa naszym prawdziwym wartościom, przekonaniom i postawom</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yfrowa tożsamość i reputacja</a:t>
            </a:r>
            <a:endParaRPr b="0" lang="en-US" sz="2400" spc="-1" strike="noStrike">
              <a:solidFill>
                <a:srgbClr val="000000"/>
              </a:solidFill>
              <a:latin typeface="Arial"/>
            </a:endParaRPr>
          </a:p>
        </p:txBody>
      </p:sp>
      <p:sp>
        <p:nvSpPr>
          <p:cNvPr id="574" name="CasellaDiTesto 1"/>
          <p:cNvSpPr/>
          <p:nvPr/>
        </p:nvSpPr>
        <p:spPr>
          <a:xfrm>
            <a:off x="250920" y="1989000"/>
            <a:ext cx="8642160" cy="3751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ez lata uczeni w dziedzinie komunikacji i praktycy określali niekończącą się listę najlepszych praktyk i powtarzalnych podejść, aby zachować i wzmocnić to, co wcześniej było znane jako „reputacja”, a następnie - z upływem lat - „cyfrowa reputacja”. Różnice są minimalne, biorąc pod uwagę drugą nieuniknioną ewolucję pierwszej</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Cały ten zbiór wyników można zsumować w kilku punktach</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7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yfrowa tożsamość i reputacja</a:t>
            </a:r>
            <a:endParaRPr b="0" lang="en-US" sz="2400" spc="-1" strike="noStrike">
              <a:solidFill>
                <a:srgbClr val="000000"/>
              </a:solidFill>
              <a:latin typeface="Arial"/>
            </a:endParaRPr>
          </a:p>
        </p:txBody>
      </p:sp>
      <p:sp>
        <p:nvSpPr>
          <p:cNvPr id="577" name="CasellaDiTesto 6"/>
          <p:cNvSpPr/>
          <p:nvPr/>
        </p:nvSpPr>
        <p:spPr>
          <a:xfrm>
            <a:off x="179280" y="2133720"/>
            <a:ext cx="9144000" cy="465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Bądź wiarygodny i godny zaufani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rowadz konstruktywne dialog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yjmuj negatywne opinie z dojrzałością i mądrością</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yjmuj „różnorodność” i zaakceptuj ryzyko niezrozumieni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ozmawiaj szczerze i szanuj swoich cyfrowych rozmówców</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Słuchaj uważnie swojego otoczenia i </a:t>
            </a:r>
            <a:r>
              <a:rPr b="0" lang="it-IT" sz="2000" spc="-1" strike="noStrike">
                <a:solidFill>
                  <a:srgbClr val="000000"/>
                </a:solidFill>
                <a:latin typeface="Arial Rounded MT Bold"/>
              </a:rPr>
              <a:t>znaj</a:t>
            </a:r>
            <a:r>
              <a:rPr b="0" lang="pl-PL" sz="2000" spc="-1" strike="noStrike">
                <a:solidFill>
                  <a:srgbClr val="000000"/>
                </a:solidFill>
                <a:latin typeface="Arial Rounded MT Bold"/>
              </a:rPr>
              <a:t>dź każdy sygnał ostrzeżenia / okazj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RODO - przepisy UE dotyczące ochrony danych</a:t>
            </a:r>
            <a:endParaRPr b="0" lang="en-US" sz="3600" spc="-1" strike="noStrike">
              <a:solidFill>
                <a:srgbClr val="000000"/>
              </a:solidFill>
              <a:latin typeface="Arial"/>
            </a:endParaRPr>
          </a:p>
        </p:txBody>
      </p:sp>
      <p:sp>
        <p:nvSpPr>
          <p:cNvPr id="579" name=""/>
          <p:cNvSpPr txBox="1"/>
          <p:nvPr/>
        </p:nvSpPr>
        <p:spPr>
          <a:xfrm>
            <a:off x="-252720" y="1268280"/>
            <a:ext cx="7931160" cy="7495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o to jest RODO</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557360"/>
            <a:ext cx="8677440" cy="50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ODO </a:t>
            </a:r>
            <a:r>
              <a:rPr b="0" i="1" lang="pl-PL" sz="1800" spc="-1" strike="noStrike">
                <a:solidFill>
                  <a:srgbClr val="000000"/>
                </a:solidFill>
                <a:latin typeface="Arial Rounded MT Bold"/>
              </a:rPr>
              <a:t>(</a:t>
            </a:r>
            <a:r>
              <a:rPr b="1" i="1" lang="pl-PL" sz="1800" spc="-1" strike="noStrike">
                <a:solidFill>
                  <a:srgbClr val="000000"/>
                </a:solidFill>
                <a:latin typeface="Arial Rounded MT Bold"/>
              </a:rPr>
              <a:t>Ogólne rozporządzenie o ochronie danych</a:t>
            </a:r>
            <a:r>
              <a:rPr b="0" i="1" lang="pl-PL" sz="1800" spc="-1" strike="noStrike">
                <a:solidFill>
                  <a:srgbClr val="000000"/>
                </a:solidFill>
                <a:latin typeface="Arial Rounded MT Bold"/>
              </a:rPr>
              <a:t>) to najnowsze rozporządzenie UE - w pełni obowiązujące na terytorium europejskim od maja 2018 r. - które ściśle reguluje „przetwarzanie przez </a:t>
            </a:r>
            <a:r>
              <a:rPr b="1" i="1" lang="pl-PL" sz="1800" spc="-1" strike="noStrike">
                <a:solidFill>
                  <a:srgbClr val="000000"/>
                </a:solidFill>
                <a:latin typeface="Arial Rounded MT Bold"/>
              </a:rPr>
              <a:t>osobę fizyczną, firmę lub organizację danych osobowych dotyczących osób fizycznych </a:t>
            </a:r>
            <a:r>
              <a:rPr b="0" i="1" lang="pl-PL" sz="1800" spc="-1" strike="noStrike">
                <a:solidFill>
                  <a:srgbClr val="000000"/>
                </a:solidFill>
                <a:latin typeface="Arial Rounded MT Bold"/>
              </a:rPr>
              <a:t>w UE”</a:t>
            </a:r>
            <a:r>
              <a:rPr b="0" i="1" lang="it-IT"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pl-PL" sz="1800" spc="-1" strike="noStrike">
                <a:solidFill>
                  <a:srgbClr val="000000"/>
                </a:solidFill>
                <a:latin typeface="Arial Rounded MT Bold"/>
              </a:rPr>
              <a:t>Czasownik „przetwarzanie” jednoznacznie odnosi się do: gromadzenia, nagrywania, organizacji, strukturyzacji, przechowywania, adaptacji (lub modyfikacji), wyszukiwania, konsultacji, użytkowania, ujawniania poprzez transmisję, rozpowszechnianie (lub w inny sposób udostępnianie), dostosowania lub połączenia, ograniczenia, usunięci</a:t>
            </a:r>
            <a:r>
              <a:rPr b="0" lang="it-IT" sz="1800" spc="-1" strike="noStrike">
                <a:solidFill>
                  <a:srgbClr val="000000"/>
                </a:solidFill>
                <a:latin typeface="Arial Rounded MT Bold"/>
              </a:rPr>
              <a:t>a</a:t>
            </a:r>
            <a:r>
              <a:rPr b="0" lang="pl-PL" sz="1800" spc="-1" strike="noStrike">
                <a:solidFill>
                  <a:srgbClr val="000000"/>
                </a:solidFill>
                <a:latin typeface="Arial Rounded MT Bold"/>
              </a:rPr>
              <a:t> lub zniszczeni</a:t>
            </a:r>
            <a:r>
              <a:rPr b="0" lang="it-IT" sz="1800" spc="-1" strike="noStrike">
                <a:solidFill>
                  <a:srgbClr val="000000"/>
                </a:solidFill>
                <a:latin typeface="Arial Rounded MT Bold"/>
              </a:rPr>
              <a:t>a</a:t>
            </a:r>
            <a:r>
              <a:rPr b="0" lang="pl-PL" sz="1800" spc="-1" strike="noStrike">
                <a:solidFill>
                  <a:srgbClr val="000000"/>
                </a:solidFill>
                <a:latin typeface="Arial Rounded MT Bold"/>
              </a:rPr>
              <a:t> danych osobowych </a:t>
            </a:r>
            <a:r>
              <a:rPr b="0" lang="en-GB" sz="1800" spc="-1" strike="noStrike">
                <a:solidFill>
                  <a:srgbClr val="000000"/>
                </a:solidFill>
                <a:latin typeface="Arial Rounded MT Bold"/>
              </a:rPr>
              <a:t>(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RODO - przepisy UE dotyczące ochrony danych</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Co to jest RODO</a:t>
            </a:r>
            <a:r>
              <a:rPr b="0" lang="en-US" sz="2800" spc="-1" strike="noStrike">
                <a:solidFill>
                  <a:srgbClr val="000000"/>
                </a:solidFill>
                <a:latin typeface="Arial Rounded MT Bold"/>
              </a:rPr>
              <a:t>?</a:t>
            </a:r>
            <a:endParaRPr b="0" lang="en-US" sz="28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CasellaDiTesto 1"/>
          <p:cNvSpPr/>
          <p:nvPr/>
        </p:nvSpPr>
        <p:spPr>
          <a:xfrm>
            <a:off x="0" y="2781360"/>
            <a:ext cx="8748720" cy="3568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RODO opiera się na dwóch podstawowych zasadach</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chrona zwykłych obywateli przed nadużyciami danych</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zmocnienie pozycji przedsiębiorstw na „równych zasadach</a:t>
            </a:r>
            <a:r>
              <a:rPr b="0" lang="en-GB" sz="2400" spc="-1" strike="noStrike">
                <a:solidFill>
                  <a:srgbClr val="000000"/>
                </a:solidFill>
                <a:latin typeface="Arial Rounded MT Bold"/>
              </a:rPr>
              <a:t>”</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RODO - przepisy UE dotyczące ochrony danych</a:t>
            </a:r>
            <a:endParaRPr b="0" lang="en-US" sz="3200" spc="-1" strike="noStrike">
              <a:solidFill>
                <a:srgbClr val="000000"/>
              </a:solidFill>
              <a:latin typeface="Arial"/>
            </a:endParaRPr>
          </a:p>
        </p:txBody>
      </p:sp>
      <p:sp>
        <p:nvSpPr>
          <p:cNvPr id="585" name=""/>
          <p:cNvSpPr txBox="1"/>
          <p:nvPr/>
        </p:nvSpPr>
        <p:spPr>
          <a:xfrm>
            <a:off x="-181440" y="1625400"/>
            <a:ext cx="793116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to jest RODO? Perspektywa biznesowa</a:t>
            </a:r>
            <a:endParaRPr b="0" lang="en-US" sz="2400" spc="-1" strike="noStrike">
              <a:solidFill>
                <a:srgbClr val="000000"/>
              </a:solidFill>
              <a:latin typeface="Arial"/>
            </a:endParaRPr>
          </a:p>
        </p:txBody>
      </p:sp>
      <p:sp>
        <p:nvSpPr>
          <p:cNvPr id="586" name="CasellaDiTesto 1"/>
          <p:cNvSpPr/>
          <p:nvPr/>
        </p:nvSpPr>
        <p:spPr>
          <a:xfrm>
            <a:off x="324000" y="2190600"/>
            <a:ext cx="8362800" cy="3477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ODO stanowi rygorystyczny zestaw „</a:t>
            </a:r>
            <a:r>
              <a:rPr b="0" lang="it-IT" sz="2000" spc="-1" strike="noStrike">
                <a:solidFill>
                  <a:srgbClr val="000000"/>
                </a:solidFill>
                <a:latin typeface="Arial Rounded MT Bold"/>
              </a:rPr>
              <a:t>NALEZY ZROBIC</a:t>
            </a:r>
            <a:r>
              <a:rPr b="0" lang="pl-PL" sz="2000" spc="-1" strike="noStrike">
                <a:solidFill>
                  <a:srgbClr val="000000"/>
                </a:solidFill>
                <a:latin typeface="Arial Rounded MT Bold"/>
              </a:rPr>
              <a:t>” pod względem</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Rodzaj danych przetwarzalnych</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Cel przetwarzania</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ea typeface="Arial"/>
              </a:rPr>
              <a:t>Ilość danych do zebrania i trwałość </a:t>
            </a:r>
            <a:r>
              <a:rPr b="0" lang="it-IT" sz="1800" spc="-1" strike="noStrike">
                <a:solidFill>
                  <a:srgbClr val="000000"/>
                </a:solidFill>
                <a:latin typeface="Arial Rounded MT Bold"/>
                <a:ea typeface="Arial"/>
              </a:rPr>
              <a:t>dostepu</a:t>
            </a:r>
            <a:r>
              <a:rPr b="0" lang="pl-PL" sz="1800" spc="-1" strike="noStrike">
                <a:solidFill>
                  <a:srgbClr val="000000"/>
                </a:solidFill>
                <a:latin typeface="Arial Rounded MT Bold"/>
                <a:ea typeface="Arial"/>
              </a:rPr>
              <a:t> danych</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ea typeface="Arial"/>
              </a:rPr>
              <a:t>Powiadomienie o </a:t>
            </a:r>
            <a:r>
              <a:rPr b="0" lang="it-IT" sz="1800" spc="-1" strike="noStrike">
                <a:solidFill>
                  <a:srgbClr val="000000"/>
                </a:solidFill>
                <a:latin typeface="Arial Rounded MT Bold"/>
                <a:ea typeface="Arial"/>
              </a:rPr>
              <a:t>zbieraniu</a:t>
            </a:r>
            <a:r>
              <a:rPr b="0" lang="pl-PL" sz="1800" spc="-1" strike="noStrike">
                <a:solidFill>
                  <a:srgbClr val="000000"/>
                </a:solidFill>
                <a:latin typeface="Arial Rounded MT Bold"/>
                <a:ea typeface="Arial"/>
              </a:rPr>
              <a:t>, </a:t>
            </a:r>
            <a:r>
              <a:rPr b="0" lang="it-IT" sz="1800" spc="-1" strike="noStrike">
                <a:solidFill>
                  <a:srgbClr val="000000"/>
                </a:solidFill>
                <a:latin typeface="Arial Rounded MT Bold"/>
                <a:ea typeface="Arial"/>
              </a:rPr>
              <a:t>o</a:t>
            </a:r>
            <a:r>
              <a:rPr b="0" lang="pl-PL" sz="1800" spc="-1" strike="noStrike">
                <a:solidFill>
                  <a:srgbClr val="000000"/>
                </a:solidFill>
                <a:latin typeface="Arial Rounded MT Bold"/>
                <a:ea typeface="Arial"/>
              </a:rPr>
              <a:t>bowiązkach i ogólnej realizacji</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ea typeface="Arial"/>
              </a:rPr>
              <a:t>Radzenie sobie z obywatelami korzysta z ich prawa</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Dla kompleksowego zrozumienia: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RODO - przepisy UE dotyczące ochrony danych</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to jest RODO? Perspektywa Obywateli</a:t>
            </a:r>
            <a:endParaRPr b="0" lang="en-US" sz="2400" spc="-1" strike="noStrike">
              <a:solidFill>
                <a:srgbClr val="000000"/>
              </a:solidFill>
              <a:latin typeface="Arial"/>
            </a:endParaRPr>
          </a:p>
        </p:txBody>
      </p:sp>
      <p:sp>
        <p:nvSpPr>
          <p:cNvPr id="589" name="CasellaDiTesto 1"/>
          <p:cNvSpPr/>
          <p:nvPr/>
        </p:nvSpPr>
        <p:spPr>
          <a:xfrm>
            <a:off x="179280" y="1909800"/>
            <a:ext cx="8569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Z drugiej strony RODO okazuje się silnym środkiem ochrony przed prawem do prywatności i nadużyciami związanymi z przetwarzaniem danych</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Jaki dokładnie jest chroniony obiekt i jak jest dokładnie chroniony</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Jakie są moje prawa?</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Skąd mam wiedzieć, czy którekolwiek z moich praw zostało naruszone i co zrobić, aby je dochodzić</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Jak mogę odzyskać dane?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Kiedy powinienem </a:t>
            </a:r>
            <a:r>
              <a:rPr b="0" i="1" lang="it-IT" sz="1800" spc="-1" strike="noStrike">
                <a:solidFill>
                  <a:srgbClr val="000000"/>
                </a:solidFill>
                <a:latin typeface="Arial Rounded MT Bold"/>
              </a:rPr>
              <a:t> lub nie </a:t>
            </a:r>
            <a:r>
              <a:rPr b="0" i="1" lang="pl-PL" sz="1800" spc="-1" strike="noStrike">
                <a:solidFill>
                  <a:srgbClr val="000000"/>
                </a:solidFill>
                <a:latin typeface="Arial Rounded MT Bold"/>
              </a:rPr>
              <a:t>korzystać z moich praw</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td… Dla pełnego zrozumienia: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76360" y="345960"/>
            <a:ext cx="764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Prawa własności intelektualnej i prawa autorskie</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zukanie definicji: </a:t>
            </a:r>
            <a:endParaRPr b="0" lang="en-US" sz="2400" spc="-1" strike="noStrike">
              <a:solidFill>
                <a:srgbClr val="000000"/>
              </a:solidFill>
              <a:latin typeface="Arial"/>
            </a:endParaRPr>
          </a:p>
        </p:txBody>
      </p:sp>
      <p:sp>
        <p:nvSpPr>
          <p:cNvPr id="592" name="CasellaDiTesto 2"/>
          <p:cNvSpPr/>
          <p:nvPr/>
        </p:nvSpPr>
        <p:spPr>
          <a:xfrm>
            <a:off x="179280" y="1989000"/>
            <a:ext cx="8785440" cy="36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edług WIPO (Światowej Organizacji Własności Intelektualnej), własność intelektualna</a:t>
            </a:r>
            <a:r>
              <a:rPr b="0" lang="it-IT"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 </a:t>
            </a:r>
            <a:r>
              <a:rPr b="0" i="1" lang="pl-PL" sz="2000" spc="-1" strike="noStrike">
                <a:solidFill>
                  <a:srgbClr val="000000"/>
                </a:solidFill>
                <a:latin typeface="Arial Rounded MT Bold"/>
              </a:rPr>
              <a:t>Odnosi się do tworów umysłu, takich jak wynalazki; dzieła literackie i artystyczne; projekty; oraz symbole, nazwy i obrazy używane w handlu</a:t>
            </a:r>
            <a:r>
              <a:rPr b="0" i="1"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aka definicja - celowo tak niejasna i ogólna - obejmuje wszystkie możliwe sposoby, w jakie ludzki mózg może wymyślić nowy i innowacyjny wyraz swojej kreatywności i inteligencji</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Cele i zadania</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 końcu tego modułu będziesz </a:t>
            </a:r>
            <a:r>
              <a:rPr b="0" lang="it-IT" sz="2800" spc="-1" strike="noStrike">
                <a:solidFill>
                  <a:srgbClr val="000000"/>
                </a:solidFill>
                <a:latin typeface="Arial Rounded MT Bold"/>
              </a:rPr>
              <a:t>w stani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rozum</a:t>
            </a:r>
            <a:r>
              <a:rPr b="0" lang="it-IT" sz="2600" spc="-1" strike="noStrike">
                <a:solidFill>
                  <a:srgbClr val="000000"/>
                </a:solidFill>
                <a:latin typeface="Arial Rounded MT Bold"/>
              </a:rPr>
              <a:t>ieć</a:t>
            </a:r>
            <a:r>
              <a:rPr b="0" lang="pl-PL" sz="2600" spc="-1" strike="noStrike">
                <a:solidFill>
                  <a:srgbClr val="000000"/>
                </a:solidFill>
                <a:latin typeface="Arial Rounded MT Bold"/>
              </a:rPr>
              <a:t> podstawowe zasady odróżniające dane osobowe od danych wrażliwych</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Przyj</a:t>
            </a:r>
            <a:r>
              <a:rPr b="0" lang="it-IT" sz="2600" spc="-1" strike="noStrike">
                <a:solidFill>
                  <a:srgbClr val="000000"/>
                </a:solidFill>
                <a:latin typeface="Arial Rounded MT Bold"/>
              </a:rPr>
              <a:t>rzeć</a:t>
            </a:r>
            <a:r>
              <a:rPr b="0" lang="pl-PL" sz="2600" spc="-1" strike="noStrike">
                <a:solidFill>
                  <a:srgbClr val="000000"/>
                </a:solidFill>
                <a:latin typeface="Arial Rounded MT Bold"/>
              </a:rPr>
              <a:t> się bliżej nowej europejskiej polityce prywatności i przetwarzania danych</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rozum</a:t>
            </a:r>
            <a:r>
              <a:rPr b="0" lang="it-IT" sz="2600" spc="-1" strike="noStrike">
                <a:solidFill>
                  <a:srgbClr val="000000"/>
                </a:solidFill>
                <a:latin typeface="Arial Rounded MT Bold"/>
              </a:rPr>
              <a:t>ieć</a:t>
            </a:r>
            <a:r>
              <a:rPr b="0" lang="pl-PL" sz="2600" spc="-1" strike="noStrike">
                <a:solidFill>
                  <a:srgbClr val="000000"/>
                </a:solidFill>
                <a:latin typeface="Arial Rounded MT Bold"/>
              </a:rPr>
              <a:t>, na czym polega własność intelektualna i jakie są główne formy ochrony</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595" name="CasellaDiTesto 2"/>
          <p:cNvSpPr/>
          <p:nvPr/>
        </p:nvSpPr>
        <p:spPr>
          <a:xfrm>
            <a:off x="179280" y="2173320"/>
            <a:ext cx="8785440" cy="375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 wymienionego powodu każdy rodzaj „produktu umysłu” jest przeznaczony do określonego rodzaju ochrony</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ZNAKI TOWAROWE</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a:t>
            </a:r>
            <a:r>
              <a:rPr b="0" i="1" lang="pl-PL" sz="2000" spc="-1" strike="noStrike">
                <a:solidFill>
                  <a:srgbClr val="000000"/>
                </a:solidFill>
                <a:latin typeface="Arial Rounded MT Bold"/>
              </a:rPr>
              <a:t>Znak towarowy jest znakiem umożliwiającym odróżnienie towarów lub usług jednego przedsiębiorstwa od towarów lub usług innych przedsiębiorstw” (WIPO).</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3063960" y="3500280"/>
            <a:ext cx="355680" cy="3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599" name="CasellaDiTesto 1"/>
          <p:cNvSpPr/>
          <p:nvPr/>
        </p:nvSpPr>
        <p:spPr>
          <a:xfrm>
            <a:off x="216000" y="2647800"/>
            <a:ext cx="8712000" cy="3599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a:t>
            </a:r>
            <a:r>
              <a:rPr b="0" i="1" lang="pl-PL" sz="2000" spc="-1" strike="noStrike">
                <a:solidFill>
                  <a:srgbClr val="000000"/>
                </a:solidFill>
                <a:latin typeface="Arial Rounded MT Bold"/>
              </a:rPr>
              <a:t>Patent jest wyłącznym prawem przyznanym na wynalazek, który jest produktem lub procesem, który ogólnie zapewnia nowy sposób robienia czegoś lub oferuje nowe techniczne rozwiązanie problemu. Aby uzyskać patent, informacje techniczne na temat wynalazku muszą zostać podane do wiadomości publicznej we wniosku patentowym ”(WIPO).</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601"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602" name="CasellaDiTesto 1"/>
          <p:cNvSpPr/>
          <p:nvPr/>
        </p:nvSpPr>
        <p:spPr>
          <a:xfrm>
            <a:off x="216000" y="2647800"/>
            <a:ext cx="8712000" cy="375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WZORNICTWO PRZEMYSŁOWE</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a:t>
            </a:r>
            <a:r>
              <a:rPr b="0" i="1" lang="pl-PL" sz="2000" spc="-1" strike="noStrike">
                <a:solidFill>
                  <a:srgbClr val="000000"/>
                </a:solidFill>
                <a:latin typeface="Arial Rounded MT Bold"/>
              </a:rPr>
              <a:t>Wzory przemysłowe to kompozycje linii lub kolorów lub dowolnych trójwymiarowych form, które nadają produktowi lub rękodziełu szczególny wygląd. Chronią ozdobny lub estetyczny aspekt przydatnego wyrobu, który zwykle przemawia do zmysłu wzroku lub dotyku i może być powielany w znacznych ilościach ”(WIPO).</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605" name="CasellaDiTesto 1"/>
          <p:cNvSpPr/>
          <p:nvPr/>
        </p:nvSpPr>
        <p:spPr>
          <a:xfrm>
            <a:off x="216000" y="1954080"/>
            <a:ext cx="8712000" cy="379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PRAWA AUTORSKIE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a:t>
            </a:r>
            <a:r>
              <a:rPr b="0" i="1" lang="pl-PL" sz="1800" spc="-1" strike="noStrike">
                <a:solidFill>
                  <a:srgbClr val="000000"/>
                </a:solidFill>
                <a:latin typeface="Arial Rounded MT Bold"/>
              </a:rPr>
              <a:t>Prawo autorskie (lub prawo autora) to termin prawny używany do opisania praw twórców do ich dzieł literackich i artystycznych. Dzieła objęte prawem autorskim obejmują książki, muzykę, obrazy, rzeźbę i filmy, programy komputerowe, bazy danych, reklamy, mapy i rysunki techniczne ”(WIPO).</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Prawo autorskie obejmuje szeroki zakres potrzeb, których nie można znaleźć w żadnej innej części przepisów dotyczących praw własności intelektualnej. Jedynym polem, w którym Copyright nie ma miejsca, są abstrakcyjne domeny pomysłów, procedur i metod.</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307332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609" name="CasellaDiTesto 1"/>
          <p:cNvSpPr/>
          <p:nvPr/>
        </p:nvSpPr>
        <p:spPr>
          <a:xfrm>
            <a:off x="216000" y="213660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rzeczywistości prawo autorskie jest ściśle odnoszone do pomysłów audio i wizul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eła literackie (takie jak powieści, wiersze, sztuki teatralne, odniesienia, artykuły w gazetach)</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ogramy komputerowe, bazy danych algorytmów</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filmy, kompozycje muzyczne i choreografi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eła artystyczne, takie jak obrazy, rysunki, fotografie</a:t>
            </a:r>
            <a:r>
              <a:rPr b="0" lang="hu-HU" sz="2000" spc="-1" strike="noStrike">
                <a:solidFill>
                  <a:srgbClr val="000000"/>
                </a:solidFill>
                <a:latin typeface="Arial Rounded MT Bold"/>
              </a:rPr>
              <a: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zeźba i architektur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klamy, mapy i rysunki technicz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1" name="CasellaDiTesto 6"/>
          <p:cNvSpPr/>
          <p:nvPr/>
        </p:nvSpPr>
        <p:spPr>
          <a:xfrm>
            <a:off x="179280" y="1268280"/>
            <a:ext cx="8507520" cy="5119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000000"/>
                </a:solidFill>
                <a:latin typeface="Arial Rounded MT Bold"/>
              </a:rPr>
              <a:t>Dane osobowe </a:t>
            </a:r>
            <a:r>
              <a:rPr b="0" lang="pl-PL" sz="2200" spc="-1" strike="noStrike">
                <a:solidFill>
                  <a:srgbClr val="000000"/>
                </a:solidFill>
                <a:latin typeface="Arial Rounded MT Bold"/>
              </a:rPr>
              <a:t>to informacje, które śledzą cechy i cechy związane ze zidentyfikowaną lub możliwą do zidentyfikowania osobą fizyczną - nawet pośrednio, poprzez odniesienie do dowolnego innego wskazania. Typowe identyfikatory to</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azwisko</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Lokalizacj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Dan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Liczby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Identyfikatory online (adresIP, lokalizacja GPS, i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3" name=""/>
          <p:cNvSpPr txBox="1"/>
          <p:nvPr/>
        </p:nvSpPr>
        <p:spPr>
          <a:xfrm>
            <a:off x="-252720" y="1268280"/>
            <a:ext cx="7931160" cy="7495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ne osobow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1700280"/>
            <a:ext cx="8507520" cy="28371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Dane osobowe mogą być również przewidziane jako czynniki genetyczne, psychiczne, ekonomiczne, kulturowe i / lub społeczne, takie jak: adres zamieszkania, numer karty kredytowej, pełne imię i nazwisko, dane logowania do e-maila</a:t>
            </a:r>
            <a:endParaRPr b="0" lang="en-US" sz="2400" spc="-1" strike="noStrike">
              <a:solidFill>
                <a:srgbClr val="000000"/>
              </a:solidFill>
              <a:latin typeface="Arial"/>
            </a:endParaRPr>
          </a:p>
        </p:txBody>
      </p:sp>
      <p:pic>
        <p:nvPicPr>
          <p:cNvPr id="545" name="Picture 1" descr=""/>
          <p:cNvPicPr/>
          <p:nvPr/>
        </p:nvPicPr>
        <p:blipFill>
          <a:blip r:embed="rId1"/>
          <a:stretch/>
        </p:blipFill>
        <p:spPr>
          <a:xfrm>
            <a:off x="4140360" y="4437000"/>
            <a:ext cx="422568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7" name=""/>
          <p:cNvSpPr txBox="1"/>
          <p:nvPr/>
        </p:nvSpPr>
        <p:spPr>
          <a:xfrm>
            <a:off x="34560" y="1267920"/>
            <a:ext cx="2808360" cy="42084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ne wrażliwe</a:t>
            </a:r>
            <a:endParaRPr b="0" lang="en-US" sz="24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913040"/>
            <a:ext cx="885672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 drugiej strony, dane wrażliwe to dane osobowe, które posiadają silniejszą ochronę prawną i muszą być przetwarzane z zachowaniem dodatkowych środków ostrożności, po szczególnym zatwierdzeniu podmiotu, którego dane te dotyczą</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każdym innym przypadku dane wrażliwe pozostają niedostępne (z wyjątkiem organów publicznych w szczególnych przypadkach).</a:t>
            </a:r>
            <a:endParaRPr b="0" lang="en-US" sz="20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51" name=""/>
          <p:cNvSpPr txBox="1"/>
          <p:nvPr/>
        </p:nvSpPr>
        <p:spPr>
          <a:xfrm>
            <a:off x="-360" y="1424160"/>
            <a:ext cx="298764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ne wrażliwe</a:t>
            </a:r>
            <a:endParaRPr b="0" lang="en-US" sz="2400" spc="-1" strike="noStrike">
              <a:solidFill>
                <a:srgbClr val="000000"/>
              </a:solidFill>
              <a:latin typeface="Arial"/>
            </a:endParaRPr>
          </a:p>
        </p:txBody>
      </p:sp>
      <p:sp>
        <p:nvSpPr>
          <p:cNvPr id="552" name="CasellaDiTesto 6"/>
          <p:cNvSpPr/>
          <p:nvPr/>
        </p:nvSpPr>
        <p:spPr>
          <a:xfrm>
            <a:off x="179280" y="1773360"/>
            <a:ext cx="8507520" cy="3109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Należy uważać za „wrażliwe” wszystkie te informacje, które należą do następujących kategorii: pochodzenie rasowe lub etniczne, poglądy polityczne, przekonania religijne lub filozoficzne; </a:t>
            </a:r>
            <a:r>
              <a:rPr b="0" lang="it-IT" sz="2200" spc="-1" strike="noStrike">
                <a:solidFill>
                  <a:srgbClr val="000000"/>
                </a:solidFill>
                <a:latin typeface="Arial Rounded MT Bold"/>
              </a:rPr>
              <a:t>c</a:t>
            </a:r>
            <a:r>
              <a:rPr b="0" lang="pl-PL" sz="2200" spc="-1" strike="noStrike">
                <a:solidFill>
                  <a:srgbClr val="000000"/>
                </a:solidFill>
                <a:latin typeface="Arial Rounded MT Bold"/>
              </a:rPr>
              <a:t>złonkostwo w związkach zawodowych; </a:t>
            </a:r>
            <a:r>
              <a:rPr b="0" lang="it-IT" sz="2200" spc="-1" strike="noStrike">
                <a:solidFill>
                  <a:srgbClr val="000000"/>
                </a:solidFill>
                <a:latin typeface="Arial Rounded MT Bold"/>
              </a:rPr>
              <a:t>d</a:t>
            </a:r>
            <a:r>
              <a:rPr b="0" lang="pl-PL" sz="2200" spc="-1" strike="noStrike">
                <a:solidFill>
                  <a:srgbClr val="000000"/>
                </a:solidFill>
                <a:latin typeface="Arial Rounded MT Bold"/>
              </a:rPr>
              <a:t>ane dotyczące zdrowia; życie seksualne lub orientacja seksualna osoby itp.</a:t>
            </a:r>
            <a:endParaRPr b="0" lang="en-US" sz="2200" spc="-1" strike="noStrike">
              <a:solidFill>
                <a:srgbClr val="000000"/>
              </a:solidFill>
              <a:latin typeface="Arial"/>
            </a:endParaRPr>
          </a:p>
        </p:txBody>
      </p:sp>
      <p:sp>
        <p:nvSpPr>
          <p:cNvPr id="553" name="CasellaDiTesto 1"/>
          <p:cNvSpPr/>
          <p:nvPr/>
        </p:nvSpPr>
        <p:spPr>
          <a:xfrm>
            <a:off x="684360" y="4811760"/>
            <a:ext cx="72104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dsumowując, oto krótki klip wideo ilustrujący wartości naszych danych i informacji dla potrzeb związanych z biznesem</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ane osobowe a dane wrażliwe Jak je chronić</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Jak chronić swoje dan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060640"/>
            <a:ext cx="8785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yskretność i powściągliwość w odniesieniu do stron internetowych, mediów i danych osobowych to pierwsza zasad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ając pełną świadomość tego, kto otrzymuje nasze informacje, jakiego rodzaju informacje udzielamy i, co najważniejsze, dlaczego są proszeni, jest strategią zawsze zwycięską</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dnak uzyskanie tego rodzaju wiedzy jest trudne, głównie dlatego, że nigdy nie jesteśmy w pełni świadomi odbiorców naszych danych</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583000" y="244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ane osobowe a dane wrażliwe Jak je chronić</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Jak chronić swoje dan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422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łaśnie dlatego podejmowanie tych niewiarygodnie łatwych i bardzo skutecznych działań jest zawsze rozsądnym wyborem</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Media społecznościowe: sprawdź ustawienia prywatności swoich kont</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Hasło: upewnij się, że masz silne i trudne do wykrycia hasł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Smartfon: zablokuj aplikacje, ukryj zdjęcia i wyłącz powiadomienia na ekrani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ane osobowe a dane wrażliwe Jak je chronić</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Jak chronić swoje dane?</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179280" y="1982880"/>
            <a:ext cx="8785440" cy="438048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Tajne przeglądanie, a jeszcze lepiej rozważ przyjęcie dostawcy VPN (wirtualnej sieci prywatnej)</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Jeśli to możliwe, staraj się unikać publicznego Wi-Fi i nigdy nie wstawiaj danych osobowych do żadnej witryny po podłączeniu do publicznego Wi-Fi</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Wybierz bardzo ostrożnie dokument przeznaczony do magazynów publicznych / internetowych / w chmurze</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Dodatkowo, dzięki niewielkiemu przeglądaniu, można znaleźć przydatne porady</a:t>
            </a:r>
            <a:r>
              <a:rPr b="0" lang="en-GB" sz="1800" spc="-1" strike="noStrike">
                <a:solidFill>
                  <a:srgbClr val="000000"/>
                </a:solidFill>
                <a:latin typeface="Arial Rounded MT Bold"/>
              </a:rPr>
              <a:t>: kliknij tutaj</a:t>
            </a:r>
            <a:endParaRPr b="0" lang="en-US" sz="1800" spc="-1" strike="noStrike">
              <a:solidFill>
                <a:srgbClr val="000000"/>
              </a:solidFill>
              <a:latin typeface="Arial"/>
            </a:endParaRPr>
          </a:p>
          <a:p>
            <a:pPr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30:01Z</dcterms:modified>
  <cp:revision>553</cp:revision>
  <dc:subject/>
  <dc:title>Title</dc:title>
</cp:coreProperties>
</file>