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7DA7F27-A705-4455-B675-3370BD1B3FE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35082E7-DE46-4C22-B989-05A358C48AB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A653791-8DF8-479F-AA94-E4397A58B5B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4D49ACB-55BD-43E7-AA67-9AEA1227205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B109F3F-7A2D-457E-95D8-55E86913F2F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A072E5E-C04B-413D-BDD2-3053979EBB1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832EDC1-1086-4DE7-A2A0-A0EA79FDB17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3426306-9307-4D94-8538-7B3AC5CD964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2E47FA7-A906-4E18-8924-512D6652A24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BFFACC1-30C8-4F43-9810-0DA1CFACF3A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A61F90A-BB6E-4DE6-B949-8A395CDEB0F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6AA8630-5EEC-4178-B016-B5A1D9C154E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B565A9A-D000-4B17-BEE8-6D1AE8F3831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331E8AA-D3A9-4F1E-B6CB-BC321D04D7F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7A91D14-D973-4354-A99A-F95ED3676F4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E9F9315-510E-4A11-A81C-12165DAF3A2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55255DC-27E6-4657-A8DE-93736AD9A23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457D601-BC20-4099-BD8A-556216F5A6B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44C740D-F30E-4772-A4FC-0E013F8EEFF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52E46D0-6A0F-42D9-862E-05D14266826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5CC5F1B-4294-44D1-975B-8A193E91A38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84EDFF0-CA15-420A-BD21-398D2408700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05090AC-CFFD-47A5-B118-337BA16AD44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37B070E-8D0A-49D9-9CE3-A47165F9F65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A5D3EA5-6105-4224-9759-8EAA5E24F75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5189C0D-0645-43C7-B36E-EFE197C0663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A672F68-4E25-41C9-B2F4-64B84E2BB6E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1678349-D172-419C-B0C9-C3B632B55B6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E83CBC3-0132-47DD-9EBA-C2D0DE568EA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6450CCC-5288-4072-A4E3-0F0CEE9D032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92EFD66-8D03-4AF1-B8CC-231D1FE1327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DA0EEA7-0DCC-490C-96AA-D7C8B8D1A01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740CFB8-BA6D-4250-9542-8573A6E3A94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FCF8BD4-943D-48C1-9F65-59D6B904A4C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5BF251E-FBB3-4013-A64E-DC259DD2B08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DBB7883-1A41-4639-AA79-B0EACC0D15B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F7D6B8F-71FD-4669-A1CF-33F53BBB06D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1CC14E1-2DE6-4816-BC33-98C4D169CC7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A3095B2-78CA-405A-A38F-B1B5C9EDCE1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BA50132-9EF0-4010-A0FE-9BC9B98DED7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0F0AD17-B3EB-494F-96E8-55A75F48698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1621983-D764-4C2E-9346-E95B7393FF6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E5BBC1C-3B84-40CC-81D5-89810B2A495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0C8D73E-37AE-480F-A5BF-FF44E990704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DC960D5-641E-40E8-9BAF-029102A7065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0BD282-C33A-4BC2-A8E5-9F581363D5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B39193-923F-44A5-BBC7-28C075D2CD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411FEF-41EF-4C82-A8B1-9FE485E853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9ED2AF-D77C-4B27-B3EB-836020BFC2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D2D3C8-2CBD-46C8-91C0-CE5AAFF33A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684645-3242-4DC6-A7AF-FE24910744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DA53FB-C03A-4393-969C-4315EFC6A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5BA426-74A1-43F8-8A4A-9BC5614EFF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2B8972-C34F-421C-83CF-54C8E78FC8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C4790E-487B-48C5-BC22-3A7FB2839C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6E2F62-0AB6-432D-8400-A403B2636B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AA2247-C002-4A84-93C7-9702B7167C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E72208B-78BE-48FE-BB65-0A085C59288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E9317BA-A5C7-4D9E-AB6D-8837BED8405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2AF6542-4EEB-4B31-BE5D-E9FE2708541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2CE2624-A7D3-4D2D-A183-601BB808413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112E6BB-2CFA-42C5-B134-9D40293D751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15F58B-49B9-4FF9-AE88-4CBE3E22E6B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81DB7B7-7E35-477F-8EC8-6CB43D3CDD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5904B3-D264-47FE-9E8E-F49111B2FBE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7DCEE13-DB7C-4605-B685-2F935239E6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D31719F-4035-4EAF-8F8A-FF3FCF9A441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003ABCC-F268-44D6-8BD4-9940F28D31A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D62FC1F-9B05-48A4-9AE1-382AB6017F8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63D6186-72CC-4A44-9DD2-99AE38C18D2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3660537-AD56-4AA4-852D-D1BED37380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13973AC-FD4D-4FE0-B375-16B4BCFAF98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8E7EACB-3F99-4DE5-9CFC-718E351B766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CCAFE56-F23A-45A1-A9F3-857BD89638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92011BF-5EFA-41D2-B222-CDEDF92872B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FCAEF97-C4C9-4CD3-96D1-BA9FB08AADE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BB832C-2588-4A30-905D-1550957987B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F7C370-FA5D-425C-A9EC-7606925155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726F154-DEAB-402D-B280-C95700DDF20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B77841D-E5F5-4BB8-825C-E9A7B94EEBC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03F3BDE-2807-46BB-A38C-0483B0EA0BE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ED625F0-103F-41F2-B6D5-0B9ADE128FF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EEC47ED-09DB-48BD-8DA6-2340E9CFA73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06BE4CB-A259-411B-9678-0120E1C23A6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898DCC6-BE20-4B00-8D4F-74565FA67AB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6846741-E726-4B50-BA63-DD0D4ADDD82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82B5B4A-DC48-4EF5-A9C7-AC2EB980D7A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7BFF93D-35F4-45D4-8C2C-F8AA64D0BA8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27226CB-368C-459D-A8A1-5422B5BDF51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ED78D73-7CE4-467B-BFCE-04C962E8844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44FDE25-90E5-4783-B52C-C16832B00E3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EEB02DC-23E2-4D75-9E26-606DD1BFCD0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27F11F1-620E-459D-8C1F-5753FAFA5F8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9B8C2AD-3F11-4B97-8CB9-87549AFD0D4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5D2415D-1FDC-487D-A71F-991A5FEBAF0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7667F95-83C9-44C4-9403-81AE8A63AF4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53BDF2C-B188-4769-BEBF-9190DC1564D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CE5D62C-6861-4172-B5D4-C4F41DE75C9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AA9C0AD-1704-4597-9F38-83B6F96EFC6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DE6BC0B-41D1-4E9E-8FC9-932A2FC6D38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58E791E-7077-46A2-A266-67077ACACC0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3B3C858-9242-4D4F-A684-E9DC30883C3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977F0DB-5DBE-4FBF-820A-A3BBF6C033C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E3EFAD4-6976-4D22-947F-3AEE9653D99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F45247E-2AE1-400B-A853-0D1E07D8D9A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2B85AA7-5D97-4F97-B92F-1BC18764F2D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5EB3BB7-0137-41D2-853E-967F184964D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4F5539E-4E9F-4AE3-83CD-20F313B3D63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8321493-A8BB-4B5C-B833-BE4D022B31F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A43A758-A203-433C-9EAE-DD1E2F8D658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D986C2B-3F25-4884-BCD4-FF3F8DAD6D9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A4EEF2A-8D32-419C-BAA0-0A6EB71636E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23A1317-5557-4799-825F-01DB7E2C21C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325C6E8-A770-424E-8B21-F38541BDDCC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688B6D6-04B5-4B9A-A311-CF823943553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9317294-A7C7-49F4-92B0-00DE896E8F4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9178B90-F694-4047-9066-0E078985A2F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D63A488-5F03-4D73-A2B8-F15E65F2931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EAC3140-0025-4011-B31D-73DBC5A3327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DB293B2-4E1D-4E0E-BE0A-C8AF1C0C3853}"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7702F-4CA7-4A47-B466-58A50B558DA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1911A-E717-4429-B5D1-425B256F1D8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E223-7993-4BD1-852A-B02480D3113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0B7EA-B514-44F7-96C6-9D6C2BD90A4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C1396-2700-4A36-A690-DBBF7432B7A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05F8B-07ED-4B8D-94FC-9E4240B3230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56FA7-C487-4018-B125-1FB9730B031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910AA-C2CC-4C90-964F-60FC66AA257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915C4-EC34-4E4D-B39B-C3FDB64AB13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DF4A5-84BA-4361-8D1E-C6E949E7C4E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mail.google.com/" TargetMode="Externa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www.whatsapp.com/"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messenger.com/" TargetMode="Externa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telegram.org/" TargetMode="Externa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wechat.com/"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www.viber.com/" TargetMode="Externa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355640" y="5157720"/>
            <a:ext cx="42483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Rozwiązywanie problemów</a:t>
            </a:r>
            <a:endParaRPr b="0" lang="en-US" sz="3600" spc="-1" strike="noStrike">
              <a:solidFill>
                <a:srgbClr val="000000"/>
              </a:solidFill>
              <a:latin typeface="Arial"/>
            </a:endParaRPr>
          </a:p>
        </p:txBody>
      </p:sp>
      <p:sp>
        <p:nvSpPr>
          <p:cNvPr id="537" name="Rectángulo 1"/>
          <p:cNvSpPr/>
          <p:nvPr/>
        </p:nvSpPr>
        <p:spPr>
          <a:xfrm>
            <a:off x="900000" y="3141720"/>
            <a:ext cx="8007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Identyfikacja alternatyw: wiadomości, e-mail, czat wide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908000" y="340920"/>
            <a:ext cx="7508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Alternatywne aplikacje do wiadomości e-mail</a:t>
            </a:r>
            <a:endParaRPr b="0" lang="en-US" sz="4000" spc="-1" strike="noStrike">
              <a:solidFill>
                <a:srgbClr val="000000"/>
              </a:solidFill>
              <a:latin typeface="Arial"/>
            </a:endParaRPr>
          </a:p>
        </p:txBody>
      </p:sp>
      <p:sp>
        <p:nvSpPr>
          <p:cNvPr id="573" name=""/>
          <p:cNvSpPr txBox="1"/>
          <p:nvPr/>
        </p:nvSpPr>
        <p:spPr>
          <a:xfrm>
            <a:off x="107640" y="1815840"/>
            <a:ext cx="82803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A</a:t>
            </a:r>
            <a:r>
              <a:rPr b="0" lang="pl-PL" sz="3200" spc="-1" strike="noStrike">
                <a:solidFill>
                  <a:srgbClr val="000000"/>
                </a:solidFill>
                <a:latin typeface="Arial Rounded MT Bold"/>
              </a:rPr>
              <a:t>plikacje do wiadomości e-mail</a:t>
            </a:r>
            <a:r>
              <a:rPr b="0" lang="en-GB" sz="3200" spc="-1" strike="noStrike">
                <a:solidFill>
                  <a:srgbClr val="000000"/>
                </a:solidFill>
                <a:latin typeface="Arial Rounded MT Bold"/>
              </a:rPr>
              <a:t>: Gmail</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CasellaDiTesto 6"/>
          <p:cNvSpPr/>
          <p:nvPr/>
        </p:nvSpPr>
        <p:spPr>
          <a:xfrm>
            <a:off x="108000" y="2479680"/>
            <a:ext cx="8188200" cy="310932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Gmail został opracowany przez Google i jest wydajną alternatywą dla aplikacji Outlook. W Gmailu możesz zalogować się zarówno na swoje konto Gmail, jak i konto Outlook, wszystko czego potrzebujesz to zapamiętać swój adres e-mail i hasło.</a:t>
            </a:r>
            <a:endParaRPr b="0" lang="en-US" sz="2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Gmail zapewnia także zarządzanie zadaniami i kalendarzem.</a:t>
            </a:r>
            <a:endParaRPr b="0" lang="en-US" sz="2200" spc="-1" strike="noStrike">
              <a:solidFill>
                <a:srgbClr val="000000"/>
              </a:solidFill>
              <a:latin typeface="Arial"/>
            </a:endParaRPr>
          </a:p>
        </p:txBody>
      </p:sp>
      <p:pic>
        <p:nvPicPr>
          <p:cNvPr id="575" name="Picture 2" descr="Image result for gmail"/>
          <p:cNvPicPr/>
          <p:nvPr/>
        </p:nvPicPr>
        <p:blipFill>
          <a:blip r:embed="rId1"/>
          <a:stretch/>
        </p:blipFill>
        <p:spPr>
          <a:xfrm>
            <a:off x="7729560" y="1303200"/>
            <a:ext cx="1306440" cy="1306800"/>
          </a:xfrm>
          <a:prstGeom prst="rect">
            <a:avLst/>
          </a:prstGeom>
          <a:ln w="0">
            <a:noFill/>
          </a:ln>
        </p:spPr>
      </p:pic>
      <p:sp>
        <p:nvSpPr>
          <p:cNvPr id="576" name="Rettangolo 1"/>
          <p:cNvSpPr/>
          <p:nvPr/>
        </p:nvSpPr>
        <p:spPr>
          <a:xfrm>
            <a:off x="3317040" y="5589720"/>
            <a:ext cx="2151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mail.google.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Alternatywne aplikacje do wiadomości e-mail</a:t>
            </a:r>
            <a:endParaRPr b="0" lang="en-US" sz="4000" spc="-1" strike="noStrike">
              <a:solidFill>
                <a:srgbClr val="000000"/>
              </a:solidFill>
              <a:latin typeface="Arial"/>
            </a:endParaRPr>
          </a:p>
        </p:txBody>
      </p:sp>
      <p:sp>
        <p:nvSpPr>
          <p:cNvPr id="578" name=""/>
          <p:cNvSpPr txBox="1"/>
          <p:nvPr/>
        </p:nvSpPr>
        <p:spPr>
          <a:xfrm>
            <a:off x="456840" y="1816200"/>
            <a:ext cx="7931160" cy="604800"/>
          </a:xfrm>
          <a:prstGeom prst="rect">
            <a:avLst/>
          </a:prstGeom>
          <a:noFill/>
          <a:ln w="0">
            <a:noFill/>
          </a:ln>
        </p:spPr>
        <p:txBody>
          <a:bodyPr anchor="t">
            <a:normAutofit fontScale="8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Jak </a:t>
            </a:r>
            <a:r>
              <a:rPr b="0" lang="it-IT" sz="3200" spc="-1" strike="noStrike">
                <a:solidFill>
                  <a:srgbClr val="000000"/>
                </a:solidFill>
                <a:latin typeface="Arial Rounded MT Bold"/>
              </a:rPr>
              <a:t>uzyska</a:t>
            </a:r>
            <a:r>
              <a:rPr b="0" lang="pl-PL" sz="3200" spc="-1" strike="noStrike">
                <a:solidFill>
                  <a:srgbClr val="000000"/>
                </a:solidFill>
                <a:latin typeface="Arial Rounded MT Bold"/>
              </a:rPr>
              <a:t>ć aplikacje do wiadomości e-mail</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lvl="1" marL="646200" indent="-248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46200" indent="-248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CasellaDiTesto 6"/>
          <p:cNvSpPr/>
          <p:nvPr/>
        </p:nvSpPr>
        <p:spPr>
          <a:xfrm>
            <a:off x="539640" y="2803680"/>
            <a:ext cx="8147160" cy="310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Jeśli masz smartfon (lub tablet) z Androidem, masz już aplikację Gmail na swoim urządzeniu jako aplikację domyślną. Zamiast tego, jeśli masz iPhone'a, musisz go pobrać ze Sklepu.</a:t>
            </a:r>
            <a:endParaRPr b="0" lang="en-US" sz="2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Aby mieć aplikację Outlook, musisz pobrać ją ze Sklepu, jeśli masz system Android lub iPhone.</a:t>
            </a:r>
            <a:endParaRPr b="0" lang="en-US" sz="2200" spc="-1" strike="noStrike">
              <a:solidFill>
                <a:srgbClr val="000000"/>
              </a:solidFill>
              <a:latin typeface="Arial"/>
            </a:endParaRPr>
          </a:p>
        </p:txBody>
      </p:sp>
      <p:sp>
        <p:nvSpPr>
          <p:cNvPr id="58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Rounded MT Bold"/>
              </a:rPr>
              <a:t>Alternatywne aplikacje do czatu wideo</a:t>
            </a:r>
            <a:endParaRPr b="0" lang="en-US" sz="4400" spc="-1" strike="noStrike">
              <a:solidFill>
                <a:srgbClr val="000000"/>
              </a:solidFill>
              <a:latin typeface="Arial"/>
            </a:endParaRPr>
          </a:p>
        </p:txBody>
      </p:sp>
      <p:sp>
        <p:nvSpPr>
          <p:cNvPr id="583" name="CasellaDiTesto 6"/>
          <p:cNvSpPr/>
          <p:nvPr/>
        </p:nvSpPr>
        <p:spPr>
          <a:xfrm>
            <a:off x="792000" y="1916280"/>
            <a:ext cx="7560000" cy="370332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Można użyć różnych aplikacji</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kype</a:t>
            </a:r>
            <a:endParaRPr b="0" lang="en-US" sz="22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Hangouts Meet</a:t>
            </a:r>
            <a:endParaRPr b="0" lang="en-US" sz="22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Facebook Messenger</a:t>
            </a:r>
            <a:endParaRPr b="0" lang="en-US" sz="22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Telegram</a:t>
            </a:r>
            <a:endParaRPr b="0" lang="en-US" sz="22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WeChat</a:t>
            </a:r>
            <a:endParaRPr b="0" lang="en-US" sz="22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Vib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Rounded MT Bold"/>
              </a:rPr>
              <a:t>Alternatywne aplikacje do czatu wideo</a:t>
            </a:r>
            <a:endParaRPr b="0" lang="en-US" sz="4400" spc="-1" strike="noStrike">
              <a:solidFill>
                <a:srgbClr val="000000"/>
              </a:solidFill>
              <a:latin typeface="Arial"/>
            </a:endParaRPr>
          </a:p>
        </p:txBody>
      </p:sp>
      <p:sp>
        <p:nvSpPr>
          <p:cNvPr id="585" name=""/>
          <p:cNvSpPr txBox="1"/>
          <p:nvPr/>
        </p:nvSpPr>
        <p:spPr>
          <a:xfrm>
            <a:off x="456840" y="1887480"/>
            <a:ext cx="7931160" cy="749520"/>
          </a:xfrm>
          <a:prstGeom prst="rect">
            <a:avLst/>
          </a:prstGeom>
          <a:noFill/>
          <a:ln w="0">
            <a:noFill/>
          </a:ln>
        </p:spPr>
        <p:txBody>
          <a:bodyPr anchor="t">
            <a:normAutofit fontScale="6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angouts Meet, </a:t>
            </a:r>
            <a:r>
              <a:rPr b="0" lang="en-GB" sz="3200" spc="-1" strike="noStrike">
                <a:solidFill>
                  <a:srgbClr val="000000"/>
                </a:solidFill>
                <a:latin typeface="Arial Rounded MT Bold"/>
              </a:rPr>
              <a:t> Whatsapp, Facebook Messanger, WeChat, Viber</a:t>
            </a:r>
            <a:endParaRPr b="0" lang="en-US" sz="3200" spc="-1" strike="noStrike">
              <a:solidFill>
                <a:srgbClr val="000000"/>
              </a:solidFill>
              <a:latin typeface="Arial"/>
            </a:endParaRPr>
          </a:p>
          <a:p>
            <a:pPr lvl="1" marL="497520" indent="-19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97520" indent="-19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CasellaDiTesto 6"/>
          <p:cNvSpPr/>
          <p:nvPr/>
        </p:nvSpPr>
        <p:spPr>
          <a:xfrm>
            <a:off x="647640" y="2898720"/>
            <a:ext cx="7848720" cy="2533320"/>
          </a:xfrm>
          <a:prstGeom prst="rect">
            <a:avLst/>
          </a:prstGeom>
          <a:noFill/>
          <a:ln w="0">
            <a:noFill/>
          </a:ln>
        </p:spPr>
        <p:style>
          <a:lnRef idx="0"/>
          <a:fillRef idx="0"/>
          <a:effectRef idx="0"/>
          <a:fontRef idx="minor"/>
        </p:style>
        <p:txBody>
          <a:bodyPr lIns="90000" rIns="90000" tIns="46800" bIns="46800" anchor="t">
            <a:spAutoFit/>
          </a:bodyPr>
          <a:p>
            <a:pPr lvl="1"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Możesz także użyć jednej z aplikacji, którą widzieliśmy, do przesyłania wiadomości, ponieważ większość z nich zapewnia czaty wideo i może być używana zarówno na urządzeniach mobilnych, jak i komputerach.</a:t>
            </a:r>
            <a:endParaRPr b="0" lang="en-US" sz="2000" spc="-1" strike="noStrike">
              <a:solidFill>
                <a:srgbClr val="000000"/>
              </a:solidFill>
              <a:latin typeface="Arial"/>
            </a:endParaRPr>
          </a:p>
        </p:txBody>
      </p:sp>
      <p:sp>
        <p:nvSpPr>
          <p:cNvPr id="58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lternative apps to video chat </a:t>
            </a:r>
            <a:endParaRPr b="0" lang="en-US" sz="4400" spc="-1" strike="noStrike">
              <a:solidFill>
                <a:srgbClr val="000000"/>
              </a:solidFill>
              <a:latin typeface="Arial"/>
            </a:endParaRPr>
          </a:p>
        </p:txBody>
      </p:sp>
      <p:sp>
        <p:nvSpPr>
          <p:cNvPr id="590" name=""/>
          <p:cNvSpPr txBox="1"/>
          <p:nvPr/>
        </p:nvSpPr>
        <p:spPr>
          <a:xfrm>
            <a:off x="456840" y="1816200"/>
            <a:ext cx="7931160" cy="6048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How to have apps for video chat</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CasellaDiTesto 6"/>
          <p:cNvSpPr/>
          <p:nvPr/>
        </p:nvSpPr>
        <p:spPr>
          <a:xfrm>
            <a:off x="457200" y="2421000"/>
            <a:ext cx="8147160" cy="34455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You can download each application from the Store of your mobile device.</a:t>
            </a:r>
            <a:endParaRPr b="0"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n order to use the app you prefer on your PC you can download it from the Store (if your computer provides it) or search the download file  from Internet. </a:t>
            </a:r>
            <a:endParaRPr b="0" lang="en-US" sz="2200" spc="-1" strike="noStrike">
              <a:solidFill>
                <a:srgbClr val="000000"/>
              </a:solidFill>
              <a:latin typeface="Arial"/>
            </a:endParaRPr>
          </a:p>
        </p:txBody>
      </p:sp>
      <p:sp>
        <p:nvSpPr>
          <p:cNvPr id="59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ele i zadania</a:t>
            </a:r>
            <a:endParaRPr b="0" lang="en-US" sz="4400" spc="-1" strike="noStrike">
              <a:solidFill>
                <a:srgbClr val="000000"/>
              </a:solidFill>
              <a:latin typeface="Arial"/>
            </a:endParaRPr>
          </a:p>
        </p:txBody>
      </p:sp>
      <p:sp>
        <p:nvSpPr>
          <p:cNvPr id="539" name="PlaceHolder 2"/>
          <p:cNvSpPr>
            <a:spLocks noGrp="1"/>
          </p:cNvSpPr>
          <p:nvPr>
            <p:ph/>
          </p:nvPr>
        </p:nvSpPr>
        <p:spPr>
          <a:xfrm>
            <a:off x="457200" y="1413000"/>
            <a:ext cx="8686800" cy="4525920"/>
          </a:xfrm>
          <a:prstGeom prst="rect">
            <a:avLst/>
          </a:prstGeom>
          <a:noFill/>
          <a:ln w="0">
            <a:noFill/>
          </a:ln>
        </p:spPr>
        <p:txBody>
          <a:bodyPr anchor="t">
            <a:normAutofit fontScale="95000"/>
          </a:bodyPr>
          <a:p>
            <a:pPr marL="766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Na końcu tego modułu będziesz </a:t>
            </a:r>
            <a:r>
              <a:rPr b="0" lang="it-IT" sz="3200" spc="-1" strike="noStrike">
                <a:solidFill>
                  <a:srgbClr val="000000"/>
                </a:solidFill>
                <a:latin typeface="Arial Rounded MT Bold"/>
              </a:rPr>
              <a:t>w stanie</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766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U</a:t>
            </a:r>
            <a:r>
              <a:rPr b="0" lang="pl-PL" sz="2800" spc="-1" strike="noStrike">
                <a:solidFill>
                  <a:srgbClr val="000000"/>
                </a:solidFill>
                <a:latin typeface="Arial Rounded MT Bold"/>
              </a:rPr>
              <a:t>żywa</a:t>
            </a:r>
            <a:r>
              <a:rPr b="0" lang="it-IT" sz="2800" spc="-1" strike="noStrike">
                <a:solidFill>
                  <a:srgbClr val="000000"/>
                </a:solidFill>
                <a:latin typeface="Arial Rounded MT Bold"/>
              </a:rPr>
              <a:t>c</a:t>
            </a:r>
            <a:r>
              <a:rPr b="0" lang="pl-PL" sz="2800" spc="-1" strike="noStrike">
                <a:solidFill>
                  <a:srgbClr val="000000"/>
                </a:solidFill>
                <a:latin typeface="Arial Rounded MT Bold"/>
              </a:rPr>
              <a:t> alternatywnych aplikacji</a:t>
            </a:r>
            <a:r>
              <a:rPr b="0" lang="en-GB" sz="2800" spc="-1" strike="noStrike">
                <a:solidFill>
                  <a:srgbClr val="000000"/>
                </a:solidFill>
                <a:latin typeface="Arial Rounded MT Bold"/>
              </a:rPr>
              <a:t> </a:t>
            </a:r>
            <a:r>
              <a:rPr b="0" lang="it-IT" sz="2800" spc="-1" strike="noStrike">
                <a:solidFill>
                  <a:srgbClr val="000000"/>
                </a:solidFill>
                <a:latin typeface="Arial Rounded MT Bold"/>
              </a:rPr>
              <a:t>d</a:t>
            </a:r>
            <a:r>
              <a:rPr b="0" lang="pl-PL" sz="2800" spc="-1" strike="noStrike">
                <a:solidFill>
                  <a:srgbClr val="000000"/>
                </a:solidFill>
                <a:latin typeface="Arial Rounded MT Bold"/>
              </a:rPr>
              <a:t>o przesyłania wiadomości</a:t>
            </a:r>
            <a:endParaRPr b="0" lang="en-US" sz="2800" spc="-1" strike="noStrike">
              <a:solidFill>
                <a:srgbClr val="000000"/>
              </a:solidFill>
              <a:latin typeface="Arial"/>
            </a:endParaRPr>
          </a:p>
          <a:p>
            <a:pPr marL="766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U</a:t>
            </a:r>
            <a:r>
              <a:rPr b="0" lang="pl-PL" sz="2800" spc="-1" strike="noStrike">
                <a:solidFill>
                  <a:srgbClr val="000000"/>
                </a:solidFill>
                <a:latin typeface="Arial Rounded MT Bold"/>
              </a:rPr>
              <a:t>żywa</a:t>
            </a:r>
            <a:r>
              <a:rPr b="0" lang="it-IT" sz="2800" spc="-1" strike="noStrike">
                <a:solidFill>
                  <a:srgbClr val="000000"/>
                </a:solidFill>
                <a:latin typeface="Arial Rounded MT Bold"/>
              </a:rPr>
              <a:t>c</a:t>
            </a:r>
            <a:r>
              <a:rPr b="0" lang="pl-PL" sz="2800" spc="-1" strike="noStrike">
                <a:solidFill>
                  <a:srgbClr val="000000"/>
                </a:solidFill>
                <a:latin typeface="Arial Rounded MT Bold"/>
              </a:rPr>
              <a:t> alternatywnych aplikacji</a:t>
            </a:r>
            <a:r>
              <a:rPr b="0" lang="it-IT" sz="2800" spc="-1" strike="noStrike">
                <a:solidFill>
                  <a:srgbClr val="000000"/>
                </a:solidFill>
                <a:latin typeface="Arial Rounded MT Bold"/>
              </a:rPr>
              <a:t> d</a:t>
            </a:r>
            <a:r>
              <a:rPr b="0" lang="pl-PL" sz="2800" spc="-1" strike="noStrike">
                <a:solidFill>
                  <a:srgbClr val="000000"/>
                </a:solidFill>
                <a:latin typeface="Arial Rounded MT Bold"/>
              </a:rPr>
              <a:t>o wysyłania wiadomości e-mail</a:t>
            </a:r>
            <a:endParaRPr b="0" lang="en-US" sz="2800" spc="-1" strike="noStrike">
              <a:solidFill>
                <a:srgbClr val="000000"/>
              </a:solidFill>
              <a:latin typeface="Arial"/>
            </a:endParaRPr>
          </a:p>
          <a:p>
            <a:pPr marL="766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pl-PL" sz="2800" spc="-1" strike="noStrike">
                <a:solidFill>
                  <a:srgbClr val="000000"/>
                </a:solidFill>
                <a:latin typeface="Arial Rounded MT Bold"/>
              </a:rPr>
              <a:t>Używa</a:t>
            </a:r>
            <a:r>
              <a:rPr b="0" lang="it-IT" sz="2800" spc="-1" strike="noStrike">
                <a:solidFill>
                  <a:srgbClr val="000000"/>
                </a:solidFill>
                <a:latin typeface="Arial Rounded MT Bold"/>
              </a:rPr>
              <a:t>c</a:t>
            </a:r>
            <a:r>
              <a:rPr b="0" lang="pl-PL" sz="2800" spc="-1" strike="noStrike">
                <a:solidFill>
                  <a:srgbClr val="000000"/>
                </a:solidFill>
                <a:latin typeface="Arial Rounded MT Bold"/>
              </a:rPr>
              <a:t> alternatywnych aplikacji do czatow</a:t>
            </a:r>
            <a:r>
              <a:rPr b="0" lang="it-IT" sz="2800" spc="-1" strike="noStrike">
                <a:solidFill>
                  <a:srgbClr val="000000"/>
                </a:solidFill>
                <a:latin typeface="Arial Rounded MT Bold"/>
              </a:rPr>
              <a:t> </a:t>
            </a:r>
            <a:r>
              <a:rPr b="0" lang="pl-PL" sz="2800" spc="-1" strike="noStrike">
                <a:solidFill>
                  <a:srgbClr val="000000"/>
                </a:solidFill>
                <a:latin typeface="Arial Rounded MT Bold"/>
              </a:rPr>
              <a:t>wideo</a:t>
            </a:r>
            <a:endParaRPr b="0" lang="en-US" sz="2800" spc="-1" strike="noStrike">
              <a:solidFill>
                <a:srgbClr val="000000"/>
              </a:solidFill>
              <a:latin typeface="Arial"/>
            </a:endParaRPr>
          </a:p>
          <a:p>
            <a:pPr marL="766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Rounded MT Bold"/>
              </a:rPr>
              <a:t>Alternatywne aplikacje do przesyłania wiadomości</a:t>
            </a:r>
            <a:endParaRPr b="0" lang="en-US" sz="4400" spc="-1" strike="noStrike">
              <a:solidFill>
                <a:srgbClr val="000000"/>
              </a:solidFill>
              <a:latin typeface="Arial"/>
            </a:endParaRPr>
          </a:p>
        </p:txBody>
      </p:sp>
      <p:sp>
        <p:nvSpPr>
          <p:cNvPr id="541" name=""/>
          <p:cNvSpPr txBox="1"/>
          <p:nvPr/>
        </p:nvSpPr>
        <p:spPr>
          <a:xfrm>
            <a:off x="456840" y="181584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Aplikacje do przesyłania wiadomości</a:t>
            </a:r>
            <a:endParaRPr b="0" lang="en-US" sz="32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CasellaDiTesto 6"/>
          <p:cNvSpPr/>
          <p:nvPr/>
        </p:nvSpPr>
        <p:spPr>
          <a:xfrm>
            <a:off x="755640" y="2441520"/>
            <a:ext cx="7931160" cy="338580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Można użyć różnych aplikacji</a:t>
            </a:r>
            <a:r>
              <a:rPr b="0" lang="hu-HU" sz="2400" spc="-1" strike="noStrike">
                <a:solidFill>
                  <a:srgbClr val="000000"/>
                </a:solidFill>
                <a:latin typeface="Arial Rounded MT Bold"/>
              </a:rPr>
              <a:t>:</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sapp</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Messenge</a:t>
            </a:r>
            <a:r>
              <a:rPr b="0" lang="hu-HU" sz="2400" spc="-1" strike="noStrike">
                <a:solidFill>
                  <a:srgbClr val="000000"/>
                </a:solidFill>
                <a:latin typeface="Arial Rounded MT Bold"/>
              </a:rPr>
              <a:t>r</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elegram</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eChat</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Vi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979280" y="274320"/>
            <a:ext cx="67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Rounded MT Bold"/>
              </a:rPr>
              <a:t>Alternatywne aplikacje do przesyłania wiadomości</a:t>
            </a:r>
            <a:endParaRPr b="0" lang="en-US" sz="4400" spc="-1" strike="noStrike">
              <a:solidFill>
                <a:srgbClr val="000000"/>
              </a:solidFill>
              <a:latin typeface="Arial"/>
            </a:endParaRPr>
          </a:p>
        </p:txBody>
      </p:sp>
      <p:sp>
        <p:nvSpPr>
          <p:cNvPr id="544" name=""/>
          <p:cNvSpPr txBox="1"/>
          <p:nvPr/>
        </p:nvSpPr>
        <p:spPr>
          <a:xfrm>
            <a:off x="457200" y="1815840"/>
            <a:ext cx="8291520" cy="749160"/>
          </a:xfrm>
          <a:prstGeom prst="rect">
            <a:avLst/>
          </a:prstGeom>
          <a:noFill/>
          <a:ln w="0">
            <a:noFill/>
          </a:ln>
        </p:spPr>
        <p:txBody>
          <a:bodyPr anchor="t">
            <a:normAutofit fontScale="82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kacje do przesyłania wiadomości:  WhatsApp</a:t>
            </a:r>
            <a:endParaRPr b="0" lang="en-US" sz="3200" spc="-1" strike="noStrike">
              <a:solidFill>
                <a:srgbClr val="000000"/>
              </a:solidFill>
              <a:latin typeface="Arial"/>
            </a:endParaRPr>
          </a:p>
          <a:p>
            <a:pPr lvl="1" marL="609120" indent="-234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9120" indent="-234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5" name="Picture 4" descr="C:\Users\Lorenzo\Desktop\WhatsApp_chatting.jpg"/>
          <p:cNvPicPr/>
          <p:nvPr/>
        </p:nvPicPr>
        <p:blipFill>
          <a:blip r:embed="rId1"/>
          <a:stretch/>
        </p:blipFill>
        <p:spPr>
          <a:xfrm>
            <a:off x="5464080" y="2676600"/>
            <a:ext cx="3284640" cy="2624040"/>
          </a:xfrm>
          <a:prstGeom prst="rect">
            <a:avLst/>
          </a:prstGeom>
          <a:ln w="0">
            <a:noFill/>
          </a:ln>
        </p:spPr>
      </p:pic>
      <p:sp>
        <p:nvSpPr>
          <p:cNvPr id="546" name="CasellaDiTesto 6"/>
          <p:cNvSpPr/>
          <p:nvPr/>
        </p:nvSpPr>
        <p:spPr>
          <a:xfrm>
            <a:off x="395280" y="2944800"/>
            <a:ext cx="4681440" cy="338580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Whatsapp </a:t>
            </a:r>
            <a:r>
              <a:rPr b="0" lang="pl-PL" sz="1800" spc="-1" strike="noStrike">
                <a:solidFill>
                  <a:srgbClr val="000000"/>
                </a:solidFill>
                <a:latin typeface="Arial Rounded MT Bold"/>
              </a:rPr>
              <a:t>jest najczęściej używaną aplikacją do przesyłania wiadomości online: pozwala użytkownikom wysyłać wiadomości tekstowe i głosowe, nawiązywać połączenia głosowe i wideo, a także udostępniać obrazy, dokumenty, lokalizacje użytkowników i inne media</a:t>
            </a:r>
            <a:r>
              <a:rPr b="0" lang="en-US" sz="1800" spc="-1" strike="noStrike">
                <a:solidFill>
                  <a:srgbClr val="000000"/>
                </a:solidFill>
                <a:latin typeface="Arial Rounded MT Bold"/>
              </a:rPr>
              <a:t>. </a:t>
            </a:r>
            <a:endParaRPr b="0" lang="en-US" sz="1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ttangolo 1"/>
          <p:cNvSpPr/>
          <p:nvPr/>
        </p:nvSpPr>
        <p:spPr>
          <a:xfrm>
            <a:off x="5727600" y="5411880"/>
            <a:ext cx="2509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whatsapp.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29920" y="198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Rounded MT Bold"/>
              </a:rPr>
              <a:t>Alternatywne aplikacje do przesyłania wiadomości</a:t>
            </a:r>
            <a:endParaRPr b="0" lang="en-US" sz="4400" spc="-1" strike="noStrike">
              <a:solidFill>
                <a:srgbClr val="000000"/>
              </a:solidFill>
              <a:latin typeface="Arial"/>
            </a:endParaRPr>
          </a:p>
        </p:txBody>
      </p:sp>
      <p:sp>
        <p:nvSpPr>
          <p:cNvPr id="549" name=""/>
          <p:cNvSpPr txBox="1"/>
          <p:nvPr/>
        </p:nvSpPr>
        <p:spPr>
          <a:xfrm>
            <a:off x="324000" y="1600200"/>
            <a:ext cx="8712000" cy="103680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plikacje do przesyłania wiadomości: Facebook Messenger</a:t>
            </a:r>
            <a:endParaRPr b="0" lang="en-US" sz="3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CasellaDiTesto 6"/>
          <p:cNvSpPr/>
          <p:nvPr/>
        </p:nvSpPr>
        <p:spPr>
          <a:xfrm>
            <a:off x="468360" y="2779560"/>
            <a:ext cx="8351640" cy="338580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Facebook Messenger </a:t>
            </a:r>
            <a:r>
              <a:rPr b="0" lang="pl-PL" sz="1800" spc="-1" strike="noStrike">
                <a:solidFill>
                  <a:srgbClr val="000000"/>
                </a:solidFill>
                <a:latin typeface="Arial Rounded MT Bold"/>
              </a:rPr>
              <a:t>to aplikacja i platforma do przesyłania wiadomości.</a:t>
            </a:r>
            <a:endParaRPr b="0" lang="en-US" sz="18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Jeśli masz konto na Facebooku, to automatycznie masz konto na Facebooku Messenger: wystarczy pobrać aplikację ze Sklepu i zalogować się przy użyciu swoich danych logowania na Facebooku.</a:t>
            </a:r>
            <a:endParaRPr b="0" lang="en-US" sz="18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Możesz rozmawiać ze znajomymi lub kimkolwiek, kto ma profil na Facebooku.</a:t>
            </a:r>
            <a:endParaRPr b="0" lang="en-US" sz="18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Gdy logujesz się za pomocą Facebooka z komputera, również logujesz się do Messengera.</a:t>
            </a:r>
            <a:endParaRPr b="0" lang="en-US" sz="1800" spc="-1" strike="noStrike">
              <a:solidFill>
                <a:srgbClr val="000000"/>
              </a:solidFill>
              <a:latin typeface="Arial"/>
            </a:endParaRPr>
          </a:p>
        </p:txBody>
      </p:sp>
      <p:pic>
        <p:nvPicPr>
          <p:cNvPr id="551" name="Picture 2" descr="Image result for facebook messenger"/>
          <p:cNvPicPr/>
          <p:nvPr/>
        </p:nvPicPr>
        <p:blipFill>
          <a:blip r:embed="rId1"/>
          <a:stretch/>
        </p:blipFill>
        <p:spPr>
          <a:xfrm>
            <a:off x="7711920" y="2235240"/>
            <a:ext cx="1079640" cy="1089000"/>
          </a:xfrm>
          <a:prstGeom prst="rect">
            <a:avLst/>
          </a:prstGeom>
          <a:ln w="0">
            <a:noFill/>
          </a:ln>
        </p:spPr>
      </p:pic>
      <p:sp>
        <p:nvSpPr>
          <p:cNvPr id="552" name="Rettangolo 1"/>
          <p:cNvSpPr/>
          <p:nvPr/>
        </p:nvSpPr>
        <p:spPr>
          <a:xfrm>
            <a:off x="3325680" y="5732640"/>
            <a:ext cx="2637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messenger.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Rounded MT Bold"/>
              </a:rPr>
              <a:t>Alternatywne aplikacje do przesyłania wiadomości</a:t>
            </a:r>
            <a:endParaRPr b="0" lang="en-US" sz="4400" spc="-1" strike="noStrike">
              <a:solidFill>
                <a:srgbClr val="000000"/>
              </a:solidFill>
              <a:latin typeface="Arial"/>
            </a:endParaRPr>
          </a:p>
        </p:txBody>
      </p:sp>
      <p:sp>
        <p:nvSpPr>
          <p:cNvPr id="554" name=""/>
          <p:cNvSpPr txBox="1"/>
          <p:nvPr/>
        </p:nvSpPr>
        <p:spPr>
          <a:xfrm>
            <a:off x="456840" y="1815840"/>
            <a:ext cx="7931160" cy="1036440"/>
          </a:xfrm>
          <a:prstGeom prst="rect">
            <a:avLst/>
          </a:prstGeom>
          <a:noFill/>
          <a:ln w="0">
            <a:noFill/>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kacje do przesyłania wiadomości:  Telegram</a:t>
            </a:r>
            <a:endParaRPr b="0" lang="en-US" sz="3200" spc="-1" strike="noStrike">
              <a:solidFill>
                <a:srgbClr val="000000"/>
              </a:solidFill>
              <a:latin typeface="Arial"/>
            </a:endParaRPr>
          </a:p>
          <a:p>
            <a:pPr lvl="1" marL="713160" indent="-274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CasellaDiTesto 6"/>
          <p:cNvSpPr/>
          <p:nvPr/>
        </p:nvSpPr>
        <p:spPr>
          <a:xfrm>
            <a:off x="430200" y="2563920"/>
            <a:ext cx="8207280" cy="276084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Telegram to opart</a:t>
            </a:r>
            <a:r>
              <a:rPr b="0" lang="it-IT" sz="1800" spc="-1" strike="noStrike">
                <a:solidFill>
                  <a:srgbClr val="000000"/>
                </a:solidFill>
                <a:latin typeface="Arial Rounded MT Bold"/>
              </a:rPr>
              <a:t>y</a:t>
            </a:r>
            <a:r>
              <a:rPr b="0" lang="pl-PL" sz="1800" spc="-1" strike="noStrike">
                <a:solidFill>
                  <a:srgbClr val="000000"/>
                </a:solidFill>
                <a:latin typeface="Arial Rounded MT Bold"/>
              </a:rPr>
              <a:t> na chmurze komunikator internetowy i usługa przesyłania głosu przez IP. Jest bardzo podobny do Whatsapp, a ponadto Telegram ma „kanały”, które można wykorzystać do nadawania wiadomości do nieograniczonej liczby subskrybentów.</a:t>
            </a:r>
            <a:endParaRPr b="0" lang="en-US" sz="18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Telegramu można używać także na PC</a:t>
            </a:r>
            <a:r>
              <a:rPr b="0" lang="en-US" sz="1800" spc="-1" strike="noStrike">
                <a:solidFill>
                  <a:srgbClr val="000000"/>
                </a:solidFill>
                <a:latin typeface="Arial Rounded MT Bold"/>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4" descr="Image result for telegram"/>
          <p:cNvPicPr/>
          <p:nvPr/>
        </p:nvPicPr>
        <p:blipFill>
          <a:blip r:embed="rId1"/>
          <a:stretch/>
        </p:blipFill>
        <p:spPr>
          <a:xfrm>
            <a:off x="7372440" y="1360440"/>
            <a:ext cx="1139760" cy="1081080"/>
          </a:xfrm>
          <a:prstGeom prst="rect">
            <a:avLst/>
          </a:prstGeom>
          <a:ln w="0">
            <a:noFill/>
          </a:ln>
        </p:spPr>
      </p:pic>
      <p:sp>
        <p:nvSpPr>
          <p:cNvPr id="557" name="Rettangolo 1"/>
          <p:cNvSpPr/>
          <p:nvPr/>
        </p:nvSpPr>
        <p:spPr>
          <a:xfrm>
            <a:off x="3628800" y="5656320"/>
            <a:ext cx="18860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telegram.org/</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Rounded MT Bold"/>
              </a:rPr>
              <a:t>Alternatywne aplikacje do przesyłania wiadomości</a:t>
            </a:r>
            <a:endParaRPr b="0" lang="en-US" sz="4400" spc="-1" strike="noStrike">
              <a:solidFill>
                <a:srgbClr val="000000"/>
              </a:solidFill>
              <a:latin typeface="Arial"/>
            </a:endParaRPr>
          </a:p>
        </p:txBody>
      </p:sp>
      <p:sp>
        <p:nvSpPr>
          <p:cNvPr id="559" name=""/>
          <p:cNvSpPr txBox="1"/>
          <p:nvPr/>
        </p:nvSpPr>
        <p:spPr>
          <a:xfrm>
            <a:off x="456840" y="1703160"/>
            <a:ext cx="7931160" cy="803160"/>
          </a:xfrm>
          <a:prstGeom prst="rect">
            <a:avLst/>
          </a:prstGeom>
          <a:noFill/>
          <a:ln w="0">
            <a:noFill/>
          </a:ln>
        </p:spPr>
        <p:txBody>
          <a:bodyPr anchor="t">
            <a:normAutofit fontScale="8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kacje do przesyłania wiadomości:  WeChat</a:t>
            </a:r>
            <a:endParaRPr b="0" lang="en-US" sz="3200" spc="-1" strike="noStrike">
              <a:solidFill>
                <a:srgbClr val="000000"/>
              </a:solidFill>
              <a:latin typeface="Arial"/>
            </a:endParaRPr>
          </a:p>
          <a:p>
            <a:pPr lvl="1" marL="631440" indent="-24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1440" indent="-24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CasellaDiTesto 6"/>
          <p:cNvSpPr/>
          <p:nvPr/>
        </p:nvSpPr>
        <p:spPr>
          <a:xfrm>
            <a:off x="468360" y="2833560"/>
            <a:ext cx="820728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Podobnie jak Whatsapp, WeChat zapewnia wiadomości tekstowe, telewizyjne i głosowe. Dzięki niemu możesz udostępniać zdjęcia, filmy, dokumenty i lokalizację, a także prowadzić rozmowy wideo i konferencje. WeChat pozwala także użytkownikom wymieniać kontakty z osobami w pobliżu przez Bluetooth, a także może integrować się z innymi serwisami społecznościowymi, takimi jak Facebook.</a:t>
            </a:r>
            <a:endParaRPr b="0" lang="en-US" sz="1800" spc="-1" strike="noStrike">
              <a:solidFill>
                <a:srgbClr val="000000"/>
              </a:solidFill>
              <a:latin typeface="Arial"/>
            </a:endParaRPr>
          </a:p>
        </p:txBody>
      </p:sp>
      <p:pic>
        <p:nvPicPr>
          <p:cNvPr id="561" name="Picture 2" descr="Image result for wechat"/>
          <p:cNvPicPr/>
          <p:nvPr/>
        </p:nvPicPr>
        <p:blipFill>
          <a:blip r:embed="rId1"/>
          <a:stretch/>
        </p:blipFill>
        <p:spPr>
          <a:xfrm>
            <a:off x="7812000" y="1446120"/>
            <a:ext cx="1008000" cy="1008000"/>
          </a:xfrm>
          <a:prstGeom prst="rect">
            <a:avLst/>
          </a:prstGeom>
          <a:ln w="0">
            <a:noFill/>
          </a:ln>
        </p:spPr>
      </p:pic>
      <p:sp>
        <p:nvSpPr>
          <p:cNvPr id="562" name="Rettangolo 1"/>
          <p:cNvSpPr/>
          <p:nvPr/>
        </p:nvSpPr>
        <p:spPr>
          <a:xfrm>
            <a:off x="3450600" y="5715000"/>
            <a:ext cx="22428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wechat.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Rounded MT Bold"/>
              </a:rPr>
              <a:t>Alternatywne aplikacje do przesyłania wiadomości</a:t>
            </a:r>
            <a:endParaRPr b="0" lang="en-US" sz="4400" spc="-1" strike="noStrike">
              <a:solidFill>
                <a:srgbClr val="000000"/>
              </a:solidFill>
              <a:latin typeface="Arial"/>
            </a:endParaRPr>
          </a:p>
        </p:txBody>
      </p:sp>
      <p:sp>
        <p:nvSpPr>
          <p:cNvPr id="564" name=""/>
          <p:cNvSpPr txBox="1"/>
          <p:nvPr/>
        </p:nvSpPr>
        <p:spPr>
          <a:xfrm>
            <a:off x="456840" y="1815840"/>
            <a:ext cx="7931160" cy="1036440"/>
          </a:xfrm>
          <a:prstGeom prst="rect">
            <a:avLst/>
          </a:prstGeom>
          <a:noFill/>
          <a:ln w="0">
            <a:noFill/>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kacje do przesyłania wiadomości:  Viber</a:t>
            </a:r>
            <a:endParaRPr b="0" lang="en-US" sz="3200" spc="-1" strike="noStrike">
              <a:solidFill>
                <a:srgbClr val="000000"/>
              </a:solidFill>
              <a:latin typeface="Arial"/>
            </a:endParaRPr>
          </a:p>
          <a:p>
            <a:pPr lvl="1" marL="713160" indent="-274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274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CasellaDiTesto 6"/>
          <p:cNvSpPr/>
          <p:nvPr/>
        </p:nvSpPr>
        <p:spPr>
          <a:xfrm>
            <a:off x="468360" y="2897280"/>
            <a:ext cx="82072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Viber to kolejna aplikacja bardzo podobna do Whatsapp, zapewnia wiadomości tekstowe i głosowe, połączenia wideo, zdjęcia i inne udostępnianie multimediów. Podobnie jak Whatsapp i Telegram, możesz zalogować się na Viber również z komputerów.</a:t>
            </a:r>
            <a:endParaRPr b="0" lang="en-US" sz="1800" spc="-1" strike="noStrike">
              <a:solidFill>
                <a:srgbClr val="000000"/>
              </a:solidFill>
              <a:latin typeface="Arial"/>
            </a:endParaRPr>
          </a:p>
        </p:txBody>
      </p:sp>
      <p:pic>
        <p:nvPicPr>
          <p:cNvPr id="566" name="Picture 2" descr="Image result for viber"/>
          <p:cNvPicPr/>
          <p:nvPr/>
        </p:nvPicPr>
        <p:blipFill>
          <a:blip r:embed="rId1"/>
          <a:stretch/>
        </p:blipFill>
        <p:spPr>
          <a:xfrm>
            <a:off x="6659640" y="2262240"/>
            <a:ext cx="1887480" cy="950760"/>
          </a:xfrm>
          <a:prstGeom prst="rect">
            <a:avLst/>
          </a:prstGeom>
          <a:ln w="0">
            <a:noFill/>
          </a:ln>
        </p:spPr>
      </p:pic>
      <p:sp>
        <p:nvSpPr>
          <p:cNvPr id="567" name="Rettangolo 1"/>
          <p:cNvSpPr/>
          <p:nvPr/>
        </p:nvSpPr>
        <p:spPr>
          <a:xfrm>
            <a:off x="3369960" y="5602320"/>
            <a:ext cx="2105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viber.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Jak </a:t>
            </a:r>
            <a:r>
              <a:rPr b="0" lang="it-IT" sz="4000" spc="-1" strike="noStrike">
                <a:solidFill>
                  <a:srgbClr val="000000"/>
                </a:solidFill>
                <a:latin typeface="Arial Rounded MT Bold"/>
              </a:rPr>
              <a:t>uzyska</a:t>
            </a:r>
            <a:r>
              <a:rPr b="0" lang="pl-PL" sz="4000" spc="-1" strike="noStrike">
                <a:solidFill>
                  <a:srgbClr val="000000"/>
                </a:solidFill>
                <a:latin typeface="Arial Rounded MT Bold"/>
              </a:rPr>
              <a:t>ć aplikacje do przesyłania wiadomości</a:t>
            </a:r>
            <a:r>
              <a:rPr b="0" lang="hu-HU" sz="4000" spc="-1" strike="noStrike">
                <a:solidFill>
                  <a:srgbClr val="000000"/>
                </a:solidFill>
                <a:latin typeface="Arial Rounded MT Bold"/>
              </a:rPr>
              <a:t>?</a:t>
            </a:r>
            <a:endParaRPr b="0" lang="en-US" sz="4000" spc="-1" strike="noStrike">
              <a:solidFill>
                <a:srgbClr val="000000"/>
              </a:solidFill>
              <a:latin typeface="Arial"/>
            </a:endParaRPr>
          </a:p>
        </p:txBody>
      </p:sp>
      <p:sp>
        <p:nvSpPr>
          <p:cNvPr id="569" name="CasellaDiTesto 6"/>
          <p:cNvSpPr/>
          <p:nvPr/>
        </p:nvSpPr>
        <p:spPr>
          <a:xfrm>
            <a:off x="460440" y="1773360"/>
            <a:ext cx="82087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Istnieją również inne bezpłatne aplikacje, których można używać do przesyłania wiadomości</a:t>
            </a:r>
            <a:r>
              <a:rPr b="0" lang="it-IT" sz="2400" spc="-1" strike="noStrike">
                <a:solidFill>
                  <a:srgbClr val="000000"/>
                </a:solidFill>
                <a:latin typeface="Arial Rounded MT Bold"/>
              </a:rPr>
              <a:t> i jest to </a:t>
            </a:r>
            <a:r>
              <a:rPr b="0" lang="pl-PL" sz="2400" spc="-1" strike="noStrike">
                <a:solidFill>
                  <a:srgbClr val="000000"/>
                </a:solidFill>
                <a:latin typeface="Arial Rounded MT Bold"/>
              </a:rPr>
              <a:t> bardzo łatwe. Możesz wybrać aplikację, którą wolisz przeszukiwać w Sklepie na swoim smartfonie (Play Store na Androida lub App Store na iOS)</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Musisz tylko wpisać nazwę aplikacji, którą </a:t>
            </a:r>
            <a:r>
              <a:rPr b="0" lang="it-IT" sz="2400" spc="-1" strike="noStrike">
                <a:solidFill>
                  <a:srgbClr val="000000"/>
                </a:solidFill>
                <a:latin typeface="Arial Rounded MT Bold"/>
              </a:rPr>
              <a:t>wolisz</a:t>
            </a:r>
            <a:r>
              <a:rPr b="0" lang="pl-PL" sz="2400" spc="-1" strike="noStrike">
                <a:solidFill>
                  <a:srgbClr val="000000"/>
                </a:solidFill>
                <a:latin typeface="Arial Rounded MT Bold"/>
              </a:rPr>
              <a:t> najbardziej w sklepie i ją zainstalować!</a:t>
            </a:r>
            <a:endParaRPr b="0" lang="en-US" sz="2400" spc="-1" strike="noStrike">
              <a:solidFill>
                <a:srgbClr val="000000"/>
              </a:solidFill>
              <a:latin typeface="Arial"/>
            </a:endParaRPr>
          </a:p>
        </p:txBody>
      </p:sp>
      <p:sp>
        <p:nvSpPr>
          <p:cNvPr id="57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4T08:30:38Z</dcterms:modified>
  <cp:revision>480</cp:revision>
  <dc:subject/>
  <dc:title>Title</dc:title>
</cp:coreProperties>
</file>