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6D2385-0E18-46B6-80EB-F8205C260F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0817EB-066F-454E-B64A-E2965E4C2E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860D59-D23E-4370-BA45-6BA89CCCD7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FD4B82-CE95-4122-B36C-ACCE605173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444077-DC82-4A9B-ADF2-6D06929DC6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9C911A-105F-44D2-975F-0085945BA8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FD629DF-15EA-4D84-BC8A-94A29F4CD6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80D1FE-F4A4-4CD1-980B-6B820BA91D5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446BB40-0690-419B-9868-9CC4C7882DA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B1FAF62-39E9-4DEA-A1C4-E19FAD3FD8A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4C79B6-A034-4958-90BA-9E6D154C5BA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745593-E2FE-4D26-97D6-8BBA258135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2AB17E-359B-4F98-8612-7D90FADE410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68DE64-3B26-4BD4-9084-CCD5E4A7D65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62D886-C2BB-4C01-BC0C-049D55CB756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B431F4-FF09-4E6E-A9DB-F037FEEC81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F27ED6-0F62-487A-827E-414E7ED161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527FAB-32CB-4246-9CD9-5F4854E174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F6C1346-F300-4889-B6B5-D4C68BDC16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6732FAB-CBF7-4D8C-B6D6-4A2892F4C96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72ED749-3B4B-4438-A093-215FD99D8A7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93F413E-933C-4C92-B3DC-6836BEE9B0C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BE223AB-9A31-4A15-A6C6-3463AAE2AF9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F3EDDB0-844F-4414-BCCA-BB99B033499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D80B15-F83C-4631-A736-31B3E71AD6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C007BE-20C2-4AC3-92AD-1D14CE6F04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09B552A-942E-4DB0-A21B-B6FD227D25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3E89D6B-3E0D-4B5E-8C3A-40EB73704F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3BF528-89A1-4864-83B8-C7A36F07FA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DD7DAC-7B11-48FD-A380-115A660FDC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32FCA3-E9FA-4FCC-9C4E-0F186E3AE5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0191064-ADCF-4F12-9840-23C9AC4381E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B24AC57-DCFE-4A48-96EE-067EE5DB5A8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F58256C-E9E2-4A99-BB3C-3A2383D4286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BFE508E-03C9-4B5F-8509-1EA49A7BCB8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635C73A-8047-4150-AD61-664B5A99AA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7D9A129-7DA3-474B-99C1-FC1211FF6A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ED09DE-8602-4403-854D-E2BBA0AD5A7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325160-5494-4B5F-9309-3FBB973BFD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32B225-8F31-4CB3-88AD-70461791AB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AE7A5A8-1688-4FD3-88E4-1611CD7D54A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C4A0A46-CA09-4248-81A7-B828F7379E7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11A11E2-696E-4FB5-8302-562D66C9CAB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159F2CC-706B-46FC-B07C-59BFA3DF1CA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2171643-7540-4BA1-8DF6-C6497D6BF9A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E8EBC-970E-4C7D-9313-1FE499515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F53ED-CC51-4131-8401-9097A691C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796A0-AB05-4B93-9067-5C95EEE30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A9A34-14F8-49B9-B3B8-5C455DC9F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0615E-4EBB-4979-AAB9-BAEF896F3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A54B5-5DCF-4CF2-83A0-0CC707ADA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3AB8F-496E-4D25-94DD-BC267DFEE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EF3BC-FD36-4328-8F84-D5C330CB8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EF996-1182-4AC8-9AD8-EE3B17F43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3A296-F256-41CA-8141-113E11C7E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8AC8D-8302-4AB5-90F4-D3E1C2FC1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848FFE-5559-4590-9727-2041047539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0BD98D-3161-4AD4-BAEC-E987442340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C40D06-7271-4666-AE46-A63848A0A6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E1EF1C-9057-4644-9A45-04E3514B41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822956-EB14-4D9A-9475-4A2CF51CC5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6BD1AF-A439-40B3-86AA-21784A0E6E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17492D-CE57-4144-AB5D-C2BD14A466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B83C8C-BA9C-43CB-BD73-AC5777CD15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1C5E25-3BA8-4361-B9B8-26EF673EFF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CEA5B4-84D9-48AF-A945-05EFAB07FB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C8442C-45F3-4A8A-831D-64544385BC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635000-A0B2-43B3-B490-75A8820648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7B1930-14A8-4916-AFFD-CD7F9C5876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F8A4D5-675D-47CE-830D-EDE14B87BD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9C3015-EABD-445A-93C3-67219E81FF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B5D3FD-290C-45BE-8CB4-F9FD29FBB8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BCF9C8-44C8-4F17-8C31-0C8467B518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C9AC3F-9915-43CA-AE3E-6C9E6D33A9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8F77CA-F87C-4A43-A258-45AEC99550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83D0C0-94AD-449C-9C61-4602177539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B3F931-A179-4546-9419-580741D3DB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3AF58C-9BA6-410C-9744-C431C70B6A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661DCB-3941-4031-8FFA-BAE49DEADD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DB6763-5B9D-44EB-9CF6-C685F36F8D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C0CDF4-5077-408D-85F4-B90E0E442E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91024D4-A496-440E-A350-3D112E58A27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577B17-F0F7-4541-86AA-6D51C94547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37F021-1C94-4F48-8372-376D791EFE1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465F5C-BD28-4858-9C36-88FD4AAE94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A57A0F-790C-4D2A-859E-621BB6DA7F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4D2FDF-B1F2-4CA4-974E-5218ABFA60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9AC385-8DCE-4AAB-9443-904EBFBB7E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F6AE1F-EB7B-4695-B5BF-9F62563026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ECC057-B3A8-46BB-842D-D4676ADBC8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A3B1B7-72CD-417B-B175-02292E18A8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2E21EC-B991-4934-B314-E9F7FF24C4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2B08FC3-C29C-47F3-A8B6-16F2C42B53F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CC3D147-2F19-4291-8AC7-6036244047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E71DD8-DACE-4E7F-A916-37722FE02F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5DCA06-B50E-4FD3-A8BD-C68889CE76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D4322F7-11E4-44CE-AA8E-B83D977091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632A3C-EFF3-4D65-9857-17F4E9D1455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3960CD-ACE2-4283-9D90-63D0784FE4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A20A70-DF69-4838-BF8B-0C663D9CF1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D87A940-A264-4EBC-80D3-9E92CF6409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8A069E-1265-44A4-9641-C6D281BD90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7B911F0-CE11-46DC-949E-4271340C38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8F5CF8-011B-48EE-91C5-5E07000D92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D821E8-8142-491A-AD9A-8541DD7422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F862B63-001B-4357-93F5-F4D7B9C24C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996D514-EBB6-45D3-BCE2-2047E252CC0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E7BC91-8A48-4928-AE89-CEC42F69D6B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737DA1-CBE6-4A1C-A9C3-DEA25147F4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5781E06-7FDA-47AF-A27B-F28EEFA97DD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EC7067-DA8C-4214-B19E-58D2AD024A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FA0D98-4126-462C-B2C0-B1455F0C7D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2C8042-157A-4F1F-B30F-9346DC963C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438086-1E1B-4B59-92DC-FF146CE58B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EE0C80-C08E-4C44-A633-4BC60290CB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DCFE13-D43A-4411-939E-193F5B63339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B367F18-D935-4C64-8D6D-D9A077EA953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634E37F-457D-415A-B59D-E37EA70B651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B192F5F-40B0-42AF-BD65-15BFC040C1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1DAC84-2513-4C95-9567-BAE56FED085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BE4-6B45-43F9-8BAB-A9A409618A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D80C-11A6-4097-992B-408E3D1A271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AAE9-21B9-41E2-A9D1-37DA8D0562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0D84-63BE-4096-B0CB-A7AEE5E1DB1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5A43-1F0F-4450-95CB-CBAB7BD2E1F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75B1-0452-446F-829B-69EFDE43599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5C7C-17D7-47FE-8175-AC61EADC5A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E5B1-EB90-47FC-A7AB-DDCDB6A266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ADE7-9BD6-432D-9ABC-3356CE71187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02C2-1F6D-41DA-8186-20ACF1C063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Rozwiązywanie problemów</a:t>
            </a:r>
            <a:endParaRPr b="0" lang="en-US" sz="3600" spc="-1" strike="noStrike">
              <a:solidFill>
                <a:srgbClr val="000000"/>
              </a:solidFill>
              <a:latin typeface="Arial"/>
            </a:endParaRPr>
          </a:p>
        </p:txBody>
      </p:sp>
      <p:sp>
        <p:nvSpPr>
          <p:cNvPr id="537" name="Rectángulo 1"/>
          <p:cNvSpPr/>
          <p:nvPr/>
        </p:nvSpPr>
        <p:spPr>
          <a:xfrm>
            <a:off x="900000" y="3141720"/>
            <a:ext cx="800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Identyfikacja alternatyw: wiadomości, e-mail, czat wid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Alternatywne aplikacje do wiadomości e-mail</a:t>
            </a:r>
            <a:endParaRPr b="0" lang="en-US" sz="4000" spc="-1" strike="noStrike">
              <a:solidFill>
                <a:srgbClr val="000000"/>
              </a:solidFill>
              <a:latin typeface="Arial"/>
            </a:endParaRPr>
          </a:p>
        </p:txBody>
      </p:sp>
      <p:sp>
        <p:nvSpPr>
          <p:cNvPr id="573" name=""/>
          <p:cNvSpPr txBox="1"/>
          <p:nvPr/>
        </p:nvSpPr>
        <p:spPr>
          <a:xfrm>
            <a:off x="107640" y="1815840"/>
            <a:ext cx="82803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a:t>
            </a:r>
            <a:r>
              <a:rPr b="0" lang="pl-PL" sz="3200" spc="-1" strike="noStrike">
                <a:solidFill>
                  <a:srgbClr val="000000"/>
                </a:solidFill>
                <a:latin typeface="Arial Rounded MT Bold"/>
              </a:rPr>
              <a:t>plikacje do wiadomości e-mail</a:t>
            </a:r>
            <a:r>
              <a:rPr b="0" lang="en-GB" sz="3200" spc="-1" strike="noStrike">
                <a:solidFill>
                  <a:srgbClr val="000000"/>
                </a:solidFill>
                <a:latin typeface="Arial Rounded MT Bold"/>
              </a:rPr>
              <a:t>: Gmail</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CasellaDiTesto 6"/>
          <p:cNvSpPr/>
          <p:nvPr/>
        </p:nvSpPr>
        <p:spPr>
          <a:xfrm>
            <a:off x="108000" y="2479680"/>
            <a:ext cx="818820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Gmail został opracowany przez Google i jest wydajną alternatywą dla aplikacji Outlook. W Gmailu możesz zalogować się zarówno na swoje konto Gmail, jak i konto Outlook, wszystko czego potrzebujesz to zapamiętać swój adres e-mail i hasło.</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Gmail zapewnia także zarządzanie zadaniami i kalendarzem.</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72956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Alternatywne aplikacje do wiadomości e-mail</a:t>
            </a:r>
            <a:endParaRPr b="0" lang="en-US" sz="4000" spc="-1" strike="noStrike">
              <a:solidFill>
                <a:srgbClr val="000000"/>
              </a:solidFill>
              <a:latin typeface="Arial"/>
            </a:endParaRPr>
          </a:p>
        </p:txBody>
      </p:sp>
      <p:sp>
        <p:nvSpPr>
          <p:cNvPr id="578" name=""/>
          <p:cNvSpPr txBox="1"/>
          <p:nvPr/>
        </p:nvSpPr>
        <p:spPr>
          <a:xfrm>
            <a:off x="456840" y="1816200"/>
            <a:ext cx="7931160" cy="604800"/>
          </a:xfrm>
          <a:prstGeom prst="rect">
            <a:avLst/>
          </a:prstGeom>
          <a:noFill/>
          <a:ln w="0">
            <a:noFill/>
          </a:ln>
        </p:spPr>
        <p:txBody>
          <a:bodyPr anchor="t">
            <a:normAutofit fontScale="8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a:t>
            </a:r>
            <a:r>
              <a:rPr b="0" lang="it-IT" sz="3200" spc="-1" strike="noStrike">
                <a:solidFill>
                  <a:srgbClr val="000000"/>
                </a:solidFill>
                <a:latin typeface="Arial Rounded MT Bold"/>
              </a:rPr>
              <a:t>uzyska</a:t>
            </a:r>
            <a:r>
              <a:rPr b="0" lang="pl-PL" sz="3200" spc="-1" strike="noStrike">
                <a:solidFill>
                  <a:srgbClr val="000000"/>
                </a:solidFill>
                <a:latin typeface="Arial Rounded MT Bold"/>
              </a:rPr>
              <a:t>ć aplikacje do wiadomości e-mail</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CasellaDiTesto 6"/>
          <p:cNvSpPr/>
          <p:nvPr/>
        </p:nvSpPr>
        <p:spPr>
          <a:xfrm>
            <a:off x="539640" y="280368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Jeśli masz smartfon (lub tablet) z Androidem, masz już aplikację Gmail na swoim urządzeniu jako aplikację domyślną. Zamiast tego, jeśli masz iPhone'a, musisz go pobrać ze Sklepu.</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mieć aplikację Outlook, musisz pobrać ją ze Sklepu, jeśli masz system Android lub iPhone.</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czatu wideo</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Można użyć różnych aplikacj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czatu wideo</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253332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sz także użyć jednej z aplikacji, którą widzieliśmy, do przesyłania wiadomości, ponieważ większość z nich zapewnia czaty wideo i może być używana zarówno na urządzeniach mobilnych, jak i komputerach.</a:t>
            </a:r>
            <a:endParaRPr b="0" lang="en-US" sz="20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90"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video cha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can download each application from the Store of your mobile device.</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use the app you prefer on your PC you can download it from the Store (if your computer provides it) or search the download file  from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413000"/>
            <a:ext cx="8686800" cy="4525920"/>
          </a:xfrm>
          <a:prstGeom prst="rect">
            <a:avLst/>
          </a:prstGeom>
          <a:noFill/>
          <a:ln w="0">
            <a:noFill/>
          </a:ln>
        </p:spPr>
        <p:txBody>
          <a:bodyPr anchor="t">
            <a:normAutofit fontScale="95000"/>
          </a:bodyPr>
          <a:p>
            <a:pPr marL="7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a:t>
            </a:r>
            <a:r>
              <a:rPr b="0" lang="pl-PL" sz="2800" spc="-1" strike="noStrike">
                <a:solidFill>
                  <a:srgbClr val="000000"/>
                </a:solidFill>
                <a:latin typeface="Arial Rounded MT Bold"/>
              </a:rPr>
              <a:t>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a:t>
            </a:r>
            <a:r>
              <a:rPr b="0" lang="en-GB" sz="2800" spc="-1" strike="noStrike">
                <a:solidFill>
                  <a:srgbClr val="000000"/>
                </a:solidFill>
                <a:latin typeface="Arial Rounded MT Bold"/>
              </a:rPr>
              <a:t> </a:t>
            </a:r>
            <a:r>
              <a:rPr b="0" lang="it-IT" sz="2800" spc="-1" strike="noStrike">
                <a:solidFill>
                  <a:srgbClr val="000000"/>
                </a:solidFill>
                <a:latin typeface="Arial Rounded MT Bold"/>
              </a:rPr>
              <a:t>d</a:t>
            </a:r>
            <a:r>
              <a:rPr b="0" lang="pl-PL" sz="2800" spc="-1" strike="noStrike">
                <a:solidFill>
                  <a:srgbClr val="000000"/>
                </a:solidFill>
                <a:latin typeface="Arial Rounded MT Bold"/>
              </a:rPr>
              <a:t>o przesyłania wiadomości</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a:t>
            </a:r>
            <a:r>
              <a:rPr b="0" lang="pl-PL" sz="2800" spc="-1" strike="noStrike">
                <a:solidFill>
                  <a:srgbClr val="000000"/>
                </a:solidFill>
                <a:latin typeface="Arial Rounded MT Bold"/>
              </a:rPr>
              <a:t>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a:t>
            </a:r>
            <a:r>
              <a:rPr b="0" lang="it-IT" sz="2800" spc="-1" strike="noStrike">
                <a:solidFill>
                  <a:srgbClr val="000000"/>
                </a:solidFill>
                <a:latin typeface="Arial Rounded MT Bold"/>
              </a:rPr>
              <a:t> d</a:t>
            </a:r>
            <a:r>
              <a:rPr b="0" lang="pl-PL" sz="2800" spc="-1" strike="noStrike">
                <a:solidFill>
                  <a:srgbClr val="000000"/>
                </a:solidFill>
                <a:latin typeface="Arial Rounded MT Bold"/>
              </a:rPr>
              <a:t>o wysyłania wiadomości e-mail</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U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 do czatow</a:t>
            </a:r>
            <a:r>
              <a:rPr b="0" lang="it-IT" sz="2800" spc="-1" strike="noStrike">
                <a:solidFill>
                  <a:srgbClr val="000000"/>
                </a:solidFill>
                <a:latin typeface="Arial Rounded MT Bold"/>
              </a:rPr>
              <a:t> </a:t>
            </a:r>
            <a:r>
              <a:rPr b="0" lang="pl-PL" sz="2800" spc="-1" strike="noStrike">
                <a:solidFill>
                  <a:srgbClr val="000000"/>
                </a:solidFill>
                <a:latin typeface="Arial Rounded MT Bold"/>
              </a:rPr>
              <a:t>wideo</a:t>
            </a:r>
            <a:endParaRPr b="0" lang="en-US" sz="2800" spc="-1" strike="noStrike">
              <a:solidFill>
                <a:srgbClr val="000000"/>
              </a:solidFill>
              <a:latin typeface="Arial"/>
            </a:endParaRPr>
          </a:p>
          <a:p>
            <a:pPr marL="766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Aplikacje do przesyłania wiadomości</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CasellaDiTesto 6"/>
          <p:cNvSpPr/>
          <p:nvPr/>
        </p:nvSpPr>
        <p:spPr>
          <a:xfrm>
            <a:off x="755640" y="244152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ożna użyć różnych aplikacji</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4" name=""/>
          <p:cNvSpPr txBox="1"/>
          <p:nvPr/>
        </p:nvSpPr>
        <p:spPr>
          <a:xfrm>
            <a:off x="457200" y="1815840"/>
            <a:ext cx="8291520" cy="749160"/>
          </a:xfrm>
          <a:prstGeom prst="rect">
            <a:avLst/>
          </a:prstGeom>
          <a:noFill/>
          <a:ln w="0">
            <a:noFill/>
          </a:ln>
        </p:spPr>
        <p:txBody>
          <a:bodyPr anchor="t">
            <a:normAutofit fontScale="8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hatsApp</a:t>
            </a:r>
            <a:endParaRPr b="0" lang="en-US" sz="32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944800"/>
            <a:ext cx="4681440" cy="3385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hatsapp </a:t>
            </a:r>
            <a:r>
              <a:rPr b="0" lang="pl-PL" sz="1800" spc="-1" strike="noStrike">
                <a:solidFill>
                  <a:srgbClr val="000000"/>
                </a:solidFill>
                <a:latin typeface="Arial Rounded MT Bold"/>
              </a:rPr>
              <a:t>jest najczęściej używaną aplikacją do przesyłania wiadomości online: pozwala użytkownikom wysyłać wiadomości tekstowe i głosowe, nawiązywać połączenia głosowe i wideo, a także udostępniać obrazy, dokumenty, lokalizacje użytkowników i inne media</a:t>
            </a:r>
            <a:r>
              <a:rPr b="0" lang="en-US" sz="1800" spc="-1" strike="noStrike">
                <a:solidFill>
                  <a:srgbClr val="000000"/>
                </a:solidFill>
                <a:latin typeface="Arial Rounded MT Bold"/>
              </a:rPr>
              <a:t>.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likacje do przesyłania wiadomości: 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468360" y="2779560"/>
            <a:ext cx="8351640" cy="3385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acebook Messenger </a:t>
            </a:r>
            <a:r>
              <a:rPr b="0" lang="pl-PL" sz="1800" spc="-1" strike="noStrike">
                <a:solidFill>
                  <a:srgbClr val="000000"/>
                </a:solidFill>
                <a:latin typeface="Arial Rounded MT Bold"/>
              </a:rPr>
              <a:t>to aplikacja i platforma do przesyłania wiadomości.</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Jeśli masz konto na Facebooku, to automatycznie masz konto na Facebooku Messenger: wystarczy pobrać aplikację ze Sklepu i zalogować się przy użyciu swoich danych logowania na Facebooku.</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Możesz rozmawiać ze znajomymi lub kimkolwiek, kto ma profil na Facebooku.</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Gdy logujesz się za pomocą Facebooka z komputera, również logujesz się do Messengera.</a:t>
            </a:r>
            <a:endParaRPr b="0" lang="en-US" sz="18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711920" y="2235240"/>
            <a:ext cx="1079640" cy="1089000"/>
          </a:xfrm>
          <a:prstGeom prst="rect">
            <a:avLst/>
          </a:prstGeom>
          <a:ln w="0">
            <a:noFill/>
          </a:ln>
        </p:spPr>
      </p:pic>
      <p:sp>
        <p:nvSpPr>
          <p:cNvPr id="552" name="Rettangolo 1"/>
          <p:cNvSpPr/>
          <p:nvPr/>
        </p:nvSpPr>
        <p:spPr>
          <a:xfrm>
            <a:off x="3325680" y="573264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Telegram</a:t>
            </a:r>
            <a:endParaRPr b="0" lang="en-US" sz="32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27608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elegram to opart</a:t>
            </a:r>
            <a:r>
              <a:rPr b="0" lang="it-IT" sz="1800" spc="-1" strike="noStrike">
                <a:solidFill>
                  <a:srgbClr val="000000"/>
                </a:solidFill>
                <a:latin typeface="Arial Rounded MT Bold"/>
              </a:rPr>
              <a:t>y</a:t>
            </a:r>
            <a:r>
              <a:rPr b="0" lang="pl-PL" sz="1800" spc="-1" strike="noStrike">
                <a:solidFill>
                  <a:srgbClr val="000000"/>
                </a:solidFill>
                <a:latin typeface="Arial Rounded MT Bold"/>
              </a:rPr>
              <a:t> na chmurze komunikator internetowy i usługa przesyłania głosu przez IP. Jest bardzo podobny do Whatsapp, a ponadto Telegram ma „kanały”, które można wykorzystać do nadawania wiadomości do nieograniczonej liczby subskrybentów.</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elegramu można używać także na PC</a:t>
            </a:r>
            <a:r>
              <a:rPr b="0" lang="en-US"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Image result for telegram"/>
          <p:cNvPicPr/>
          <p:nvPr/>
        </p:nvPicPr>
        <p:blipFill>
          <a:blip r:embed="rId1"/>
          <a:stretch/>
        </p:blipFill>
        <p:spPr>
          <a:xfrm>
            <a:off x="7372440" y="136044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eChat</a:t>
            </a:r>
            <a:endParaRPr b="0" lang="en-US" sz="3200" spc="-1" strike="noStrike">
              <a:solidFill>
                <a:srgbClr val="000000"/>
              </a:solidFill>
              <a:latin typeface="Arial"/>
            </a:endParaRPr>
          </a:p>
          <a:p>
            <a:pPr lvl="1" marL="63144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833560"/>
            <a:ext cx="8207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dobnie jak Whatsapp, WeChat zapewnia wiadomości tekstowe, telewizyjne i głosowe. Dzięki niemu możesz udostępniać zdjęcia, filmy, dokumenty i lokalizację, a także prowadzić rozmowy wideo i konferencje. WeChat pozwala także użytkownikom wymieniać kontakty z osobami w pobliżu przez Bluetooth, a także może integrować się z innymi serwisami społecznościowymi, takimi jak Facebook.</a:t>
            </a:r>
            <a:endParaRPr b="0" lang="en-US" sz="1800" spc="-1" strike="noStrike">
              <a:solidFill>
                <a:srgbClr val="000000"/>
              </a:solidFill>
              <a:latin typeface="Arial"/>
            </a:endParaRPr>
          </a:p>
        </p:txBody>
      </p:sp>
      <p:pic>
        <p:nvPicPr>
          <p:cNvPr id="561" name="Picture 2" descr="Image result for wechat"/>
          <p:cNvPicPr/>
          <p:nvPr/>
        </p:nvPicPr>
        <p:blipFill>
          <a:blip r:embed="rId1"/>
          <a:stretch/>
        </p:blipFill>
        <p:spPr>
          <a:xfrm>
            <a:off x="7812000" y="1446120"/>
            <a:ext cx="1008000" cy="1008000"/>
          </a:xfrm>
          <a:prstGeom prst="rect">
            <a:avLst/>
          </a:prstGeom>
          <a:ln w="0">
            <a:noFill/>
          </a:ln>
        </p:spPr>
      </p:pic>
      <p:sp>
        <p:nvSpPr>
          <p:cNvPr id="562" name="Rettangolo 1"/>
          <p:cNvSpPr/>
          <p:nvPr/>
        </p:nvSpPr>
        <p:spPr>
          <a:xfrm>
            <a:off x="3450600" y="571500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Viber</a:t>
            </a:r>
            <a:endParaRPr b="0" lang="en-US" sz="32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89728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Viber to kolejna aplikacja bardzo podobna do Whatsapp, zapewnia wiadomości tekstowe i głosowe, połączenia wideo, zdjęcia i inne udostępnianie multimediów. Podobnie jak Whatsapp i Telegram, możesz zalogować się na Viber również z komputerów.</a:t>
            </a:r>
            <a:endParaRPr b="0" lang="en-US" sz="1800" spc="-1" strike="noStrike">
              <a:solidFill>
                <a:srgbClr val="000000"/>
              </a:solidFill>
              <a:latin typeface="Arial"/>
            </a:endParaRPr>
          </a:p>
        </p:txBody>
      </p:sp>
      <p:pic>
        <p:nvPicPr>
          <p:cNvPr id="566" name="Picture 2" descr="Image result for viber"/>
          <p:cNvPicPr/>
          <p:nvPr/>
        </p:nvPicPr>
        <p:blipFill>
          <a:blip r:embed="rId1"/>
          <a:stretch/>
        </p:blipFill>
        <p:spPr>
          <a:xfrm>
            <a:off x="6659640" y="2262240"/>
            <a:ext cx="1887480" cy="95076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Jak </a:t>
            </a:r>
            <a:r>
              <a:rPr b="0" lang="it-IT" sz="4000" spc="-1" strike="noStrike">
                <a:solidFill>
                  <a:srgbClr val="000000"/>
                </a:solidFill>
                <a:latin typeface="Arial Rounded MT Bold"/>
              </a:rPr>
              <a:t>uzyska</a:t>
            </a:r>
            <a:r>
              <a:rPr b="0" lang="pl-PL" sz="4000" spc="-1" strike="noStrike">
                <a:solidFill>
                  <a:srgbClr val="000000"/>
                </a:solidFill>
                <a:latin typeface="Arial Rounded MT Bold"/>
              </a:rPr>
              <a:t>ć aplikacje do przesyłania wiadomości</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9" name="CasellaDiTesto 6"/>
          <p:cNvSpPr/>
          <p:nvPr/>
        </p:nvSpPr>
        <p:spPr>
          <a:xfrm>
            <a:off x="460440" y="1773360"/>
            <a:ext cx="8208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stnieją również inne bezpłatne aplikacje, których można używać do przesyłania wiadomości</a:t>
            </a:r>
            <a:r>
              <a:rPr b="0" lang="it-IT" sz="2400" spc="-1" strike="noStrike">
                <a:solidFill>
                  <a:srgbClr val="000000"/>
                </a:solidFill>
                <a:latin typeface="Arial Rounded MT Bold"/>
              </a:rPr>
              <a:t> i jest to </a:t>
            </a:r>
            <a:r>
              <a:rPr b="0" lang="pl-PL" sz="2400" spc="-1" strike="noStrike">
                <a:solidFill>
                  <a:srgbClr val="000000"/>
                </a:solidFill>
                <a:latin typeface="Arial Rounded MT Bold"/>
              </a:rPr>
              <a:t> bardzo łatwe. Możesz wybrać aplikację, którą wolisz przeszukiwać w Sklepie na swoim smartfonie (Play Store na Androida lub App Store na i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usisz tylko wpisać nazwę aplikacji, którą </a:t>
            </a:r>
            <a:r>
              <a:rPr b="0" lang="it-IT" sz="2400" spc="-1" strike="noStrike">
                <a:solidFill>
                  <a:srgbClr val="000000"/>
                </a:solidFill>
                <a:latin typeface="Arial Rounded MT Bold"/>
              </a:rPr>
              <a:t>wolisz</a:t>
            </a:r>
            <a:r>
              <a:rPr b="0" lang="pl-PL" sz="2400" spc="-1" strike="noStrike">
                <a:solidFill>
                  <a:srgbClr val="000000"/>
                </a:solidFill>
                <a:latin typeface="Arial Rounded MT Bold"/>
              </a:rPr>
              <a:t> najbardziej w sklepie i ją zainstalować!</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38Z</dcterms:modified>
  <cp:revision>480</cp:revision>
  <dc:subject/>
  <dc:title>Title</dc:title>
</cp:coreProperties>
</file>