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3B61C7-CD15-46A9-AB6B-06DDCD10A5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B41695E-F519-446C-B24B-D8F6AC351E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6E7F17-2928-4FCE-832C-463E3CF9D53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4387CA-E129-4111-BCF5-89A6E234BB6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1EECA9-56E1-4177-9988-71B14AA0EA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775D34-B68B-46F2-9FE3-BF5326579D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B23EF35-1C3B-44D1-9D9A-7609EC77CF5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45F4553-A7FA-41EE-9B52-76CA57D0996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261C4DD-FAE3-4A8E-BA91-AE9755BCE4E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8472EB7-5EBD-4537-A354-581B858AF6D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991B4C6-9F7E-446A-987D-42B4C3122A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29C808-A395-4238-8592-1BF8AA4F79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8E6B84-A638-4A45-972E-2BD4D3E8ED0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E7601A6-27EA-4DA6-A04C-DFD67711E8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FE391F-864D-42E1-8711-4580FE419EC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E27472-DC35-4649-B232-DB24AAD7C02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5B5188-6757-4526-87C4-481A4474BC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5220FD-0712-4085-B400-71081764D9F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12C354-382A-4D29-8A50-A53ADA6790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DF285D7-54C8-483F-B1B4-783C9753F6A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57D871F-A403-437A-A253-FDDE82E30CE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91B0448-0EA5-42A2-A91F-7B52D62A77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D82CC15-177A-43EA-B901-05D15FD2F1B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5F761DE-4439-4A56-A805-5DF7E644CB8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E589349-9F76-4341-960B-6124194256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C1B0C82-6CC0-4DA6-AD32-88622C6782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939F54-3C73-42EF-B5D2-DA1E09D7A4E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B85F3E7-CF22-48A3-BF82-333E22D32F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06E277-1FD2-4462-A00C-8E97242F40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EA667A-AF7A-4C6A-8DE6-14E01D72D6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9E30563-0450-43AA-BF56-FBCCA7BC91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33D6A8F-B4F5-46E4-A8D4-AC8FF18F832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D3D6E72-7F33-4F6D-A386-9E9F13E24B0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72347F9-DADE-4F9D-A3B2-82C6A8F38B4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526E37F-74E9-40F3-9E31-F9D48A66587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3A5E0B-D79D-40A8-9C84-22EB55C27AC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B86E67-6D04-4AEA-893F-26F5E4767E1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B96F859-0A39-4723-8E5E-5C75A8F6781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85BE042-D6EF-4208-8E0C-AA0A0C50B3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3DE7C14-CC4A-43E3-9656-C794E2917F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C65F15-2679-42ED-A3BC-A5C6F3D3ECA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C9CC0D4-82CD-4653-8C77-FB270F2D1B5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579B7AE-6F06-42A4-AAC3-506CCA74159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A8565C6-B72A-45DF-B7E1-6D57EF42ED9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CF7BB83-A31E-445E-8A6B-2FB33FB6058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732DAB-D11D-42CF-8B6A-4351418FC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69760-0DBB-4FE1-B230-1D3ED6A9B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94200A-AD86-4EDA-9CF8-74D23F9D3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8E680C-D61A-4D83-AB15-1684A44E0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631AF-1670-4E2F-8191-AA3825286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92985-540D-4C44-83D0-CB4F4E411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24D52A-4158-44EF-B2A9-FD2B53FF7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B2C40-C6E5-467E-B2A4-6E339DCBF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CED22-4337-4768-B2E4-02B15B4FC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C0D4C-D9C3-470C-BA14-B0A0CC74C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75CA0-2F36-446B-91FA-9238574B91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391CDB-1127-484C-9AFB-48A9564124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B9A301-12C7-4F0D-8392-67606464D1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DC8A86-9F1E-43FA-9A63-85B53730A1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615B74-C5CA-43F6-B9B8-FF3BF4216F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0486D1-1FD2-4D27-8147-7FB013B43A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0E6142-6B83-486C-A404-94EE49ED6F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32A698-553C-46AA-BA65-E56045978D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A81053-D12A-4375-97C7-168EF138D6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9C7517-6357-4C9F-9845-0DC7AEB3DF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AF3474-3005-4051-8D89-5A20B6EAEF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1F42DC-5549-4F44-8DC4-A821BA0729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6ABDE3-A1BA-4FA4-8BCD-F8961A16E2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F35AFE9-D641-4122-A09D-17E46A507C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E1A8BB5-298E-4215-931A-30F8BED8CD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19410D-70D7-4009-834B-D206167C6A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27E8A2-7A89-46E5-BF29-482C698CC5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DA7431-CDEC-48FC-AFFF-90024113A1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C13343-A22D-40F8-93CD-677EF32D4F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52FED0-6A6F-4372-ACDE-A745337C64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61A4CC-8097-45A2-ABC7-A566A09E00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DA0816-2742-49B2-ABBB-E37A19211C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8426E5-9AA3-4576-ADD3-D32718D54D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CDDD49-5018-4B86-BD77-694C9CBF83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DA6C71-DA66-4E84-99AA-7E315CB7A2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6E2787-B22A-48C0-9780-17BC401101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5CEB375-077F-4144-880C-7EE2FF4D8ED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3BA78D-F6A5-40A3-A07C-2FD327436C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B62188-519D-4241-A8F7-BC5C5EA337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902E74-8682-41E4-B98C-EA73F59C9F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BAD9EC-F10B-4454-B3A1-4D79B62B44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CBE4A7-8306-46F2-BE72-CC468831EE0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41F1C9-D121-44E3-BED3-20991DA6A9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6C8EB7-9528-4734-8D7A-3E1E88750D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A42139-0E5D-49E6-BDDF-A7B239AD3D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5799D2E-AF67-4C09-A92F-23028400C7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C6C6AF1-1953-4EF7-9154-9AC69B31C5C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073E719-8915-4389-A194-0A9AEAFBFC0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1271530-EA1E-4FBF-A4FF-BC0F4854FEF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FB21CB-CEC9-44A6-8E20-D14F33D57B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3EBB0D-70DD-489B-85F9-182779709C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0C9721-CF75-42E9-ACA7-8A9EAED739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914EFA-2507-4F2C-8A21-C254569DF1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DBD9AA-A714-4E4A-BBB7-0D86BB6402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8ABE5A-FEE4-4943-8B40-AB5BA68F0D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B56413-58CC-4211-80D1-894FBE3504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79ABA8-7EF5-4BC7-B0E9-35BC24030D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3B43BE2-862C-4459-8148-E20B133F028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732BFD9-DC71-47C9-A3B9-7B40DD7C284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BBF8C70-C7BE-44E1-AF3F-FBAB81B5E44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D5F1881-E9E9-4BF9-91C9-445F76510FB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15DD2A8-649B-4E55-8F24-632BEDC292C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C5F0AFD-4225-4BD8-BDA6-4EFD5298DA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DECAEA2-F2AF-4635-B3EC-3D9F6E77FD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FF6082-08F8-40E5-8569-62F355A7A2D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3B82FB-7491-4588-BD25-41849EBFBD2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DAA77E-FB89-4210-90E8-50A402ED76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D6FE79-3996-41AE-A52F-DB1537F921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1F37FD-4B39-4B6E-B1ED-9617996CD33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33F196-C38D-405B-AACA-1D867BE59C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0F9BDFC-0C97-45FD-9DFF-97CDB00DF36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28984BD-289C-4F2B-947E-869AC84C43A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DB5B9D-BA7C-4731-8919-C65A795F377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B8915C-FD4B-49F0-9907-6348E5D6043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6E7F1FC-9F71-46EE-88FE-A7874576001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23E4-4E6B-40EC-B687-899BE62B41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3779-0A54-43D4-9206-2F8C459A2DB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C087-3A8D-42E0-A849-AD77A2532B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0E5E-90A3-4379-96DD-941888E2E24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1FFF-E3EE-437D-A2BD-78A3E0E98A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8A7F-F2DA-44B5-B189-0DA424F74A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36A2-F5BA-4D15-A7E0-127FDEAB77B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2042-E718-4298-B6AA-AE2B2D3225C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151F-AD81-49CD-90AB-6E1C330A682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7BA0-9D45-4504-8C72-62FB0A24DF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Tworzenie treści cyfrowych</a:t>
            </a:r>
            <a:endParaRPr b="0" lang="en-US" sz="3600" spc="-1" strike="noStrike">
              <a:solidFill>
                <a:srgbClr val="000000"/>
              </a:solidFill>
              <a:latin typeface="Arial"/>
            </a:endParaRPr>
          </a:p>
        </p:txBody>
      </p:sp>
      <p:sp>
        <p:nvSpPr>
          <p:cNvPr id="537" name="Rectángulo 1"/>
          <p:cNvSpPr/>
          <p:nvPr/>
        </p:nvSpPr>
        <p:spPr>
          <a:xfrm>
            <a:off x="1619280" y="3244680"/>
            <a:ext cx="6900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Przydatne aplikacje dla Ciebi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Podróż i języ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Korzystanie z iTranslate</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Zobaczysz dwie opcje na ekranie</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Klikn</a:t>
            </a:r>
            <a:r>
              <a:rPr b="0" lang="pl-PL" sz="3000" spc="-1" strike="noStrike">
                <a:solidFill>
                  <a:srgbClr val="000000"/>
                </a:solidFill>
                <a:latin typeface="Arial Rounded MT Bold"/>
              </a:rPr>
              <a:t>ij flagę i wybierz własny języ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Naciśnij drugą flagę i wybierz język, który chcesz przetłumaczyć, np. jeśli chcesz tłumaczyć z węgierskiego na irlandzki, to</a:t>
            </a:r>
            <a:r>
              <a:rPr b="0" lang="it-IT" sz="3000" spc="-1" strike="noStrike">
                <a:solidFill>
                  <a:srgbClr val="000000"/>
                </a:solidFill>
                <a:latin typeface="Arial Rounded MT Bold"/>
              </a:rPr>
              <a:t>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jest pierwszą opcją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	</a:t>
            </a:r>
            <a:r>
              <a:rPr b="0" lang="pl-PL" sz="3000" spc="-1" strike="noStrike">
                <a:solidFill>
                  <a:srgbClr val="000000"/>
                </a:solidFill>
                <a:latin typeface="Arial Rounded MT Bold"/>
              </a:rPr>
              <a:t>i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jest drugą</a:t>
            </a:r>
            <a:r>
              <a:rPr b="0" lang="en-GB"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1692360" y="3876840"/>
            <a:ext cx="823680" cy="502920"/>
          </a:xfrm>
          <a:prstGeom prst="rect">
            <a:avLst/>
          </a:prstGeom>
          <a:ln w="0">
            <a:noFill/>
          </a:ln>
        </p:spPr>
      </p:pic>
      <p:pic>
        <p:nvPicPr>
          <p:cNvPr id="567" name="Picture 4" descr=""/>
          <p:cNvPicPr/>
          <p:nvPr/>
        </p:nvPicPr>
        <p:blipFill>
          <a:blip r:embed="rId2"/>
          <a:stretch/>
        </p:blipFill>
        <p:spPr>
          <a:xfrm>
            <a:off x="1692360" y="4538520"/>
            <a:ext cx="792000" cy="4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69"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steś na wakacjach w Hiszpani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woim językiem ojczystym jest angielsk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 pomocą aplikacji iTranslate przetłumacz następujące elementy z angielskiego na hiszpańsk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skazówka: Możesz także dotknąć mikrofonu, aby przetłumaczyć to, co mówisz.</a:t>
            </a:r>
            <a:r>
              <a:rPr b="0" lang="hu-HU" sz="2800" spc="-1" strike="noStrike">
                <a:solidFill>
                  <a:srgbClr val="000000"/>
                </a:solidFill>
                <a:latin typeface="Arial Rounded MT Bold"/>
              </a:rPr>
              <a:t>.</a:t>
            </a:r>
            <a:r>
              <a:rPr b="0" lang="en-GB"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6804000" y="544500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57200" y="1915920"/>
            <a:ext cx="8229600" cy="4238280"/>
          </a:xfrm>
          <a:prstGeom prst="rect">
            <a:avLst/>
          </a:prstGeom>
          <a:noFill/>
          <a:ln w="0">
            <a:noFill/>
          </a:ln>
        </p:spPr>
        <p:txBody>
          <a:bodyPr anchor="t">
            <a:normAutofit fontScale="97000"/>
          </a:bodyPr>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YouTube to witryna do udostępniania </a:t>
            </a:r>
            <a:r>
              <a:rPr b="0" lang="it-IT" sz="3000" spc="-1" strike="noStrike">
                <a:solidFill>
                  <a:srgbClr val="000000"/>
                </a:solidFill>
                <a:latin typeface="Arial Rounded MT Bold"/>
              </a:rPr>
              <a:t>wide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Co sekundę godzin</a:t>
            </a:r>
            <a:r>
              <a:rPr b="0" lang="it-IT" sz="3000" spc="-1" strike="noStrike">
                <a:solidFill>
                  <a:srgbClr val="000000"/>
                </a:solidFill>
                <a:latin typeface="Arial Rounded MT Bold"/>
              </a:rPr>
              <a:t>ne wideo</a:t>
            </a:r>
            <a:r>
              <a:rPr b="0" lang="pl-PL" sz="3000" spc="-1" strike="noStrike">
                <a:solidFill>
                  <a:srgbClr val="000000"/>
                </a:solidFill>
                <a:latin typeface="Arial Rounded MT Bold"/>
              </a:rPr>
              <a:t> jest przesyłan</a:t>
            </a:r>
            <a:r>
              <a:rPr b="0" lang="it-IT" sz="3000" spc="-1" strike="noStrike">
                <a:solidFill>
                  <a:srgbClr val="000000"/>
                </a:solidFill>
                <a:latin typeface="Arial Rounded MT Bold"/>
              </a:rPr>
              <a:t>e</a:t>
            </a:r>
            <a:r>
              <a:rPr b="0" lang="pl-PL" sz="3000" spc="-1" strike="noStrike">
                <a:solidFill>
                  <a:srgbClr val="000000"/>
                </a:solidFill>
                <a:latin typeface="Arial Rounded MT Bold"/>
              </a:rPr>
              <a:t> do YouTube</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obierz aplikację YouTube ze swojego sklepu z aplikacjam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zy YouTube jest przydatny?</a:t>
            </a:r>
            <a:endParaRPr b="0" lang="en-US" sz="4000" spc="-1" strike="noStrike">
              <a:solidFill>
                <a:srgbClr val="000000"/>
              </a:solidFill>
              <a:latin typeface="Arial"/>
            </a:endParaRPr>
          </a:p>
        </p:txBody>
      </p:sp>
      <p:sp>
        <p:nvSpPr>
          <p:cNvPr id="574" name=""/>
          <p:cNvSpPr txBox="1"/>
          <p:nvPr/>
        </p:nvSpPr>
        <p:spPr>
          <a:xfrm>
            <a:off x="457200" y="1916280"/>
            <a:ext cx="8229600" cy="4209840"/>
          </a:xfrm>
          <a:prstGeom prst="rect">
            <a:avLst/>
          </a:prstGeom>
          <a:noFill/>
          <a:ln w="0">
            <a:noFill/>
          </a:ln>
        </p:spPr>
        <p:txBody>
          <a:bodyPr anchor="t">
            <a:normAutofit fontScale="95000"/>
          </a:bodyPr>
          <a:p>
            <a:pPr marL="325800" indent="-32580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Aby korzystać z YouTube, nie musisz przesyłać </a:t>
            </a:r>
            <a:r>
              <a:rPr b="0" lang="it-IT" sz="3000" spc="-1" strike="noStrike">
                <a:solidFill>
                  <a:srgbClr val="000000"/>
                </a:solidFill>
                <a:latin typeface="Arial Rounded MT Bold"/>
              </a:rPr>
              <a:t>wide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25800" indent="-32580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YouTube może być bardzo przydatny do znajdowania </a:t>
            </a:r>
            <a:r>
              <a:rPr b="0" lang="it-IT" sz="3000" spc="-1" strike="noStrike">
                <a:solidFill>
                  <a:srgbClr val="000000"/>
                </a:solidFill>
                <a:latin typeface="Arial Rounded MT Bold"/>
              </a:rPr>
              <a:t>wideo</a:t>
            </a:r>
            <a:r>
              <a:rPr b="0" lang="pl-PL" sz="3000" spc="-1" strike="noStrike">
                <a:solidFill>
                  <a:srgbClr val="000000"/>
                </a:solidFill>
                <a:latin typeface="Arial Rounded MT Bold"/>
              </a:rPr>
              <a:t> instruktażowych z przewodnikami krok po krok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25800" indent="-32580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Na przykład: D.I.Y, gotowanie lub muzyka</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76"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óbujesz naprawić przeciekający kran w domu.</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twórz aplikację YouTub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oszukaj symbolu wyszukiwania u gór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pisz „Jak naprawić nieszczelny kran” i znajdź najlepsze wideo, które Ci pomoż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7" name="Picture 2" descr=""/>
          <p:cNvPicPr/>
          <p:nvPr/>
        </p:nvPicPr>
        <p:blipFill>
          <a:blip r:embed="rId1"/>
          <a:stretch/>
        </p:blipFill>
        <p:spPr>
          <a:xfrm>
            <a:off x="7740720" y="3833640"/>
            <a:ext cx="690480" cy="6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79"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Na urodziny dostałeś fortepian</a:t>
            </a:r>
            <a:r>
              <a:rPr b="0" lang="it-IT" sz="3000" spc="-1" strike="noStrike">
                <a:solidFill>
                  <a:srgbClr val="000000"/>
                </a:solidFill>
                <a:latin typeface="Arial Rounded MT Bold"/>
              </a:rPr>
              <a:t> jako </a:t>
            </a:r>
            <a:r>
              <a:rPr b="0" lang="pl-PL" sz="3000" spc="-1" strike="noStrike">
                <a:solidFill>
                  <a:srgbClr val="000000"/>
                </a:solidFill>
                <a:latin typeface="Arial Rounded MT Bold"/>
              </a:rPr>
              <a:t>prezent</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twórz aplikację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oszukaj symbolu wyszukiwania u góry</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Wpisz „fortepian dla początkujących”</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80" name="Picture 2" descr=""/>
          <p:cNvPicPr/>
          <p:nvPr/>
        </p:nvPicPr>
        <p:blipFill>
          <a:blip r:embed="rId1"/>
          <a:stretch/>
        </p:blipFill>
        <p:spPr>
          <a:xfrm>
            <a:off x="7885080" y="4005360"/>
            <a:ext cx="690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yszukiwania w YouTube</a:t>
            </a:r>
            <a:endParaRPr b="0" lang="en-US" sz="4000" spc="-1" strike="noStrike">
              <a:solidFill>
                <a:srgbClr val="000000"/>
              </a:solidFill>
              <a:latin typeface="Arial"/>
            </a:endParaRPr>
          </a:p>
        </p:txBody>
      </p:sp>
      <p:sp>
        <p:nvSpPr>
          <p:cNvPr id="582"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skazówka: podczas wyszukiwania w YouTub</a:t>
            </a:r>
            <a:r>
              <a:rPr b="0" lang="it-IT" sz="2400" spc="-1" strike="noStrike">
                <a:solidFill>
                  <a:srgbClr val="000000"/>
                </a:solidFill>
                <a:latin typeface="Arial Rounded MT Bold"/>
              </a:rPr>
              <a:t>i</a:t>
            </a:r>
            <a:r>
              <a:rPr b="0" lang="pl-PL" sz="2400" spc="-1" strike="noStrike">
                <a:solidFill>
                  <a:srgbClr val="000000"/>
                </a:solidFill>
                <a:latin typeface="Arial Rounded MT Bold"/>
              </a:rPr>
              <a:t>e możesz uzyskać wiele wyników. Dobrym sposobem na odfiltrowanie tych wyników jest sprawdzenie liczby wyświetleń</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są tysiące / miliony wyświetleń, może to oznaczać, że inni uznali </a:t>
            </a:r>
            <a:r>
              <a:rPr b="0" lang="it-IT" sz="2400" spc="-1" strike="noStrike">
                <a:solidFill>
                  <a:srgbClr val="000000"/>
                </a:solidFill>
                <a:latin typeface="Arial Rounded MT Bold"/>
              </a:rPr>
              <a:t>wideo </a:t>
            </a:r>
            <a:r>
              <a:rPr b="0" lang="pl-PL" sz="2400" spc="-1" strike="noStrike">
                <a:solidFill>
                  <a:srgbClr val="000000"/>
                </a:solidFill>
                <a:latin typeface="Arial Rounded MT Bold"/>
              </a:rPr>
              <a:t>za przydatn</a:t>
            </a:r>
            <a:r>
              <a:rPr b="0" lang="it-IT" sz="2400" spc="-1" strike="noStrike">
                <a:solidFill>
                  <a:srgbClr val="000000"/>
                </a:solidFill>
                <a:latin typeface="Arial Rounded MT Bold"/>
              </a:rPr>
              <a:t>e</a:t>
            </a:r>
            <a:r>
              <a:rPr b="0" lang="pl-PL"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świetleni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3" name="Picture 2" descr=""/>
          <p:cNvPicPr/>
          <p:nvPr/>
        </p:nvPicPr>
        <p:blipFill>
          <a:blip r:embed="rId1"/>
          <a:stretch/>
        </p:blipFill>
        <p:spPr>
          <a:xfrm>
            <a:off x="2881440" y="3716280"/>
            <a:ext cx="5905440" cy="2036880"/>
          </a:xfrm>
          <a:prstGeom prst="rect">
            <a:avLst/>
          </a:prstGeom>
          <a:ln w="0">
            <a:noFill/>
          </a:ln>
        </p:spPr>
      </p:pic>
      <p:cxnSp>
        <p:nvCxnSpPr>
          <p:cNvPr id="584" name="Straight Arrow Connector 4"/>
          <p:cNvCxnSpPr/>
          <p:nvPr/>
        </p:nvCxnSpPr>
        <p:spPr>
          <a:xfrm flipV="1">
            <a:off x="1547640" y="4149000"/>
            <a:ext cx="3888720" cy="359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zym się interesujesz?</a:t>
            </a:r>
            <a:endParaRPr b="0" lang="en-US" sz="4000" spc="-1" strike="noStrike">
              <a:solidFill>
                <a:srgbClr val="000000"/>
              </a:solidFill>
              <a:latin typeface="Arial"/>
            </a:endParaRPr>
          </a:p>
        </p:txBody>
      </p:sp>
      <p:sp>
        <p:nvSpPr>
          <p:cNvPr id="586" name=""/>
          <p:cNvSpPr txBox="1"/>
          <p:nvPr/>
        </p:nvSpPr>
        <p:spPr>
          <a:xfrm>
            <a:off x="108000" y="1484280"/>
            <a:ext cx="9036000" cy="4309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omyśl o czymś, co chciałbyś zrobić, np. Joga, gotowanie, gry onlin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szukaj w swoim sklepie z aplikacjami odpowiednie aplikacje</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prawdź recenzje aplikacji, aby zobaczyć, co myślą inni ludzi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d pobraniem sprawdź, czy aplikacja jest darmowa! Niektóre aplikacje mają niewielką opłatę - możesz zapłacić, jeśli uważasz, że aplikacja jest </a:t>
            </a:r>
            <a:r>
              <a:rPr b="0" lang="it-IT" sz="2800" spc="-1" strike="noStrike">
                <a:solidFill>
                  <a:srgbClr val="000000"/>
                </a:solidFill>
                <a:latin typeface="Arial Rounded MT Bold"/>
              </a:rPr>
              <a:t>warta</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ele i zadania</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j jednostki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Korzysta</a:t>
            </a:r>
            <a:r>
              <a:rPr b="0" lang="it-IT" sz="3200" spc="-1" strike="noStrike">
                <a:solidFill>
                  <a:srgbClr val="000000"/>
                </a:solidFill>
                <a:latin typeface="Arial Rounded MT Bold"/>
              </a:rPr>
              <a:t>c</a:t>
            </a:r>
            <a:r>
              <a:rPr b="0" lang="pl-PL" sz="3200" spc="-1" strike="noStrike">
                <a:solidFill>
                  <a:srgbClr val="000000"/>
                </a:solidFill>
                <a:latin typeface="Arial Rounded MT Bold"/>
              </a:rPr>
              <a:t> z określonych aplikacji przydatnych w życi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zego potrzebujesz?</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ablet lub smartfon A tablet or smartphone z połączeniem internetowym</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45"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uczyłeś się</a:t>
            </a:r>
            <a:r>
              <a:rPr b="0" lang="it-IT" sz="2800" spc="-1" strike="noStrike">
                <a:solidFill>
                  <a:srgbClr val="000000"/>
                </a:solidFill>
                <a:latin typeface="Arial Rounded MT Bold"/>
              </a:rPr>
              <a:t> juz</a:t>
            </a:r>
            <a:r>
              <a:rPr b="0" lang="pl-PL" sz="2800" spc="-1" strike="noStrike">
                <a:solidFill>
                  <a:srgbClr val="000000"/>
                </a:solidFill>
                <a:latin typeface="Arial Rounded MT Bold"/>
              </a:rPr>
              <a:t>, jak pobierać aplikacj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jdź do sklepu z aplikacjam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najdź „Mapy Google” i pobierz</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najdź „iTranslate” i pobierz</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47"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Kli</a:t>
            </a:r>
            <a:r>
              <a:rPr b="0" lang="pl-PL" sz="2800" spc="-1" strike="noStrike">
                <a:solidFill>
                  <a:srgbClr val="000000"/>
                </a:solidFill>
                <a:latin typeface="Arial Rounded MT Bold"/>
              </a:rPr>
              <a:t>knij aplikację Mapy Google, aby otworzyć</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szukaj miejsce w swoim kraju</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suń palcem w górę od dołu ekranu, aby uzyskać informacj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Kliknij</a:t>
            </a:r>
            <a:r>
              <a:rPr b="0" lang="pl-PL" sz="2800" spc="-1" strike="noStrike">
                <a:solidFill>
                  <a:srgbClr val="000000"/>
                </a:solidFill>
                <a:latin typeface="Arial Rounded MT Bold"/>
              </a:rPr>
              <a:t> „</a:t>
            </a:r>
            <a:r>
              <a:rPr b="0" lang="it-IT" sz="2800" spc="-1" strike="noStrike">
                <a:solidFill>
                  <a:srgbClr val="000000"/>
                </a:solidFill>
                <a:latin typeface="Arial Rounded MT Bold"/>
              </a:rPr>
              <a:t>Kierunki</a:t>
            </a:r>
            <a:r>
              <a:rPr b="0" lang="pl-PL" sz="2800" spc="-1" strike="noStrike">
                <a:solidFill>
                  <a:srgbClr val="000000"/>
                </a:solidFill>
                <a:latin typeface="Arial Rounded MT Bold"/>
              </a:rPr>
              <a:t>”, a następnie wybierz punkt początkowy. To może być twój adres domowy. Wskazówka: jeśli masz włączoną lokalizację (na urządzeniu), możesz rozpocząć wyznaczanie trasy z dowolnego miejsca</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8" name="Picture 4" descr=""/>
          <p:cNvPicPr/>
          <p:nvPr/>
        </p:nvPicPr>
        <p:blipFill>
          <a:blip r:embed="rId1"/>
          <a:stretch/>
        </p:blipFill>
        <p:spPr>
          <a:xfrm>
            <a:off x="7959600" y="1557360"/>
            <a:ext cx="93348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0"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obaczysz wiele opcji, które wskazują jazdę</a:t>
            </a:r>
            <a:r>
              <a:rPr b="0" lang="it-IT" sz="2800" spc="-1" strike="noStrike">
                <a:solidFill>
                  <a:srgbClr val="000000"/>
                </a:solidFill>
                <a:latin typeface="Arial Rounded MT Bold"/>
              </a:rPr>
              <a:t> autem</a:t>
            </a:r>
            <a:r>
              <a:rPr b="0" lang="pl-PL" sz="2800" spc="-1" strike="noStrike">
                <a:solidFill>
                  <a:srgbClr val="000000"/>
                </a:solidFill>
                <a:latin typeface="Arial Rounded MT Bold"/>
              </a:rPr>
              <a:t>, transport publiczny, spacery, taksówkę i jazdę na rowerz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ciśnij symbol, aby zobaczy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 długo to zajmie</a:t>
            </a:r>
            <a:r>
              <a:rPr b="0" lang="it-IT" sz="2800" spc="-1" strike="noStrike">
                <a:solidFill>
                  <a:srgbClr val="000000"/>
                </a:solidFill>
                <a:latin typeface="Arial Rounded MT Bold"/>
              </a:rPr>
              <a:t> na piesz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lub </a:t>
            </a:r>
            <a:r>
              <a:rPr b="0" lang="it-IT" sz="2800" spc="-1" strike="noStrike">
                <a:solidFill>
                  <a:srgbClr val="000000"/>
                </a:solidFill>
                <a:latin typeface="Arial Rounded MT Bold"/>
              </a:rPr>
              <a:t>autem</a:t>
            </a:r>
            <a:r>
              <a:rPr b="0" lang="pl-PL" sz="2800" spc="-1" strike="noStrike">
                <a:solidFill>
                  <a:srgbClr val="000000"/>
                </a:solidFill>
                <a:latin typeface="Arial Rounded MT Bold"/>
              </a:rPr>
              <a:t>.</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1" name="Picture 3" descr=""/>
          <p:cNvPicPr/>
          <p:nvPr/>
        </p:nvPicPr>
        <p:blipFill>
          <a:blip r:embed="rId1"/>
          <a:stretch/>
        </p:blipFill>
        <p:spPr>
          <a:xfrm>
            <a:off x="5518080" y="2565360"/>
            <a:ext cx="2482920" cy="3583080"/>
          </a:xfrm>
          <a:prstGeom prst="rect">
            <a:avLst/>
          </a:prstGeom>
          <a:ln w="0">
            <a:noFill/>
          </a:ln>
        </p:spPr>
      </p:pic>
      <p:cxnSp>
        <p:nvCxnSpPr>
          <p:cNvPr id="552" name="Straight Arrow Connector 2"/>
          <p:cNvCxnSpPr/>
          <p:nvPr/>
        </p:nvCxnSpPr>
        <p:spPr>
          <a:xfrm flipV="1">
            <a:off x="2576160" y="3525480"/>
            <a:ext cx="2942280" cy="6955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Google Maps</a:t>
            </a:r>
            <a:endParaRPr b="0" lang="en-US" sz="4000" spc="-1" strike="noStrike">
              <a:solidFill>
                <a:srgbClr val="000000"/>
              </a:solidFill>
              <a:latin typeface="Arial"/>
            </a:endParaRPr>
          </a:p>
        </p:txBody>
      </p:sp>
      <p:sp>
        <p:nvSpPr>
          <p:cNvPr id="554" name=""/>
          <p:cNvSpPr txBox="1"/>
          <p:nvPr/>
        </p:nvSpPr>
        <p:spPr>
          <a:xfrm>
            <a:off x="2880" y="1125000"/>
            <a:ext cx="9007560" cy="4526280"/>
          </a:xfrm>
          <a:prstGeom prst="rect">
            <a:avLst/>
          </a:prstGeom>
          <a:noFill/>
          <a:ln w="0">
            <a:noFill/>
          </a:ln>
        </p:spPr>
        <p:txBody>
          <a:bodyPr anchor="t">
            <a:normAutofit/>
          </a:bodyPr>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steś w Paryżu we Francji na wakacjach</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hciałbyś podróżować do Calais, również we Francj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żyj Google Maps, aby znaleźć opcje trasy</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zy szybciej jest jechać samochodem czy środkami transportu publicznego</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akie są opcje transportu publicznego</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55" name="Picture 4" descr=""/>
          <p:cNvPicPr/>
          <p:nvPr/>
        </p:nvPicPr>
        <p:blipFill>
          <a:blip r:embed="rId1"/>
          <a:stretch/>
        </p:blipFill>
        <p:spPr>
          <a:xfrm>
            <a:off x="7524720" y="1050840"/>
            <a:ext cx="933480" cy="962280"/>
          </a:xfrm>
          <a:prstGeom prst="rect">
            <a:avLst/>
          </a:prstGeom>
          <a:ln w="0">
            <a:noFill/>
          </a:ln>
        </p:spPr>
      </p:pic>
      <p:pic>
        <p:nvPicPr>
          <p:cNvPr id="556" name="Picture 2" descr=""/>
          <p:cNvPicPr/>
          <p:nvPr/>
        </p:nvPicPr>
        <p:blipFill>
          <a:blip r:embed="rId2"/>
          <a:stretch/>
        </p:blipFill>
        <p:spPr>
          <a:xfrm>
            <a:off x="1258920" y="4871880"/>
            <a:ext cx="2160720" cy="1309680"/>
          </a:xfrm>
          <a:prstGeom prst="rect">
            <a:avLst/>
          </a:prstGeom>
          <a:ln w="0">
            <a:noFill/>
          </a:ln>
        </p:spPr>
      </p:pic>
      <p:pic>
        <p:nvPicPr>
          <p:cNvPr id="557" name="Picture 3" descr=""/>
          <p:cNvPicPr/>
          <p:nvPr/>
        </p:nvPicPr>
        <p:blipFill>
          <a:blip r:embed="rId3"/>
          <a:stretch/>
        </p:blipFill>
        <p:spPr>
          <a:xfrm>
            <a:off x="5003640" y="4873680"/>
            <a:ext cx="208944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 wskazówka</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także pobrać mapę („pobierz mapę offline”), aby nadal móc jej używać, gdy nie masz połączenia z Internetem - bardzo przydatne, gdy podróżujesz, a Wi-Fi jest niedostępne!</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odróżując zagranicę</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obrałeś iTranslate na swoje urządzeni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Klik</a:t>
            </a:r>
            <a:r>
              <a:rPr b="0" lang="pl-PL" sz="2800" spc="-1" strike="noStrike">
                <a:solidFill>
                  <a:srgbClr val="000000"/>
                </a:solidFill>
                <a:latin typeface="Arial Rounded MT Bold"/>
              </a:rPr>
              <a:t>nij aplikację, aby ją otworzyć</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teraz używać telefonu lub tabletu do tłumaczenia innych języków</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1:28:28Z</dcterms:modified>
  <cp:revision>459</cp:revision>
  <dc:subject/>
  <dc:title>Title</dc:title>
</cp:coreProperties>
</file>