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3FACD0-0046-459A-807B-76E7E6ABD49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850499-3B98-4140-B840-FFEB2B42DBF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E7C0CED-AE5E-430E-B8C3-BD4CB854BE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A16EA7-B503-49DB-B917-01027CAA49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718A6E-DB1A-40EA-9C20-FBCC6692C1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A3AAEE-4EAF-49F7-A0EE-8EF5ED3223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333385F-D661-476F-B0E9-C4BB53D437F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3EDA5E9-5DDF-48BB-A775-9F1F1AE5706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29C4994-AAA5-4F2C-91DB-6CAAFECA267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CBB94BA-EA30-49A4-9083-8EB792C3061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835197D-29F8-4355-87FA-6E648424238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541986-E50B-4A5D-A09D-0BAC9798895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4E6EDBB-0EA4-47F3-987F-8E954E2FCEC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0CEB48B-0F83-40EB-8F7F-9A61317B184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2BC6782-C8B8-4BC7-9BFE-E6469CA977E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A392121-FACD-42D7-95CF-3FF826171E0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B0AB941-4EB2-4993-A46C-0590B576915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D53518-092D-4E1E-8AD8-56C37DC5931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F30C5C-9756-42E8-93EF-DCD47B52317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1E863F1-25E2-48D4-870F-C0040D7E975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B617545-EF95-4E91-86C1-FBB8B2F078F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8BCC4ED-C733-4FB6-8095-9E2DB3179E4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60FF998-71C6-4ECB-BE26-B1A5FC9A305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EE9FC61-7DDA-435F-8E33-676928D82C2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DDA3CC3-62FA-478A-BDDA-5ABEDC0190A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56E2135-1F3F-49F9-99B0-01A014BE259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2D77045-ED90-401A-8A51-86A24C8A1D0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84D80E8-E92A-4708-952F-1EFE439364D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C2E2D27-EBD3-466E-8782-4253893146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00DDED-08DD-4065-955A-F527EB66AE4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9361E5E-51E1-4E47-8A34-FAC5E5BA82A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B5CC6D2-2E0B-4DEE-9196-08B3B422698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B90E27E-11F9-407D-8E3C-3DAD5FB2802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7E300E8-26B0-4D0E-9EDE-1193C951271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8DF4174-DA6A-40CF-8465-2400801BAE6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467B480-1430-4508-8E8D-A8040D08AEC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82B7D3D-A430-4341-9A14-3F701F7BF28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A90F326-40E4-4337-8974-3830EFA4D95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C8717D0-4387-4E79-B86F-DFE5CCC7AA8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CC20F2-942E-4A1B-8FFD-C924E487343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B2AFB27-C274-49BE-BDD8-62A92341D51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43B84DE-1425-4E65-9726-BAB07684FAE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5AD4C0A-DD90-4733-B5EB-C9969EB0088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B8144F2-9899-487B-9C3C-F7D686A2DED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82190E6-625A-426B-B67D-DA685584707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C5B6D3-CF2F-498D-A8E2-D47557DEB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6D95ED-499C-4362-A782-EE67CEB44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990D6C-28DE-4954-A19F-8C16D5ADD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A281DE-9A3E-4836-A8C3-11DA1F1BE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632E36-CC5C-4971-A9AD-A1AA4DD7C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B60F2-58B3-47CA-80DF-258D5DCEB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9F95D-85D1-4D33-97A5-B7A9787D4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A7FA7-910C-4C18-8642-A674A0489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CC409-E97E-45B3-827F-BC0883C46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6CEFD5-B484-4E20-940F-7830DCA89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9E39E2-A762-42EF-8999-6B76D37693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3CDBAB-2608-4425-B7DE-74F3DA50C0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8F93B5-4497-4E30-AC2C-D5094A925A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520954-BD83-4237-BD27-102D2A1314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7D3601-878B-47E7-9583-44EB0A7410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92B81F-0168-4A78-A10F-A18D4CE124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F5F556-0B2D-4925-A24D-784F94F7EF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992A95-FFE8-46DA-BDC5-6975C81883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458301-D16A-4717-A0C2-1A0AFB7DE6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3C0B41-3A7B-499C-9874-8AE86223A3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5FB1BB-40AB-4759-B53A-82EF66479C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EA8715-0C02-48ED-B37A-0E36185830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6A20ACA-BCFD-4A15-BC51-833F6B3CD5A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34C5579-1C02-44F0-A0AF-15F4BC8100A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B3F5F76-4780-4989-8BC5-8899387CC3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28EF25-3B11-469F-A83E-EEC60C916B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BC4257-539A-436F-A51D-EA2235DA46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355637-4F16-4341-8D20-51BA319492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7F8FCE-F21B-44AD-AE94-54C5F30286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941381-9D91-4F5D-8B1B-7DDC4BC053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B639B8-FFA3-466E-839E-17963C56E7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EE7384-8B89-4397-AC7C-E719D97064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549B2C-E5CB-4AAE-8E0E-8788269137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A1FFB9-3471-4DE8-8461-AA0BD4B409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1058EC4-B5FB-497E-B332-3E4D169FDF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B4CBC42-29DB-455A-8056-88B963F4FE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6E97A17-036D-4909-94A5-1FB569C0CAE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60CFC10-7136-4DE0-8411-FE7D36735F4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DC69F0D-4D3C-4E71-B5D0-8A8B5AFE77B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312EE5-8984-4F0B-B654-1A624609E1D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6BD43BC-1C8F-4AC6-84DC-B1694DE2DB4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8FB6128-D29F-481F-B6B8-A63A295527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7C2A74-460C-42B5-BF8B-51FD7A12C62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06B212-0245-4752-B515-7C6205ADCE5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8A8A6A-F6DE-4FAE-9B10-97ABD1A104D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FDA4F68-A3AC-424C-9357-4C84DB408F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5F86FA0-8390-46ED-B608-1520A113284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326106F-8EA7-4057-92BE-BD548A45E7B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2E81D55-3170-4561-9067-FB95A40EF38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4F55AD0-C81C-4D0D-8487-265B450FE25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4AC77ED-A379-496A-B9D1-4FD9972C6AA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1B79E1F-C711-4994-8713-619D14FC93C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964DA30-7FF9-456F-BA5A-12920E0B6F3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73CAEDD-E2AC-412D-9CFC-B81006EE927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FDAD152-451E-4F1B-AFF3-5E54470C82F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E36D08-37CE-426F-8223-BCEA11CFCB7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CC95D0-3E65-49EF-8A38-86D533C1E9C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7FBF59B-4771-4B05-B6AF-59F12A46B4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3E573B6-2F13-43FA-9FFE-0323A43B7FF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AB44AC5-B1BB-425B-B730-D1A8EEF6EBE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0E5587C-FD2C-4417-BB98-A081F9CA787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F9D91B2-EBA4-48A7-8E59-67DC31CFD42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35C237-B6CD-44B5-B7E0-CA325C9BB48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9E1FE2F-DD03-4C27-BFBC-77E5653DB73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E898C3-0C92-48E5-B0E3-3A5B4D54314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5445A50-E6B8-44AB-8CEB-0E2E3AADAF7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E003BB-97A2-4CC5-B810-7A0D48032B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679873E-8A00-450F-A9F6-E8BD13E2ABD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2427CF-18C8-4F04-801F-9C8991D8D6D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D38BEA2-023D-4E21-A46C-A6FB119CB63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7F731BF-7A45-4C5A-A985-572D86720AE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D56B80C-011A-4B01-97D5-A426C4E80C5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91CBAF9-950D-443F-9E2C-062E683A2D2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7E706B8-7858-4946-B89B-7C6314DAE7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C7C9A13-626F-4476-8131-F0ADC954C31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1C10-4E5D-4699-974C-5B01B1A5F29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A027-8581-44F2-8AAB-6C02E56DA50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1B32-BF41-478B-B488-81D22D3076C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E52F-BE31-4B4D-A7F4-5C66E0785E8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E671-AA97-4111-AE9F-A16F2482D56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261B-6D94-42E7-9173-43C32213729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B75D-00AC-4030-9373-8F719B304E4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C0DD-C59D-44D1-B1C9-DE4B6DEF254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EAFF-7846-404E-AE6E-5D82FDADD52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76CE-E6CF-4851-ACD6-E26639B2738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mail.google.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messenger.com/"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telegram.org/"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wecha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viber.com/"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Trouble Shooting &amp; Problem solving</a:t>
            </a:r>
            <a:endParaRPr b="0" lang="en-US" sz="3600" spc="-1" strike="noStrike">
              <a:solidFill>
                <a:srgbClr val="000000"/>
              </a:solidFill>
              <a:latin typeface="Arial"/>
            </a:endParaRPr>
          </a:p>
        </p:txBody>
      </p:sp>
      <p:sp>
        <p:nvSpPr>
          <p:cNvPr id="537" name="Rectángulo 1"/>
          <p:cNvSpPr/>
          <p:nvPr/>
        </p:nvSpPr>
        <p:spPr>
          <a:xfrm>
            <a:off x="900000" y="3141720"/>
            <a:ext cx="800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dentifying Alternatives: messaging, email, video ch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908000" y="340920"/>
            <a:ext cx="750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lternative apps to </a:t>
            </a:r>
            <a:br>
              <a:rPr sz="4000"/>
            </a:br>
            <a:r>
              <a:rPr b="0" lang="en-GB" sz="4000" spc="-1" strike="noStrike">
                <a:solidFill>
                  <a:srgbClr val="000000"/>
                </a:solidFill>
                <a:latin typeface="Arial Rounded MT Bold"/>
              </a:rPr>
              <a:t>e-mails </a:t>
            </a:r>
            <a:endParaRPr b="0" lang="en-US" sz="4000" spc="-1" strike="noStrike">
              <a:solidFill>
                <a:srgbClr val="000000"/>
              </a:solidFill>
              <a:latin typeface="Arial"/>
            </a:endParaRPr>
          </a:p>
        </p:txBody>
      </p:sp>
      <p:sp>
        <p:nvSpPr>
          <p:cNvPr id="573"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receiving e-mails: Gmail</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CasellaDiTesto 6"/>
          <p:cNvSpPr/>
          <p:nvPr/>
        </p:nvSpPr>
        <p:spPr>
          <a:xfrm>
            <a:off x="447840" y="2479680"/>
            <a:ext cx="784836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Gmail has been developed by Google and it is an efficient alternative to Outlook app. In Gmail you can log in both with your Gmail account and your Outlook account, all you need is to remember your mail address and password.  </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Gmail also provides to manage tasks and calendar. </a:t>
            </a:r>
            <a:endParaRPr b="0" lang="en-US" sz="2200" spc="-1" strike="noStrike">
              <a:solidFill>
                <a:srgbClr val="000000"/>
              </a:solidFill>
              <a:latin typeface="Arial"/>
            </a:endParaRPr>
          </a:p>
        </p:txBody>
      </p:sp>
      <p:pic>
        <p:nvPicPr>
          <p:cNvPr id="575" name="Picture 2" descr="Image result for gmail"/>
          <p:cNvPicPr/>
          <p:nvPr/>
        </p:nvPicPr>
        <p:blipFill>
          <a:blip r:embed="rId1"/>
          <a:stretch/>
        </p:blipFill>
        <p:spPr>
          <a:xfrm>
            <a:off x="7389720" y="1303200"/>
            <a:ext cx="1306440" cy="1306800"/>
          </a:xfrm>
          <a:prstGeom prst="rect">
            <a:avLst/>
          </a:prstGeom>
          <a:ln w="0">
            <a:noFill/>
          </a:ln>
        </p:spPr>
      </p:pic>
      <p:sp>
        <p:nvSpPr>
          <p:cNvPr id="576" name="Rettangolo 1"/>
          <p:cNvSpPr/>
          <p:nvPr/>
        </p:nvSpPr>
        <p:spPr>
          <a:xfrm>
            <a:off x="3317040" y="5589720"/>
            <a:ext cx="2151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mail.google.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lternative apps to </a:t>
            </a:r>
            <a:br>
              <a:rPr sz="4000"/>
            </a:br>
            <a:r>
              <a:rPr b="0" lang="en-GB" sz="4000" spc="-1" strike="noStrike">
                <a:solidFill>
                  <a:srgbClr val="000000"/>
                </a:solidFill>
                <a:latin typeface="Arial Rounded MT Bold"/>
              </a:rPr>
              <a:t>e-mails </a:t>
            </a:r>
            <a:endParaRPr b="0" lang="en-US" sz="4000" spc="-1" strike="noStrike">
              <a:solidFill>
                <a:srgbClr val="000000"/>
              </a:solidFill>
              <a:latin typeface="Arial"/>
            </a:endParaRPr>
          </a:p>
        </p:txBody>
      </p:sp>
      <p:sp>
        <p:nvSpPr>
          <p:cNvPr id="578" name=""/>
          <p:cNvSpPr txBox="1"/>
          <p:nvPr/>
        </p:nvSpPr>
        <p:spPr>
          <a:xfrm>
            <a:off x="456840" y="1816200"/>
            <a:ext cx="7931160" cy="60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have apps for e-mail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CasellaDiTesto 6"/>
          <p:cNvSpPr/>
          <p:nvPr/>
        </p:nvSpPr>
        <p:spPr>
          <a:xfrm>
            <a:off x="539640" y="2451240"/>
            <a:ext cx="8147160" cy="310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f you have got an Android smartphone (or tablet) you have already got the Gmail app on your device as default  application. Instead, if you have got an iPhone you have to download it from the Store. </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 order to have Outlook app, you have to download it from the Store either if you have got an Android or an iPhone.</a:t>
            </a:r>
            <a:endParaRPr b="0" lang="en-US" sz="2200" spc="-1" strike="noStrike">
              <a:solidFill>
                <a:srgbClr val="000000"/>
              </a:solidFill>
              <a:latin typeface="Arial"/>
            </a:endParaRPr>
          </a:p>
        </p:txBody>
      </p:sp>
      <p:sp>
        <p:nvSpPr>
          <p:cNvPr id="58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video chat</a:t>
            </a:r>
            <a:endParaRPr b="0" lang="en-US" sz="4400" spc="-1" strike="noStrike">
              <a:solidFill>
                <a:srgbClr val="000000"/>
              </a:solidFill>
              <a:latin typeface="Arial"/>
            </a:endParaRPr>
          </a:p>
        </p:txBody>
      </p:sp>
      <p:sp>
        <p:nvSpPr>
          <p:cNvPr id="583" name="CasellaDiTesto 6"/>
          <p:cNvSpPr/>
          <p:nvPr/>
        </p:nvSpPr>
        <p:spPr>
          <a:xfrm>
            <a:off x="792000" y="1916280"/>
            <a:ext cx="7560000" cy="370332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ere are different apps you can us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kype</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angouts Meet</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acebook Messenger</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elegram</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eChat</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ib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video chat </a:t>
            </a:r>
            <a:endParaRPr b="0" lang="en-US" sz="4400" spc="-1" strike="noStrike">
              <a:solidFill>
                <a:srgbClr val="000000"/>
              </a:solidFill>
              <a:latin typeface="Arial"/>
            </a:endParaRPr>
          </a:p>
        </p:txBody>
      </p:sp>
      <p:sp>
        <p:nvSpPr>
          <p:cNvPr id="585" name=""/>
          <p:cNvSpPr txBox="1"/>
          <p:nvPr/>
        </p:nvSpPr>
        <p:spPr>
          <a:xfrm>
            <a:off x="456840" y="1887480"/>
            <a:ext cx="7931160" cy="749520"/>
          </a:xfrm>
          <a:prstGeom prst="rect">
            <a:avLst/>
          </a:prstGeom>
          <a:noFill/>
          <a:ln w="0">
            <a:noFill/>
          </a:ln>
        </p:spPr>
        <p:txBody>
          <a:bodyPr anchor="t">
            <a:normAutofit fontScale="6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ngouts Meet, </a:t>
            </a:r>
            <a:r>
              <a:rPr b="0" lang="en-GB" sz="3200" spc="-1" strike="noStrike">
                <a:solidFill>
                  <a:srgbClr val="000000"/>
                </a:solidFill>
                <a:latin typeface="Arial Rounded MT Bold"/>
              </a:rPr>
              <a:t> Whatsapp, Facebook Messanger, WeChat, Viber</a:t>
            </a:r>
            <a:endParaRPr b="0" lang="en-US" sz="32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CasellaDiTesto 6"/>
          <p:cNvSpPr/>
          <p:nvPr/>
        </p:nvSpPr>
        <p:spPr>
          <a:xfrm>
            <a:off x="647640" y="2898720"/>
            <a:ext cx="784872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could also use one of the app we saw for messaging since most of them provide video chats and can be used both by mobile devices or computers.</a:t>
            </a:r>
            <a:endParaRPr b="0" lang="en-US" sz="2400" spc="-1" strike="noStrike">
              <a:solidFill>
                <a:srgbClr val="000000"/>
              </a:solidFill>
              <a:latin typeface="Arial"/>
            </a:endParaRPr>
          </a:p>
        </p:txBody>
      </p:sp>
      <p:sp>
        <p:nvSpPr>
          <p:cNvPr id="58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video chat </a:t>
            </a:r>
            <a:endParaRPr b="0" lang="en-US" sz="4400" spc="-1" strike="noStrike">
              <a:solidFill>
                <a:srgbClr val="000000"/>
              </a:solidFill>
              <a:latin typeface="Arial"/>
            </a:endParaRPr>
          </a:p>
        </p:txBody>
      </p:sp>
      <p:sp>
        <p:nvSpPr>
          <p:cNvPr id="590" name=""/>
          <p:cNvSpPr txBox="1"/>
          <p:nvPr/>
        </p:nvSpPr>
        <p:spPr>
          <a:xfrm>
            <a:off x="456840" y="1816200"/>
            <a:ext cx="7931160" cy="60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have apps for video cha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CasellaDiTesto 6"/>
          <p:cNvSpPr/>
          <p:nvPr/>
        </p:nvSpPr>
        <p:spPr>
          <a:xfrm>
            <a:off x="457200" y="2421000"/>
            <a:ext cx="8147160" cy="3445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You can download each application from the Store of your mobile device.</a:t>
            </a:r>
            <a:endParaRPr b="0"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 order to use the app you prefer on your PC you can download it from the Store (if your computer provides it) or search the download file  from Internet. </a:t>
            </a:r>
            <a:endParaRPr b="0" lang="en-US" sz="2200" spc="-1" strike="noStrike">
              <a:solidFill>
                <a:srgbClr val="000000"/>
              </a:solidFill>
              <a:latin typeface="Arial"/>
            </a:endParaRPr>
          </a:p>
        </p:txBody>
      </p:sp>
      <p:sp>
        <p:nvSpPr>
          <p:cNvPr id="59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a:t>
            </a:r>
            <a:endParaRPr b="0" lang="en-US" sz="32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Use alternative apps for messaging</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Use alternative apps for sending e-mail</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Use alternative apps for video chatting</a:t>
            </a:r>
            <a:endParaRPr b="0" lang="en-US" sz="2800" spc="-1" strike="noStrike">
              <a:solidFill>
                <a:srgbClr val="000000"/>
              </a:solidFill>
              <a:latin typeface="Arial"/>
            </a:endParaRPr>
          </a:p>
          <a:p>
            <a:pPr marL="810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41"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CasellaDiTesto 6"/>
          <p:cNvSpPr/>
          <p:nvPr/>
        </p:nvSpPr>
        <p:spPr>
          <a:xfrm>
            <a:off x="457200" y="2349360"/>
            <a:ext cx="7931160" cy="338580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re are different apps you can use</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sapp</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Messenge</a:t>
            </a:r>
            <a:r>
              <a:rPr b="0" lang="hu-HU" sz="2400" spc="-1" strike="noStrike">
                <a:solidFill>
                  <a:srgbClr val="000000"/>
                </a:solidFill>
                <a:latin typeface="Arial Rounded MT Bold"/>
              </a:rPr>
              <a:t>r</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legram</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eChat</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44"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5" name="Picture 4" descr="C:\Users\Lorenzo\Desktop\WhatsApp_chatting.jpg"/>
          <p:cNvPicPr/>
          <p:nvPr/>
        </p:nvPicPr>
        <p:blipFill>
          <a:blip r:embed="rId1"/>
          <a:stretch/>
        </p:blipFill>
        <p:spPr>
          <a:xfrm>
            <a:off x="5464080" y="2676600"/>
            <a:ext cx="3284640" cy="2624040"/>
          </a:xfrm>
          <a:prstGeom prst="rect">
            <a:avLst/>
          </a:prstGeom>
          <a:ln w="0">
            <a:noFill/>
          </a:ln>
        </p:spPr>
      </p:pic>
      <p:sp>
        <p:nvSpPr>
          <p:cNvPr id="546" name="CasellaDiTesto 6"/>
          <p:cNvSpPr/>
          <p:nvPr/>
        </p:nvSpPr>
        <p:spPr>
          <a:xfrm>
            <a:off x="395280" y="2421000"/>
            <a:ext cx="4681440" cy="411444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hatsapp is the most used app for messaging online: it</a:t>
            </a:r>
            <a:r>
              <a:rPr b="0" lang="en-US" sz="2200" spc="-1" strike="noStrike">
                <a:solidFill>
                  <a:srgbClr val="000000"/>
                </a:solidFill>
                <a:latin typeface="Arial Rounded MT Bold"/>
              </a:rPr>
              <a:t> allows users to send text messages and voice messages, make voice and video calls and also share images, documents, user locations, and other media. </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Rettangolo 1"/>
          <p:cNvSpPr/>
          <p:nvPr/>
        </p:nvSpPr>
        <p:spPr>
          <a:xfrm>
            <a:off x="5727600" y="5411880"/>
            <a:ext cx="2509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hatsapp.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198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49" name=""/>
          <p:cNvSpPr txBox="1"/>
          <p:nvPr/>
        </p:nvSpPr>
        <p:spPr>
          <a:xfrm>
            <a:off x="324000" y="1600200"/>
            <a:ext cx="8712000" cy="103680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pps for messaging: Facebook Messenger</a:t>
            </a:r>
            <a:endParaRPr b="0" lang="en-US" sz="3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CasellaDiTesto 6"/>
          <p:cNvSpPr/>
          <p:nvPr/>
        </p:nvSpPr>
        <p:spPr>
          <a:xfrm>
            <a:off x="468360" y="2779560"/>
            <a:ext cx="8351640" cy="31420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acebook Messenger is a messaging app and platform.</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you have a Facebook account then you automatically have a Facebook Messenger account: you just have to download the app from the Store and log in with your Facebook credentials. </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You can chat with your friends or whoever has a Facebook profile. </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you log in with Facebook from PC you log into Messenger to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1" name="Picture 2" descr="Image result for facebook messenger"/>
          <p:cNvPicPr/>
          <p:nvPr/>
        </p:nvPicPr>
        <p:blipFill>
          <a:blip r:embed="rId1"/>
          <a:stretch/>
        </p:blipFill>
        <p:spPr>
          <a:xfrm>
            <a:off x="7711920" y="2235240"/>
            <a:ext cx="1079640" cy="1089000"/>
          </a:xfrm>
          <a:prstGeom prst="rect">
            <a:avLst/>
          </a:prstGeom>
          <a:ln w="0">
            <a:noFill/>
          </a:ln>
        </p:spPr>
      </p:pic>
      <p:sp>
        <p:nvSpPr>
          <p:cNvPr id="552" name="Rettangolo 1"/>
          <p:cNvSpPr/>
          <p:nvPr/>
        </p:nvSpPr>
        <p:spPr>
          <a:xfrm>
            <a:off x="3325680" y="5732640"/>
            <a:ext cx="2637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messeng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54" name=""/>
          <p:cNvSpPr txBox="1"/>
          <p:nvPr/>
        </p:nvSpPr>
        <p:spPr>
          <a:xfrm>
            <a:off x="456840" y="18158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Telegram</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CasellaDiTesto 6"/>
          <p:cNvSpPr/>
          <p:nvPr/>
        </p:nvSpPr>
        <p:spPr>
          <a:xfrm>
            <a:off x="430200" y="2563920"/>
            <a:ext cx="8207280" cy="34444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elegram is a cloud-based instant messaging and voice over IP service. It is very similar to Whatsapp and more than that, Telegram has got “channels” that could be use for broadcasting messages to an unlimited number of subscribers. </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elegram could be used also on PC.</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6" name="Picture 4" descr="Image result for telegram"/>
          <p:cNvPicPr/>
          <p:nvPr/>
        </p:nvPicPr>
        <p:blipFill>
          <a:blip r:embed="rId1"/>
          <a:stretch/>
        </p:blipFill>
        <p:spPr>
          <a:xfrm>
            <a:off x="7372440" y="1360440"/>
            <a:ext cx="1139760" cy="1081080"/>
          </a:xfrm>
          <a:prstGeom prst="rect">
            <a:avLst/>
          </a:prstGeom>
          <a:ln w="0">
            <a:noFill/>
          </a:ln>
        </p:spPr>
      </p:pic>
      <p:sp>
        <p:nvSpPr>
          <p:cNvPr id="557" name="Rettangolo 1"/>
          <p:cNvSpPr/>
          <p:nvPr/>
        </p:nvSpPr>
        <p:spPr>
          <a:xfrm>
            <a:off x="3628800" y="5656320"/>
            <a:ext cx="1886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telegram.org/</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59" name=""/>
          <p:cNvSpPr txBox="1"/>
          <p:nvPr/>
        </p:nvSpPr>
        <p:spPr>
          <a:xfrm>
            <a:off x="456840" y="1703160"/>
            <a:ext cx="7931160" cy="803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WeCh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CasellaDiTesto 6"/>
          <p:cNvSpPr/>
          <p:nvPr/>
        </p:nvSpPr>
        <p:spPr>
          <a:xfrm>
            <a:off x="468360" y="2506680"/>
            <a:ext cx="8207280" cy="3611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Like Whatsapp, WeChat provides text, broadcast and voice messaging. With it you can share photos, videos, documents and location and you can also do video calls and conferencing. WeChat also allows users to exchange contacts with people nearby via Bluetooth and it can also integrate with other social networking services such as Facebook.</a:t>
            </a:r>
            <a:endParaRPr b="0" lang="en-US" sz="2200" spc="-1" strike="noStrike">
              <a:solidFill>
                <a:srgbClr val="000000"/>
              </a:solidFill>
              <a:latin typeface="Arial"/>
            </a:endParaRPr>
          </a:p>
        </p:txBody>
      </p:sp>
      <p:pic>
        <p:nvPicPr>
          <p:cNvPr id="561" name="Picture 2" descr="Image result for wechat"/>
          <p:cNvPicPr/>
          <p:nvPr/>
        </p:nvPicPr>
        <p:blipFill>
          <a:blip r:embed="rId1"/>
          <a:stretch/>
        </p:blipFill>
        <p:spPr>
          <a:xfrm>
            <a:off x="7380360" y="1446120"/>
            <a:ext cx="1008000" cy="1008000"/>
          </a:xfrm>
          <a:prstGeom prst="rect">
            <a:avLst/>
          </a:prstGeom>
          <a:ln w="0">
            <a:noFill/>
          </a:ln>
        </p:spPr>
      </p:pic>
      <p:sp>
        <p:nvSpPr>
          <p:cNvPr id="562" name="Rettangolo 1"/>
          <p:cNvSpPr/>
          <p:nvPr/>
        </p:nvSpPr>
        <p:spPr>
          <a:xfrm>
            <a:off x="3450600" y="5715000"/>
            <a:ext cx="224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echat.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64" name=""/>
          <p:cNvSpPr txBox="1"/>
          <p:nvPr/>
        </p:nvSpPr>
        <p:spPr>
          <a:xfrm>
            <a:off x="456840" y="18158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Viber</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CasellaDiTesto 6"/>
          <p:cNvSpPr/>
          <p:nvPr/>
        </p:nvSpPr>
        <p:spPr>
          <a:xfrm>
            <a:off x="468360" y="2852640"/>
            <a:ext cx="8207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iber is another app very similar to Whatsapp, it provides text and voice messaging, video calls, photo and other media sharing. Like Whatsapp and Telegram you can log in on Viber also from computers.</a:t>
            </a:r>
            <a:endParaRPr b="0" lang="en-US" sz="2200" spc="-1" strike="noStrike">
              <a:solidFill>
                <a:srgbClr val="000000"/>
              </a:solidFill>
              <a:latin typeface="Arial"/>
            </a:endParaRPr>
          </a:p>
        </p:txBody>
      </p:sp>
      <p:pic>
        <p:nvPicPr>
          <p:cNvPr id="566" name="Picture 2" descr="Image result for viber"/>
          <p:cNvPicPr/>
          <p:nvPr/>
        </p:nvPicPr>
        <p:blipFill>
          <a:blip r:embed="rId1"/>
          <a:stretch/>
        </p:blipFill>
        <p:spPr>
          <a:xfrm>
            <a:off x="6659640" y="1844640"/>
            <a:ext cx="1887480" cy="951120"/>
          </a:xfrm>
          <a:prstGeom prst="rect">
            <a:avLst/>
          </a:prstGeom>
          <a:ln w="0">
            <a:noFill/>
          </a:ln>
        </p:spPr>
      </p:pic>
      <p:sp>
        <p:nvSpPr>
          <p:cNvPr id="567" name="Rettangolo 1"/>
          <p:cNvSpPr/>
          <p:nvPr/>
        </p:nvSpPr>
        <p:spPr>
          <a:xfrm>
            <a:off x="3369960" y="5602320"/>
            <a:ext cx="2105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vib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How to have apps for messaging</a:t>
            </a:r>
            <a:r>
              <a:rPr b="0"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69" name="CasellaDiTesto 6"/>
          <p:cNvSpPr/>
          <p:nvPr/>
        </p:nvSpPr>
        <p:spPr>
          <a:xfrm>
            <a:off x="460440" y="1773360"/>
            <a:ext cx="82087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re are also other free apps you can use for messaging yet it is very easy to search others. You can choose the app you prefer searching on the Store of your smartphone (Play Store for Android or App Store for iOS).</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have just to digit the name of the app you like most on the store and install it!</a:t>
            </a:r>
            <a:endParaRPr b="0" lang="en-US" sz="2400" spc="-1" strike="noStrike">
              <a:solidFill>
                <a:srgbClr val="000000"/>
              </a:solidFill>
              <a:latin typeface="Arial"/>
            </a:endParaRPr>
          </a:p>
        </p:txBody>
      </p:sp>
      <p:sp>
        <p:nvSpPr>
          <p:cNvPr id="57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19-11-12T12:40:50Z</dcterms:modified>
  <cp:revision>477</cp:revision>
  <dc:subject/>
  <dc:title>Title</dc:title>
</cp:coreProperties>
</file>