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73BA-BB53-4706-9BE8-01468678E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745D-CE33-41E0-A681-0069C2F04E7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9417554-182A-4A64-8C98-6B30429755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14C93EE-2143-4F67-A6FC-3A464DC5BC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71FF29-6E77-43D9-A9DF-BCC9214971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37CA20-9EA8-4143-BB4B-78C0372E13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474DE7-D7F1-4049-B95C-C6B4847948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6DD846-DE71-4794-AB9B-86FC65DD31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032D86-5805-44CC-B7E3-25BFE3B6FA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7FCD3CB-8D7A-4503-A284-A4704817535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EF9F57D-381D-43DA-8F54-07DBE5636D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DEBA37-2613-4764-BDC2-B9AFF0CABED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069843-4C28-4C62-B33A-CC4E4502902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C6A0F9-2D8D-4978-BF1C-1E791894306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7709DF-0536-4A0F-9B78-5D36788129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7A204A-07F4-46C5-8CB0-5B34575F4BE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340B163-600D-44A0-8584-2CEF06EF90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BADF5C-236F-4252-8608-8D83FD4587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FA7CC0-99C2-4151-99C2-B1CAE5DA36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27B759-10CE-4695-888D-9780BE5EF27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E32D4B-EAF8-4DC8-AE77-FAD1CED4357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408D842-97CD-4B0E-9054-CAAC12397D8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A5E063D-83EA-4260-A96B-0155A1104C1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3AD084C-6DA0-4379-B59E-4DBDD15496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3995D3-B6C8-481E-A952-A8D26C863D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A2DFC45-3A3D-421F-9108-6559E27DBC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2AA82B5-FE53-4806-981F-0820C14E36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B50E19-990E-441C-ACBD-E8BD89A2FD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A9DB327-2009-492B-A6F2-B575B999C4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FE1F404-4D14-4B40-AD6C-80FCC84181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48B6E5-BFF5-48AF-924C-E2AD1F8A4C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EC8DF8-18AA-45F1-8F4D-48D2A8B613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47C7AC7-ED3F-40CE-8403-C58C7B1A92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F4EB02-5662-4D2F-BE26-BF2BF8651A7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65DA586-1539-4241-B080-1F2465B6D47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312B8B5-DDAA-4DF1-A7DD-827E8A072C0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7EA9D2-F46A-4ACB-8BE6-2BEEE0B527F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2373E2B-F762-437C-9B18-828B9875A7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70F0AB-328C-47DA-8397-F6A7984991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67B912-FBE3-4907-BC9A-09A0A11BF20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DC9314-7586-4D73-AFD5-28CC4D6B92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226EB4E-EB09-4287-9E44-80A428CD16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4E1DD2D-A036-4340-A997-965280048D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7F6A73-F789-4C94-BAF4-D200F87ED7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54298A-B4D8-48FF-8AB0-08A19892E6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DDD4178-B127-4B08-9724-DDF22ED8CC0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22EC267-44B5-43BB-958D-4CA86A6309C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02817-0855-46EE-B920-DCA59E2A1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FE1CA-8426-4621-9A91-277CB27AA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5C5E6-0012-486D-AB2E-D5281E4DE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99472-0D86-4256-B5F5-8E1338694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E5AFD-A129-4B53-96BE-07571988F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06E1F-D1BB-4312-9466-D85F89B5A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15D78-A415-41DF-9E4E-E57885821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E27E1-1EA1-4525-987A-A966A56C7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9F7CF-F5E7-4A9B-B56D-0EBF5FBC3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14511-9AC4-457B-9CD0-61B24BFE6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07ECC6-A6A5-4627-B3A5-6738626B0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502D0-27DD-4A53-971C-9D24255C37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49B28D-D524-4825-8123-06C243D782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B0BD27-5766-417C-8438-8121BB7F44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666F41-F191-47E8-BF87-52E936C9E1D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8557A3-8D75-4D6D-AD9A-E3D12FFC66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41A0BD-04A4-46C6-ADB8-F13C40F793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242CE1-1AC8-4655-92C2-A34E3B25C7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ACE2DA-EBC7-4B57-8B5A-696B04F6CE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BA91BE-2FD6-4B89-99EB-2E26E5CB8B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79F506-C8DB-424E-938A-0ACAB0E19B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27CF53-15B1-4D01-ABFA-2F07C96DF6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2A2760-0EEE-4333-8F9D-684AA3D538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834552-DC64-4D79-897F-1D3991339F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E07E85-FA26-42ED-9BC4-2426F0E3DC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36CE4E-BB7D-4174-978C-51EFADDDAD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E7E50C-1615-4F02-A9DA-CE5CD90302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88E490-46F5-4E6C-8268-F53AF5E77A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B5A34C-C9EC-4248-9BD2-A5C141AA7E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6D7274-B434-4715-ADCE-4F271A569B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FDDFBC-B42A-4AD6-B1A5-71CA01EF28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F782D7-C14C-4D26-BE65-F4C74C49AB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E34D2C-D602-458F-AD57-5644773025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423B44-1F2D-4FCC-A9FE-CF745997EB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32DFE8-A685-494D-A3CE-5EE9706FEF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F14565-181D-430D-98A3-3D7581BB03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4D3757E-E628-419B-9995-05C5323144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9E7FD0-E55F-4D3A-80E4-63B9507F24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EF11BC2-3A76-41C8-BA05-76EDED4752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D0B0F6-9F82-42FB-BCDA-E78C3C68AB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8CD425-0C66-4ABD-A88B-95F6A87A7F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9F299D-D67D-45BA-A55F-6D383AD8E15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A94DBA-9EF5-40F7-8674-A0BA3F8CAE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E10736-C37E-4F56-8765-AB2FBCEDD0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6ED544-8992-4FF0-BE19-675CDBD693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098EAA-1FA2-4D41-A936-8BAD71BE3F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74BAA84-C3B0-4F3A-BDE1-526EC35A2BE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E21478B-4280-4ED9-840B-8F4EDE3BEED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90A0D00-3E91-4410-9CF0-AE2D0838956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EA29B9-A5B1-4361-8571-6550EC6B32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FF9F87-583E-414B-BA78-2BF12FAD3D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F721A3-A00C-4A95-99AF-F44CF9250D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F5CB98-A714-42C6-BD74-BDEA1F266D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7B25D4E-DCCC-4CFC-A7B2-E7261211F65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A31A96-7275-46CB-AC10-CB7CDA2B4E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FBC23F-77F0-4BF5-8FDC-196717AF27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D0D812-5B7C-4897-922D-47E5AF57E3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04BA99-CEF9-425D-B3FF-9ECB87A101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0BF546A-8ACF-4EEF-9C6C-0A1C40AD784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BC06C94-DEB3-480A-A147-BEE1ABC6A32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B6D0E1-7A38-4C28-BB0E-F12E68A91A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EF4CCF-1896-4163-B224-7405856408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9C7E3A-EB8C-4B60-B129-54930711EF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167A090-4564-4E0B-A806-39A92405535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7FE705-9771-4E65-9083-7356B67BD2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955E0CD-E0EE-4369-83DD-FA9CB8CEB6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5EF007-EEF3-4E14-AD14-50002F6FFB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606BB6-F656-43B5-9379-4C651D657A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1D98D7-ED87-4432-B888-DCF61D053D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B30690-672C-4A2F-AD25-3088255237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89D4226-8C6A-4D16-BEC3-E6F4012861E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8A559F0-48D7-4A4C-9C6B-51FEF0F1597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6411318-4951-4A6A-B6D5-20E50974B2C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703708-630E-486C-B5AD-B790987AE5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EE0421-CA65-4A2E-9E46-C470C679302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3617-E818-440D-826E-2B7E926307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E5A7-C313-4CC3-988A-448CC094F0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6B7E-F6DF-4557-B080-89825D4448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8DC2-C59E-4196-AA04-57715CD889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32D-AD18-4E49-8C15-AD6795992FE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BB25-4369-401E-9FE2-6D5BCBFC715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1119-9DD0-4C73-A61C-14258E1AD74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4845-800C-4E44-A5E6-611C7156E58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A8F7-763F-4F06-8F78-F99AD701CE9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9798-157E-4DB3-8500-72FD1942E9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al content creation</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pps for connecting with 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Using Skype, Twitter and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ting your Twitter account (Desktop)</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creating your account, the ‘full name’ that you use is your display name, but you can</a:t>
            </a:r>
            <a:r>
              <a:rPr b="0" lang="hu-HU" sz="2400" spc="-1" strike="noStrike">
                <a:solidFill>
                  <a:srgbClr val="000000"/>
                </a:solidFill>
                <a:latin typeface="Arial Rounded MT Bold"/>
              </a:rPr>
              <a:t> </a:t>
            </a:r>
            <a:r>
              <a:rPr b="0" lang="en-GB" sz="2400" spc="-1" strike="noStrike">
                <a:solidFill>
                  <a:srgbClr val="000000"/>
                </a:solidFill>
                <a:latin typeface="Arial Rounded MT Bold"/>
              </a:rPr>
              <a:t>change this to whatever you want, whenever you want, so you can stay anonymous if you wis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a secure password!</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your interests – Twitter will then suggest people for you to foll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a pictur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rite your bio – this lets people know a bit about you</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reating your Twitter account (Mobile)</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ill out your name, phone number/email address. Use your real name as you will need to verify</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nter in the verification number that you received at whatever contact information you provided. Choose a strong password.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hoose whether you'd like to sync your contacts. This may help you find Twitter followers, but if you don't want to, just tap ‘not now’</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earch for interests e.g. sport. This will help Twitter recommend good profiles for you to follo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reating your Twitter account (Mobile)</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will suggest some accounts you</a:t>
            </a:r>
            <a:r>
              <a:rPr b="0" lang="hu-HU" sz="2600" spc="-1" strike="noStrike">
                <a:solidFill>
                  <a:srgbClr val="000000"/>
                </a:solidFill>
                <a:latin typeface="Arial Rounded MT Bold"/>
              </a:rPr>
              <a:t> </a:t>
            </a:r>
            <a:r>
              <a:rPr b="0" lang="en-GB" sz="2600" spc="-1" strike="noStrike">
                <a:solidFill>
                  <a:srgbClr val="000000"/>
                </a:solidFill>
                <a:latin typeface="Arial Rounded MT Bold"/>
              </a:rPr>
              <a:t>can follow based on your interests. Choose ones that you </a:t>
            </a:r>
            <a:r>
              <a:rPr b="0" lang="en-GB" sz="2600" spc="-1" strike="noStrike">
                <a:solidFill>
                  <a:srgbClr val="000000"/>
                </a:solidFill>
                <a:latin typeface="Arial Rounded MT Bold"/>
              </a:rPr>
              <a:t>	</a:t>
            </a:r>
            <a:r>
              <a:rPr b="0" lang="en-GB" sz="2600" spc="-1" strike="noStrike">
                <a:solidFill>
                  <a:srgbClr val="000000"/>
                </a:solidFill>
                <a:latin typeface="Arial Rounded MT Bold"/>
              </a:rPr>
              <a:t>think</a:t>
            </a:r>
            <a:r>
              <a:rPr b="0" lang="hu-HU" sz="2600" spc="-1" strike="noStrike">
                <a:solidFill>
                  <a:srgbClr val="000000"/>
                </a:solidFill>
                <a:latin typeface="Arial Rounded MT Bold"/>
              </a:rPr>
              <a:t> </a:t>
            </a:r>
            <a:r>
              <a:rPr b="0" lang="en-GB" sz="2600" spc="-1" strike="noStrike">
                <a:solidFill>
                  <a:srgbClr val="000000"/>
                </a:solidFill>
                <a:latin typeface="Arial Rounded MT Bold"/>
              </a:rPr>
              <a:t>are interest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You’re now ready to Tweet!  </a:t>
            </a:r>
            <a:r>
              <a:rPr b="0" lang="en-GB" sz="2600" spc="-1" strike="noStrike">
                <a:solidFill>
                  <a:srgbClr val="000000"/>
                </a:solidFill>
                <a:latin typeface="Arial Rounded MT Bold"/>
              </a:rPr>
              <a:t>Just click on </a:t>
            </a:r>
            <a:r>
              <a:rPr b="0" lang="hu-HU" sz="2600" spc="-1" strike="noStrike">
                <a:solidFill>
                  <a:srgbClr val="000000"/>
                </a:solidFill>
                <a:latin typeface="Arial Rounded MT Bold"/>
              </a:rPr>
              <a:t>        </a:t>
            </a:r>
            <a:r>
              <a:rPr b="0" lang="en-GB" sz="2600" spc="-1" strike="noStrike">
                <a:solidFill>
                  <a:srgbClr val="000000"/>
                </a:solidFill>
                <a:latin typeface="Arial Rounded MT Bold"/>
              </a:rPr>
              <a:t>the blue button on the top right to tweet, the grey silhouette on the </a:t>
            </a:r>
            <a:r>
              <a:rPr b="0" lang="en-GB" sz="2600" spc="-1" strike="noStrike">
                <a:solidFill>
                  <a:srgbClr val="000000"/>
                </a:solidFill>
                <a:latin typeface="Arial Rounded MT Bold"/>
              </a:rPr>
              <a:t>	</a:t>
            </a:r>
            <a:r>
              <a:rPr b="0" lang="en-GB" sz="2600" spc="-1" strike="noStrike">
                <a:solidFill>
                  <a:srgbClr val="000000"/>
                </a:solidFill>
                <a:latin typeface="Arial Rounded MT Bold"/>
              </a:rPr>
              <a:t>top</a:t>
            </a:r>
            <a:r>
              <a:rPr b="0" lang="hu-HU" sz="2600" spc="-1" strike="noStrike">
                <a:solidFill>
                  <a:srgbClr val="000000"/>
                </a:solidFill>
                <a:latin typeface="Arial Rounded MT Bold"/>
              </a:rPr>
              <a:t> </a:t>
            </a:r>
            <a:r>
              <a:rPr b="0" lang="en-GB" sz="2600" spc="-1" strike="noStrike">
                <a:solidFill>
                  <a:srgbClr val="000000"/>
                </a:solidFill>
                <a:latin typeface="Arial Rounded MT Bold"/>
              </a:rPr>
              <a:t>left to</a:t>
            </a:r>
            <a:r>
              <a:rPr b="0" lang="hu-HU" sz="2600" spc="-1" strike="noStrike">
                <a:solidFill>
                  <a:srgbClr val="000000"/>
                </a:solidFill>
                <a:latin typeface="Arial Rounded MT Bold"/>
              </a:rPr>
              <a:t> </a:t>
            </a:r>
            <a:r>
              <a:rPr b="0" lang="en-GB" sz="2600" spc="-1" strike="noStrike">
                <a:solidFill>
                  <a:srgbClr val="000000"/>
                </a:solidFill>
                <a:latin typeface="Arial Rounded MT Bold"/>
              </a:rPr>
              <a:t>change your profile picture and settings, and start tweet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to use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great for finding out the latest news – many big news stories break on Twitter.</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is a place to chat with friends and to interact with people you follow e.g. journalists, musicians, sports people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member – it is publi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r tweets can have photos and links as well as text.</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3851280" y="4869000"/>
            <a:ext cx="2374920" cy="11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he language of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sing @ is when you include somebody's @twittername in the tweet. The person will get a notification that you have mentioned them.</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means ‘retweet’. You can RT by either repost their tweet, or you can add a commen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means Direct Message. It allows you to chat in privat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A word or phrase preceded by the # symbol is highlighting a key word and allows you to search for that term</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Famous Tweets</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Breaking New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721320"/>
            <a:ext cx="3774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The crash news hit Twi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a full 15 minutes before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mainstream media got hol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of the 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se Twitter to raise awareness/build an online community for a cause you may be interested i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can support increased citizen engagemen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can gain media attention/increase support – remember the ‘Ice Bucket Challenge’? </a:t>
            </a:r>
            <a:r>
              <a:rPr b="0" i="1" lang="en-IE" sz="2000" spc="-1" strike="noStrike">
                <a:solidFill>
                  <a:srgbClr val="000000"/>
                </a:solidFill>
                <a:latin typeface="Arial Rounded MT Bold"/>
              </a:rPr>
              <a:t>(ALS donations from the ice bucket challenge were $15.6m, up from $1.8m for same period prev. year</a:t>
            </a:r>
            <a:r>
              <a:rPr b="0" lang="en-IE"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tiatives:</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during Paris attacks</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Other Benefits…</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a:off x="2268360" y="4149360"/>
            <a:ext cx="2736000" cy="143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witter exercise</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hoose two subjects or areas that you are interested 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earch for well known people in these areas who are on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Follow their accounts and build your contact lis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is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a social networking si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can be used on your computer/laptop or you can download the Facebook </a:t>
            </a:r>
            <a:r>
              <a:rPr b="1" lang="en-GB" sz="2400" spc="-1" strike="noStrike">
                <a:solidFill>
                  <a:srgbClr val="000000"/>
                </a:solidFill>
                <a:latin typeface="Arial Rounded MT Bold"/>
              </a:rPr>
              <a:t>app</a:t>
            </a:r>
            <a:r>
              <a:rPr b="0" lang="en-GB" sz="2400" spc="-1" strike="noStrike">
                <a:solidFill>
                  <a:srgbClr val="000000"/>
                </a:solidFill>
                <a:latin typeface="Arial Rounded MT Bold"/>
              </a:rPr>
              <a:t> on your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used to connect with friends or colleagues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allows you to share posts with others – posts can include music, pictures or just your though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the world’s largest social media network with over 2 billion users per mon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3187800" y="5362560"/>
            <a:ext cx="2247840" cy="68904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t up accounts on Skype, Twitter and Facebook</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your accounts in your daily live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How do I access Facebook?</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sign u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r smartphon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from your ap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etting up your Facebook account</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e your Facebook profile before you begin to connect with friend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 profile area is called your ‘timeline’ as it shows a running order of your activiti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upload two photos – a cover photo which is a banner across the top of your profile and a smaller square profile pictu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n your timeline, you can include information about yourself such as education, work, hobbies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Facebook</a:t>
            </a:r>
            <a:endParaRPr b="0" lang="en-US" sz="4000" spc="-1" strike="noStrike">
              <a:solidFill>
                <a:srgbClr val="000000"/>
              </a:solidFill>
              <a:latin typeface="Arial"/>
            </a:endParaRPr>
          </a:p>
        </p:txBody>
      </p:sp>
      <p:sp>
        <p:nvSpPr>
          <p:cNvPr id="609" name=""/>
          <p:cNvSpPr txBox="1"/>
          <p:nvPr/>
        </p:nvSpPr>
        <p:spPr>
          <a:xfrm>
            <a:off x="684000" y="1628640"/>
            <a:ext cx="7559640" cy="3949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have completed your profile you can start to add friends by sending ‘friend requests’ to people. </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an find friends by searching for them or Facebook can use your email contact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an also search for pages and ‘like’ them e.g. newspaper or sports team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sign in to your account you will be taken to a homepage or ‘News Feed’ which is a series of posts from friends or from pages you have li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ing Facebook</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If you would like to post, then go to the box that says ‘what’s on your mind’</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You can communicate your activities, post a story or photo or share a video.</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This is called your ‘Status Update’</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421000"/>
            <a:ext cx="4800600" cy="1552680"/>
          </a:xfrm>
          <a:prstGeom prst="rect">
            <a:avLst/>
          </a:prstGeom>
          <a:ln w="0">
            <a:noFill/>
          </a:ln>
        </p:spPr>
      </p:pic>
      <p:cxnSp>
        <p:nvCxnSpPr>
          <p:cNvPr id="613"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ing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has a private chat option called Facebook Chat or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is allows to you to chat in real-time with any friends who may be online at the same time (Tip: if they are online then a green dot appears beside their nam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n your mobile device you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will need to install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the Messenger App</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724360" y="3933720"/>
            <a:ext cx="258768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acebook Privacy</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lets you control who can see your personal information and what you pos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r privacy controls are found in the ‘settings’ op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choose to keep your information priva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ad the following article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for more information:</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435640" y="371628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 computer, laptop, tablet or smartphone with internet connec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or Skype video calls you will need a camera/microphone enabled on your computer/laptop</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is an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that works using the Intern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t allows video calls and voice calls between smartphones, tablets and computers. It also allows messa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to Skype calls are free anywhere in the world so this is a really useful app to keep in contact with friends and family.</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do I access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install the Skype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on your computer or laptop by going to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k on the </a:t>
            </a:r>
            <a:r>
              <a:rPr b="1" lang="en-GB" sz="2800" spc="-1" strike="noStrike">
                <a:solidFill>
                  <a:srgbClr val="000000"/>
                </a:solidFill>
                <a:latin typeface="Arial Rounded MT Bold"/>
              </a:rPr>
              <a:t>‘Get Skype’ </a:t>
            </a:r>
            <a:r>
              <a:rPr b="0" lang="en-GB" sz="2800" spc="-1" strike="noStrike">
                <a:solidFill>
                  <a:srgbClr val="000000"/>
                </a:solidFill>
                <a:latin typeface="Arial Rounded MT Bold"/>
              </a:rPr>
              <a:t>button</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or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ownload</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from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On your computer or laptop, double click on the Skype app</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will see these option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lick on the ‘sign up’ link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ollow the steps provided</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o that you can set up your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ccoun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E</a:t>
            </a:r>
            <a:r>
              <a:rPr b="0" lang="en-GB" sz="2200" spc="-1" strike="noStrike">
                <a:solidFill>
                  <a:srgbClr val="000000"/>
                </a:solidFill>
                <a:latin typeface="Arial Rounded MT Bold"/>
              </a:rPr>
              <a:t>: if you already have a Hotmail or Outlook email address you can sign in with this email. Or you can use your phone numb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f you have the Skype app downloaded on your phone or tablet, just tap to op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Skype in action</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y and paste the link below into your browser wind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is Twitter?</a:t>
            </a:r>
            <a:br>
              <a:rPr sz="4000"/>
            </a:br>
            <a:endParaRPr b="0" lang="en-US" sz="4000" spc="-1" strike="noStrike">
              <a:solidFill>
                <a:srgbClr val="000000"/>
              </a:solidFill>
              <a:latin typeface="Arial"/>
            </a:endParaRPr>
          </a:p>
        </p:txBody>
      </p:sp>
      <p:sp>
        <p:nvSpPr>
          <p:cNvPr id="568" name=""/>
          <p:cNvSpPr txBox="1"/>
          <p:nvPr/>
        </p:nvSpPr>
        <p:spPr>
          <a:xfrm>
            <a:off x="611280" y="1628640"/>
            <a:ext cx="8532720" cy="468000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a social networking si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can be used on your computer/laptop or you can download the Twitter </a:t>
            </a:r>
            <a:r>
              <a:rPr b="1" lang="en-GB" sz="2600" spc="-1" strike="noStrike">
                <a:solidFill>
                  <a:srgbClr val="000000"/>
                </a:solidFill>
                <a:latin typeface="Arial Rounded MT Bold"/>
              </a:rPr>
              <a:t>app</a:t>
            </a:r>
            <a:r>
              <a:rPr b="0" lang="en-GB" sz="2600" spc="-1" strike="noStrike">
                <a:solidFill>
                  <a:srgbClr val="000000"/>
                </a:solidFill>
                <a:latin typeface="Arial Rounded MT Bold"/>
              </a:rPr>
              <a:t> on your app sto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used to follow the latest news, to follow well known people or just to stay in touch.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allows people to type short messages (280 characters) or ‘Tweets’ which are visible to other Twitter user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has 100 million users and 500 million tweets are sent every day!</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do I access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sign u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or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from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2-12T12:36:37Z</dcterms:modified>
  <cp:revision>477</cp:revision>
  <dc:subject/>
  <dc:title>Title</dc:title>
</cp:coreProperties>
</file>