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4C506CE-6E95-40A6-A9D7-86F0ED0297B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93E2C1E-E71C-4B4D-8BA0-6028F00CE68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45E4BED-27EA-4B78-B5F9-2A302712AA6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C80B110-B95C-46CC-9700-A4740EA7891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C4719A2-4CF6-4BE2-A2DC-A998AE70385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A394086-D9A2-46A8-BF6A-6671862996F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F312872-9EE6-48EB-BC0E-F7E2D0CCA5B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FB6398A-58E6-48B5-919F-CAABC79B2F8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833986D-7294-4933-9E84-FC881080EF0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48688AE-562E-45D2-BD76-989719EB4CB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411B563-6BF9-4493-B79E-7CD5FEA842A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236F653-2040-4E8F-B829-B7608085EAE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4F4C595-DFCF-46DF-8431-53C4D0B32FE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8919D6C-5A7E-4E3D-A501-AD93796DB4D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17576E4-8521-4060-8820-AC2CEF02C74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E8FFD5B-E112-4A6E-A24A-8B94C40EFDB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A3E4818-1B87-49B6-A9F9-9DC69BFEDB6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4F6B7F4-D440-4FA1-97C0-FE07899CC20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721EA9B-7620-467F-8CCA-5894A54BD31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B41C545-F5F3-433D-90FA-75AE71579F0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C6F909F-7E8D-4A52-8F98-F26EA676618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30A568E-0081-40B4-8C0A-6CD261EC941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A63E2FA-F55E-49E6-A5CE-A1D8B8963C1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EB402EC-3254-4E70-A981-988088BC079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3BA60F6-2B3B-460A-A1FA-FCC93FA2536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CC672FA-9DA0-4C9E-8225-CAC6E045410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66BA438-E8AB-4B23-93AD-7AD77E4BA8C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249DC95-361F-46A7-AE74-62A2B976263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8A9B198-54B5-4872-AEE1-479BB8A7A92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6190AA7-98F5-4FC6-B077-E698BB6E0F3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73F3F88-CBC2-4E73-92AB-6FF701D9223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B7C2C1A-CCF8-4B22-9392-270211BAD2A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9FA5DC9-D95A-4F78-A253-6BADDAE64DF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562FF91-F9F8-4D33-94C8-60C8F7C3E8C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F952C98-51B3-4E49-9FD5-571253CFD13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A4F2455-54C8-484E-BE9A-048C4CD14CC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7407933-0C21-417F-9222-B6603EE217F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C509432-8934-4F38-9C2F-81D166A393A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7103CED-FBCC-49D8-8CC3-788E56D0F95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0B02ED8-DD46-403B-AC7B-5D7FAD932D0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E3C1988-8026-44E2-918B-C581A0F127D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9D9EDEE-3EA2-4030-BD2A-4C191769091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452BFB1-3042-4DD2-8BB1-3DC190A60A0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58F5908-F639-4FEC-9972-057473E3ADF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84917D2-DEE9-4853-A412-D6613AD901B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2EAAE3-4084-4E20-A0CB-2C90E93BAE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34B326-E5F8-4068-8049-9D838EE967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473DEB-453B-4DA7-A26D-AFE2C1A7A6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5D0611-7406-42C8-A0B0-DE5031B54B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5E8FB8-51E5-4CF9-B6E7-254306F9B5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B1934A-5989-4F37-8093-0BB78F1967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FC2854-DE91-4BBF-97B7-0EDF91E87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93B332-482F-4D7E-8E2B-6460BC3E08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6EF66B-5097-4A09-8A91-0FE262486E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07D346-14A8-4F85-A3D9-625F8C3E9E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F3F49D-EAB2-4715-ACD5-F9298CF11A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90C7F8-ADA4-4754-891E-857BE3B195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5EFC818-7805-4CFF-810B-75AA6CDCA1A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47E4519-FEBF-4E99-8B49-26E4DE01807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7BBC4C2-5F78-403A-A8A2-FA423CB4059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E42A07-8F1B-4C4B-96EA-B2010944404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CB98F1B-9340-4790-A2F0-0691A27F7D8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F02AACC-54D2-4F74-AD44-46374883155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5BE009-1F27-406E-9B25-7BD803C54D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A76918-AAE8-431C-BF37-EF00A6475D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C8E426-7B95-4624-AA27-4FE2431189C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30C84C2-8B55-49D4-9F4B-9FFEA547FFA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62A7C16-0B46-455C-9FA3-D0513CB682E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94E58E7-ED17-4EC6-94FC-AE168EAC177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4FCD405-8049-4028-955A-626602BA3B4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75DB51C-661C-46C8-BF80-5F3E227D7D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82A80AB-FA76-4887-AA3B-78A95D3F1D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67CA6E2-88B8-4F34-869C-073D71FD974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B76C852-E00B-41DB-AE54-C024F7E2FF3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E9B3B5D-8D5A-4477-A709-24437501FB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44C71B7-8447-47ED-B620-01EAB03E7BB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EB33AA-D3FD-44A6-8423-476201DD7B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F71F93-E191-49E6-BFBC-F9F3F7E82A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AC6167B-CC8A-46B0-B343-A48FBC1F2E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734F74E-9D29-4A7F-9FE6-ACB336891E0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92E31DD-FE13-4C36-8474-BF2236FBC9C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623B85C-690B-43ED-B854-A65B2F31434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5DE11B1-D0A4-4061-AC6C-2251F6A6DB1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300B4C2-41C2-42E9-A184-5BFDBD4F063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A049DE3-A1F6-4E14-91D1-DA37EA73B4D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11F5538-4B5B-4FAB-8A24-26EBF50E269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DED3EC7-3ADF-4E94-BC6E-A8E467058EE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298D140-DF60-4B53-AFAE-2A6E33FC773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BDE48A2-B955-42CE-A4AB-10AFDF2996A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3FF4AE5-5B67-4DD0-B775-81C359F4E73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151E179-4363-4376-9161-F485D68ED38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5219AFC-9AFE-47AF-8A6F-A78F631625C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C1F23D2-F97A-465F-9862-F01870188C8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5A73186-5559-4F9D-934E-7450067264F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2A773CF-C757-40B0-B826-E5BD604C7C0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1223B57-9D31-4E18-8206-EA150E63ACF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2649668-3BC2-4F36-B2E7-C5EBEE9F234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BC195D0-7AB9-43CF-A656-94446C7A1C0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4C17FC8-84C2-483F-B4A2-7A003CEA72D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E07CDF8-3115-424A-9961-91A60065F4A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98C6814-E2BB-434B-9618-38E1B67A1A7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C8AAEA1-CD45-406B-BE2A-2289D0FCFDA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EFD8741-BB05-40C4-9F91-60C970E73A9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EFD7F66-227B-4FCD-BED1-39948AD6EEC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50AE959-669D-45A5-B0AC-5B13C772D4C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96A42BA-A384-4308-BBB6-11D345E5CC9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1BD4B13-F552-488F-B39A-73AC9947EAF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AB5544D-84F0-417D-ABF5-C7BEAB4EA7F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E91B33D-79D3-4FD7-8A19-80059DC3AD8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8D21F2B-EFE2-49E2-8137-ECABB355307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742E11A-27D8-4E7A-AF23-57A5748DB1B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33B81B1-23CA-4845-884B-A72DC5E05BD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C48C0DB-A7DF-4E42-961B-F7A5A68A9C0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3F0D53E-29E5-47B5-9FA3-8723FED33EB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5497179-9574-43C5-B7C4-88163D06B64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91F1660-0A18-4A2D-B83E-5B7DD21C608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146D571-F75E-4AFD-BB36-325F44924D0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EF403F3-8456-49FB-A3E3-A298DF92010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CCCE129-4962-4F21-A497-CCA73B77C11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B0AC51B-D3F4-476B-845E-0F19DCEE4DEB}"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1C005-EAE7-4122-99EA-F1E5F57E781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7179C-1088-464A-9D60-C8C03D2DE66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BFA0-28B8-4184-9247-73611E0399E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B5ED9-DE58-45B3-A16F-67F18AD20FB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99C4-41A1-42A6-9760-9946C98DFDC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461C-E337-4A32-8A9E-CC10E629D78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53EE1-D8F7-4601-B681-2BC7E7200A3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112D-E711-4301-8A53-27FAB054E4D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29D1-5379-40E7-872C-078B755716A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4440-C684-4415-8087-7FE3140AE95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s://www.forbes.com/sites/petersuciu/2020/04/08/during-covid-19-pandemic-it-isnt-just-fake-news-but-seriously-bad-misinformation-that-is-spreading-on-social-media/#170d68867e55"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s://www.aljazeera.com/news/2020/04/iran-700-dead-drinking-alcohol-cure-coronavirus-200427163529629.html" TargetMode="External"/><Relationship Id="rId2" Type="http://schemas.openxmlformats.org/officeDocument/2006/relationships/hyperlink" Target="https://www.nytimes.com/2020/04/24/us/politics/trump-inject-disinfectant-bleach-coronavirus.html" TargetMode="External"/><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centerforhealthsecurity.org/"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Fake-news during CODID outbreak </a:t>
            </a:r>
            <a:endParaRPr b="0" lang="en-US" sz="3600" spc="-1" strike="noStrike">
              <a:solidFill>
                <a:srgbClr val="000000"/>
              </a:solidFill>
              <a:latin typeface="Arial"/>
            </a:endParaRPr>
          </a:p>
        </p:txBody>
      </p:sp>
      <p:sp>
        <p:nvSpPr>
          <p:cNvPr id="537" name="Rectángulo 1"/>
          <p:cNvSpPr/>
          <p:nvPr/>
        </p:nvSpPr>
        <p:spPr>
          <a:xfrm>
            <a:off x="0" y="3284640"/>
            <a:ext cx="914400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online misinformation related to COVID-19: </a:t>
            </a:r>
            <a:br>
              <a:rPr sz="2800"/>
            </a:br>
            <a:r>
              <a:rPr b="1" lang="en-US" sz="2800" spc="-1" strike="noStrike">
                <a:solidFill>
                  <a:srgbClr val="000000"/>
                </a:solidFill>
                <a:latin typeface="Arial"/>
              </a:rPr>
              <a:t>fact-checking and debunking the hoax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58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CasellaDiTesto 2"/>
          <p:cNvSpPr/>
          <p:nvPr/>
        </p:nvSpPr>
        <p:spPr>
          <a:xfrm>
            <a:off x="0" y="1417680"/>
            <a:ext cx="9144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ow can we be so sure that Sara and Sharon are just digital fiction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After a bit of training, BOTs are very easy to spot: </a:t>
            </a:r>
            <a:endParaRPr b="0" lang="en-US" sz="24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 followers</a:t>
            </a:r>
            <a:endParaRPr b="0" lang="en-US" sz="24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 profile pic (or stolen profile pic)</a:t>
            </a:r>
            <a:endParaRPr b="0" lang="en-US" sz="24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Recent on the platform</a:t>
            </a:r>
            <a:endParaRPr b="0" lang="en-US" sz="24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Randomly generated handles</a:t>
            </a:r>
            <a:endParaRPr b="0" lang="en-US" sz="24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e-themed social presence: conspiracy and alarmism</a:t>
            </a:r>
            <a:endParaRPr b="0" lang="en-US" sz="24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Very rare activity outside commenting others’ pos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CasellaDiTesto 4"/>
          <p:cNvSpPr/>
          <p:nvPr/>
        </p:nvSpPr>
        <p:spPr>
          <a:xfrm>
            <a:off x="0" y="7920"/>
            <a:ext cx="9144000" cy="68500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599" name="Immagine 5" descr=""/>
          <p:cNvPicPr/>
          <p:nvPr/>
        </p:nvPicPr>
        <p:blipFill>
          <a:blip r:embed="rId1"/>
          <a:stretch/>
        </p:blipFill>
        <p:spPr>
          <a:xfrm>
            <a:off x="798480" y="150840"/>
            <a:ext cx="7547040" cy="6556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60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CasellaDiTesto 2"/>
          <p:cNvSpPr/>
          <p:nvPr/>
        </p:nvSpPr>
        <p:spPr>
          <a:xfrm>
            <a:off x="0" y="1417680"/>
            <a:ext cx="9144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At some point, the situation was so severe that Google, Facebook, LinkedIn, Microsoft, Reddit, Twitter and YouTube decide to commit themselves to a joint action against the spreading of COVID-19 misinformation.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 the other front, these platforms will guarantee for their users only the most reliable and scientifically-accurate information, leading the provision of updated and in-real-time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1" name="CasellaDiTesto 4"/>
          <p:cNvSpPr/>
          <p:nvPr/>
        </p:nvSpPr>
        <p:spPr>
          <a:xfrm>
            <a:off x="0" y="7920"/>
            <a:ext cx="9144000" cy="68500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612" name="Immagine 1" descr=""/>
          <p:cNvPicPr/>
          <p:nvPr/>
        </p:nvPicPr>
        <p:blipFill>
          <a:blip r:embed="rId1"/>
          <a:stretch/>
        </p:blipFill>
        <p:spPr>
          <a:xfrm>
            <a:off x="1646280" y="7920"/>
            <a:ext cx="5851440" cy="667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61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CasellaDiTesto 2"/>
          <p:cNvSpPr/>
          <p:nvPr/>
        </p:nvSpPr>
        <p:spPr>
          <a:xfrm>
            <a:off x="0" y="1417680"/>
            <a:ext cx="9144000" cy="433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e UNESCO took  the “social pandemic” effect very seriously: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a:t>
            </a:r>
            <a:r>
              <a:rPr b="0" lang="en-GB" sz="2400" spc="-1" strike="noStrike">
                <a:solidFill>
                  <a:srgbClr val="000000"/>
                </a:solidFill>
                <a:latin typeface="Arial Rounded MT Bold"/>
              </a:rPr>
              <a:t>UNESCO is also working to help people become more critical of what is being presented to them online and elsewhere, as fact, so that they are less likely to believe, and spread, falsehoods. The agency is using the hashtags #ThinkBeforeSharing, #ThinkBeforeClicking, and #ShareKnowledge, and promoting the view that the rights to freedom of expression and access to information are the best remedies to the dangers of disinformatio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Source: During this coronavirus pandemic, ‘fake news’ is putting lives at risk, UNES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62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CasellaDiTesto 2"/>
          <p:cNvSpPr/>
          <p:nvPr/>
        </p:nvSpPr>
        <p:spPr>
          <a:xfrm>
            <a:off x="0" y="1417680"/>
            <a:ext cx="9144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ame has been done by the World Health Organisation.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You might notice that, Google engine will always direct you to the official WHO’s website for any COVID-19 related search.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started to happen only recently, when Google and WHO’s executive sat down together to discuss about effective solutions to contain the “social pandemic” and assure for Web users the safest digital environ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62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CasellaDiTesto 2"/>
          <p:cNvSpPr/>
          <p:nvPr/>
        </p:nvSpPr>
        <p:spPr>
          <a:xfrm>
            <a:off x="0" y="1417680"/>
            <a:ext cx="914400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e Mythbusters section of the WHO’s Website lists 28 common COVID-19 misinformatio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Each one of them is scientifically fact-checked and “busted”: if you have any concern about what you saw around the internet, please consider to visit the website and share the content with your acquainta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53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CasellaDiTesto 2"/>
          <p:cNvSpPr/>
          <p:nvPr/>
        </p:nvSpPr>
        <p:spPr>
          <a:xfrm>
            <a:off x="0" y="1417680"/>
            <a:ext cx="9144000" cy="281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During COVID-19 worldwide outbreak, virus-related fake news spread as fast as the pandemic itself.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COVID-19 hoaxes are incredibly dangerous because, as some </a:t>
            </a:r>
            <a:r>
              <a:rPr b="0" lang="en-GB" sz="2500" spc="-1" strike="noStrike" u="sng">
                <a:solidFill>
                  <a:srgbClr val="009999"/>
                </a:solidFill>
                <a:uFillTx/>
                <a:latin typeface="Arial Rounded MT Bold"/>
                <a:hlinkClick r:id="rId1"/>
              </a:rPr>
              <a:t>have reported</a:t>
            </a:r>
            <a:r>
              <a:rPr b="0" lang="en-GB" sz="2500" spc="-1" strike="noStrike">
                <a:solidFill>
                  <a:srgbClr val="000000"/>
                </a:solidFill>
                <a:latin typeface="Arial Rounded MT Bold"/>
              </a:rPr>
              <a:t>,  “[…] include what seems like it comes from valid advice from medical professionals but turns out to be erroneous and in some cases dangerously ba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54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CasellaDiTesto 2"/>
          <p:cNvSpPr/>
          <p:nvPr/>
        </p:nvSpPr>
        <p:spPr>
          <a:xfrm>
            <a:off x="0" y="1417680"/>
            <a:ext cx="9144000" cy="400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For instance, in Iran, </a:t>
            </a:r>
            <a:r>
              <a:rPr b="0" lang="en-GB" sz="2500" spc="-1" strike="noStrike" u="sng">
                <a:solidFill>
                  <a:srgbClr val="009999"/>
                </a:solidFill>
                <a:uFillTx/>
                <a:latin typeface="Arial Rounded MT Bold"/>
                <a:hlinkClick r:id="rId1"/>
              </a:rPr>
              <a:t>more than 700 people died of alcoholic intoxication</a:t>
            </a:r>
            <a:r>
              <a:rPr b="0" lang="en-GB" sz="2500" spc="-1" strike="noStrike">
                <a:solidFill>
                  <a:srgbClr val="000000"/>
                </a:solidFill>
                <a:latin typeface="Arial Rounded MT Bold"/>
              </a:rPr>
              <a:t> falsely believing that high amount of methanol in the blood could protect the organism from the virus.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In another notorious </a:t>
            </a:r>
            <a:r>
              <a:rPr b="0" lang="en-GB" sz="2500" spc="-1" strike="noStrike" u="sng">
                <a:solidFill>
                  <a:srgbClr val="009999"/>
                </a:solidFill>
                <a:uFillTx/>
                <a:latin typeface="Arial Rounded MT Bold"/>
                <a:hlinkClick r:id="rId2"/>
              </a:rPr>
              <a:t>severe case of misinformation</a:t>
            </a:r>
            <a:r>
              <a:rPr b="0" lang="en-GB" sz="2500" spc="-1" strike="noStrike">
                <a:solidFill>
                  <a:srgbClr val="000000"/>
                </a:solidFill>
                <a:latin typeface="Arial Rounded MT Bold"/>
              </a:rPr>
              <a:t>, public outrage coming from the scientific community  condemned the words of the US president, randomly suggesting to inject bleach as treatment against COVID-19.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55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CasellaDiTesto 2"/>
          <p:cNvSpPr/>
          <p:nvPr/>
        </p:nvSpPr>
        <p:spPr>
          <a:xfrm>
            <a:off x="0" y="1417680"/>
            <a:ext cx="9144000" cy="281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The same </a:t>
            </a:r>
            <a:r>
              <a:rPr b="0" lang="en-GB" sz="2500" spc="-1" strike="noStrike" u="sng">
                <a:solidFill>
                  <a:srgbClr val="009999"/>
                </a:solidFill>
                <a:uFillTx/>
                <a:latin typeface="Arial Rounded MT Bold"/>
                <a:hlinkClick r:id="rId1"/>
              </a:rPr>
              <a:t>Johns Hopkins Center for Health Security</a:t>
            </a:r>
            <a:r>
              <a:rPr b="0" lang="en-GB" sz="2500" spc="-1" strike="noStrike">
                <a:solidFill>
                  <a:srgbClr val="000000"/>
                </a:solidFill>
                <a:latin typeface="Arial Rounded MT Bold"/>
              </a:rPr>
              <a:t> – one of the most reliable source of data related to COVID-19 global outbreak, as well as one of the leading scientific centers in the fight of COVID-19 – has been forced to make a public announcement warning about totally inaccurate reports and recommendations published on its behalf, but with absolutely no connections with its staff.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55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CasellaDiTesto 2"/>
          <p:cNvSpPr/>
          <p:nvPr/>
        </p:nvSpPr>
        <p:spPr>
          <a:xfrm>
            <a:off x="0" y="1417680"/>
            <a:ext cx="9144000" cy="428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In Italy, the very first EU epicentre of the outbreak, from the period that goes from January to April 2020, of all COVID-19-related posts shared across Social Media, an average of 5.5% were totally/partially scientifically inaccurate.</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Even if people are perfectly aware of the fake-news phenomenon – in another survey, the Italian public resulted very skeptical about the most reliable COVID-19 news source, with nearly 8 people out of 10 believing Facebook to be the major responsible for boosting non-accurate information – they might not be consistently trained to spot one.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56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CasellaDiTesto 2"/>
          <p:cNvSpPr/>
          <p:nvPr/>
        </p:nvSpPr>
        <p:spPr>
          <a:xfrm>
            <a:off x="0" y="1417680"/>
            <a:ext cx="9144000" cy="449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Twitter has its great share of fault too.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According to Bot Sentinel, the world largest data set of BOTs activities online, only on March 26, in the timespan of 24h, BOT have been accountable for 1,627 misleading virus-related tweets.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For instance, take a look at the following thread*:</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Source: ScienceAlert.co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56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3" name="Immagine 1" descr=""/>
          <p:cNvPicPr/>
          <p:nvPr/>
        </p:nvPicPr>
        <p:blipFill>
          <a:blip r:embed="rId1"/>
          <a:stretch/>
        </p:blipFill>
        <p:spPr>
          <a:xfrm>
            <a:off x="1884240" y="1197000"/>
            <a:ext cx="5375520" cy="3260880"/>
          </a:xfrm>
          <a:prstGeom prst="rect">
            <a:avLst/>
          </a:prstGeom>
          <a:ln w="0">
            <a:noFill/>
          </a:ln>
        </p:spPr>
      </p:pic>
      <p:sp>
        <p:nvSpPr>
          <p:cNvPr id="574" name="CasellaDiTesto 3"/>
          <p:cNvSpPr/>
          <p:nvPr/>
        </p:nvSpPr>
        <p:spPr>
          <a:xfrm>
            <a:off x="0" y="4460760"/>
            <a:ext cx="9144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e statement that you see above has been published by official public healthcare authorities. Soon after, here is what happe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57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0" name="Immagine 2" descr=""/>
          <p:cNvPicPr/>
          <p:nvPr/>
        </p:nvPicPr>
        <p:blipFill>
          <a:blip r:embed="rId1"/>
          <a:stretch/>
        </p:blipFill>
        <p:spPr>
          <a:xfrm>
            <a:off x="2162160" y="1228680"/>
            <a:ext cx="4819680" cy="440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58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CasellaDiTesto 2"/>
          <p:cNvSpPr/>
          <p:nvPr/>
        </p:nvSpPr>
        <p:spPr>
          <a:xfrm>
            <a:off x="0" y="1417680"/>
            <a:ext cx="9144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ara and Sharon’s comments are quite disturbing for a simple reason: they mine the legitimateness and reliability of experts who devoted their life to safeguard citizens’ health and well-being.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at is even more creepier is that none of Sara, Sharon and Sara’s mom actually exist: what you just saw perfectly depicts a typical BOT interference, aimed to generate in the unsuspecting reader a sense of loss and confus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Chiara</cp:lastModifiedBy>
  <dcterms:modified xsi:type="dcterms:W3CDTF">2020-08-24T16:59:28Z</dcterms:modified>
  <cp:revision>536</cp:revision>
  <dc:subject/>
  <dc:title>Title</dc:title>
</cp:coreProperties>
</file>