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media/image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125E8EE-7387-451C-AAB3-691C47FAC62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9A14204-FCBC-4139-BC7F-062F9AE4807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D6267F9-C94D-4B75-A9AB-4F65AEFC99BD}"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B768763-1119-4E49-974D-1E91A336B70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A217383-6122-43C8-A98F-A14F47BE7BA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75E9E4D-EF50-4453-B963-0C45A0E9732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E54E29C-D52C-441A-A771-F60A558791B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D59A981C-BEE6-4EC2-A05F-8CDDC538E699}"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38855437-A38D-4CE5-991F-FC8FAB16D7EB}"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61F24B9F-8A9B-45EC-9231-4B57CDC068C5}"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55344609-361D-49C7-9A0E-01ACBA09BB9C}"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193F5255-BE2E-4096-974B-B966C57F5E6D}"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1E524DA4-F52A-46F7-8085-05EB0BEBFA2F}"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7BB6769C-E935-4FB0-B2C6-027960A66510}"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F8E7AC9C-DB9E-4F3A-BDD6-B910A2184DC6}"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D5E2AB7-F283-4D8F-A2E7-4EAD86C4C09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925E253-0001-452D-A56C-4FB643CF0E9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2FEB100-D3DD-421C-9DC5-CA4EB08A697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5747437A-5F99-4375-966F-C58176E29E3A}"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28F4F0E9-D083-482D-9E7A-EB68B9954C84}"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26C97DFD-D1B3-413E-9D13-27AFA3BB87F3}"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4C132551-14E3-4141-906A-C51787A3C793}"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85C8A308-801C-4B7C-AFC6-D006003468D0}"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CEEBDA18-8CBA-4AD6-8CA1-23C7F11A5A25}"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33671287-FFB6-4496-B255-80F2CBAF511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873F8E0C-6B61-4D4D-9F56-55D9EFBA9380}"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D9055851-2330-444F-97C4-0274D1024B6A}"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C03597E1-DCDE-4421-9E06-60D880D4717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3840BB6-854B-464F-9E0D-A32061D4098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2F421FDF-DF6B-45CA-818B-A8AB9C3A8FCC}"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967F7785-69DA-4AB3-BAEF-979D4CD01FF4}"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78BA44ED-2A9F-4C71-9997-1063DA4218D5}"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9F4E703B-F0C0-447B-BC34-5D02554332AF}"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379ADCA7-D3D5-4A98-A22D-93F1E42644CE}"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7FAA980E-9154-44D4-8029-565CBEC5A1D8}"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15DF86BD-67A1-44F5-8031-0A72203847DA}"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5C5D4468-9543-4576-9440-A37452DFB6C7}"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88F02309-554A-4371-84CF-7C747BBF6B71}"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6BD0770F-F6C5-44FF-A83B-7BD63FC8AD3A}"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BA7C378F-5C01-4991-AFA8-63D7654C123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2131B779-3B55-48B2-B9A7-4825598E46C7}"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479E5CD-4899-46CF-86EC-D465084A50BB}"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C0A36DFC-26E6-4C39-BF55-3DA71E63ECA0}"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95E0D835-9A48-4DB5-B0BF-18F0D11CC212}"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0FA00A82-2721-41FA-BBC1-4F7A6CE2C78D}"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1ED68FF-7972-4802-86DC-6F4FFD0850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EFE43A-9CF5-4C5D-8C50-C881220A71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7DF754-A48E-4F1F-8C50-F56DFFF529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4311D2-F665-4FCE-9B4A-998D17DA48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43BD66-2BB3-43F4-A68F-E413B92E3A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255EE0-ABEA-42E2-A6CA-3F630098B8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4852B9-6178-420A-A9D5-BAB82EFA58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B87D26-E1B0-42A6-9FBB-AA7166B9E5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ECE19B-9AD5-472E-8431-0A0CAB447A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FAC2C3-6CBA-425F-9AC3-F88C842687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0AA5501-A18E-409E-A2E6-0E2E877A291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6B19C48-D08A-4E3A-86E1-BE47B471FC6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6446554-90FA-4439-858A-D67E11D867A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9062F0A-EB41-415E-9BD2-8BFE5D498C6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DBDB0E2-3217-4B19-A5A8-FB372687FAB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951B8A3-F74F-4B43-8E8C-6AAB793AE41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71FD79A-B6AA-4F9C-9CCD-A2F5F1FBBC0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29F0C37-FAF0-4761-9B1C-A9A1A39AC23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17E8BE3-6E11-44BC-B9F4-1FEF1BC83E2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9AB4C3D-F722-44F5-9911-5CEFDD95A71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654F9D3-82DF-4A80-B5E6-6923E162B3B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6CCEED0-67DD-4749-8DF9-9D997940EAB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366757D-512F-483E-90E2-89438263320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587ABD0-BBB8-4FED-BEA2-B2F8FE1E2D1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78E2D55-5C0F-46EF-9210-BC829413B40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1D8DE50-51C0-43DF-8E9F-49FAE2F03E2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CCCA461-13C4-401A-98F1-098B162696E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494E6F4-56F5-49D9-8AE9-F6DC1A67497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1CB8504-35A2-4A6D-BF67-0489758C01B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F816228-B5C1-449D-B3C2-BF6A7DCA1B0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852E804-6BAA-4D03-B555-C8BBFD6F4FA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A567945-3E6A-4E2D-A734-A099B689FC1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E49DDBE-BFCB-4910-99F4-42099DFD52C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E0876F4-7A9A-4E56-BBC9-DB1A8DD6771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31529FD-EB45-43A3-83C1-03254B46FF0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2327DEA-1D0D-48A8-86AA-CFB393222BA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A3F6EE89-A3A7-406F-B2B9-A6A6DFBB62C3}"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1097834-CD30-48FE-A534-0ED1F041CE1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3E0C4A1-A960-47CC-8001-91C34700622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6CA729B-AAE0-42C8-BE4B-004E54BC304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424ED4B-3F99-49D0-963A-2214D4AF64F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6AB8822-FB2C-4BC7-8F2E-C0C49DCC4B7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68EFA7C-19CA-48C6-8583-12BC011AF02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1EE5DF3-B74E-42E5-8580-99C63DED230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EDBE5E8-10CB-4040-8F53-07E2B722730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81E9280-DB01-49DA-96D7-7C93F48EA7B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D6630843-3E13-4CF5-BAF3-2AFB0D590904}"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6E3E0469-649B-4932-97D6-D86E261AC785}"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30A84CC9-0FF3-4217-B255-6F2554EB9F5C}"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834ACC4-1C3E-4672-8DCA-28F24A7D4A2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85107974-0225-4DD3-9ED5-410F809C1DE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46DA678-5A1B-4FD7-883B-F68BB75570E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A4984A5-31E9-4EF1-B9F9-01B0D51F900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6779E5C-E6E9-4841-8275-C1F84B96959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488FA26-DA57-410C-B241-19DA20DCB88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81481BA-FD10-4A49-A84A-984BAEAA534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63E73C7-D3C6-4D81-B50A-A5C59B26A83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EEB1CB3-54A9-479F-AED7-D5F151D01C1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66C35F2F-A0EC-4FA8-A142-C02167295B39}"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7C2D2C21-9FF4-426F-B9A3-8104749377A6}"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B79F5DB1-662B-4CC2-B04E-5C1677A17425}"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3D1F899C-A8F4-43FA-82FA-86D508F5B210}"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1308686-8B3B-4DC2-BC87-7DEB6F4BEDB2}"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8F3F3F49-B900-45A0-B357-8C7AB5195CF4}"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B31A2F4-4621-4FF9-A971-1DE3A210356D}"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9592E89-9641-494F-8816-49D789DDBEC5}"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126E20B-0D72-43F5-B02B-0383EA429B8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6CE3411-61DC-4940-B0D9-4E7776B6D6E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F66D673-77E1-4D2B-AE5B-7BF3A15EBEF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4636100-A37C-4CF6-B74C-3EF531891313}"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0E4BE9B9-5ECF-435D-9D56-5B85C9DA0179}"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923073E2-E3CA-46E8-A61F-B5814A1689EC}"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CB7D217E-616A-46BC-A981-DC898751A35D}"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F47552C-129F-40C3-B93D-0BFC333438B7}"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89453F4-754C-4E5B-8B98-05652A1AE6B9}"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F48EC-EAE1-467A-BB5C-C04458FB2805}"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3BC04-94A4-4FA7-AA6B-94886ECAD9D9}"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27D46-BD9E-4169-A873-6483925FC03D}"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E8B9A-F338-4C18-A359-2D808B26A88C}"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3756D-5E3E-483F-8901-228B84B1DF30}"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A71B7-B133-46A3-9FDA-393260F0460B}"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4D80F-03E7-4302-AF3F-16D4BFA92B27}"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3AC1D-93FA-4428-9780-C93F3032ADF6}"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16AD8-BD97-4E64-94E0-D3F4359E6297}"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C2793-757F-4CC2-9B88-3FB59C74CB9B}"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hyperlink" Target="https://news.un.org/en/story/2020/04/1061592" TargetMode="External"/><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00360" y="5084640"/>
            <a:ext cx="41734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Rounded MT Bold"/>
              </a:rPr>
              <a:t>Noticias falsas durante el brote de COVID </a:t>
            </a:r>
            <a:endParaRPr b="0" lang="en-US" sz="3600" spc="-1" strike="noStrike">
              <a:solidFill>
                <a:srgbClr val="000000"/>
              </a:solidFill>
              <a:latin typeface="Arial"/>
            </a:endParaRPr>
          </a:p>
        </p:txBody>
      </p:sp>
      <p:sp>
        <p:nvSpPr>
          <p:cNvPr id="537" name="Rectángulo 1"/>
          <p:cNvSpPr/>
          <p:nvPr/>
        </p:nvSpPr>
        <p:spPr>
          <a:xfrm>
            <a:off x="0" y="3284640"/>
            <a:ext cx="9144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Información incorrecta común online relacionada con COVID-19: comprobar los hechos y desenmascarar los bulos</a:t>
            </a:r>
            <a:r>
              <a:rPr b="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2268000" y="274320"/>
            <a:ext cx="6875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Rounded MT Bold"/>
              </a:rPr>
              <a:t>Las noticias falsas ponen vidas en peligro</a:t>
            </a:r>
            <a:endParaRPr b="0" lang="en-US" sz="3000" spc="-1" strike="noStrike">
              <a:solidFill>
                <a:srgbClr val="000000"/>
              </a:solidFill>
              <a:latin typeface="Arial"/>
            </a:endParaRPr>
          </a:p>
        </p:txBody>
      </p:sp>
      <p:sp>
        <p:nvSpPr>
          <p:cNvPr id="588"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CasellaDiTesto 2"/>
          <p:cNvSpPr/>
          <p:nvPr/>
        </p:nvSpPr>
        <p:spPr>
          <a:xfrm>
            <a:off x="0" y="1417680"/>
            <a:ext cx="914400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Cómo podemos estar tan seguros de que Sara y Sharon son sólo ficciones digitale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Después de un poco de entrenamiento, los BOT son muy fáciles de detectar: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1.No hay seguidore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2.No hay foto de perfil (o la foto de perfil es robada).</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3.Recientes en la plataforma</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4.Alias generados al azar</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5.Presencia social de un tema: conspiración y alarmismo</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6.Actividad muy escasa aparte de comentar los mensajes de los demá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8" name="CasellaDiTesto 4"/>
          <p:cNvSpPr/>
          <p:nvPr/>
        </p:nvSpPr>
        <p:spPr>
          <a:xfrm>
            <a:off x="0" y="7920"/>
            <a:ext cx="9144000" cy="6850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9" name="Immagine 5" descr=""/>
          <p:cNvPicPr/>
          <p:nvPr/>
        </p:nvPicPr>
        <p:blipFill>
          <a:blip r:embed="rId1"/>
          <a:stretch/>
        </p:blipFill>
        <p:spPr>
          <a:xfrm>
            <a:off x="798480" y="150840"/>
            <a:ext cx="7547040" cy="6556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2268000" y="274320"/>
            <a:ext cx="6875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Rounded MT Bold"/>
              </a:rPr>
              <a:t>Las noticias falsas ponen vidas en peligro</a:t>
            </a:r>
            <a:endParaRPr b="0" lang="en-US" sz="3000" spc="-1" strike="noStrike">
              <a:solidFill>
                <a:srgbClr val="000000"/>
              </a:solidFill>
              <a:latin typeface="Arial"/>
            </a:endParaRPr>
          </a:p>
        </p:txBody>
      </p:sp>
      <p:sp>
        <p:nvSpPr>
          <p:cNvPr id="601"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CasellaDiTesto 2"/>
          <p:cNvSpPr/>
          <p:nvPr/>
        </p:nvSpPr>
        <p:spPr>
          <a:xfrm>
            <a:off x="0" y="1417680"/>
            <a:ext cx="914400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En un momento dado, la situación fue tan grave que Google, Facebook, LinkedIn, Microsoft, Reddit, Twitter y YouTube decidieron comprometerse a una acción conjunta contra la difusión de la desinformación de COVID-19.</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Por otro lado, estas plataformas garantizarán a sus usuarios sólo la información más fiable y científicamente exacta, lo que llevará a la provisión de datos actualizados y en tiempo re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1" name="CasellaDiTesto 4"/>
          <p:cNvSpPr/>
          <p:nvPr/>
        </p:nvSpPr>
        <p:spPr>
          <a:xfrm>
            <a:off x="0" y="7920"/>
            <a:ext cx="9144000" cy="6850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2" name="Immagine 1" descr=""/>
          <p:cNvPicPr/>
          <p:nvPr/>
        </p:nvPicPr>
        <p:blipFill>
          <a:blip r:embed="rId1"/>
          <a:stretch/>
        </p:blipFill>
        <p:spPr>
          <a:xfrm>
            <a:off x="1646280" y="7920"/>
            <a:ext cx="5851440" cy="6674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2268000" y="274320"/>
            <a:ext cx="6875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Rounded MT Bold"/>
              </a:rPr>
              <a:t>Las noticias falsas ponen vidas en peligro</a:t>
            </a:r>
            <a:endParaRPr b="0" lang="en-US" sz="3000" spc="-1" strike="noStrike">
              <a:solidFill>
                <a:srgbClr val="000000"/>
              </a:solidFill>
              <a:latin typeface="Arial"/>
            </a:endParaRPr>
          </a:p>
        </p:txBody>
      </p:sp>
      <p:sp>
        <p:nvSpPr>
          <p:cNvPr id="614"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CasellaDiTesto 2"/>
          <p:cNvSpPr/>
          <p:nvPr/>
        </p:nvSpPr>
        <p:spPr>
          <a:xfrm>
            <a:off x="0" y="1417680"/>
            <a:ext cx="9144000" cy="4725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La UNESCO se tomó muy en serio el efecto de "pandemia social":</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La UNESCO también está trabajando para ayudar a las personas a ser más críticas con lo que se les presenta en línea y en otros medios, como hechos, de manera que sea menos probable que crean y difundan falsedades. La agencia está utilizando los hashtags #Pensar antes de compartir, #Pensar antes de hacer clic y #Compartir conocimientos, y promoviendo la idea de que los derechos a la libertad de expresión y el acceso a la información son los mejores remedios contra los peligros de la desinformación".</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Rounded MT Bold"/>
              </a:rPr>
              <a:t>Fuente: </a:t>
            </a:r>
            <a:r>
              <a:rPr b="0" lang="en-GB" sz="1400" spc="-1" strike="noStrike" u="sng">
                <a:solidFill>
                  <a:srgbClr val="009999"/>
                </a:solidFill>
                <a:uFillTx/>
                <a:latin typeface="Arial Rounded MT Bold"/>
                <a:hlinkClick r:id="rId1"/>
              </a:rPr>
              <a:t>During this coronavirus pandemic, ‘fake news’ is putting lives at risk</a:t>
            </a:r>
            <a:r>
              <a:rPr b="0" lang="en-GB" sz="1400" spc="-1" strike="noStrike">
                <a:solidFill>
                  <a:srgbClr val="000000"/>
                </a:solidFill>
                <a:latin typeface="Arial Rounded MT Bold"/>
              </a:rPr>
              <a:t>, UNESC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2268000" y="274320"/>
            <a:ext cx="6875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Rounded MT Bold"/>
              </a:rPr>
              <a:t>Las noticias falsas ponen vidas en peligro</a:t>
            </a:r>
            <a:endParaRPr b="0" lang="en-US" sz="3000" spc="-1" strike="noStrike">
              <a:solidFill>
                <a:srgbClr val="000000"/>
              </a:solidFill>
              <a:latin typeface="Arial"/>
            </a:endParaRPr>
          </a:p>
        </p:txBody>
      </p:sp>
      <p:sp>
        <p:nvSpPr>
          <p:cNvPr id="620"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CasellaDiTesto 2"/>
          <p:cNvSpPr/>
          <p:nvPr/>
        </p:nvSpPr>
        <p:spPr>
          <a:xfrm>
            <a:off x="0" y="1417680"/>
            <a:ext cx="914400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Lo mismo ha hecho la Organización Mundial de la Salud.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Puedes comprobar que el motor de Google siempre te dirigirá a la página web oficial de la OMS para cualquier búsqueda relacionada con COVID-19.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Esto comenzó a suceder sólo recientemente, cuando Google y el ejecutivo de la OMS se sentaron juntos para discutir sobre soluciones efectivas para contener la "pandemia social" y asegurar a los usuarios de la web el entorno digital más segur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2268000" y="274320"/>
            <a:ext cx="6875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Rounded MT Bold"/>
              </a:rPr>
              <a:t>Las noticias falsas ponen vidas en peligro</a:t>
            </a:r>
            <a:endParaRPr b="0" lang="en-US" sz="3000" spc="-1" strike="noStrike">
              <a:solidFill>
                <a:srgbClr val="000000"/>
              </a:solidFill>
              <a:latin typeface="Arial"/>
            </a:endParaRPr>
          </a:p>
        </p:txBody>
      </p:sp>
      <p:sp>
        <p:nvSpPr>
          <p:cNvPr id="626"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CasellaDiTesto 2"/>
          <p:cNvSpPr/>
          <p:nvPr/>
        </p:nvSpPr>
        <p:spPr>
          <a:xfrm>
            <a:off x="0" y="1417680"/>
            <a:ext cx="9144000" cy="265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La sección </a:t>
            </a:r>
            <a:r>
              <a:rPr b="0" lang="es-ES" sz="2400" spc="-1" strike="noStrike" u="sng">
                <a:solidFill>
                  <a:srgbClr val="3c8c93"/>
                </a:solidFill>
                <a:uFillTx/>
                <a:latin typeface="Arial Rounded MT Bold"/>
              </a:rPr>
              <a:t>Cazadores de Mitos </a:t>
            </a:r>
            <a:r>
              <a:rPr b="0" lang="es-ES" sz="2400" spc="-1" strike="noStrike">
                <a:solidFill>
                  <a:srgbClr val="000000"/>
                </a:solidFill>
                <a:latin typeface="Arial Rounded MT Bold"/>
              </a:rPr>
              <a:t>del sitio web de la OMS enumera 28 desinformaciones comunes de COVID-19.</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Cada una de ellas está científicamente comprobada y “cazada": si le preocupa lo que ha visto en Internet, considere la posibilidad de visitar el sitio web y compartir el contenido con sus conocid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2268000" y="274320"/>
            <a:ext cx="6875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Rounded MT Bold"/>
              </a:rPr>
              <a:t>Las noticias falsas ponen vidas en peligro</a:t>
            </a:r>
            <a:endParaRPr b="0" lang="en-US" sz="3000" spc="-1" strike="noStrike">
              <a:solidFill>
                <a:srgbClr val="000000"/>
              </a:solidFill>
              <a:latin typeface="Arial"/>
            </a:endParaRPr>
          </a:p>
        </p:txBody>
      </p:sp>
      <p:sp>
        <p:nvSpPr>
          <p:cNvPr id="539"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CasellaDiTesto 2"/>
          <p:cNvSpPr/>
          <p:nvPr/>
        </p:nvSpPr>
        <p:spPr>
          <a:xfrm>
            <a:off x="0" y="1417680"/>
            <a:ext cx="9144000" cy="3521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Rounded MT Bold"/>
              </a:rPr>
              <a:t>Durante el brote mundial de COVID-19, las falsas noticias relacionadas con el virus se propagaron tan rápido como la propia pandemia.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Rounded MT Bold"/>
              </a:rPr>
              <a:t>Los engaños de COVID-19 son increíblemente peligrosos porque, como </a:t>
            </a:r>
            <a:r>
              <a:rPr b="0" lang="es-ES" sz="2500" spc="-1" strike="noStrike" u="sng">
                <a:solidFill>
                  <a:srgbClr val="3c8c93"/>
                </a:solidFill>
                <a:uFillTx/>
                <a:latin typeface="Arial Rounded MT Bold"/>
              </a:rPr>
              <a:t>algunos han informado</a:t>
            </a:r>
            <a:r>
              <a:rPr b="0" lang="es-ES" sz="2500" spc="-1" strike="noStrike">
                <a:solidFill>
                  <a:srgbClr val="000000"/>
                </a:solidFill>
                <a:latin typeface="Arial Rounded MT Bold"/>
              </a:rPr>
              <a:t>, "[...] incluyen lo que parece provenir de un consejo válido de profesionales médicos pero resulta ser erróneo y en algunos casos peligrosamente dañino".</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2268000" y="274320"/>
            <a:ext cx="6875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Rounded MT Bold"/>
              </a:rPr>
              <a:t>Las noticias falsas ponen vidas en peligro</a:t>
            </a:r>
            <a:endParaRPr b="0" lang="en-US" sz="3000" spc="-1" strike="noStrike">
              <a:solidFill>
                <a:srgbClr val="000000"/>
              </a:solidFill>
              <a:latin typeface="Arial"/>
            </a:endParaRPr>
          </a:p>
        </p:txBody>
      </p:sp>
      <p:sp>
        <p:nvSpPr>
          <p:cNvPr id="545"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CasellaDiTesto 2"/>
          <p:cNvSpPr/>
          <p:nvPr/>
        </p:nvSpPr>
        <p:spPr>
          <a:xfrm>
            <a:off x="0" y="1417680"/>
            <a:ext cx="9144000" cy="390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Rounded MT Bold"/>
              </a:rPr>
              <a:t>Por ejemplo, en Irán, </a:t>
            </a:r>
            <a:r>
              <a:rPr b="0" lang="es-ES" sz="2500" spc="-1" strike="noStrike" u="sng">
                <a:solidFill>
                  <a:srgbClr val="3c8c93"/>
                </a:solidFill>
                <a:uFillTx/>
                <a:latin typeface="Arial Rounded MT Bold"/>
              </a:rPr>
              <a:t>más de 700 personas murieron de intoxicación alcohólica</a:t>
            </a:r>
            <a:r>
              <a:rPr b="0" lang="es-ES" sz="2500" spc="-1" strike="noStrike">
                <a:solidFill>
                  <a:srgbClr val="000000"/>
                </a:solidFill>
                <a:latin typeface="Arial Rounded MT Bold"/>
              </a:rPr>
              <a:t> creyendo falsamente que una alta cantidad de metanol en la sangre podría proteger al organismo del virus.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Rounded MT Bold"/>
              </a:rPr>
              <a:t>En otro notorio </a:t>
            </a:r>
            <a:r>
              <a:rPr b="0" lang="es-ES" sz="2500" spc="-1" strike="noStrike" u="sng">
                <a:solidFill>
                  <a:srgbClr val="3c8c93"/>
                </a:solidFill>
                <a:uFillTx/>
                <a:latin typeface="Arial Rounded MT Bold"/>
              </a:rPr>
              <a:t>caso de grave de desinformación</a:t>
            </a:r>
            <a:r>
              <a:rPr b="0" lang="es-ES" sz="2500" spc="-1" strike="noStrike">
                <a:solidFill>
                  <a:srgbClr val="000000"/>
                </a:solidFill>
                <a:latin typeface="Arial Rounded MT Bold"/>
              </a:rPr>
              <a:t>, la indignación pública proveniente de la comunidad científica condenó las palabras del presidente de los EE.UU., sugiriendo arbitrariamente inyectar lejía como tratamiento contra COVID-19</a:t>
            </a:r>
            <a:r>
              <a:rPr b="0" lang="en-GB" sz="2500" spc="-1" strike="noStrike">
                <a:solidFill>
                  <a:srgbClr val="000000"/>
                </a:solidFill>
                <a:latin typeface="Arial Rounded MT Bold"/>
              </a:rPr>
              <a:t>.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2268000" y="274320"/>
            <a:ext cx="6875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Rounded MT Bold"/>
              </a:rPr>
              <a:t>Las noticias falsas ponen vidas en peligro</a:t>
            </a:r>
            <a:endParaRPr b="0" lang="en-US" sz="3000" spc="-1" strike="noStrike">
              <a:solidFill>
                <a:srgbClr val="000000"/>
              </a:solidFill>
              <a:latin typeface="Arial"/>
            </a:endParaRPr>
          </a:p>
        </p:txBody>
      </p:sp>
      <p:sp>
        <p:nvSpPr>
          <p:cNvPr id="551"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CasellaDiTesto 2"/>
          <p:cNvSpPr/>
          <p:nvPr/>
        </p:nvSpPr>
        <p:spPr>
          <a:xfrm>
            <a:off x="0" y="1417680"/>
            <a:ext cx="9144000" cy="3141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Rounded MT Bold"/>
              </a:rPr>
              <a:t>El mismo </a:t>
            </a:r>
            <a:r>
              <a:rPr b="0" lang="es-ES" sz="2500" spc="-1" strike="noStrike" u="sng">
                <a:solidFill>
                  <a:srgbClr val="3c8c93"/>
                </a:solidFill>
                <a:uFillTx/>
                <a:latin typeface="Arial Rounded MT Bold"/>
              </a:rPr>
              <a:t>Centro Johns Hopkins para la Seguridad de la Salud </a:t>
            </a:r>
            <a:r>
              <a:rPr b="0" lang="es-ES" sz="2500" spc="-1" strike="noStrike">
                <a:solidFill>
                  <a:srgbClr val="000000"/>
                </a:solidFill>
                <a:latin typeface="Arial Rounded MT Bold"/>
              </a:rPr>
              <a:t>- una de las fuentes más fiables de datos relacionados con el brote mundial de COVID-19, así como uno de los principales centros científicos en la lucha contra COVID-19 - se ha visto obligado a hacer un </a:t>
            </a:r>
            <a:r>
              <a:rPr b="0" lang="es-ES" sz="2500" spc="-1" strike="noStrike" u="sng">
                <a:solidFill>
                  <a:srgbClr val="3c8c93"/>
                </a:solidFill>
                <a:uFillTx/>
                <a:latin typeface="Arial Rounded MT Bold"/>
              </a:rPr>
              <a:t>anuncio público </a:t>
            </a:r>
            <a:r>
              <a:rPr b="0" lang="es-ES" sz="2500" spc="-1" strike="noStrike">
                <a:solidFill>
                  <a:srgbClr val="000000"/>
                </a:solidFill>
                <a:latin typeface="Arial Rounded MT Bold"/>
              </a:rPr>
              <a:t>advirtiendo sobre informes y recomendaciones totalmente inexactos publicados en su nombre, pero sin ninguna conexión con su personal.</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2268000" y="274320"/>
            <a:ext cx="6875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Rounded MT Bold"/>
              </a:rPr>
              <a:t>Las noticias falsas ponen vidas en peligro</a:t>
            </a:r>
            <a:endParaRPr b="0" lang="en-US" sz="3000" spc="-1" strike="noStrike">
              <a:solidFill>
                <a:srgbClr val="000000"/>
              </a:solidFill>
              <a:latin typeface="Arial"/>
            </a:endParaRPr>
          </a:p>
        </p:txBody>
      </p:sp>
      <p:sp>
        <p:nvSpPr>
          <p:cNvPr id="557"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CasellaDiTesto 2"/>
          <p:cNvSpPr/>
          <p:nvPr/>
        </p:nvSpPr>
        <p:spPr>
          <a:xfrm>
            <a:off x="0" y="1417680"/>
            <a:ext cx="9144000" cy="5045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Rounded MT Bold"/>
              </a:rPr>
              <a:t>En Italia, el primer epicentro del brote en la UE, desde el período que va de enero a abril de 2020, de todos los posts relacionados con COVID-19 compartidos a través de los medios de comunicación social, </a:t>
            </a:r>
            <a:r>
              <a:rPr b="0" lang="es-ES" sz="2500" spc="-1" strike="noStrike" u="sng">
                <a:solidFill>
                  <a:srgbClr val="3c8c93"/>
                </a:solidFill>
                <a:uFillTx/>
                <a:latin typeface="Arial Rounded MT Bold"/>
              </a:rPr>
              <a:t>un promedio del 5,5% </a:t>
            </a:r>
            <a:r>
              <a:rPr b="0" lang="es-ES" sz="2500" spc="-1" strike="noStrike">
                <a:solidFill>
                  <a:srgbClr val="000000"/>
                </a:solidFill>
                <a:latin typeface="Arial Rounded MT Bold"/>
              </a:rPr>
              <a:t>eran total/parcialmente inexactos desde el punto de vista científico.</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Rounded MT Bold"/>
              </a:rPr>
              <a:t>Incluso si la gente es perfectamente consciente del fenómeno de las noticias falsas - </a:t>
            </a:r>
            <a:r>
              <a:rPr b="0" lang="es-ES" sz="2500" spc="-1" strike="noStrike" u="sng">
                <a:solidFill>
                  <a:srgbClr val="3c8c93"/>
                </a:solidFill>
                <a:uFillTx/>
                <a:latin typeface="Arial Rounded MT Bold"/>
              </a:rPr>
              <a:t>en otra encuesta</a:t>
            </a:r>
            <a:r>
              <a:rPr b="0" lang="es-ES" sz="2500" spc="-1" strike="noStrike">
                <a:solidFill>
                  <a:srgbClr val="000000"/>
                </a:solidFill>
                <a:latin typeface="Arial Rounded MT Bold"/>
              </a:rPr>
              <a:t>, el público italiano se mostró muy escéptico sobre la fuente de noticias más fiable de COVID-19, casi 8 de cada 10 personas creen que Facebook es el principal responsable de impulsar la información no exacta - puede que no estén constantemente capacitados para detectar una</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2268000" y="274320"/>
            <a:ext cx="6875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Rounded MT Bold"/>
              </a:rPr>
              <a:t>Las noticias falsas ponen vidas en peligro</a:t>
            </a:r>
            <a:endParaRPr b="0" lang="en-US" sz="3000" spc="-1" strike="noStrike">
              <a:solidFill>
                <a:srgbClr val="000000"/>
              </a:solidFill>
              <a:latin typeface="Arial"/>
            </a:endParaRPr>
          </a:p>
        </p:txBody>
      </p:sp>
      <p:sp>
        <p:nvSpPr>
          <p:cNvPr id="563"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CasellaDiTesto 2"/>
          <p:cNvSpPr/>
          <p:nvPr/>
        </p:nvSpPr>
        <p:spPr>
          <a:xfrm>
            <a:off x="0" y="1417680"/>
            <a:ext cx="9144000" cy="4115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Rounded MT Bold"/>
              </a:rPr>
              <a:t>Twitter también tiene su gran parte de culpa.</a:t>
            </a:r>
            <a:r>
              <a:rPr b="0" lang="en-GB" sz="2500" spc="-1" strike="noStrike">
                <a:solidFill>
                  <a:srgbClr val="000000"/>
                </a:solidFill>
                <a:latin typeface="Arial Rounded MT Bold"/>
              </a:rPr>
              <a:t>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Rounded MT Bold"/>
              </a:rPr>
              <a:t>Según </a:t>
            </a:r>
            <a:r>
              <a:rPr b="0" lang="es-ES" sz="2500" spc="-1" strike="noStrike" u="sng">
                <a:solidFill>
                  <a:srgbClr val="3c8c93"/>
                </a:solidFill>
                <a:uFillTx/>
                <a:latin typeface="Arial Rounded MT Bold"/>
              </a:rPr>
              <a:t>Bot Sentinel</a:t>
            </a:r>
            <a:r>
              <a:rPr b="0" lang="es-ES" sz="2500" spc="-1" strike="noStrike">
                <a:solidFill>
                  <a:srgbClr val="000000"/>
                </a:solidFill>
                <a:latin typeface="Arial Rounded MT Bold"/>
              </a:rPr>
              <a:t>, el mayor conjunto de datos del mundo de actividades de BOTS en línea, sólo el 26 de marzo, en un periodo de 24h, los BOTS han sido responsables de 1.627 tweets engañosos relacionados con virus.</a:t>
            </a:r>
            <a:r>
              <a:rPr b="0" lang="en-GB" sz="2500" spc="-1" strike="noStrike">
                <a:solidFill>
                  <a:srgbClr val="000000"/>
                </a:solidFill>
                <a:latin typeface="Arial Rounded MT Bold"/>
              </a:rPr>
              <a:t>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Rounded MT Bold"/>
              </a:rPr>
              <a:t>Por ejemplo, echa un vistazo al siguiente hilo*:</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Rounded MT Bold"/>
              </a:rPr>
              <a:t>*Fuente: ScienceAlert.com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2268000" y="274320"/>
            <a:ext cx="6875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Rounded MT Bold"/>
              </a:rPr>
              <a:t>Las noticias falsas ponen vidas en peligro</a:t>
            </a:r>
            <a:endParaRPr b="0" lang="en-US" sz="3000" spc="-1" strike="noStrike">
              <a:solidFill>
                <a:srgbClr val="000000"/>
              </a:solidFill>
              <a:latin typeface="Arial"/>
            </a:endParaRPr>
          </a:p>
        </p:txBody>
      </p:sp>
      <p:sp>
        <p:nvSpPr>
          <p:cNvPr id="569"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3" name="Immagine 1" descr=""/>
          <p:cNvPicPr/>
          <p:nvPr/>
        </p:nvPicPr>
        <p:blipFill>
          <a:blip r:embed="rId1"/>
          <a:stretch/>
        </p:blipFill>
        <p:spPr>
          <a:xfrm>
            <a:off x="1884240" y="1309680"/>
            <a:ext cx="5375520" cy="3260880"/>
          </a:xfrm>
          <a:prstGeom prst="rect">
            <a:avLst/>
          </a:prstGeom>
          <a:ln w="0">
            <a:noFill/>
          </a:ln>
        </p:spPr>
      </p:pic>
      <p:sp>
        <p:nvSpPr>
          <p:cNvPr id="574" name="CasellaDiTesto 3"/>
          <p:cNvSpPr/>
          <p:nvPr/>
        </p:nvSpPr>
        <p:spPr>
          <a:xfrm>
            <a:off x="0" y="4570560"/>
            <a:ext cx="91440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La declaración que ve arriba ha sido publicada por las autoridades oficiales de salud pública. Poco después, esto es lo que suce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2268000" y="274320"/>
            <a:ext cx="6875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Rounded MT Bold"/>
              </a:rPr>
              <a:t>Las noticias falsas ponen vidas en peligro</a:t>
            </a:r>
            <a:endParaRPr b="0" lang="en-US" sz="3000" spc="-1" strike="noStrike">
              <a:solidFill>
                <a:srgbClr val="000000"/>
              </a:solidFill>
              <a:latin typeface="Arial"/>
            </a:endParaRPr>
          </a:p>
        </p:txBody>
      </p:sp>
      <p:sp>
        <p:nvSpPr>
          <p:cNvPr id="576"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0" name="Immagine 2" descr=""/>
          <p:cNvPicPr/>
          <p:nvPr/>
        </p:nvPicPr>
        <p:blipFill>
          <a:blip r:embed="rId1"/>
          <a:stretch/>
        </p:blipFill>
        <p:spPr>
          <a:xfrm>
            <a:off x="2195640" y="1341360"/>
            <a:ext cx="4819680" cy="4400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2268000" y="274320"/>
            <a:ext cx="6875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Rounded MT Bold"/>
              </a:rPr>
              <a:t>Las noticias falsas ponen vidas en peligro</a:t>
            </a:r>
            <a:endParaRPr b="0" lang="en-US" sz="3000" spc="-1" strike="noStrike">
              <a:solidFill>
                <a:srgbClr val="000000"/>
              </a:solidFill>
              <a:latin typeface="Arial"/>
            </a:endParaRPr>
          </a:p>
        </p:txBody>
      </p:sp>
      <p:sp>
        <p:nvSpPr>
          <p:cNvPr id="582"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CasellaDiTesto 2"/>
          <p:cNvSpPr/>
          <p:nvPr/>
        </p:nvSpPr>
        <p:spPr>
          <a:xfrm>
            <a:off x="0" y="1417680"/>
            <a:ext cx="914400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Los comentarios de Sara y Sharon son bastante inquietantes por una sencilla razón: minan la legitimidad y fiabilidad de los expertos que dedican su vida a salvaguardar la salud y el bienestar de los ciudadano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Lo que es aún más espeluznante es que ninguna, Sara, Sharon ni la madre de Sara existen realmente: lo que acaban de ver representa perfectamente una típica interferencia del BOT, destinada a generar en el lector desprevenido una sensación de pérdida 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projects@internetwebsolutions.es</cp:lastModifiedBy>
  <dcterms:modified xsi:type="dcterms:W3CDTF">2020-09-07T13:07:26Z</dcterms:modified>
  <cp:revision>541</cp:revision>
  <dc:subject/>
  <dc:title>Title</dc:title>
</cp:coreProperties>
</file>