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7798B8-F0C8-4B4D-99D9-0573FFD167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9561AC-FE69-42E7-9FA7-CCFBFA952D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5B3B310-0121-41AE-AE0C-40B11E8171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FA8EA5-E9F7-42CF-A940-C742D03C0DE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831604-0BD3-4AA5-9404-0569AB2B3F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F5F107-6974-4CD2-8354-CA945510C6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121FC9-46AC-45B9-BBB9-EFF5B000D2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D94B4C5-E38B-4E5A-830D-E6424A8A2B1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A27C2BE-FDA9-4759-9620-FB1D481FDF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D11167A-AC8B-4000-8A24-042463C02AD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D6A521-BDA1-4020-AAFE-3424AE90F5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7323E70-5148-4CDA-BB6A-E3FAE340483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ED5600-20C8-480C-9E41-A1B2A1B7771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EFF3C5-BBAE-427E-B53E-5C7A52D37CD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00962A5-10E9-46BB-BEF1-8F2DC4AB775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AEF64A-ABC2-469F-9875-8093E709160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CF02E9-C7A1-4E2B-A295-4788A5393CC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399148-448F-4ECA-9815-F98A85B7E0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5A1480D-2D5E-4736-A428-2CF8DE0B81A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04C0250-09E9-42D9-AAB8-1CA04BFDA7A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34B5D2D-0014-4F75-9DFF-756E2CCDED7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2B1430F-47E0-4820-A5F8-492B80A652B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7607EF5-70B7-4ED5-BC76-E335495CA78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19EE1E3-B493-46B7-824F-BA20C1E21E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2C67D94-5E1A-46FF-A905-CC4134CFD3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896132F-7F1A-4ED6-8217-73B53CE2F2B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31492AC-8088-4BFC-B23E-6088CC7A236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9575050-8FAE-4DA9-BC1E-DDC6A96867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5F0CEA-6E0C-44FA-90E1-B0FDEAC667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51212D-4E02-4A6E-9078-C5D8CE3A90E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FACA9D0-402D-4941-878A-5208ECF9F5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4735F90-79F9-4D31-8E38-80998E9837F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2C9C2A7-8C06-4A48-8CD3-6242A18E53D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15D2CF7-65CE-4235-AD2A-EEA3B232AEA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7BC83E0-098E-472B-9E40-DF260902D9E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780719A-8AAF-45DC-9020-5C7C7DD1CDD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47A47BC-613C-4DED-BC6F-62D0EB17F3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6C33BD-A6A9-4FAE-99A4-2932BCA1C28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7435BD1-692B-4CB6-9393-0D29656535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30DC72-9CEF-47B9-863D-474AF406F4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6BAE465-0F92-496C-B9AF-DF41A3455E5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DDF75B5-C30D-4D7D-8E41-765F6854D9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D6DF2DF-A566-4AB6-8708-740149EF99B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B4129E3-8BE7-4B35-95D1-60946C1B429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0684BBB-3575-4EF4-9E74-16029A3A3B8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301DFB-AF56-4D8F-81DE-3D84DF049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7B804-9F44-4168-87F6-9705AE902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CBD89-0475-43E7-A9E7-2397808E7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34E964-4DD5-44BC-8733-AEAF233E7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A489FE-C471-44EB-A0E7-A3AFA21D9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25B4F-B527-44A3-908A-3698C7DAE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0A567-FA35-4F96-BE1C-5B91F4654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F1E01-F4D4-4916-9161-3E70E1525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178B87-AC8D-4BB4-B2C9-5333D3049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E1C4EA-E351-40FE-B4CA-8DB461C34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14BED8-D007-4FB4-B09E-0C5B6C8B1E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6E56B0-D6BC-4D1A-9E5C-AF422BAB43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1A35E9-75A4-4763-B315-1D811EE874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875340-9CE3-4B2C-A92F-D97BA3077E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8DB2A4-8214-4A8F-A778-32B983E1BD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DB6EF0-AD69-409E-9BA8-0EC4E1B277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8B7CC6-B328-4065-9C56-81FEFCF0EB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D552BA-6200-49FE-8B15-901E6B4BCF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60F19E-B025-4CA8-A77B-4DA804C9AF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DCD414-11C6-4201-B25A-EAEA0F3449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A2D249-90F4-4DEC-8809-316F6FD414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EBF2B0-BF8F-49BD-AAC5-E9C0DA55D6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5BD2B8F-9CF4-4FC3-9040-EC3E2B1BFCF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30C319-1639-43EC-AD38-88C49B64EA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1B8C73-FFCF-45D9-8A62-BA05B24577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4BE549-864A-4CED-85D7-6D9F496E96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2AA06B-4A58-4EBB-94D1-5B64E52302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7B0571-302D-41A5-B241-E58871F92B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4E5363-C20F-4071-B750-F1239C030A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C9AE22-82E3-483E-868C-6CEEEDE70F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8C90F3-904F-40F5-A3EF-44DB8ABE9F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F2A68A-B9F2-4172-9E38-31489340C3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B355E7-6D49-4F95-BA49-207B996D6B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A0FAF6-70E8-4CD9-A06B-537DF3FDAC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BED6A8-1903-4D16-9785-86498DA885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919B593-FE42-46FA-8501-9F3051A438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E3642D8-4EB9-4C0A-9CE8-F342E14149A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75A5A7-8A7C-4313-89EA-28630F08D7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A7FF63-67F0-4013-903A-07D92350EF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36881B-96D0-4A4F-8657-ACFBAA3023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A543EE-663B-4580-9A05-C098E73F72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D965AA-A8F4-466C-8A2F-FB119BAF495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EBF0DE-49A6-4C7E-8A4D-8E65C009AA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32D9BA-07FB-4936-8D98-D4019C5E40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B262DB-F7D6-4251-A61C-98ACF29099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6E91F9-D1A5-4491-A2DB-C6A0308F15F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1E087B8-BFDD-4C71-852D-E9B46687C66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2756021-7AC4-4F60-ABD7-008FF30B478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584C48E-8BE6-4BA1-929C-955E7AC9CE0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F827B68-74A5-4439-BA01-F9FF0B68A9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985555-4579-47BC-BFF1-AB4062702F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6A4108-B74C-4298-8CB5-07F37296E1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FCFE1EB-CB31-4EA0-96BA-F026C1BCD2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BB145F-2CA5-4590-830C-F0E5C1E82CB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A038A4-8B96-4BEB-9964-33D0F2CA3D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B9256B-64DF-4859-86EE-5E0D435D8A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33C39A-387F-4AF7-A498-A54AFEA768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B44105-802D-4895-A834-7F0E017F31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5222B7B-5735-4FE0-9000-6974E197669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8F5DCB2-ADCF-4D47-8A3E-346B68FE682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383BB90-A1A0-4422-BF38-06CB27037B6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ED61B61-45EF-42E7-86E4-139C283A45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0487208-FE31-452B-928D-04D480D294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AB0388-BAD7-4246-9FC2-56FA4A8ECDB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9805E3-CC03-4359-AF2C-56B6441B853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02DA046-B767-47FC-AE74-39CD40A6B3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25F1B3-C951-4303-BD24-4E448D463F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1DB0B3-3441-4AA3-8B85-448F735147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EC1DE8-F841-4241-836A-B36AC5A642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B3015CD-DE41-4857-BDA7-4B76DB716B7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9725A55-FBAE-4B13-8EFA-CD84F5FA54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E44C1E-8A94-4B6D-8124-6AEC69F5FED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ADCF0B1-5C67-4B51-844B-0353BF8F926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69C85A-49A8-4C3C-A81A-0A28094C37E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7D3487-60C9-478C-9EE6-42E94B0D0568}"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9362-81DF-4A7F-BE64-ECF24E89557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0BA3-2A59-4532-ABAF-11C246B1879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F318-EA78-4F8A-B3E6-76672F16288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8034-D29A-470F-ADF5-96444B2CA1B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1788-4BD3-4D4B-8CC4-1464139C75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D797-60ED-4F44-A894-6CA5D7FA5F7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9962-D9EA-41FD-BC07-A2C8490CEE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4B7F-631A-4319-B3CE-69A9CF2819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435A-97D2-49CF-BC32-E258A480166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1CF8-9D36-4246-ADBD-CE8DA87789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news.un.org/en/story/2020/04/1061592"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Noticias falsas durante el brote de COVID </a:t>
            </a:r>
            <a:endParaRPr b="0" lang="en-US" sz="3600" spc="-1" strike="noStrike">
              <a:solidFill>
                <a:srgbClr val="000000"/>
              </a:solidFill>
              <a:latin typeface="Arial"/>
            </a:endParaRPr>
          </a:p>
        </p:txBody>
      </p:sp>
      <p:sp>
        <p:nvSpPr>
          <p:cNvPr id="537" name="Rectángulo 1"/>
          <p:cNvSpPr/>
          <p:nvPr/>
        </p:nvSpPr>
        <p:spPr>
          <a:xfrm>
            <a:off x="0" y="328464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formación incorrecta común online relacionada con COVID-19: comprobar los hechos y desenmascarar los bulos</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8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CasellaDiTesto 2"/>
          <p:cNvSpPr/>
          <p:nvPr/>
        </p:nvSpPr>
        <p:spPr>
          <a:xfrm>
            <a:off x="0" y="14176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ómo podemos estar tan seguros de que Sara y Sharon son sólo ficciones digital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spués de un poco de entrenamiento, los BOT son muy fáciles de detecta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1.No hay seguidor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2.No hay foto de perfil (o la foto de perfil es robad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3.Recientes en la plataform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4.Alias generados al az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5.Presencia social de un tema: conspiración y alarmism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6.Actividad muy escasa aparte de comentar los mensajes de los dem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0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CasellaDiTesto 2"/>
          <p:cNvSpPr/>
          <p:nvPr/>
        </p:nvSpPr>
        <p:spPr>
          <a:xfrm>
            <a:off x="0" y="141768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un momento dado, la situación fue tan grave que Google, Facebook, LinkedIn, Microsoft, Reddit, Twitter y YouTube decidieron comprometerse a una acción conjunta contra la difusión de la desinformación de COVID-1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or otro lado, estas plataformas garantizarán a sus usuarios sólo la información más fiable y científicamente exacta, lo que llevará a la provisión de datos actualizados y en tiemp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2" name="Immagine 1" descr=""/>
          <p:cNvPicPr/>
          <p:nvPr/>
        </p:nvPicPr>
        <p:blipFill>
          <a:blip r:embed="rId1"/>
          <a:stretch/>
        </p:blipFill>
        <p:spPr>
          <a:xfrm>
            <a:off x="1646280" y="7920"/>
            <a:ext cx="5851440" cy="667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CasellaDiTesto 2"/>
          <p:cNvSpPr/>
          <p:nvPr/>
        </p:nvSpPr>
        <p:spPr>
          <a:xfrm>
            <a:off x="0" y="1417680"/>
            <a:ext cx="9144000" cy="472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UNESCO se tomó muy en serio el efecto de "pandemia socia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UNESCO también está trabajando para ayudar a las personas a ser más críticas con lo que se les presenta en línea y en otros medios, como hechos, de manera que sea menos probable que crean y difundan falsedades. La agencia está utilizando los hashtags #Pensar antes de compartir, #Pensar antes de hacer clic y #Compartir conocimientos, y promoviendo la idea de que los derechos a la libertad de expresión y el acceso a la información son los mejores remedios contra los peligros de la desinfor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uente: </a:t>
            </a:r>
            <a:r>
              <a:rPr b="0" lang="en-GB" sz="1400" spc="-1" strike="noStrike" u="sng">
                <a:solidFill>
                  <a:srgbClr val="009999"/>
                </a:solidFill>
                <a:uFillTx/>
                <a:latin typeface="Arial Rounded MT Bold"/>
                <a:hlinkClick r:id="rId1"/>
              </a:rPr>
              <a:t>During this coronavirus pandemic, ‘fake news’ is putting lives at risk</a:t>
            </a:r>
            <a:r>
              <a:rPr b="0" lang="en-GB" sz="1400" spc="-1" strike="noStrike">
                <a:solidFill>
                  <a:srgbClr val="000000"/>
                </a:solidFill>
                <a:latin typeface="Arial Rounded MT Bold"/>
              </a:rPr>
              <a:t>, UNES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CasellaDiTesto 2"/>
          <p:cNvSpPr/>
          <p:nvPr/>
        </p:nvSpPr>
        <p:spPr>
          <a:xfrm>
            <a:off x="0" y="141768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 mismo ha hecho la Organización Mundial de la Salu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uedes comprobar que el motor de Google siempre te dirigirá a la página web oficial de la OMS para cualquier búsqueda relacionada con COVID-19.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to comenzó a suceder sólo recientemente, cuando Google y el ejecutivo de la OMS se sentaron juntos para discutir sobre soluciones efectivas para contener la "pandemia social" y asegurar a los usuarios de la web el entorno digital más segu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2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CasellaDiTesto 2"/>
          <p:cNvSpPr/>
          <p:nvPr/>
        </p:nvSpPr>
        <p:spPr>
          <a:xfrm>
            <a:off x="0" y="1417680"/>
            <a:ext cx="9144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sección </a:t>
            </a:r>
            <a:r>
              <a:rPr b="0" lang="es-ES" sz="2400" spc="-1" strike="noStrike" u="sng">
                <a:solidFill>
                  <a:srgbClr val="3c8c93"/>
                </a:solidFill>
                <a:uFillTx/>
                <a:latin typeface="Arial Rounded MT Bold"/>
              </a:rPr>
              <a:t>Cazadores de Mitos </a:t>
            </a:r>
            <a:r>
              <a:rPr b="0" lang="es-ES" sz="2400" spc="-1" strike="noStrike">
                <a:solidFill>
                  <a:srgbClr val="000000"/>
                </a:solidFill>
                <a:latin typeface="Arial Rounded MT Bold"/>
              </a:rPr>
              <a:t>del sitio web de la OMS enumera 28 desinformaciones comunes de COVID-1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ada una de ellas está científicamente comprobada y “cazada": si le preocupa lo que ha visto en Internet, considere la posibilidad de visitar el sitio web y compartir el contenido con sus conoci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CasellaDiTesto 2"/>
          <p:cNvSpPr/>
          <p:nvPr/>
        </p:nvSpPr>
        <p:spPr>
          <a:xfrm>
            <a:off x="0" y="1417680"/>
            <a:ext cx="9144000" cy="352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Durante el brote mundial de COVID-19, las falsas noticias relacionadas con el virus se propagaron tan rápido como la propia pandemia.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Los engaños de COVID-19 son increíblemente peligrosos porque, como </a:t>
            </a:r>
            <a:r>
              <a:rPr b="0" lang="es-ES" sz="2500" spc="-1" strike="noStrike" u="sng">
                <a:solidFill>
                  <a:srgbClr val="3c8c93"/>
                </a:solidFill>
                <a:uFillTx/>
                <a:latin typeface="Arial Rounded MT Bold"/>
              </a:rPr>
              <a:t>algunos han informado</a:t>
            </a:r>
            <a:r>
              <a:rPr b="0" lang="es-ES" sz="2500" spc="-1" strike="noStrike">
                <a:solidFill>
                  <a:srgbClr val="000000"/>
                </a:solidFill>
                <a:latin typeface="Arial Rounded MT Bold"/>
              </a:rPr>
              <a:t>, "[...] incluyen lo que parece provenir de un consejo válido de profesionales médicos pero resulta ser erróneo y en algunos casos peligrosamente dañin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CasellaDiTesto 2"/>
          <p:cNvSpPr/>
          <p:nvPr/>
        </p:nvSpPr>
        <p:spPr>
          <a:xfrm>
            <a:off x="0" y="1417680"/>
            <a:ext cx="9144000" cy="39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Por ejemplo, en Irán, </a:t>
            </a:r>
            <a:r>
              <a:rPr b="0" lang="es-ES" sz="2500" spc="-1" strike="noStrike" u="sng">
                <a:solidFill>
                  <a:srgbClr val="3c8c93"/>
                </a:solidFill>
                <a:uFillTx/>
                <a:latin typeface="Arial Rounded MT Bold"/>
              </a:rPr>
              <a:t>más de 700 personas murieron de intoxicación alcohólica</a:t>
            </a:r>
            <a:r>
              <a:rPr b="0" lang="es-ES" sz="2500" spc="-1" strike="noStrike">
                <a:solidFill>
                  <a:srgbClr val="000000"/>
                </a:solidFill>
                <a:latin typeface="Arial Rounded MT Bold"/>
              </a:rPr>
              <a:t> creyendo falsamente que una alta cantidad de metanol en la sangre podría proteger al organismo del viru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En otro notorio </a:t>
            </a:r>
            <a:r>
              <a:rPr b="0" lang="es-ES" sz="2500" spc="-1" strike="noStrike" u="sng">
                <a:solidFill>
                  <a:srgbClr val="3c8c93"/>
                </a:solidFill>
                <a:uFillTx/>
                <a:latin typeface="Arial Rounded MT Bold"/>
              </a:rPr>
              <a:t>caso de grave de desinformación</a:t>
            </a:r>
            <a:r>
              <a:rPr b="0" lang="es-ES" sz="2500" spc="-1" strike="noStrike">
                <a:solidFill>
                  <a:srgbClr val="000000"/>
                </a:solidFill>
                <a:latin typeface="Arial Rounded MT Bold"/>
              </a:rPr>
              <a:t>, la indignación pública proveniente de la comunidad científica condenó las palabras del presidente de los EE.UU., sugiriendo arbitrariamente inyectar lejía como tratamiento contra COVID-19</a:t>
            </a:r>
            <a:r>
              <a:rPr b="0" lang="en-GB" sz="2500" spc="-1" strike="noStrike">
                <a:solidFill>
                  <a:srgbClr val="000000"/>
                </a:solidFill>
                <a:latin typeface="Arial Rounded MT Bold"/>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5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CasellaDiTesto 2"/>
          <p:cNvSpPr/>
          <p:nvPr/>
        </p:nvSpPr>
        <p:spPr>
          <a:xfrm>
            <a:off x="0" y="1417680"/>
            <a:ext cx="9144000" cy="31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El mismo </a:t>
            </a:r>
            <a:r>
              <a:rPr b="0" lang="es-ES" sz="2500" spc="-1" strike="noStrike" u="sng">
                <a:solidFill>
                  <a:srgbClr val="3c8c93"/>
                </a:solidFill>
                <a:uFillTx/>
                <a:latin typeface="Arial Rounded MT Bold"/>
              </a:rPr>
              <a:t>Centro Johns Hopkins para la Seguridad de la Salud </a:t>
            </a:r>
            <a:r>
              <a:rPr b="0" lang="es-ES" sz="2500" spc="-1" strike="noStrike">
                <a:solidFill>
                  <a:srgbClr val="000000"/>
                </a:solidFill>
                <a:latin typeface="Arial Rounded MT Bold"/>
              </a:rPr>
              <a:t>- una de las fuentes más fiables de datos relacionados con el brote mundial de COVID-19, así como uno de los principales centros científicos en la lucha contra COVID-19 - se ha visto obligado a hacer un </a:t>
            </a:r>
            <a:r>
              <a:rPr b="0" lang="es-ES" sz="2500" spc="-1" strike="noStrike" u="sng">
                <a:solidFill>
                  <a:srgbClr val="3c8c93"/>
                </a:solidFill>
                <a:uFillTx/>
                <a:latin typeface="Arial Rounded MT Bold"/>
              </a:rPr>
              <a:t>anuncio público </a:t>
            </a:r>
            <a:r>
              <a:rPr b="0" lang="es-ES" sz="2500" spc="-1" strike="noStrike">
                <a:solidFill>
                  <a:srgbClr val="000000"/>
                </a:solidFill>
                <a:latin typeface="Arial Rounded MT Bold"/>
              </a:rPr>
              <a:t>advirtiendo sobre informes y recomendaciones totalmente inexactos publicados en su nombre, pero sin ninguna conexión con su person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5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CasellaDiTesto 2"/>
          <p:cNvSpPr/>
          <p:nvPr/>
        </p:nvSpPr>
        <p:spPr>
          <a:xfrm>
            <a:off x="0" y="1417680"/>
            <a:ext cx="9144000" cy="504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En Italia, el primer epicentro del brote en la UE, desde el período que va de enero a abril de 2020, de todos los posts relacionados con COVID-19 compartidos a través de los medios de comunicación social, </a:t>
            </a:r>
            <a:r>
              <a:rPr b="0" lang="es-ES" sz="2500" spc="-1" strike="noStrike" u="sng">
                <a:solidFill>
                  <a:srgbClr val="3c8c93"/>
                </a:solidFill>
                <a:uFillTx/>
                <a:latin typeface="Arial Rounded MT Bold"/>
              </a:rPr>
              <a:t>un promedio del 5,5% </a:t>
            </a:r>
            <a:r>
              <a:rPr b="0" lang="es-ES" sz="2500" spc="-1" strike="noStrike">
                <a:solidFill>
                  <a:srgbClr val="000000"/>
                </a:solidFill>
                <a:latin typeface="Arial Rounded MT Bold"/>
              </a:rPr>
              <a:t>eran total/parcialmente inexactos desde el punto de vista científic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Incluso si la gente es perfectamente consciente del fenómeno de las noticias falsas - </a:t>
            </a:r>
            <a:r>
              <a:rPr b="0" lang="es-ES" sz="2500" spc="-1" strike="noStrike" u="sng">
                <a:solidFill>
                  <a:srgbClr val="3c8c93"/>
                </a:solidFill>
                <a:uFillTx/>
                <a:latin typeface="Arial Rounded MT Bold"/>
              </a:rPr>
              <a:t>en otra encuesta</a:t>
            </a:r>
            <a:r>
              <a:rPr b="0" lang="es-ES" sz="2500" spc="-1" strike="noStrike">
                <a:solidFill>
                  <a:srgbClr val="000000"/>
                </a:solidFill>
                <a:latin typeface="Arial Rounded MT Bold"/>
              </a:rPr>
              <a:t>, el público italiano se mostró muy escéptico sobre la fuente de noticias más fiable de COVID-19, casi 8 de cada 10 personas creen que Facebook es el principal responsable de impulsar la información no exacta - puede que no estén constantemente capacitados para detectar un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CasellaDiTesto 2"/>
          <p:cNvSpPr/>
          <p:nvPr/>
        </p:nvSpPr>
        <p:spPr>
          <a:xfrm>
            <a:off x="0" y="1417680"/>
            <a:ext cx="91440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Twitter también tiene su gran parte de culpa.</a:t>
            </a:r>
            <a:r>
              <a:rPr b="0" lang="en-GB" sz="2500" spc="-1" strike="noStrike">
                <a:solidFill>
                  <a:srgbClr val="000000"/>
                </a:solidFill>
                <a:latin typeface="Arial Rounded MT Bold"/>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Según </a:t>
            </a:r>
            <a:r>
              <a:rPr b="0" lang="es-ES" sz="2500" spc="-1" strike="noStrike" u="sng">
                <a:solidFill>
                  <a:srgbClr val="3c8c93"/>
                </a:solidFill>
                <a:uFillTx/>
                <a:latin typeface="Arial Rounded MT Bold"/>
              </a:rPr>
              <a:t>Bot Sentinel</a:t>
            </a:r>
            <a:r>
              <a:rPr b="0" lang="es-ES" sz="2500" spc="-1" strike="noStrike">
                <a:solidFill>
                  <a:srgbClr val="000000"/>
                </a:solidFill>
                <a:latin typeface="Arial Rounded MT Bold"/>
              </a:rPr>
              <a:t>, el mayor conjunto de datos del mundo de actividades de BOTS en línea, sólo el 26 de marzo, en un periodo de 24h, los BOTS han sido responsables de 1.627 tweets engañosos relacionados con virus.</a:t>
            </a:r>
            <a:r>
              <a:rPr b="0" lang="en-GB" sz="2500" spc="-1" strike="noStrike">
                <a:solidFill>
                  <a:srgbClr val="000000"/>
                </a:solidFill>
                <a:latin typeface="Arial Rounded MT Bold"/>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Por ejemplo, echa un vistazo al siguiente hil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uente: ScienceAlert.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6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Immagine 1" descr=""/>
          <p:cNvPicPr/>
          <p:nvPr/>
        </p:nvPicPr>
        <p:blipFill>
          <a:blip r:embed="rId1"/>
          <a:stretch/>
        </p:blipFill>
        <p:spPr>
          <a:xfrm>
            <a:off x="1884240" y="1309680"/>
            <a:ext cx="5375520" cy="3260880"/>
          </a:xfrm>
          <a:prstGeom prst="rect">
            <a:avLst/>
          </a:prstGeom>
          <a:ln w="0">
            <a:noFill/>
          </a:ln>
        </p:spPr>
      </p:pic>
      <p:sp>
        <p:nvSpPr>
          <p:cNvPr id="574" name="CasellaDiTesto 3"/>
          <p:cNvSpPr/>
          <p:nvPr/>
        </p:nvSpPr>
        <p:spPr>
          <a:xfrm>
            <a:off x="0" y="45705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declaración que ve arriba ha sido publicada por las autoridades oficiales de salud pública. Poco después, esto es lo que suce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Immagine 2" descr=""/>
          <p:cNvPicPr/>
          <p:nvPr/>
        </p:nvPicPr>
        <p:blipFill>
          <a:blip r:embed="rId1"/>
          <a:stretch/>
        </p:blipFill>
        <p:spPr>
          <a:xfrm>
            <a:off x="2195640" y="1341360"/>
            <a:ext cx="48196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CasellaDiTesto 2"/>
          <p:cNvSpPr/>
          <p:nvPr/>
        </p:nvSpPr>
        <p:spPr>
          <a:xfrm>
            <a:off x="0" y="1417680"/>
            <a:ext cx="9144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comentarios de Sara y Sharon son bastante inquietantes por una sencilla razón: minan la legitimidad y fiabilidad de los expertos que dedican su vida a salvaguardar la salud y el bienestar de los ciudadan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 que es aún más espeluznante es que ninguna, Sara, Sharon ni la madre de Sara existen realmente: lo que acaban de ver representa perfectamente una típica interferencia del BOT, destinada a generar en el lector desprevenido una sensación de pérdida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s@internetwebsolutions.es</cp:lastModifiedBy>
  <dcterms:modified xsi:type="dcterms:W3CDTF">2020-09-07T13:07:26Z</dcterms:modified>
  <cp:revision>541</cp:revision>
  <dc:subject/>
  <dc:title>Title</dc:title>
</cp:coreProperties>
</file>