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E609210-B15F-455B-92F2-C225BB8124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583AF0-8E88-4A69-932F-0AEDB094D60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D40E99-7BA9-4093-9901-329216837CB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1914E6-40E3-4896-8360-421598C61B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BA3BB7-7339-49B1-9E60-DDA31E5552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CC66B1-9758-45F3-9EE7-357F14DA82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23B782-63D2-47CD-A497-FBDC84AC01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BA4A5B8-77F6-4BEC-9012-314BEC1D17B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EAAD4CE-EFFF-4E72-BAE3-3F91D1351F5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F3C58AD-EEF4-4E05-8950-9E178C4E568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9536DA-E283-4D97-97DC-12FAD8F4F88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949495F-CD7A-4E6D-ACE5-DEFB84C106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A57658-9EA9-47ED-AEAE-923136C087A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4859DA3-4349-4D17-8958-C177667F6BF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049E69-148A-4CF8-A112-5D11080977C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E30FB9-A9E1-48EB-96B0-947D309808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25830A-B7B8-407C-9CBC-12AE18A03B6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3A3C6F-BC2A-4FF2-94D3-01691F0D42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42107F6-9EB8-4749-9B42-BB028665FFE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D2DEA9A-D8B6-41C3-8B71-23B1D780DC0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22E4225-208A-434C-88A7-3A1961E3B70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AB81301-7145-427D-A994-658219D63EC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AD24E3B-53A1-4FA4-8F6C-ABBE78EA99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25E9C35-1EBA-4CF2-90AC-59B10E7E9CD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C498511-BB0E-4CF3-93F3-A868DB08220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8E06B3-5698-453D-B301-F585B057D1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E4C605E-EF46-4E34-89EC-28FCF6A01C7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2A20455-5ED3-4267-8861-B1AA8E93058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2510C4-831C-42E4-A0AA-FC693CEA47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9660CCE-FD6F-4B16-AB9B-20F7F858F2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AD3C5BC-A018-4A12-ADCF-9D499C82D1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568E096-8AF9-4E62-B413-563920C8911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B353CE1-A58E-4513-9169-3154CE850CD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9C3C6FD-D2CC-4FC6-95F7-9763D8D3F31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8D4F9B8-7659-4089-9FAC-34C2DF1E11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4B8F414-8262-4205-BB4C-4F9508DAA6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502642C-8F81-45ED-B39B-2D8D6142E9C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B7D34E9-D7E4-4204-A82E-A1427999E0D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E1C469E-0C08-4736-B681-67559DCCCE0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288121-7D08-4DF5-A143-C51BCB6576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2E42A5A-ED4B-4E4E-8DB9-C2DFFD49DC1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A3CB74A-384C-4637-8C39-3AFEE11BA62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DEF02E2-B81A-4FD1-8510-DFEF825542A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A91B302-F4B7-4E22-A803-7230DC926FB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56CE096-89B5-4CD2-87EA-92F0903C2CB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0AADD7-8C64-44A7-B7D5-7C4A9860F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47111-CF3F-44C8-9C4D-F9AD76B34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07611E-A448-409D-A822-08CAF253C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2ADDBE-CFF7-40CA-9753-46867F313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CBCD47-8A75-4CED-85D3-EA4007CEB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521961-F084-404C-BA76-33D650C39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A7377-4FBB-47F6-A4BD-15036BC39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44F70-E12A-46F9-A237-EA009D475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BC0BB-4B14-478B-A3E7-345D43B2A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D5387B-EA25-488C-9D6A-64B0EDC85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84508C-E4C8-4FC2-89F7-8775D8840E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2626E8-BFED-454C-92B4-8D593919A9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68CC235-E47B-449E-A3A9-8204A4FB0C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F18541-FD5D-4B76-A73F-0E7AFECC82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ED2A62-2221-4C6F-B5BC-B536AD5515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B054F4-6280-408C-8A32-5705522686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8ECE4B-881C-4C3E-AE7B-AB687A6F20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E2514C-2479-47C4-82ED-135972B5FC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82969E-7FDC-4940-9F0F-F0CA28B695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0FE427-9D78-48FA-8AB0-7E56093BB5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AB9352-EF46-4595-A6DE-61F039B09D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6A2C2A-3379-414D-B425-28E215DE91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80B405-F596-4916-A577-BCC7114ADE9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943BD8-EB26-4142-8394-03BCC7F7A0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95147C4-25C0-4FB2-8144-69264C5F6F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164DD0-AD01-4DE3-A142-31C5F85D41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1C0009-DA41-45D8-8D1B-BECBE2B658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9D8020-B9C1-49E5-B2DF-E5EA544663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747F33-B238-45AC-B691-C2C37D7F99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983461-4401-4A3B-87ED-CC0676294E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B122B3-89F3-4492-89F7-44F00372A3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B3F34A-8A5F-4EB4-B6C5-21AB051733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6B9925-8C65-4B04-9B4C-FD57B371ED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6BF0C0-0439-444B-8FF1-1D4D6E1ABB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569C6BD-0927-4EC4-99D8-555501CE72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7DF9478-762D-42BB-8D2C-DA01A8ABCA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F89D1FB-D135-430E-83CF-9EA4063D827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519459-3F05-43BF-9645-461843711BE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91FCF3-A938-4B02-9FA7-1BAFC651AE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736783-545F-4B60-A417-259EBFFF17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41BE5D-2118-46A8-9E12-5668504B29B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13F763-4747-4EBF-B614-9CB4501E4E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C63CCD-6033-4512-B2BE-8C9F8629AF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18D650-B7A7-4106-ACBC-A830BCA393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DDA067-1BCA-42C8-B29A-D2E4AD2997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A2889F-55D5-4BB1-89F0-776BA27F275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CE7F344-8B45-4EBB-8D52-31EAFB289EF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3E3A9A-D732-4DFB-A3C3-A71CC23438B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5425145-B6F5-4594-913D-429F79C6850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96DDCA-1224-4AB7-856B-80C6A6594D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2A233C-7F09-4D40-AA99-C5FAEE8C0E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C3655F-80F2-4712-B9CB-587E11ED401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2F45764-CB54-4A13-B69B-F6A0F522E00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30BAE63-E150-4955-9547-5C23AA6A19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55A217-F4E9-47CE-A6D8-D2D2B006C3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597CE45-8886-40EF-A6F7-FE72464ABD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FAB7CE-A459-49F8-885D-D115B55112E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3A3DD5E-5922-435B-A949-DC9677B8CE5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D221BF7-F320-4A36-87A2-F20713C33F2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FC345B8-B4AF-49D2-A41D-486F28AEDB0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79C2738-090E-4F55-96D2-56FC4AB68B2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476CF21-9628-4FFD-BEEC-4D3C2888E30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A0EF72-DCB3-457C-8B77-28369E55468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21BD998-C558-4593-AACC-CCB50AC84F5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FF84B00-D255-4A8D-969A-9F4B19043A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4BD6EDC-11B0-4AE6-B737-308B7A3D9C6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C2C5188-B633-48F6-9444-A304FF059DA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69C9FC-854A-4515-B0CF-811F11D416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3D048D-F257-42AE-BD92-0491DCA827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68D9735-FF9B-4ABE-9FA9-F20846D7CAA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9C0E360-9517-49CB-8B5F-55164045A87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CCA415C-AEF6-4F15-B20B-57CD011A397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AB92A64-9711-446D-95D0-CC09BF1B31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C2FBDDB-B060-45A9-B47B-7DB2ED1B20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ECA567-54C3-4456-ACFA-5ACF2EC7E00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FC54-A132-4DB7-9FF0-A813D902801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84D6-6E40-48E3-842B-22DF49C2A0E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2C92-3D8D-4681-872C-52FAA436F9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F703-5793-4C98-9BAC-37C2455B85A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814E-382C-4490-82B0-BAE705912C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2611-496D-4E0D-91EF-56C4A623AA8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2000-EA0A-4E65-9722-83DEE686EB6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A1EE-B8E8-4BE7-9FAA-5EAC03E8B4E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06E5-B333-43D4-AE96-38D6C6E7925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2161-5B23-4D69-BC1C-7DBD408E5CA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news.un.org/en/story/2020/04/1061592"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Fake-news durante l’epidemia di </a:t>
            </a:r>
            <a:br>
              <a:rPr sz="2800"/>
            </a:br>
            <a:r>
              <a:rPr b="0" lang="it-IT" sz="2800" spc="-1" strike="noStrike">
                <a:solidFill>
                  <a:srgbClr val="000000"/>
                </a:solidFill>
                <a:latin typeface="Arial Rounded MT Bold"/>
              </a:rPr>
              <a:t>COVID-19</a:t>
            </a:r>
            <a:endParaRPr b="0" lang="en-US" sz="2800" spc="-1" strike="noStrike">
              <a:solidFill>
                <a:srgbClr val="000000"/>
              </a:solidFill>
              <a:latin typeface="Arial"/>
            </a:endParaRPr>
          </a:p>
        </p:txBody>
      </p:sp>
      <p:sp>
        <p:nvSpPr>
          <p:cNvPr id="537" name="Rectángulo 1"/>
          <p:cNvSpPr/>
          <p:nvPr/>
        </p:nvSpPr>
        <p:spPr>
          <a:xfrm>
            <a:off x="1962000" y="3284640"/>
            <a:ext cx="507708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sinformazione online sul COVID-19: verifica dei fa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CasellaDiTesto 2"/>
          <p:cNvSpPr/>
          <p:nvPr/>
        </p:nvSpPr>
        <p:spPr>
          <a:xfrm>
            <a:off x="0" y="141768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a situazione è diventata così grave che Google, Facebook, LinkedIn, Microsoft, Reddit, Twitter e YouTube hanno deciso di impegnarsi in un'azione comune contro la diffusione della disinformazione COVID-1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Dall'altro fronte, queste piattaforme garantiranno ai propri utenti solo le informazioni più affidabili e scientificamente accurate, guidandoli verso dati aggiornati e in tempo reale.</a:t>
            </a:r>
            <a:endParaRPr b="0" lang="en-US" sz="2400" spc="-1" strike="noStrike">
              <a:solidFill>
                <a:srgbClr val="000000"/>
              </a:solidFill>
              <a:latin typeface="Arial"/>
            </a:endParaRPr>
          </a:p>
        </p:txBody>
      </p:sp>
      <p:sp>
        <p:nvSpPr>
          <p:cNvPr id="60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Immagine 1" descr=""/>
          <p:cNvPicPr/>
          <p:nvPr/>
        </p:nvPicPr>
        <p:blipFill>
          <a:blip r:embed="rId1"/>
          <a:stretch/>
        </p:blipFill>
        <p:spPr>
          <a:xfrm>
            <a:off x="20520" y="30240"/>
            <a:ext cx="5851800" cy="6673680"/>
          </a:xfrm>
          <a:prstGeom prst="rect">
            <a:avLst/>
          </a:prstGeom>
          <a:ln w="0">
            <a:noFill/>
          </a:ln>
        </p:spPr>
      </p:pic>
      <p:sp>
        <p:nvSpPr>
          <p:cNvPr id="609" name=""/>
          <p:cNvSpPr txBox="1"/>
          <p:nvPr/>
        </p:nvSpPr>
        <p:spPr>
          <a:xfrm>
            <a:off x="5694120" y="1569960"/>
            <a:ext cx="3493800" cy="4213440"/>
          </a:xfrm>
          <a:prstGeom prst="rect">
            <a:avLst/>
          </a:prstGeom>
          <a:noFill/>
          <a:ln w="0">
            <a:noFill/>
          </a:ln>
        </p:spPr>
        <p:txBody>
          <a:bodyPr anchor="t">
            <a:normAutofit/>
          </a:bodyPr>
          <a:p>
            <a:pPr marL="81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tiamo lavorando e collaborando sulla situazione riguardante il COVID-19. Stiamo aiutando milioni di persone a rimanere in contatto e allo stesso tempo compensare insieme frodi e disinformazione sul virus, elevare i contenuti autorevoli sulle nostre piattaforme e condividere aggiornamenti critici in coordinamento con le agenzie sanitarie governative di tutto il mondo. Invitiamo le altre aziende a unirsi a noi mentre lavoriamo per mantenere le comunità sane e sicure</a:t>
            </a:r>
            <a:r>
              <a:rPr b="0" lang="es-ES" sz="1600" spc="-1" strike="noStrike">
                <a:solidFill>
                  <a:srgbClr val="000000"/>
                </a:solidFill>
                <a:latin typeface="Calibri"/>
                <a:ea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CasellaDiTesto 2"/>
          <p:cNvSpPr/>
          <p:nvPr/>
        </p:nvSpPr>
        <p:spPr>
          <a:xfrm>
            <a:off x="0" y="1417680"/>
            <a:ext cx="9144000" cy="472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it-IT" sz="2400" spc="-1" strike="noStrike">
                <a:solidFill>
                  <a:srgbClr val="000000"/>
                </a:solidFill>
                <a:latin typeface="Arial Rounded MT Bold"/>
              </a:rPr>
              <a:t>L'UNESCO ha preso molto sul serio l'effetto "pandemia socia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t>
            </a:r>
            <a:r>
              <a:rPr b="0" lang="it-IT" sz="2400" spc="-1" strike="noStrike">
                <a:solidFill>
                  <a:srgbClr val="000000"/>
                </a:solidFill>
                <a:latin typeface="Arial Rounded MT Bold"/>
              </a:rPr>
              <a:t>L'UNESCO sta lavorando per aiutare le persone a diventare più critiche nei confronti di ciò che viene presentato loro online e altrove, in modo che abbiano meno probabilità di credere e diffondere falsità. L'agenzia utilizza gli hashtag #ThinkBeforeSharing, #ThinkBeforeClicking e #ShareKnowledge, e promuove l'opinione che i diritti alla libertà di espressione e l'accesso alle informazioni siano i migliori rimedi ai pericoli della disinformazio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onte: </a:t>
            </a:r>
            <a:r>
              <a:rPr b="0" lang="en-GB" sz="1400" spc="-1" strike="noStrike" u="sng">
                <a:solidFill>
                  <a:srgbClr val="009999"/>
                </a:solidFill>
                <a:uFillTx/>
                <a:latin typeface="Arial Rounded MT Bold"/>
                <a:hlinkClick r:id="rId1"/>
              </a:rPr>
              <a:t>During this coronavirus pandemic, ‘fake news’ is putting lives at risk</a:t>
            </a:r>
            <a:r>
              <a:rPr b="0" lang="en-GB" sz="1400" spc="-1" strike="noStrike">
                <a:solidFill>
                  <a:srgbClr val="000000"/>
                </a:solidFill>
                <a:latin typeface="Arial Rounded MT Bold"/>
              </a:rPr>
              <a:t>, UNESCO</a:t>
            </a:r>
            <a:endParaRPr b="0" lang="en-US" sz="1400" spc="-1" strike="noStrike">
              <a:solidFill>
                <a:srgbClr val="000000"/>
              </a:solidFill>
              <a:latin typeface="Arial"/>
            </a:endParaRPr>
          </a:p>
        </p:txBody>
      </p:sp>
      <p:sp>
        <p:nvSpPr>
          <p:cNvPr id="61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CasellaDiTesto 2"/>
          <p:cNvSpPr/>
          <p:nvPr/>
        </p:nvSpPr>
        <p:spPr>
          <a:xfrm>
            <a:off x="0" y="141768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otresti notare che il motore di Google ti indirizzerà sempre al sito web ufficiale dell'OMS per qualsiasi ricerca correlata a COVID-19.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iò è accaduto solo di recente, quando Google e il dirigente dell'OMS hanno creato un tavolo di discussione riguardo soluzioni efficaci per contenere la "pandemia sociale" e garantire agli utenti Web l'ambiente digitale più sicuro.</a:t>
            </a:r>
            <a:endParaRPr b="0" lang="en-US" sz="2400" spc="-1" strike="noStrike">
              <a:solidFill>
                <a:srgbClr val="000000"/>
              </a:solidFill>
              <a:latin typeface="Arial"/>
            </a:endParaRPr>
          </a:p>
        </p:txBody>
      </p:sp>
      <p:sp>
        <p:nvSpPr>
          <p:cNvPr id="62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CasellaDiTesto 2"/>
          <p:cNvSpPr/>
          <p:nvPr/>
        </p:nvSpPr>
        <p:spPr>
          <a:xfrm>
            <a:off x="0" y="1417680"/>
            <a:ext cx="9144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a sezione Mythbusters  del sito web dell'OMS elenca 28 disinformazioni COVID-19 comun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Ognuna di esse è scientificamente verificata: se hai qualche preoccupazione su ciò che hai visto su Internet, ti preghiamo di visitare il sito web e condividerne il contenuto con i tuoi conoscenti.</a:t>
            </a:r>
            <a:endParaRPr b="0" lang="en-US" sz="2400" spc="-1" strike="noStrike">
              <a:solidFill>
                <a:srgbClr val="000000"/>
              </a:solidFill>
              <a:latin typeface="Arial"/>
            </a:endParaRPr>
          </a:p>
        </p:txBody>
      </p:sp>
      <p:sp>
        <p:nvSpPr>
          <p:cNvPr id="627"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CasellaDiTesto 2"/>
          <p:cNvSpPr/>
          <p:nvPr/>
        </p:nvSpPr>
        <p:spPr>
          <a:xfrm>
            <a:off x="0" y="1417680"/>
            <a:ext cx="9144000" cy="31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Durante l'epidemia mondiale di COVID-19, le fake-news relative ai virus si sono diffuse alla stessa velocità della pandemia stessa.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Gli scherzi e le fake news a tema COVID-19 sono incredibilmente pericolosi perché, come alcuni hanno riferito, "[…] sembra provengano da medici professionisti, ma si rivelano poi errati e, in alcuni casi, pericolosi".</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CasellaDiTesto 2"/>
          <p:cNvSpPr/>
          <p:nvPr/>
        </p:nvSpPr>
        <p:spPr>
          <a:xfrm>
            <a:off x="0" y="1417680"/>
            <a:ext cx="9144000" cy="27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Lo stesso Johns Hopkins Center for Health Security (una delle fonti più affidabili di dati relativi all'epidemia globale di COVID-19, nonché uno dei principali centri scientifici nella lotta contro il COVID-19) è stato costretto a fare un annuncio pubblico avvertendo che i rapporti e le raccomandazioni pubblicate a proprio conto erano errate e non prodotte dal proprio staff.</a:t>
            </a:r>
            <a:endParaRPr b="0" lang="en-US" sz="2500" spc="-1" strike="noStrike">
              <a:solidFill>
                <a:srgbClr val="000000"/>
              </a:solidFill>
              <a:latin typeface="Arial"/>
            </a:endParaRPr>
          </a:p>
        </p:txBody>
      </p:sp>
      <p:sp>
        <p:nvSpPr>
          <p:cNvPr id="54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CasellaDiTesto 2"/>
          <p:cNvSpPr/>
          <p:nvPr/>
        </p:nvSpPr>
        <p:spPr>
          <a:xfrm>
            <a:off x="0" y="14176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n Italia, primissimo epicentro dell'UE dell'epidemia, dal periodo che va da gennaio ad aprile 2020, di tutti i post relativi a COVID-19 condivisi sui Social Media, una media del 5,5% risultava totalmente / parzialmente scientificamente imprecis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nche se le persone sono perfettamente consapevoli del fenomeno delle fake news, in un altro sondaggio il pubblico italiano è risultato molto scettico riguardo alla fonte di notizie più affidabile sul COVID-19, con quasi 8 persone su 10 che credono che Facebook sia il principale responsabile dell'aumento della disinformazione: potrebbero non essere adeguatamente formati per individuarne uno.</a:t>
            </a:r>
            <a:endParaRPr b="0" lang="en-US" sz="2400" spc="-1" strike="noStrike">
              <a:solidFill>
                <a:srgbClr val="000000"/>
              </a:solidFill>
              <a:latin typeface="Arial"/>
            </a:endParaRPr>
          </a:p>
        </p:txBody>
      </p:sp>
      <p:sp>
        <p:nvSpPr>
          <p:cNvPr id="55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CasellaDiTesto 2"/>
          <p:cNvSpPr/>
          <p:nvPr/>
        </p:nvSpPr>
        <p:spPr>
          <a:xfrm>
            <a:off x="0" y="1417680"/>
            <a:ext cx="9144000" cy="449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Anche Twitter ha la sua grande parte di colpa.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Secondo Bot Sentinel, il più grande set di dati al mondo sulle attività online dei BOT, solo il 26 marzo, nell'arco di 24 ore, i BOT sono stati responsabili di 1.627 tweet fuorvianti relativi ai viru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Ad esempio, dai un'occhiata al seguente thread:</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onte: ScienceAlert.com </a:t>
            </a:r>
            <a:endParaRPr b="0" lang="en-US" sz="1400" spc="-1" strike="noStrike">
              <a:solidFill>
                <a:srgbClr val="000000"/>
              </a:solidFill>
              <a:latin typeface="Arial"/>
            </a:endParaRPr>
          </a:p>
        </p:txBody>
      </p:sp>
      <p:sp>
        <p:nvSpPr>
          <p:cNvPr id="56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Immagine 1" descr=""/>
          <p:cNvPicPr/>
          <p:nvPr/>
        </p:nvPicPr>
        <p:blipFill>
          <a:blip r:embed="rId1"/>
          <a:stretch/>
        </p:blipFill>
        <p:spPr>
          <a:xfrm>
            <a:off x="460440" y="1233360"/>
            <a:ext cx="5375160" cy="3260880"/>
          </a:xfrm>
          <a:prstGeom prst="rect">
            <a:avLst/>
          </a:prstGeom>
          <a:ln w="0">
            <a:noFill/>
          </a:ln>
        </p:spPr>
      </p:pic>
      <p:sp>
        <p:nvSpPr>
          <p:cNvPr id="567" name="CasellaDiTesto 3"/>
          <p:cNvSpPr/>
          <p:nvPr/>
        </p:nvSpPr>
        <p:spPr>
          <a:xfrm>
            <a:off x="0" y="44607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a dichiarazione che vedi sopra è stata pubblicata dalle autorità sanitarie pubbliche ufficiali. Subito dopo, ecco cosa succede:</a:t>
            </a:r>
            <a:endParaRPr b="0" lang="en-US" sz="2400" spc="-1" strike="noStrike">
              <a:solidFill>
                <a:srgbClr val="000000"/>
              </a:solidFill>
              <a:latin typeface="Arial"/>
            </a:endParaRPr>
          </a:p>
        </p:txBody>
      </p:sp>
      <p:sp>
        <p:nvSpPr>
          <p:cNvPr id="56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
        <p:nvSpPr>
          <p:cNvPr id="569" name="Marcador de contenido 6"/>
          <p:cNvSpPr/>
          <p:nvPr/>
        </p:nvSpPr>
        <p:spPr>
          <a:xfrm>
            <a:off x="5992920" y="2281320"/>
            <a:ext cx="2733480" cy="1838160"/>
          </a:xfrm>
          <a:prstGeom prst="rect">
            <a:avLst/>
          </a:prstGeom>
          <a:noFill/>
          <a:ln w="0">
            <a:noFill/>
          </a:ln>
        </p:spPr>
        <p:style>
          <a:lnRef idx="0"/>
          <a:fillRef idx="0"/>
          <a:effectRef idx="0"/>
          <a:fontRef idx="minor"/>
        </p:style>
        <p:txBody>
          <a:bodyPr lIns="90000" rIns="90000" tIns="46800" bIns="46800" anchor="t">
            <a:normAutofit/>
          </a:bodyPr>
          <a:p>
            <a:pPr marL="8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Se non sei stato all'estero o in contatto con un caso confermato, non sarai sottoposto a test per il nuovo Coronavirus perché è più probabile che tu abbia un altro virus come il raffreddore o l'influenza.</a:t>
            </a:r>
            <a:endParaRPr b="0" lang="en-US" sz="1700" spc="-1" strike="noStrike">
              <a:solidFill>
                <a:srgbClr val="000000"/>
              </a:solidFill>
              <a:latin typeface="Arial"/>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4" name="Immagine 2" descr=""/>
          <p:cNvPicPr/>
          <p:nvPr/>
        </p:nvPicPr>
        <p:blipFill>
          <a:blip r:embed="rId1"/>
          <a:stretch/>
        </p:blipFill>
        <p:spPr>
          <a:xfrm>
            <a:off x="307800" y="1395360"/>
            <a:ext cx="4819680" cy="4400640"/>
          </a:xfrm>
          <a:prstGeom prst="rect">
            <a:avLst/>
          </a:prstGeom>
          <a:ln w="0">
            <a:noFill/>
          </a:ln>
        </p:spPr>
      </p:pic>
      <p:sp>
        <p:nvSpPr>
          <p:cNvPr id="57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
        <p:nvSpPr>
          <p:cNvPr id="576" name="Marcador de contenido 6"/>
          <p:cNvSpPr/>
          <p:nvPr/>
        </p:nvSpPr>
        <p:spPr>
          <a:xfrm>
            <a:off x="6012000" y="1441440"/>
            <a:ext cx="2733480" cy="1838160"/>
          </a:xfrm>
          <a:prstGeom prst="rect">
            <a:avLst/>
          </a:prstGeom>
          <a:noFill/>
          <a:ln w="0">
            <a:noFill/>
          </a:ln>
        </p:spPr>
        <p:style>
          <a:lnRef idx="0"/>
          <a:fillRef idx="0"/>
          <a:effectRef idx="0"/>
          <a:fontRef idx="minor"/>
        </p:style>
        <p:txBody>
          <a:bodyPr lIns="90000" rIns="90000" tIns="46800" bIns="46800" anchor="t">
            <a:normAutofit fontScale="57000"/>
          </a:bodyPr>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Sharon</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Quindi come sappiamo che siamo stati in stretto contatto con un caso confermato se non siamo informati su chi sono e dove sono stati?</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Sara</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Mia madre è sospetta di avere il Covid... hanno detto che non c'era bisogno del test visto che lei è in condizioni di salute di base. Che scherzo! Adesso si sta diffondendo nella comunità! Non è stata su nessun volo o in contatto con nessuno proveniente da un paese fortemente contagiat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CasellaDiTesto 2"/>
          <p:cNvSpPr/>
          <p:nvPr/>
        </p:nvSpPr>
        <p:spPr>
          <a:xfrm>
            <a:off x="0" y="1417680"/>
            <a:ext cx="9144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 commenti di Sara e Sharon sono piuttosto preoccupanti per un semplice motivo: minano la legittimità e l'affidabilità di esperti che hanno dedicato la loro vita alla salvaguardia della salute e del benessere dei cittadin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iò che è ancora più inquietante è che nessuno di Sara, Sharon e la mamma di Sara esiste davvero: ciò che hai appena visto rappresenta perfettamente una tipica interferenza BOT, volta a generare nell'ignaro lettore un senso di smarrimento e confusione.</a:t>
            </a:r>
            <a:endParaRPr b="0" lang="en-US" sz="2400" spc="-1" strike="noStrike">
              <a:solidFill>
                <a:srgbClr val="000000"/>
              </a:solidFill>
              <a:latin typeface="Arial"/>
            </a:endParaRPr>
          </a:p>
        </p:txBody>
      </p:sp>
      <p:sp>
        <p:nvSpPr>
          <p:cNvPr id="58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ome possiamo essere così sicuri che Sara e Sharon siano solo finzioni digital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Dopo un po' di allenamento, i BOT sono molto facili da individuare:</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essun follower</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essuna foto del profilo (o foto del profilo rubata)</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Recenti sulla piattaforma</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esenza sociale a tema: cospirazione e allarmismo</a:t>
            </a:r>
            <a:endParaRPr b="0" lang="en-US" sz="2400" spc="-1" strike="noStrike">
              <a:solidFill>
                <a:srgbClr val="000000"/>
              </a:solidFill>
              <a:latin typeface="Arial"/>
            </a:endParaRPr>
          </a:p>
        </p:txBody>
      </p:sp>
      <p:sp>
        <p:nvSpPr>
          <p:cNvPr id="58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Lorenzo2</cp:lastModifiedBy>
  <dcterms:modified xsi:type="dcterms:W3CDTF">2020-10-21T15:43:39Z</dcterms:modified>
  <cp:revision>541</cp:revision>
  <dc:subject/>
  <dc:title>Title</dc:title>
</cp:coreProperties>
</file>