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7F74051-5D85-4440-91F7-64ACCC578C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851C1DB-83C4-4C1E-BEEB-E5A15F71B2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05AAA9-0828-4C6A-95BB-081A886CC30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58E72B-C974-444C-82D5-617826D967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7A4595-EF83-41A2-A8CB-D1C23A83E06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BB9692B-2B75-4478-AFBD-20C41B20E4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D1AC76D-96FD-45F4-9885-8184EAAFA9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93FD67F-7ECF-4533-99D2-249A72EA377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1010E4A-81ED-4C14-BBE1-3156942E9AF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CCADC1C-C761-47AC-BDB2-10F120C88BC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07ED9E-2C30-4167-AA50-CC10ADEA494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47A31A-3980-4683-945E-0307763EFF3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19F9A96-2ECB-4752-9347-31A5993072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A2E1E1-0EFA-478D-9583-DE3B8632045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F3832E8-F430-4610-BE8C-F18BF555100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3D37E1-3C36-4296-A0B6-6B86CEC84D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29B092B-A081-4A7B-8314-9212DBEB73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902ACF6-143D-422A-8C82-10660D0B2D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E22FA0D-929C-4597-AD80-17E80EFA2AA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C023BE0-27A1-4E5D-9525-DF1E2714531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7A098F8-05F9-44D2-AD53-E829D5AED31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5C23FF9-DD03-4595-BB4F-06D9BFE57F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267F1F-0DBE-416B-B9D2-FD35CCD5A7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B20318E-3A91-4037-AA19-6B07190C319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733E616-0C8E-40B3-B6E2-23B731DE68B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44AC86B-AF90-4A29-86AB-D5C27EF2998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831BE8E-2B50-41D1-9D7D-B7D95137B6F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0533D6-D82C-43AA-8D00-0F665600ED2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588184C-8511-455F-9BB5-B76B19AA945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503E79A-C574-4854-A816-9EAC096DC68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DF465A-CB87-47B0-B59E-CF972E2904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64CFF72-CF6A-430B-AC3B-2B06828815F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2F8D73E-1007-4A8E-AA7A-8228865621A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6919602-4BD0-46D3-8B10-75367781943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40593BE-E141-4CCE-B108-43D3511833E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B0DC82F-9CD3-4E44-BD92-D20BD34F64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71D4C9B-DFB8-40DB-BE9E-2260CD9C594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C558460-46A6-4173-B8D1-79F07E211AA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BB8EF5C-FA7C-4162-81FA-328E3612629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EE2979D-B539-429B-80EB-A159120E863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D83686B-F194-4548-B86A-8F0D6290532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80868FB-0D0F-4BC5-9164-E8957DF60B5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67C1BC8-5BF4-447D-B7C9-6EDF735317A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F60F46A-A64F-4F80-803C-F8576B522C0F}"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DE4338A-C8BD-4916-B49C-88750000E4F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323856-6859-4F26-AE72-E5A6EC3437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ACC11A-6EEF-44D1-A2CE-55FAE79FCE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FD47F8-3DC1-4EB7-B123-531D3CA8C6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786863-8CEE-4AF6-8BAC-99B06BA61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D7260-67D4-45EB-8161-AB8F964F5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DEC883-CE0F-4469-913C-F0EEF6304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9B1657-883A-4CB4-8D97-14FA3A28A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3389D9-558D-418F-8E48-134976F3B0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39CD2-C397-49D9-BAF6-E02A5B95C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85CE21-9632-4D81-95D5-DCA179354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AB55FD-9E1B-4206-AF8A-2C8A4F6336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4F7C9B-1ED6-495C-B02E-400A5C7583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7A42BD6-4139-4BC3-AE10-861B44410D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966C310-C4EE-47A2-82E2-809B616D59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A3F6A5-7610-4F63-A01E-D3E175F0335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5174C1-D4E2-4094-A0C5-2B511389423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00FD7C-A755-462E-8210-DA6AEDA9CF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ADDBFE-88E2-4317-AC94-286EE6D559E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99CCD40-134A-41D6-8E80-8526BB20B6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94DD39C-D011-4830-9132-8D5124EC3F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EE9168-E182-461A-972A-E385B69C4EB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78C7E94-822B-4A7F-9C5D-F930618C1B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B0CA4EF-9706-41F4-9359-A45BBF76CC8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CCE56A9-A371-498D-A3D5-E5BC3CA8474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0C107F8-F96E-41B5-946C-83E356E6D9F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70F7318-C974-458C-9C29-0C131A577B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6906BC-1046-4195-AD95-827573DDAD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6253E95-0B5B-481B-BDCA-526AD8170A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3BCA7D9-3760-40E6-9D18-8FD96CA7CB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8A5303-722A-4F62-AF00-984CC44A62C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2CEA71-A41D-4348-A1EB-B6EAF5BA7A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98FB21-25D6-49B2-9302-146528E17D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CF085EE-099F-4627-8E58-58DED0DD311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027300-57D3-444A-BB76-1219DF8E822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C4B3902-8EAC-45B6-B829-46855B8F16A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C2B4E83-64C6-4E23-8D43-1491703C58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2E1D6E7-41FE-4BCA-AA25-89C66FA61F0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5CC8838-6C5F-4453-8F2E-61A37C8AF72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06BCDBD-70F9-4477-A36E-39FA26D6637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19C61C5-5E53-478C-B67D-422BD9F9005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440A460-88F0-47D2-9210-443B20A30C0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BCC042A-7608-4568-9B1F-BA6CCE86D2F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C9436A-03E6-4FB8-8B51-B60F0DAB38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5611B61-7EFC-4FE6-9498-A45ED1B0C99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E4DF6B-34AB-4B5A-B814-CA4825B2DF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9CF743-4B8F-4141-A4CA-3865E37375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70A5EFD-9D5C-461F-802B-B7215F8F7EA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1FB1720-8AD2-489F-AFF9-948EA80B297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FF4261D7-6645-4A1A-BA2D-9D46B28F769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BFAFEF4-84E8-4ABB-9A7C-57756476733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2704470-776F-43E3-B56B-14BF18F7C59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FAA7F2C-D4DA-4B1D-8775-7E11EADD6B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F16F776-E1EF-4C63-9118-B8D2E7C8B46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D561D19-D345-4999-A087-A159CFBDD04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534130E-EDB1-418D-B008-164AD80621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3F114C1-43E2-4E35-A292-F2A399D3971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6FB3185-CF10-4C54-8D28-BD3293F838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3691CD-E348-415E-A9FD-8D56D3F069E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90F9E8E-7224-4619-B5AF-431FEAEC0C3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E6CE440-F4B8-4BBA-A78F-6F39B165C63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2D931A-AB85-4526-A4B6-5F64CEFA2F0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75C894F-6804-409C-BC54-AC89C41ED72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E7535C5-01D8-40EB-BCBA-1DC4591150B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2AF311E-4599-4992-8361-AD114D0625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82E3996-F66A-4410-B46B-8390EF3B413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0400CEC-19FA-429A-A013-C1AD36157A2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F24C10-5ED0-41F2-A85A-87F640CBF9D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2D8E8E8-0313-4A85-BFE4-6228C3E978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82DC12-E705-41D8-A1E0-95FB566CAE0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3478E5F-C9DF-4077-B2AE-6B11F58D8D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B68EA35-0F4E-40B5-8A4B-47794F334AE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FD823A1-7035-4B16-B710-DD493050C9C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2DF5F90-C29A-4E29-AA3D-DA6E0EB397F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F17B185-68EE-4DA1-BF91-FE46380658F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18520C-8298-4A23-B07C-FA69B893A2D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14E3-2CAA-4A68-9092-56930AE5BA8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FD0A-49B8-47E0-B081-4D1E453DCE1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07CEA-28EE-43DE-98BE-487F594834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1394B-5115-4852-9928-B5BD088DE04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7E2F-71D2-41BE-9C28-08E15C309F4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CEF4-12CE-4B3C-9FBB-896C38B29D2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DA60-A76F-455A-BDC4-D8EEB3CA07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5BCF9-72BE-4CA4-98FD-BB1CB72ED83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88F1B-7072-4217-90C6-AB4D5BD2FE5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17FD9-3379-4F76-B3DE-E1153899078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news.un.org/en/story/2020/04/1061592" TargetMode="External"/><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Fake-news durante l’epidemia di </a:t>
            </a:r>
            <a:br>
              <a:rPr sz="2800"/>
            </a:br>
            <a:r>
              <a:rPr b="0" lang="it-IT" sz="2800" spc="-1" strike="noStrike">
                <a:solidFill>
                  <a:srgbClr val="000000"/>
                </a:solidFill>
                <a:latin typeface="Arial Rounded MT Bold"/>
              </a:rPr>
              <a:t>COVID-19</a:t>
            </a:r>
            <a:endParaRPr b="0" lang="en-US" sz="2800" spc="-1" strike="noStrike">
              <a:solidFill>
                <a:srgbClr val="000000"/>
              </a:solidFill>
              <a:latin typeface="Arial"/>
            </a:endParaRPr>
          </a:p>
        </p:txBody>
      </p:sp>
      <p:sp>
        <p:nvSpPr>
          <p:cNvPr id="537" name="Rectángulo 1"/>
          <p:cNvSpPr/>
          <p:nvPr/>
        </p:nvSpPr>
        <p:spPr>
          <a:xfrm>
            <a:off x="1962000" y="3284640"/>
            <a:ext cx="5077080" cy="947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Disinformazione online sul COVID-19: verifica dei fat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4"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CasellaDiTesto 2"/>
          <p:cNvSpPr/>
          <p:nvPr/>
        </p:nvSpPr>
        <p:spPr>
          <a:xfrm>
            <a:off x="0" y="141768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a situazione è diventata così grave che Google, Facebook, LinkedIn, Microsoft, Reddit, Twitter e YouTube hanno deciso di impegnarsi in un'azione comune contro la diffusione della disinformazione COVID-1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Dall'altro fronte, queste piattaforme garantiranno ai propri utenti solo le informazioni più affidabili e scientificamente accurate, guidandoli verso dati aggiornati e in tempo reale.</a:t>
            </a:r>
            <a:endParaRPr b="0" lang="en-US" sz="2400" spc="-1" strike="noStrike">
              <a:solidFill>
                <a:srgbClr val="000000"/>
              </a:solidFill>
              <a:latin typeface="Arial"/>
            </a:endParaRPr>
          </a:p>
        </p:txBody>
      </p:sp>
      <p:sp>
        <p:nvSpPr>
          <p:cNvPr id="60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7"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8" name="Immagine 1" descr=""/>
          <p:cNvPicPr/>
          <p:nvPr/>
        </p:nvPicPr>
        <p:blipFill>
          <a:blip r:embed="rId1"/>
          <a:stretch/>
        </p:blipFill>
        <p:spPr>
          <a:xfrm>
            <a:off x="20520" y="30240"/>
            <a:ext cx="5851800" cy="6673680"/>
          </a:xfrm>
          <a:prstGeom prst="rect">
            <a:avLst/>
          </a:prstGeom>
          <a:ln w="0">
            <a:noFill/>
          </a:ln>
        </p:spPr>
      </p:pic>
      <p:sp>
        <p:nvSpPr>
          <p:cNvPr id="609" name=""/>
          <p:cNvSpPr txBox="1"/>
          <p:nvPr/>
        </p:nvSpPr>
        <p:spPr>
          <a:xfrm>
            <a:off x="5694120" y="1569960"/>
            <a:ext cx="3493800" cy="4213440"/>
          </a:xfrm>
          <a:prstGeom prst="rect">
            <a:avLst/>
          </a:prstGeom>
          <a:noFill/>
          <a:ln w="0">
            <a:noFill/>
          </a:ln>
        </p:spPr>
        <p:txBody>
          <a:bodyPr anchor="t">
            <a:normAutofit/>
          </a:bodyPr>
          <a:p>
            <a:pPr marL="810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tiamo lavorando e collaborando sulla situazione riguardante il COVID-19. Stiamo aiutando milioni di persone a rimanere in contatto e allo stesso tempo compensare insieme frodi e disinformazione sul virus, elevare i contenuti autorevoli sulle nostre piattaforme e condividere aggiornamenti critici in coordinamento con le agenzie sanitarie governative di tutto il mondo. Invitiamo le altre aziende a unirsi a noi mentre lavoriamo per mantenere le comunità sane e sicure</a:t>
            </a:r>
            <a:r>
              <a:rPr b="0" lang="es-ES" sz="1600" spc="-1" strike="noStrike">
                <a:solidFill>
                  <a:srgbClr val="000000"/>
                </a:solidFill>
                <a:latin typeface="Calibri"/>
                <a:ea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CasellaDiTesto 2"/>
          <p:cNvSpPr/>
          <p:nvPr/>
        </p:nvSpPr>
        <p:spPr>
          <a:xfrm>
            <a:off x="0" y="1417680"/>
            <a:ext cx="914400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 </a:t>
            </a:r>
            <a:r>
              <a:rPr b="0" lang="it-IT" sz="2400" spc="-1" strike="noStrike">
                <a:solidFill>
                  <a:srgbClr val="000000"/>
                </a:solidFill>
                <a:latin typeface="Arial Rounded MT Bold"/>
              </a:rPr>
              <a:t>L'UNESCO ha preso molto sul serio l'effetto "pandemia socia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t>
            </a:r>
            <a:r>
              <a:rPr b="0" lang="it-IT" sz="2400" spc="-1" strike="noStrike">
                <a:solidFill>
                  <a:srgbClr val="000000"/>
                </a:solidFill>
                <a:latin typeface="Arial Rounded MT Bold"/>
              </a:rPr>
              <a:t>L'UNESCO sta lavorando per aiutare le persone a diventare più critiche nei confronti di ciò che viene presentato loro online e altrove, in modo che abbiano meno probabilità di credere e diffondere falsità. L'agenzia utilizza gli hashtag #ThinkBeforeSharing, #ThinkBeforeClicking e #ShareKnowledge, e promuove l'opinione che i diritti alla libertà di espressione e l'accesso alle informazioni siano i migliori rimedi ai pericoli della disinformazio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onte: </a:t>
            </a:r>
            <a:r>
              <a:rPr b="0" lang="en-GB" sz="1400" spc="-1" strike="noStrike" u="sng">
                <a:solidFill>
                  <a:srgbClr val="009999"/>
                </a:solidFill>
                <a:uFillTx/>
                <a:latin typeface="Arial Rounded MT Bold"/>
                <a:hlinkClick r:id="rId1"/>
              </a:rPr>
              <a:t>During this coronavirus pandemic, ‘fake news’ is putting lives at risk</a:t>
            </a:r>
            <a:r>
              <a:rPr b="0" lang="en-GB" sz="1400" spc="-1" strike="noStrike">
                <a:solidFill>
                  <a:srgbClr val="000000"/>
                </a:solidFill>
                <a:latin typeface="Arial Rounded MT Bold"/>
              </a:rPr>
              <a:t>, UNESCO</a:t>
            </a:r>
            <a:endParaRPr b="0" lang="en-US" sz="1400" spc="-1" strike="noStrike">
              <a:solidFill>
                <a:srgbClr val="000000"/>
              </a:solidFill>
              <a:latin typeface="Arial"/>
            </a:endParaRPr>
          </a:p>
        </p:txBody>
      </p:sp>
      <p:sp>
        <p:nvSpPr>
          <p:cNvPr id="61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CasellaDiTesto 2"/>
          <p:cNvSpPr/>
          <p:nvPr/>
        </p:nvSpPr>
        <p:spPr>
          <a:xfrm>
            <a:off x="0" y="141768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otresti notare che il motore di Google ti indirizzerà sempre al sito web ufficiale dell'OMS per qualsiasi ricerca correlata a COVID-19.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iò è accaduto solo di recente, quando Google e il dirigente dell'OMS hanno creato un tavolo di discussione riguardo soluzioni efficaci per contenere la "pandemia sociale" e garantire agli utenti Web l'ambiente digitale più sicuro.</a:t>
            </a:r>
            <a:endParaRPr b="0" lang="en-US" sz="2400" spc="-1" strike="noStrike">
              <a:solidFill>
                <a:srgbClr val="000000"/>
              </a:solidFill>
              <a:latin typeface="Arial"/>
            </a:endParaRPr>
          </a:p>
        </p:txBody>
      </p:sp>
      <p:sp>
        <p:nvSpPr>
          <p:cNvPr id="62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CasellaDiTesto 2"/>
          <p:cNvSpPr/>
          <p:nvPr/>
        </p:nvSpPr>
        <p:spPr>
          <a:xfrm>
            <a:off x="0" y="1417680"/>
            <a:ext cx="9144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a sezione Mythbusters  del sito web dell'OMS elenca 28 disinformazioni COVID-19 comun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Ognuna di esse è scientificamente verificata: se hai qualche preoccupazione su ciò che hai visto su Internet, ti preghiamo di visitare il sito web e condividerne il contenuto con i tuoi conoscenti.</a:t>
            </a:r>
            <a:endParaRPr b="0" lang="en-US" sz="2400" spc="-1" strike="noStrike">
              <a:solidFill>
                <a:srgbClr val="000000"/>
              </a:solidFill>
              <a:latin typeface="Arial"/>
            </a:endParaRPr>
          </a:p>
        </p:txBody>
      </p:sp>
      <p:sp>
        <p:nvSpPr>
          <p:cNvPr id="627"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CasellaDiTesto 2"/>
          <p:cNvSpPr/>
          <p:nvPr/>
        </p:nvSpPr>
        <p:spPr>
          <a:xfrm>
            <a:off x="0" y="1417680"/>
            <a:ext cx="9144000" cy="31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Durante l'epidemia mondiale di COVID-19, le fake-news relative ai virus si sono diffuse alla stessa velocità della pandemia stessa.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Gli scherzi e le fake news a tema COVID-19 sono incredibilmente pericolosi perché, come alcuni hanno riferito, "[…] sembra provengano da medici professionisti, ma si rivelano poi errati e, in alcuni casi, pericolosi".</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CasellaDiTesto 2"/>
          <p:cNvSpPr/>
          <p:nvPr/>
        </p:nvSpPr>
        <p:spPr>
          <a:xfrm>
            <a:off x="0" y="1417680"/>
            <a:ext cx="9144000" cy="27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Lo stesso Johns Hopkins Center for Health Security (una delle fonti più affidabili di dati relativi all'epidemia globale di COVID-19, nonché uno dei principali centri scientifici nella lotta contro il COVID-19) è stato costretto a fare un annuncio pubblico avvertendo che i rapporti e le raccomandazioni pubblicate a proprio conto erano errate e non prodotte dal proprio staff.</a:t>
            </a:r>
            <a:endParaRPr b="0" lang="en-US" sz="2500" spc="-1" strike="noStrike">
              <a:solidFill>
                <a:srgbClr val="000000"/>
              </a:solidFill>
              <a:latin typeface="Arial"/>
            </a:endParaRPr>
          </a:p>
        </p:txBody>
      </p:sp>
      <p:sp>
        <p:nvSpPr>
          <p:cNvPr id="54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CasellaDiTesto 2"/>
          <p:cNvSpPr/>
          <p:nvPr/>
        </p:nvSpPr>
        <p:spPr>
          <a:xfrm>
            <a:off x="0" y="1417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n Italia, primissimo epicentro dell'UE dell'epidemia, dal periodo che va da gennaio ad aprile 2020, di tutti i post relativi a COVID-19 condivisi sui Social Media, una media del 5,5% risultava totalmente / parzialmente scientificamente imprecis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nche se le persone sono perfettamente consapevoli del fenomeno delle fake news, in un altro sondaggio il pubblico italiano è risultato molto scettico riguardo alla fonte di notizie più affidabile sul COVID-19, con quasi 8 persone su 10 che credono che Facebook sia il principale responsabile dell'aumento della disinformazione: potrebbero non essere adeguatamente formati per individuarne uno.</a:t>
            </a:r>
            <a:endParaRPr b="0" lang="en-US" sz="2400" spc="-1" strike="noStrike">
              <a:solidFill>
                <a:srgbClr val="000000"/>
              </a:solidFill>
              <a:latin typeface="Arial"/>
            </a:endParaRPr>
          </a:p>
        </p:txBody>
      </p:sp>
      <p:sp>
        <p:nvSpPr>
          <p:cNvPr id="55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CasellaDiTesto 2"/>
          <p:cNvSpPr/>
          <p:nvPr/>
        </p:nvSpPr>
        <p:spPr>
          <a:xfrm>
            <a:off x="0" y="1417680"/>
            <a:ext cx="9144000" cy="449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Anche Twitter ha la sua grande parte di colpa.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Secondo Bot Sentinel, il più grande set di dati al mondo sulle attività online dei BOT, solo il 26 marzo, nell'arco di 24 ore, i BOT sono stati responsabili di 1.627 tweet fuorvianti relativi ai viru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Rounded MT Bold"/>
              </a:rPr>
              <a:t>Ad esempio, dai un'occhiata al seguente thread:</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onte: ScienceAlert.com </a:t>
            </a:r>
            <a:endParaRPr b="0" lang="en-US" sz="1400" spc="-1" strike="noStrike">
              <a:solidFill>
                <a:srgbClr val="000000"/>
              </a:solidFill>
              <a:latin typeface="Arial"/>
            </a:endParaRPr>
          </a:p>
        </p:txBody>
      </p:sp>
      <p:sp>
        <p:nvSpPr>
          <p:cNvPr id="56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6" name="Immagine 1" descr=""/>
          <p:cNvPicPr/>
          <p:nvPr/>
        </p:nvPicPr>
        <p:blipFill>
          <a:blip r:embed="rId1"/>
          <a:stretch/>
        </p:blipFill>
        <p:spPr>
          <a:xfrm>
            <a:off x="460440" y="1233360"/>
            <a:ext cx="5375160" cy="3260880"/>
          </a:xfrm>
          <a:prstGeom prst="rect">
            <a:avLst/>
          </a:prstGeom>
          <a:ln w="0">
            <a:noFill/>
          </a:ln>
        </p:spPr>
      </p:pic>
      <p:sp>
        <p:nvSpPr>
          <p:cNvPr id="567" name="CasellaDiTesto 3"/>
          <p:cNvSpPr/>
          <p:nvPr/>
        </p:nvSpPr>
        <p:spPr>
          <a:xfrm>
            <a:off x="0" y="44607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La dichiarazione che vedi sopra è stata pubblicata dalle autorità sanitarie pubbliche ufficiali. Subito dopo, ecco cosa succede:</a:t>
            </a:r>
            <a:endParaRPr b="0" lang="en-US" sz="2400" spc="-1" strike="noStrike">
              <a:solidFill>
                <a:srgbClr val="000000"/>
              </a:solidFill>
              <a:latin typeface="Arial"/>
            </a:endParaRPr>
          </a:p>
        </p:txBody>
      </p:sp>
      <p:sp>
        <p:nvSpPr>
          <p:cNvPr id="56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
        <p:nvSpPr>
          <p:cNvPr id="569" name="Marcador de contenido 6"/>
          <p:cNvSpPr/>
          <p:nvPr/>
        </p:nvSpPr>
        <p:spPr>
          <a:xfrm>
            <a:off x="5992920" y="2281320"/>
            <a:ext cx="2733480" cy="1838160"/>
          </a:xfrm>
          <a:prstGeom prst="rect">
            <a:avLst/>
          </a:prstGeom>
          <a:noFill/>
          <a:ln w="0">
            <a:noFill/>
          </a:ln>
        </p:spPr>
        <p:style>
          <a:lnRef idx="0"/>
          <a:fillRef idx="0"/>
          <a:effectRef idx="0"/>
          <a:fontRef idx="minor"/>
        </p:style>
        <p:txBody>
          <a:bodyPr lIns="90000" rIns="90000" tIns="46800" bIns="46800" anchor="t">
            <a:normAutofit/>
          </a:bodyPr>
          <a:p>
            <a:pPr marL="810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e non sei stato all'estero o in contatto con un caso confermato, non sarai sottoposto a test per il nuovo Coronavirus perché è più probabile che tu abbia un altro virus come il raffreddore o l'influenza.</a:t>
            </a:r>
            <a:endParaRPr b="0" lang="en-US" sz="1700" spc="-1" strike="noStrike">
              <a:solidFill>
                <a:srgbClr val="000000"/>
              </a:solidFill>
              <a:latin typeface="Arial"/>
            </a:endParaRPr>
          </a:p>
          <a:p>
            <a:pPr marL="81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4" name="Immagine 2" descr=""/>
          <p:cNvPicPr/>
          <p:nvPr/>
        </p:nvPicPr>
        <p:blipFill>
          <a:blip r:embed="rId1"/>
          <a:stretch/>
        </p:blipFill>
        <p:spPr>
          <a:xfrm>
            <a:off x="307800" y="1395360"/>
            <a:ext cx="4819680" cy="4400640"/>
          </a:xfrm>
          <a:prstGeom prst="rect">
            <a:avLst/>
          </a:prstGeom>
          <a:ln w="0">
            <a:noFill/>
          </a:ln>
        </p:spPr>
      </p:pic>
      <p:sp>
        <p:nvSpPr>
          <p:cNvPr id="57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
        <p:nvSpPr>
          <p:cNvPr id="576" name="Marcador de contenido 6"/>
          <p:cNvSpPr/>
          <p:nvPr/>
        </p:nvSpPr>
        <p:spPr>
          <a:xfrm>
            <a:off x="6012000" y="1441440"/>
            <a:ext cx="2733480" cy="1838160"/>
          </a:xfrm>
          <a:prstGeom prst="rect">
            <a:avLst/>
          </a:prstGeom>
          <a:noFill/>
          <a:ln w="0">
            <a:noFill/>
          </a:ln>
        </p:spPr>
        <p:style>
          <a:lnRef idx="0"/>
          <a:fillRef idx="0"/>
          <a:effectRef idx="0"/>
          <a:fontRef idx="minor"/>
        </p:style>
        <p:txBody>
          <a:bodyPr lIns="90000" rIns="90000" tIns="46800" bIns="46800" anchor="t">
            <a:normAutofit fontScale="57000"/>
          </a:bodyPr>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haron</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Quindi come sappiamo che siamo stati in stretto contatto con un caso confermato se non siamo informati su chi sono e dove sono stati?</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 </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ara</a:t>
            </a:r>
            <a:endParaRPr b="0" lang="en-US" sz="1500" spc="-1" strike="noStrike">
              <a:solidFill>
                <a:srgbClr val="000000"/>
              </a:solidFill>
              <a:latin typeface="Arial"/>
            </a:endParaRPr>
          </a:p>
          <a:p>
            <a:pPr marL="46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Mia madre è sospetta di avere il Covid... hanno detto che non c'era bisogno del test visto che lei è in condizioni di salute di base. Che scherzo! Adesso si sta diffondendo nella comunità! Non è stata su nessun volo o in contatto con nessuno proveniente da un paese fortemente contagiat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CasellaDiTesto 2"/>
          <p:cNvSpPr/>
          <p:nvPr/>
        </p:nvSpPr>
        <p:spPr>
          <a:xfrm>
            <a:off x="0" y="141768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 commenti di Sara e Sharon sono piuttosto preoccupanti per un semplice motivo: minano la legittimità e l'affidabilità di esperti che hanno dedicato la loro vita alla salvaguardia della salute e del benessere dei cittadin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iò che è ancora più inquietante è che nessuno di Sara, Sharon e la mamma di Sara esiste davvero: ciò che hai appena visto rappresenta perfettamente una tipica interferenza BOT, volta a generare nell'ignaro lettore un senso di smarrimento e confusione.</a:t>
            </a:r>
            <a:endParaRPr b="0" lang="en-US" sz="2400" spc="-1" strike="noStrike">
              <a:solidFill>
                <a:srgbClr val="000000"/>
              </a:solidFill>
              <a:latin typeface="Arial"/>
            </a:endParaRPr>
          </a:p>
        </p:txBody>
      </p:sp>
      <p:sp>
        <p:nvSpPr>
          <p:cNvPr id="58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ome possiamo essere così sicuri che Sara e Sharon siano solo finzioni digital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Dopo un po' di allenamento, i BOT sono molto facili da individuare:</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essun follower</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Nessuna foto del profilo (o foto del profilo rubata)</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Recenti sulla piattaforma</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esenza sociale a tema: cospirazione e allarmismo</a:t>
            </a:r>
            <a:endParaRPr b="0" lang="en-US" sz="2400" spc="-1" strike="noStrike">
              <a:solidFill>
                <a:srgbClr val="000000"/>
              </a:solidFill>
              <a:latin typeface="Arial"/>
            </a:endParaRPr>
          </a:p>
        </p:txBody>
      </p:sp>
      <p:sp>
        <p:nvSpPr>
          <p:cNvPr id="58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Fake News come minaccia alla salu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Lorenzo2</cp:lastModifiedBy>
  <dcterms:modified xsi:type="dcterms:W3CDTF">2020-10-21T15:43:39Z</dcterms:modified>
  <cp:revision>541</cp:revision>
  <dc:subject/>
  <dc:title>Title</dc:title>
</cp:coreProperties>
</file>