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FECD9B-6A44-4F7B-AF54-2AFD0D1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65700A-C69C-4016-A265-10D1F07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577B0-7EE4-4568-8AA0-B5F90775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5DCAB-184F-4590-913C-6B811E3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66F2E-8528-4E12-AA24-B775ABF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95E01-1780-4415-8298-94F80C7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BBB1D-BC67-4DFF-BC54-208F87D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0E74B-D1A7-4524-A4A7-0143FFCE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B4466-47BE-4C76-8286-FA75C404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4D4E2D-F2A0-4DFC-9835-348A0433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02D98-3044-443B-9403-E96F60F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0EF00-2BCC-4C0B-AA1F-81DDA1A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1207A-C7A5-490D-961E-CD5D19C9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F347F-460A-4051-A963-3D2DE42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6A276-94BB-4D64-8A4D-7530C398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BC736-F2CC-4C84-8E9B-ABDF21E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8D1B41-64A1-4DB6-BAE1-261FD02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6A3FA-1F52-4E67-B720-041748B8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49C7B-6810-440A-8EF7-BBD70FF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74272-8996-45B5-A830-4CD550A7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54DFB-C73F-4F9C-B24A-060E26E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D63D6-E182-4717-864A-DC26866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D58FDE-C778-48EF-BFEB-F54A762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0D67E8-86F2-4AB5-BA9E-FAA1FEBF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9B460-F825-479A-8588-F1143E2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336C36-981F-4A4D-A996-2AE1978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C57769-5553-4943-B17A-E48CE36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B777A-A11D-439F-8C4E-AF46BE9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C4C329-D246-435B-9358-E7A37DE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71249-4C62-4B35-A382-4159302F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629BA-8BE2-453F-9818-A1A81632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D4543-E6E0-498B-A3C3-5368BD6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E16F5-F079-4F99-BACB-A6D0D34F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D9ABD0-885F-4DE3-B2FB-5F54CF28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6D797-9D9B-48AD-8358-61AB3BF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E261C3-B80C-4D52-99F0-06852165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9E115E-034A-416E-A9EE-E44DCB8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CB2DA3-7DD1-4405-9F37-BE49BEC7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C9A29-2FAF-47AB-941F-4DFD222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F90B54-A7FD-4BBF-A8D2-85BB401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FFF50-FA57-439E-B4FA-519D2DE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1F136-13A0-4E33-81C9-173E88E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110021-F153-4710-8834-3B61F81B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9EE01A-E62A-4EF0-B8D5-4037872D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063ED-F75D-4D1D-98D4-D03157A0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F0B37-E6CA-47E7-B629-B1B35C16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BFF5-70C1-4311-857E-8018CAF8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EBF5-1AA1-4E19-A7CE-1BFE5F8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F2E5A-8259-43BF-9830-96E50B18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CA2C7-4C56-4210-BA71-18F442C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5E426-FE7B-43DC-AF4B-C29875E1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A8FDA-0E3B-4A21-AC29-96C48C1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032DA-2F49-42C3-9F00-579DDF1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4A676-13FE-4817-A2A7-68154F7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82C4-E776-472E-B4B5-375A0DFB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4A16B-600F-49C3-AF7F-5E3D7909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4BA8B-415F-4852-9533-59628D7D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D7A92-A8B8-43F9-8800-6ABACA8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E0FB7-8049-4445-8843-5490F0D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92599-0B83-4047-9100-4F87EA0C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F0386-45F7-4CC4-8CEB-5DED3F0D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0812D-E803-4844-986C-C7793D10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03E03-31EC-434D-A8ED-CF0D86C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91DE5-F3BE-4510-82F0-4009EB4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4FB27-9C8E-42C7-B6B7-0BC71C95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58C4B-BED2-4AAE-B257-109E6C7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94FF0-A98F-44CF-8080-5212EDB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2D285-70EB-4BD4-9831-6E67D563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45C88-69FB-42F0-AFEE-2318A31F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B2C47-4E61-47AF-B2B2-DD6BFA72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87629-0DB9-43C0-86CF-64C0DFE7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E5106-F927-4EE1-A33E-5F7D00D3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209B4-E8E1-4175-8AA2-0A71ED3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7A81C-A0C2-4B69-A425-323A1CC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36948-4CF7-4B96-BC71-12B1AAFF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F87AD-E5E7-41C3-BD35-6CDDE4D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03AD9-D815-441B-8DE3-BBA95DE6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46AC5-432C-4CC4-BB5E-BAD95D4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81AD3-2408-4DDB-A1FA-390EE9D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C26A2-D4FC-4519-A42F-194E3649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6C57E-BBEE-4539-83C3-7B5A258B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ABCFD-66A1-4F46-BDAE-0A2EDEEE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5140F-D762-4C9B-A8FC-15EA5A0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94863-6753-4DC6-9FFF-75CB7B8F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3FFD1-2F31-4C4C-A4D4-65B542F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93B78-DE2C-44F9-AC84-E8A3524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E35DB-63D8-4362-9893-963A4443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56878-BF69-4B25-8F99-ACA5768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9A034-BA34-41F9-AD36-973B691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C9278-1BF9-4EA7-9AEE-1C88973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1E415-9EBF-40EA-8982-262A1CE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65202-64F0-4DEA-8AD0-5C2F1079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20685-8C66-46F0-BA02-B966709B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3867A-F516-4D2E-B4DE-FFD133F0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3BB41-364C-49F7-8CF6-4DAFB96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3831E-AAD3-43EF-9A7F-F187405D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F4412-544F-4A4C-BB72-4AFE7980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794AF-2AF1-44E6-B501-75952BC2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EFD6E-4842-4CBF-B0EC-235C478D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AA462-7F08-4390-962F-24122BF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82289-BD41-467A-BFF9-B23FFFC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3FC26-8613-4630-A106-A422FD1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CA45C-597D-4662-997D-73CD29B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E2144-FF0C-4289-9072-ACBA50C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AC91F-691E-4734-9F48-192A1119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054D5-8A89-40D9-865D-83C4D25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4740F-F3C4-41E3-86BD-4E3D879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80769-8422-465D-B9BD-19873A0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5D728-2EA8-4CF7-B148-0473673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0E38C-F1F7-4F1D-9D4F-DC1D5C7B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806BC-1A0E-47B2-BD4C-5967C32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003BE-D860-449F-AE47-C7EFDE6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EA375-11C8-4B6E-A397-8E2E84B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C7AE2-38F3-48A5-8CCC-038DA6C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DD6CE-A056-4802-8DFA-024C9D4E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C8C10-BCA2-470B-B27B-BC8071C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23FAD-6ADD-4A8F-B1E6-D91495F6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1CA6A-3C8E-4A8B-A5C1-3005EAFD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085E3-FF45-4C14-8A5F-AEACCD84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E6446-8C72-448D-B235-061C90D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5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0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0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687-785D-4EC5-86D8-C57080C88DA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4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4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4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37F-F98F-499D-8F5B-3C306A96FE7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9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9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BF21-E4F5-4E30-8FBD-315B0A9C93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3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5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8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8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8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2CD3-059E-4010-B338-ABAE5FBD558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13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7A8-7CB9-4271-AC2E-B68DD698726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17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17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7CC-EFE6-4EB4-88FE-755E07D118D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22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378-D8CE-4879-A73A-0DB9B88F8D2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26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26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26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72D-97A2-4DCF-AA3C-B736562627F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1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31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31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E84-E1B9-48AE-BC07-1C19A936EDA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5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35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D94-8892-47FF-8E95-047D7060E16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forbes.com/sites/petersuciu/2020/04/08/during-covid-19-pandemic-it-isnt-just-fake-news-but-seriously-bad-misinformation-that-is-spreading-on-social-media/#170d68867e55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aljazeera.com/news/2020/04/iran-700-dead-drinking-alcohol-cure-coronavirus-200427163529629.html" TargetMode="External"/><Relationship Id="rId2" Type="http://schemas.openxmlformats.org/officeDocument/2006/relationships/hyperlink" Target="https://www.nytimes.com/2020/04/24/us/politics/trump-inject-disinfectant-bleach-coronavirus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nterforhealthsecurity.org/" TargetMode="External"/><Relationship Id="rId2" Type="http://schemas.openxmlformats.org/officeDocument/2006/relationships/hyperlink" Target="https://hub.jhu.edu/2020/04/03/coronavirus-misinformation-rumors-social-media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08360" y="486864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Arial Rounded MT Bold"/>
              </a:rPr>
              <a:t>Fałszywe wiadomości podczas epidemii CO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ángulo 1"/>
          <p:cNvSpPr/>
          <p:nvPr/>
        </p:nvSpPr>
        <p:spPr>
          <a:xfrm>
            <a:off x="0" y="328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wszechne dezinformacje online związane z COVID-19: sprawdzanie faktów i obalanie oszu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asellaDiTesto 2"/>
          <p:cNvSpPr/>
          <p:nvPr/>
        </p:nvSpPr>
        <p:spPr>
          <a:xfrm>
            <a:off x="0" y="12682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ak możemy być pewni, że Sara i Sharon to tylko cyfrowe fikcje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Po krótkim treningu BOTy są bardzo łatwe do wykryc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Brak ‘followers’ (sledzacych prof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Brak zdjęcia profilowego (lub skradzionego zdjęcia profilowe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Od niedawna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są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 na platfor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Losowo utworzone “chwy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ednotematyczna obecność społeczna: konspiracja i panikars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Bardzo rzadka aktywność poza komentowaniem postów innych osó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4"/>
          <p:cNvSpPr/>
          <p:nvPr/>
        </p:nvSpPr>
        <p:spPr>
          <a:xfrm>
            <a:off x="0" y="7920"/>
            <a:ext cx="9144000" cy="68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Immagine 5" descr=""/>
          <p:cNvPicPr/>
          <p:nvPr/>
        </p:nvPicPr>
        <p:blipFill>
          <a:blip r:embed="rId1"/>
          <a:stretch/>
        </p:blipFill>
        <p:spPr>
          <a:xfrm>
            <a:off x="798480" y="150840"/>
            <a:ext cx="75470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2"/>
          <p:cNvSpPr/>
          <p:nvPr/>
        </p:nvSpPr>
        <p:spPr>
          <a:xfrm>
            <a:off x="0" y="141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W pewnym momencie sytuacja była tak poważna, że ​​Google, Facebook, LinkedIn, Microsoft, Reddit, Twitter i YouTube postanawi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li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 zaangażować się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razem w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akcję przeciwko szerzeniu dezinformacji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 drugiej strony platformy te zagwarantują swoim użytkownikom tylko najbardziej wiarygodne i naukowo dokładne informacje, prowadząc do dostarczania aktualnych danych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na bieżąco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sellaDiTesto 4"/>
          <p:cNvSpPr/>
          <p:nvPr/>
        </p:nvSpPr>
        <p:spPr>
          <a:xfrm>
            <a:off x="0" y="7920"/>
            <a:ext cx="9144000" cy="68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Immagine 1" descr=""/>
          <p:cNvPicPr/>
          <p:nvPr/>
        </p:nvPicPr>
        <p:blipFill>
          <a:blip r:embed="rId1"/>
          <a:stretch/>
        </p:blipFill>
        <p:spPr>
          <a:xfrm>
            <a:off x="108000" y="7920"/>
            <a:ext cx="4767120" cy="54370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"/>
          <p:cNvSpPr/>
          <p:nvPr/>
        </p:nvSpPr>
        <p:spPr>
          <a:xfrm>
            <a:off x="5148360" y="1363680"/>
            <a:ext cx="381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ółpracujem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ciśle w zakresie reagowania na COVID-19. Pomagamy milionom ludzi pozostać w kontakcie, jednocześnie zwalczając oszustwa i dezinformację na temat wirusa, udostępniając wiarygodne treści na naszych platformach i udostępniając krytyczne aktualizacje w koordynacji z rządowymi agencjami opieki zdrowotnej na całym świecie. Zapraszamy inne firmy do przyłączenia się do nas, ponieważ pracujemy nad utrzymaniem naszych społeczności w zdrowiu i bezpieczeństw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2"/>
          <p:cNvSpPr/>
          <p:nvPr/>
        </p:nvSpPr>
        <p:spPr>
          <a:xfrm>
            <a:off x="0" y="112536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UNESCO bardzo poważnie potraktowało efekt „pandemii społecznej”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UNESCO pracuje również nad tym, aby pomóc ludziom stać się bardziej krytycznymi wobec tego, co jest im przedstawiane w internecie i gdzie indziej, jako fakt, tak aby byli mniej skłonni wierzyć i rozpowszechniać kłamstwa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Agencja używa hashtagów #ThinkBeforeSharing, #ThinkBeforeClicking i #ShareKnowledge i promuje pogląd, że prawa do wolności wypowiedzi i dostępu do informacji są najlepszym lekarstwem na niebezpieczeństwa dezinformacj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Źródło: During this coronavirus pandemic, ‘fake news’ is putting lives at risk, UNE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sellaDiTesto 2"/>
          <p:cNvSpPr/>
          <p:nvPr/>
        </p:nvSpPr>
        <p:spPr>
          <a:xfrm>
            <a:off x="0" y="1417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To samo zrobiła Światowa Organizacja Zdrow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Możesz zauważyć, że wyszukiwarka Google zawsze przekieruje Cię do oficjalnej witryny ŚOZ, aby wyszuk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ać informacji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wiązan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ych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 z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aczęło się to dziać dopiero niedawno, kiedy dyrektor Google i ŚOZ usiedli razem, aby omówić skuteczne rozwiązania, które pozwolą powstrzymać „pandemię społeczną” i zapewnić użytkownikom sieci najbezpieczniejsze środowisko cyfrowe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sellaDiTesto 2"/>
          <p:cNvSpPr/>
          <p:nvPr/>
        </p:nvSpPr>
        <p:spPr>
          <a:xfrm>
            <a:off x="0" y="14176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W sekcji Mythbusters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na stronie internetowej ŚOZ wymieniono 28 typowych dezinformacji dotyczących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Każdy z nich jest naukowo sprawdzony i „wyrzucony”: jeśli masz jakiekolwiek obawy co do tego, co zobaczyłeś w Internecie, rozważ odwiedzenie strony internetowej i podzielenie się treścią ze znajomym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r>
              <a:rPr b="0" lang="en-US" sz="3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sellaDiTesto 2"/>
          <p:cNvSpPr/>
          <p:nvPr/>
        </p:nvSpPr>
        <p:spPr>
          <a:xfrm>
            <a:off x="0" y="1417680"/>
            <a:ext cx="91440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odczas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globalnej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epidemii COVID-19 fałszywe wiadomości dotyczące wirus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rozprzestrzeniły się tak szybko, jak sama pandemi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Fałszywe informacje 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COVID-19 są niezwykle niebezpieczne, ponieważ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jak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podano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 “[…]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uwzględn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ją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to, co wydaje się pochodzić z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dobr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orad lekar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skich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, ale okazuje się błędne, 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 niektórych przypadkach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bardzo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iebezpieczni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asellaDiTesto 2"/>
          <p:cNvSpPr/>
          <p:nvPr/>
        </p:nvSpPr>
        <p:spPr>
          <a:xfrm>
            <a:off x="0" y="1417680"/>
            <a:ext cx="9144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Na przykład w Iranie, </a:t>
            </a:r>
            <a:r>
              <a:rPr b="0" lang="pl-PL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ponad 700 osób zmarło z powodu zatrucia alkohol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b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ę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dni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wierząc, że duża ilość metanolu we krwi może chronić organizm przed wirus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 innym znanym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poważnym przypadku dezinformacji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ubliczne oburzenie środowiska naukowego potępiło słowa prezydenta US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s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ugerując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g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wstrzyknięcie wybielacza jako leczenia przeciwko COVID-19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sellaDiTesto 2"/>
          <p:cNvSpPr/>
          <p:nvPr/>
        </p:nvSpPr>
        <p:spPr>
          <a:xfrm>
            <a:off x="0" y="1417680"/>
            <a:ext cx="91440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Samo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Johns Hopkins Center for Health Security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–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jedno z najbardziej wiarygodnych źródeł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informacji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związanych z globalną epidemią COVID-19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a także jed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n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z wiodących ośrodków naukowych w walce z COVID-19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zostało zmuszone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by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oglosić publiczni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ostrzeżenie o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zup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ni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nie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oprawn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raportach i zaleceniach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ublikowanych w jej imieniu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ale bez żadnych powiązań z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własnym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ersonel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08240" y="27432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sellaDiTesto 2"/>
          <p:cNvSpPr/>
          <p:nvPr/>
        </p:nvSpPr>
        <p:spPr>
          <a:xfrm>
            <a:off x="0" y="1125360"/>
            <a:ext cx="9144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e Włoszech, pierwszym epicentrum epidemii w U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w okresie od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stycznia do kwietnia 2020 r.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w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ś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ród 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szystkich postów dotyczących COVID-19 udostępnionych w mediach społecznościowych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średnio 5,5%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było całkowicie / częściowo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dnyc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wet jeśli ludzie doskonale zdają sobie sprawę ze zjawiska fałszywych wiadomośc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– w innym badaniu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łoska opinia publiczna była bardzo sceptycznie nastawiona do najbardziej wiarygodnego źródła wiadomości o COVID-19, przy czym prawie 8 na 10 osób uważa, że ​​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to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Facebook jest głównym odpowiedzialnym za gromadzenie nie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rawdziw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informacj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 więc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ie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otrzeba odpowiednich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szkoleń, aby je wykryć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sellaDiTesto 2"/>
          <p:cNvSpPr/>
          <p:nvPr/>
        </p:nvSpPr>
        <p:spPr>
          <a:xfrm>
            <a:off x="0" y="1417680"/>
            <a:ext cx="914400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Twitter również ma swoj udział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edług Bot Sentinel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jwiększego na świecie zbioru danych o działaniach BOTów online, dopiero 26 marca, w ciągu 24 godzin, BOT odpowiadał za 1627 wprowadzających w błąd tweetów związanych z wirusami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 przykład spójrz na następujący wątek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*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*źródło: ScienceAler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magine 1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464000" cy="2681280"/>
          </a:xfrm>
          <a:prstGeom prst="rect">
            <a:avLst/>
          </a:prstGeom>
          <a:ln w="0">
            <a:noFill/>
          </a:ln>
        </p:spPr>
      </p:pic>
      <p:sp>
        <p:nvSpPr>
          <p:cNvPr id="574" name="CasellaDiTesto 3"/>
          <p:cNvSpPr/>
          <p:nvPr/>
        </p:nvSpPr>
        <p:spPr>
          <a:xfrm>
            <a:off x="0" y="4460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Oświadczenie, które widzisz powyżej, zostało opublikowane przez oficjalne publiczne organy opieki zdrowotnej. Oto, co się stanie wkrótce potem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4859280" y="155736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śli nie byłeś za granicą lub nie miałeś kontaktu z potwierdzonym przypadkiem, nie będziesz badany pod kątem nowego koronawirusa (COVID-19), ponieważ jest bardziej prawdopodobne, że masz innego wirusa, takiego jak przeziębienie lub gryp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Immagine 2" descr=""/>
          <p:cNvPicPr/>
          <p:nvPr/>
        </p:nvPicPr>
        <p:blipFill>
          <a:blip r:embed="rId1"/>
          <a:stretch/>
        </p:blipFill>
        <p:spPr>
          <a:xfrm>
            <a:off x="179280" y="1228680"/>
            <a:ext cx="4819680" cy="4400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5148360" y="144792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c skąd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e d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my, czy byliśmy w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liski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ontakcie z potwierdzonym przypadkiem, jeśli nie jesteśmy poinformowani, kim oni są i gdzie byli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5148360" y="3357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rzewa się, że moja mama ma koronę ... powiedzieli, że nie ma potrzeby przeprowadzania testów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 ma inne schorz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Co za żart! Rozprzestrzenia się teraz w społeczności!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na 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e leciała samolotem ani nie kontaktowała się z nikim z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agrożo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CasellaDiTesto 2"/>
          <p:cNvSpPr/>
          <p:nvPr/>
        </p:nvSpPr>
        <p:spPr>
          <a:xfrm>
            <a:off x="0" y="141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Komentarze Sary i Sharon są dość niepokojące z prostego powodu: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podważają w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iarygodność ekspertów, którzy poświęcili swoje życie ochronie zdrowia obywatel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eszcze bardziej przerażające jest to, że żadna z matek Sary, Sharon i Sary tak naprawdę nie istnieje: to, co właśnie zobaczyłeś, doskonale przedstawia typową interferencję BOT, mającą na celu wywołanie u niczego niepodejrzewającego czytelnika poczucia zagubien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User</dc:creator>
  <dc:description/>
  <dc:language>en-US</dc:language>
  <cp:lastModifiedBy>Katarzyna Turzanska</cp:lastModifiedBy>
  <dcterms:modified xsi:type="dcterms:W3CDTF">2020-09-24T16:32:12Z</dcterms:modified>
  <cp:revision>581</cp:revision>
  <dc:subject/>
  <dc:title>Title</dc:title>
</cp:coreProperties>
</file>