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652CBC-AE51-4766-9360-D7D8EE9F5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9873C6-BE05-4131-95B5-FD8274EF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E7BCD0-0A39-4569-8A2E-C0610148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3EA87-7715-481D-84C0-934D5CC0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39B3B6-6BDC-4902-BD27-64B46C0C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ADDD66-C4CF-4C86-943C-B9D4473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1F7FB1-F1B4-4100-A5B0-88A8CF18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C0CBF3-1C16-4C1C-8E8B-B3B1152A6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D068A9-CEDB-49D0-8877-18958CA9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EE4BEF-8F9B-4133-92E4-4ACDFF92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E5A4FD-08AE-4DCB-B40B-1E4E145D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EA4E3B-9797-499B-8ED8-EBC2279C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055465-D28F-48DD-88AB-5F029309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96EB6B-E21A-4895-9F48-F196DC3D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7C862-1739-488D-A57B-6EE0F20E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897F46-D8F9-46FB-B619-4A804BC8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65987F-5913-4FFE-9596-ED6A4A3E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C9A6DA-84E8-4769-81A1-B3E8A67E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050174-2B33-47B6-9CB1-B06D62D9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E507AF-39B8-41A3-882A-B006F9D6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FB9002-6856-4299-94D2-5244F41A6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3B3F63B-E90E-41D4-A016-CE16692C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D78E41-B822-47AD-8845-815034A0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0C721C-9DAC-436A-90E7-3C7A3EB2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A2F5AC-E99F-403F-9C17-354CF240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226893-3C0D-48D7-B7E0-37D1A259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03C38D9-AD0C-46C3-ACAD-3F4B6EE1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B0EC69-F210-4CAC-9197-83502104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7D1329-353C-42C2-9E8D-1369996A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6DA81D-C6D0-4878-916A-20CAD792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622EAA-24B2-465F-AF92-4B8D85F9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0935E4-9A26-4252-8321-95B3E377A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DF6650-29EF-4905-9C9B-329D1A1F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3CCE77-9354-49F4-9E11-5B99B10E6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022478-6350-4914-9524-CF0CB717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742D45-9561-4E10-BA2A-D14EBD96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373920-3904-4254-86C1-EF014019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E8D1FC-E8BD-4983-B5B4-47A21F0D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99DD73-9D0B-43C4-A7C1-9584F89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62DCBAA-FC6B-49C4-A339-A37B8F87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AA4073C-06AF-424D-9F96-0F8AE948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72F31D-0321-43A0-94EC-5D4A969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98DAC7-388D-4295-B6E5-0F8799DD2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27F2B35-ACD1-4ACA-B3ED-11838EAC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FFCADE-1359-417F-A2BE-A9315BC47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35263E-0493-4B6B-84C8-69828A36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81500-0E22-46DC-9F11-6ED2DB47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61813-39C5-4B9C-9B5A-5942CED3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D6502-08A9-457D-8790-BB4F551D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6E6DC-082E-4A0F-8D96-E6274056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6CD79-D3EA-4C81-8810-3E61E6BF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11E2C-2918-4EA4-81A3-08CB841D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A3BC7-585F-408A-8403-A483FA86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B8379-3C40-41E5-B5D2-29880804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3B59F-AC28-4E99-8F1F-7E1793E8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F8CD9-80CD-4EA8-AA5D-B3459652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5CD3A-BC70-467B-9B8E-F2285970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E2635-E0D7-47B4-9972-6D9F1C5E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9A9A6-75B0-4904-B957-FDA7BD15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86673-C81D-4A52-A123-32C4FD7D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28DBE-228B-47D0-9070-7C331441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908DA-676F-491D-8C1C-86E1452D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D11D3-C31E-4CF5-BFBF-36C47B59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6B1F8-B75B-4706-B482-B970985A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CEF35-BC3B-44AC-BBAD-1C16C897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12EB5-F25B-4403-9E49-777BAC1A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93D47-1EDF-4662-9C44-381FAAE5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9BF1D0-79AF-4358-A193-8F81B57D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47364-2A21-46E6-ACBA-2B33A8DDE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67E53-751C-40C9-BED4-39233A26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C3722-127F-4472-95A8-7A761B90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E58DC3-856F-41D5-AFB7-A4094C6E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C87076-04D6-460F-8C07-9F280D0E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6D7026-BABF-4385-BCB1-04DC1BB7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24F68F-3475-48C8-AFBE-64DBC0EE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ABC39-B630-4F80-A841-8EF0BC6F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F7326-647A-4FF8-BA7B-C509FA4D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6B008D-F802-45BD-A697-FBDA60C6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CE1B3-F6FC-425D-9855-7BD007B7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632956-46B8-4823-94D5-2A050364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4D951-D694-4635-A918-310E4D2B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9F2D5-FD51-4952-A6E3-C919D4BD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8537B-4D91-43A3-B60F-D6E3E826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63BDF5-AC01-4E29-950E-DF7B70B5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1CDEB-EEEE-4E83-804B-75F0285C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443AE7-216B-426F-B283-AE2F8B8B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E82CB-FC93-42C9-9811-271FECC6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E7367-2D5B-4089-9A51-377CE5C6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6A9461-8CAD-4EEF-AA05-C37DEB70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A44A7A-08C5-410A-9D44-7B74D4D2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7E8D3-ED27-4762-974B-ADB702C6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BDBCA5-CDFF-4A52-B1F6-3FEAA56F3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76322-5319-42B6-B40D-BE24D8FD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B738B9-ADA9-438E-A557-448C13D7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4368E1-92CA-46B4-BBFE-F67AC850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45F02-7A0F-4447-8A18-D92CA857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F19AB8-E2A4-41E5-81B6-22E4B4B0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B9E14F-815C-4975-BD12-C3D4BB5A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80EF0A-F254-4E3A-8896-994C32B7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CFD6A-886B-4BA8-88FC-DE33B0CF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14D67-3258-40B0-8DEE-4A1C7F22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CEFDC4-5925-43F8-9384-0F22289D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772CE3-1AF9-49EE-9AFF-C3209C6C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0E345-749D-4F18-BD03-85DF2422A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C0D259-5600-47EB-B138-13C198EB9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CDEADE-3394-4D21-B089-92179850C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7C2A2C-8B51-47AA-80AE-3F816B65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0CAF9B-EB3F-4CA0-BE97-790B9F8B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AB55A-98E9-4861-BE24-01B476D7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35F0C-683B-499E-8EF6-9F2F8FB6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2329920" y="274320"/>
            <a:ext cx="6356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0F16F-3AD2-42B8-917F-EEC9DB1D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EE2948-77CF-433C-B44E-ABDFA4A4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74AF67-2253-480C-84E5-05907B50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2E7C66-8384-4344-9895-E88E5F37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20E96C-64E4-4443-8C88-03DCBAB7A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5936A1-7E66-4743-8AE5-7228CE8F6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2B449A-18CE-4CFB-B575-3A673CA5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87D782-CFBA-4028-B130-8555FB14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EF2A7C-216F-455F-A3FA-9F55C9A5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DD19B9-1ED0-4C0E-A70B-521C55EA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3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4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5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402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403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404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6CD4-209D-4B7B-AFBA-A7B964303CA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447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448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449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286B-6A5A-4A22-8EFE-7E24EF607FB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492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493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E931-2094-4D4E-B92C-5B81D4AB753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43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44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45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87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88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89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7CEF-678D-44F5-8034-E9608BA0816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134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3947-A95C-49EF-B43D-A0127A18263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177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178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179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37EB-478A-4201-BC72-50644B3D85D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222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223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224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3515-130C-44F6-BB35-0D44C8CF878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267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268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269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6DE8-5E84-4B6A-8131-851E109C51E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312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313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314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CDE0-616E-427E-8EAB-E62EA090DD4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Imagen 1" descr=""/>
          <p:cNvPicPr/>
          <p:nvPr/>
        </p:nvPicPr>
        <p:blipFill>
          <a:blip r:embed="rId3"/>
          <a:stretch/>
        </p:blipFill>
        <p:spPr>
          <a:xfrm>
            <a:off x="15840" y="128520"/>
            <a:ext cx="2314440" cy="852480"/>
          </a:xfrm>
          <a:prstGeom prst="rect">
            <a:avLst/>
          </a:prstGeom>
          <a:ln w="0">
            <a:noFill/>
          </a:ln>
        </p:spPr>
      </p:pic>
      <p:pic>
        <p:nvPicPr>
          <p:cNvPr id="357" name="Imagen 2" descr=""/>
          <p:cNvPicPr/>
          <p:nvPr/>
        </p:nvPicPr>
        <p:blipFill>
          <a:blip r:embed="rId4"/>
          <a:stretch/>
        </p:blipFill>
        <p:spPr>
          <a:xfrm>
            <a:off x="7451640" y="5769000"/>
            <a:ext cx="1614600" cy="1041480"/>
          </a:xfrm>
          <a:prstGeom prst="rect">
            <a:avLst/>
          </a:prstGeom>
          <a:ln w="0">
            <a:noFill/>
          </a:ln>
        </p:spPr>
      </p:pic>
      <p:pic>
        <p:nvPicPr>
          <p:cNvPr id="358" name="Imagen 3" descr=""/>
          <p:cNvPicPr/>
          <p:nvPr/>
        </p:nvPicPr>
        <p:blipFill>
          <a:blip r:embed="rId5"/>
          <a:stretch/>
        </p:blipFill>
        <p:spPr>
          <a:xfrm>
            <a:off x="5003640" y="6265800"/>
            <a:ext cx="2240280" cy="488880"/>
          </a:xfrm>
          <a:prstGeom prst="rect">
            <a:avLst/>
          </a:prstGeom>
          <a:ln w="0">
            <a:noFill/>
          </a:ln>
        </p:spPr>
      </p:pic>
      <p:sp>
        <p:nvSpPr>
          <p:cNvPr id="359" name="Rectángulo 4"/>
          <p:cNvSpPr/>
          <p:nvPr/>
        </p:nvSpPr>
        <p:spPr>
          <a:xfrm>
            <a:off x="460440" y="614196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rzy wsparciu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rogramu Erasmus+ Unii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Europejskiej. Niniejszy document i jego zawartość odzwierciedlają wyłącznie poglady autorów, a Komisja nie ponosi odpowiedzialności za jakiekolwiek wykorzystanie informacji w niej zawartych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FC05-FEC3-4280-AF96-58CB262B828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forbes.com/sites/petersuciu/2020/04/08/during-covid-19-pandemic-it-isnt-just-fake-news-but-seriously-bad-misinformation-that-is-spreading-on-social-media/#170d68867e55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aljazeera.com/news/2020/04/iran-700-dead-drinking-alcohol-cure-coronavirus-200427163529629.html" TargetMode="External"/><Relationship Id="rId2" Type="http://schemas.openxmlformats.org/officeDocument/2006/relationships/hyperlink" Target="https://www.nytimes.com/2020/04/24/us/politics/trump-inject-disinfectant-bleach-coronavirus.html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enterforhealthsecurity.org/" TargetMode="External"/><Relationship Id="rId2" Type="http://schemas.openxmlformats.org/officeDocument/2006/relationships/hyperlink" Target="https://hub.jhu.edu/2020/04/03/coronavirus-misinformation-rumors-social-media/" TargetMode="External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708360" y="4868640"/>
            <a:ext cx="4965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Arial Rounded MT Bold"/>
              </a:rPr>
              <a:t>Fałszywe wiadomości podczas epidemii COV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ángulo 1"/>
          <p:cNvSpPr/>
          <p:nvPr/>
        </p:nvSpPr>
        <p:spPr>
          <a:xfrm>
            <a:off x="0" y="328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wszechne dezinformacje online związane z COVID-19: sprawdzanie faktów i obalanie oszus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CasellaDiTesto 2"/>
          <p:cNvSpPr/>
          <p:nvPr/>
        </p:nvSpPr>
        <p:spPr>
          <a:xfrm>
            <a:off x="0" y="126828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Jak możemy być pewni, że Sara i Sharon to tylko cyfrowe fikcje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Po krótkim treningu BOTy są bardzo łatwe do wykrycia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Brak ‘followers’ (sledzacych prof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Brak zdjęcia profilowego (lub skradzionego zdjęcia profilowe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Od niedawna 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są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 na platfor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Losowo utworzone “chwy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Jednotematyczna obecność społeczna: konspiracja i panikars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Bardzo rzadka aktywność poza komentowaniem postów innych osó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CasellaDiTesto 4"/>
          <p:cNvSpPr/>
          <p:nvPr/>
        </p:nvSpPr>
        <p:spPr>
          <a:xfrm>
            <a:off x="0" y="7920"/>
            <a:ext cx="9144000" cy="68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Immagine 5" descr=""/>
          <p:cNvPicPr/>
          <p:nvPr/>
        </p:nvPicPr>
        <p:blipFill>
          <a:blip r:embed="rId1"/>
          <a:stretch/>
        </p:blipFill>
        <p:spPr>
          <a:xfrm>
            <a:off x="798480" y="150840"/>
            <a:ext cx="754704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CasellaDiTesto 2"/>
          <p:cNvSpPr/>
          <p:nvPr/>
        </p:nvSpPr>
        <p:spPr>
          <a:xfrm>
            <a:off x="0" y="1417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W pewnym momencie sytuacja była tak poważna, że ​​Google, Facebook, LinkedIn, Microsoft, Reddit, Twitter i YouTube postanawi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li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 zaangażować się 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razem w 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akcję przeciwko szerzeniu dezinformacji COVID-19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Z drugiej strony platformy te zagwarantują swoim użytkownikom tylko najbardziej wiarygodne i naukowo dokładne informacje, prowadząc do dostarczania aktualnych danych 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na bieżąco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329920" y="274320"/>
            <a:ext cx="635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asellaDiTesto 4"/>
          <p:cNvSpPr/>
          <p:nvPr/>
        </p:nvSpPr>
        <p:spPr>
          <a:xfrm>
            <a:off x="0" y="7920"/>
            <a:ext cx="9144000" cy="68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Immagine 1" descr=""/>
          <p:cNvPicPr/>
          <p:nvPr/>
        </p:nvPicPr>
        <p:blipFill>
          <a:blip r:embed="rId1"/>
          <a:stretch/>
        </p:blipFill>
        <p:spPr>
          <a:xfrm>
            <a:off x="108000" y="7920"/>
            <a:ext cx="4767120" cy="5437080"/>
          </a:xfrm>
          <a:prstGeom prst="rect">
            <a:avLst/>
          </a:prstGeom>
          <a:ln w="0">
            <a:noFill/>
          </a:ln>
        </p:spPr>
      </p:pic>
      <p:sp>
        <p:nvSpPr>
          <p:cNvPr id="616" name="TextBox 1"/>
          <p:cNvSpPr/>
          <p:nvPr/>
        </p:nvSpPr>
        <p:spPr>
          <a:xfrm>
            <a:off x="5148360" y="1363680"/>
            <a:ext cx="3811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półpracujem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ściśle w zakresie reagowania na COVID-19. Pomagamy milionom ludzi pozostać w kontakcie, jednocześnie zwalczając oszustwa i dezinformację na temat wirusa, udostępniając wiarygodne treści na naszych platformach i udostępniając krytyczne aktualizacje w koordynacji z rządowymi agencjami opieki zdrowotnej na całym świecie. Zapraszamy inne firmy do przyłączenia się do nas, ponieważ pracujemy nad utrzymaniem naszych społeczności w zdrowiu i bezpieczeństwi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CasellaDiTesto 2"/>
          <p:cNvSpPr/>
          <p:nvPr/>
        </p:nvSpPr>
        <p:spPr>
          <a:xfrm>
            <a:off x="0" y="1125360"/>
            <a:ext cx="914400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UNESCO bardzo poważnie potraktowało efekt „pandemii społecznej”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„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UNESCO pracuje również nad tym, aby pomóc ludziom stać się bardziej krytycznymi wobec tego, co jest im przedstawiane w internecie i gdzie indziej, jako fakt, tak aby byli mniej skłonni wierzyć i rozpowszechniać kłamstwa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Agencja używa hashtagów #ThinkBeforeSharing, #ThinkBeforeClicking i #ShareKnowledge i promuje pogląd, że prawa do wolności wypowiedzi i dostępu do informacji są najlepszym lekarstwem na niebezpieczeństwa dezinformacji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Rounded MT Bold"/>
              </a:rPr>
              <a:t>Źródło: During this coronavirus pandemic, ‘fake news’ is putting lives at risk, UNES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CasellaDiTesto 2"/>
          <p:cNvSpPr/>
          <p:nvPr/>
        </p:nvSpPr>
        <p:spPr>
          <a:xfrm>
            <a:off x="0" y="141768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To samo zrobiła Światowa Organizacja Zdrowia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Możesz zauważyć, że wyszukiwarka Google zawsze przekieruje Cię do oficjalnej witryny ŚOZ, aby wyszuk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ać informacji 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związan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ych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 z COVID-19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Zaczęło się to dziać dopiero niedawno, kiedy dyrektor Google i ŚOZ usiedli razem, aby omówić skuteczne rozwiązania, które pozwolą powstrzymać „pandemię społeczną” i zapewnić użytkownikom sieci najbezpieczniejsze środowisko cyfrowe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CasellaDiTesto 2"/>
          <p:cNvSpPr/>
          <p:nvPr/>
        </p:nvSpPr>
        <p:spPr>
          <a:xfrm>
            <a:off x="0" y="14176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W sekcji Mythbusters 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na stronie internetowej ŚOZ wymieniono 28 typowych dezinformacji dotyczących COVID-19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Każdy z nich jest naukowo sprawdzony i „wyrzucony”: jeśli masz jakiekolwiek obawy co do tego, co zobaczyłeś w Internecie, rozważ odwiedzenie strony internetowej i podzielenie się treścią ze znajomymi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r>
              <a:rPr b="0" lang="en-US" sz="30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CasellaDiTesto 2"/>
          <p:cNvSpPr/>
          <p:nvPr/>
        </p:nvSpPr>
        <p:spPr>
          <a:xfrm>
            <a:off x="0" y="1417680"/>
            <a:ext cx="914400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Podczas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globalnej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epidemii COVID-19 fałszywe wiadomości dotyczące wirus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rozprzestrzeniły się tak szybko, jak sama pandemia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Fałszywe informacje o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COVID-19 są niezwykle niebezpieczne, ponieważ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 jak 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podano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,  “[…]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uwzględni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ają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to, co wydaje się pochodzić z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dobrych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porad lekar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skich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, ale okazuje się błędne, a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w niektórych przypadkach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bardzo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niebezpiecznie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CasellaDiTesto 2"/>
          <p:cNvSpPr/>
          <p:nvPr/>
        </p:nvSpPr>
        <p:spPr>
          <a:xfrm>
            <a:off x="0" y="1417680"/>
            <a:ext cx="91440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Na przykład w Iranie, </a:t>
            </a:r>
            <a:r>
              <a:rPr b="0" lang="pl-PL" sz="25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ponad 700 osób zmarło z powodu zatrucia alkoholem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b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łę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dnie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wierząc, że duża ilość metanolu we krwi może chronić organizm przed wirusem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W innym znanym 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poważnym przypadku dezinformacji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publiczne oburzenie środowiska naukowego potępiło słowa prezydenta USA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 s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ugerując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ego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wstrzyknięcie wybielacza jako leczenia przeciwko COVID-19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195280" y="27432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CasellaDiTesto 2"/>
          <p:cNvSpPr/>
          <p:nvPr/>
        </p:nvSpPr>
        <p:spPr>
          <a:xfrm>
            <a:off x="0" y="1417680"/>
            <a:ext cx="914400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Samo 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 Rounded MT Bold"/>
                <a:hlinkClick r:id="rId1"/>
              </a:rPr>
              <a:t>Johns Hopkins Center for Health Security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–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jedno z najbardziej wiarygodnych źródeł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informacji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związanych z globalną epidemią COVID-19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a także jed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en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z wiodących ośrodków naukowych w walce z COVID-19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,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zostało zmuszone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aby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2500" spc="-1" strike="noStrike" u="sng">
                <a:solidFill>
                  <a:srgbClr val="009999"/>
                </a:solidFill>
                <a:uFillTx/>
                <a:latin typeface="Arial Rounded MT Bold"/>
                <a:hlinkClick r:id="rId2"/>
              </a:rPr>
              <a:t>oglosić publicznie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ostrzeżenie o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zupe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ł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nie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nie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poprawnych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raportach i zaleceniach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o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publikowanych w jej imieniu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ale bez żadnych powiązań z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własnym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personelem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208240" y="274320"/>
            <a:ext cx="693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CasellaDiTesto 2"/>
          <p:cNvSpPr/>
          <p:nvPr/>
        </p:nvSpPr>
        <p:spPr>
          <a:xfrm>
            <a:off x="0" y="1125360"/>
            <a:ext cx="914400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We Włoszech, pierwszym epicentrum epidemii w UE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, w okresie od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stycznia do kwietnia 2020 r.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, w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ś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ród 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w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szystkich postów dotyczących COVID-19 udostępnionych w mediach społecznościowych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 średnio 5,5%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było całkowicie / częściowo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b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ł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ednych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Nawet jeśli ludzie doskonale zdają sobie sprawę ze zjawiska fałszywych wiadomości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– w innym badaniu,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włoska opinia publiczna była bardzo sceptycznie nastawiona do najbardziej wiarygodnego źródła wiadomości o COVID-19, przy czym prawie 8 na 10 osób uważa, że ​​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to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Facebook jest głównym odpowiedzialnym za gromadzenie nie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prawdziwych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informacji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, więc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ie </a:t>
            </a:r>
            <a:r>
              <a:rPr b="0" lang="it-IT" sz="2500" spc="-1" strike="noStrike">
                <a:solidFill>
                  <a:srgbClr val="000000"/>
                </a:solidFill>
                <a:latin typeface="Arial Rounded MT Bold"/>
              </a:rPr>
              <a:t>potrzeba odpowiednich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 szkoleń, aby je wykryć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CasellaDiTesto 2"/>
          <p:cNvSpPr/>
          <p:nvPr/>
        </p:nvSpPr>
        <p:spPr>
          <a:xfrm>
            <a:off x="0" y="1417680"/>
            <a:ext cx="9144000" cy="44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Twitter również ma swoj udział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Według Bot Sentinel, </a:t>
            </a: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największego na świecie zbioru danych o działaniach BOTów online, dopiero 26 marca, w ciągu 24 godzin, BOT odpowiadał za 1627 wprowadzających w błąd tweetów związanych z wirusami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000000"/>
                </a:solidFill>
                <a:latin typeface="Arial Rounded MT Bold"/>
              </a:rPr>
              <a:t>Na przykład spójrz na następujący wątek</a:t>
            </a:r>
            <a:r>
              <a:rPr b="0" lang="en-GB" sz="2500" spc="-1" strike="noStrike">
                <a:solidFill>
                  <a:srgbClr val="000000"/>
                </a:solidFill>
                <a:latin typeface="Arial Rounded MT Bold"/>
              </a:rPr>
              <a:t>*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Rounded MT Bold"/>
              </a:rPr>
              <a:t>*źródło: ScienceAlert.co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Immagine 1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464000" cy="2681280"/>
          </a:xfrm>
          <a:prstGeom prst="rect">
            <a:avLst/>
          </a:prstGeom>
          <a:ln w="0">
            <a:noFill/>
          </a:ln>
        </p:spPr>
      </p:pic>
      <p:sp>
        <p:nvSpPr>
          <p:cNvPr id="574" name="CasellaDiTesto 3"/>
          <p:cNvSpPr/>
          <p:nvPr/>
        </p:nvSpPr>
        <p:spPr>
          <a:xfrm>
            <a:off x="0" y="44607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Oświadczenie, które widzisz powyżej, zostało opublikowane przez oficjalne publiczne organy opieki zdrowotnej. Oto, co się stanie wkrótce potem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"/>
          <p:cNvSpPr/>
          <p:nvPr/>
        </p:nvSpPr>
        <p:spPr>
          <a:xfrm>
            <a:off x="4859280" y="155736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jeśli nie byłeś za granicą lub nie miałeś kontaktu z potwierdzonym przypadkiem, nie będziesz badany pod kątem nowego koronawirusa (COVID-19), ponieważ jest bardziej prawdopodobne, że masz innego wirusa, takiego jak przeziębienie lub gryp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Immagine 2" descr=""/>
          <p:cNvPicPr/>
          <p:nvPr/>
        </p:nvPicPr>
        <p:blipFill>
          <a:blip r:embed="rId1"/>
          <a:stretch/>
        </p:blipFill>
        <p:spPr>
          <a:xfrm>
            <a:off x="179280" y="1228680"/>
            <a:ext cx="4819680" cy="44006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"/>
          <p:cNvSpPr/>
          <p:nvPr/>
        </p:nvSpPr>
        <p:spPr>
          <a:xfrm>
            <a:off x="5148360" y="1447920"/>
            <a:ext cx="37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ęc skąd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e do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iemy, czy byliśmy w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liskim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kontakcie z potwierdzonym przypadkiem, jeśli nie jesteśmy poinformowani, kim oni są i gdzie byli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"/>
          <p:cNvSpPr/>
          <p:nvPr/>
        </p:nvSpPr>
        <p:spPr>
          <a:xfrm>
            <a:off x="5148360" y="3357720"/>
            <a:ext cx="381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ejrzewa się, że moja mama ma koronę ... powiedzieli, że nie ma potrzeby przeprowadzania testów,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 ma inne schorze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Co za żart! Rozprzestrzenia się teraz w społeczności!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na n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e leciała samolotem ani nie kontaktowała się z nikim z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zagrożonych krajó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000" spc="-1" strike="noStrike">
                <a:solidFill>
                  <a:srgbClr val="000000"/>
                </a:solidFill>
                <a:latin typeface="Arial Rounded MT Bold"/>
              </a:rPr>
              <a:t>Fałszywe wiadomości </a:t>
            </a:r>
            <a:r>
              <a:rPr b="0" lang="it-IT" sz="3000" spc="-1" strike="noStrike">
                <a:solidFill>
                  <a:srgbClr val="000000"/>
                </a:solidFill>
                <a:latin typeface="Arial Rounded MT Bold"/>
              </a:rPr>
              <a:t>zagrażają życi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CasellaDiTesto 2"/>
          <p:cNvSpPr/>
          <p:nvPr/>
        </p:nvSpPr>
        <p:spPr>
          <a:xfrm>
            <a:off x="0" y="14176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Komentarze Sary i Sharon są dość niepokojące z prostego powodu: </a:t>
            </a:r>
            <a:r>
              <a:rPr b="0" lang="it-IT" sz="2400" spc="-1" strike="noStrike">
                <a:solidFill>
                  <a:srgbClr val="000000"/>
                </a:solidFill>
                <a:latin typeface="Arial Rounded MT Bold"/>
              </a:rPr>
              <a:t>podważają w</a:t>
            </a: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iarygodność ekspertów, którzy poświęcili swoje życie ochronie zdrowia obywateli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 Rounded MT Bold"/>
              </a:rPr>
              <a:t>Jeszcze bardziej przerażające jest to, że żadna z matek Sary, Sharon i Sary tak naprawdę nie istnieje: to, co właśnie zobaczyłeś, doskonale przedstawia typową interferencję BOT, mającą na celu wywołanie u niczego niepodejrzewającego czytelnika poczucia zagubienia</a:t>
            </a: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User</dc:creator>
  <dc:description/>
  <dc:language>en-US</dc:language>
  <cp:lastModifiedBy>Katarzyna Turzanska</cp:lastModifiedBy>
  <dcterms:modified xsi:type="dcterms:W3CDTF">2020-09-24T16:32:12Z</dcterms:modified>
  <cp:revision>581</cp:revision>
  <dc:subject/>
  <dc:title>Title</dc:title>
</cp:coreProperties>
</file>