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D0D98B-AACD-4280-84B1-AFBD2822C7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57C10D-5C8A-4BE6-868F-F7431E52835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CE5B99-67B1-4B27-A3DA-CD2C068F93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CF90F5-5430-4C99-AE67-9BC5FD4844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D4EBE0-6A5F-4AF2-B8E9-8BE6953AB2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98BD11-E966-4D98-8833-5E82737833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C67BEF-E6DF-4835-9C70-6C5BBAC6BE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AD38A4A-FB02-4B7D-83C9-379A6AF2C0E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55EFB0F-23B3-4B72-AD65-B5AF1767213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3582BA0-A813-4AA3-A251-9BA752118A8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4719EC2-434F-4467-ADE6-5965388A8C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41AF03-467B-4432-8E34-157874915AF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715C63-9E3A-4208-B4FC-091BE5FF727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7EA5ECD-0988-4126-B45F-8E1DA0C13B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1710EC-B7AB-498E-A3BA-9C7A136F81F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180676-EE80-427F-B774-0D68AEE8F5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33DE87-02CF-42A9-B888-D697417046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7BA0D0-42DB-408E-8320-A522819ECE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07370DE-DE8E-4542-8123-8384DE3A32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2F6EF79-09A8-4DD7-890A-0B6072CFEA5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C8690F2-2834-4774-A8BB-71B69B2A128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A031EBB-831E-4724-AE43-98AE84D725F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9AB1658-764A-40D0-B58B-D9B1C5A656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303722E-FE33-449B-B98E-7B6AD0106F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44E2C0C-0A02-49C1-92C6-3CD71E971F6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01CB93-69A9-4600-94DF-758746D394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79F022-244A-4B01-AAD8-11A436EB686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0AC3D78-0F0D-489B-96D4-05B8BB1652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FBAF6C-0661-4A2C-B5B3-98AAE319D8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D8CCA2-E1D7-48C1-B912-9A31E41350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A3CABA1-323C-439D-9671-9C99DC761DC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99E7F8E-498E-46BD-A1CB-34D70B8CBD3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6BDD09D-AB0C-4765-A8F3-45A962494D8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1CA3BE7-98B9-4122-8326-ABA23BC0164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55718D3-9C46-4A99-8BDB-214FB62F425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E6F1CF-0662-40EE-922F-DA9480B533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3872919-44DF-4E46-8151-1859A39583B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FAAB24-1E15-438A-9C2E-7EC6DEC395A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722F562-8FA7-47AA-BE44-88DB68C6648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92B69A-68EC-4DD0-B0CF-15640ED2F4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A46864-1C7F-4E5B-9CC7-CB20A546E78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EB7C8C-A847-4C4E-81F2-0FE1BCF090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DC3D1EC-847A-4CC4-93AC-CBC626F18B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B6B9038-225A-421E-9231-C650B5499B6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3A28797-0A61-466D-AE47-8DA73427F96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80450-0837-41F2-8F7D-D9A5CF178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666C8-A29D-4A24-A8D6-164497CB5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D017ED-FFE1-4CA3-B6E5-5550F80A0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8F9E8-9F85-43A2-9B65-9D926089C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D8314-01A0-40D1-9AA7-E21817FD8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CADE45-70E6-4D46-869C-A2FE9E876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D62C4-672F-4299-A35F-ECB69E3E5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276AC-C3E6-4406-AD73-D86BE535B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04CB3-565E-4D30-AA30-07809318A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2F6C6E-80E5-496E-A5B0-CC3CB01DA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7A7E5-E88C-416D-B310-E2587AA93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F1A0EE-8725-4B6B-A137-E840B563DC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7B6E23-624F-4AE0-934B-A56E100F6E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DD6A9C-6CF1-4243-8D23-4293093BFC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F6DAEE-8F3C-4D7E-A92E-4BD6A55222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61FC4E-1D28-493E-B5D9-9E5CF3F906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5AED9D-6068-4EFA-BEC5-F90B3DC8ED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9804FE-D54F-4CDE-9C6C-5330BDA1CA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75E1C0-1139-4594-900B-E39E1CBB83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BC8F66-E4D6-40F3-BEED-A26328F3F2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41B8E6-DFCA-4DBA-8901-D20CD9E683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8BC1E4-9FA4-4A3A-9552-56C2C7B3F0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F7069B-83BC-4B97-A4A9-463E3CFA83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F1A869-BB21-4351-82F2-6D5BA6825D9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708A56-A3EE-4EFD-AD77-D852A6DDFC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D6F7BB-E0FB-4F68-BB58-D438BF84D6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E3F612-0BE1-4F86-BC58-28B4DF56FA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68D6B6-6F8D-473B-997E-3D17CBEFC6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126805-9BF7-4AE6-83E8-976036F615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D4E873-50DB-495B-9F04-8F9E727830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94C73A-332E-4A55-B7B6-F3ACA839AA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EC9DCA-760E-4F23-A0C3-BCEB7709B3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705221-E9AA-4123-81D4-9C76C1984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1FECC3-176A-406E-930A-00A291B5AC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D67BC5D-DA37-4021-9C03-B00E2CEFB3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6B1B4F-BFDA-426F-AB49-0C4F73AC50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957BC15-67D3-460F-B07F-6BFCC52CD2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9B8FA7-FFEC-4598-98A5-09A6C49BE5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847B72-D0BF-4D78-BDFB-2EF832D668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33AF1F-B309-4E54-91E4-425B6A1388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961465-AAFC-4065-9937-47D63FDEE5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3F4CB8-36F3-4345-90C7-752A92BE6E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32CCE7-7197-4A7B-9CEE-963E8843726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4DE6DD-4E5A-4692-9829-FCC1A2FBE8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5AA7D2-2B86-4FB6-919D-A6139B332A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F4E423-1641-44D1-8F89-7031A4436E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4C3D963-553F-463D-ABC6-C67E4F345A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D7C948-6078-44FD-B333-48E66E0D2E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83BF636-47E1-4358-825A-8A94E08AF1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544646-F2C4-456A-B0DC-A58548D484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0A104E-1025-43EA-897D-F08034E2C6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66825B-4259-475C-9807-4257EBEB78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842769-7A5B-435B-BC98-E3961D5ED1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4527A5-2913-486A-9405-D6CDB47FB8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75FD65-185C-4B3C-9E52-5F6EFAB9CF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9F18FA-FF0D-4600-9225-51FE32DB6F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B86128-C8E1-44F4-856C-76E5FB7AB5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15E32E-9B3A-477E-B2A3-3966F2D65C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B7DA4A8-9439-45F6-8485-A2331E731E7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284EB5-97ED-4102-9587-9653DFE3C0C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D511B1F-C91B-49E2-A7B9-F8237AAFB7B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ACBA79C-2B7C-4EA2-99E3-29910B3DE8C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087023-2FE4-4954-884F-3D94B7FE07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25C89E-AFDA-4160-9AF0-B58886DFC8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011B4A-914E-4B25-A0A7-52B83D6D63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215117A-4891-4895-94C0-314D65119D2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25EF4E-18C8-4281-B114-8D94A494DA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8B698A-BA97-4E4C-929E-02B4B273A4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D0BAC2-AD64-402C-91A7-39BF91631B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4FA515-962E-4AE7-B91F-E2B1DFF7A06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3929E8-857F-4E44-ABB6-EF18FA66AA2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4AB0F91-03AA-4178-A6E6-9D0D410A82B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9527DC1-6ED3-434C-9342-B4475F1BE0D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D683FF-8083-49D8-8EA7-66CE145B71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688DF2-1657-4EDA-89C9-B8D28CE6103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601E-2A6B-4657-B67F-53C0CB61481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AEB3-C178-4BCE-9495-DD119A6F59A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5C60-B25A-48BA-8825-A7B3ACBC3AC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58C7-D75E-4DAB-B8C7-80C422573C2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D57A-05ED-48A9-9117-4FFE4998AC4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296E-D109-49B8-8538-1D626F506BC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898C-6B3F-4175-925C-56A15D8690D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1E29-8D49-4402-84C6-A9D0B867EEE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06BB-CA55-4421-B581-7AFD2CD9D0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359B-2E6C-49A4-AD6C-8FD2F10B557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rowsing, Searching and Filtering Data</a:t>
            </a:r>
            <a:endParaRPr b="0" lang="en-US" sz="3600" spc="-1" strike="noStrike">
              <a:solidFill>
                <a:srgbClr val="000000"/>
              </a:solidFill>
              <a:latin typeface="Arial"/>
            </a:endParaRPr>
          </a:p>
        </p:txBody>
      </p:sp>
      <p:sp>
        <p:nvSpPr>
          <p:cNvPr id="537"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nformation &amp;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hat happens on the Interne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s is what happens i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ne minute on th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Search Engines</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search engine will allow you to quickly search through millions of web pag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re are different types of search engines e.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nk about what information you would like to search f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search using words or by asking a question e.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en-GB" sz="2800" spc="-1" strike="noStrike">
                <a:solidFill>
                  <a:srgbClr val="000000"/>
                </a:solidFill>
                <a:latin typeface="Arial Rounded MT Bold"/>
              </a:rPr>
              <a:t>What is the capital of Spain?</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2050920" y="2843280"/>
            <a:ext cx="1241640" cy="442800"/>
          </a:xfrm>
          <a:prstGeom prst="rect">
            <a:avLst/>
          </a:prstGeom>
          <a:ln w="0">
            <a:noFill/>
          </a:ln>
        </p:spPr>
      </p:pic>
      <p:pic>
        <p:nvPicPr>
          <p:cNvPr id="569" name="Picture 3" descr=""/>
          <p:cNvPicPr/>
          <p:nvPr/>
        </p:nvPicPr>
        <p:blipFill>
          <a:blip r:embed="rId2"/>
          <a:stretch/>
        </p:blipFill>
        <p:spPr>
          <a:xfrm>
            <a:off x="4224240" y="284328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1</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pen the search engine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ype in the topic you wish to search for e.g. Cinema times and press ‘Enter’. This is a very broad search.</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1 (continued)</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get far more results than you need so if you add more words to your search you will get better results e.g. </a:t>
            </a:r>
            <a:r>
              <a:rPr b="0" lang="hu-HU" sz="3200" spc="-1" strike="noStrike">
                <a:solidFill>
                  <a:srgbClr val="000000"/>
                </a:solidFill>
                <a:latin typeface="Arial Rounded MT Bold"/>
              </a:rPr>
              <a:t>’</a:t>
            </a:r>
            <a:r>
              <a:rPr b="0" lang="en-GB" sz="3200" spc="-1" strike="noStrike">
                <a:solidFill>
                  <a:srgbClr val="000000"/>
                </a:solidFill>
                <a:latin typeface="Arial Rounded MT Bold"/>
              </a:rPr>
              <a:t>Cinema times for Dubli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ould like to go to the cinema on Tuesday night - Search for the cinema times in your own town</a:t>
            </a:r>
            <a:r>
              <a:rPr b="0" lang="hu-HU" sz="3200" spc="-1" strike="noStrike">
                <a:solidFill>
                  <a:srgbClr val="000000"/>
                </a:solidFill>
                <a:latin typeface="Arial Rounded MT Bold"/>
              </a:rPr>
              <a:t> on Tuesday</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What kind of information can I find on the Internet?</a:t>
            </a:r>
            <a:endParaRPr b="0" lang="en-US" sz="3800" spc="-1" strike="noStrike">
              <a:solidFill>
                <a:srgbClr val="000000"/>
              </a:solidFill>
              <a:latin typeface="Arial"/>
            </a:endParaRPr>
          </a:p>
        </p:txBody>
      </p:sp>
      <p:sp>
        <p:nvSpPr>
          <p:cNvPr id="576"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find information on any subject you like on the Internet. For examp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ews in your are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avel inform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ok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r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usiness inform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us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2</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are planning a trip to Dublin, Ireland in June. Use your search engine to find out:</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the weather will be lik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the main tourist attra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irlines fly from your country to Dublin</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a URL?</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metimes you won’t need to use a search engine.</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very web page has its own unique address called a Universal Resource Locator (UR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know the URL you can type it in to the address brows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r example:</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in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and press return</a:t>
            </a:r>
            <a:r>
              <a:rPr b="0" lang="hu-HU" sz="2800" spc="-1" strike="noStrike">
                <a:solidFill>
                  <a:srgbClr val="000000"/>
                </a:solidFill>
                <a:latin typeface="Arial Rounded MT Bold"/>
              </a:rPr>
              <a:t>/Enter button.</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4559400" y="3686040"/>
            <a:ext cx="2460600" cy="125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Linking to other pages</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n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you will notice as you move the mouse pointer across the page, the         symbol sometimes changes to a        symbol.</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hen this happens, it means you have found a link to another web page. Just click the mouse!</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3564000" y="2620800"/>
            <a:ext cx="525240" cy="490680"/>
          </a:xfrm>
          <a:prstGeom prst="rect">
            <a:avLst/>
          </a:prstGeom>
          <a:ln w="0">
            <a:noFill/>
          </a:ln>
        </p:spPr>
      </p:pic>
      <p:pic>
        <p:nvPicPr>
          <p:cNvPr id="585" name="Picture 3" descr=""/>
          <p:cNvPicPr/>
          <p:nvPr/>
        </p:nvPicPr>
        <p:blipFill>
          <a:blip r:embed="rId3"/>
          <a:stretch/>
        </p:blipFill>
        <p:spPr>
          <a:xfrm>
            <a:off x="3564000" y="3203640"/>
            <a:ext cx="503280" cy="5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ercise</a:t>
            </a:r>
            <a:r>
              <a:rPr b="0" lang="hu-HU" sz="3600" spc="-1" strike="noStrike">
                <a:solidFill>
                  <a:srgbClr val="000000"/>
                </a:solidFill>
                <a:latin typeface="Arial Rounded MT Bold"/>
              </a:rPr>
              <a:t> 3</a:t>
            </a:r>
            <a:br>
              <a:rPr sz="3600"/>
            </a:br>
            <a:r>
              <a:rPr b="0" lang="en-GB" sz="3600" spc="-1" strike="noStrike">
                <a:solidFill>
                  <a:srgbClr val="000000"/>
                </a:solidFill>
                <a:latin typeface="Arial Rounded MT Bold"/>
              </a:rPr>
              <a:t>Downloading Google Chrome</a:t>
            </a:r>
            <a:endParaRPr b="0" lang="en-US" sz="3600" spc="-1" strike="noStrike">
              <a:solidFill>
                <a:srgbClr val="000000"/>
              </a:solidFill>
              <a:latin typeface="Arial"/>
            </a:endParaRPr>
          </a:p>
        </p:txBody>
      </p:sp>
      <p:sp>
        <p:nvSpPr>
          <p:cNvPr id="587" name=""/>
          <p:cNvSpPr txBox="1"/>
          <p:nvPr/>
        </p:nvSpPr>
        <p:spPr>
          <a:xfrm>
            <a:off x="250560" y="1600200"/>
            <a:ext cx="85690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o use Google Chrome, you must first </a:t>
            </a:r>
            <a:r>
              <a:rPr b="1" lang="en-GB" sz="2200" spc="-1" strike="noStrike">
                <a:solidFill>
                  <a:srgbClr val="000000"/>
                </a:solidFill>
                <a:latin typeface="Arial Rounded MT Bold"/>
              </a:rPr>
              <a:t>download and install</a:t>
            </a:r>
            <a:r>
              <a:rPr b="0" lang="en-GB" sz="2200" spc="-1" strike="noStrike">
                <a:solidFill>
                  <a:srgbClr val="000000"/>
                </a:solidFill>
                <a:latin typeface="Arial Rounded MT Bold"/>
              </a:rPr>
              <a:t> it to your computer. The process is simple and should take no more than a few minutes.</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sing your current web browser, navigate to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Google Chrome download page will appear. Locate and select the </a:t>
            </a:r>
            <a:r>
              <a:rPr b="1" lang="en-GB" sz="2200" spc="-1" strike="noStrike">
                <a:solidFill>
                  <a:srgbClr val="000000"/>
                </a:solidFill>
                <a:latin typeface="Arial Rounded MT Bold"/>
              </a:rPr>
              <a:t>Download now</a:t>
            </a:r>
            <a:r>
              <a:rPr b="0" lang="en-GB" sz="2200" spc="-1" strike="noStrike">
                <a:solidFill>
                  <a:srgbClr val="000000"/>
                </a:solidFill>
                <a:latin typeface="Arial Rounded MT Bold"/>
              </a:rPr>
              <a:t> butto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dialog box will appear. Review the Google Chrome Terms of Service, then click </a:t>
            </a:r>
            <a:r>
              <a:rPr b="1" lang="en-GB" sz="2200" spc="-1" strike="noStrike">
                <a:solidFill>
                  <a:srgbClr val="000000"/>
                </a:solidFill>
                <a:latin typeface="Arial Rounded MT Bold"/>
              </a:rPr>
              <a:t>Accept and Install</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a:t>
            </a:r>
            <a:r>
              <a:rPr b="1" lang="en-GB" sz="2200" spc="-1" strike="noStrike">
                <a:solidFill>
                  <a:srgbClr val="000000"/>
                </a:solidFill>
                <a:latin typeface="Arial Rounded MT Bold"/>
              </a:rPr>
              <a:t> Google Chrome Installer </a:t>
            </a:r>
            <a:r>
              <a:rPr b="0" lang="en-GB" sz="2200" spc="-1" strike="noStrike">
                <a:solidFill>
                  <a:srgbClr val="000000"/>
                </a:solidFill>
                <a:latin typeface="Arial Rounded MT Bold"/>
              </a:rPr>
              <a:t>will open automatically. Step-by-step instructions will appear in the browser window if you are not sure how to proceed.</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derstand the Internet and what it doe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rowse and search for informa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are Digital Skills?</a:t>
            </a:r>
            <a:endParaRPr b="0" lang="en-US" sz="3600" spc="-1" strike="noStrike">
              <a:solidFill>
                <a:srgbClr val="000000"/>
              </a:solidFill>
              <a:latin typeface="Arial"/>
            </a:endParaRPr>
          </a:p>
        </p:txBody>
      </p:sp>
      <p:sp>
        <p:nvSpPr>
          <p:cNvPr id="541" name=""/>
          <p:cNvSpPr txBox="1"/>
          <p:nvPr/>
        </p:nvSpPr>
        <p:spPr>
          <a:xfrm>
            <a:off x="468360" y="1628280"/>
            <a:ext cx="8299440" cy="4464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First you need the </a:t>
            </a:r>
            <a:r>
              <a:rPr b="0" lang="en-GB" sz="3200" spc="-1" strike="noStrike">
                <a:solidFill>
                  <a:srgbClr val="000000"/>
                </a:solidFill>
                <a:latin typeface="Arial Rounded MT Bold"/>
              </a:rPr>
              <a:t>Technical </a:t>
            </a:r>
            <a:r>
              <a:rPr b="0" lang="hu-HU" sz="3200" spc="-1" strike="noStrike">
                <a:solidFill>
                  <a:srgbClr val="000000"/>
                </a:solidFill>
                <a:latin typeface="Arial Rounded MT Bold"/>
              </a:rPr>
              <a:t>equipme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Hardw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oftware</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hen comes </a:t>
            </a:r>
            <a:r>
              <a:rPr b="0" lang="en-GB" sz="3200" spc="-1" strike="noStrike">
                <a:solidFill>
                  <a:srgbClr val="000000"/>
                </a:solidFill>
                <a:latin typeface="Arial Rounded MT Bold"/>
              </a:rPr>
              <a:t>Information Processing</a:t>
            </a:r>
            <a:r>
              <a:rPr b="0" lang="hu-HU" sz="3200" spc="-1" strike="noStrike">
                <a:solidFill>
                  <a:srgbClr val="000000"/>
                </a:solidFill>
                <a:latin typeface="Arial Rounded MT Bold"/>
              </a:rPr>
              <a:t> (Digital)</a:t>
            </a:r>
            <a:r>
              <a:rPr b="0" lang="en-GB" sz="3200" spc="-1" strike="noStrike">
                <a:solidFill>
                  <a:srgbClr val="000000"/>
                </a:solidFill>
                <a:latin typeface="Arial Rounded MT Bold"/>
              </a:rPr>
              <a:t> Skill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Accessing, Organizing, Storing and </a:t>
            </a:r>
            <a:r>
              <a:rPr b="0" lang="en-GB" sz="2800" spc="-1" strike="noStrike">
                <a:solidFill>
                  <a:srgbClr val="000000"/>
                </a:solidFill>
                <a:latin typeface="Arial Rounded MT Bold"/>
              </a:rPr>
              <a:t>	</a:t>
            </a:r>
            <a:r>
              <a:rPr b="0" lang="en-GB" sz="2800" spc="-1" strike="noStrike">
                <a:solidFill>
                  <a:srgbClr val="000000"/>
                </a:solidFill>
                <a:latin typeface="Arial Rounded MT Bold"/>
              </a:rPr>
              <a:t>Communicating Informatio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computer, laptop, tablet or smartphone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derstanding the Internet</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is the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 word ‘Internet’ comes from the combination of parts of the two words ‘International’ and ‘Net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 Internet is used in our daily lives e.g. looking at the news, shopping online, banking, music etc.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How does it work?</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Internet is a library of millions of computers and computer networks all over the world</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is connected using communication network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Internet is the actual network on which all other services are run, e.g. the World Wide Web, email etc.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allows communication and exchange of information between every computer on the network. </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he World Wide Web</a:t>
            </a:r>
            <a:endParaRPr b="0" lang="en-US" sz="3200" spc="-1" strike="noStrike">
              <a:solidFill>
                <a:srgbClr val="000000"/>
              </a:solidFill>
              <a:latin typeface="Arial"/>
            </a:endParaRPr>
          </a:p>
        </p:txBody>
      </p:sp>
      <p:sp>
        <p:nvSpPr>
          <p:cNvPr id="555" name=""/>
          <p:cNvSpPr txBox="1"/>
          <p:nvPr/>
        </p:nvSpPr>
        <p:spPr>
          <a:xfrm>
            <a:off x="394920" y="1197000"/>
            <a:ext cx="8372520" cy="48960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 is the World Wide Web (www)?</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library of information on any subject you are interested in.</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en you look up information on the www (or Internet) you are ‘surfing the Web’</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World Wide Web’ is </a:t>
            </a:r>
            <a:r>
              <a:rPr b="0" lang="hu-HU" sz="2200" spc="-1" strike="noStrike">
                <a:solidFill>
                  <a:srgbClr val="000000"/>
                </a:solidFill>
                <a:latin typeface="Arial Rounded MT Bold"/>
              </a:rPr>
              <a:t>the part of the Internet</a:t>
            </a:r>
            <a:r>
              <a:rPr b="0" lang="en-GB" sz="2200" spc="-1" strike="noStrike">
                <a:solidFill>
                  <a:srgbClr val="000000"/>
                </a:solidFill>
                <a:latin typeface="Arial Rounded MT Bold"/>
              </a:rPr>
              <a:t> which is made up of millions of websites and web pages. The ‘World Wide Web’ then uses the Internet to link all of these websites together</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 is a website?</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internet is divided into parts called website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ach website has a group of pages (called web pages) containing information on a particular subje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How do I connect to</a:t>
            </a:r>
            <a:br>
              <a:rPr sz="3200"/>
            </a:br>
            <a:r>
              <a:rPr b="1" lang="en-GB" sz="3200" spc="-1" strike="noStrike">
                <a:solidFill>
                  <a:srgbClr val="000000"/>
                </a:solidFill>
                <a:latin typeface="Arial Rounded MT Bold"/>
              </a:rPr>
              <a:t>the Internet?</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need a</a:t>
            </a:r>
            <a:r>
              <a:rPr b="0" lang="hu-HU" sz="3200" spc="-1" strike="noStrike">
                <a:solidFill>
                  <a:srgbClr val="000000"/>
                </a:solidFill>
                <a:latin typeface="Arial Rounded MT Bold"/>
              </a:rPr>
              <a:t> </a:t>
            </a:r>
            <a:r>
              <a:rPr b="0" lang="en-GB" sz="3200" spc="-1" strike="noStrike">
                <a:solidFill>
                  <a:srgbClr val="000000"/>
                </a:solidFill>
                <a:latin typeface="Arial Rounded MT Bold"/>
              </a:rPr>
              <a:t>devic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need an </a:t>
            </a:r>
            <a:r>
              <a:rPr b="1" lang="en-GB" sz="3200" spc="-1" strike="noStrike">
                <a:solidFill>
                  <a:srgbClr val="000000"/>
                </a:solidFill>
                <a:latin typeface="Arial Rounded MT Bold"/>
              </a:rPr>
              <a:t>Internet Service Provider (ISP)</a:t>
            </a:r>
            <a:r>
              <a:rPr b="0" lang="en-GB" sz="3200" spc="-1" strike="noStrike">
                <a:solidFill>
                  <a:srgbClr val="000000"/>
                </a:solidFill>
                <a:latin typeface="Arial Rounded MT Bold"/>
              </a:rPr>
              <a:t> – you will pay them to connect you to the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then use a </a:t>
            </a:r>
            <a:r>
              <a:rPr b="1" lang="en-GB" sz="3200" spc="-1" strike="noStrike">
                <a:solidFill>
                  <a:srgbClr val="000000"/>
                </a:solidFill>
                <a:latin typeface="Arial Rounded MT Bold"/>
              </a:rPr>
              <a:t>browser</a:t>
            </a:r>
            <a:r>
              <a:rPr b="0" lang="en-GB" sz="3200" spc="-1" strike="noStrike">
                <a:solidFill>
                  <a:srgbClr val="000000"/>
                </a:solidFill>
                <a:latin typeface="Arial Rounded MT Bold"/>
              </a:rPr>
              <a:t> to navigate the World Wide Web</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a Browser?</a:t>
            </a:r>
            <a:endParaRPr b="0" lang="en-US" sz="4400" spc="-1" strike="noStrike">
              <a:solidFill>
                <a:srgbClr val="000000"/>
              </a:solidFill>
              <a:latin typeface="Arial"/>
            </a:endParaRPr>
          </a:p>
        </p:txBody>
      </p:sp>
      <p:sp>
        <p:nvSpPr>
          <p:cNvPr id="559"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a:t>
            </a:r>
            <a:r>
              <a:rPr b="1" lang="en-GB" sz="3200" spc="-1" strike="noStrike">
                <a:solidFill>
                  <a:srgbClr val="000000"/>
                </a:solidFill>
                <a:latin typeface="Arial Rounded MT Bold"/>
              </a:rPr>
              <a:t>browser</a:t>
            </a:r>
            <a:r>
              <a:rPr b="0" lang="en-GB" sz="3200" spc="-1" strike="noStrike">
                <a:solidFill>
                  <a:srgbClr val="000000"/>
                </a:solidFill>
                <a:latin typeface="Arial Rounded MT Bold"/>
              </a:rPr>
              <a:t> allows you to explore the World Wide Web and view websi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xamples of brows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is a free web browser from Googl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is a free web browser from Mozill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is a web browser from Microsoft</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00160" y="3384720"/>
            <a:ext cx="745920" cy="738000"/>
          </a:xfrm>
          <a:prstGeom prst="rect">
            <a:avLst/>
          </a:prstGeom>
          <a:ln w="0">
            <a:noFill/>
          </a:ln>
        </p:spPr>
      </p:pic>
      <p:pic>
        <p:nvPicPr>
          <p:cNvPr id="561" name="Picture 3" descr=""/>
          <p:cNvPicPr/>
          <p:nvPr/>
        </p:nvPicPr>
        <p:blipFill>
          <a:blip r:embed="rId2"/>
          <a:stretch/>
        </p:blipFill>
        <p:spPr>
          <a:xfrm>
            <a:off x="223920" y="4246560"/>
            <a:ext cx="722160" cy="793800"/>
          </a:xfrm>
          <a:prstGeom prst="rect">
            <a:avLst/>
          </a:prstGeom>
          <a:ln w="0">
            <a:noFill/>
          </a:ln>
        </p:spPr>
      </p:pic>
      <p:pic>
        <p:nvPicPr>
          <p:cNvPr id="562"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1T15:18:37Z</dcterms:modified>
  <cp:revision>455</cp:revision>
  <dc:subject/>
  <dc:title>Title</dc:title>
</cp:coreProperties>
</file>