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0958E7-42F4-4C82-9C2E-08B53847702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D47930-8B0F-43ED-A565-6E37764C6EC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74F007-98BC-47BE-B25E-3379F156C5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6F676B-F67F-47B9-88FF-6B088EDD1B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1EB398-FBDF-4295-8821-C6B7AAF3A8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02DA95-84C9-475B-AD13-99E522FAFD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86B3D1-D9DE-45D8-B6F1-BAAD3981E13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FE2DEF9-A53C-458D-9936-0901A539F7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F68D58E-4536-4588-80CC-0E5D8F1C949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99B4C13-2D1D-4B37-A8B9-14195E3C561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F4A18E2-975A-4F51-8CBD-23A7B39FF61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3449A2D-73A8-4C9A-A834-83B716FD7C2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6E6017-B9EF-4B1D-B781-8F454AD9380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15D6B9-8CE4-41B5-9E03-0CCBADE91D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92CF39-A8F6-42C7-BC13-D1BB364F32D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C43A75-4DE7-4CCB-90E6-C73C5F22B4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334942-768F-45ED-A525-403B3CDA6E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FC1C77-00F3-4B02-B619-D5778587E3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790E45-5F57-4B61-A2FE-A6F08461458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2480EE-D411-4D6D-A0A3-56E5EBBB2B9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5D025A5-43A0-44BA-A5D5-C80E59722D3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F13D8F5-3F32-48A2-BAB4-0922F755279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B4B291-6434-460B-81FB-8A770FDE61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D1A838E-0192-4BF4-BC7F-7B0F366D83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B2F3FFD-BE8F-4232-8F7C-A0C6A00B6D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F405FF6-13E4-4FEC-9985-AF1AACDE9F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78304A0-DD22-438E-91D9-F34BDA9C8A9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C66DD6-3101-4DCF-B881-78042F218B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4A85166-E0EF-472C-8F52-C92AAC3F4EA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08F409-C797-4BF1-9923-2610D856CAA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3B5C996-75BE-4266-9A5D-511F0900A1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6109548-7FAF-4592-A2E4-0DD22DFBD6E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4F8469D-A652-4144-AEEF-99F89E2D8CD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C9EC525-E183-4608-9DA9-C9760DA830A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55E4158-1736-4577-97B1-E621C0525D2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A550EA1-F3BC-4E54-B146-1BBD8D4799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DB2C2F6-C7EF-42F7-9DAA-7128ADA35AE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85ACB9F-3F3D-46B9-B79B-039A535FA7F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FEEBE31-A65A-48DD-9CCF-B9FF377E63C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D78B159-0814-48FB-A01E-244A7A53988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A431BE-9A3F-4C54-9364-700A6FA865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B72A7A-D99E-4401-990C-BC7D1E4363C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3A60498-B44D-404D-8A67-83FC8A5F7FC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E76BF91-4661-4276-9ED4-D6E60B9A8CD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BC6A61D-50F6-4738-AE8B-FC99ED5D959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82635-D614-43B5-A14C-DA54ED90B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27D34-B040-45B1-A409-4838CBE75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E7033-CBE7-4C67-8DDD-8EF7BC7D1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C2A11-6490-4924-A833-35E8EA45B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3B766-4781-4697-9026-799D3D89D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33201-1E23-45CC-914C-12C346AFB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B02CF-16B1-4D87-BF16-6333FB18A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58389-321B-46A2-A1E8-CE958F192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631F2-A1FD-4A4E-BAAA-15365159F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ECD3FA-D10E-460A-B0BC-92B328E35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5DFFAF-FB41-4CC9-859B-DF029F005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37370F-5E55-4DFC-8726-2E8FE26E48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2216DF-A5CB-4B6B-9206-E0584DF674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48EAFE-847D-4B21-9402-69CE5A9FE0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C60A36-7A86-449C-9FF2-B177F4359A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E4DFC6-188D-4B7C-B581-716E8DBA0A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94F87C-BCEA-4E5B-9F84-66AA21015D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F4C57B-EC83-4C65-B6EE-75D840DE4F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6C1823-1751-4B4B-883C-1407A422FE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68D879-B0BD-44C1-AA7F-8F8CBF498A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DCD743-CC0B-4720-A308-5C0EED029D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1A8975-57C2-49EA-B983-EAE90B73DC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AC7568-D644-4E77-A38C-FB671109EA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A483A9-9D58-4649-9469-A41D52FA86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00FD29-42FE-41EB-8E2F-C0C0FA73BA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51D4D9-814B-4314-ACCD-C62AD8B831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23A2A66-E7C0-4A4F-AE6F-0A0B7BDBD4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F2320F-3D98-4667-8558-09268E41D4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19DAE9-04AC-4AC6-B61E-78954557F4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654899-2424-4080-9FE1-454375CAF7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C7090B-ACAD-423D-8B5A-85ACB6758F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67CA10-E439-441F-8A4B-CA79EC49E1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F7E4F7-72EB-4C16-A675-B49EB00083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7F1558-5597-489C-94CD-5880F26BDC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047217-8356-4BBB-8091-88FA03EF260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0A08C6-C243-4D6D-B219-C1484F3816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4C08C4-4A6A-43E6-9BC1-FC7AE1C7DDC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A3575D-2C37-442E-93E3-F71FE1A205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BC587D-EC54-4600-81AE-CD1654196C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505174-A9BB-43B3-8F59-5BE6701BBF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544795-01CF-462D-AFA6-1FBE9C702A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617A08-0182-47FA-BE4C-613E08C6797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71FEE4-CF8F-4C19-8A36-7202D352DBA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4C2210-F824-4DD8-B8C2-B7F124BBD6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E1DFF1-DC22-4D41-827C-8F18FEC66F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A6E818A-197E-4141-8CAF-4EECC2F7FEB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DCE22E8-C709-44AC-9FB4-9F35CB23A41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C4F16FF-A74E-45C6-A397-EF4A2688A86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781C9FC-5485-42A9-BC68-D99C539E1C0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A3102C-B25A-48DA-BD42-3A8E33E0D53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D47C24-0063-4068-82BA-99953FBED5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FBF870-47B6-41F5-B4C3-D9CE25D9BF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9FC491-64C0-4736-8A39-C978B7DADF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8B1ABF-AA9D-421A-B893-44FBCA78E3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6AA296-3141-4342-90AA-FE1BD41288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46663E-8E34-4569-9BBD-B4927B9D19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942B8F-AC5C-4971-8933-D72D86F553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2DEAE11-AA1C-4991-B20C-3E43643759D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EE36009-DC48-45A8-B2B8-3F471602EC9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0DAAE1E-46CB-4840-8D1E-B28D688221D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268C963-1223-4AF6-8974-93C497B404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FBE615-9FB6-46AF-8E49-9F699B77087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9E36B97-252D-4383-9D55-AD4A6E4EDC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827D51-F44A-4C0A-95EA-0442973D37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AE126E-C4B4-48F9-92EE-6221CA2C50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3E0A18B-2031-4708-BAC7-3AAC83A33BF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75B378-76E6-475A-92CD-2C6529D20A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1E8FA8-5151-42B8-AD61-AEBB8DADB28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CF5994-4DA3-4320-AA8B-4A91E2C8E8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9E5C36-B592-48DB-BE38-03E0352DCA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965D8AB-4FE5-43A7-A032-BCF08BD398B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D0A4D5F-842A-4813-A815-A23A492F8B0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35F2EA7-289B-44F1-8B12-A43E859885A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F28F269-AFF3-4B99-BF49-4548AF5E9C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BCCC98F-3EAF-4202-BAD1-CF2B848BAEC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947A-5C0C-4213-A9E7-7B8D3AF388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F78A-1DDB-4567-9371-C188086B889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9C3C-B9CD-4583-9358-31B6CDDAF6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3340-8538-4318-9C0A-DA95A3C0D0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C0E9-C1A2-4504-ACDB-C4A1121483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EC3A-7C19-4140-8EE5-57DB1F843B2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54A3-69A4-4B2F-B034-4494786749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B67A-43B9-4242-B8BB-552F0307BF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32FD-D070-4B13-A724-B6BAD8F1039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6A6F-691C-49FE-BCB9-57168E5AA2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asic computer skills</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tion and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THE MOUSE</a:t>
            </a:r>
            <a:endParaRPr b="0" lang="en-US" sz="34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Now look at the 25 minute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MOUSE Techniques - Basic Personal Computer Tutorial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hat is Hardware</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 physical parts of a computer are known collectively as hardware.  The following are known as hard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eyboard &amp; Mous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hat is Software </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oftware is the term given to the programs used by a computer, for instance if you have a game on your computer, the game is considered software.</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f you were to buy a computer with absolutely no software loaded you could not use the computer for much more than a door stop. The usefulness of your computer increases as you add more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For now we will consider 2 types of software, Application software and Operating System</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u="sng">
                <a:solidFill>
                  <a:srgbClr val="000000"/>
                </a:solidFill>
                <a:uFillTx/>
                <a:latin typeface="Arial Rounded MT Bold"/>
              </a:rPr>
              <a:t>Application Soft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pplication software is software that allows the user to do specific actual work such as typing letters, creating spreadsheets and databases etc.</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Examples of application software are Microsoft Word (used to type letters), and Microsoft Excel (used to create spreadsheets) and Internet Explorer (used to browse the web)</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ypes of Softwar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Operating System</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Most application software cannot communicate directly with hardware, it needs a middle man to translate and communicate between the two items.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his middle man is known as an operating system, it sits on top of the hardware and facilitates communication with the Applications software.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ypes</a:t>
            </a:r>
            <a:r>
              <a:rPr b="0" lang="hu-HU" sz="3400" spc="-1" strike="noStrike">
                <a:solidFill>
                  <a:srgbClr val="000000"/>
                </a:solidFill>
                <a:latin typeface="Arial Rounded MT Bold"/>
              </a:rPr>
              <a:t> of Softwar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The Computer) </a:t>
            </a:r>
            <a:endParaRPr b="0" lang="en-US" sz="1600" spc="-1" strike="noStrike">
              <a:solidFill>
                <a:srgbClr val="000000"/>
              </a:solidFill>
              <a:latin typeface="Arial"/>
            </a:endParaRPr>
          </a:p>
        </p:txBody>
      </p:sp>
      <p:sp>
        <p:nvSpPr>
          <p:cNvPr id="579"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erating System (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Application Software (Word, Excel etc)</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395280" y="675000"/>
            <a:ext cx="828036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ea typeface="Times New Roman"/>
              </a:rPr>
              <a:t>This middle man is known as an </a:t>
            </a:r>
            <a:r>
              <a:rPr b="1" lang="en-IE" sz="2400" spc="-1" strike="noStrike">
                <a:solidFill>
                  <a:srgbClr val="000000"/>
                </a:solidFill>
                <a:latin typeface="Arial Rounded MT Bold"/>
                <a:ea typeface="Times New Roman"/>
              </a:rPr>
              <a:t>operating system</a:t>
            </a:r>
            <a:r>
              <a:rPr b="0" lang="en-IE" sz="2400" spc="-1" strike="noStrike">
                <a:solidFill>
                  <a:srgbClr val="000000"/>
                </a:solidFill>
                <a:latin typeface="Arial Rounded MT Bold"/>
                <a:ea typeface="Times New Roman"/>
              </a:rPr>
              <a:t>, it sits on top of the hardware and facilitates communication with the Applications softwa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ating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Conclusion</a:t>
            </a:r>
            <a:endParaRPr b="0" lang="en-US" sz="4400" spc="-1" strike="noStrike">
              <a:solidFill>
                <a:srgbClr val="000000"/>
              </a:solidFill>
              <a:latin typeface="Arial"/>
            </a:endParaRPr>
          </a:p>
        </p:txBody>
      </p:sp>
      <p:sp>
        <p:nvSpPr>
          <p:cNvPr id="589"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In this unit we learned</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t>
            </a:r>
            <a:r>
              <a:rPr b="0" lang="en-GB" sz="3000" spc="-1" strike="noStrike">
                <a:solidFill>
                  <a:srgbClr val="000000"/>
                </a:solidFill>
                <a:latin typeface="Arial Rounded MT Bold"/>
              </a:rPr>
              <a:t>ow to turn on and off your compute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W</a:t>
            </a:r>
            <a:r>
              <a:rPr b="0" lang="en-GB" sz="3000" spc="-1" strike="noStrike">
                <a:solidFill>
                  <a:srgbClr val="000000"/>
                </a:solidFill>
                <a:latin typeface="Arial Rounded MT Bold"/>
              </a:rPr>
              <a:t>hat hardware &amp; software mean</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How to Confidently use a Mous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How to Confidently use a Keyboard</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participants will be able to:</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arn how to turn on and off your compute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arn what hardware &amp; software mea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fidently use a Mous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Confidently use a Keyboard</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What I need for this unit?</a:t>
            </a:r>
            <a:endParaRPr b="0" lang="en-US" sz="3600" spc="-1" strike="noStrike">
              <a:solidFill>
                <a:srgbClr val="000000"/>
              </a:solidFill>
              <a:latin typeface="Arial"/>
            </a:endParaRPr>
          </a:p>
        </p:txBody>
      </p:sp>
      <p:sp>
        <p:nvSpPr>
          <p:cNvPr id="541"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ntroduction to the Desktop</a:t>
            </a:r>
            <a:endParaRPr b="0" lang="en-US" sz="3200" spc="-1" strike="noStrike">
              <a:solidFill>
                <a:srgbClr val="000000"/>
              </a:solidFill>
              <a:latin typeface="Arial"/>
            </a:endParaRPr>
          </a:p>
        </p:txBody>
      </p:sp>
      <p:sp>
        <p:nvSpPr>
          <p:cNvPr id="547" name=""/>
          <p:cNvSpPr txBox="1"/>
          <p:nvPr/>
        </p:nvSpPr>
        <p:spPr>
          <a:xfrm>
            <a:off x="324000" y="1413000"/>
            <a:ext cx="8496000" cy="4968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e Desktop is the first screen you will see when you turn on your compute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Start button is on the bottom left of the screen ( &amp; gets you into everything on your computer ) its is located on the taskba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askbar is the name of the grey bar at the bottom of your screen. You will see several other icons on the taskba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Icons – The small pictures on the desktop are called icons. Icons are shortcuts to Programs. To open an Icon, simply double click the icon ( using the Left Mouse Button) to access (open) a Program.</a:t>
            </a:r>
            <a:endParaRPr b="0" lang="en-US" sz="2400" spc="-1" strike="noStrike">
              <a:solidFill>
                <a:srgbClr val="000000"/>
              </a:solidFill>
              <a:latin typeface="Arial"/>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Turning your Computer ON/OFF</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Now look at this short video</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ow to turn your computer ON/OFF</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CONS</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icrosoft Word Ic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mail Ic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nternet Icon                                      </a:t>
            </a:r>
            <a:endParaRPr b="0" lang="en-US" sz="3200" spc="-1" strike="noStrike">
              <a:solidFill>
                <a:srgbClr val="000000"/>
              </a:solidFill>
              <a:latin typeface="Arial"/>
            </a:endParaRPr>
          </a:p>
        </p:txBody>
      </p:sp>
      <p:pic>
        <p:nvPicPr>
          <p:cNvPr id="552" name="Picture 4" descr=""/>
          <p:cNvPicPr/>
          <p:nvPr/>
        </p:nvPicPr>
        <p:blipFill>
          <a:blip r:embed="rId1"/>
          <a:stretch/>
        </p:blipFill>
        <p:spPr>
          <a:xfrm>
            <a:off x="5784840" y="1876320"/>
            <a:ext cx="1260360" cy="924120"/>
          </a:xfrm>
          <a:prstGeom prst="rect">
            <a:avLst/>
          </a:prstGeom>
          <a:ln w="0">
            <a:noFill/>
          </a:ln>
        </p:spPr>
      </p:pic>
      <p:pic>
        <p:nvPicPr>
          <p:cNvPr id="553" name="Picture 5" descr=""/>
          <p:cNvPicPr/>
          <p:nvPr/>
        </p:nvPicPr>
        <p:blipFill>
          <a:blip r:embed="rId2"/>
          <a:stretch/>
        </p:blipFill>
        <p:spPr>
          <a:xfrm>
            <a:off x="5797440" y="3027240"/>
            <a:ext cx="1441440" cy="1095480"/>
          </a:xfrm>
          <a:prstGeom prst="rect">
            <a:avLst/>
          </a:prstGeom>
          <a:ln w="0">
            <a:noFill/>
          </a:ln>
        </p:spPr>
      </p:pic>
      <p:pic>
        <p:nvPicPr>
          <p:cNvPr id="554"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Keyboard</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8000"/>
          </a:bodyPr>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Spacebar</a:t>
            </a:r>
            <a:r>
              <a:rPr b="0" lang="en-IE" sz="1600" spc="-1" strike="noStrike">
                <a:solidFill>
                  <a:srgbClr val="000000"/>
                </a:solidFill>
                <a:latin typeface="Arial Rounded MT Bold"/>
              </a:rPr>
              <a:t> is used to create a space between letters or words, if you press the space bar once, one space appears. If you press the spacebar twice, two spaces arrear etc.</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Enter Key </a:t>
            </a:r>
            <a:r>
              <a:rPr b="0" lang="en-IE" sz="1600" spc="-1" strike="noStrike">
                <a:solidFill>
                  <a:srgbClr val="000000"/>
                </a:solidFill>
                <a:latin typeface="Arial Rounded MT Bold"/>
              </a:rPr>
              <a:t>If you are typing on a particular and then wish to move down to the next line you can press the Enter Key i.e. the enter key moves you down a line. </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Backspace Key</a:t>
            </a:r>
            <a:r>
              <a:rPr b="0" lang="en-IE" sz="1600" spc="-1" strike="noStrike">
                <a:solidFill>
                  <a:srgbClr val="000000"/>
                </a:solidFill>
                <a:latin typeface="Arial Rounded MT Bold"/>
              </a:rPr>
              <a:t>  If you made a mistake while typing, pressing the backspace    key deletes what you just typed. </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If you continue pressing Backspace you will continue deleting letters,</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r>
              <a:rPr b="0" lang="en-IE" sz="1600" spc="-1" strike="noStrike">
                <a:solidFill>
                  <a:srgbClr val="000000"/>
                </a:solidFill>
                <a:latin typeface="Arial Rounded MT Bold"/>
              </a:rPr>
              <a:t>Space Bar        Enter Key        Back space Key</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e Mouse</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691160"/>
        </p:xfrm>
        <a:graphic>
          <a:graphicData uri="http://schemas.openxmlformats.org/drawingml/2006/table">
            <a:tbl>
              <a:tblPr/>
              <a:tblGrid>
                <a:gridCol w="1008000"/>
                <a:gridCol w="7561440"/>
              </a:tblGrid>
              <a:tr h="57348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lace your hand lightly on the mouse with your index finger resting lightly on the left button and move the mouse in small movement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Observe the arrow shaped mouse moving on the screen, if you move your hand to the left the arrow moves to the left, if you move your hand up, the arrow moves up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ve the mouse in a circular motion and observe the motion of the arrow on the scree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50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ontinue moving the mouse until you feel comfortable with this skil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ve the mouse towards the top right corner of the screen, move it to the bottom left corner of the screen – continue this motion until you feel comfortabl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To make something happen on the computer you will need to ‘click’ somewhere on the scree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licking means pressing one of the mouse buttons with your finger. The usual button to click on is the left button but this can be changed at any ti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he Mouse</a:t>
            </a:r>
            <a:endParaRPr b="0" lang="en-US" sz="4000" spc="-1" strike="noStrike">
              <a:solidFill>
                <a:srgbClr val="000000"/>
              </a:solidFill>
              <a:latin typeface="Arial"/>
            </a:endParaRPr>
          </a:p>
        </p:txBody>
      </p:sp>
      <p:sp>
        <p:nvSpPr>
          <p:cNvPr id="564"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 mouse help you move around the scree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sing the mouse takes a little practi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ove the mouse gently &amp; slowly in a little circle on the des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You will see the arrow on the screen ( called cursor) Also moves around.</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Gently move the mouse in circles, up &amp; down &amp; left to righ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Keep looking at the computer screen – see what happens when you move the mou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2T15:59:19Z</dcterms:modified>
  <cp:revision>477</cp:revision>
  <dc:subject/>
  <dc:title>Title</dc:title>
</cp:coreProperties>
</file>