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24.jpeg" ContentType="image/jpeg"/>
  <Override PartName="/ppt/media/image19.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92F9D6-5AAB-42F3-92CF-185F9CFA00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9E0492-6E9A-437D-A8E3-559E1784C4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9CC87A-4C82-4C7F-8698-A52EB7E1EA4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0122C6-0765-43D5-B340-45A76F7AAA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2DBB13-45D6-4738-BC21-41F9BD5F18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489444-36CA-4B61-BB63-06037FEFEA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0C140F1-43F2-446B-91E7-303086DEA1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F65CD51-B235-4B14-B4EB-F6FC293F0D1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731F0D5-7D21-4A22-B491-CB009E3EAE9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7285285-8899-495F-8FF0-1FB2A7F2F57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1941C1-317A-4190-B1EF-E5653C6DC87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6A8049-79EE-4EA3-BC21-FA33300BC61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F80CF4-91ED-4323-BBD8-AA12F18C45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2DAADB-CC69-4925-AB80-AF35B387BCD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FB23787-9977-4EC8-8051-CCA1EDA85F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01D534-C071-476F-8730-BD87F94D80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E24024-A9CE-421C-A1AF-42C5F587DA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B900DD-AA0F-4D24-B586-4CB2E21A123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DCBB4E-6248-4693-98C2-2475773DD7B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011BF6F-4429-44CD-8D88-9969438B7CB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7630EE3-E36B-48A3-8412-4E9D28B9B26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960E39-55F5-44BB-B88C-42D9FAB1DC0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322ED1-BDAA-4A73-81F6-AE3ECF28D2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036147-4DAE-4186-B581-3FE65E45DA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3CECE90-EF8C-4C09-BF42-3C167EBA17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18873C-BB19-4715-A464-EB47FB6CBA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6A3E84-7E40-4A73-82F7-F147B80946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D769A8-C90D-4BD9-A735-652EE0E75E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B4E9C2-11E7-4E64-A73A-14CA08B635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8DA6B89-B1CE-45D2-9676-1500A90B79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DEC4FC4-A6D4-486F-968C-AFCEB1B8E76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D0C4E7B-981D-460E-BF0D-E4FD52D178B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EB85EE5-3789-4281-9832-5D97C95766A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FBD8589-3725-427E-A721-FADFF8C46A9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9F4AC9D-0B87-40C5-8981-9E64DD5CF0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6B3B5A3-1AC8-42EB-8805-398C7A06864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66803E2-D960-422F-B4A9-6EEB55BDF14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B10754B-90C3-4F17-B5BD-75D549AB26F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A04E2C6-591E-4499-AD31-0247B544AE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C6D5412-7ABA-486D-8FED-1851FC3D87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EFFA988-3C20-4476-8842-0262E255151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C9D6B9B-4EF8-40A3-9A18-FB1D607F8A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A9AFD7D-6619-4AFF-BC61-0CDC6B4D98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18F9790-681F-4EED-93B2-F028551D452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CE06620-2259-478F-8A51-D23838DCE37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FF808E-5C69-4498-BDE1-D203172F2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84B14-C310-4FEB-8BAB-D788A75EC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F1EDA1-7F13-4F3A-84C5-F9BB77F75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C93B5-18D9-4309-A062-8BB9DD60A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AB72A-5270-4740-84CC-8E79DED6D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450EA-3722-4494-8F1D-9155E0ABB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2569C-1CF6-495F-9196-A59ADD642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062EB-0743-4A32-8BF4-F0A2F52C3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0376E-0FAC-4615-B9ED-634FAB719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75037-8DFB-4029-8654-AA8B8A377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FE8A69-B2D3-4B92-9B56-4B013B8ED2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BF546-BAFD-404A-A70B-3F2D70F51D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1F878B-91C0-42E3-858B-1D65DB26F6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7C4C24-7BEB-45AB-B118-32E2DD2652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E375CD-1818-487F-89A0-DFBBAEB332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FF5447-6E39-4531-AA5D-9C3C8ED704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D97CF9-482A-4F9A-B3A7-F505EFF572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17448B-C800-43BB-92A5-52DAECBD16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1F1731-798B-45DB-8F02-DC6F3533D6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FC1499-C52B-4FEE-87A9-BE391DCCCD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E75288-B851-48B4-ACFF-183EF04AB9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4F9158-5657-4791-9682-DE643DD3A8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6DD27F-910C-4312-8D4D-6AADDEE336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7422DC-6BB1-47CD-A71B-0819BD3B6F5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3B0200-6ECD-4EC3-B476-ED8B80DB43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DE1CE0-B37E-4BA6-BD9A-1F7C19DC2C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12B23E-813C-4DBE-8CBC-AA0E638F6F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399505-C636-4143-9EAE-0C52EE4F5F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109FE3-75D4-449B-84B2-49F6B532F1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5A1867-8928-4AA9-B77E-6295ECAB08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4E5D28-8A04-4BA1-B80C-5153CE3318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893B15-C987-4503-BA4B-3183E7B203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93C54F-2BF4-4EBB-B6D1-718C2258C7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AF9FC3-D7FB-46D9-9DDD-BED2DC101D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6AF72A-FDF6-4D1B-A152-0DDE24B3371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84DB52F-0B36-4437-9667-5E08B5F215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B11590-7918-49C6-8CAE-EA82E90A1FE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4279E1-34C9-44C1-8366-BD3B8AEA56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187AB9-F4BF-43E9-BA04-361E10FF191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297E0F-32EB-40B7-86B8-5F4BA10A0C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C66C7F-72C8-4863-B43A-2DE2EAD87E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2025070-F895-41AF-8F28-3019CF04F6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00B817-BFA4-4CB3-9840-4CC78CC722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835129-1A7C-47BC-BC25-489E1873BB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E1569E-D3E4-41EB-B34F-CC26427169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604E3E-0938-4DC5-8B0D-0F20C8D368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8294CFE-7DC5-4CCA-9FBC-C5B977B33D4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F91B434-B1B7-48FE-9D72-13D6ED02A0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16FD024-B48B-485D-BBBB-535DEFA16B4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EB46184-F186-4ACA-8A06-701A9623C7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F7D10F-FB00-4A2B-BEFF-65CB08B349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E8C477-0635-4322-8085-C555646EA15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F636A7-756B-4AE9-B14F-A184B96959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98A8C4-66D3-4F30-94E9-8601FC0463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C06696-3CA9-4C96-84C8-ED9D16D41C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9AFCD1-3B70-462F-BE3C-EE190F5CD5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61580B-3651-43A0-803E-76DC13EFA91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B40320C-ED89-4E98-8EB8-FA40595DAA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E410103-9D80-4937-9FA6-C577482F0E5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F713B28-80B8-47FA-9CEF-A520FAD78E5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BBEDB6B-CEDE-4B75-83E3-5D34FBECE40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A57C239-3555-4CDF-AA48-30559CAE8A9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83E3EA-B582-41E1-B1C9-7048668D3A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645518-604E-467C-9F4C-E03333AA7F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EED8B2-9AA4-4489-AADD-E35FB33CBA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AC4FD19-5EEB-4241-AD21-1B5255F23CE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A835C8-E8F1-42F8-9A74-59E5E5F04E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91CBB7-4C01-4C92-A8DB-36094846B1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EBA7CC-C0B2-4F15-9264-203B791D30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00D01B7-05E9-4C33-B7D4-E5B8C766274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A98E84B-C015-4C5B-BAD6-902685159ED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F58B148-7936-40DA-9275-ABF4050C2D6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CA02F88-8F0D-4F3C-ABE1-BBF9E75BC0E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20DE5FD-0EBF-4634-A709-999F4A6C71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2EE49B-52B1-4A58-B0D6-7DDB5CEEB3A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9BD4-137A-4548-9F6E-8F1225D427C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8DA9-4526-4A5C-93E7-E2C0FEF43F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FF70-3BE3-42E0-84BC-3B2C114BAA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5331-C3AF-456A-B87F-F060E018D2D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7DBA-CE9A-4C7E-9136-71CB04E646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E661-53AE-4182-85D1-51D2E20A167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0491-019A-4785-9BF2-EC57D7CAF19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AC3B-23CE-4CBA-BBE9-62B1CD1B7F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6759-55B3-451A-BFBA-FE9A0072DB9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CF1F-94D5-4088-BFC0-A255CE7D147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Rounded MT Bold"/>
              </a:rPr>
              <a:t>Communication &amp; collaboration</a:t>
            </a:r>
            <a:endParaRPr b="0" lang="en-US" sz="3600" spc="-1" strike="noStrike">
              <a:solidFill>
                <a:srgbClr val="000000"/>
              </a:solidFill>
              <a:latin typeface="Arial"/>
            </a:endParaRPr>
          </a:p>
        </p:txBody>
      </p:sp>
      <p:sp>
        <p:nvSpPr>
          <p:cNvPr id="537" name="Rectángulo 1"/>
          <p:cNvSpPr/>
          <p:nvPr/>
        </p:nvSpPr>
        <p:spPr>
          <a:xfrm>
            <a:off x="2921760" y="2924280"/>
            <a:ext cx="58453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Digital Technolog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for Communication 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llabo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 Behaving in a digital environment</a:t>
            </a:r>
            <a:endParaRPr b="0" lang="en-US" sz="3600" spc="-1" strike="noStrike">
              <a:solidFill>
                <a:srgbClr val="000000"/>
              </a:solidFill>
              <a:latin typeface="Arial"/>
            </a:endParaRPr>
          </a:p>
        </p:txBody>
      </p:sp>
      <p:sp>
        <p:nvSpPr>
          <p:cNvPr id="569" name=""/>
          <p:cNvSpPr txBox="1"/>
          <p:nvPr/>
        </p:nvSpPr>
        <p:spPr>
          <a:xfrm>
            <a:off x="457200" y="1600200"/>
            <a:ext cx="8229600" cy="4525920"/>
          </a:xfrm>
          <a:prstGeom prst="rect">
            <a:avLst/>
          </a:prstGeom>
          <a:noFill/>
          <a:ln w="0">
            <a:noFill/>
          </a:ln>
        </p:spPr>
        <p:txBody>
          <a:bodyPr anchor="t">
            <a:normAutofit fontScale="98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Rules for a correct behaviour</a:t>
            </a:r>
            <a:endParaRPr b="0" lang="en-US" sz="32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send to others what you find yourself unpleasant to receiv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ways reply to e-mails to give at least confirmation of receip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insult and do not use indiscriminate words written in capital letter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n't respond rudely in a person's public space on social network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ver post photos or videos depicting recognizable people</a:t>
            </a:r>
            <a:r>
              <a:rPr b="0" lang="hu-HU" sz="2000" spc="-1" strike="noStrike">
                <a:solidFill>
                  <a:srgbClr val="000000"/>
                </a:solidFill>
                <a:latin typeface="Arial Rounded MT Bold"/>
              </a:rPr>
              <a:t>.</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osting messages of only private interest on the notice boar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n't send messages in the middle of the nigh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5" descr="Image result for social media"/>
          <p:cNvPicPr/>
          <p:nvPr/>
        </p:nvPicPr>
        <p:blipFill>
          <a:blip r:embed="rId1"/>
          <a:stretch/>
        </p:blipFill>
        <p:spPr>
          <a:xfrm>
            <a:off x="5651640" y="2349360"/>
            <a:ext cx="3360600" cy="2521080"/>
          </a:xfrm>
          <a:prstGeom prst="rect">
            <a:avLst/>
          </a:prstGeom>
          <a:ln w="0">
            <a:noFill/>
          </a:ln>
        </p:spPr>
      </p:pic>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72" name=""/>
          <p:cNvSpPr txBox="1"/>
          <p:nvPr/>
        </p:nvSpPr>
        <p:spPr>
          <a:xfrm>
            <a:off x="457200" y="1699920"/>
            <a:ext cx="5843520" cy="3600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re Social Media?</a:t>
            </a:r>
            <a:endParaRPr b="0" lang="en-US" sz="2800" spc="-1" strike="noStrike">
              <a:solidFill>
                <a:srgbClr val="000000"/>
              </a:solidFill>
              <a:latin typeface="Arial"/>
            </a:endParaRPr>
          </a:p>
          <a:p>
            <a:pPr marL="339480" indent="-3394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cial Media are websites and applications that are designed to allow people to communicate and interact online. </a:t>
            </a:r>
            <a:endParaRPr b="0" lang="en-US" sz="2000" spc="-1" strike="noStrike">
              <a:solidFill>
                <a:srgbClr val="000000"/>
              </a:solidFill>
              <a:latin typeface="Arial"/>
            </a:endParaRPr>
          </a:p>
          <a:p>
            <a:pPr marL="339480" indent="-3394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ith Social Media you can share very quickly and in real-time: information, ideas, photos, videos, etc.</a:t>
            </a:r>
            <a:endParaRPr b="0" lang="en-US" sz="2000" spc="-1" strike="noStrike">
              <a:solidFill>
                <a:srgbClr val="000000"/>
              </a:solidFill>
              <a:latin typeface="Arial"/>
            </a:endParaRPr>
          </a:p>
          <a:p>
            <a:pPr marL="339480" indent="-339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74" name=""/>
          <p:cNvSpPr txBox="1"/>
          <p:nvPr/>
        </p:nvSpPr>
        <p:spPr>
          <a:xfrm>
            <a:off x="456840" y="1844640"/>
            <a:ext cx="8147160" cy="3456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hich are the most used</a:t>
            </a:r>
            <a:r>
              <a:rPr b="0" lang="hu-HU" sz="3200" spc="-1" strike="noStrike">
                <a:solidFill>
                  <a:srgbClr val="000000"/>
                </a:solidFill>
                <a:latin typeface="Arial Rounded MT Bold"/>
              </a:rPr>
              <a:t> </a:t>
            </a:r>
            <a:r>
              <a:rPr b="0" lang="en-US" sz="3200" spc="-1" strike="noStrike">
                <a:solidFill>
                  <a:srgbClr val="000000"/>
                </a:solidFill>
                <a:latin typeface="Arial Rounded MT Bold"/>
              </a:rPr>
              <a:t>Social Media?  </a:t>
            </a:r>
            <a:endParaRPr b="0" lang="en-US" sz="32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5"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Image result for facebook"/>
          <p:cNvPicPr/>
          <p:nvPr/>
        </p:nvPicPr>
        <p:blipFill>
          <a:blip r:embed="rId1"/>
          <a:stretch/>
        </p:blipFill>
        <p:spPr>
          <a:xfrm>
            <a:off x="5364000" y="2637000"/>
            <a:ext cx="3565800" cy="2447640"/>
          </a:xfrm>
          <a:prstGeom prst="rect">
            <a:avLst/>
          </a:prstGeom>
          <a:ln w="0">
            <a:noFill/>
          </a:ln>
        </p:spPr>
      </p:pic>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78" name=""/>
          <p:cNvSpPr txBox="1"/>
          <p:nvPr/>
        </p:nvSpPr>
        <p:spPr>
          <a:xfrm>
            <a:off x="456840" y="1483920"/>
            <a:ext cx="497844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day Facebook has become the most widely-used social network.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t allows people t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nect to distant family members and friends</a:t>
            </a:r>
            <a:r>
              <a:rPr b="0" lang="hu-HU" sz="2000" spc="-1" strike="noStrike">
                <a:solidFill>
                  <a:srgbClr val="000000"/>
                </a:solidFill>
                <a:latin typeface="Arial Rounded MT Bold"/>
              </a:rPr>
              <a:t>.</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et new people from around the world just sitting at hom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e virtual groups in which they can meet other people with similar interest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are news, ideas, photos and vide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80" name=""/>
          <p:cNvSpPr txBox="1"/>
          <p:nvPr/>
        </p:nvSpPr>
        <p:spPr>
          <a:xfrm>
            <a:off x="1536840" y="1455840"/>
            <a:ext cx="605952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how to Sign Up?</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 order to use Facebook you have to sign up on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or on Facebook app. </a:t>
            </a:r>
            <a:endParaRPr b="0" lang="en-US" sz="2000" spc="-1" strike="noStrike">
              <a:solidFill>
                <a:srgbClr val="000000"/>
              </a:solidFill>
              <a:latin typeface="Arial"/>
            </a:endParaRPr>
          </a:p>
        </p:txBody>
      </p:sp>
      <p:pic>
        <p:nvPicPr>
          <p:cNvPr id="581" name="Immagine 1" descr=""/>
          <p:cNvPicPr/>
          <p:nvPr/>
        </p:nvPicPr>
        <p:blipFill>
          <a:blip r:embed="rId2"/>
          <a:stretch/>
        </p:blipFill>
        <p:spPr>
          <a:xfrm>
            <a:off x="541440" y="3213000"/>
            <a:ext cx="4535280" cy="2600280"/>
          </a:xfrm>
          <a:prstGeom prst="rect">
            <a:avLst/>
          </a:prstGeom>
          <a:ln w="0">
            <a:noFill/>
          </a:ln>
        </p:spPr>
      </p:pic>
      <p:sp>
        <p:nvSpPr>
          <p:cNvPr id="582" name="CasellaDiTesto 2"/>
          <p:cNvSpPr/>
          <p:nvPr/>
        </p:nvSpPr>
        <p:spPr>
          <a:xfrm>
            <a:off x="4608360" y="3319560"/>
            <a:ext cx="4535640" cy="286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a:t>
            </a:r>
            <a:r>
              <a:rPr b="1" lang="en-US" sz="2800" spc="-1" strike="noStrike">
                <a:solidFill>
                  <a:srgbClr val="000000"/>
                </a:solidFill>
                <a:latin typeface="Arial Rounded MT Bold"/>
              </a:rPr>
              <a:t>you need:</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ddress</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fety Password</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ge &gt; 16 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nit 3: </a:t>
            </a: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84" name=""/>
          <p:cNvSpPr txBox="1"/>
          <p:nvPr/>
        </p:nvSpPr>
        <p:spPr>
          <a:xfrm>
            <a:off x="324000" y="1341000"/>
            <a:ext cx="8424720" cy="3600360"/>
          </a:xfrm>
          <a:prstGeom prst="rect">
            <a:avLst/>
          </a:prstGeom>
          <a:noFill/>
          <a:ln w="0">
            <a:noFill/>
          </a:ln>
        </p:spPr>
        <p:txBody>
          <a:bodyPr anchor="t">
            <a:normAutofit fontScale="98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acebook: how to connect with friends?</a:t>
            </a:r>
            <a:endParaRPr b="0" lang="en-US" sz="32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n order to find family members or friends on Facebook you have to look for them in the section “Search”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When you find them you will have to click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or touch) on the “Add friend” icon.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Then you have to wait until he/she will “Accept” your request.</a:t>
            </a:r>
            <a:endParaRPr b="0" lang="en-US" sz="2000" spc="-1" strike="noStrike">
              <a:solidFill>
                <a:srgbClr val="000000"/>
              </a:solidFill>
              <a:latin typeface="Arial"/>
            </a:endParaRPr>
          </a:p>
        </p:txBody>
      </p:sp>
      <p:sp>
        <p:nvSpPr>
          <p:cNvPr id="585" name="CasellaDiTesto 6"/>
          <p:cNvSpPr/>
          <p:nvPr/>
        </p:nvSpPr>
        <p:spPr>
          <a:xfrm>
            <a:off x="3348000" y="4933800"/>
            <a:ext cx="410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the same way you can “Like” the pages you are most interested in. </a:t>
            </a:r>
            <a:endParaRPr b="0" lang="en-US" sz="2000" spc="-1" strike="noStrike">
              <a:solidFill>
                <a:srgbClr val="000000"/>
              </a:solidFill>
              <a:latin typeface="Arial"/>
            </a:endParaRPr>
          </a:p>
        </p:txBody>
      </p:sp>
      <p:pic>
        <p:nvPicPr>
          <p:cNvPr id="586" name="Picture 2" descr="Image result for search facebook image url"/>
          <p:cNvPicPr/>
          <p:nvPr/>
        </p:nvPicPr>
        <p:blipFill>
          <a:blip r:embed="rId1"/>
          <a:srcRect l="0" t="0" r="0" b="82838"/>
          <a:stretch/>
        </p:blipFill>
        <p:spPr>
          <a:xfrm>
            <a:off x="611280" y="2781360"/>
            <a:ext cx="8001000" cy="503280"/>
          </a:xfrm>
          <a:prstGeom prst="rect">
            <a:avLst/>
          </a:prstGeom>
          <a:ln w="0">
            <a:noFill/>
          </a:ln>
        </p:spPr>
      </p:pic>
      <p:pic>
        <p:nvPicPr>
          <p:cNvPr id="587" name="Picture 5" descr="C:\Users\Lorenzo\Downloads\WhatsApp Image 2019-09-18 at 12.00.22.jpeg"/>
          <p:cNvPicPr/>
          <p:nvPr/>
        </p:nvPicPr>
        <p:blipFill>
          <a:blip r:embed="rId2"/>
          <a:stretch/>
        </p:blipFill>
        <p:spPr>
          <a:xfrm>
            <a:off x="6491160" y="3284640"/>
            <a:ext cx="1176480" cy="1296720"/>
          </a:xfrm>
          <a:prstGeom prst="rect">
            <a:avLst/>
          </a:prstGeom>
          <a:ln w="0">
            <a:noFill/>
          </a:ln>
        </p:spPr>
      </p:pic>
      <p:pic>
        <p:nvPicPr>
          <p:cNvPr id="588" name="Picture 6" descr="C:\Users\Lorenzo\Downloads\WhatsApp Image 2019-09-18 at 12.00.22 (1).jpeg"/>
          <p:cNvPicPr/>
          <p:nvPr/>
        </p:nvPicPr>
        <p:blipFill>
          <a:blip r:embed="rId3"/>
          <a:stretch/>
        </p:blipFill>
        <p:spPr>
          <a:xfrm>
            <a:off x="1903320" y="486900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90" name=""/>
          <p:cNvSpPr txBox="1"/>
          <p:nvPr/>
        </p:nvSpPr>
        <p:spPr>
          <a:xfrm>
            <a:off x="456840" y="1267920"/>
            <a:ext cx="519444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32640" indent="-3326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stagram is a Social Medium which allows users to:</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take pictures, put filters on them and share that photos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are short videos or photos that stay online just for 24h: “Instagram Stori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llow people (including VIPs) and chat with them</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1" name="Immagine 1" descr=""/>
          <p:cNvPicPr/>
          <p:nvPr/>
        </p:nvPicPr>
        <p:blipFill>
          <a:blip r:embed="rId1"/>
          <a:stretch/>
        </p:blipFill>
        <p:spPr>
          <a:xfrm>
            <a:off x="5508720" y="2708280"/>
            <a:ext cx="317160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93" name=""/>
          <p:cNvSpPr txBox="1"/>
          <p:nvPr/>
        </p:nvSpPr>
        <p:spPr>
          <a:xfrm>
            <a:off x="3492000" y="1224000"/>
            <a:ext cx="5699160" cy="263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how to Sign Up?</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 order to use Instagram you have to sign up on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or on Instagram ap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4"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5" name="CasellaDiTesto 2"/>
          <p:cNvSpPr/>
          <p:nvPr/>
        </p:nvSpPr>
        <p:spPr>
          <a:xfrm>
            <a:off x="3492360" y="3209760"/>
            <a:ext cx="5651640" cy="250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What you need:</a:t>
            </a:r>
            <a:endParaRPr b="0" lang="en-US" sz="2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address or username</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Safety Password</a:t>
            </a:r>
            <a:endParaRPr b="0" lang="en-US" sz="20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Log In using your Facebook Accou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597" name=""/>
          <p:cNvSpPr txBox="1"/>
          <p:nvPr/>
        </p:nvSpPr>
        <p:spPr>
          <a:xfrm>
            <a:off x="324000" y="148428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how to follow friends?</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With Instagram you can follow friends but also famous people and see what photos they share with the world.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follow them you have to write their username in the section “Search” which you can find at the bottom of the page :</a:t>
            </a:r>
            <a:endParaRPr b="0" lang="en-US" sz="2000" spc="-1" strike="noStrike">
              <a:solidFill>
                <a:srgbClr val="000000"/>
              </a:solidFill>
              <a:latin typeface="Arial"/>
            </a:endParaRPr>
          </a:p>
        </p:txBody>
      </p:sp>
      <p:sp>
        <p:nvSpPr>
          <p:cNvPr id="598" name="CasellaDiTesto 6"/>
          <p:cNvSpPr/>
          <p:nvPr/>
        </p:nvSpPr>
        <p:spPr>
          <a:xfrm>
            <a:off x="1835280" y="400536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you find who you want to follow you will have to click (or touch) on the “Follow” icon.</a:t>
            </a:r>
            <a:endParaRPr b="0" lang="en-US" sz="2000" spc="-1" strike="noStrike">
              <a:solidFill>
                <a:srgbClr val="000000"/>
              </a:solidFill>
              <a:latin typeface="Arial"/>
            </a:endParaRPr>
          </a:p>
        </p:txBody>
      </p:sp>
      <p:pic>
        <p:nvPicPr>
          <p:cNvPr id="599" name="Picture 2" descr="Image result for instagram search"/>
          <p:cNvPicPr/>
          <p:nvPr/>
        </p:nvPicPr>
        <p:blipFill>
          <a:blip r:embed="rId1"/>
          <a:stretch/>
        </p:blipFill>
        <p:spPr>
          <a:xfrm>
            <a:off x="7596360" y="3432240"/>
            <a:ext cx="792000" cy="792000"/>
          </a:xfrm>
          <a:prstGeom prst="rect">
            <a:avLst/>
          </a:prstGeom>
          <a:ln w="0">
            <a:noFill/>
          </a:ln>
        </p:spPr>
      </p:pic>
      <p:pic>
        <p:nvPicPr>
          <p:cNvPr id="600"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1"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603"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witter is a Social Medium which allows users to:</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rite “tweets”: short texts of max 280 character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are links and new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llow  people (including VIPs) and interact with them</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04" name="Picture 6" descr="Image result for twitter smartphone"/>
          <p:cNvPicPr/>
          <p:nvPr/>
        </p:nvPicPr>
        <p:blipFill>
          <a:blip r:embed="rId1"/>
          <a:stretch/>
        </p:blipFill>
        <p:spPr>
          <a:xfrm>
            <a:off x="2843280" y="4005360"/>
            <a:ext cx="333540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derstand the possibility to communicate and share content through digital technologie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Behave in a correct way in the digital environmen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e a Social Medi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606" name=""/>
          <p:cNvSpPr txBox="1"/>
          <p:nvPr/>
        </p:nvSpPr>
        <p:spPr>
          <a:xfrm>
            <a:off x="395280" y="1412640"/>
            <a:ext cx="8748720" cy="1152360"/>
          </a:xfrm>
          <a:prstGeom prst="rect">
            <a:avLst/>
          </a:prstGeom>
          <a:noFill/>
          <a:ln w="0">
            <a:noFill/>
          </a:ln>
        </p:spPr>
        <p:txBody>
          <a:bodyPr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How to Sign Up?</a:t>
            </a:r>
            <a:endParaRPr b="0" lang="en-US" sz="2800" spc="-1" strike="noStrike">
              <a:solidFill>
                <a:srgbClr val="000000"/>
              </a:solidFill>
              <a:latin typeface="Arial"/>
            </a:endParaRPr>
          </a:p>
          <a:p>
            <a:pPr marL="291600" indent="-291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 order to use Twitter you have to sign up on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or on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Twitter app.</a:t>
            </a:r>
            <a:endParaRPr b="0" lang="en-US" sz="2000" spc="-1" strike="noStrike">
              <a:solidFill>
                <a:srgbClr val="000000"/>
              </a:solidFill>
              <a:latin typeface="Arial"/>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CasellaDiTesto 2"/>
          <p:cNvSpPr/>
          <p:nvPr/>
        </p:nvSpPr>
        <p:spPr>
          <a:xfrm>
            <a:off x="3851280" y="2878200"/>
            <a:ext cx="5292720" cy="25934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What you need:</a:t>
            </a:r>
            <a:endParaRPr b="0" lang="en-US" sz="2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address or username</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Safety Passw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8" name="Picture 4" descr="Image result for twitter smartphone"/>
          <p:cNvPicPr/>
          <p:nvPr/>
        </p:nvPicPr>
        <p:blipFill>
          <a:blip r:embed="rId2"/>
          <a:stretch/>
        </p:blipFill>
        <p:spPr>
          <a:xfrm>
            <a:off x="108000" y="278136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610"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how to follow friend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ike Instagram, with Twitter you can follow friends and famous people and see what they share on their profiles.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follow them you have to write their username in the “Search” section which you can find in your homepage:</a:t>
            </a:r>
            <a:endParaRPr b="0" lang="en-US" sz="2000" spc="-1" strike="noStrike">
              <a:solidFill>
                <a:srgbClr val="000000"/>
              </a:solidFill>
              <a:latin typeface="Arial"/>
            </a:endParaRPr>
          </a:p>
        </p:txBody>
      </p:sp>
      <p:sp>
        <p:nvSpPr>
          <p:cNvPr id="611" name="CasellaDiTesto 6"/>
          <p:cNvSpPr/>
          <p:nvPr/>
        </p:nvSpPr>
        <p:spPr>
          <a:xfrm>
            <a:off x="755640" y="45813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you find who you want to follow you will have to click (or touch) on the “Follow” icon.</a:t>
            </a:r>
            <a:endParaRPr b="0" lang="en-US" sz="2000" spc="-1" strike="noStrike">
              <a:solidFill>
                <a:srgbClr val="000000"/>
              </a:solidFill>
              <a:latin typeface="Arial"/>
            </a:endParaRPr>
          </a:p>
        </p:txBody>
      </p:sp>
      <p:pic>
        <p:nvPicPr>
          <p:cNvPr id="612" name="Picture 4" descr=""/>
          <p:cNvPicPr/>
          <p:nvPr/>
        </p:nvPicPr>
        <p:blipFill>
          <a:blip r:embed="rId1"/>
          <a:srcRect l="0" t="8347" r="0" b="0"/>
          <a:stretch/>
        </p:blipFill>
        <p:spPr>
          <a:xfrm>
            <a:off x="2268360" y="4005360"/>
            <a:ext cx="4822920" cy="792000"/>
          </a:xfrm>
          <a:prstGeom prst="rect">
            <a:avLst/>
          </a:prstGeom>
          <a:ln w="0">
            <a:noFill/>
          </a:ln>
        </p:spPr>
      </p:pic>
      <p:pic>
        <p:nvPicPr>
          <p:cNvPr id="613" name="Picture 5" descr=""/>
          <p:cNvPicPr/>
          <p:nvPr/>
        </p:nvPicPr>
        <p:blipFill>
          <a:blip r:embed="rId2"/>
          <a:srcRect l="0" t="11851" r="0" b="0"/>
          <a:stretch/>
        </p:blipFill>
        <p:spPr>
          <a:xfrm>
            <a:off x="5580000" y="4797360"/>
            <a:ext cx="2376720" cy="10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615" name=""/>
          <p:cNvSpPr txBox="1"/>
          <p:nvPr/>
        </p:nvSpPr>
        <p:spPr>
          <a:xfrm>
            <a:off x="468000" y="1484280"/>
            <a:ext cx="8280360" cy="1224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Tube is a Social Medium which allows users to:</a:t>
            </a:r>
            <a:endParaRPr b="0" lang="en-US" sz="2000" spc="-1" strike="noStrike">
              <a:solidFill>
                <a:srgbClr val="000000"/>
              </a:solidFill>
              <a:latin typeface="Arial"/>
            </a:endParaRPr>
          </a:p>
        </p:txBody>
      </p:sp>
      <p:pic>
        <p:nvPicPr>
          <p:cNvPr id="616" name="Picture 2" descr="Image result for youtubers"/>
          <p:cNvPicPr/>
          <p:nvPr/>
        </p:nvPicPr>
        <p:blipFill>
          <a:blip r:embed="rId1"/>
          <a:srcRect l="10528" t="0" r="0" b="0"/>
          <a:stretch/>
        </p:blipFill>
        <p:spPr>
          <a:xfrm>
            <a:off x="5292720" y="2637000"/>
            <a:ext cx="3672000" cy="2736720"/>
          </a:xfrm>
          <a:prstGeom prst="rect">
            <a:avLst/>
          </a:prstGeom>
          <a:ln w="0">
            <a:noFill/>
          </a:ln>
        </p:spPr>
      </p:pic>
      <p:sp>
        <p:nvSpPr>
          <p:cNvPr id="617" name="CasellaDiTesto 5"/>
          <p:cNvSpPr/>
          <p:nvPr/>
        </p:nvSpPr>
        <p:spPr>
          <a:xfrm>
            <a:off x="0" y="2708280"/>
            <a:ext cx="52927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e videos about different content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ment on vide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llow interesting channels of their favorite topic</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wnload and share their own videos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619" name=""/>
          <p:cNvSpPr txBox="1"/>
          <p:nvPr/>
        </p:nvSpPr>
        <p:spPr>
          <a:xfrm>
            <a:off x="468000" y="1483920"/>
            <a:ext cx="8280360" cy="151308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how to Sign Up? </a:t>
            </a:r>
            <a:endParaRPr b="0" lang="en-US" sz="28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watch YouTube videos you don’t need to Sign Up on the website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 but if you want to like or comment on them you have to do it. </a:t>
            </a:r>
            <a:endParaRPr b="0" lang="en-US" sz="2000" spc="-1" strike="noStrike">
              <a:solidFill>
                <a:srgbClr val="000000"/>
              </a:solidFill>
              <a:latin typeface="Arial"/>
            </a:endParaRPr>
          </a:p>
        </p:txBody>
      </p:sp>
      <p:sp>
        <p:nvSpPr>
          <p:cNvPr id="620" name="CasellaDiTesto 2"/>
          <p:cNvSpPr/>
          <p:nvPr/>
        </p:nvSpPr>
        <p:spPr>
          <a:xfrm>
            <a:off x="3851280" y="2852640"/>
            <a:ext cx="4610160" cy="301932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2800" spc="-1" strike="noStrike">
                <a:solidFill>
                  <a:srgbClr val="000000"/>
                </a:solidFill>
                <a:latin typeface="Arial Rounded MT Bold"/>
              </a:rPr>
              <a:t>What you need:</a:t>
            </a:r>
            <a:endParaRPr b="0" lang="en-US" sz="28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ddress</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fety Passw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1" name="Picture 2" descr="Image result for log in youtube screenshot"/>
          <p:cNvPicPr/>
          <p:nvPr/>
        </p:nvPicPr>
        <p:blipFill>
          <a:blip r:embed="rId2"/>
          <a:stretch/>
        </p:blipFill>
        <p:spPr>
          <a:xfrm>
            <a:off x="0" y="3213000"/>
            <a:ext cx="4390920" cy="21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623"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how to watch video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watch videos on YouTube you have to write the title or the topic of the video in the “Search” section which you can find in your homepage:</a:t>
            </a:r>
            <a:endParaRPr b="0" lang="en-US" sz="2000" spc="-1" strike="noStrike">
              <a:solidFill>
                <a:srgbClr val="000000"/>
              </a:solidFill>
              <a:latin typeface="Arial"/>
            </a:endParaRPr>
          </a:p>
        </p:txBody>
      </p:sp>
      <p:sp>
        <p:nvSpPr>
          <p:cNvPr id="624"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n you will have a list of videos pertinent to your research and clicking (or touching) directly on the video and it starts right away.</a:t>
            </a:r>
            <a:endParaRPr b="0" lang="en-US" sz="2000" spc="-1" strike="noStrike">
              <a:solidFill>
                <a:srgbClr val="000000"/>
              </a:solidFill>
              <a:latin typeface="Arial"/>
            </a:endParaRPr>
          </a:p>
        </p:txBody>
      </p:sp>
      <p:pic>
        <p:nvPicPr>
          <p:cNvPr id="625" name="Picture 2" descr=""/>
          <p:cNvPicPr/>
          <p:nvPr/>
        </p:nvPicPr>
        <p:blipFill>
          <a:blip r:embed="rId1"/>
          <a:stretch/>
        </p:blipFill>
        <p:spPr>
          <a:xfrm>
            <a:off x="0" y="3573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27" name=""/>
          <p:cNvSpPr txBox="1"/>
          <p:nvPr/>
        </p:nvSpPr>
        <p:spPr>
          <a:xfrm>
            <a:off x="73512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data online</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it comes to sharing data online you must be careful since there are some simple rules you need to respect to be safe and protect your privacy:</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void to insert your phone number publicly</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void to share your passwords onlin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void fake profile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void to open spam e-mails</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29" name=""/>
          <p:cNvSpPr txBox="1"/>
          <p:nvPr/>
        </p:nvSpPr>
        <p:spPr>
          <a:xfrm>
            <a:off x="457200" y="148428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posts, photos and videos on Social Medi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haring media online is very easy, but you always have to remember to be careful about what you decide to share with the world: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Don’t share sensitive data</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Don’t be offensive against other peopl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ke sure you don’t share fake news: check if the source is trusted</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31"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posts, photos and videos on </a:t>
            </a:r>
            <a:r>
              <a:rPr b="1" lang="en-GB" sz="3200" spc="-1" strike="noStrike">
                <a:solidFill>
                  <a:srgbClr val="000000"/>
                </a:solidFill>
                <a:latin typeface="Arial Rounded MT Bold"/>
              </a:rPr>
              <a:t>Facebook</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share” button on the post you want to shar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rite whatever you want to share with your friends in the “What’s on your mind?” spac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lect “share with Facebook” from another Social Media or website or app</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43040" indent="-28584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9" descr="C:\Users\Lorenzo\Downloads\WhatsApp Image 2019-09-18 at 17.30.34.jpeg"/>
          <p:cNvPicPr/>
          <p:nvPr/>
        </p:nvPicPr>
        <p:blipFill>
          <a:blip r:embed="rId1"/>
          <a:stretch/>
        </p:blipFill>
        <p:spPr>
          <a:xfrm>
            <a:off x="3390840" y="2349360"/>
            <a:ext cx="1468440" cy="1127160"/>
          </a:xfrm>
          <a:prstGeom prst="rect">
            <a:avLst/>
          </a:prstGeom>
          <a:ln w="0">
            <a:noFill/>
          </a:ln>
        </p:spPr>
      </p:pic>
      <p:sp>
        <p:nvSpPr>
          <p:cNvPr id="633" name=""/>
          <p:cNvSpPr txBox="1"/>
          <p:nvPr/>
        </p:nvSpPr>
        <p:spPr>
          <a:xfrm>
            <a:off x="457200" y="1557360"/>
            <a:ext cx="8229600" cy="430992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photos and videos on </a:t>
            </a:r>
            <a:r>
              <a:rPr b="1" lang="en-GB" sz="3200" spc="-1" strike="noStrike">
                <a:solidFill>
                  <a:srgbClr val="000000"/>
                </a:solidFill>
                <a:latin typeface="Arial Rounded MT Bold"/>
              </a:rPr>
              <a:t>Instagram</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 </a:t>
            </a:r>
            <a:r>
              <a:rPr b="0" lang="en-GB" sz="2600" spc="-1" strike="noStrike">
                <a:solidFill>
                  <a:srgbClr val="000000"/>
                </a:solidFill>
                <a:latin typeface="Arial Rounded MT Bold"/>
              </a:rPr>
              <a:t>	</a:t>
            </a:r>
            <a:r>
              <a:rPr b="0" lang="en-GB" sz="2600" spc="-1" strike="noStrike">
                <a:solidFill>
                  <a:srgbClr val="000000"/>
                </a:solidFill>
                <a:latin typeface="Arial Rounded MT Bold"/>
              </a:rPr>
              <a:t>   ” ic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lect the photo you want to shar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pply some filters if you lik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rite a descrip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hare the photo on your profile</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3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3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texts or photos on </a:t>
            </a:r>
            <a:r>
              <a:rPr b="1" lang="en-GB" sz="3200" spc="-1" strike="noStrike">
                <a:solidFill>
                  <a:srgbClr val="000000"/>
                </a:solidFill>
                <a:latin typeface="Arial Rounded MT Bold"/>
              </a:rPr>
              <a:t>Twitter</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What’s happening?” spac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rite your text with less than 280</a:t>
            </a:r>
            <a:r>
              <a:rPr b="0" lang="hu-HU" sz="2600" spc="-1" strike="noStrike">
                <a:solidFill>
                  <a:srgbClr val="000000"/>
                </a:solidFill>
                <a:latin typeface="Arial Rounded MT Bold"/>
              </a:rPr>
              <a:t>.</a:t>
            </a:r>
            <a:r>
              <a:rPr b="0" lang="en-GB" sz="2600" spc="-1" strike="noStrike">
                <a:solidFill>
                  <a:srgbClr val="000000"/>
                </a:solidFill>
                <a:latin typeface="Arial Rounded MT Bold"/>
              </a:rPr>
              <a:t> characters (or select a photo)</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dd hashtags if you like (#tag)</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Tweet” button</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s for communicatio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development of communication technologies, in particular IT technologies, has profoundly changed the interaction between person and the tools use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day, computers and programs continue to be essential reference points for communication</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ven if the danger of improper use is always present, concretely the new communication technologies represent the indispensable tool to guarantee freedom of communication</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495440"/>
            <a:ext cx="8229600" cy="4741920"/>
          </a:xfrm>
          <a:prstGeom prst="rect">
            <a:avLst/>
          </a:prstGeom>
          <a:noFill/>
          <a:ln w="0">
            <a:noFill/>
          </a:ln>
        </p:spPr>
        <p:txBody>
          <a:bodyPr anchor="t">
            <a:norm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Rounded MT Bold"/>
              </a:rPr>
              <a:t>Sharing videos on </a:t>
            </a:r>
            <a:r>
              <a:rPr b="1" lang="en-GB" sz="3100" spc="-1" strike="noStrike">
                <a:solidFill>
                  <a:srgbClr val="000000"/>
                </a:solidFill>
                <a:latin typeface="Arial Rounded MT Bold"/>
              </a:rPr>
              <a:t>YouTube</a:t>
            </a:r>
            <a:r>
              <a:rPr b="0" lang="en-GB" sz="3100" spc="-1" strike="noStrike">
                <a:solidFill>
                  <a:srgbClr val="000000"/>
                </a:solidFill>
                <a:latin typeface="Arial Rounded MT Bold"/>
              </a:rPr>
              <a:t>: how to do it?</a:t>
            </a:r>
            <a:endParaRPr b="0" lang="en-US" sz="31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e circled ico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lect “Upload v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reate your own YouTube Channe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Rounded MT Bold"/>
              </a:rPr>
              <a:t>Select the video you want to share and upload it</a:t>
            </a:r>
            <a:r>
              <a:rPr b="0" lang="hu-HU" sz="2300" spc="-1" strike="noStrike">
                <a:solidFill>
                  <a:srgbClr val="000000"/>
                </a:solidFill>
                <a:latin typeface="Arial Rounded MT Bold"/>
              </a:rPr>
              <a:t>.</a:t>
            </a:r>
            <a:endParaRPr b="0" lang="en-US" sz="2300" spc="-1" strike="noStrike">
              <a:solidFill>
                <a:srgbClr val="000000"/>
              </a:solidFill>
              <a:latin typeface="Arial"/>
            </a:endParaRPr>
          </a:p>
          <a:p>
            <a:pPr lvl="1" marL="971640" indent="-51444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4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2" descr=""/>
          <p:cNvPicPr/>
          <p:nvPr/>
        </p:nvPicPr>
        <p:blipFill>
          <a:blip r:embed="rId1"/>
          <a:stretch/>
        </p:blipFill>
        <p:spPr>
          <a:xfrm>
            <a:off x="5407200" y="2176560"/>
            <a:ext cx="3279600" cy="1654200"/>
          </a:xfrm>
          <a:prstGeom prst="rect">
            <a:avLst/>
          </a:prstGeom>
          <a:ln w="0">
            <a:noFill/>
          </a:ln>
        </p:spPr>
      </p:pic>
      <p:sp>
        <p:nvSpPr>
          <p:cNvPr id="652" name="Ovale 8"/>
          <p:cNvSpPr/>
          <p:nvPr/>
        </p:nvSpPr>
        <p:spPr>
          <a:xfrm>
            <a:off x="5867280" y="2637000"/>
            <a:ext cx="576360" cy="431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ccia a destra 9"/>
          <p:cNvSpPr/>
          <p:nvPr/>
        </p:nvSpPr>
        <p:spPr>
          <a:xfrm rot="20400000">
            <a:off x="5535720" y="28951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495440"/>
            <a:ext cx="8362800" cy="4741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videos on </a:t>
            </a:r>
            <a:r>
              <a:rPr b="1" lang="en-GB" sz="3200" spc="-1" strike="noStrike">
                <a:solidFill>
                  <a:srgbClr val="000000"/>
                </a:solidFill>
                <a:latin typeface="Arial Rounded MT Bold"/>
              </a:rPr>
              <a:t>YouTube</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rite the Title and the Description of your v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lect if you want to share it publicly or privately</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ait until YouTube uploads the inf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Complet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s for communicatio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communicate with friends, relatives, colleagues or any other person in the world, you can use:</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C, through appropriate platform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bile phone, through downloadable applications (both free and pai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r a more effective communication and to remain always connected, now both the applications and the communication platforms are usable both on the PC and on the mobile phone, without distinction</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s for communication </a:t>
            </a:r>
            <a:endParaRPr b="0" lang="en-US" sz="32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most useful applications for communication 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hu-HU" sz="2000" spc="-1" strike="noStrike">
                <a:solidFill>
                  <a:srgbClr val="000000"/>
                </a:solidFill>
                <a:latin typeface="Arial Rounded MT Bold"/>
              </a:rPr>
              <a:t>video chat and </a:t>
            </a:r>
            <a:r>
              <a:rPr b="0" lang="en-US" sz="2000" spc="-1" strike="noStrike">
                <a:solidFill>
                  <a:srgbClr val="000000"/>
                </a:solidFill>
                <a:latin typeface="Arial Rounded MT Bold"/>
              </a:rPr>
              <a:t>instant messag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video chat</a:t>
            </a:r>
            <a:r>
              <a:rPr b="0" lang="hu-HU" sz="2000" spc="-1" strike="noStrike">
                <a:solidFill>
                  <a:srgbClr val="000000"/>
                </a:solidFill>
                <a:latin typeface="Arial Rounded MT Bold"/>
              </a:rPr>
              <a:t> and instant message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ore exampl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a:t>
            </a:r>
            <a:r>
              <a:rPr b="0" lang="en-US" sz="2000" spc="-1" strike="noStrike">
                <a:solidFill>
                  <a:srgbClr val="000000"/>
                </a:solidFill>
                <a:latin typeface="Arial Rounded MT Bold"/>
              </a:rPr>
              <a:t>video chat</a:t>
            </a:r>
            <a:r>
              <a:rPr b="0" lang="hu-HU" sz="2000" spc="-1" strike="noStrike">
                <a:solidFill>
                  <a:srgbClr val="000000"/>
                </a:solidFill>
                <a:latin typeface="Arial Rounded MT Bold"/>
              </a:rPr>
              <a:t> and instant messag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a:t>
            </a:r>
            <a:r>
              <a:rPr b="0" lang="en-US" sz="2000" spc="-1" strike="noStrike">
                <a:solidFill>
                  <a:srgbClr val="000000"/>
                </a:solidFill>
                <a:latin typeface="Arial Rounded MT Bold"/>
              </a:rPr>
              <a:t>video chat</a:t>
            </a:r>
            <a:r>
              <a:rPr b="0" lang="hu-HU" sz="2000" spc="-1" strike="noStrike">
                <a:solidFill>
                  <a:srgbClr val="000000"/>
                </a:solidFill>
                <a:latin typeface="Arial Rounded MT Bold"/>
              </a:rPr>
              <a:t> and instant messag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7"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4292640" y="2349360"/>
            <a:ext cx="4600440" cy="45262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n order to use WhatsApp you have to download the app and log in with your telephone number from your smartphone. Then you can chat with everyone around the world: you only need his telephone number</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6840" y="1699920"/>
            <a:ext cx="7931160" cy="7160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receiving </a:t>
            </a:r>
            <a:r>
              <a:rPr b="0" lang="hu-HU" sz="3200" spc="-1" strike="noStrike">
                <a:solidFill>
                  <a:srgbClr val="000000"/>
                </a:solidFill>
                <a:latin typeface="Arial Rounded MT Bold"/>
              </a:rPr>
              <a:t>E</a:t>
            </a:r>
            <a:r>
              <a:rPr b="0" lang="en-GB" sz="3200" spc="-1" strike="noStrike">
                <a:solidFill>
                  <a:srgbClr val="000000"/>
                </a:solidFill>
                <a:latin typeface="Arial Rounded MT Bold"/>
              </a:rPr>
              <a:t>-mails: Outloo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457200" y="2797200"/>
            <a:ext cx="4572000" cy="32943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com is </a:t>
            </a:r>
            <a:r>
              <a:rPr b="0" lang="en-GB" sz="2000" spc="-1" strike="noStrike">
                <a:solidFill>
                  <a:srgbClr val="000000"/>
                </a:solidFill>
                <a:latin typeface="Arial Rounded MT Bold"/>
              </a:rPr>
              <a:t>one of the safest programmes for webmail, tasks and calendaring services. The app Outlook provides to receive and send </a:t>
            </a:r>
            <a:r>
              <a:rPr b="0" lang="hu-HU" sz="2000" spc="-1" strike="noStrike">
                <a:solidFill>
                  <a:srgbClr val="000000"/>
                </a:solidFill>
                <a:latin typeface="Arial Rounded MT Bold"/>
              </a:rPr>
              <a:t>E</a:t>
            </a:r>
            <a:r>
              <a:rPr b="0" lang="en-GB" sz="2000" spc="-1" strike="noStrike">
                <a:solidFill>
                  <a:srgbClr val="000000"/>
                </a:solidFill>
                <a:latin typeface="Arial Rounded MT Bold"/>
              </a:rPr>
              <a:t>-mail with your smartphone and it is very useful for tasks and calendar as well</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39280" y="1706040"/>
            <a:ext cx="76993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video chat:</a:t>
            </a:r>
            <a:r>
              <a:rPr b="0" lang="hu-HU" sz="3200" spc="-1" strike="noStrike">
                <a:solidFill>
                  <a:srgbClr val="000000"/>
                </a:solidFill>
                <a:latin typeface="Arial Rounded MT Bold"/>
              </a:rPr>
              <a:t>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502000"/>
            <a:ext cx="4392720" cy="38415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is an application that provides video chat and voice calls between mobile devices (smartphones, tablets, smartwatches, etc.) and computers. It also allows instant messaging</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u="sng">
                <a:solidFill>
                  <a:srgbClr val="009999"/>
                </a:solidFill>
                <a:uFillTx/>
                <a:latin typeface="Arial"/>
                <a:hlinkClick r:id="rId1"/>
              </a:rPr>
              <a:t>htt</a:t>
            </a:r>
            <a:r>
              <a:rPr b="0" lang="it-IT" sz="1200" spc="-1" strike="noStrike" u="sng">
                <a:solidFill>
                  <a:srgbClr val="009999"/>
                </a:solidFill>
                <a:uFillTx/>
                <a:latin typeface="Arial"/>
                <a:hlinkClick r:id="rId2"/>
              </a:rPr>
              <a:t>ps://www.skype.com/en/</a:t>
            </a:r>
            <a:endParaRPr b="0" lang="en-US" sz="1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413320" y="2179800"/>
            <a:ext cx="3273480" cy="2566800"/>
          </a:xfrm>
          <a:prstGeom prst="rect">
            <a:avLst/>
          </a:prstGeom>
          <a:ln w="0">
            <a:noFill/>
          </a:ln>
        </p:spPr>
      </p:pic>
      <p:sp>
        <p:nvSpPr>
          <p:cNvPr id="561" name="Rettangolo 1"/>
          <p:cNvSpPr/>
          <p:nvPr/>
        </p:nvSpPr>
        <p:spPr>
          <a:xfrm>
            <a:off x="4986360" y="4227480"/>
            <a:ext cx="3816360" cy="17704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is the most used app to do video conference calls all around the world</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63" name="Marcador de contenido 2"/>
          <p:cNvSpPr/>
          <p:nvPr/>
        </p:nvSpPr>
        <p:spPr>
          <a:xfrm>
            <a:off x="-770040" y="1660680"/>
            <a:ext cx="7931160" cy="583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 Behaving in a digital environment</a:t>
            </a:r>
            <a:endParaRPr b="0" lang="en-US" sz="36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Rules for a correct behaviour</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tiquette includes the informal rules to follow to ensure correct behavior for a user of the Internet</a:t>
            </a:r>
            <a:r>
              <a:rPr b="0" lang="hu-HU" sz="2000" spc="-1" strike="noStrike">
                <a:solidFill>
                  <a:srgbClr val="000000"/>
                </a:solidFill>
                <a:latin typeface="Arial Rounded MT Bold"/>
              </a:rPr>
              <a:t>. </a:t>
            </a:r>
            <a:r>
              <a:rPr b="0" lang="en-US" sz="2000" spc="-1" strike="noStrike">
                <a:solidFill>
                  <a:srgbClr val="000000"/>
                </a:solidFill>
                <a:latin typeface="Arial Rounded MT Bold"/>
              </a:rPr>
              <a:t>It is useful on newsgroups, mailing lists, forums, blogs, social networks or email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Risultato immagini per netiquette"/>
          <p:cNvPicPr/>
          <p:nvPr/>
        </p:nvPicPr>
        <p:blipFill>
          <a:blip r:embed="rId1"/>
          <a:stretch/>
        </p:blipFill>
        <p:spPr>
          <a:xfrm>
            <a:off x="777960" y="3429000"/>
            <a:ext cx="3452760" cy="2378160"/>
          </a:xfrm>
          <a:prstGeom prst="rect">
            <a:avLst/>
          </a:prstGeom>
          <a:ln w="0">
            <a:noFill/>
          </a:ln>
        </p:spPr>
      </p:pic>
      <p:sp>
        <p:nvSpPr>
          <p:cNvPr id="567" name="Rettangolo 1"/>
          <p:cNvSpPr/>
          <p:nvPr/>
        </p:nvSpPr>
        <p:spPr>
          <a:xfrm>
            <a:off x="4230720" y="40165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rules of behavior must be used mainly in communications with other users</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19-11-12T12:08:45Z</dcterms:modified>
  <cp:revision>524</cp:revision>
  <dc:subject/>
  <dc:title>Title</dc:title>
</cp:coreProperties>
</file>