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6B38-E9F3-4D38-A96F-167EAB43831C}" type="slidenum">
              <a:rPr b="0" lang="en-I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371600" y="1143000"/>
            <a:ext cx="4114800" cy="3086280"/>
          </a:xfrm>
          <a:prstGeom prst="rect">
            <a:avLst/>
          </a:prstGeom>
          <a:ln w="0">
            <a:noFill/>
          </a:ln>
        </p:spPr>
      </p:sp>
      <p:sp>
        <p:nvSpPr>
          <p:cNvPr id="58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58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80786-34BB-4007-A8E6-E449DAABDD78}"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BFA72FD-8A95-4156-8869-D7A1535106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14961E0-587C-41D2-8CB1-8CE8DB8B9FC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A635027-8DDF-451F-99B3-7461A60230C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5982BC-F8F5-4899-A2E0-588D8178CC1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CB0374-6671-4BB5-9986-6CF9B332C0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7C35B7-F7DF-4BEB-BFCA-0F2066D5928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051812A-D4D5-4E7F-91B8-BE50A16A572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E20B1BA-5945-48A0-854F-C6D9CB259C1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EA872223-9C6C-4502-95A8-9FF4856FD88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BE91F4EA-6E5B-4EEF-A08E-AA85B2DCE7B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B6C9618-EF5F-43A8-B356-124532197AF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10DFE46-4B9F-4F28-A792-1A121E25D2A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048F4EA-DED4-43D8-957D-FE60A040B2F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F56C73F-AFA0-4D91-991E-65843263B82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11513A8-F6D5-4161-B433-E7853A6141B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3817DD8-287B-4D61-9F56-8D23E7FB2A2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61E7813-7693-4826-B2FE-5286D367C80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6821DCC-5AF8-4EBB-BA40-3848BC2B1365}"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DE97260-883B-4168-A262-E7EE5983461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769FF59-71E4-4564-9FA1-243EE0AC6EE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ABE2E5C-275A-431B-88D9-A740AE5E8A2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52B79E5-7602-49FF-B948-DC9F39A2B3C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54E41089-8B74-4EC2-BCF5-0D687B6E1D6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2B17D561-677D-4ACA-876F-A3ADA8AD4A2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3FF8005-30E9-4CAA-8D0C-FCE80AD242F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233CDDE-D105-4C56-B07C-EDD6027793D1}"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2B1514D-3DC6-4EDB-988B-03B6701E5C7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9000BFD-8044-4DC8-9A1B-C6F09318A87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D212B2-D3EB-42AA-ADCB-C507A762F3B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E849A96-A76B-46E9-8253-C02FBAB8ADD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6DF9EB6-3DB1-4271-9C7E-BC74FD678FC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9FDF4DEF-C31D-4C45-ADA5-84738E9BB9B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C4F02607-8F47-4EFF-AE38-73DAA7B0486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1C0F549-FFE1-42D3-9AB4-543D7032230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C0F8747-E215-40D2-AE33-62316621A52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5ECD7F67-9DDB-403F-A4B7-93565C0505C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E82D449-9CCD-455D-BC57-8F86125DFFB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5DCB5C4-22F5-4C59-86F7-424E91A8EBA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B96D913-BE82-4992-A799-99E4B31E594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CE8B6C1-F162-4A98-9D11-3AF6836B054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710BF84-8ED5-40B3-B3A6-F06A8200D78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BAACED4-4D2C-4365-8102-419DC5841F8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6C5B213-2261-4B1E-9290-E91F42A27B4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010FF0E-631F-4ED5-8E35-B4F384580B8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90F89E5-EC95-4662-B7E4-E72556BC0F9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D22F8CE-8D0B-4F53-9854-4450EE4DA0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35A45D-063F-4D6E-AD24-EE9134A22C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D24C11-8639-4265-B28F-EECCD6DFD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55ADE7-E9E5-48D6-9E1D-BCD2B91D3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DD79C0-83D3-4BBC-99D1-985E753EA1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3C3D3C-897A-4E91-978D-CA6BCA261F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A8D4CA-025C-4D69-B96C-B99604983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BA48F-71DF-4BD2-AB9F-539E51718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172AA8-57F6-4DB5-A75E-9137469D6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7E5B89-7800-429B-9749-09B4463141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1D3A95-EFB3-4411-9F2F-4CFAC6D58A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7C0E3A-F902-44D6-AF50-60B16C86D2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8C3E675-4202-42D9-A802-2A43E3F89A3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05BD351-9F9C-491D-84CD-BDF8900A81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D1F66B-0146-4255-8C76-EC4B8E7D70D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2C45584-BAF7-4F46-975E-415D038FA7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4960595-74CC-4045-B1F5-F2C5494B66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1ECA28-042A-4891-ADF0-287D4FF712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579D08-0BE9-4CAD-9AE5-658EA0AC14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19A321-D3B6-4DDB-97F5-2D983B1BAC3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A188AAE-8291-4272-BC63-81C591C774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9FDFBEA-B4EE-49C0-9585-40225E843E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B75A4B2-20AB-4396-9643-C45B2266D40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2A6A300-7ADE-42DD-B272-384041BFD12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6CE5E3F0-9900-4B0B-83BF-08B8971AAF0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C20834-8A56-4C76-8F96-AC055C8598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A245EB0-3180-4E1C-8893-DBD3F77205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89E3B46-06CE-4302-9AE7-1F9D41F1E4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E060C07-545A-43B1-AD83-457D717CBA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31278B4-D72C-49E8-9353-4DA509BF21F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CB70D7-6F67-409D-8B6E-08CBE71D01B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FF7A7DB-8CC3-4793-A484-039460C340E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68D24BB-2462-4697-86A1-4166DFD588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693B28C-CF74-4D7F-B188-4B8D5CD2FF2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6D56927-D97C-4997-A0EE-26EAC6A5893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3800E94-70FD-4DC9-8BBB-F95CE471F30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44D7DC7-56A0-4C8D-A3EE-08C26A7262B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B1EEAFB-1833-40DF-BD9F-A8156495E4F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D23ACDD-FB7C-4C89-BDD9-E4F492FDAF7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4628F61B-FC29-4BEB-8445-C90CA8BC2A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3E891F-F160-4ADE-A502-A971A6E6375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D67E190-61B3-4B4B-9AF7-D6E3715617A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DFA535A-4934-45C5-BB8C-8811E2FFE13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99CE35B-E7E9-43D4-9E1A-611988AC40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67BDE1-8260-4A28-B08F-6614F2E99A4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56C65F6-AEA8-4F17-A0D5-4082A49650F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BC659EC-C465-446A-9A41-CD2A0F5C427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31002209-E41F-4F16-B24F-C72BB0403B1B}"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9C19361B-13BD-472E-A49A-B3119147317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BD82EBD-C86D-4B06-86DA-BEC72782837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C766CD4-CFD1-4410-88F1-39629B4B23D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80A4CC4-0709-48FB-BCC6-421D13EFDFC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168A72C-FA5F-4BAB-B6B1-2DF2D665123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5EEF343-24D1-4935-A381-855C16C204E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B4C5F5F-5989-4CF9-94F9-6B338DBDE34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D44002E-715D-4299-9B70-EEE192EA743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674B25E-45F7-43FA-B97F-4F3FDB59EB4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ACC2171-1B54-4923-8EC0-2114CC496BA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6B12BB75-7999-487F-95AD-86B518DC89F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6B7FA46-DC7C-4DB5-B052-25FE5D4E6C2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CC36AE6-E0F3-46FB-BDD9-D3EC5D990C0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D06C7EA-35C2-4BB2-BEE4-3E5F1167269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C7ACE6D-8E65-4CE3-B2D7-C63004062CD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298A4CF-6257-49AB-9E5C-78C1AF28E80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B8D9F24-A72A-4D9C-B099-FFF2E51F4E6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13E17A7-1C6A-4E19-BC1F-0E27E03F543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7CA8BD4-FA46-415A-8C41-C77C56A4A8D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CAA514E-8EEB-4B1B-96B0-373D35F59FA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A283018-2FB5-421D-AE73-883AE8B51EA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38ADF31-80DC-46C6-B055-22FEEB49510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346DDEC-194A-4AEF-BEB7-67C7F934066A}"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AF6E4F8-FC35-4700-8FA1-D8D00FF9D15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7F60142-71CB-4557-9E3C-6C062AB26CE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C612678-7F54-464C-953B-70EF7A65637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DDA6FB3-7701-46AB-BCF5-1E63D5F173BC}"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C560-39B4-4A25-AF31-F4CF1AE8FEA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C9CA-09C1-4BBA-94D4-07C12BFAF58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B9B45-D46C-4CC4-851F-5D2E0A26F7D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0C11-6454-44FE-9B1E-9658B865467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FB68-F5D4-4A1A-9CFC-2616490DD30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6C8ED-7022-4DAE-8524-0B26B347FC6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DA596-9E22-48F9-A7C0-39C93B3452C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AB91-7AD9-44EF-A16F-77D6AD74C78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1FD35-60CD-47E2-9B61-181B7D20496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1779C-6612-4862-8656-D7633B842C7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Digital Citizenship</a:t>
            </a:r>
            <a:endParaRPr b="0" lang="en-US" sz="3600" spc="-1" strike="noStrike">
              <a:solidFill>
                <a:srgbClr val="000000"/>
              </a:solidFill>
              <a:latin typeface="Arial"/>
            </a:endParaRPr>
          </a:p>
        </p:txBody>
      </p:sp>
      <p:sp>
        <p:nvSpPr>
          <p:cNvPr id="544" name="Rectángulo 1"/>
          <p:cNvSpPr/>
          <p:nvPr/>
        </p:nvSpPr>
        <p:spPr>
          <a:xfrm>
            <a:off x="3332160" y="3244680"/>
            <a:ext cx="53420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Communication &amp; Callabor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4" descr="Image result for digital divide what are the factors"/>
          <p:cNvPicPr/>
          <p:nvPr/>
        </p:nvPicPr>
        <p:blipFill>
          <a:blip r:embed="rId1"/>
          <a:stretch/>
        </p:blipFill>
        <p:spPr>
          <a:xfrm>
            <a:off x="1116000" y="1052640"/>
            <a:ext cx="7201080" cy="4525920"/>
          </a:xfrm>
          <a:prstGeom prst="rect">
            <a:avLst/>
          </a:prstGeom>
          <a:ln w="0">
            <a:noFill/>
          </a:ln>
        </p:spPr>
      </p:pic>
      <p:sp>
        <p:nvSpPr>
          <p:cNvPr id="568" name="Téglalap 1"/>
          <p:cNvSpPr/>
          <p:nvPr/>
        </p:nvSpPr>
        <p:spPr>
          <a:xfrm>
            <a:off x="2340000" y="333360"/>
            <a:ext cx="6696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Arial Rounded MT Bold"/>
              </a:rPr>
              <a:t>Digital Citizenship  - </a:t>
            </a:r>
            <a:r>
              <a:rPr b="1" lang="hu-HU" sz="3000" spc="-1" strike="noStrike">
                <a:solidFill>
                  <a:srgbClr val="000000"/>
                </a:solidFill>
                <a:latin typeface="Arial Rounded MT Bold"/>
              </a:rPr>
              <a:t>Digital Divid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826560" y="2276280"/>
            <a:ext cx="8099640" cy="280332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Digital Citizenship: </a:t>
            </a:r>
            <a:r>
              <a:rPr b="0" lang="en-IE" sz="2800" spc="-1" strike="noStrike">
                <a:solidFill>
                  <a:srgbClr val="000000"/>
                </a:solidFill>
                <a:latin typeface="Arial Rounded MT Bold"/>
              </a:rPr>
              <a:t>Using the internet and social media in a responsible and ethical way</a:t>
            </a:r>
            <a:endParaRPr b="0" lang="en-US" sz="2800" spc="-1" strike="noStrike">
              <a:solidFill>
                <a:srgbClr val="000000"/>
              </a:solidFill>
              <a:latin typeface="Arial"/>
            </a:endParaRPr>
          </a:p>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Digital Leadership: </a:t>
            </a:r>
            <a:r>
              <a:rPr b="0" lang="en-IE" sz="2800" spc="-1" strike="noStrike">
                <a:solidFill>
                  <a:srgbClr val="000000"/>
                </a:solidFill>
                <a:latin typeface="Arial Rounded MT Bold"/>
              </a:rPr>
              <a:t>Using the internet and social media to improve the lives, well-being, and circumstances of others.</a:t>
            </a:r>
            <a:endParaRPr b="0" lang="en-US" sz="2800" spc="-1" strike="noStrike">
              <a:solidFill>
                <a:srgbClr val="000000"/>
              </a:solidFill>
              <a:latin typeface="Arial"/>
            </a:endParaRPr>
          </a:p>
          <a:p>
            <a:pPr marL="339480" indent="-3394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Becoming Digital Lead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xercise 1 </a:t>
            </a:r>
            <a:endParaRPr b="0" lang="en-US" sz="3600" spc="-1" strike="noStrike">
              <a:solidFill>
                <a:srgbClr val="000000"/>
              </a:solidFill>
              <a:latin typeface="Arial"/>
            </a:endParaRPr>
          </a:p>
        </p:txBody>
      </p:sp>
      <p:sp>
        <p:nvSpPr>
          <p:cNvPr id="572" name=""/>
          <p:cNvSpPr txBox="1"/>
          <p:nvPr/>
        </p:nvSpPr>
        <p:spPr>
          <a:xfrm>
            <a:off x="457200" y="2133720"/>
            <a:ext cx="8229600" cy="3992400"/>
          </a:xfrm>
          <a:prstGeom prst="rect">
            <a:avLst/>
          </a:prstGeom>
          <a:noFill/>
          <a:ln w="0">
            <a:noFill/>
          </a:ln>
        </p:spPr>
        <p:txBody>
          <a:bodyPr anchor="t">
            <a:normAutofit/>
          </a:bodyPr>
          <a:p>
            <a:pPr marL="514440" indent="-514440">
              <a:lnSpc>
                <a:spcPct val="100000"/>
              </a:lnSpc>
              <a:spcBef>
                <a:spcPts val="700"/>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mplete your digital leadership checklist?</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GB" sz="2800" spc="-1" strike="noStrike">
                <a:solidFill>
                  <a:srgbClr val="000000"/>
                </a:solidFill>
                <a:latin typeface="Arial Rounded MT Bold"/>
              </a:rPr>
              <a:t>To complete this optional 3 minute DELSA project exercise go to </a:t>
            </a:r>
            <a:endParaRPr b="0" lang="en-US" sz="2800" spc="-1" strike="noStrike">
              <a:solidFill>
                <a:srgbClr val="000000"/>
              </a:solidFill>
              <a:latin typeface="Arial"/>
            </a:endParaRPr>
          </a:p>
          <a:p>
            <a:pPr marL="514440" indent="-51444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http://www.digitaldelsa.eu/unit1-Excercise</a:t>
            </a:r>
            <a:endParaRPr b="0" lang="en-US" sz="2800" spc="-1" strike="noStrike">
              <a:solidFill>
                <a:srgbClr val="000000"/>
              </a:solidFill>
              <a:latin typeface="Arial"/>
            </a:endParaRPr>
          </a:p>
          <a:p>
            <a:pPr marL="514440" indent="-514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CSS - Complete, Screengrab and Submi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Points to consider</a:t>
            </a:r>
            <a:endParaRPr b="0" lang="en-US" sz="3600" spc="-1" strike="noStrike">
              <a:solidFill>
                <a:srgbClr val="000000"/>
              </a:solidFill>
              <a:latin typeface="Arial"/>
            </a:endParaRPr>
          </a:p>
        </p:txBody>
      </p:sp>
      <p:sp>
        <p:nvSpPr>
          <p:cNvPr id="574" name=""/>
          <p:cNvSpPr txBox="1"/>
          <p:nvPr/>
        </p:nvSpPr>
        <p:spPr>
          <a:xfrm>
            <a:off x="457200" y="1417680"/>
            <a:ext cx="8229600" cy="4206960"/>
          </a:xfrm>
          <a:prstGeom prst="rect">
            <a:avLst/>
          </a:prstGeom>
          <a:noFill/>
          <a:ln w="0">
            <a:noFill/>
          </a:ln>
        </p:spPr>
        <p:txBody>
          <a:bodyPr anchor="t">
            <a:normAutofit fontScale="97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Societal and Educational </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igital Skills -  Levels of Digital Literacy</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Two way process – Interpret as well as articulate</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igital Divide – what are the factors? </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Literacy standards</a:t>
            </a:r>
            <a:endParaRPr b="0" lang="en-US" sz="2800" spc="-1" strike="noStrike">
              <a:solidFill>
                <a:srgbClr val="000000"/>
              </a:solidFill>
              <a:latin typeface="Arial"/>
            </a:endParaRPr>
          </a:p>
          <a:p>
            <a:pPr>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yber-bully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484000" y="88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Establish ‘e-Habits</a:t>
            </a:r>
            <a:endParaRPr b="0" lang="en-US" sz="3600" spc="-1" strike="noStrike">
              <a:solidFill>
                <a:srgbClr val="000000"/>
              </a:solidFill>
              <a:latin typeface="Arial"/>
            </a:endParaRPr>
          </a:p>
        </p:txBody>
      </p:sp>
      <p:sp>
        <p:nvSpPr>
          <p:cNvPr id="576" name=""/>
          <p:cNvSpPr txBox="1"/>
          <p:nvPr/>
        </p:nvSpPr>
        <p:spPr>
          <a:xfrm>
            <a:off x="755640" y="1125000"/>
            <a:ext cx="7848720" cy="475164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Why would people demonstrate less citizenship while using technology and online tools?</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When people are online, they sometimes feel invisible – they may do/say things they would never do/say in public…</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             </a:t>
            </a:r>
            <a:r>
              <a:rPr b="0" lang="en-IE" sz="2800" spc="-1" strike="noStrike">
                <a:solidFill>
                  <a:srgbClr val="ff0000"/>
                </a:solidFill>
                <a:latin typeface="Arial Rounded MT Bold"/>
              </a:rPr>
              <a:t>  </a:t>
            </a:r>
            <a:r>
              <a:rPr b="0" lang="en-IE" sz="2800" spc="-1" strike="noStrike">
                <a:solidFill>
                  <a:srgbClr val="000000"/>
                </a:solidFill>
                <a:latin typeface="Arial Rounded MT Bold"/>
              </a:rPr>
              <a:t>Have you experience of th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484000" y="260280"/>
            <a:ext cx="6264360" cy="93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Rounded MT Bold"/>
              </a:rPr>
              <a:t>Were learning Outcomes Achieved?</a:t>
            </a:r>
            <a:endParaRPr b="0" lang="en-US" sz="2800" spc="-1" strike="noStrike">
              <a:solidFill>
                <a:srgbClr val="000000"/>
              </a:solidFill>
              <a:latin typeface="Arial"/>
            </a:endParaRPr>
          </a:p>
        </p:txBody>
      </p:sp>
      <p:sp>
        <p:nvSpPr>
          <p:cNvPr id="578" name="PlaceHolder 2"/>
          <p:cNvSpPr>
            <a:spLocks noGrp="1"/>
          </p:cNvSpPr>
          <p:nvPr>
            <p:ph type="subTitle"/>
          </p:nvPr>
        </p:nvSpPr>
        <p:spPr>
          <a:xfrm>
            <a:off x="216000" y="1699920"/>
            <a:ext cx="8712000" cy="43210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 can apply digital Citizenship to myself?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 can Define Digital Literacy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 can  list four ways that Digital that                          Yes             No</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Digital Literacy adds quality to my life</a:t>
            </a:r>
            <a:endParaRPr b="0" lang="en-US" sz="20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Other Com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Objectives and goals</a:t>
            </a:r>
            <a:endParaRPr b="0" lang="en-US" sz="3600" spc="-1" strike="noStrike">
              <a:solidFill>
                <a:srgbClr val="000000"/>
              </a:solidFill>
              <a:latin typeface="Arial"/>
            </a:endParaRPr>
          </a:p>
        </p:txBody>
      </p:sp>
      <p:sp>
        <p:nvSpPr>
          <p:cNvPr id="546"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 this unit participants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pply Digital Citizens to self</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Define Digital Literacy</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List four ways that Digital literacy adds </a:t>
            </a:r>
            <a:endParaRPr b="0" lang="en-US" sz="2800" spc="-1" strike="noStrike">
              <a:solidFill>
                <a:srgbClr val="000000"/>
              </a:solidFill>
              <a:latin typeface="Arial"/>
            </a:endParaRPr>
          </a:p>
          <a:p>
            <a:pPr marL="810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quality to your lif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What I need for this unit?</a:t>
            </a:r>
            <a:endParaRPr b="0" lang="en-US" sz="3600" spc="-1" strike="noStrike">
              <a:solidFill>
                <a:srgbClr val="000000"/>
              </a:solidFill>
              <a:latin typeface="Arial"/>
            </a:endParaRPr>
          </a:p>
        </p:txBody>
      </p:sp>
      <p:sp>
        <p:nvSpPr>
          <p:cNvPr id="548" name=""/>
          <p:cNvSpPr txBox="1"/>
          <p:nvPr/>
        </p:nvSpPr>
        <p:spPr>
          <a:xfrm>
            <a:off x="250920" y="1423800"/>
            <a:ext cx="8277120" cy="45860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A Computer, Laptop, Tablet or Smartphone</a:t>
            </a:r>
            <a:endParaRPr b="0" lang="en-US" sz="2800" spc="-1" strike="noStrike">
              <a:solidFill>
                <a:srgbClr val="000000"/>
              </a:solidFill>
              <a:latin typeface="Arial"/>
            </a:endParaRPr>
          </a:p>
        </p:txBody>
      </p:sp>
      <p:pic>
        <p:nvPicPr>
          <p:cNvPr id="549" name="Picture 5" descr="laptop"/>
          <p:cNvPicPr/>
          <p:nvPr/>
        </p:nvPicPr>
        <p:blipFill>
          <a:blip r:embed="rId1"/>
          <a:srcRect l="27127" t="0" r="20797" b="0"/>
          <a:stretch/>
        </p:blipFill>
        <p:spPr>
          <a:xfrm>
            <a:off x="4915080" y="2141640"/>
            <a:ext cx="2286000" cy="1234800"/>
          </a:xfrm>
          <a:prstGeom prst="rect">
            <a:avLst/>
          </a:prstGeom>
          <a:ln w="0">
            <a:noFill/>
          </a:ln>
        </p:spPr>
      </p:pic>
      <p:pic>
        <p:nvPicPr>
          <p:cNvPr id="550" name="Picture 6" descr="computer"/>
          <p:cNvPicPr/>
          <p:nvPr/>
        </p:nvPicPr>
        <p:blipFill>
          <a:blip r:embed="rId2"/>
          <a:stretch/>
        </p:blipFill>
        <p:spPr>
          <a:xfrm>
            <a:off x="1170000" y="2152800"/>
            <a:ext cx="2419200" cy="1523880"/>
          </a:xfrm>
          <a:prstGeom prst="rect">
            <a:avLst/>
          </a:prstGeom>
          <a:ln w="0">
            <a:noFill/>
          </a:ln>
        </p:spPr>
      </p:pic>
      <p:pic>
        <p:nvPicPr>
          <p:cNvPr id="551" name="Picture 7" descr="ipad"/>
          <p:cNvPicPr/>
          <p:nvPr/>
        </p:nvPicPr>
        <p:blipFill>
          <a:blip r:embed="rId3"/>
          <a:stretch/>
        </p:blipFill>
        <p:spPr>
          <a:xfrm>
            <a:off x="1925640" y="3817800"/>
            <a:ext cx="1903320" cy="2181240"/>
          </a:xfrm>
          <a:prstGeom prst="rect">
            <a:avLst/>
          </a:prstGeom>
          <a:ln w="0">
            <a:noFill/>
          </a:ln>
        </p:spPr>
      </p:pic>
      <p:pic>
        <p:nvPicPr>
          <p:cNvPr id="552" name="Picture 8" descr="smartphone"/>
          <p:cNvPicPr/>
          <p:nvPr/>
        </p:nvPicPr>
        <p:blipFill>
          <a:blip r:embed="rId4"/>
          <a:stretch/>
        </p:blipFill>
        <p:spPr>
          <a:xfrm>
            <a:off x="5554800" y="3568680"/>
            <a:ext cx="1990440" cy="22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195280" y="274320"/>
            <a:ext cx="6769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Citizenship or just Citizenship</a:t>
            </a:r>
            <a:endParaRPr b="0" lang="en-US" sz="3600" spc="-1" strike="noStrike">
              <a:solidFill>
                <a:srgbClr val="000000"/>
              </a:solidFill>
              <a:latin typeface="Arial"/>
            </a:endParaRPr>
          </a:p>
        </p:txBody>
      </p:sp>
      <p:sp>
        <p:nvSpPr>
          <p:cNvPr id="554" name=""/>
          <p:cNvSpPr txBox="1"/>
          <p:nvPr/>
        </p:nvSpPr>
        <p:spPr>
          <a:xfrm>
            <a:off x="457200" y="2133720"/>
            <a:ext cx="8229600" cy="39924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Citizenship on its own – often thought of as political or aligned to one country ( click to find a definition of Citizenship</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We need to view “digital citizenship” as simply part of our everyday “citizenship” as active-citizens activities</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842920" y="333360"/>
            <a:ext cx="5616360" cy="719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Literacy</a:t>
            </a:r>
            <a:endParaRPr b="0" lang="en-US" sz="3600" spc="-1" strike="noStrike">
              <a:solidFill>
                <a:srgbClr val="000000"/>
              </a:solidFill>
              <a:latin typeface="Arial"/>
            </a:endParaRPr>
          </a:p>
        </p:txBody>
      </p:sp>
      <p:sp>
        <p:nvSpPr>
          <p:cNvPr id="556" name="PlaceHolder 2"/>
          <p:cNvSpPr>
            <a:spLocks noGrp="1"/>
          </p:cNvSpPr>
          <p:nvPr>
            <p:ph type="subTitle"/>
          </p:nvPr>
        </p:nvSpPr>
        <p:spPr>
          <a:xfrm>
            <a:off x="826920" y="1557360"/>
            <a:ext cx="7632720" cy="417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Literacy</a:t>
            </a:r>
            <a:r>
              <a:rPr b="0" lang="en-IE" sz="2400" spc="-1" strike="noStrike">
                <a:solidFill>
                  <a:srgbClr val="000000"/>
                </a:solidFill>
                <a:latin typeface="Arial Rounded MT Bold"/>
              </a:rPr>
              <a:t> – the ability to read and writ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Critical Literacy </a:t>
            </a:r>
            <a:r>
              <a:rPr b="0" lang="en-IE" sz="2400" spc="-1" strike="noStrike">
                <a:solidFill>
                  <a:srgbClr val="000000"/>
                </a:solidFill>
                <a:latin typeface="Arial Rounded MT Bold"/>
              </a:rPr>
              <a:t>– What do you read into the text</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Rounded MT Bold"/>
              </a:rPr>
              <a:t>Digital Literacy </a:t>
            </a:r>
            <a:r>
              <a:rPr b="0" lang="en-IE" sz="2400" spc="-1" strike="noStrike">
                <a:solidFill>
                  <a:srgbClr val="000000"/>
                </a:solidFill>
                <a:latin typeface="Arial Rounded MT Bold"/>
              </a:rPr>
              <a:t>–’The ability to use technology as a tool to research, organise, evaluate and communicate information, and the possession of a fundamental understanding of the ethical/legal issues surrounding the access and use of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Literacy </a:t>
            </a:r>
            <a:endParaRPr b="0" lang="en-US" sz="3600" spc="-1" strike="noStrike">
              <a:solidFill>
                <a:srgbClr val="000000"/>
              </a:solidFill>
              <a:latin typeface="Arial"/>
            </a:endParaRPr>
          </a:p>
        </p:txBody>
      </p:sp>
      <p:sp>
        <p:nvSpPr>
          <p:cNvPr id="558"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igital Divide –Ireland : Has some of the highest levels of STE</a:t>
            </a:r>
            <a:r>
              <a:rPr b="0" lang="hu-HU" sz="2800" spc="-1" strike="noStrike">
                <a:solidFill>
                  <a:srgbClr val="000000"/>
                </a:solidFill>
                <a:latin typeface="Arial Rounded MT Bold"/>
              </a:rPr>
              <a:t>.</a:t>
            </a:r>
            <a:r>
              <a:rPr b="0" lang="en-IE" sz="2800" spc="-1" strike="noStrike">
                <a:solidFill>
                  <a:srgbClr val="000000"/>
                </a:solidFill>
                <a:latin typeface="Arial Rounded MT Bold"/>
              </a:rPr>
              <a:t> (Science,Technologhy,Engineering &amp; Mathematics) degree level graduates….yet the lowest levels of basic digital skill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See DELSA PROJECT MAPPING REPORT)</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484000" y="274320"/>
            <a:ext cx="620244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Literacy Today</a:t>
            </a:r>
            <a:endParaRPr b="0" lang="en-US" sz="3600" spc="-1" strike="noStrike">
              <a:solidFill>
                <a:srgbClr val="000000"/>
              </a:solidFill>
              <a:latin typeface="Arial"/>
            </a:endParaRPr>
          </a:p>
        </p:txBody>
      </p:sp>
      <p:sp>
        <p:nvSpPr>
          <p:cNvPr id="560" name=""/>
          <p:cNvSpPr txBox="1"/>
          <p:nvPr/>
        </p:nvSpPr>
        <p:spPr>
          <a:xfrm>
            <a:off x="240840" y="1993680"/>
            <a:ext cx="3467160" cy="39495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Arial"/>
              </a:rPr>
              <a:t>‘</a:t>
            </a:r>
            <a:r>
              <a:rPr b="0" i="1" lang="en-IE" sz="2800" spc="-1" strike="noStrike">
                <a:solidFill>
                  <a:srgbClr val="000000"/>
                </a:solidFill>
                <a:latin typeface="Arial Rounded MT Bold"/>
              </a:rPr>
              <a:t>The capabilities which fit someone for living, learning, and working in a digital society</a:t>
            </a:r>
            <a:r>
              <a:rPr b="0" lang="en-IE" sz="2800" spc="-1" strike="noStrike">
                <a:solidFill>
                  <a:srgbClr val="000000"/>
                </a:solidFill>
                <a:latin typeface="Arial Rounded MT Bold"/>
              </a:rPr>
              <a:t>’ (Jisc, 2014)</a:t>
            </a:r>
            <a:endParaRPr b="0" lang="en-US" sz="2800" spc="-1" strike="noStrike">
              <a:solidFill>
                <a:srgbClr val="000000"/>
              </a:solidFill>
              <a:latin typeface="Arial"/>
            </a:endParaRPr>
          </a:p>
        </p:txBody>
      </p:sp>
      <p:pic>
        <p:nvPicPr>
          <p:cNvPr id="561" name="Picture 5" descr=""/>
          <p:cNvPicPr/>
          <p:nvPr/>
        </p:nvPicPr>
        <p:blipFill>
          <a:blip r:embed="rId1"/>
          <a:stretch/>
        </p:blipFill>
        <p:spPr>
          <a:xfrm>
            <a:off x="3595680" y="1557360"/>
            <a:ext cx="5297400" cy="36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Digital Literacy Today</a:t>
            </a:r>
            <a:endParaRPr b="0" lang="en-US" sz="3600" spc="-1" strike="noStrike">
              <a:solidFill>
                <a:srgbClr val="000000"/>
              </a:solidFill>
              <a:latin typeface="Arial"/>
            </a:endParaRPr>
          </a:p>
        </p:txBody>
      </p:sp>
      <p:sp>
        <p:nvSpPr>
          <p:cNvPr id="563" name=""/>
          <p:cNvSpPr txBox="1"/>
          <p:nvPr/>
        </p:nvSpPr>
        <p:spPr>
          <a:xfrm>
            <a:off x="457200" y="2060280"/>
            <a:ext cx="8229600" cy="300348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Younger people/students often perceived as ‘digital natives’ who are comfortable and expert in using technology, - unhelpful assumptions about their digital and information literacy skills (Jones and Czerniewicz, 2010)</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115920"/>
            <a:ext cx="6356520" cy="130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Arial Rounded MT Bold"/>
              </a:rPr>
              <a:t>Digital Citizenship  - Nine Elements</a:t>
            </a:r>
            <a:endParaRPr b="0" lang="en-US" sz="3600" spc="-1" strike="noStrike">
              <a:solidFill>
                <a:srgbClr val="000000"/>
              </a:solidFill>
              <a:latin typeface="Arial"/>
            </a:endParaRPr>
          </a:p>
        </p:txBody>
      </p:sp>
      <p:pic>
        <p:nvPicPr>
          <p:cNvPr id="565" name="Picture 5" descr=""/>
          <p:cNvPicPr/>
          <p:nvPr/>
        </p:nvPicPr>
        <p:blipFill>
          <a:blip r:embed="rId1"/>
          <a:stretch/>
        </p:blipFill>
        <p:spPr>
          <a:xfrm>
            <a:off x="399960" y="1268280"/>
            <a:ext cx="8425080" cy="4535640"/>
          </a:xfrm>
          <a:prstGeom prst="rect">
            <a:avLst/>
          </a:prstGeom>
          <a:ln w="0">
            <a:noFill/>
          </a:ln>
        </p:spPr>
      </p:pic>
      <p:sp>
        <p:nvSpPr>
          <p:cNvPr id="566" name="TextBox 3"/>
          <p:cNvSpPr/>
          <p:nvPr/>
        </p:nvSpPr>
        <p:spPr>
          <a:xfrm>
            <a:off x="399960" y="5803920"/>
            <a:ext cx="853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100" spc="-1" strike="noStrike">
                <a:solidFill>
                  <a:srgbClr val="000000"/>
                </a:solidFill>
                <a:latin typeface="Arial Rounded MT Bold"/>
              </a:rPr>
              <a:t>Adapted from Brownell /Ribble and Bailey (201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Vismeg.Anett</cp:lastModifiedBy>
  <dcterms:modified xsi:type="dcterms:W3CDTF">2019-11-20T14:02:49Z</dcterms:modified>
  <cp:revision>473</cp:revision>
  <dc:subject/>
  <dc:title>Title</dc:title>
</cp:coreProperties>
</file>