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E0BEA-9CFD-4EE2-903D-2A1F8FD258CC}"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371600" y="1143000"/>
            <a:ext cx="4114800" cy="3086280"/>
          </a:xfrm>
          <a:prstGeom prst="rect">
            <a:avLst/>
          </a:prstGeom>
          <a:ln w="0">
            <a:noFill/>
          </a:ln>
        </p:spPr>
      </p:sp>
      <p:sp>
        <p:nvSpPr>
          <p:cNvPr id="58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58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09CF-B1AA-4D18-B379-75EE102E5989}"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00CA5DE-A9C4-4A57-96E4-3B28A68EE15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A10EDEC-25FB-49C1-BA73-609E0F9D478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E43B269-22E5-4CC0-97DB-64629171A5A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0867F00-7806-4A1F-BB24-64335E6622E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6810352-B6CA-430E-BA6D-68BC7852D5A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E482778-D32C-47C1-9F79-4B320BFA26D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8FB9641-E905-4572-AF28-14DA0CC54D0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D464303-DF42-453D-8F13-248C2C960EB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3C76E08-14EF-4056-997B-EB76E13924D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E7FB02D-CC1E-4AAA-8427-CAE62D1FBA5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8091AA7-F2A0-49EF-AC47-0B32DC0E5A5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F213905-9DCB-4660-89DC-73195B11474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8C39B1C-50B1-42A6-A844-56C8B60E727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C1F965B-0A97-476D-99B3-B4871A5980A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3C3F986-CD65-4F4E-B549-6BFA13A0EBD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A1A5A13-F16A-4AE6-AF4E-44A82FEDEA7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879AD0A-7B2A-4EB0-9DF7-648CCC5080A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77B60B4-EAEC-43C0-BE57-C792E0F7F2C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667E94B-2DF3-42F1-9E54-253CBA3DEDF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11A3FF4-9871-49A3-A198-097A339C159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E14E258-F88F-4B2A-9B6D-A5A28F2911D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B3C057A-C44D-4A55-90BD-A0D0FADC92E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E0F824C-F51E-411C-903B-E1815C29C12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D3E1E22-1910-4F92-84A9-A9F16EE693D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602AEB0-3B9F-4A4E-93A4-8B8AE1D0E9E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C35CDD7-5597-4A0D-BC6A-DC493D83DA5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2B2458F-D82B-4C3B-922E-C57F33E2F3F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4B30960-FED7-4BEE-A5C0-A0127AD916F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93C8123-DFE2-46D0-9B44-E200BE590EE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A57F23D-AF70-4BA4-88EA-4B9FCD1AEAF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2D9EDDC-D1ED-4CD2-9871-9F03D343806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F26F22F-FB16-474C-A159-23117A3FF37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46FE8D6-9064-4965-BC02-32883B81DBB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6E77CA4-DF3D-47F5-B039-5A268C49E41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3AEED68-827E-404E-8019-C0FBC05A70E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EAED5CC-929F-4BC1-BBBA-1CC55132AB3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E4E481F-230C-461A-AD16-6EABCA2FBE4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533A527-B50B-4A83-8311-5C0AF9EE33F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19B2B6A-5536-4455-83CB-1ECE1C493AB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3BE5FCA-3F6C-4F4E-B4C3-9CF1D731BE4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FDC399E-8AD0-459F-ABA3-7D72F78CEF4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E358FB6-2138-4297-8BAA-2AAB58CB1DA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EFFB4D1-0253-4F06-B754-CC2B327F968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6C65CEB-D3BA-400B-8498-E3EA3CE9B51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EB34B556-BA18-41B7-9D38-6825AA8A686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B55F89-29DE-47D9-8E21-76993342DF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4F6D73-3400-4B00-AD7A-5A3E0BE428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7F34E5-C5F9-4C44-B6A6-2AB158219E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033C4F-98DA-42EC-9C71-23A337330E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14661F-695B-4570-8C70-C6A42F1C94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2AB37E-AE6B-42DA-B9D7-EC4F555127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2DA8F4-4C94-42F1-8DC0-7A7892DE20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388D4C-CD48-443B-8D30-46482B6698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B918D9-1197-4EFA-89E8-038069DB3D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7232D2-0687-425A-AE77-6BA296BEC5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DBB52B-143E-40F5-903C-729534287E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123784-0D24-42B5-AE46-449D67AD17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A57EEC7-B847-4AD4-BE55-CC610ABD63B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0EF2584-882B-440F-9FFA-E7846881899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4F53EE6-CB06-4F17-90B0-2EA0AF75D22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E148EF6-7A63-4772-9C55-5C877BE2C29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972B3B6-F2F6-4C54-AD8F-2FBCB8B9197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B54EBEA-376D-48FE-808B-9E1FEAFB38C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1AE06E-49A1-4D96-B144-986C570A006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00EFA50-4587-4FB3-987A-396A7CA35D2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F1BC99C-32F7-47F4-9042-D4CCFAA0570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4700C33-728A-4B79-B786-1784307258C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C95D57E-E2D6-44E1-8209-35A476EACBC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CDED3FB-5E5D-439B-BF92-C556912DB4F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88BB355-AC99-40AF-94D9-BA4E78E71A1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239BB86-EB6A-4F27-A5A6-307EF1ABEFB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9D42406-A534-425E-A443-3100B87DA90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0F2CA90-8BB3-4894-A313-6FCF81CC41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16752E8-F172-4630-80F8-192957617D1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466D7F0-AA47-44DE-B640-72AD43FBE49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8456394-D8EE-4FF0-9E92-353B82AB73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55942D5-3901-422C-B83B-47E5F7916AA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2B8F6E-F360-4D4D-9EC0-285A8AE167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14195D6-B546-4331-89F7-273D78F4EC7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EA0639D-49FB-412F-B452-C53080E9574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D32DBCD-F930-4751-BD85-515A88649DB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DF3F4B8-3D77-4F3A-BDD0-A428635AA65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62B80C9-CF1A-4B12-97F7-011A9B4E3C7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8314E10-F985-4562-B21B-C28E09E6B4D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1092750-3108-4220-8AD8-AD5958053D0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BBF08D5-DF0C-4D8B-BCD2-64AB36A121C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A2FB7FF-0C57-4336-8902-A01D52A75E9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9505A5E-8115-4686-A5E2-773B71A5578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D1933B2-B406-4B8F-AD23-55D4F2A6344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69709EC-FD04-425E-8626-319D3223EAA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D0D9BAA-223F-4740-8A6F-88997D9E23E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515843F-BA90-4C77-8A4D-2676C0AC01A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59B460B-790F-4DA0-8BBD-FF17DEAED3A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FB4058E-29C4-437C-845D-81A01C5BA4B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A6ED0AD-B4E3-4560-A962-560683F056E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FBAE13E-95D3-4A6A-A123-677AD2E8627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D7CE009-A1AE-42E0-8E93-36FAF5E7E66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3862C91-8C89-457E-89B1-4DEC27AAE73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C706180-C6AF-437B-AC53-167D88833DD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36450EE-6886-430E-A109-D6E35B9D314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C30AB61-3E68-4EEB-95DA-E279963C770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C979892-7EF8-412D-AC15-37118FE44FE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1C48BB2-2B79-48F9-A163-891D1D88BD0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30A4A15-2E00-4BFA-877E-A289C109BC9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1CDD51A-A650-45E8-AE7C-6A5294E6040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FBB422C-6939-4754-80A8-3E91207D856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AF18C82-9324-48F4-8E42-5FEAF075EA2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D7061C6-01C5-45AF-BB51-0BA6500236A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747A245-04E5-42EA-B6A0-342E6F70257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1C4354D-24D5-4C01-BB9E-79E54DF35B2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559FD6B-D815-4A55-8394-EDA7ED000B6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2839A98-80DB-45A6-AA7B-A972435AF0D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F744526-32EB-421F-98B8-7485C7D8AD1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A84506A-D66A-486E-BEDF-400D4A780CF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16E5F13-02C3-4CAB-8E55-683F74CEEC7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7F7B285-C4F8-4CC8-ACD6-440A0477F00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D277683-4B2A-4447-BE50-8D11BCCEF56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9EC778F-87BB-4EB0-924E-5CDA8C2E0A4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5FBACDA-12A4-49A0-927E-41964D62BD7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7C0BC65-48F8-4B2A-8602-FB02BF88E675}"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7BD22-4B65-44B0-8858-99B8E4FBF63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3163B-0EEF-4122-9B6A-73E1132E1E3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746D6-F123-4EFF-B714-124B7ED8864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FA1EE-DA7F-4F27-A61F-A58902ECF41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30CA8-8FA0-4668-8863-55C948B5C94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CDA31-6960-4A9D-8AA5-BC313346C57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B13AD-4BF4-4182-A582-E095E60573C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C9CF7-AE41-4F84-B4A3-DD4C80701B4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3F890-ED40-4590-8373-D2572E3BE0E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19F5-972C-4CDF-9838-1F95C3EB929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Digital Citizenship</a:t>
            </a:r>
            <a:endParaRPr b="0" lang="en-US" sz="3600" spc="-1" strike="noStrike">
              <a:solidFill>
                <a:srgbClr val="000000"/>
              </a:solidFill>
              <a:latin typeface="Arial"/>
            </a:endParaRPr>
          </a:p>
        </p:txBody>
      </p:sp>
      <p:sp>
        <p:nvSpPr>
          <p:cNvPr id="544" name="Rectángulo 1"/>
          <p:cNvSpPr/>
          <p:nvPr/>
        </p:nvSpPr>
        <p:spPr>
          <a:xfrm>
            <a:off x="3332160" y="3244680"/>
            <a:ext cx="5342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Communication &amp; Callaborati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Picture 4" descr="Image result for digital divide what are the factors"/>
          <p:cNvPicPr/>
          <p:nvPr/>
        </p:nvPicPr>
        <p:blipFill>
          <a:blip r:embed="rId1"/>
          <a:stretch/>
        </p:blipFill>
        <p:spPr>
          <a:xfrm>
            <a:off x="1116000" y="1052640"/>
            <a:ext cx="7201080" cy="4525920"/>
          </a:xfrm>
          <a:prstGeom prst="rect">
            <a:avLst/>
          </a:prstGeom>
          <a:ln w="0">
            <a:noFill/>
          </a:ln>
        </p:spPr>
      </p:pic>
      <p:sp>
        <p:nvSpPr>
          <p:cNvPr id="568" name="Téglalap 1"/>
          <p:cNvSpPr/>
          <p:nvPr/>
        </p:nvSpPr>
        <p:spPr>
          <a:xfrm>
            <a:off x="2340000" y="333360"/>
            <a:ext cx="669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Arial Rounded MT Bold"/>
              </a:rPr>
              <a:t>Digital Citizenship  - </a:t>
            </a:r>
            <a:r>
              <a:rPr b="1" lang="hu-HU" sz="3000" spc="-1" strike="noStrike">
                <a:solidFill>
                  <a:srgbClr val="000000"/>
                </a:solidFill>
                <a:latin typeface="Arial Rounded MT Bold"/>
              </a:rPr>
              <a:t>Digital Divid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826560" y="2276280"/>
            <a:ext cx="8099640" cy="280332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Rounded MT Bold"/>
              </a:rPr>
              <a:t>Digital Citizenship: </a:t>
            </a:r>
            <a:r>
              <a:rPr b="0" lang="en-IE" sz="2800" spc="-1" strike="noStrike">
                <a:solidFill>
                  <a:srgbClr val="000000"/>
                </a:solidFill>
                <a:latin typeface="Arial Rounded MT Bold"/>
              </a:rPr>
              <a:t>Using the internet and social media in a responsible and ethical way</a:t>
            </a:r>
            <a:endParaRPr b="0" lang="en-US" sz="2800" spc="-1" strike="noStrike">
              <a:solidFill>
                <a:srgbClr val="000000"/>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Rounded MT Bold"/>
              </a:rPr>
              <a:t>Digital Leadership: </a:t>
            </a:r>
            <a:r>
              <a:rPr b="0" lang="en-IE" sz="2800" spc="-1" strike="noStrike">
                <a:solidFill>
                  <a:srgbClr val="000000"/>
                </a:solidFill>
                <a:latin typeface="Arial Rounded MT Bold"/>
              </a:rPr>
              <a:t>Using the internet and social media to improve the lives, well-being, and circumstances of others.</a:t>
            </a:r>
            <a:endParaRPr b="0" lang="en-US" sz="2800" spc="-1" strike="noStrike">
              <a:solidFill>
                <a:srgbClr val="000000"/>
              </a:solidFill>
              <a:latin typeface="Arial"/>
            </a:endParaRPr>
          </a:p>
          <a:p>
            <a:pPr marL="339480" indent="-3394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Becoming Digital Leade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Exercise 1 </a:t>
            </a:r>
            <a:endParaRPr b="0" lang="en-US" sz="3600" spc="-1" strike="noStrike">
              <a:solidFill>
                <a:srgbClr val="000000"/>
              </a:solidFill>
              <a:latin typeface="Arial"/>
            </a:endParaRPr>
          </a:p>
        </p:txBody>
      </p:sp>
      <p:sp>
        <p:nvSpPr>
          <p:cNvPr id="572" name=""/>
          <p:cNvSpPr txBox="1"/>
          <p:nvPr/>
        </p:nvSpPr>
        <p:spPr>
          <a:xfrm>
            <a:off x="457200" y="2133720"/>
            <a:ext cx="8229600" cy="3992400"/>
          </a:xfrm>
          <a:prstGeom prst="rect">
            <a:avLst/>
          </a:prstGeom>
          <a:noFill/>
          <a:ln w="0">
            <a:noFill/>
          </a:ln>
        </p:spPr>
        <p:txBody>
          <a:bodyPr anchor="t">
            <a:normAutofit/>
          </a:bodyPr>
          <a:p>
            <a:pPr marL="514440" indent="-514440">
              <a:lnSpc>
                <a:spcPct val="100000"/>
              </a:lnSpc>
              <a:spcBef>
                <a:spcPts val="700"/>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omplete your digital leadership checklist?</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en-GB" sz="2800" spc="-1" strike="noStrike">
                <a:solidFill>
                  <a:srgbClr val="000000"/>
                </a:solidFill>
                <a:latin typeface="Arial Rounded MT Bold"/>
              </a:rPr>
              <a:t>To complete this optional 3 minute DELSA project exercise go to </a:t>
            </a:r>
            <a:endParaRPr b="0" lang="en-US" sz="2800" spc="-1" strike="noStrike">
              <a:solidFill>
                <a:srgbClr val="000000"/>
              </a:solidFill>
              <a:latin typeface="Arial"/>
            </a:endParaRPr>
          </a:p>
          <a:p>
            <a:pPr marL="514440" indent="-514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http://www.digitaldelsa.eu/unit1-Excercise</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en-IE" sz="2800" spc="-1" strike="noStrike">
                <a:solidFill>
                  <a:srgbClr val="000000"/>
                </a:solidFill>
                <a:latin typeface="Arial Rounded MT Bold"/>
              </a:rPr>
              <a:t>CSS - Complete, Screengrab and Submit</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Points to consider</a:t>
            </a:r>
            <a:endParaRPr b="0" lang="en-US" sz="3600" spc="-1" strike="noStrike">
              <a:solidFill>
                <a:srgbClr val="000000"/>
              </a:solidFill>
              <a:latin typeface="Arial"/>
            </a:endParaRPr>
          </a:p>
        </p:txBody>
      </p:sp>
      <p:sp>
        <p:nvSpPr>
          <p:cNvPr id="574" name=""/>
          <p:cNvSpPr txBox="1"/>
          <p:nvPr/>
        </p:nvSpPr>
        <p:spPr>
          <a:xfrm>
            <a:off x="457200" y="1417680"/>
            <a:ext cx="8229600" cy="4206960"/>
          </a:xfrm>
          <a:prstGeom prst="rect">
            <a:avLst/>
          </a:prstGeom>
          <a:noFill/>
          <a:ln w="0">
            <a:noFill/>
          </a:ln>
        </p:spPr>
        <p:txBody>
          <a:bodyPr anchor="t">
            <a:normAutofit fontScale="9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Rounded MT Bold"/>
              </a:rPr>
              <a:t>Societal and Educational </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Digital Skills -  Levels of Digital Literacy</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Two way process – Interpret as well as articulate</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Digital Divide – what are the factors? </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Literacy standards</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Cyber-bully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484000" y="88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Establish ‘e-Habits</a:t>
            </a:r>
            <a:endParaRPr b="0" lang="en-US" sz="3600" spc="-1" strike="noStrike">
              <a:solidFill>
                <a:srgbClr val="000000"/>
              </a:solidFill>
              <a:latin typeface="Arial"/>
            </a:endParaRPr>
          </a:p>
        </p:txBody>
      </p:sp>
      <p:sp>
        <p:nvSpPr>
          <p:cNvPr id="576" name=""/>
          <p:cNvSpPr txBox="1"/>
          <p:nvPr/>
        </p:nvSpPr>
        <p:spPr>
          <a:xfrm>
            <a:off x="755640" y="1125000"/>
            <a:ext cx="7848720" cy="475164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Why would people demonstrate less citizenship while using technology and online tool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When people are online, they sometimes feel invisible – they may do/say things they would never do/say in public…</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             </a:t>
            </a:r>
            <a:r>
              <a:rPr b="0" lang="en-IE" sz="2800" spc="-1" strike="noStrike">
                <a:solidFill>
                  <a:srgbClr val="ff0000"/>
                </a:solidFill>
                <a:latin typeface="Arial Rounded MT Bold"/>
              </a:rPr>
              <a:t>  </a:t>
            </a:r>
            <a:r>
              <a:rPr b="0" lang="en-IE" sz="2800" spc="-1" strike="noStrike">
                <a:solidFill>
                  <a:srgbClr val="000000"/>
                </a:solidFill>
                <a:latin typeface="Arial Rounded MT Bold"/>
              </a:rPr>
              <a:t>Have you experience of th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484000" y="260280"/>
            <a:ext cx="6264360" cy="936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Rounded MT Bold"/>
              </a:rPr>
              <a:t>Were learning Outcomes Achieved?</a:t>
            </a:r>
            <a:endParaRPr b="0" lang="en-US" sz="2800" spc="-1" strike="noStrike">
              <a:solidFill>
                <a:srgbClr val="000000"/>
              </a:solidFill>
              <a:latin typeface="Arial"/>
            </a:endParaRPr>
          </a:p>
        </p:txBody>
      </p:sp>
      <p:sp>
        <p:nvSpPr>
          <p:cNvPr id="578" name="PlaceHolder 2"/>
          <p:cNvSpPr>
            <a:spLocks noGrp="1"/>
          </p:cNvSpPr>
          <p:nvPr>
            <p:ph type="subTitle"/>
          </p:nvPr>
        </p:nvSpPr>
        <p:spPr>
          <a:xfrm>
            <a:off x="216000" y="1699920"/>
            <a:ext cx="8712000" cy="432108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I can apply digital Citizenship to myself?                Yes               No</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I can Define Digital Literacy                                       Yes              No</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I can  list four ways that Digital that                          Yes             No</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Digital Literacy adds quality to my life</a:t>
            </a:r>
            <a:endParaRPr b="0" lang="en-US" sz="20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Other Com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Objectives and goals</a:t>
            </a:r>
            <a:endParaRPr b="0" lang="en-US" sz="3600" spc="-1" strike="noStrike">
              <a:solidFill>
                <a:srgbClr val="000000"/>
              </a:solidFill>
              <a:latin typeface="Arial"/>
            </a:endParaRPr>
          </a:p>
        </p:txBody>
      </p:sp>
      <p:sp>
        <p:nvSpPr>
          <p:cNvPr id="546" name="PlaceHolder 2"/>
          <p:cNvSpPr>
            <a:spLocks noGrp="1"/>
          </p:cNvSpPr>
          <p:nvPr>
            <p:ph/>
          </p:nvPr>
        </p:nvSpPr>
        <p:spPr>
          <a:xfrm>
            <a:off x="250560" y="1268280"/>
            <a:ext cx="8569080" cy="485784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n this unit participants will be able to:</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Apply Digital Citizens to self</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Define Digital Literacy</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List four ways that Digital literacy adds </a:t>
            </a:r>
            <a:endParaRPr b="0" lang="en-US" sz="2800" spc="-1" strike="noStrike">
              <a:solidFill>
                <a:srgbClr val="000000"/>
              </a:solidFill>
              <a:latin typeface="Arial"/>
            </a:endParaRPr>
          </a:p>
          <a:p>
            <a:pPr marL="810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quality to your lif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271240" y="280800"/>
            <a:ext cx="663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What I need for this unit?</a:t>
            </a:r>
            <a:endParaRPr b="0" lang="en-US" sz="3600" spc="-1" strike="noStrike">
              <a:solidFill>
                <a:srgbClr val="000000"/>
              </a:solidFill>
              <a:latin typeface="Arial"/>
            </a:endParaRPr>
          </a:p>
        </p:txBody>
      </p:sp>
      <p:sp>
        <p:nvSpPr>
          <p:cNvPr id="548" name=""/>
          <p:cNvSpPr txBox="1"/>
          <p:nvPr/>
        </p:nvSpPr>
        <p:spPr>
          <a:xfrm>
            <a:off x="250920" y="1423800"/>
            <a:ext cx="8277120" cy="45860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A Computer, Laptop, Tablet or Smartphone</a:t>
            </a:r>
            <a:endParaRPr b="0" lang="en-US" sz="2800" spc="-1" strike="noStrike">
              <a:solidFill>
                <a:srgbClr val="000000"/>
              </a:solidFill>
              <a:latin typeface="Arial"/>
            </a:endParaRPr>
          </a:p>
        </p:txBody>
      </p:sp>
      <p:pic>
        <p:nvPicPr>
          <p:cNvPr id="549" name="Picture 5" descr="laptop"/>
          <p:cNvPicPr/>
          <p:nvPr/>
        </p:nvPicPr>
        <p:blipFill>
          <a:blip r:embed="rId1"/>
          <a:srcRect l="27127" t="0" r="20797" b="0"/>
          <a:stretch/>
        </p:blipFill>
        <p:spPr>
          <a:xfrm>
            <a:off x="4915080" y="2141640"/>
            <a:ext cx="2286000" cy="1234800"/>
          </a:xfrm>
          <a:prstGeom prst="rect">
            <a:avLst/>
          </a:prstGeom>
          <a:ln w="0">
            <a:noFill/>
          </a:ln>
        </p:spPr>
      </p:pic>
      <p:pic>
        <p:nvPicPr>
          <p:cNvPr id="550" name="Picture 6" descr="computer"/>
          <p:cNvPicPr/>
          <p:nvPr/>
        </p:nvPicPr>
        <p:blipFill>
          <a:blip r:embed="rId2"/>
          <a:stretch/>
        </p:blipFill>
        <p:spPr>
          <a:xfrm>
            <a:off x="1170000" y="2152800"/>
            <a:ext cx="2419200" cy="1523880"/>
          </a:xfrm>
          <a:prstGeom prst="rect">
            <a:avLst/>
          </a:prstGeom>
          <a:ln w="0">
            <a:noFill/>
          </a:ln>
        </p:spPr>
      </p:pic>
      <p:pic>
        <p:nvPicPr>
          <p:cNvPr id="551" name="Picture 7" descr="ipad"/>
          <p:cNvPicPr/>
          <p:nvPr/>
        </p:nvPicPr>
        <p:blipFill>
          <a:blip r:embed="rId3"/>
          <a:stretch/>
        </p:blipFill>
        <p:spPr>
          <a:xfrm>
            <a:off x="1925640" y="3817800"/>
            <a:ext cx="1903320" cy="2181240"/>
          </a:xfrm>
          <a:prstGeom prst="rect">
            <a:avLst/>
          </a:prstGeom>
          <a:ln w="0">
            <a:noFill/>
          </a:ln>
        </p:spPr>
      </p:pic>
      <p:pic>
        <p:nvPicPr>
          <p:cNvPr id="552" name="Picture 8" descr="smartphone"/>
          <p:cNvPicPr/>
          <p:nvPr/>
        </p:nvPicPr>
        <p:blipFill>
          <a:blip r:embed="rId4"/>
          <a:stretch/>
        </p:blipFill>
        <p:spPr>
          <a:xfrm>
            <a:off x="5554800" y="3568680"/>
            <a:ext cx="1990440" cy="229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195280" y="274320"/>
            <a:ext cx="676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Digital Citizenship or just Citizenship</a:t>
            </a:r>
            <a:endParaRPr b="0" lang="en-US" sz="3600" spc="-1" strike="noStrike">
              <a:solidFill>
                <a:srgbClr val="000000"/>
              </a:solidFill>
              <a:latin typeface="Arial"/>
            </a:endParaRPr>
          </a:p>
        </p:txBody>
      </p:sp>
      <p:sp>
        <p:nvSpPr>
          <p:cNvPr id="554" name=""/>
          <p:cNvSpPr txBox="1"/>
          <p:nvPr/>
        </p:nvSpPr>
        <p:spPr>
          <a:xfrm>
            <a:off x="457200" y="2133720"/>
            <a:ext cx="8229600" cy="39924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Citizenship on its own – often thought of as political or aligned to one country ( click to find a definition of Citizenship</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We need to view “digital citizenship” as simply part of our everyday “citizenship” as active-citizens activities</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842920" y="333360"/>
            <a:ext cx="5616360" cy="719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Digital Literacy</a:t>
            </a:r>
            <a:endParaRPr b="0" lang="en-US" sz="3600" spc="-1" strike="noStrike">
              <a:solidFill>
                <a:srgbClr val="000000"/>
              </a:solidFill>
              <a:latin typeface="Arial"/>
            </a:endParaRPr>
          </a:p>
        </p:txBody>
      </p:sp>
      <p:sp>
        <p:nvSpPr>
          <p:cNvPr id="556" name="PlaceHolder 2"/>
          <p:cNvSpPr>
            <a:spLocks noGrp="1"/>
          </p:cNvSpPr>
          <p:nvPr>
            <p:ph type="subTitle"/>
          </p:nvPr>
        </p:nvSpPr>
        <p:spPr>
          <a:xfrm>
            <a:off x="826920" y="1557360"/>
            <a:ext cx="7632720" cy="417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Rounded MT Bold"/>
              </a:rPr>
              <a:t>Literacy</a:t>
            </a:r>
            <a:r>
              <a:rPr b="0" lang="en-IE" sz="2400" spc="-1" strike="noStrike">
                <a:solidFill>
                  <a:srgbClr val="000000"/>
                </a:solidFill>
                <a:latin typeface="Arial Rounded MT Bold"/>
              </a:rPr>
              <a:t> – the ability to read and write</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Rounded MT Bold"/>
              </a:rPr>
              <a:t>Critical Literacy </a:t>
            </a:r>
            <a:r>
              <a:rPr b="0" lang="en-IE" sz="2400" spc="-1" strike="noStrike">
                <a:solidFill>
                  <a:srgbClr val="000000"/>
                </a:solidFill>
                <a:latin typeface="Arial Rounded MT Bold"/>
              </a:rPr>
              <a:t>– What do you read into the text</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Rounded MT Bold"/>
              </a:rPr>
              <a:t>Digital Literacy </a:t>
            </a:r>
            <a:r>
              <a:rPr b="0" lang="en-IE" sz="2400" spc="-1" strike="noStrike">
                <a:solidFill>
                  <a:srgbClr val="000000"/>
                </a:solidFill>
                <a:latin typeface="Arial Rounded MT Bold"/>
              </a:rPr>
              <a:t>–’The ability to use technology as a tool to research, organise, evaluate and communicate information, and the possession of a fundamental understanding of the ethical/legal issues surrounding the access and use of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329920" y="274320"/>
            <a:ext cx="635652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Digital Literacy </a:t>
            </a:r>
            <a:endParaRPr b="0" lang="en-US" sz="3600" spc="-1" strike="noStrike">
              <a:solidFill>
                <a:srgbClr val="000000"/>
              </a:solidFill>
              <a:latin typeface="Arial"/>
            </a:endParaRPr>
          </a:p>
        </p:txBody>
      </p:sp>
      <p:sp>
        <p:nvSpPr>
          <p:cNvPr id="558"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Digital Divide –Ireland : Has some of the highest levels of STE</a:t>
            </a:r>
            <a:r>
              <a:rPr b="0" lang="hu-HU" sz="2800" spc="-1" strike="noStrike">
                <a:solidFill>
                  <a:srgbClr val="000000"/>
                </a:solidFill>
                <a:latin typeface="Arial Rounded MT Bold"/>
              </a:rPr>
              <a:t>.</a:t>
            </a:r>
            <a:r>
              <a:rPr b="0" lang="en-IE" sz="2800" spc="-1" strike="noStrike">
                <a:solidFill>
                  <a:srgbClr val="000000"/>
                </a:solidFill>
                <a:latin typeface="Arial Rounded MT Bold"/>
              </a:rPr>
              <a:t> (Science,Technologhy,Engineering &amp; Mathematics) degree level graduates….yet the lowest levels of basic digital skill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See DELSA PROJECT MAPPING REPORT)</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484000" y="274320"/>
            <a:ext cx="620244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Digital Literacy Today</a:t>
            </a:r>
            <a:endParaRPr b="0" lang="en-US" sz="3600" spc="-1" strike="noStrike">
              <a:solidFill>
                <a:srgbClr val="000000"/>
              </a:solidFill>
              <a:latin typeface="Arial"/>
            </a:endParaRPr>
          </a:p>
        </p:txBody>
      </p:sp>
      <p:sp>
        <p:nvSpPr>
          <p:cNvPr id="560" name=""/>
          <p:cNvSpPr txBox="1"/>
          <p:nvPr/>
        </p:nvSpPr>
        <p:spPr>
          <a:xfrm>
            <a:off x="240840" y="1993680"/>
            <a:ext cx="3467160" cy="3949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Arial"/>
              </a:rPr>
              <a:t>‘</a:t>
            </a:r>
            <a:r>
              <a:rPr b="0" i="1" lang="en-IE" sz="2800" spc="-1" strike="noStrike">
                <a:solidFill>
                  <a:srgbClr val="000000"/>
                </a:solidFill>
                <a:latin typeface="Arial Rounded MT Bold"/>
              </a:rPr>
              <a:t>The capabilities which fit someone for living, learning, and working in a digital society</a:t>
            </a:r>
            <a:r>
              <a:rPr b="0" lang="en-IE" sz="2800" spc="-1" strike="noStrike">
                <a:solidFill>
                  <a:srgbClr val="000000"/>
                </a:solidFill>
                <a:latin typeface="Arial Rounded MT Bold"/>
              </a:rPr>
              <a:t>’ (Jisc, 2014)</a:t>
            </a:r>
            <a:endParaRPr b="0" lang="en-US" sz="2800" spc="-1" strike="noStrike">
              <a:solidFill>
                <a:srgbClr val="000000"/>
              </a:solidFill>
              <a:latin typeface="Arial"/>
            </a:endParaRPr>
          </a:p>
        </p:txBody>
      </p:sp>
      <p:pic>
        <p:nvPicPr>
          <p:cNvPr id="561" name="Picture 5" descr=""/>
          <p:cNvPicPr/>
          <p:nvPr/>
        </p:nvPicPr>
        <p:blipFill>
          <a:blip r:embed="rId1"/>
          <a:stretch/>
        </p:blipFill>
        <p:spPr>
          <a:xfrm>
            <a:off x="3595680" y="1557360"/>
            <a:ext cx="5297400" cy="36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Digital Literacy Today</a:t>
            </a:r>
            <a:endParaRPr b="0" lang="en-US" sz="3600" spc="-1" strike="noStrike">
              <a:solidFill>
                <a:srgbClr val="000000"/>
              </a:solidFill>
              <a:latin typeface="Arial"/>
            </a:endParaRPr>
          </a:p>
        </p:txBody>
      </p:sp>
      <p:sp>
        <p:nvSpPr>
          <p:cNvPr id="563" name=""/>
          <p:cNvSpPr txBox="1"/>
          <p:nvPr/>
        </p:nvSpPr>
        <p:spPr>
          <a:xfrm>
            <a:off x="457200" y="2060280"/>
            <a:ext cx="8229600" cy="300348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Younger people/students often perceived as ‘digital natives’ who are comfortable and expert in using technology, - unhelpful assumptions about their digital and information literacy skills (Jones and Czerniewicz, 2010)</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329920" y="115920"/>
            <a:ext cx="6356520" cy="130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Rounded MT Bold"/>
              </a:rPr>
              <a:t>Digital Citizenship  - Nine Elements</a:t>
            </a:r>
            <a:endParaRPr b="0" lang="en-US" sz="3600" spc="-1" strike="noStrike">
              <a:solidFill>
                <a:srgbClr val="000000"/>
              </a:solidFill>
              <a:latin typeface="Arial"/>
            </a:endParaRPr>
          </a:p>
        </p:txBody>
      </p:sp>
      <p:pic>
        <p:nvPicPr>
          <p:cNvPr id="565" name="Picture 5" descr=""/>
          <p:cNvPicPr/>
          <p:nvPr/>
        </p:nvPicPr>
        <p:blipFill>
          <a:blip r:embed="rId1"/>
          <a:stretch/>
        </p:blipFill>
        <p:spPr>
          <a:xfrm>
            <a:off x="399960" y="1268280"/>
            <a:ext cx="8425080" cy="4535640"/>
          </a:xfrm>
          <a:prstGeom prst="rect">
            <a:avLst/>
          </a:prstGeom>
          <a:ln w="0">
            <a:noFill/>
          </a:ln>
        </p:spPr>
      </p:pic>
      <p:sp>
        <p:nvSpPr>
          <p:cNvPr id="566" name="TextBox 3"/>
          <p:cNvSpPr/>
          <p:nvPr/>
        </p:nvSpPr>
        <p:spPr>
          <a:xfrm>
            <a:off x="399960" y="5803920"/>
            <a:ext cx="8534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Rounded MT Bold"/>
              </a:rPr>
              <a:t>Adapted from Brownell /Ribble and Bailey (2011)</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Vismeg.Anett</cp:lastModifiedBy>
  <dcterms:modified xsi:type="dcterms:W3CDTF">2019-11-20T14:02:49Z</dcterms:modified>
  <cp:revision>473</cp:revision>
  <dc:subject/>
  <dc:title>Title</dc:title>
</cp:coreProperties>
</file>