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653528A-A37C-4E94-9621-595055971C9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BC8EF44-2973-4D2C-9ED0-48C376E6A04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BEF566-70BD-4F84-9A8E-1CCD484289B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F1FDF71-886F-4E17-911B-1C0950B0F22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BC4535-A31C-4FCE-8447-5BC7D38D4E7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7B2A4F0-04D1-4A66-B649-183290C92B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9B6B151-5FC6-4E70-AAD6-FF037026881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0377E47-F92A-446E-8E65-5138D32D375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15387A0-A4FF-4AD6-9D61-1522E4747F3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E6013AF-707F-455D-B774-810C1906223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FDDBE8-3305-440A-A55D-53D6AF6BA1E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11E2147-310B-483B-AE73-0561AD2EECD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2829D36-5211-479F-8A13-0E7603D35C4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EA1E332-3D05-4E70-B836-27A49D422FA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1F45E05-A70C-49A2-B07C-07E88D55982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50613F7-0570-48EE-B3A2-373805E7C50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B54805F-79E4-42EF-BB92-9BFE8B29387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46CBC5-734A-4C23-9014-33C4C77CF08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E4D6ADB-4A6C-4130-90DF-B475612E3F1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5C5BB6D-A0D8-4298-ABB7-90BDE01E327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23568BB-C629-4431-B466-8C5EF80F592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586A470-56CA-4138-B02D-79E307069F0E}"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2A0D826-9867-42DA-9240-A4A61027ED0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9EC19B2-F471-499B-96D3-A6CD5F0897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C206BC-8875-4C63-9524-047F910EC9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A0D5DAC-097D-47B0-8FC0-386459B4199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47E2AF5-4FC0-425E-8F3B-997E37D9056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8093776-19FE-471C-A763-A9C847BEA9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79D81AA-32F6-41C2-861B-276C5168B40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F0C454E-7FC4-4C86-8AF1-54290C82C99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D45F2BE-F3BA-4B9D-949E-A22ADCB5A02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44F9FAD-99D0-4383-AA1B-0576E214B88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B8AD966-EAB2-4340-8106-D71D8FD4191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2F5C2BA-A187-49B6-A099-D8AEC9FBCD2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97890AF-E06E-47AE-BADA-7E970EFB8D2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381A1FD-D224-4B10-B45C-BFEB5FE6D5C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D654020-D53D-4C34-B5AE-47F03E81CF3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45F387B-D26E-43EA-8226-887977485335}"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683F507-ABF3-454D-B05D-D8B234D6C51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BB977C2-719E-4CB8-A1A3-3D0FEF5C9CF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7CBA30C-5ED7-408C-B140-F756739E7BE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5FA806C-6ADF-4C74-930E-B27DD08A9C7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8695048-BCD0-4103-8FF4-AC6DCD51AB3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5A3EBB5-3D1A-403C-B763-21011F7A349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FED7022-4DF0-4DEF-B17D-3C309CEB5F89}"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C56F83-3F66-4982-B93E-80A4E93089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9119F-8FA0-4B80-8012-D81F00835C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E89F0-609B-4A19-8651-E17BC6383E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0C96C1-43C9-43FF-B162-FBCB62BFD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D6A42B-1167-441F-9087-BFF769DA4E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EAA067-3B62-49B7-9FCF-979E0751BA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FABE23-12BD-4121-B1EF-E658D12E5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EB1576-6E4A-484D-8FFC-7003C04B18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54F91-E512-4BF5-92DE-01483E5223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38532D-AE72-4F9D-8DF1-20AC07466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196595E-74A4-4B0F-9CA0-F7472F0F4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FA7228-85F6-400B-BFD5-A67B1B8B48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C71142-73A9-4801-9138-6FE965F1F09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7FADAE-F956-4C52-818D-68DE77BDDED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80558CA-E508-4735-A657-D46D4E5454C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A03F62E-8831-4CB4-AFC1-15D4ED32B95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D086AD4-CA90-452E-AADC-CD850308C38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78A3BC-D0AF-46BC-9C29-025FA06D9D7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9749056-B200-482A-B596-32C42FEF7A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BB03649-316C-4D77-BB44-1EEF9B1FCAC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575E81D-2DB1-4B25-BF08-3E65C1059B1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2B12298-C5E2-4E94-BA57-CFFA4CCAF8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897D896-531D-4DCB-BDB1-36C85402F0C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554DA8B-63F5-445A-8348-F0A43E2E63B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316FE19-58E6-4C24-B049-F237F66F06A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E3AAB69-58EE-4FB3-9632-9C011914E0A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33AA42D-0127-450F-BB14-FD38A2429F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76B5BA0-B5BF-4923-9CDA-841C72B6DD0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B283CF2-3CAC-477C-A132-C4CFE76CDF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7F4ED7C-4C76-478F-A307-02C961D78A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AA9049-2B02-4E3C-B688-6F0A4671AC9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C4BAEF-FC40-41C7-A53A-139C1E3A60E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865F17-2C98-41E5-A394-4E7B0F5A561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B800F1-F403-4165-B8EF-55EB3BABEDC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7B25619-D8D8-42C2-963E-40F85D9CDB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66112F-2A10-49AD-AFFD-596573D7567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B4DFAD2-AFB8-40DF-AE9C-8602F3749E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FF0AC6-A14D-49F3-B04E-6E59D0FEB2A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FB13C04-6A00-47F4-91F6-181C438610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ED08848-3EEA-4F3F-B6BC-7527BF2C15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60CE8C-BCCA-44EA-845A-7FCD4F9539F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50ADBBC-E3A6-4574-9FEC-121DBBA6AF3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E5DC8E4-7720-46E3-9784-88F770DADA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CA97E7-204A-4A66-8FBE-2A55E18E7AB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8F21F25-D36C-4598-BC29-A800295E77B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F75F47E-CE28-4483-A109-6509979603E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13B36E3-A12A-492D-87BF-59FD9E17B87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B59B2ED-0F8B-41A5-B0C0-4014828DEFA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EC74357-48E4-45F1-BDC3-9C7B6C0EFE9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FC31936-D5BF-4482-99C5-91F1A1C934A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5CFBED7-4E2D-45B1-8930-8680A04B8F6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C749942-AFA8-4E4D-812C-445E7ED68D8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DBE4D1D-8B82-42BE-A6AD-911ED04C464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9B3B457-B788-4DBD-A432-C3C5D10DF8D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AA8EFB3-1D17-461F-9931-BA7B75DE87C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B270847-A10E-4FAC-BD15-F3EA6DDFF0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B5EBC7F-7F5C-4AC3-B379-FE2C2AEEFAF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625AC8-317F-42AA-A839-E83BA54A89F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176DC03-879E-4668-BE80-6B8F91DBAE1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C6596F7-B2D9-42DC-837D-80408D91E7E2}"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8489F61-0E7D-4580-B631-4E2A419D7CC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C38ED11-2A48-4414-9B0E-D7CD443494B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20AF684-2E48-4171-9A0B-EE9DC5EB1B7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87C725C-1303-40E0-BF18-5D1291D74B2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CD31D12-CD6B-4763-823D-EB1CF3C0CCD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C765D76-851B-4A9D-A117-F8CCFB6D8B9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F077BC-3839-4348-BF89-E40CD317C1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FD97D4-B25D-4955-A873-40CDAAE2384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B03A86-588A-4E52-AABC-16CCF6A9E8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5695DD9-B313-40A5-BB1D-7C26D22B879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1145E82-89D5-4077-9ECD-8265213114D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332DA9B5-645F-41B8-941C-F774FB9D0817}"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6B7A2B1-D830-4AB0-B860-A820C02B22E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B94BF8-7040-48D1-8C56-1C4B09D0C1D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6E4668-BA45-44CE-B714-92509F1F7D2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3825-FA3A-4FA7-B9BA-2A816EDB82E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9A7B-B7B9-48ED-B635-D3BC51FF308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26C6-6A93-4237-B226-A785A51B99A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5B570-9C3F-48C0-AC42-9E9A05F33E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CF39-CA37-41EC-A60D-1D5FFABCDF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26F8F-44F7-4A57-AB38-69638882EAB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F756-5BD3-4B94-BD4A-A6BE4D73AEC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D6FB-AD02-4FCD-B6D1-D50BEBF920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89FCE-CA52-41E0-A277-ECC0EA373FA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09BA-9DE9-42CD-B8B0-B3A1C365D21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al Content Creation</a:t>
            </a:r>
            <a:endParaRPr b="0" lang="en-US" sz="3600" spc="-1" strike="noStrike">
              <a:solidFill>
                <a:srgbClr val="000000"/>
              </a:solidFill>
              <a:latin typeface="Arial"/>
            </a:endParaRPr>
          </a:p>
        </p:txBody>
      </p:sp>
      <p:sp>
        <p:nvSpPr>
          <p:cNvPr id="537" name="Rectángulo 1"/>
          <p:cNvSpPr/>
          <p:nvPr/>
        </p:nvSpPr>
        <p:spPr>
          <a:xfrm>
            <a:off x="1619280" y="3244680"/>
            <a:ext cx="6900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Useful apps for you:</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Travel and langu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2400" y="392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iTranslate</a:t>
            </a:r>
            <a:endParaRPr b="0" lang="en-US" sz="4000" spc="-1" strike="noStrike">
              <a:solidFill>
                <a:srgbClr val="000000"/>
              </a:solidFill>
              <a:latin typeface="Arial"/>
            </a:endParaRPr>
          </a:p>
        </p:txBody>
      </p:sp>
      <p:sp>
        <p:nvSpPr>
          <p:cNvPr id="565" name=""/>
          <p:cNvSpPr txBox="1"/>
          <p:nvPr/>
        </p:nvSpPr>
        <p:spPr>
          <a:xfrm>
            <a:off x="395280" y="134136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will see two options on your screen.</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ap on the flag and select your own languag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ap on the other flag and select the language you wish to translate e.g. if you wish to translate from Hungarian to Irish then              is the first option and            is the second.</a:t>
            </a:r>
            <a:endParaRPr b="0" lang="en-US" sz="3000" spc="-1" strike="noStrike">
              <a:solidFill>
                <a:srgbClr val="000000"/>
              </a:solidFill>
              <a:latin typeface="Arial"/>
            </a:endParaRPr>
          </a:p>
        </p:txBody>
      </p:sp>
      <p:pic>
        <p:nvPicPr>
          <p:cNvPr id="566" name="Picture 2" descr=""/>
          <p:cNvPicPr/>
          <p:nvPr/>
        </p:nvPicPr>
        <p:blipFill>
          <a:blip r:embed="rId1"/>
          <a:stretch/>
        </p:blipFill>
        <p:spPr>
          <a:xfrm>
            <a:off x="1870200" y="4292640"/>
            <a:ext cx="823680" cy="503280"/>
          </a:xfrm>
          <a:prstGeom prst="rect">
            <a:avLst/>
          </a:prstGeom>
          <a:ln w="0">
            <a:noFill/>
          </a:ln>
        </p:spPr>
      </p:pic>
      <p:pic>
        <p:nvPicPr>
          <p:cNvPr id="567" name="Picture 4" descr=""/>
          <p:cNvPicPr/>
          <p:nvPr/>
        </p:nvPicPr>
        <p:blipFill>
          <a:blip r:embed="rId2"/>
          <a:stretch/>
        </p:blipFill>
        <p:spPr>
          <a:xfrm>
            <a:off x="7020000" y="4379760"/>
            <a:ext cx="792000" cy="4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410920" y="61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69" name=""/>
          <p:cNvSpPr txBox="1"/>
          <p:nvPr/>
        </p:nvSpPr>
        <p:spPr>
          <a:xfrm>
            <a:off x="0" y="1412640"/>
            <a:ext cx="9144000" cy="41655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on holidays in Spai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r native language is English</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ing the iTranslate app translate the following from English to Spanish:</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od morn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ere is the bus statio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ip: You can also tap on the microphone to translate what you are saying</a:t>
            </a:r>
            <a:r>
              <a:rPr b="0" lang="hu-HU" sz="2800" spc="-1" strike="noStrike">
                <a:solidFill>
                  <a:srgbClr val="000000"/>
                </a:solidFill>
                <a:latin typeface="Arial Rounded MT Bold"/>
              </a:rPr>
              <a:t>.</a:t>
            </a:r>
            <a:r>
              <a:rPr b="0" lang="en-GB" sz="2800" spc="-1" strike="noStrike">
                <a:solidFill>
                  <a:srgbClr val="000000"/>
                </a:solidFill>
                <a:latin typeface="Arial Rounded MT Bold"/>
              </a:rPr>
              <a:t> </a:t>
            </a:r>
            <a:endParaRPr b="0" lang="en-US" sz="2800" spc="-1" strike="noStrike">
              <a:solidFill>
                <a:srgbClr val="000000"/>
              </a:solidFill>
              <a:latin typeface="Arial"/>
            </a:endParaRPr>
          </a:p>
        </p:txBody>
      </p:sp>
      <p:pic>
        <p:nvPicPr>
          <p:cNvPr id="570" name="Picture 2" descr=""/>
          <p:cNvPicPr/>
          <p:nvPr/>
        </p:nvPicPr>
        <p:blipFill>
          <a:blip r:embed="rId1"/>
          <a:stretch/>
        </p:blipFill>
        <p:spPr>
          <a:xfrm>
            <a:off x="5940360" y="5013360"/>
            <a:ext cx="720720" cy="71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a:t>
            </a:r>
            <a:endParaRPr b="0" lang="en-US" sz="4000" spc="-1" strike="noStrike">
              <a:solidFill>
                <a:srgbClr val="000000"/>
              </a:solidFill>
              <a:latin typeface="Arial"/>
            </a:endParaRPr>
          </a:p>
        </p:txBody>
      </p:sp>
      <p:sp>
        <p:nvSpPr>
          <p:cNvPr id="572" name=""/>
          <p:cNvSpPr txBox="1"/>
          <p:nvPr/>
        </p:nvSpPr>
        <p:spPr>
          <a:xfrm>
            <a:off x="457200" y="1915920"/>
            <a:ext cx="8229600" cy="423828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is a video sharing sit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t least one hour of video is uploaded to YouTube every second!</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Download the YouTube app from your app store</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s YouTube useful?</a:t>
            </a:r>
            <a:endParaRPr b="0" lang="en-US" sz="4000" spc="-1" strike="noStrike">
              <a:solidFill>
                <a:srgbClr val="000000"/>
              </a:solidFill>
              <a:latin typeface="Arial"/>
            </a:endParaRPr>
          </a:p>
        </p:txBody>
      </p:sp>
      <p:sp>
        <p:nvSpPr>
          <p:cNvPr id="574" name=""/>
          <p:cNvSpPr txBox="1"/>
          <p:nvPr/>
        </p:nvSpPr>
        <p:spPr>
          <a:xfrm>
            <a:off x="457200" y="1916280"/>
            <a:ext cx="8229600" cy="420984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don’t need to upload videos to use YouTub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Tube can be very useful for finding ‘How to’ videos with step-by-step guide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For example: D.I.Y, cooking or music</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4000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76"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trying to repair a leaking tap in your hom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pen the YouTube ap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Look for the search symbol at the to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in ‘How to fix a leaking tap’ and find the best video that will help you</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7" name="Picture 2" descr=""/>
          <p:cNvPicPr/>
          <p:nvPr/>
        </p:nvPicPr>
        <p:blipFill>
          <a:blip r:embed="rId1"/>
          <a:stretch/>
        </p:blipFill>
        <p:spPr>
          <a:xfrm>
            <a:off x="7451640" y="3789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484000" y="1854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79" name=""/>
          <p:cNvSpPr txBox="1"/>
          <p:nvPr/>
        </p:nvSpPr>
        <p:spPr>
          <a:xfrm>
            <a:off x="457200" y="1600200"/>
            <a:ext cx="8686800" cy="4525920"/>
          </a:xfrm>
          <a:prstGeom prst="rect">
            <a:avLst/>
          </a:prstGeom>
          <a:noFill/>
          <a:ln w="0">
            <a:noFill/>
          </a:ln>
        </p:spPr>
        <p:txBody>
          <a:bodyPr anchor="t">
            <a:normAutofit/>
          </a:bodyPr>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You received a present of a piano for your birthday.</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the YouTube ap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Look for the search symbol at the to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ype in ‘piano for beginners’</a:t>
            </a:r>
            <a:r>
              <a:rPr b="0" lang="hu-HU" sz="3000" spc="-1" strike="noStrike">
                <a:solidFill>
                  <a:srgbClr val="000000"/>
                </a:solidFill>
                <a:latin typeface="Arial Rounded MT Bold"/>
              </a:rPr>
              <a:t>.</a:t>
            </a:r>
            <a:endParaRPr b="0" lang="en-US" sz="3000" spc="-1" strike="noStrike">
              <a:solidFill>
                <a:srgbClr val="000000"/>
              </a:solidFill>
              <a:latin typeface="Arial"/>
            </a:endParaRPr>
          </a:p>
        </p:txBody>
      </p:sp>
      <p:pic>
        <p:nvPicPr>
          <p:cNvPr id="580" name="Picture 2" descr=""/>
          <p:cNvPicPr/>
          <p:nvPr/>
        </p:nvPicPr>
        <p:blipFill>
          <a:blip r:embed="rId1"/>
          <a:stretch/>
        </p:blipFill>
        <p:spPr>
          <a:xfrm>
            <a:off x="7885080" y="4005360"/>
            <a:ext cx="690480" cy="63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4000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YouTube searches</a:t>
            </a:r>
            <a:endParaRPr b="0" lang="en-US" sz="4000" spc="-1" strike="noStrike">
              <a:solidFill>
                <a:srgbClr val="000000"/>
              </a:solidFill>
              <a:latin typeface="Arial"/>
            </a:endParaRPr>
          </a:p>
        </p:txBody>
      </p:sp>
      <p:sp>
        <p:nvSpPr>
          <p:cNvPr id="582" name=""/>
          <p:cNvSpPr txBox="1"/>
          <p:nvPr/>
        </p:nvSpPr>
        <p:spPr>
          <a:xfrm>
            <a:off x="0" y="1196640"/>
            <a:ext cx="9144000" cy="482436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ip: You may get a lot of results when you search on YouTube. A good way to filter these results is to check the number of views. </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If there are thousands/millions of views then this can be a sign that others have found the video useful</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View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583" name="Picture 2" descr=""/>
          <p:cNvPicPr/>
          <p:nvPr/>
        </p:nvPicPr>
        <p:blipFill>
          <a:blip r:embed="rId1"/>
          <a:stretch/>
        </p:blipFill>
        <p:spPr>
          <a:xfrm>
            <a:off x="2881440" y="3716280"/>
            <a:ext cx="5905440" cy="2036880"/>
          </a:xfrm>
          <a:prstGeom prst="rect">
            <a:avLst/>
          </a:prstGeom>
          <a:ln w="0">
            <a:noFill/>
          </a:ln>
        </p:spPr>
      </p:pic>
      <p:cxnSp>
        <p:nvCxnSpPr>
          <p:cNvPr id="584" name="Straight Arrow Connector 4"/>
          <p:cNvCxnSpPr/>
          <p:nvPr/>
        </p:nvCxnSpPr>
        <p:spPr>
          <a:xfrm flipV="1">
            <a:off x="1547640" y="4149000"/>
            <a:ext cx="3888720" cy="359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360"/>
            <a:ext cx="6813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are your interests?</a:t>
            </a:r>
            <a:endParaRPr b="0" lang="en-US" sz="4000" spc="-1" strike="noStrike">
              <a:solidFill>
                <a:srgbClr val="000000"/>
              </a:solidFill>
              <a:latin typeface="Arial"/>
            </a:endParaRPr>
          </a:p>
        </p:txBody>
      </p:sp>
      <p:sp>
        <p:nvSpPr>
          <p:cNvPr id="586" name=""/>
          <p:cNvSpPr txBox="1"/>
          <p:nvPr/>
        </p:nvSpPr>
        <p:spPr>
          <a:xfrm>
            <a:off x="108000" y="1484280"/>
            <a:ext cx="9036000" cy="4309920"/>
          </a:xfrm>
          <a:prstGeom prst="rect">
            <a:avLst/>
          </a:prstGeom>
          <a:noFill/>
          <a:ln w="0">
            <a:noFill/>
          </a:ln>
        </p:spPr>
        <p:txBody>
          <a:bodyPr anchor="t">
            <a:normAutofit fontScale="97000"/>
          </a:bodyPr>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Think about something that you would like to do e.g. Yoga, cooking, online games</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earch in your app store for relevant apps</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eck the app reviews to see what other people think</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32640" indent="-33264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eck that the app is free before you download! Some apps have a small charge – you can choose to pay if you think the app is worthwhi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39" name="PlaceHolder 2"/>
          <p:cNvSpPr>
            <a:spLocks noGrp="1"/>
          </p:cNvSpPr>
          <p:nvPr>
            <p:ph/>
          </p:nvPr>
        </p:nvSpPr>
        <p:spPr>
          <a:xfrm>
            <a:off x="457200" y="1989000"/>
            <a:ext cx="82296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specific apps that are useful for your lif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050560" y="311040"/>
            <a:ext cx="7093080" cy="814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1" name=""/>
          <p:cNvSpPr txBox="1"/>
          <p:nvPr/>
        </p:nvSpPr>
        <p:spPr>
          <a:xfrm>
            <a:off x="53964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tablet or smartphone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2" name="Picture 4" descr=""/>
          <p:cNvPicPr/>
          <p:nvPr/>
        </p:nvPicPr>
        <p:blipFill>
          <a:blip r:embed="rId1"/>
          <a:stretch/>
        </p:blipFill>
        <p:spPr>
          <a:xfrm>
            <a:off x="1273320" y="3141720"/>
            <a:ext cx="2904840" cy="1695240"/>
          </a:xfrm>
          <a:prstGeom prst="rect">
            <a:avLst/>
          </a:prstGeom>
          <a:ln w="0">
            <a:noFill/>
          </a:ln>
        </p:spPr>
      </p:pic>
      <p:pic>
        <p:nvPicPr>
          <p:cNvPr id="543" name="Picture 5" descr=""/>
          <p:cNvPicPr/>
          <p:nvPr/>
        </p:nvPicPr>
        <p:blipFill>
          <a:blip r:embed="rId2"/>
          <a:stretch/>
        </p:blipFill>
        <p:spPr>
          <a:xfrm>
            <a:off x="4979880" y="2681280"/>
            <a:ext cx="2905200" cy="22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40000" y="274320"/>
            <a:ext cx="68040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545" name=""/>
          <p:cNvSpPr txBox="1"/>
          <p:nvPr/>
        </p:nvSpPr>
        <p:spPr>
          <a:xfrm>
            <a:off x="456840" y="1600200"/>
            <a:ext cx="843588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learned how to download apps in the last uni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Google Maps’ and download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nSpc>
                <a:spcPct val="2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iTranslate’ and download 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0920" y="189000"/>
            <a:ext cx="635652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47" name=""/>
          <p:cNvSpPr txBox="1"/>
          <p:nvPr/>
        </p:nvSpPr>
        <p:spPr>
          <a:xfrm>
            <a:off x="-360" y="1699920"/>
            <a:ext cx="9007560" cy="4383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Google Maps app to ope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earch for a place in your home countr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wipe up from the bottom of your screen to get the informatio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Directions’  and then choose your starting point. This can be your home address. Tip: if you have your location turned on (on your device) then you can choose to start directions from wherever you are.</a:t>
            </a:r>
            <a:endParaRPr b="0" lang="en-US" sz="2800" spc="-1" strike="noStrike">
              <a:solidFill>
                <a:srgbClr val="000000"/>
              </a:solidFill>
              <a:latin typeface="Arial"/>
            </a:endParaRPr>
          </a:p>
        </p:txBody>
      </p:sp>
      <p:pic>
        <p:nvPicPr>
          <p:cNvPr id="548" name="Picture 4" descr=""/>
          <p:cNvPicPr/>
          <p:nvPr/>
        </p:nvPicPr>
        <p:blipFill>
          <a:blip r:embed="rId1"/>
          <a:stretch/>
        </p:blipFill>
        <p:spPr>
          <a:xfrm>
            <a:off x="7596360" y="1557360"/>
            <a:ext cx="933120" cy="94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40000" y="-360"/>
            <a:ext cx="6356160" cy="119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a:t>
            </a:r>
            <a:endParaRPr b="0" lang="en-US" sz="4000" spc="-1" strike="noStrike">
              <a:solidFill>
                <a:srgbClr val="000000"/>
              </a:solidFill>
              <a:latin typeface="Arial"/>
            </a:endParaRPr>
          </a:p>
        </p:txBody>
      </p:sp>
      <p:sp>
        <p:nvSpPr>
          <p:cNvPr id="550" name=""/>
          <p:cNvSpPr txBox="1"/>
          <p:nvPr/>
        </p:nvSpPr>
        <p:spPr>
          <a:xfrm>
            <a:off x="-360" y="1263600"/>
            <a:ext cx="900756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will see a number of options for you which indicate driving, public transport, walking, taxi and cycling:</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symbol to see</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how long it will take you to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walk or dr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51" name="Picture 3" descr=""/>
          <p:cNvPicPr/>
          <p:nvPr/>
        </p:nvPicPr>
        <p:blipFill>
          <a:blip r:embed="rId1"/>
          <a:stretch/>
        </p:blipFill>
        <p:spPr>
          <a:xfrm>
            <a:off x="5518080" y="2565360"/>
            <a:ext cx="2482920" cy="3583080"/>
          </a:xfrm>
          <a:prstGeom prst="rect">
            <a:avLst/>
          </a:prstGeom>
          <a:ln w="0">
            <a:noFill/>
          </a:ln>
        </p:spPr>
      </p:pic>
      <p:cxnSp>
        <p:nvCxnSpPr>
          <p:cNvPr id="552" name="Straight Arrow Connector 2"/>
          <p:cNvCxnSpPr/>
          <p:nvPr/>
        </p:nvCxnSpPr>
        <p:spPr>
          <a:xfrm flipV="1">
            <a:off x="2576160" y="3525480"/>
            <a:ext cx="2942280" cy="69552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40000" y="0"/>
            <a:ext cx="6356160" cy="1052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Google Maps</a:t>
            </a:r>
            <a:endParaRPr b="0" lang="en-US" sz="4000" spc="-1" strike="noStrike">
              <a:solidFill>
                <a:srgbClr val="000000"/>
              </a:solidFill>
              <a:latin typeface="Arial"/>
            </a:endParaRPr>
          </a:p>
        </p:txBody>
      </p:sp>
      <p:sp>
        <p:nvSpPr>
          <p:cNvPr id="554" name=""/>
          <p:cNvSpPr txBox="1"/>
          <p:nvPr/>
        </p:nvSpPr>
        <p:spPr>
          <a:xfrm>
            <a:off x="2880" y="1125000"/>
            <a:ext cx="9007560" cy="452628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are in Paris, France on holiday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would like to travel to Calais, also in Franc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e Google Maps to find the route op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s it quicker to drive or to take public transpor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the public transport options?</a:t>
            </a:r>
            <a:endParaRPr b="0" lang="en-US" sz="2800" spc="-1" strike="noStrike">
              <a:solidFill>
                <a:srgbClr val="000000"/>
              </a:solidFill>
              <a:latin typeface="Arial"/>
            </a:endParaRPr>
          </a:p>
        </p:txBody>
      </p:sp>
      <p:pic>
        <p:nvPicPr>
          <p:cNvPr id="555" name="Picture 4" descr=""/>
          <p:cNvPicPr/>
          <p:nvPr/>
        </p:nvPicPr>
        <p:blipFill>
          <a:blip r:embed="rId1"/>
          <a:stretch/>
        </p:blipFill>
        <p:spPr>
          <a:xfrm>
            <a:off x="6875640" y="1052640"/>
            <a:ext cx="933120" cy="961920"/>
          </a:xfrm>
          <a:prstGeom prst="rect">
            <a:avLst/>
          </a:prstGeom>
          <a:ln w="0">
            <a:noFill/>
          </a:ln>
        </p:spPr>
      </p:pic>
      <p:pic>
        <p:nvPicPr>
          <p:cNvPr id="556" name="Picture 2" descr=""/>
          <p:cNvPicPr/>
          <p:nvPr/>
        </p:nvPicPr>
        <p:blipFill>
          <a:blip r:embed="rId2"/>
          <a:stretch/>
        </p:blipFill>
        <p:spPr>
          <a:xfrm>
            <a:off x="1258920" y="4871880"/>
            <a:ext cx="2160720" cy="1309680"/>
          </a:xfrm>
          <a:prstGeom prst="rect">
            <a:avLst/>
          </a:prstGeom>
          <a:ln w="0">
            <a:noFill/>
          </a:ln>
        </p:spPr>
      </p:pic>
      <p:pic>
        <p:nvPicPr>
          <p:cNvPr id="557" name="Picture 3" descr=""/>
          <p:cNvPicPr/>
          <p:nvPr/>
        </p:nvPicPr>
        <p:blipFill>
          <a:blip r:embed="rId3"/>
          <a:stretch/>
        </p:blipFill>
        <p:spPr>
          <a:xfrm>
            <a:off x="5003640" y="4873680"/>
            <a:ext cx="2089440" cy="130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Google Maps tip</a:t>
            </a:r>
            <a:endParaRPr b="0" lang="en-US" sz="4000" spc="-1" strike="noStrike">
              <a:solidFill>
                <a:srgbClr val="000000"/>
              </a:solidFill>
              <a:latin typeface="Arial"/>
            </a:endParaRPr>
          </a:p>
        </p:txBody>
      </p:sp>
      <p:sp>
        <p:nvSpPr>
          <p:cNvPr id="559" name=""/>
          <p:cNvSpPr txBox="1"/>
          <p:nvPr/>
        </p:nvSpPr>
        <p:spPr>
          <a:xfrm>
            <a:off x="457200" y="1600200"/>
            <a:ext cx="8578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also download the map (‘download offline map) so you can still use it when you are not connected to the Internet  - very useful when travelling and wifi is not available!</a:t>
            </a:r>
            <a:endParaRPr b="0" lang="en-US" sz="2800" spc="-1" strike="noStrike">
              <a:solidFill>
                <a:srgbClr val="000000"/>
              </a:solidFill>
              <a:latin typeface="Arial"/>
            </a:endParaRPr>
          </a:p>
        </p:txBody>
      </p:sp>
      <p:pic>
        <p:nvPicPr>
          <p:cNvPr id="560" name="Picture 4" descr=""/>
          <p:cNvPicPr/>
          <p:nvPr/>
        </p:nvPicPr>
        <p:blipFill>
          <a:blip r:embed="rId1"/>
          <a:stretch/>
        </p:blipFill>
        <p:spPr>
          <a:xfrm>
            <a:off x="3564000" y="3573360"/>
            <a:ext cx="2151000" cy="219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ravelling abroad</a:t>
            </a:r>
            <a:endParaRPr b="0" lang="en-US" sz="4000" spc="-1" strike="noStrike">
              <a:solidFill>
                <a:srgbClr val="000000"/>
              </a:solidFill>
              <a:latin typeface="Arial"/>
            </a:endParaRPr>
          </a:p>
        </p:txBody>
      </p:sp>
      <p:sp>
        <p:nvSpPr>
          <p:cNvPr id="5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have downloaded iTranslate on your devic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ap on the app to open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now use your phone or tablet to translate other languag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3" name="Picture 2" descr=""/>
          <p:cNvPicPr/>
          <p:nvPr/>
        </p:nvPicPr>
        <p:blipFill>
          <a:blip r:embed="rId1"/>
          <a:stretch/>
        </p:blipFill>
        <p:spPr>
          <a:xfrm>
            <a:off x="2627280" y="4005360"/>
            <a:ext cx="374508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dani gm</cp:lastModifiedBy>
  <dcterms:modified xsi:type="dcterms:W3CDTF">2019-12-04T14:11:14Z</dcterms:modified>
  <cp:revision>455</cp:revision>
  <dc:subject/>
  <dc:title>Title</dc:title>
</cp:coreProperties>
</file>