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AD94A89-C8A4-4673-84CA-6AC0C7CFEF9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C6EE81F-F862-459F-8975-555EA6B503A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E74B455-2C7B-4166-9513-A5A1F9B3842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E8AC71C-6D56-47E9-BDBE-F59CFE45EB4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648526F-5AEA-492E-A6DC-C7BAA5F663B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BE08350-615B-45A5-807A-46761D2F64B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66C91E5-A925-4C26-8D0C-CC7B2A71764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06B51F2-3A76-4E28-83D6-A4C1A9FA9E0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4352F43-496F-4EE3-AEE1-74FA1466FC9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1470069-7FD9-471B-964A-9C9789EB5BF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BFD8267-1B41-45DD-A732-2E44349559F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D82C94B-C232-4255-9C5C-48E553E2496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C047D42-B8EB-4993-BD48-32DABA181C5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A7AFA84-415E-4CEB-AC0C-480FAEAA189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CCC4926-3536-4750-961F-811E586E86C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BBBD0C1-B308-419C-A91A-7115B686D07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5535E48-670A-4340-8B24-A63CFD8F4FB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D98227C-C368-4C12-B289-1EA6E626C16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79C2B35-6D17-4CCF-A455-F74160EADF8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CAC66D4-9AF0-4D5C-B979-3254798476F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29DCFE1-1460-4732-B8E6-DB209EECB96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F3A296F-4A9B-429D-B385-025C479159F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8B069D1-3B6C-4CC2-ABDD-58280127354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203E1F6-1FA6-4AB1-810C-D021E804DBF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FE89A36-D52C-44E0-90B8-CE953950A4D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0B7BB9B-51E3-4AD9-92DD-A98EBF41992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FD89528-D2C0-4C1D-9326-F18EEF1A0AF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D2E4F62-EFE5-49C7-8999-B12737AACD5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83F1EE7-5E2B-4728-9C17-3DACA8E3E2C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F245BEC-34E3-4ABF-B2AC-31817A92FE7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A7493B2-90AC-43E0-8BD7-9D85517AC00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8BCA436C-B702-4F6C-A04A-D65C430ABE1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20E4F2C-A11F-4152-8E87-A2D59BC7E66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BAC1991-D4F1-44C2-81CA-E1E49DEEC6C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06D53D0-0FF2-40CE-A109-4E4F3550F12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A47FB4F-8E0C-4BCE-9E24-254E727E192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F6AEDD0-F467-4F55-B7D4-71459AD2873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4597D32-EB9B-4B92-B72E-1F86005214B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776643B-7148-47C6-9341-88B5DD1B812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D4E5CCF-4D95-4389-A92B-B0C06E3AC80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2682F9A-F236-44D4-A067-D174DBA5033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76A8840-5B6E-4974-96E6-9AACE2626C4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B8966CE-2378-455D-8D79-36038BB1220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1EBC836-5BA3-4219-A15A-48143030871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E6A5BB57-921D-4215-994C-680AB3C79CF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2D2925-FA6A-4A0F-8167-C503EB433A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30C3C1-3236-41A5-A117-6CE82CA6B0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F9E572-E7B1-49FE-AAA3-18D9E8E89E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EDAB88-553F-420C-89E4-AE9052CE4E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E0606D-9005-4B75-9741-C58CC10654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9DC302-D6C8-4BDC-9C39-EAFD6E071E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709901-E894-4E33-B8EC-04733E1AE0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B852A7-79F7-44C6-872D-5DA3E84CB9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231C81-33F6-470C-AAD2-A0EB21FBE3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CED4F6-6895-4E95-BA2B-35233A0998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E1F06E-D215-4F1B-B5FA-389E848D94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0AEE15-D4E6-4C79-840F-7DE82DBFF2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C555CEC-88C9-4B07-9648-F440549D3EB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C6E78AB-CF42-4F94-B7E5-DFE541E4E93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1A2289F-5DD6-4DD4-8342-AF4A6F0F6F4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22A9745-CD5C-4D07-BE38-611E548EE0B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131C85A-172A-4F84-8A3E-6F93677A890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12C4FEB-627F-4D12-BDCF-3B40DA5F462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91D1FCE-47E9-48BD-A7EE-90508C83C14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C6954C3-5C0B-4E6E-983F-0E7A4469CA5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5CD7531-6E7A-4D42-8151-D86377C7D8D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0DC78F8-9F2A-4127-A21B-D3640635B31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1874A9F-49AB-440B-97D6-41B3BCBCCCE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4CDDFF3-B966-4430-AA7A-E34969B22C3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F81336D-A6AD-48A4-B739-E4D13266718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EECFC53-9A14-43C0-A3DF-84F89ED64E4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0A8B0B4-BE96-4937-AC0B-840D3D5873A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732405D-F9C1-41E1-A120-272FAE989CA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A623C8E-5A26-42AA-AEB7-6DD06CCC87C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CD6C85A-7D34-4349-AA1A-6B4FC84AAB4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01B7A62-B121-49C3-A4B5-F7E7974DC41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B22EE03-5E8F-4BD5-933E-36A4B05A67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95D371E-26D2-4450-A496-32381415265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F8E8B48-D36C-4ADD-A58E-5F456E3C68A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91708FD-EAB1-4B91-AEB0-2874019E70B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BA4AEE8-CDF5-476E-92DA-B051EF329BB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E846D47-9816-4FD0-A654-C362517689A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AD4D805-42E3-4DEE-817A-4BBA6DDCFE8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CF2367B-8676-45A2-B6AC-6C2A46BC3F9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49F0218-6F18-4136-975E-7A75737B4AE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1F30173-BC40-451E-A94C-71C5A8FE0B1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208D6AC-E2FD-4126-A285-62A2FB05A88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D701071-846A-47E6-BA7A-01CFCD316EC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E4C9968-7C31-461A-84AF-9CC112228F9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0EEBED5-CED0-4063-BA46-A8DAF7694F3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766B657-6B26-4A0F-B5F0-1EF2D6269E0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3562D3F-46F5-4DE4-9EDD-9BBFFC55B0A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F5BDD20-DC87-4DC6-AC55-AD42AED68E6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EF1D2FD-97EF-404E-80CB-97463B6A62C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3474A1A-168E-40C0-9978-2162D6DA78E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F9F94A8-1E04-446D-BE8C-5DFD6EB5188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5138A7A-EA30-4553-9C92-7850BBBC3B9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319C9B9-0532-49FF-B178-3EE61D79527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38E0AFA-56AD-40BB-B6C6-1D976F01BBE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FF695AC-A70F-4B56-A717-706046B4D29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8E6B6E4-25F0-48DD-9418-D5A96E94FFE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E1BCFDA-AC31-4770-9C03-8C152D633FF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46D2D54-F812-41E6-9A92-6B6E3042B27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1F74E0A-284F-4415-A8B8-02982E1E939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E0E15D6-E46B-4549-BC33-5D920699E71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0D54A51-2462-4351-B8D8-8544E67F253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DCE427D-85D3-48CE-89FB-F70008FEAC8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8B342F1-D3F2-46BC-A70C-36F181A204F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2C6375F-F2E8-4390-AAB6-3B924C1E4C9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9EBEFB6-CBAB-4BD8-AD2E-6292F57B4CC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0BC276E-812A-453F-9603-2C4509B6F4F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766B3D0-2EEB-49E3-92AE-BB9C67F9235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36ECD90-D6B3-4BF4-A25B-9CD16861518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BC97C14-0686-4E8D-B66A-2793B7EE29D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EC79768-DA6B-406A-A389-7B48807F289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C524870-AA5C-410D-9864-030E26EC20D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3B2D5E3-9B75-426E-855C-1BD9472510F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CBB5CEC-64E9-42AB-B516-229DE7347BF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7082F8F-00CD-4EFB-B4E4-923491DEA69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38AE7A8-8D98-42EE-B519-796F10332B72}"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BDF9-7BDB-40F6-98FC-C055D290AC6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B7E7C-C045-4114-AB87-A81840411F6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EDE9F-5B9E-4F44-8099-A962C1BD574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90A34-73FD-47F0-B25E-3CAF458B7C8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0D5B1-6E88-45C5-8159-E917AD8F621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CC217-2974-48E2-8C74-35CF68F4BA2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4F918-5232-4A3C-9705-866C2AFD61F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7A3F5-3FDC-4916-9998-53C3F3BCE60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55EEA-8AAD-4576-9D28-E2E867E3333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BEF70-4E1E-421A-AF4C-2273CD5CA8D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Digital Content Creation</a:t>
            </a:r>
            <a:endParaRPr b="0" lang="en-US" sz="3600" spc="-1" strike="noStrike">
              <a:solidFill>
                <a:srgbClr val="000000"/>
              </a:solidFill>
              <a:latin typeface="Arial"/>
            </a:endParaRPr>
          </a:p>
        </p:txBody>
      </p:sp>
      <p:sp>
        <p:nvSpPr>
          <p:cNvPr id="537" name="Rectángulo 1"/>
          <p:cNvSpPr/>
          <p:nvPr/>
        </p:nvSpPr>
        <p:spPr>
          <a:xfrm>
            <a:off x="1619280" y="3244680"/>
            <a:ext cx="69008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Useful apps for you:</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Travel and languag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282400" y="3924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Using iTranslate</a:t>
            </a:r>
            <a:endParaRPr b="0" lang="en-US" sz="4000" spc="-1" strike="noStrike">
              <a:solidFill>
                <a:srgbClr val="000000"/>
              </a:solidFill>
              <a:latin typeface="Arial"/>
            </a:endParaRPr>
          </a:p>
        </p:txBody>
      </p:sp>
      <p:sp>
        <p:nvSpPr>
          <p:cNvPr id="565" name=""/>
          <p:cNvSpPr txBox="1"/>
          <p:nvPr/>
        </p:nvSpPr>
        <p:spPr>
          <a:xfrm>
            <a:off x="395280" y="134136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You will see two options on your screen.</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Tap on the flag and select your own language</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Tap on the other flag and select the language you wish to translate e.g. if you wish to translate from Hungarian to Irish then              is the first option and            is the second.</a:t>
            </a:r>
            <a:endParaRPr b="0" lang="en-US" sz="3000" spc="-1" strike="noStrike">
              <a:solidFill>
                <a:srgbClr val="000000"/>
              </a:solidFill>
              <a:latin typeface="Arial"/>
            </a:endParaRPr>
          </a:p>
        </p:txBody>
      </p:sp>
      <p:pic>
        <p:nvPicPr>
          <p:cNvPr id="566" name="Picture 2" descr=""/>
          <p:cNvPicPr/>
          <p:nvPr/>
        </p:nvPicPr>
        <p:blipFill>
          <a:blip r:embed="rId1"/>
          <a:stretch/>
        </p:blipFill>
        <p:spPr>
          <a:xfrm>
            <a:off x="1870200" y="4292640"/>
            <a:ext cx="823680" cy="503280"/>
          </a:xfrm>
          <a:prstGeom prst="rect">
            <a:avLst/>
          </a:prstGeom>
          <a:ln w="0">
            <a:noFill/>
          </a:ln>
        </p:spPr>
      </p:pic>
      <p:pic>
        <p:nvPicPr>
          <p:cNvPr id="567" name="Picture 4" descr=""/>
          <p:cNvPicPr/>
          <p:nvPr/>
        </p:nvPicPr>
        <p:blipFill>
          <a:blip r:embed="rId2"/>
          <a:stretch/>
        </p:blipFill>
        <p:spPr>
          <a:xfrm>
            <a:off x="7020000" y="4379760"/>
            <a:ext cx="792000" cy="43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410920" y="61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xercise</a:t>
            </a:r>
            <a:endParaRPr b="0" lang="en-US" sz="4000" spc="-1" strike="noStrike">
              <a:solidFill>
                <a:srgbClr val="000000"/>
              </a:solidFill>
              <a:latin typeface="Arial"/>
            </a:endParaRPr>
          </a:p>
        </p:txBody>
      </p:sp>
      <p:sp>
        <p:nvSpPr>
          <p:cNvPr id="569" name=""/>
          <p:cNvSpPr txBox="1"/>
          <p:nvPr/>
        </p:nvSpPr>
        <p:spPr>
          <a:xfrm>
            <a:off x="0" y="1412640"/>
            <a:ext cx="9144000" cy="416556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You are on holidays in Spain</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Your native language is English</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sing the iTranslate app translate the following from English to Spanish:</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Good morning</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Where is the bus st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ip: You can also tap on the microphone to translate what you are saying</a:t>
            </a:r>
            <a:r>
              <a:rPr b="0" lang="hu-HU" sz="2800" spc="-1" strike="noStrike">
                <a:solidFill>
                  <a:srgbClr val="000000"/>
                </a:solidFill>
                <a:latin typeface="Arial Rounded MT Bold"/>
              </a:rPr>
              <a:t>.</a:t>
            </a:r>
            <a:r>
              <a:rPr b="0" lang="en-GB" sz="2800" spc="-1" strike="noStrike">
                <a:solidFill>
                  <a:srgbClr val="000000"/>
                </a:solidFill>
                <a:latin typeface="Arial Rounded MT Bold"/>
              </a:rPr>
              <a:t> </a:t>
            </a:r>
            <a:endParaRPr b="0" lang="en-US" sz="2800" spc="-1" strike="noStrike">
              <a:solidFill>
                <a:srgbClr val="000000"/>
              </a:solidFill>
              <a:latin typeface="Arial"/>
            </a:endParaRPr>
          </a:p>
        </p:txBody>
      </p:sp>
      <p:pic>
        <p:nvPicPr>
          <p:cNvPr id="570" name="Picture 2" descr=""/>
          <p:cNvPicPr/>
          <p:nvPr/>
        </p:nvPicPr>
        <p:blipFill>
          <a:blip r:embed="rId1"/>
          <a:stretch/>
        </p:blipFill>
        <p:spPr>
          <a:xfrm>
            <a:off x="5940360" y="5013360"/>
            <a:ext cx="720720" cy="712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34000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YouTube</a:t>
            </a:r>
            <a:endParaRPr b="0" lang="en-US" sz="4000" spc="-1" strike="noStrike">
              <a:solidFill>
                <a:srgbClr val="000000"/>
              </a:solidFill>
              <a:latin typeface="Arial"/>
            </a:endParaRPr>
          </a:p>
        </p:txBody>
      </p:sp>
      <p:sp>
        <p:nvSpPr>
          <p:cNvPr id="572" name=""/>
          <p:cNvSpPr txBox="1"/>
          <p:nvPr/>
        </p:nvSpPr>
        <p:spPr>
          <a:xfrm>
            <a:off x="457200" y="1915920"/>
            <a:ext cx="8229600" cy="4238280"/>
          </a:xfrm>
          <a:prstGeom prst="rect">
            <a:avLst/>
          </a:prstGeom>
          <a:noFill/>
          <a:ln w="0">
            <a:noFill/>
          </a:ln>
        </p:spPr>
        <p:txBody>
          <a:bodyPr anchor="t">
            <a:normAutofit/>
          </a:bodyPr>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YouTube is a video sharing site</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At least one hour of video is uploaded to YouTube every second!</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Download the YouTube app from your app store</a:t>
            </a:r>
            <a:r>
              <a:rPr b="0" lang="hu-HU" sz="3000" spc="-1" strike="noStrike">
                <a:solidFill>
                  <a:srgbClr val="000000"/>
                </a:solidFill>
                <a:latin typeface="Arial Rounded MT Bold"/>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4000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Is YouTube useful?</a:t>
            </a:r>
            <a:endParaRPr b="0" lang="en-US" sz="4000" spc="-1" strike="noStrike">
              <a:solidFill>
                <a:srgbClr val="000000"/>
              </a:solidFill>
              <a:latin typeface="Arial"/>
            </a:endParaRPr>
          </a:p>
        </p:txBody>
      </p:sp>
      <p:sp>
        <p:nvSpPr>
          <p:cNvPr id="574" name=""/>
          <p:cNvSpPr txBox="1"/>
          <p:nvPr/>
        </p:nvSpPr>
        <p:spPr>
          <a:xfrm>
            <a:off x="457200" y="1916280"/>
            <a:ext cx="8229600" cy="4209840"/>
          </a:xfrm>
          <a:prstGeom prst="rect">
            <a:avLst/>
          </a:prstGeom>
          <a:noFill/>
          <a:ln w="0">
            <a:noFill/>
          </a:ln>
        </p:spPr>
        <p:txBody>
          <a:bodyPr anchor="t">
            <a:normAutofit/>
          </a:bodyPr>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You don’t need to upload videos to use YouTube</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YouTube can be very useful for finding ‘How to’ videos with step-by-step guides</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For example: D.I.Y, cooking or music</a:t>
            </a:r>
            <a:r>
              <a:rPr b="0" lang="hu-HU" sz="3000" spc="-1" strike="noStrike">
                <a:solidFill>
                  <a:srgbClr val="000000"/>
                </a:solidFill>
                <a:latin typeface="Arial Rounded MT Bold"/>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4000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xercise</a:t>
            </a:r>
            <a:endParaRPr b="0" lang="en-US" sz="4000" spc="-1" strike="noStrike">
              <a:solidFill>
                <a:srgbClr val="000000"/>
              </a:solidFill>
              <a:latin typeface="Arial"/>
            </a:endParaRPr>
          </a:p>
        </p:txBody>
      </p:sp>
      <p:sp>
        <p:nvSpPr>
          <p:cNvPr id="576" name=""/>
          <p:cNvSpPr txBox="1"/>
          <p:nvPr/>
        </p:nvSpPr>
        <p:spPr>
          <a:xfrm>
            <a:off x="457200" y="1600200"/>
            <a:ext cx="86868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You are trying to repair a leaking tap in your hom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Open the YouTube app</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Look for the search symbol at the top</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ype in ‘How to fix a leaking tap’ and find the best video that will help you</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77" name="Picture 2" descr=""/>
          <p:cNvPicPr/>
          <p:nvPr/>
        </p:nvPicPr>
        <p:blipFill>
          <a:blip r:embed="rId1"/>
          <a:stretch/>
        </p:blipFill>
        <p:spPr>
          <a:xfrm>
            <a:off x="7451640" y="3789360"/>
            <a:ext cx="690480" cy="633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484000" y="1854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xercise</a:t>
            </a:r>
            <a:endParaRPr b="0" lang="en-US" sz="4000" spc="-1" strike="noStrike">
              <a:solidFill>
                <a:srgbClr val="000000"/>
              </a:solidFill>
              <a:latin typeface="Arial"/>
            </a:endParaRPr>
          </a:p>
        </p:txBody>
      </p:sp>
      <p:sp>
        <p:nvSpPr>
          <p:cNvPr id="579" name=""/>
          <p:cNvSpPr txBox="1"/>
          <p:nvPr/>
        </p:nvSpPr>
        <p:spPr>
          <a:xfrm>
            <a:off x="457200" y="1600200"/>
            <a:ext cx="8686800" cy="4525920"/>
          </a:xfrm>
          <a:prstGeom prst="rect">
            <a:avLst/>
          </a:prstGeom>
          <a:noFill/>
          <a:ln w="0">
            <a:noFill/>
          </a:ln>
        </p:spPr>
        <p:txBody>
          <a:bodyPr anchor="t">
            <a:normAutofit/>
          </a:bodyPr>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You received a present of a piano for your birthday.</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Open the YouTube app</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Look for the search symbol at the top</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Type in ‘piano for beginners’</a:t>
            </a:r>
            <a:r>
              <a:rPr b="0" lang="hu-HU" sz="3000" spc="-1" strike="noStrike">
                <a:solidFill>
                  <a:srgbClr val="000000"/>
                </a:solidFill>
                <a:latin typeface="Arial Rounded MT Bold"/>
              </a:rPr>
              <a:t>.</a:t>
            </a:r>
            <a:endParaRPr b="0" lang="en-US" sz="3000" spc="-1" strike="noStrike">
              <a:solidFill>
                <a:srgbClr val="000000"/>
              </a:solidFill>
              <a:latin typeface="Arial"/>
            </a:endParaRPr>
          </a:p>
        </p:txBody>
      </p:sp>
      <p:pic>
        <p:nvPicPr>
          <p:cNvPr id="580" name="Picture 2" descr=""/>
          <p:cNvPicPr/>
          <p:nvPr/>
        </p:nvPicPr>
        <p:blipFill>
          <a:blip r:embed="rId1"/>
          <a:stretch/>
        </p:blipFill>
        <p:spPr>
          <a:xfrm>
            <a:off x="7885080" y="4005360"/>
            <a:ext cx="690480" cy="63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340000" y="-3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YouTube searches</a:t>
            </a:r>
            <a:endParaRPr b="0" lang="en-US" sz="4000" spc="-1" strike="noStrike">
              <a:solidFill>
                <a:srgbClr val="000000"/>
              </a:solidFill>
              <a:latin typeface="Arial"/>
            </a:endParaRPr>
          </a:p>
        </p:txBody>
      </p:sp>
      <p:sp>
        <p:nvSpPr>
          <p:cNvPr id="582" name=""/>
          <p:cNvSpPr txBox="1"/>
          <p:nvPr/>
        </p:nvSpPr>
        <p:spPr>
          <a:xfrm>
            <a:off x="0" y="1196640"/>
            <a:ext cx="9144000" cy="482436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Tip: You may get a lot of results when you search on YouTube. A good way to filter these results is to check the number of views. </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If there are thousands/millions of views then this can be a sign that others have found the video useful</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Views</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583" name="Picture 2" descr=""/>
          <p:cNvPicPr/>
          <p:nvPr/>
        </p:nvPicPr>
        <p:blipFill>
          <a:blip r:embed="rId1"/>
          <a:stretch/>
        </p:blipFill>
        <p:spPr>
          <a:xfrm>
            <a:off x="2881440" y="3716280"/>
            <a:ext cx="5905440" cy="2036880"/>
          </a:xfrm>
          <a:prstGeom prst="rect">
            <a:avLst/>
          </a:prstGeom>
          <a:ln w="0">
            <a:noFill/>
          </a:ln>
        </p:spPr>
      </p:pic>
      <p:cxnSp>
        <p:nvCxnSpPr>
          <p:cNvPr id="584" name="Straight Arrow Connector 4"/>
          <p:cNvCxnSpPr/>
          <p:nvPr/>
        </p:nvCxnSpPr>
        <p:spPr>
          <a:xfrm flipV="1">
            <a:off x="1547640" y="4149000"/>
            <a:ext cx="3888720" cy="35964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329920" y="-360"/>
            <a:ext cx="6813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What are your interests?</a:t>
            </a:r>
            <a:endParaRPr b="0" lang="en-US" sz="4000" spc="-1" strike="noStrike">
              <a:solidFill>
                <a:srgbClr val="000000"/>
              </a:solidFill>
              <a:latin typeface="Arial"/>
            </a:endParaRPr>
          </a:p>
        </p:txBody>
      </p:sp>
      <p:sp>
        <p:nvSpPr>
          <p:cNvPr id="586" name=""/>
          <p:cNvSpPr txBox="1"/>
          <p:nvPr/>
        </p:nvSpPr>
        <p:spPr>
          <a:xfrm>
            <a:off x="108000" y="1484280"/>
            <a:ext cx="9036000" cy="4309920"/>
          </a:xfrm>
          <a:prstGeom prst="rect">
            <a:avLst/>
          </a:prstGeom>
          <a:noFill/>
          <a:ln w="0">
            <a:noFill/>
          </a:ln>
        </p:spPr>
        <p:txBody>
          <a:bodyPr anchor="t">
            <a:normAutofit fontScale="97000"/>
          </a:bodyPr>
          <a:p>
            <a:pPr marL="332640" indent="-33264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Think about something that you would like to do e.g. Yoga, cooking, online games</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32640" indent="-33264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Search in your app store for relevant apps</a:t>
            </a:r>
            <a:endParaRPr b="0" lang="en-US" sz="3000" spc="-1" strike="noStrike">
              <a:solidFill>
                <a:srgbClr val="000000"/>
              </a:solidFill>
              <a:latin typeface="Arial"/>
            </a:endParaRPr>
          </a:p>
          <a:p>
            <a:pPr marL="332640" indent="-33264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Check the app reviews to see what other people think</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32640" indent="-33264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Check that the app is free before you download! Some apps have a small charge – you can choose to pay if you think the app is worthwhi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Objectives and goals</a:t>
            </a:r>
            <a:endParaRPr b="0" lang="en-US" sz="4000" spc="-1" strike="noStrike">
              <a:solidFill>
                <a:srgbClr val="000000"/>
              </a:solidFill>
              <a:latin typeface="Arial"/>
            </a:endParaRPr>
          </a:p>
        </p:txBody>
      </p:sp>
      <p:sp>
        <p:nvSpPr>
          <p:cNvPr id="539" name="PlaceHolder 2"/>
          <p:cNvSpPr>
            <a:spLocks noGrp="1"/>
          </p:cNvSpPr>
          <p:nvPr>
            <p:ph/>
          </p:nvPr>
        </p:nvSpPr>
        <p:spPr>
          <a:xfrm>
            <a:off x="457200" y="1989000"/>
            <a:ext cx="8229600" cy="41371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t the end of this Unit  you will be able to:</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Use specific apps that are useful for your life</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050560" y="311040"/>
            <a:ext cx="7093080" cy="814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What do I need for this unit?</a:t>
            </a:r>
            <a:endParaRPr b="0" lang="en-US" sz="3600" spc="-1" strike="noStrike">
              <a:solidFill>
                <a:srgbClr val="000000"/>
              </a:solidFill>
              <a:latin typeface="Arial"/>
            </a:endParaRPr>
          </a:p>
        </p:txBody>
      </p:sp>
      <p:sp>
        <p:nvSpPr>
          <p:cNvPr id="541" name=""/>
          <p:cNvSpPr txBox="1"/>
          <p:nvPr/>
        </p:nvSpPr>
        <p:spPr>
          <a:xfrm>
            <a:off x="539640" y="155736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 tablet or smartphone with internet connection</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2" name="Picture 4" descr=""/>
          <p:cNvPicPr/>
          <p:nvPr/>
        </p:nvPicPr>
        <p:blipFill>
          <a:blip r:embed="rId1"/>
          <a:stretch/>
        </p:blipFill>
        <p:spPr>
          <a:xfrm>
            <a:off x="1273320" y="3141720"/>
            <a:ext cx="2904840" cy="1695240"/>
          </a:xfrm>
          <a:prstGeom prst="rect">
            <a:avLst/>
          </a:prstGeom>
          <a:ln w="0">
            <a:noFill/>
          </a:ln>
        </p:spPr>
      </p:pic>
      <p:pic>
        <p:nvPicPr>
          <p:cNvPr id="543" name="Picture 5" descr=""/>
          <p:cNvPicPr/>
          <p:nvPr/>
        </p:nvPicPr>
        <p:blipFill>
          <a:blip r:embed="rId2"/>
          <a:stretch/>
        </p:blipFill>
        <p:spPr>
          <a:xfrm>
            <a:off x="4979880" y="2681280"/>
            <a:ext cx="2905200" cy="229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40000" y="274320"/>
            <a:ext cx="68040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xercise</a:t>
            </a:r>
            <a:endParaRPr b="0" lang="en-US" sz="4000" spc="-1" strike="noStrike">
              <a:solidFill>
                <a:srgbClr val="000000"/>
              </a:solidFill>
              <a:latin typeface="Arial"/>
            </a:endParaRPr>
          </a:p>
        </p:txBody>
      </p:sp>
      <p:sp>
        <p:nvSpPr>
          <p:cNvPr id="545" name=""/>
          <p:cNvSpPr txBox="1"/>
          <p:nvPr/>
        </p:nvSpPr>
        <p:spPr>
          <a:xfrm>
            <a:off x="456840" y="1600200"/>
            <a:ext cx="843588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You learned how to download apps in the last unit.</a:t>
            </a:r>
            <a:endParaRPr b="0" lang="en-US" sz="2800" spc="-1" strike="noStrike">
              <a:solidFill>
                <a:srgbClr val="000000"/>
              </a:solidFill>
              <a:latin typeface="Arial"/>
            </a:endParaRPr>
          </a:p>
          <a:p>
            <a:pPr lvl="1" marL="743040" indent="-285840">
              <a:lnSpc>
                <a:spcPct val="2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Go to your app stor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nSpc>
                <a:spcPct val="2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Find ‘Google Maps’ and download it</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nSpc>
                <a:spcPct val="2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Find ‘iTranslate’ and download it</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410920" y="189000"/>
            <a:ext cx="635652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Google Maps</a:t>
            </a:r>
            <a:endParaRPr b="0" lang="en-US" sz="4000" spc="-1" strike="noStrike">
              <a:solidFill>
                <a:srgbClr val="000000"/>
              </a:solidFill>
              <a:latin typeface="Arial"/>
            </a:endParaRPr>
          </a:p>
        </p:txBody>
      </p:sp>
      <p:sp>
        <p:nvSpPr>
          <p:cNvPr id="547" name=""/>
          <p:cNvSpPr txBox="1"/>
          <p:nvPr/>
        </p:nvSpPr>
        <p:spPr>
          <a:xfrm>
            <a:off x="-360" y="1699920"/>
            <a:ext cx="9007560" cy="43830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ap on the Google Maps app to open</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earch for a place in your home country</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wipe up from the bottom of your screen to get the information</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ap on ‘Directions’  and then choose your starting point. This can be your home address. Tip: if you have your location turned on (on your device) then you can choose to start directions from wherever you are.</a:t>
            </a:r>
            <a:endParaRPr b="0" lang="en-US" sz="2800" spc="-1" strike="noStrike">
              <a:solidFill>
                <a:srgbClr val="000000"/>
              </a:solidFill>
              <a:latin typeface="Arial"/>
            </a:endParaRPr>
          </a:p>
        </p:txBody>
      </p:sp>
      <p:pic>
        <p:nvPicPr>
          <p:cNvPr id="548" name="Picture 4" descr=""/>
          <p:cNvPicPr/>
          <p:nvPr/>
        </p:nvPicPr>
        <p:blipFill>
          <a:blip r:embed="rId1"/>
          <a:stretch/>
        </p:blipFill>
        <p:spPr>
          <a:xfrm>
            <a:off x="7596360" y="1557360"/>
            <a:ext cx="933120" cy="949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340000" y="-360"/>
            <a:ext cx="635616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Google Maps</a:t>
            </a:r>
            <a:endParaRPr b="0" lang="en-US" sz="4000" spc="-1" strike="noStrike">
              <a:solidFill>
                <a:srgbClr val="000000"/>
              </a:solidFill>
              <a:latin typeface="Arial"/>
            </a:endParaRPr>
          </a:p>
        </p:txBody>
      </p:sp>
      <p:sp>
        <p:nvSpPr>
          <p:cNvPr id="550" name=""/>
          <p:cNvSpPr txBox="1"/>
          <p:nvPr/>
        </p:nvSpPr>
        <p:spPr>
          <a:xfrm>
            <a:off x="-360" y="1263600"/>
            <a:ext cx="900756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You will see a number of options for you which indicate driving, public transport, walking, taxi and cycling:</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ap on the symbol to see</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en-GB" sz="2800" spc="-1" strike="noStrike">
                <a:solidFill>
                  <a:srgbClr val="000000"/>
                </a:solidFill>
                <a:latin typeface="Arial Rounded MT Bold"/>
              </a:rPr>
              <a:t>how long it will take you to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en-GB" sz="2800" spc="-1" strike="noStrike">
                <a:solidFill>
                  <a:srgbClr val="000000"/>
                </a:solidFill>
                <a:latin typeface="Arial Rounded MT Bold"/>
              </a:rPr>
              <a:t>walk or drive.</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1" name="Picture 3" descr=""/>
          <p:cNvPicPr/>
          <p:nvPr/>
        </p:nvPicPr>
        <p:blipFill>
          <a:blip r:embed="rId1"/>
          <a:stretch/>
        </p:blipFill>
        <p:spPr>
          <a:xfrm>
            <a:off x="5518080" y="2565360"/>
            <a:ext cx="2482920" cy="3583080"/>
          </a:xfrm>
          <a:prstGeom prst="rect">
            <a:avLst/>
          </a:prstGeom>
          <a:ln w="0">
            <a:noFill/>
          </a:ln>
        </p:spPr>
      </p:pic>
      <p:cxnSp>
        <p:nvCxnSpPr>
          <p:cNvPr id="552" name="Straight Arrow Connector 2"/>
          <p:cNvCxnSpPr/>
          <p:nvPr/>
        </p:nvCxnSpPr>
        <p:spPr>
          <a:xfrm flipV="1">
            <a:off x="2576160" y="3525480"/>
            <a:ext cx="2942280" cy="69552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340000" y="0"/>
            <a:ext cx="6356160" cy="105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xercise Google Maps</a:t>
            </a:r>
            <a:endParaRPr b="0" lang="en-US" sz="4000" spc="-1" strike="noStrike">
              <a:solidFill>
                <a:srgbClr val="000000"/>
              </a:solidFill>
              <a:latin typeface="Arial"/>
            </a:endParaRPr>
          </a:p>
        </p:txBody>
      </p:sp>
      <p:sp>
        <p:nvSpPr>
          <p:cNvPr id="554" name=""/>
          <p:cNvSpPr txBox="1"/>
          <p:nvPr/>
        </p:nvSpPr>
        <p:spPr>
          <a:xfrm>
            <a:off x="2880" y="1125000"/>
            <a:ext cx="9007560" cy="4526280"/>
          </a:xfrm>
          <a:prstGeom prst="rect">
            <a:avLst/>
          </a:prstGeom>
          <a:noFill/>
          <a:ln w="0">
            <a:noFill/>
          </a:ln>
        </p:spPr>
        <p:txBody>
          <a:bodyPr anchor="t">
            <a:normAutofit/>
          </a:bodyPr>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You are in Paris, France on holidays</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You would like to travel to Calais, also in Franc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se Google Maps to find the route options</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s it quicker to drive or to take public transport?</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What are the public transport options?</a:t>
            </a:r>
            <a:endParaRPr b="0" lang="en-US" sz="2800" spc="-1" strike="noStrike">
              <a:solidFill>
                <a:srgbClr val="000000"/>
              </a:solidFill>
              <a:latin typeface="Arial"/>
            </a:endParaRPr>
          </a:p>
        </p:txBody>
      </p:sp>
      <p:pic>
        <p:nvPicPr>
          <p:cNvPr id="555" name="Picture 4" descr=""/>
          <p:cNvPicPr/>
          <p:nvPr/>
        </p:nvPicPr>
        <p:blipFill>
          <a:blip r:embed="rId1"/>
          <a:stretch/>
        </p:blipFill>
        <p:spPr>
          <a:xfrm>
            <a:off x="6875640" y="1052640"/>
            <a:ext cx="933120" cy="961920"/>
          </a:xfrm>
          <a:prstGeom prst="rect">
            <a:avLst/>
          </a:prstGeom>
          <a:ln w="0">
            <a:noFill/>
          </a:ln>
        </p:spPr>
      </p:pic>
      <p:pic>
        <p:nvPicPr>
          <p:cNvPr id="556" name="Picture 2" descr=""/>
          <p:cNvPicPr/>
          <p:nvPr/>
        </p:nvPicPr>
        <p:blipFill>
          <a:blip r:embed="rId2"/>
          <a:stretch/>
        </p:blipFill>
        <p:spPr>
          <a:xfrm>
            <a:off x="1258920" y="4871880"/>
            <a:ext cx="2160720" cy="1309680"/>
          </a:xfrm>
          <a:prstGeom prst="rect">
            <a:avLst/>
          </a:prstGeom>
          <a:ln w="0">
            <a:noFill/>
          </a:ln>
        </p:spPr>
      </p:pic>
      <p:pic>
        <p:nvPicPr>
          <p:cNvPr id="557" name="Picture 3" descr=""/>
          <p:cNvPicPr/>
          <p:nvPr/>
        </p:nvPicPr>
        <p:blipFill>
          <a:blip r:embed="rId3"/>
          <a:stretch/>
        </p:blipFill>
        <p:spPr>
          <a:xfrm>
            <a:off x="5003640" y="4873680"/>
            <a:ext cx="2089440" cy="130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Google Maps tip</a:t>
            </a:r>
            <a:endParaRPr b="0" lang="en-US" sz="4000" spc="-1" strike="noStrike">
              <a:solidFill>
                <a:srgbClr val="000000"/>
              </a:solidFill>
              <a:latin typeface="Arial"/>
            </a:endParaRPr>
          </a:p>
        </p:txBody>
      </p:sp>
      <p:sp>
        <p:nvSpPr>
          <p:cNvPr id="559" name=""/>
          <p:cNvSpPr txBox="1"/>
          <p:nvPr/>
        </p:nvSpPr>
        <p:spPr>
          <a:xfrm>
            <a:off x="457200" y="1600200"/>
            <a:ext cx="85788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You can also download the map (‘download offline map) so you can still use it when you are not connected to the Internet  - very useful when travelling and wifi is not available!</a:t>
            </a:r>
            <a:endParaRPr b="0" lang="en-US" sz="2800" spc="-1" strike="noStrike">
              <a:solidFill>
                <a:srgbClr val="000000"/>
              </a:solidFill>
              <a:latin typeface="Arial"/>
            </a:endParaRPr>
          </a:p>
        </p:txBody>
      </p:sp>
      <p:pic>
        <p:nvPicPr>
          <p:cNvPr id="560" name="Picture 4" descr=""/>
          <p:cNvPicPr/>
          <p:nvPr/>
        </p:nvPicPr>
        <p:blipFill>
          <a:blip r:embed="rId1"/>
          <a:stretch/>
        </p:blipFill>
        <p:spPr>
          <a:xfrm>
            <a:off x="3564000" y="3573360"/>
            <a:ext cx="2151000" cy="219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Travelling abroad</a:t>
            </a:r>
            <a:endParaRPr b="0" lang="en-US" sz="4000" spc="-1" strike="noStrike">
              <a:solidFill>
                <a:srgbClr val="000000"/>
              </a:solidFill>
              <a:latin typeface="Arial"/>
            </a:endParaRPr>
          </a:p>
        </p:txBody>
      </p:sp>
      <p:sp>
        <p:nvSpPr>
          <p:cNvPr id="5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You have downloaded iTranslate on your devic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ap on the app to open it</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You can now use your phone or tablet to translate other languages</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63" name="Picture 2" descr=""/>
          <p:cNvPicPr/>
          <p:nvPr/>
        </p:nvPicPr>
        <p:blipFill>
          <a:blip r:embed="rId1"/>
          <a:stretch/>
        </p:blipFill>
        <p:spPr>
          <a:xfrm>
            <a:off x="2627280" y="4005360"/>
            <a:ext cx="3745080" cy="2120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dani gm</cp:lastModifiedBy>
  <dcterms:modified xsi:type="dcterms:W3CDTF">2019-12-04T14:11:14Z</dcterms:modified>
  <cp:revision>455</cp:revision>
  <dc:subject/>
  <dc:title>Title</dc:title>
</cp:coreProperties>
</file>